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340B8-A1F2-41A6-A8BA-399AC0107531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C4D7-BA6C-42AD-8AB1-61B11DA50BFF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DAB-56F1-46B3-817F-26EF2DCE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5E4-E91A-41DA-84D6-D50A679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29A-9393-4567-AEB6-FDE2210C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362-E046-4D22-87B7-F0B48042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CE8-DAF9-417F-A4F7-A2EAB1A7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FCA8-C34E-4F2F-8916-81C6F46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A58-D94E-4587-BF2A-C12F0E2B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AA5-B6D0-4B5A-8AFA-6F0233C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5089-5865-4C37-B3D3-CEA064A4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A51-67EA-4C4A-A68C-60B8D3E9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439-79FE-4C11-8B04-D3990BA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5DD-9209-47BB-A26C-F95174D8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78E-D135-41A4-93F3-F0AD220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9B3-F22F-4BF5-ADBA-8D4F17C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A51E-EB1A-4E1C-8663-A0619FA9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C7A-89B9-41FA-BB15-45313AC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421A-5CFB-4DD1-ADFC-F634CB2C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69D-E1D5-4F06-BDCA-1ABC242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3A9-3580-44BA-923F-2B7637D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0DA-7D0D-4512-90B5-E2A20905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501-62E2-40F5-B9E1-EAF45F65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140-D661-4AE6-8AE8-544B5CEE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BEA-449B-430E-8422-6496F36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C00-0202-4682-8C29-4920725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E68EB-7630-49CB-AE7A-C022525F49D7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F3F22-6C63-4468-8980-7602930DA846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1"/>
          <p:cNvSpPr/>
          <p:nvPr/>
        </p:nvSpPr>
        <p:spPr>
          <a:xfrm>
            <a:off x="1492200" y="2971800"/>
            <a:ext cx="174600" cy="173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40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240"/>
                </a:lnTo>
                <a:cubicBezTo>
                  <a:pt x="0" y="249"/>
                  <a:pt x="6" y="254"/>
                  <a:pt x="15" y="254"/>
                </a:cubicBezTo>
                <a:lnTo>
                  <a:pt x="240" y="254"/>
                </a:lnTo>
                <a:cubicBezTo>
                  <a:pt x="249" y="254"/>
                  <a:pt x="254" y="249"/>
                  <a:pt x="254" y="240"/>
                </a:cubicBezTo>
                <a:lnTo>
                  <a:pt x="254" y="14"/>
                </a:lnTo>
                <a:cubicBezTo>
                  <a:pt x="254" y="6"/>
                  <a:pt x="249" y="0"/>
                  <a:pt x="240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"/>
          <p:cNvSpPr/>
          <p:nvPr/>
        </p:nvSpPr>
        <p:spPr>
          <a:xfrm>
            <a:off x="1552680" y="3049560"/>
            <a:ext cx="191880" cy="230040"/>
          </a:xfrm>
          <a:custGeom>
            <a:avLst/>
            <a:gdLst/>
            <a:ahLst/>
            <a:rect l="l" t="t" r="r" b="b"/>
            <a:pathLst>
              <a:path w="283" h="340">
                <a:moveTo>
                  <a:pt x="268" y="0"/>
                </a:moveTo>
                <a:lnTo>
                  <a:pt x="99" y="0"/>
                </a:lnTo>
                <a:cubicBezTo>
                  <a:pt x="90" y="0"/>
                  <a:pt x="85" y="6"/>
                  <a:pt x="85" y="14"/>
                </a:cubicBezTo>
                <a:lnTo>
                  <a:pt x="85" y="90"/>
                </a:lnTo>
                <a:lnTo>
                  <a:pt x="6" y="144"/>
                </a:lnTo>
                <a:cubicBezTo>
                  <a:pt x="3" y="147"/>
                  <a:pt x="0" y="150"/>
                  <a:pt x="0" y="155"/>
                </a:cubicBezTo>
                <a:lnTo>
                  <a:pt x="0" y="325"/>
                </a:lnTo>
                <a:cubicBezTo>
                  <a:pt x="0" y="333"/>
                  <a:pt x="6" y="339"/>
                  <a:pt x="14" y="339"/>
                </a:cubicBezTo>
                <a:lnTo>
                  <a:pt x="268" y="339"/>
                </a:lnTo>
                <a:cubicBezTo>
                  <a:pt x="277" y="339"/>
                  <a:pt x="282" y="333"/>
                  <a:pt x="282" y="325"/>
                </a:cubicBezTo>
                <a:lnTo>
                  <a:pt x="282" y="14"/>
                </a:lnTo>
                <a:cubicBezTo>
                  <a:pt x="282" y="6"/>
                  <a:pt x="277" y="0"/>
                  <a:pt x="268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434960" y="3106800"/>
            <a:ext cx="135000" cy="17280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183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240"/>
                </a:lnTo>
                <a:cubicBezTo>
                  <a:pt x="0" y="248"/>
                  <a:pt x="5" y="254"/>
                  <a:pt x="14" y="254"/>
                </a:cubicBezTo>
                <a:lnTo>
                  <a:pt x="183" y="254"/>
                </a:lnTo>
                <a:cubicBezTo>
                  <a:pt x="192" y="254"/>
                  <a:pt x="197" y="248"/>
                  <a:pt x="197" y="240"/>
                </a:cubicBezTo>
                <a:lnTo>
                  <a:pt x="197" y="14"/>
                </a:lnTo>
                <a:cubicBezTo>
                  <a:pt x="197" y="5"/>
                  <a:pt x="192" y="0"/>
                  <a:pt x="18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1474920" y="314496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1512720" y="3144960"/>
            <a:ext cx="223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1474920" y="318132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1512720" y="318132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153180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156996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153180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156996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160956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1666800" y="318132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>
            <a:off x="1666800" y="310680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2239920" y="3106800"/>
            <a:ext cx="230400" cy="95040"/>
          </a:xfrm>
          <a:custGeom>
            <a:avLst/>
            <a:gdLst/>
            <a:ahLst/>
            <a:rect l="l" t="t" r="r" b="b"/>
            <a:pathLst>
              <a:path w="340" h="142">
                <a:moveTo>
                  <a:pt x="169" y="141"/>
                </a:moveTo>
                <a:lnTo>
                  <a:pt x="0" y="141"/>
                </a:lnTo>
                <a:lnTo>
                  <a:pt x="0" y="0"/>
                </a:lnTo>
                <a:lnTo>
                  <a:pt x="339" y="0"/>
                </a:lnTo>
                <a:lnTo>
                  <a:pt x="339" y="141"/>
                </a:lnTo>
                <a:lnTo>
                  <a:pt x="169" y="141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"/>
          <p:cNvSpPr/>
          <p:nvPr/>
        </p:nvSpPr>
        <p:spPr>
          <a:xfrm>
            <a:off x="2239920" y="3106800"/>
            <a:ext cx="230400" cy="20520"/>
          </a:xfrm>
          <a:custGeom>
            <a:avLst/>
            <a:gdLst/>
            <a:ahLst/>
            <a:rect l="l" t="t" r="r" b="b"/>
            <a:pathLst>
              <a:path w="340" h="29">
                <a:moveTo>
                  <a:pt x="169" y="28"/>
                </a:moveTo>
                <a:lnTo>
                  <a:pt x="0" y="28"/>
                </a:lnTo>
                <a:lnTo>
                  <a:pt x="0" y="0"/>
                </a:lnTo>
                <a:lnTo>
                  <a:pt x="339" y="0"/>
                </a:lnTo>
                <a:lnTo>
                  <a:pt x="339" y="28"/>
                </a:lnTo>
                <a:lnTo>
                  <a:pt x="169" y="28"/>
                </a:lnTo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7"/>
          <p:cNvSpPr/>
          <p:nvPr/>
        </p:nvSpPr>
        <p:spPr>
          <a:xfrm>
            <a:off x="2201760" y="2992320"/>
            <a:ext cx="308160" cy="117720"/>
          </a:xfrm>
          <a:custGeom>
            <a:avLst/>
            <a:gdLst/>
            <a:ahLst/>
            <a:rect l="l" t="t" r="r" b="b"/>
            <a:pathLst>
              <a:path w="455" h="170">
                <a:moveTo>
                  <a:pt x="446" y="115"/>
                </a:moveTo>
                <a:lnTo>
                  <a:pt x="234" y="2"/>
                </a:lnTo>
                <a:cubicBezTo>
                  <a:pt x="231" y="0"/>
                  <a:pt x="225" y="0"/>
                  <a:pt x="220" y="2"/>
                </a:cubicBezTo>
                <a:lnTo>
                  <a:pt x="8" y="115"/>
                </a:lnTo>
                <a:cubicBezTo>
                  <a:pt x="3" y="118"/>
                  <a:pt x="0" y="124"/>
                  <a:pt x="0" y="127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437" y="169"/>
                </a:lnTo>
                <a:cubicBezTo>
                  <a:pt x="446" y="169"/>
                  <a:pt x="451" y="163"/>
                  <a:pt x="451" y="155"/>
                </a:cubicBezTo>
                <a:lnTo>
                  <a:pt x="451" y="127"/>
                </a:lnTo>
                <a:cubicBezTo>
                  <a:pt x="454" y="121"/>
                  <a:pt x="451" y="115"/>
                  <a:pt x="446" y="11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2201760" y="3201840"/>
            <a:ext cx="308160" cy="6048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70"/>
                </a:lnTo>
                <a:cubicBezTo>
                  <a:pt x="0" y="79"/>
                  <a:pt x="5" y="85"/>
                  <a:pt x="14" y="85"/>
                </a:cubicBezTo>
                <a:lnTo>
                  <a:pt x="437" y="85"/>
                </a:lnTo>
                <a:cubicBezTo>
                  <a:pt x="445" y="85"/>
                  <a:pt x="451" y="79"/>
                  <a:pt x="451" y="70"/>
                </a:cubicBezTo>
                <a:lnTo>
                  <a:pt x="451" y="28"/>
                </a:lnTo>
                <a:cubicBezTo>
                  <a:pt x="451" y="11"/>
                  <a:pt x="440" y="0"/>
                  <a:pt x="423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2239920" y="3106800"/>
            <a:ext cx="39600" cy="950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6" y="0"/>
                </a:lnTo>
                <a:lnTo>
                  <a:pt x="56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2336760" y="3106800"/>
            <a:ext cx="38160" cy="950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6" y="0"/>
                </a:lnTo>
                <a:lnTo>
                  <a:pt x="56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2432160" y="3106800"/>
            <a:ext cx="38160" cy="950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7" y="0"/>
                </a:lnTo>
                <a:lnTo>
                  <a:pt x="57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2967120" y="3067200"/>
            <a:ext cx="60120" cy="77760"/>
          </a:xfrm>
          <a:custGeom>
            <a:avLst/>
            <a:gdLst/>
            <a:ahLst/>
            <a:rect l="l" t="t" r="r" b="b"/>
            <a:pathLst>
              <a:path w="86" h="114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99"/>
                </a:lnTo>
                <a:cubicBezTo>
                  <a:pt x="0" y="108"/>
                  <a:pt x="6" y="113"/>
                  <a:pt x="14" y="113"/>
                </a:cubicBezTo>
                <a:lnTo>
                  <a:pt x="71" y="113"/>
                </a:lnTo>
                <a:cubicBezTo>
                  <a:pt x="79" y="113"/>
                  <a:pt x="85" y="108"/>
                  <a:pt x="85" y="99"/>
                </a:cubicBezTo>
                <a:lnTo>
                  <a:pt x="85" y="15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3102120" y="2968560"/>
            <a:ext cx="172800" cy="270000"/>
          </a:xfrm>
          <a:custGeom>
            <a:avLst/>
            <a:gdLst/>
            <a:ahLst/>
            <a:rect l="l" t="t" r="r" b="b"/>
            <a:pathLst>
              <a:path w="255" h="399">
                <a:moveTo>
                  <a:pt x="245" y="3"/>
                </a:moveTo>
                <a:cubicBezTo>
                  <a:pt x="240" y="0"/>
                  <a:pt x="234" y="3"/>
                  <a:pt x="228" y="9"/>
                </a:cubicBezTo>
                <a:cubicBezTo>
                  <a:pt x="175" y="74"/>
                  <a:pt x="96" y="113"/>
                  <a:pt x="14" y="116"/>
                </a:cubicBezTo>
                <a:cubicBezTo>
                  <a:pt x="5" y="116"/>
                  <a:pt x="0" y="122"/>
                  <a:pt x="0" y="130"/>
                </a:cubicBezTo>
                <a:lnTo>
                  <a:pt x="0" y="271"/>
                </a:lnTo>
                <a:cubicBezTo>
                  <a:pt x="0" y="280"/>
                  <a:pt x="5" y="285"/>
                  <a:pt x="14" y="285"/>
                </a:cubicBezTo>
                <a:cubicBezTo>
                  <a:pt x="99" y="288"/>
                  <a:pt x="178" y="328"/>
                  <a:pt x="228" y="393"/>
                </a:cubicBezTo>
                <a:cubicBezTo>
                  <a:pt x="231" y="396"/>
                  <a:pt x="234" y="398"/>
                  <a:pt x="240" y="398"/>
                </a:cubicBezTo>
                <a:cubicBezTo>
                  <a:pt x="243" y="398"/>
                  <a:pt x="243" y="398"/>
                  <a:pt x="245" y="398"/>
                </a:cubicBezTo>
                <a:cubicBezTo>
                  <a:pt x="251" y="396"/>
                  <a:pt x="254" y="390"/>
                  <a:pt x="254" y="384"/>
                </a:cubicBezTo>
                <a:lnTo>
                  <a:pt x="254" y="17"/>
                </a:lnTo>
                <a:cubicBezTo>
                  <a:pt x="254" y="12"/>
                  <a:pt x="251" y="6"/>
                  <a:pt x="245" y="3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3254400" y="2971800"/>
            <a:ext cx="20520" cy="2700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5" y="395"/>
                  <a:pt x="0" y="390"/>
                  <a:pt x="0" y="38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381"/>
                </a:lnTo>
                <a:cubicBezTo>
                  <a:pt x="28" y="390"/>
                  <a:pt x="22" y="395"/>
                  <a:pt x="14" y="395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3017880" y="3144960"/>
            <a:ext cx="101520" cy="134640"/>
          </a:xfrm>
          <a:custGeom>
            <a:avLst/>
            <a:gdLst/>
            <a:ahLst/>
            <a:rect l="l" t="t" r="r" b="b"/>
            <a:pathLst>
              <a:path w="151" h="199">
                <a:moveTo>
                  <a:pt x="144" y="124"/>
                </a:moveTo>
                <a:lnTo>
                  <a:pt x="88" y="9"/>
                </a:lnTo>
                <a:cubicBezTo>
                  <a:pt x="85" y="3"/>
                  <a:pt x="80" y="0"/>
                  <a:pt x="77" y="0"/>
                </a:cubicBezTo>
                <a:lnTo>
                  <a:pt x="15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20"/>
                </a:cubicBezTo>
                <a:lnTo>
                  <a:pt x="60" y="181"/>
                </a:lnTo>
                <a:cubicBezTo>
                  <a:pt x="63" y="189"/>
                  <a:pt x="71" y="198"/>
                  <a:pt x="80" y="198"/>
                </a:cubicBezTo>
                <a:cubicBezTo>
                  <a:pt x="82" y="198"/>
                  <a:pt x="82" y="198"/>
                  <a:pt x="85" y="198"/>
                </a:cubicBezTo>
                <a:cubicBezTo>
                  <a:pt x="94" y="198"/>
                  <a:pt x="99" y="195"/>
                  <a:pt x="105" y="189"/>
                </a:cubicBezTo>
                <a:lnTo>
                  <a:pt x="139" y="155"/>
                </a:lnTo>
                <a:cubicBezTo>
                  <a:pt x="150" y="147"/>
                  <a:pt x="150" y="133"/>
                  <a:pt x="144" y="124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3006720" y="304956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55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55"/>
                </a:lnTo>
                <a:cubicBezTo>
                  <a:pt x="0" y="164"/>
                  <a:pt x="5" y="169"/>
                  <a:pt x="14" y="169"/>
                </a:cubicBezTo>
                <a:lnTo>
                  <a:pt x="155" y="169"/>
                </a:lnTo>
                <a:cubicBezTo>
                  <a:pt x="163" y="169"/>
                  <a:pt x="169" y="164"/>
                  <a:pt x="169" y="155"/>
                </a:cubicBezTo>
                <a:lnTo>
                  <a:pt x="169" y="14"/>
                </a:lnTo>
                <a:cubicBezTo>
                  <a:pt x="169" y="6"/>
                  <a:pt x="163" y="0"/>
                  <a:pt x="15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1549440" y="3946680"/>
            <a:ext cx="81000" cy="80640"/>
          </a:xfrm>
          <a:custGeom>
            <a:avLst/>
            <a:gdLst/>
            <a:ahLst/>
            <a:rect l="l" t="t" r="r" b="b"/>
            <a:pathLst>
              <a:path w="120" h="117">
                <a:moveTo>
                  <a:pt x="110" y="88"/>
                </a:moveTo>
                <a:lnTo>
                  <a:pt x="74" y="63"/>
                </a:lnTo>
                <a:lnTo>
                  <a:pt x="74" y="15"/>
                </a:lnTo>
                <a:cubicBezTo>
                  <a:pt x="74" y="6"/>
                  <a:pt x="67" y="0"/>
                  <a:pt x="59" y="0"/>
                </a:cubicBezTo>
                <a:cubicBezTo>
                  <a:pt x="50" y="0"/>
                  <a:pt x="45" y="6"/>
                  <a:pt x="45" y="15"/>
                </a:cubicBezTo>
                <a:lnTo>
                  <a:pt x="45" y="63"/>
                </a:lnTo>
                <a:lnTo>
                  <a:pt x="9" y="88"/>
                </a:lnTo>
                <a:cubicBezTo>
                  <a:pt x="3" y="94"/>
                  <a:pt x="0" y="102"/>
                  <a:pt x="6" y="108"/>
                </a:cubicBezTo>
                <a:cubicBezTo>
                  <a:pt x="12" y="113"/>
                  <a:pt x="20" y="116"/>
                  <a:pt x="26" y="111"/>
                </a:cubicBezTo>
                <a:lnTo>
                  <a:pt x="59" y="88"/>
                </a:lnTo>
                <a:lnTo>
                  <a:pt x="93" y="111"/>
                </a:lnTo>
                <a:cubicBezTo>
                  <a:pt x="96" y="113"/>
                  <a:pt x="99" y="113"/>
                  <a:pt x="102" y="113"/>
                </a:cubicBezTo>
                <a:cubicBezTo>
                  <a:pt x="107" y="113"/>
                  <a:pt x="110" y="111"/>
                  <a:pt x="113" y="108"/>
                </a:cubicBezTo>
                <a:cubicBezTo>
                  <a:pt x="119" y="99"/>
                  <a:pt x="116" y="91"/>
                  <a:pt x="110" y="8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1457280" y="3776760"/>
            <a:ext cx="268200" cy="190440"/>
          </a:xfrm>
          <a:custGeom>
            <a:avLst/>
            <a:gdLst/>
            <a:ahLst/>
            <a:rect l="l" t="t" r="r" b="b"/>
            <a:pathLst>
              <a:path w="396" h="283">
                <a:moveTo>
                  <a:pt x="381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253"/>
                </a:lnTo>
                <a:cubicBezTo>
                  <a:pt x="0" y="270"/>
                  <a:pt x="11" y="282"/>
                  <a:pt x="28" y="282"/>
                </a:cubicBezTo>
                <a:lnTo>
                  <a:pt x="367" y="282"/>
                </a:lnTo>
                <a:cubicBezTo>
                  <a:pt x="384" y="282"/>
                  <a:pt x="395" y="270"/>
                  <a:pt x="395" y="253"/>
                </a:cubicBezTo>
                <a:lnTo>
                  <a:pt x="395" y="14"/>
                </a:lnTo>
                <a:cubicBezTo>
                  <a:pt x="395" y="5"/>
                  <a:pt x="389" y="0"/>
                  <a:pt x="381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9"/>
          <p:cNvSpPr/>
          <p:nvPr/>
        </p:nvSpPr>
        <p:spPr>
          <a:xfrm>
            <a:off x="1434960" y="3755880"/>
            <a:ext cx="309600" cy="38160"/>
          </a:xfrm>
          <a:custGeom>
            <a:avLst/>
            <a:gdLst/>
            <a:ahLst/>
            <a:rect l="l" t="t" r="r" b="b"/>
            <a:pathLst>
              <a:path w="452" h="58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43"/>
                </a:lnTo>
                <a:cubicBezTo>
                  <a:pt x="0" y="51"/>
                  <a:pt x="5" y="57"/>
                  <a:pt x="14" y="57"/>
                </a:cubicBezTo>
                <a:lnTo>
                  <a:pt x="437" y="57"/>
                </a:lnTo>
                <a:cubicBezTo>
                  <a:pt x="446" y="57"/>
                  <a:pt x="451" y="51"/>
                  <a:pt x="451" y="43"/>
                </a:cubicBezTo>
                <a:lnTo>
                  <a:pt x="451" y="14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0"/>
          <p:cNvSpPr/>
          <p:nvPr/>
        </p:nvSpPr>
        <p:spPr>
          <a:xfrm>
            <a:off x="1569960" y="3851280"/>
            <a:ext cx="39600" cy="77760"/>
          </a:xfrm>
          <a:custGeom>
            <a:avLst/>
            <a:gdLst/>
            <a:ahLst/>
            <a:rect l="l" t="t" r="r" b="b"/>
            <a:pathLst>
              <a:path w="58" h="114">
                <a:moveTo>
                  <a:pt x="28" y="113"/>
                </a:moveTo>
                <a:lnTo>
                  <a:pt x="0" y="113"/>
                </a:lnTo>
                <a:lnTo>
                  <a:pt x="0" y="0"/>
                </a:lnTo>
                <a:lnTo>
                  <a:pt x="57" y="0"/>
                </a:lnTo>
                <a:lnTo>
                  <a:pt x="57" y="113"/>
                </a:lnTo>
                <a:lnTo>
                  <a:pt x="28" y="113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1647720" y="3833640"/>
            <a:ext cx="39960" cy="9540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7" y="0"/>
                </a:lnTo>
                <a:lnTo>
                  <a:pt x="57" y="141"/>
                </a:lnTo>
                <a:lnTo>
                  <a:pt x="28" y="141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1492200" y="3889440"/>
            <a:ext cx="39600" cy="3960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3"/>
          <p:cNvSpPr/>
          <p:nvPr/>
        </p:nvSpPr>
        <p:spPr>
          <a:xfrm>
            <a:off x="1531800" y="222408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4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50"/>
                  <a:pt x="127" y="158"/>
                </a:cubicBezTo>
                <a:cubicBezTo>
                  <a:pt x="113" y="166"/>
                  <a:pt x="99" y="169"/>
                  <a:pt x="84" y="169"/>
                </a:cubicBezTo>
                <a:cubicBezTo>
                  <a:pt x="68" y="169"/>
                  <a:pt x="55" y="166"/>
                  <a:pt x="42" y="158"/>
                </a:cubicBezTo>
                <a:cubicBezTo>
                  <a:pt x="28" y="150"/>
                  <a:pt x="19" y="140"/>
                  <a:pt x="11" y="127"/>
                </a:cubicBezTo>
                <a:cubicBezTo>
                  <a:pt x="3" y="113"/>
                  <a:pt x="0" y="99"/>
                  <a:pt x="0" y="84"/>
                </a:cubicBezTo>
                <a:cubicBezTo>
                  <a:pt x="0" y="68"/>
                  <a:pt x="3" y="55"/>
                  <a:pt x="11" y="42"/>
                </a:cubicBezTo>
                <a:cubicBezTo>
                  <a:pt x="19" y="28"/>
                  <a:pt x="28" y="19"/>
                  <a:pt x="42" y="11"/>
                </a:cubicBezTo>
                <a:cubicBezTo>
                  <a:pt x="55" y="3"/>
                  <a:pt x="69" y="0"/>
                  <a:pt x="84" y="0"/>
                </a:cubicBezTo>
                <a:cubicBezTo>
                  <a:pt x="100" y="0"/>
                  <a:pt x="113" y="3"/>
                  <a:pt x="127" y="11"/>
                </a:cubicBezTo>
                <a:cubicBezTo>
                  <a:pt x="140" y="19"/>
                  <a:pt x="150" y="28"/>
                  <a:pt x="158" y="42"/>
                </a:cubicBezTo>
                <a:cubicBezTo>
                  <a:pt x="166" y="55"/>
                  <a:pt x="169" y="69"/>
                  <a:pt x="169" y="8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4"/>
          <p:cNvSpPr/>
          <p:nvPr/>
        </p:nvSpPr>
        <p:spPr>
          <a:xfrm>
            <a:off x="1471680" y="2346480"/>
            <a:ext cx="233280" cy="128520"/>
          </a:xfrm>
          <a:custGeom>
            <a:avLst/>
            <a:gdLst/>
            <a:ahLst/>
            <a:rect l="l" t="t" r="r" b="b"/>
            <a:pathLst>
              <a:path w="343" h="190">
                <a:moveTo>
                  <a:pt x="336" y="79"/>
                </a:moveTo>
                <a:cubicBezTo>
                  <a:pt x="240" y="0"/>
                  <a:pt x="102" y="0"/>
                  <a:pt x="6" y="79"/>
                </a:cubicBezTo>
                <a:cubicBezTo>
                  <a:pt x="3" y="81"/>
                  <a:pt x="0" y="84"/>
                  <a:pt x="0" y="90"/>
                </a:cubicBezTo>
                <a:cubicBezTo>
                  <a:pt x="0" y="104"/>
                  <a:pt x="0" y="138"/>
                  <a:pt x="0" y="160"/>
                </a:cubicBezTo>
                <a:cubicBezTo>
                  <a:pt x="0" y="177"/>
                  <a:pt x="12" y="189"/>
                  <a:pt x="29" y="189"/>
                </a:cubicBezTo>
                <a:lnTo>
                  <a:pt x="311" y="189"/>
                </a:lnTo>
                <a:cubicBezTo>
                  <a:pt x="328" y="189"/>
                  <a:pt x="339" y="177"/>
                  <a:pt x="339" y="160"/>
                </a:cubicBezTo>
                <a:lnTo>
                  <a:pt x="339" y="95"/>
                </a:lnTo>
                <a:cubicBezTo>
                  <a:pt x="342" y="84"/>
                  <a:pt x="339" y="81"/>
                  <a:pt x="336" y="7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2259000" y="226224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5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50"/>
                  <a:pt x="127" y="158"/>
                </a:cubicBezTo>
                <a:cubicBezTo>
                  <a:pt x="113" y="166"/>
                  <a:pt x="100" y="169"/>
                  <a:pt x="85" y="169"/>
                </a:cubicBezTo>
                <a:cubicBezTo>
                  <a:pt x="69" y="169"/>
                  <a:pt x="56" y="166"/>
                  <a:pt x="43" y="158"/>
                </a:cubicBezTo>
                <a:cubicBezTo>
                  <a:pt x="29" y="150"/>
                  <a:pt x="19" y="140"/>
                  <a:pt x="12" y="127"/>
                </a:cubicBezTo>
                <a:cubicBezTo>
                  <a:pt x="4" y="113"/>
                  <a:pt x="0" y="100"/>
                  <a:pt x="0" y="85"/>
                </a:cubicBezTo>
                <a:cubicBezTo>
                  <a:pt x="0" y="69"/>
                  <a:pt x="4" y="56"/>
                  <a:pt x="12" y="43"/>
                </a:cubicBezTo>
                <a:cubicBezTo>
                  <a:pt x="19" y="29"/>
                  <a:pt x="29" y="19"/>
                  <a:pt x="43" y="12"/>
                </a:cubicBezTo>
                <a:cubicBezTo>
                  <a:pt x="56" y="4"/>
                  <a:pt x="69" y="0"/>
                  <a:pt x="85" y="0"/>
                </a:cubicBezTo>
                <a:cubicBezTo>
                  <a:pt x="100" y="0"/>
                  <a:pt x="113" y="4"/>
                  <a:pt x="127" y="12"/>
                </a:cubicBezTo>
                <a:cubicBezTo>
                  <a:pt x="140" y="19"/>
                  <a:pt x="150" y="29"/>
                  <a:pt x="158" y="43"/>
                </a:cubicBezTo>
                <a:cubicBezTo>
                  <a:pt x="166" y="56"/>
                  <a:pt x="169" y="69"/>
                  <a:pt x="169" y="8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2201760" y="2386080"/>
            <a:ext cx="233640" cy="109440"/>
          </a:xfrm>
          <a:custGeom>
            <a:avLst/>
            <a:gdLst/>
            <a:ahLst/>
            <a:rect l="l" t="t" r="r" b="b"/>
            <a:pathLst>
              <a:path w="342" h="162">
                <a:moveTo>
                  <a:pt x="336" y="79"/>
                </a:moveTo>
                <a:cubicBezTo>
                  <a:pt x="240" y="0"/>
                  <a:pt x="101" y="0"/>
                  <a:pt x="5" y="79"/>
                </a:cubicBezTo>
                <a:cubicBezTo>
                  <a:pt x="3" y="82"/>
                  <a:pt x="0" y="85"/>
                  <a:pt x="0" y="90"/>
                </a:cubicBezTo>
                <a:lnTo>
                  <a:pt x="0" y="130"/>
                </a:lnTo>
                <a:cubicBezTo>
                  <a:pt x="0" y="150"/>
                  <a:pt x="11" y="161"/>
                  <a:pt x="28" y="161"/>
                </a:cubicBezTo>
                <a:lnTo>
                  <a:pt x="310" y="161"/>
                </a:lnTo>
                <a:cubicBezTo>
                  <a:pt x="327" y="161"/>
                  <a:pt x="338" y="150"/>
                  <a:pt x="338" y="133"/>
                </a:cubicBezTo>
                <a:lnTo>
                  <a:pt x="338" y="93"/>
                </a:lnTo>
                <a:cubicBezTo>
                  <a:pt x="341" y="87"/>
                  <a:pt x="338" y="82"/>
                  <a:pt x="336" y="7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>
            <a:off x="2344680" y="2224080"/>
            <a:ext cx="104760" cy="115920"/>
          </a:xfrm>
          <a:custGeom>
            <a:avLst/>
            <a:gdLst/>
            <a:ahLst/>
            <a:rect l="l" t="t" r="r" b="b"/>
            <a:pathLst>
              <a:path w="156" h="170">
                <a:moveTo>
                  <a:pt x="71" y="141"/>
                </a:moveTo>
                <a:cubicBezTo>
                  <a:pt x="71" y="149"/>
                  <a:pt x="71" y="161"/>
                  <a:pt x="68" y="169"/>
                </a:cubicBezTo>
                <a:lnTo>
                  <a:pt x="71" y="169"/>
                </a:lnTo>
                <a:cubicBezTo>
                  <a:pt x="119" y="169"/>
                  <a:pt x="155" y="132"/>
                  <a:pt x="155" y="84"/>
                </a:cubicBezTo>
                <a:cubicBezTo>
                  <a:pt x="155" y="36"/>
                  <a:pt x="119" y="0"/>
                  <a:pt x="71" y="0"/>
                </a:cubicBezTo>
                <a:cubicBezTo>
                  <a:pt x="42" y="0"/>
                  <a:pt x="17" y="14"/>
                  <a:pt x="0" y="36"/>
                </a:cubicBezTo>
                <a:cubicBezTo>
                  <a:pt x="42" y="53"/>
                  <a:pt x="71" y="93"/>
                  <a:pt x="71" y="141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2360520" y="2355840"/>
            <a:ext cx="146160" cy="95400"/>
          </a:xfrm>
          <a:custGeom>
            <a:avLst/>
            <a:gdLst/>
            <a:ahLst/>
            <a:rect l="l" t="t" r="r" b="b"/>
            <a:pathLst>
              <a:path w="218" h="143">
                <a:moveTo>
                  <a:pt x="211" y="63"/>
                </a:moveTo>
                <a:cubicBezTo>
                  <a:pt x="161" y="20"/>
                  <a:pt x="96" y="0"/>
                  <a:pt x="31" y="3"/>
                </a:cubicBezTo>
                <a:cubicBezTo>
                  <a:pt x="22" y="17"/>
                  <a:pt x="11" y="29"/>
                  <a:pt x="0" y="37"/>
                </a:cubicBezTo>
                <a:cubicBezTo>
                  <a:pt x="42" y="48"/>
                  <a:pt x="84" y="68"/>
                  <a:pt x="118" y="96"/>
                </a:cubicBezTo>
                <a:cubicBezTo>
                  <a:pt x="127" y="105"/>
                  <a:pt x="132" y="116"/>
                  <a:pt x="132" y="127"/>
                </a:cubicBezTo>
                <a:lnTo>
                  <a:pt x="132" y="142"/>
                </a:lnTo>
                <a:lnTo>
                  <a:pt x="189" y="142"/>
                </a:lnTo>
                <a:cubicBezTo>
                  <a:pt x="206" y="142"/>
                  <a:pt x="217" y="130"/>
                  <a:pt x="217" y="113"/>
                </a:cubicBezTo>
                <a:lnTo>
                  <a:pt x="217" y="71"/>
                </a:lnTo>
                <a:cubicBezTo>
                  <a:pt x="217" y="71"/>
                  <a:pt x="214" y="65"/>
                  <a:pt x="211" y="63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2279520" y="3736800"/>
            <a:ext cx="152640" cy="604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212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5" y="85"/>
                </a:cubicBezTo>
                <a:lnTo>
                  <a:pt x="212" y="85"/>
                </a:lnTo>
                <a:cubicBezTo>
                  <a:pt x="221" y="85"/>
                  <a:pt x="226" y="79"/>
                  <a:pt x="226" y="71"/>
                </a:cubicBezTo>
                <a:lnTo>
                  <a:pt x="226" y="14"/>
                </a:lnTo>
                <a:cubicBezTo>
                  <a:pt x="226" y="6"/>
                  <a:pt x="221" y="0"/>
                  <a:pt x="212" y="0"/>
                </a:cubicBezTo>
              </a:path>
            </a:pathLst>
          </a:custGeom>
          <a:solidFill>
            <a:srgbClr val="512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2239920" y="3776760"/>
            <a:ext cx="230400" cy="56880"/>
          </a:xfrm>
          <a:custGeom>
            <a:avLst/>
            <a:gdLst/>
            <a:ahLst/>
            <a:rect l="l" t="t" r="r" b="b"/>
            <a:pathLst>
              <a:path w="340" h="85">
                <a:moveTo>
                  <a:pt x="324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324" y="84"/>
                </a:lnTo>
                <a:cubicBezTo>
                  <a:pt x="333" y="84"/>
                  <a:pt x="339" y="79"/>
                  <a:pt x="339" y="70"/>
                </a:cubicBezTo>
                <a:lnTo>
                  <a:pt x="339" y="14"/>
                </a:lnTo>
                <a:cubicBezTo>
                  <a:pt x="339" y="5"/>
                  <a:pt x="333" y="0"/>
                  <a:pt x="324" y="0"/>
                </a:cubicBezTo>
              </a:path>
            </a:pathLst>
          </a:custGeom>
          <a:solidFill>
            <a:srgbClr val="673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2201760" y="3814920"/>
            <a:ext cx="308160" cy="230040"/>
          </a:xfrm>
          <a:custGeom>
            <a:avLst/>
            <a:gdLst/>
            <a:ahLst/>
            <a:rect l="l" t="t" r="r" b="b"/>
            <a:pathLst>
              <a:path w="452" h="340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324"/>
                </a:lnTo>
                <a:cubicBezTo>
                  <a:pt x="0" y="333"/>
                  <a:pt x="5" y="339"/>
                  <a:pt x="14" y="339"/>
                </a:cubicBezTo>
                <a:lnTo>
                  <a:pt x="437" y="339"/>
                </a:lnTo>
                <a:cubicBezTo>
                  <a:pt x="445" y="339"/>
                  <a:pt x="451" y="333"/>
                  <a:pt x="451" y="324"/>
                </a:cubicBezTo>
                <a:lnTo>
                  <a:pt x="451" y="14"/>
                </a:lnTo>
                <a:cubicBezTo>
                  <a:pt x="451" y="6"/>
                  <a:pt x="445" y="0"/>
                  <a:pt x="437" y="0"/>
                </a:cubicBezTo>
              </a:path>
            </a:pathLst>
          </a:custGeom>
          <a:solidFill>
            <a:srgbClr val="957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2297160" y="3851280"/>
            <a:ext cx="117360" cy="152280"/>
          </a:xfrm>
          <a:custGeom>
            <a:avLst/>
            <a:gdLst/>
            <a:ahLst/>
            <a:rect l="l" t="t" r="r" b="b"/>
            <a:pathLst>
              <a:path w="170" h="227">
                <a:moveTo>
                  <a:pt x="101" y="0"/>
                </a:moveTo>
                <a:cubicBezTo>
                  <a:pt x="98" y="0"/>
                  <a:pt x="93" y="0"/>
                  <a:pt x="90" y="3"/>
                </a:cubicBezTo>
                <a:cubicBezTo>
                  <a:pt x="87" y="6"/>
                  <a:pt x="84" y="9"/>
                  <a:pt x="84" y="15"/>
                </a:cubicBezTo>
                <a:lnTo>
                  <a:pt x="84" y="147"/>
                </a:lnTo>
                <a:cubicBezTo>
                  <a:pt x="76" y="144"/>
                  <a:pt x="67" y="141"/>
                  <a:pt x="56" y="141"/>
                </a:cubicBezTo>
                <a:cubicBezTo>
                  <a:pt x="25" y="141"/>
                  <a:pt x="0" y="161"/>
                  <a:pt x="0" y="184"/>
                </a:cubicBezTo>
                <a:cubicBezTo>
                  <a:pt x="0" y="206"/>
                  <a:pt x="25" y="226"/>
                  <a:pt x="56" y="226"/>
                </a:cubicBezTo>
                <a:cubicBezTo>
                  <a:pt x="87" y="226"/>
                  <a:pt x="112" y="206"/>
                  <a:pt x="112" y="184"/>
                </a:cubicBezTo>
                <a:lnTo>
                  <a:pt x="112" y="34"/>
                </a:lnTo>
                <a:cubicBezTo>
                  <a:pt x="127" y="40"/>
                  <a:pt x="141" y="51"/>
                  <a:pt x="141" y="71"/>
                </a:cubicBezTo>
                <a:cubicBezTo>
                  <a:pt x="141" y="79"/>
                  <a:pt x="146" y="85"/>
                  <a:pt x="155" y="85"/>
                </a:cubicBezTo>
                <a:cubicBezTo>
                  <a:pt x="163" y="85"/>
                  <a:pt x="169" y="79"/>
                  <a:pt x="169" y="71"/>
                </a:cubicBezTo>
                <a:cubicBezTo>
                  <a:pt x="169" y="26"/>
                  <a:pt x="124" y="6"/>
                  <a:pt x="101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3044880" y="377676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39" y="169"/>
                </a:moveTo>
                <a:cubicBezTo>
                  <a:pt x="339" y="200"/>
                  <a:pt x="331" y="226"/>
                  <a:pt x="316" y="253"/>
                </a:cubicBezTo>
                <a:cubicBezTo>
                  <a:pt x="300" y="280"/>
                  <a:pt x="281" y="299"/>
                  <a:pt x="254" y="315"/>
                </a:cubicBezTo>
                <a:cubicBezTo>
                  <a:pt x="227" y="330"/>
                  <a:pt x="200" y="338"/>
                  <a:pt x="169" y="338"/>
                </a:cubicBezTo>
                <a:cubicBezTo>
                  <a:pt x="137" y="338"/>
                  <a:pt x="112" y="330"/>
                  <a:pt x="85" y="315"/>
                </a:cubicBezTo>
                <a:cubicBezTo>
                  <a:pt x="58" y="299"/>
                  <a:pt x="38" y="280"/>
                  <a:pt x="23" y="253"/>
                </a:cubicBezTo>
                <a:cubicBezTo>
                  <a:pt x="7" y="226"/>
                  <a:pt x="0" y="200"/>
                  <a:pt x="0" y="169"/>
                </a:cubicBezTo>
                <a:cubicBezTo>
                  <a:pt x="0" y="138"/>
                  <a:pt x="7" y="111"/>
                  <a:pt x="23" y="84"/>
                </a:cubicBezTo>
                <a:cubicBezTo>
                  <a:pt x="38" y="57"/>
                  <a:pt x="58" y="37"/>
                  <a:pt x="85" y="22"/>
                </a:cubicBezTo>
                <a:cubicBezTo>
                  <a:pt x="112" y="6"/>
                  <a:pt x="138" y="0"/>
                  <a:pt x="169" y="0"/>
                </a:cubicBezTo>
                <a:cubicBezTo>
                  <a:pt x="201" y="0"/>
                  <a:pt x="227" y="6"/>
                  <a:pt x="254" y="22"/>
                </a:cubicBezTo>
                <a:cubicBezTo>
                  <a:pt x="281" y="37"/>
                  <a:pt x="300" y="57"/>
                  <a:pt x="316" y="84"/>
                </a:cubicBezTo>
                <a:cubicBezTo>
                  <a:pt x="331" y="111"/>
                  <a:pt x="339" y="138"/>
                  <a:pt x="339" y="16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3132000" y="3863880"/>
            <a:ext cx="60480" cy="5580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70"/>
                  <a:pt x="70" y="74"/>
                  <a:pt x="64" y="78"/>
                </a:cubicBezTo>
                <a:cubicBezTo>
                  <a:pt x="57" y="81"/>
                  <a:pt x="49" y="84"/>
                  <a:pt x="42" y="84"/>
                </a:cubicBezTo>
                <a:cubicBezTo>
                  <a:pt x="34" y="84"/>
                  <a:pt x="27" y="81"/>
                  <a:pt x="21" y="78"/>
                </a:cubicBezTo>
                <a:cubicBezTo>
                  <a:pt x="14" y="74"/>
                  <a:pt x="10" y="70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9"/>
                  <a:pt x="21" y="5"/>
                </a:cubicBezTo>
                <a:cubicBezTo>
                  <a:pt x="27" y="1"/>
                  <a:pt x="35" y="0"/>
                  <a:pt x="42" y="0"/>
                </a:cubicBezTo>
                <a:cubicBezTo>
                  <a:pt x="50" y="0"/>
                  <a:pt x="57" y="1"/>
                  <a:pt x="64" y="5"/>
                </a:cubicBezTo>
                <a:cubicBezTo>
                  <a:pt x="70" y="9"/>
                  <a:pt x="75" y="14"/>
                  <a:pt x="79" y="21"/>
                </a:cubicBezTo>
                <a:cubicBezTo>
                  <a:pt x="83" y="27"/>
                  <a:pt x="85" y="34"/>
                  <a:pt x="85" y="4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5"/>
          <p:cNvSpPr/>
          <p:nvPr/>
        </p:nvSpPr>
        <p:spPr>
          <a:xfrm>
            <a:off x="2967120" y="3755880"/>
            <a:ext cx="191880" cy="268560"/>
          </a:xfrm>
          <a:custGeom>
            <a:avLst/>
            <a:gdLst/>
            <a:ahLst/>
            <a:rect l="l" t="t" r="r" b="b"/>
            <a:pathLst>
              <a:path w="283" h="396">
                <a:moveTo>
                  <a:pt x="254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367"/>
                </a:lnTo>
                <a:cubicBezTo>
                  <a:pt x="0" y="384"/>
                  <a:pt x="12" y="395"/>
                  <a:pt x="29" y="395"/>
                </a:cubicBezTo>
                <a:lnTo>
                  <a:pt x="254" y="395"/>
                </a:lnTo>
                <a:cubicBezTo>
                  <a:pt x="271" y="395"/>
                  <a:pt x="282" y="384"/>
                  <a:pt x="282" y="367"/>
                </a:cubicBezTo>
                <a:lnTo>
                  <a:pt x="282" y="29"/>
                </a:lnTo>
                <a:cubicBezTo>
                  <a:pt x="282" y="12"/>
                  <a:pt x="271" y="0"/>
                  <a:pt x="254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6"/>
          <p:cNvSpPr/>
          <p:nvPr/>
        </p:nvSpPr>
        <p:spPr>
          <a:xfrm>
            <a:off x="3006720" y="3814920"/>
            <a:ext cx="115920" cy="152280"/>
          </a:xfrm>
          <a:custGeom>
            <a:avLst/>
            <a:gdLst/>
            <a:ahLst/>
            <a:rect l="l" t="t" r="r" b="b"/>
            <a:pathLst>
              <a:path w="170" h="227">
                <a:moveTo>
                  <a:pt x="101" y="0"/>
                </a:moveTo>
                <a:cubicBezTo>
                  <a:pt x="99" y="0"/>
                  <a:pt x="93" y="0"/>
                  <a:pt x="90" y="3"/>
                </a:cubicBezTo>
                <a:cubicBezTo>
                  <a:pt x="87" y="6"/>
                  <a:pt x="84" y="8"/>
                  <a:pt x="84" y="14"/>
                </a:cubicBezTo>
                <a:lnTo>
                  <a:pt x="84" y="147"/>
                </a:lnTo>
                <a:cubicBezTo>
                  <a:pt x="76" y="144"/>
                  <a:pt x="67" y="141"/>
                  <a:pt x="56" y="141"/>
                </a:cubicBezTo>
                <a:cubicBezTo>
                  <a:pt x="25" y="141"/>
                  <a:pt x="0" y="160"/>
                  <a:pt x="0" y="183"/>
                </a:cubicBezTo>
                <a:cubicBezTo>
                  <a:pt x="0" y="205"/>
                  <a:pt x="25" y="226"/>
                  <a:pt x="56" y="226"/>
                </a:cubicBezTo>
                <a:cubicBezTo>
                  <a:pt x="87" y="226"/>
                  <a:pt x="113" y="206"/>
                  <a:pt x="113" y="183"/>
                </a:cubicBezTo>
                <a:lnTo>
                  <a:pt x="113" y="34"/>
                </a:lnTo>
                <a:cubicBezTo>
                  <a:pt x="127" y="39"/>
                  <a:pt x="141" y="51"/>
                  <a:pt x="141" y="71"/>
                </a:cubicBezTo>
                <a:cubicBezTo>
                  <a:pt x="141" y="79"/>
                  <a:pt x="146" y="85"/>
                  <a:pt x="155" y="85"/>
                </a:cubicBezTo>
                <a:cubicBezTo>
                  <a:pt x="163" y="85"/>
                  <a:pt x="169" y="79"/>
                  <a:pt x="169" y="71"/>
                </a:cubicBezTo>
                <a:cubicBezTo>
                  <a:pt x="169" y="25"/>
                  <a:pt x="124" y="6"/>
                  <a:pt x="101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7"/>
          <p:cNvSpPr/>
          <p:nvPr/>
        </p:nvSpPr>
        <p:spPr>
          <a:xfrm>
            <a:off x="1434960" y="5268960"/>
            <a:ext cx="30960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451" y="225"/>
                </a:moveTo>
                <a:cubicBezTo>
                  <a:pt x="451" y="267"/>
                  <a:pt x="442" y="302"/>
                  <a:pt x="421" y="338"/>
                </a:cubicBezTo>
                <a:cubicBezTo>
                  <a:pt x="400" y="374"/>
                  <a:pt x="374" y="400"/>
                  <a:pt x="338" y="421"/>
                </a:cubicBezTo>
                <a:cubicBezTo>
                  <a:pt x="302" y="442"/>
                  <a:pt x="266" y="451"/>
                  <a:pt x="225" y="451"/>
                </a:cubicBezTo>
                <a:cubicBezTo>
                  <a:pt x="183" y="451"/>
                  <a:pt x="149" y="442"/>
                  <a:pt x="113" y="421"/>
                </a:cubicBezTo>
                <a:cubicBezTo>
                  <a:pt x="77" y="400"/>
                  <a:pt x="51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1" y="77"/>
                  <a:pt x="77" y="51"/>
                  <a:pt x="113" y="30"/>
                </a:cubicBezTo>
                <a:cubicBezTo>
                  <a:pt x="149" y="9"/>
                  <a:pt x="184" y="0"/>
                  <a:pt x="225" y="0"/>
                </a:cubicBezTo>
                <a:cubicBezTo>
                  <a:pt x="267" y="0"/>
                  <a:pt x="302" y="9"/>
                  <a:pt x="338" y="30"/>
                </a:cubicBezTo>
                <a:cubicBezTo>
                  <a:pt x="374" y="51"/>
                  <a:pt x="400" y="77"/>
                  <a:pt x="421" y="113"/>
                </a:cubicBezTo>
                <a:cubicBezTo>
                  <a:pt x="442" y="149"/>
                  <a:pt x="451" y="184"/>
                  <a:pt x="451" y="225"/>
                </a:cubicBezTo>
              </a:path>
            </a:pathLst>
          </a:custGeom>
          <a:solidFill>
            <a:srgbClr val="ab4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1512720" y="5305320"/>
            <a:ext cx="154080" cy="15264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225" y="113"/>
                </a:moveTo>
                <a:cubicBezTo>
                  <a:pt x="225" y="134"/>
                  <a:pt x="220" y="151"/>
                  <a:pt x="210" y="169"/>
                </a:cubicBezTo>
                <a:cubicBezTo>
                  <a:pt x="199" y="187"/>
                  <a:pt x="187" y="201"/>
                  <a:pt x="169" y="211"/>
                </a:cubicBezTo>
                <a:cubicBezTo>
                  <a:pt x="151" y="222"/>
                  <a:pt x="132" y="226"/>
                  <a:pt x="112" y="226"/>
                </a:cubicBezTo>
                <a:cubicBezTo>
                  <a:pt x="91" y="226"/>
                  <a:pt x="74" y="222"/>
                  <a:pt x="56" y="211"/>
                </a:cubicBezTo>
                <a:cubicBezTo>
                  <a:pt x="38" y="201"/>
                  <a:pt x="25" y="187"/>
                  <a:pt x="15" y="169"/>
                </a:cubicBezTo>
                <a:cubicBezTo>
                  <a:pt x="4" y="151"/>
                  <a:pt x="0" y="134"/>
                  <a:pt x="0" y="113"/>
                </a:cubicBezTo>
                <a:cubicBezTo>
                  <a:pt x="0" y="92"/>
                  <a:pt x="4" y="75"/>
                  <a:pt x="15" y="57"/>
                </a:cubicBezTo>
                <a:cubicBezTo>
                  <a:pt x="25" y="39"/>
                  <a:pt x="38" y="26"/>
                  <a:pt x="56" y="15"/>
                </a:cubicBezTo>
                <a:cubicBezTo>
                  <a:pt x="74" y="5"/>
                  <a:pt x="92" y="0"/>
                  <a:pt x="112" y="0"/>
                </a:cubicBezTo>
                <a:cubicBezTo>
                  <a:pt x="133" y="0"/>
                  <a:pt x="151" y="5"/>
                  <a:pt x="169" y="15"/>
                </a:cubicBezTo>
                <a:cubicBezTo>
                  <a:pt x="187" y="26"/>
                  <a:pt x="199" y="39"/>
                  <a:pt x="210" y="57"/>
                </a:cubicBezTo>
                <a:cubicBezTo>
                  <a:pt x="220" y="75"/>
                  <a:pt x="225" y="92"/>
                  <a:pt x="225" y="113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9"/>
          <p:cNvSpPr/>
          <p:nvPr/>
        </p:nvSpPr>
        <p:spPr>
          <a:xfrm>
            <a:off x="1552680" y="53434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99" y="93"/>
                  <a:pt x="94" y="100"/>
                  <a:pt x="85" y="105"/>
                </a:cubicBezTo>
                <a:cubicBezTo>
                  <a:pt x="76" y="110"/>
                  <a:pt x="66" y="112"/>
                  <a:pt x="56" y="112"/>
                </a:cubicBezTo>
                <a:cubicBezTo>
                  <a:pt x="45" y="112"/>
                  <a:pt x="37" y="110"/>
                  <a:pt x="28" y="105"/>
                </a:cubicBezTo>
                <a:cubicBezTo>
                  <a:pt x="19" y="100"/>
                  <a:pt x="13" y="93"/>
                  <a:pt x="8" y="84"/>
                </a:cubicBezTo>
                <a:cubicBezTo>
                  <a:pt x="2" y="75"/>
                  <a:pt x="0" y="66"/>
                  <a:pt x="0" y="56"/>
                </a:cubicBezTo>
                <a:cubicBezTo>
                  <a:pt x="0" y="46"/>
                  <a:pt x="2" y="37"/>
                  <a:pt x="8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99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0"/>
          <p:cNvSpPr/>
          <p:nvPr/>
        </p:nvSpPr>
        <p:spPr>
          <a:xfrm>
            <a:off x="1552680" y="5495760"/>
            <a:ext cx="77760" cy="223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23"/>
                  <a:pt x="107" y="28"/>
                  <a:pt x="99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1"/>
          <p:cNvSpPr/>
          <p:nvPr/>
        </p:nvSpPr>
        <p:spPr>
          <a:xfrm>
            <a:off x="2201760" y="5262480"/>
            <a:ext cx="308160" cy="311400"/>
          </a:xfrm>
          <a:custGeom>
            <a:avLst/>
            <a:gdLst/>
            <a:ahLst/>
            <a:rect l="l" t="t" r="r" b="b"/>
            <a:pathLst>
              <a:path w="455" h="458">
                <a:moveTo>
                  <a:pt x="426" y="124"/>
                </a:moveTo>
                <a:cubicBezTo>
                  <a:pt x="454" y="62"/>
                  <a:pt x="428" y="14"/>
                  <a:pt x="426" y="11"/>
                </a:cubicBezTo>
                <a:cubicBezTo>
                  <a:pt x="423" y="6"/>
                  <a:pt x="417" y="3"/>
                  <a:pt x="409" y="3"/>
                </a:cubicBezTo>
                <a:cubicBezTo>
                  <a:pt x="403" y="6"/>
                  <a:pt x="397" y="8"/>
                  <a:pt x="397" y="17"/>
                </a:cubicBezTo>
                <a:cubicBezTo>
                  <a:pt x="397" y="17"/>
                  <a:pt x="395" y="31"/>
                  <a:pt x="369" y="56"/>
                </a:cubicBezTo>
                <a:cubicBezTo>
                  <a:pt x="330" y="23"/>
                  <a:pt x="278" y="3"/>
                  <a:pt x="225" y="3"/>
                </a:cubicBezTo>
                <a:cubicBezTo>
                  <a:pt x="171" y="3"/>
                  <a:pt x="121" y="23"/>
                  <a:pt x="81" y="56"/>
                </a:cubicBezTo>
                <a:cubicBezTo>
                  <a:pt x="56" y="34"/>
                  <a:pt x="53" y="17"/>
                  <a:pt x="53" y="17"/>
                </a:cubicBezTo>
                <a:lnTo>
                  <a:pt x="53" y="17"/>
                </a:lnTo>
                <a:cubicBezTo>
                  <a:pt x="53" y="11"/>
                  <a:pt x="47" y="6"/>
                  <a:pt x="42" y="3"/>
                </a:cubicBezTo>
                <a:cubicBezTo>
                  <a:pt x="36" y="0"/>
                  <a:pt x="28" y="3"/>
                  <a:pt x="25" y="11"/>
                </a:cubicBezTo>
                <a:cubicBezTo>
                  <a:pt x="25" y="14"/>
                  <a:pt x="0" y="62"/>
                  <a:pt x="25" y="124"/>
                </a:cubicBezTo>
                <a:cubicBezTo>
                  <a:pt x="8" y="158"/>
                  <a:pt x="0" y="192"/>
                  <a:pt x="0" y="231"/>
                </a:cubicBezTo>
                <a:cubicBezTo>
                  <a:pt x="0" y="356"/>
                  <a:pt x="101" y="457"/>
                  <a:pt x="225" y="457"/>
                </a:cubicBezTo>
                <a:cubicBezTo>
                  <a:pt x="349" y="457"/>
                  <a:pt x="451" y="356"/>
                  <a:pt x="451" y="231"/>
                </a:cubicBezTo>
                <a:cubicBezTo>
                  <a:pt x="451" y="195"/>
                  <a:pt x="443" y="158"/>
                  <a:pt x="426" y="124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"/>
          <p:cNvSpPr/>
          <p:nvPr/>
        </p:nvSpPr>
        <p:spPr>
          <a:xfrm>
            <a:off x="2259000" y="5343480"/>
            <a:ext cx="68400" cy="69840"/>
          </a:xfrm>
          <a:custGeom>
            <a:avLst/>
            <a:gdLst/>
            <a:ahLst/>
            <a:rect l="l" t="t" r="r" b="b"/>
            <a:pathLst>
              <a:path w="103" h="102">
                <a:moveTo>
                  <a:pt x="37" y="5"/>
                </a:moveTo>
                <a:cubicBezTo>
                  <a:pt x="31" y="0"/>
                  <a:pt x="23" y="0"/>
                  <a:pt x="17" y="5"/>
                </a:cubicBezTo>
                <a:cubicBezTo>
                  <a:pt x="6" y="17"/>
                  <a:pt x="0" y="31"/>
                  <a:pt x="0" y="45"/>
                </a:cubicBezTo>
                <a:cubicBezTo>
                  <a:pt x="0" y="59"/>
                  <a:pt x="6" y="73"/>
                  <a:pt x="17" y="84"/>
                </a:cubicBezTo>
                <a:cubicBezTo>
                  <a:pt x="28" y="96"/>
                  <a:pt x="43" y="101"/>
                  <a:pt x="57" y="101"/>
                </a:cubicBezTo>
                <a:cubicBezTo>
                  <a:pt x="71" y="101"/>
                  <a:pt x="85" y="96"/>
                  <a:pt x="96" y="84"/>
                </a:cubicBezTo>
                <a:cubicBezTo>
                  <a:pt x="102" y="79"/>
                  <a:pt x="102" y="70"/>
                  <a:pt x="96" y="65"/>
                </a:cubicBezTo>
                <a:lnTo>
                  <a:pt x="37" y="5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3"/>
          <p:cNvSpPr/>
          <p:nvPr/>
        </p:nvSpPr>
        <p:spPr>
          <a:xfrm>
            <a:off x="2381400" y="5343480"/>
            <a:ext cx="68040" cy="6984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84" y="5"/>
                </a:moveTo>
                <a:cubicBezTo>
                  <a:pt x="79" y="0"/>
                  <a:pt x="70" y="0"/>
                  <a:pt x="65" y="5"/>
                </a:cubicBezTo>
                <a:lnTo>
                  <a:pt x="5" y="65"/>
                </a:lnTo>
                <a:cubicBezTo>
                  <a:pt x="0" y="70"/>
                  <a:pt x="0" y="79"/>
                  <a:pt x="5" y="84"/>
                </a:cubicBezTo>
                <a:cubicBezTo>
                  <a:pt x="17" y="96"/>
                  <a:pt x="31" y="101"/>
                  <a:pt x="45" y="101"/>
                </a:cubicBezTo>
                <a:cubicBezTo>
                  <a:pt x="59" y="101"/>
                  <a:pt x="72" y="96"/>
                  <a:pt x="84" y="84"/>
                </a:cubicBezTo>
                <a:cubicBezTo>
                  <a:pt x="95" y="73"/>
                  <a:pt x="101" y="59"/>
                  <a:pt x="101" y="45"/>
                </a:cubicBezTo>
                <a:cubicBezTo>
                  <a:pt x="101" y="31"/>
                  <a:pt x="96" y="17"/>
                  <a:pt x="84" y="5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4"/>
          <p:cNvSpPr/>
          <p:nvPr/>
        </p:nvSpPr>
        <p:spPr>
          <a:xfrm>
            <a:off x="2243160" y="5440320"/>
            <a:ext cx="225360" cy="95400"/>
          </a:xfrm>
          <a:custGeom>
            <a:avLst/>
            <a:gdLst/>
            <a:ahLst/>
            <a:rect l="l" t="t" r="r" b="b"/>
            <a:pathLst>
              <a:path w="329" h="142">
                <a:moveTo>
                  <a:pt x="325" y="5"/>
                </a:moveTo>
                <a:cubicBezTo>
                  <a:pt x="322" y="2"/>
                  <a:pt x="319" y="0"/>
                  <a:pt x="314" y="0"/>
                </a:cubicBezTo>
                <a:lnTo>
                  <a:pt x="15" y="0"/>
                </a:lnTo>
                <a:cubicBezTo>
                  <a:pt x="9" y="0"/>
                  <a:pt x="5" y="2"/>
                  <a:pt x="3" y="5"/>
                </a:cubicBezTo>
                <a:cubicBezTo>
                  <a:pt x="0" y="8"/>
                  <a:pt x="1" y="14"/>
                  <a:pt x="1" y="17"/>
                </a:cubicBezTo>
                <a:cubicBezTo>
                  <a:pt x="20" y="90"/>
                  <a:pt x="88" y="141"/>
                  <a:pt x="164" y="141"/>
                </a:cubicBezTo>
                <a:cubicBezTo>
                  <a:pt x="240" y="141"/>
                  <a:pt x="305" y="90"/>
                  <a:pt x="328" y="17"/>
                </a:cubicBezTo>
                <a:cubicBezTo>
                  <a:pt x="328" y="14"/>
                  <a:pt x="328" y="8"/>
                  <a:pt x="325" y="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5"/>
          <p:cNvSpPr/>
          <p:nvPr/>
        </p:nvSpPr>
        <p:spPr>
          <a:xfrm>
            <a:off x="2987640" y="5262480"/>
            <a:ext cx="273240" cy="314280"/>
          </a:xfrm>
          <a:custGeom>
            <a:avLst/>
            <a:gdLst/>
            <a:ahLst/>
            <a:rect l="l" t="t" r="r" b="b"/>
            <a:pathLst>
              <a:path w="402" h="461">
                <a:moveTo>
                  <a:pt x="390" y="167"/>
                </a:moveTo>
                <a:cubicBezTo>
                  <a:pt x="376" y="88"/>
                  <a:pt x="311" y="26"/>
                  <a:pt x="235" y="11"/>
                </a:cubicBezTo>
                <a:cubicBezTo>
                  <a:pt x="175" y="0"/>
                  <a:pt x="116" y="18"/>
                  <a:pt x="71" y="54"/>
                </a:cubicBezTo>
                <a:cubicBezTo>
                  <a:pt x="26" y="91"/>
                  <a:pt x="0" y="147"/>
                  <a:pt x="0" y="206"/>
                </a:cubicBezTo>
                <a:cubicBezTo>
                  <a:pt x="0" y="257"/>
                  <a:pt x="20" y="308"/>
                  <a:pt x="57" y="344"/>
                </a:cubicBezTo>
                <a:lnTo>
                  <a:pt x="57" y="404"/>
                </a:lnTo>
                <a:cubicBezTo>
                  <a:pt x="57" y="435"/>
                  <a:pt x="82" y="460"/>
                  <a:pt x="113" y="460"/>
                </a:cubicBezTo>
                <a:lnTo>
                  <a:pt x="283" y="460"/>
                </a:lnTo>
                <a:cubicBezTo>
                  <a:pt x="314" y="460"/>
                  <a:pt x="339" y="435"/>
                  <a:pt x="339" y="404"/>
                </a:cubicBezTo>
                <a:lnTo>
                  <a:pt x="339" y="344"/>
                </a:lnTo>
                <a:cubicBezTo>
                  <a:pt x="381" y="296"/>
                  <a:pt x="401" y="232"/>
                  <a:pt x="390" y="167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6"/>
          <p:cNvSpPr/>
          <p:nvPr/>
        </p:nvSpPr>
        <p:spPr>
          <a:xfrm>
            <a:off x="3084480" y="5451480"/>
            <a:ext cx="41400" cy="57240"/>
          </a:xfrm>
          <a:custGeom>
            <a:avLst/>
            <a:gdLst/>
            <a:ahLst/>
            <a:rect l="l" t="t" r="r" b="b"/>
            <a:pathLst>
              <a:path w="60" h="85">
                <a:moveTo>
                  <a:pt x="56" y="56"/>
                </a:moveTo>
                <a:cubicBezTo>
                  <a:pt x="56" y="73"/>
                  <a:pt x="45" y="84"/>
                  <a:pt x="28" y="84"/>
                </a:cubicBezTo>
                <a:cubicBezTo>
                  <a:pt x="11" y="84"/>
                  <a:pt x="0" y="73"/>
                  <a:pt x="0" y="56"/>
                </a:cubicBezTo>
                <a:cubicBezTo>
                  <a:pt x="0" y="39"/>
                  <a:pt x="25" y="0"/>
                  <a:pt x="42" y="0"/>
                </a:cubicBezTo>
                <a:cubicBezTo>
                  <a:pt x="59" y="0"/>
                  <a:pt x="56" y="39"/>
                  <a:pt x="56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7"/>
          <p:cNvSpPr/>
          <p:nvPr/>
        </p:nvSpPr>
        <p:spPr>
          <a:xfrm>
            <a:off x="3119400" y="5451480"/>
            <a:ext cx="42840" cy="57240"/>
          </a:xfrm>
          <a:custGeom>
            <a:avLst/>
            <a:gdLst/>
            <a:ahLst/>
            <a:rect l="l" t="t" r="r" b="b"/>
            <a:pathLst>
              <a:path w="60" h="85">
                <a:moveTo>
                  <a:pt x="3" y="56"/>
                </a:moveTo>
                <a:cubicBezTo>
                  <a:pt x="3" y="73"/>
                  <a:pt x="14" y="84"/>
                  <a:pt x="31" y="84"/>
                </a:cubicBezTo>
                <a:cubicBezTo>
                  <a:pt x="48" y="84"/>
                  <a:pt x="59" y="73"/>
                  <a:pt x="59" y="56"/>
                </a:cubicBezTo>
                <a:cubicBezTo>
                  <a:pt x="59" y="39"/>
                  <a:pt x="34" y="0"/>
                  <a:pt x="17" y="0"/>
                </a:cubicBezTo>
                <a:cubicBezTo>
                  <a:pt x="0" y="0"/>
                  <a:pt x="3" y="39"/>
                  <a:pt x="3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8"/>
          <p:cNvSpPr/>
          <p:nvPr/>
        </p:nvSpPr>
        <p:spPr>
          <a:xfrm>
            <a:off x="3024360" y="53532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76" y="17"/>
                </a:moveTo>
                <a:cubicBezTo>
                  <a:pt x="62" y="3"/>
                  <a:pt x="42" y="0"/>
                  <a:pt x="28" y="8"/>
                </a:cubicBezTo>
                <a:cubicBezTo>
                  <a:pt x="11" y="20"/>
                  <a:pt x="0" y="36"/>
                  <a:pt x="0" y="56"/>
                </a:cubicBezTo>
                <a:cubicBezTo>
                  <a:pt x="0" y="87"/>
                  <a:pt x="25" y="113"/>
                  <a:pt x="56" y="113"/>
                </a:cubicBezTo>
                <a:cubicBezTo>
                  <a:pt x="76" y="113"/>
                  <a:pt x="96" y="101"/>
                  <a:pt x="104" y="84"/>
                </a:cubicBezTo>
                <a:cubicBezTo>
                  <a:pt x="113" y="70"/>
                  <a:pt x="110" y="48"/>
                  <a:pt x="96" y="36"/>
                </a:cubicBezTo>
                <a:lnTo>
                  <a:pt x="76" y="17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3138480" y="53560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85" y="8"/>
                </a:moveTo>
                <a:cubicBezTo>
                  <a:pt x="71" y="0"/>
                  <a:pt x="48" y="2"/>
                  <a:pt x="37" y="17"/>
                </a:cubicBezTo>
                <a:lnTo>
                  <a:pt x="17" y="36"/>
                </a:lnTo>
                <a:cubicBezTo>
                  <a:pt x="3" y="50"/>
                  <a:pt x="0" y="70"/>
                  <a:pt x="9" y="84"/>
                </a:cubicBezTo>
                <a:cubicBezTo>
                  <a:pt x="20" y="101"/>
                  <a:pt x="37" y="112"/>
                  <a:pt x="57" y="112"/>
                </a:cubicBezTo>
                <a:cubicBezTo>
                  <a:pt x="88" y="112"/>
                  <a:pt x="113" y="87"/>
                  <a:pt x="113" y="56"/>
                </a:cubicBezTo>
                <a:cubicBezTo>
                  <a:pt x="113" y="36"/>
                  <a:pt x="102" y="17"/>
                  <a:pt x="85" y="8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0"/>
          <p:cNvSpPr/>
          <p:nvPr/>
        </p:nvSpPr>
        <p:spPr>
          <a:xfrm>
            <a:off x="3149640" y="5535720"/>
            <a:ext cx="20520" cy="38160"/>
          </a:xfrm>
          <a:custGeom>
            <a:avLst/>
            <a:gdLst/>
            <a:ahLst/>
            <a:rect l="l" t="t" r="r" b="b"/>
            <a:pathLst>
              <a:path w="30" h="57">
                <a:moveTo>
                  <a:pt x="29" y="14"/>
                </a:moveTo>
                <a:cubicBezTo>
                  <a:pt x="29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9" y="56"/>
                </a:lnTo>
                <a:lnTo>
                  <a:pt x="29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1"/>
          <p:cNvSpPr/>
          <p:nvPr/>
        </p:nvSpPr>
        <p:spPr>
          <a:xfrm>
            <a:off x="3111480" y="553572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28" y="14"/>
                </a:move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8" y="56"/>
                </a:lnTo>
                <a:lnTo>
                  <a:pt x="28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2"/>
          <p:cNvSpPr/>
          <p:nvPr/>
        </p:nvSpPr>
        <p:spPr>
          <a:xfrm>
            <a:off x="3071880" y="553572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28" y="14"/>
                </a:move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8" y="56"/>
                </a:lnTo>
                <a:lnTo>
                  <a:pt x="28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3"/>
          <p:cNvSpPr/>
          <p:nvPr/>
        </p:nvSpPr>
        <p:spPr>
          <a:xfrm>
            <a:off x="3784680" y="2968560"/>
            <a:ext cx="196920" cy="98640"/>
          </a:xfrm>
          <a:custGeom>
            <a:avLst/>
            <a:gdLst/>
            <a:ahLst/>
            <a:rect l="l" t="t" r="r" b="b"/>
            <a:pathLst>
              <a:path w="292" h="145">
                <a:moveTo>
                  <a:pt x="184" y="144"/>
                </a:moveTo>
                <a:lnTo>
                  <a:pt x="113" y="144"/>
                </a:lnTo>
                <a:cubicBezTo>
                  <a:pt x="85" y="144"/>
                  <a:pt x="40" y="119"/>
                  <a:pt x="23" y="105"/>
                </a:cubicBezTo>
                <a:cubicBezTo>
                  <a:pt x="0" y="82"/>
                  <a:pt x="0" y="46"/>
                  <a:pt x="23" y="23"/>
                </a:cubicBezTo>
                <a:cubicBezTo>
                  <a:pt x="45" y="0"/>
                  <a:pt x="82" y="0"/>
                  <a:pt x="105" y="23"/>
                </a:cubicBezTo>
                <a:cubicBezTo>
                  <a:pt x="116" y="34"/>
                  <a:pt x="150" y="85"/>
                  <a:pt x="144" y="119"/>
                </a:cubicBezTo>
                <a:lnTo>
                  <a:pt x="147" y="119"/>
                </a:lnTo>
                <a:cubicBezTo>
                  <a:pt x="141" y="85"/>
                  <a:pt x="175" y="34"/>
                  <a:pt x="187" y="23"/>
                </a:cubicBezTo>
                <a:cubicBezTo>
                  <a:pt x="209" y="0"/>
                  <a:pt x="245" y="0"/>
                  <a:pt x="268" y="23"/>
                </a:cubicBezTo>
                <a:cubicBezTo>
                  <a:pt x="290" y="46"/>
                  <a:pt x="291" y="82"/>
                  <a:pt x="268" y="105"/>
                </a:cubicBezTo>
                <a:cubicBezTo>
                  <a:pt x="257" y="119"/>
                  <a:pt x="215" y="144"/>
                  <a:pt x="184" y="144"/>
                </a:cubicBezTo>
                <a:close/>
                <a:moveTo>
                  <a:pt x="184" y="116"/>
                </a:moveTo>
                <a:cubicBezTo>
                  <a:pt x="203" y="116"/>
                  <a:pt x="240" y="96"/>
                  <a:pt x="251" y="82"/>
                </a:cubicBezTo>
                <a:cubicBezTo>
                  <a:pt x="263" y="71"/>
                  <a:pt x="262" y="51"/>
                  <a:pt x="251" y="40"/>
                </a:cubicBezTo>
                <a:cubicBezTo>
                  <a:pt x="239" y="29"/>
                  <a:pt x="220" y="29"/>
                  <a:pt x="209" y="40"/>
                </a:cubicBezTo>
                <a:cubicBezTo>
                  <a:pt x="189" y="60"/>
                  <a:pt x="172" y="108"/>
                  <a:pt x="178" y="116"/>
                </a:cubicBezTo>
                <a:cubicBezTo>
                  <a:pt x="181" y="113"/>
                  <a:pt x="181" y="116"/>
                  <a:pt x="184" y="116"/>
                </a:cubicBezTo>
                <a:close/>
                <a:moveTo>
                  <a:pt x="68" y="32"/>
                </a:moveTo>
                <a:cubicBezTo>
                  <a:pt x="60" y="32"/>
                  <a:pt x="51" y="34"/>
                  <a:pt x="45" y="40"/>
                </a:cubicBezTo>
                <a:cubicBezTo>
                  <a:pt x="34" y="51"/>
                  <a:pt x="33" y="70"/>
                  <a:pt x="45" y="82"/>
                </a:cubicBezTo>
                <a:cubicBezTo>
                  <a:pt x="56" y="93"/>
                  <a:pt x="96" y="116"/>
                  <a:pt x="113" y="116"/>
                </a:cubicBezTo>
                <a:cubicBezTo>
                  <a:pt x="116" y="116"/>
                  <a:pt x="119" y="116"/>
                  <a:pt x="119" y="116"/>
                </a:cubicBezTo>
                <a:cubicBezTo>
                  <a:pt x="124" y="111"/>
                  <a:pt x="108" y="60"/>
                  <a:pt x="88" y="40"/>
                </a:cubicBezTo>
                <a:cubicBezTo>
                  <a:pt x="82" y="34"/>
                  <a:pt x="76" y="32"/>
                  <a:pt x="68" y="32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4"/>
          <p:cNvSpPr/>
          <p:nvPr/>
        </p:nvSpPr>
        <p:spPr>
          <a:xfrm>
            <a:off x="3751200" y="3106800"/>
            <a:ext cx="268200" cy="152280"/>
          </a:xfrm>
          <a:custGeom>
            <a:avLst/>
            <a:gdLst/>
            <a:ahLst/>
            <a:rect l="l" t="t" r="r" b="b"/>
            <a:pathLst>
              <a:path w="396" h="227">
                <a:moveTo>
                  <a:pt x="0" y="0"/>
                </a:moveTo>
                <a:lnTo>
                  <a:pt x="0" y="197"/>
                </a:lnTo>
                <a:cubicBezTo>
                  <a:pt x="0" y="214"/>
                  <a:pt x="12" y="226"/>
                  <a:pt x="29" y="226"/>
                </a:cubicBezTo>
                <a:lnTo>
                  <a:pt x="367" y="226"/>
                </a:lnTo>
                <a:cubicBezTo>
                  <a:pt x="384" y="226"/>
                  <a:pt x="395" y="214"/>
                  <a:pt x="395" y="197"/>
                </a:cubicBezTo>
                <a:lnTo>
                  <a:pt x="395" y="0"/>
                </a:lnTo>
                <a:lnTo>
                  <a:pt x="0" y="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3733920" y="304956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99"/>
                </a:lnTo>
                <a:cubicBezTo>
                  <a:pt x="0" y="107"/>
                  <a:pt x="6" y="113"/>
                  <a:pt x="14" y="113"/>
                </a:cubicBezTo>
                <a:lnTo>
                  <a:pt x="437" y="113"/>
                </a:lnTo>
                <a:cubicBezTo>
                  <a:pt x="446" y="113"/>
                  <a:pt x="452" y="107"/>
                  <a:pt x="452" y="99"/>
                </a:cubicBezTo>
                <a:lnTo>
                  <a:pt x="452" y="28"/>
                </a:lnTo>
                <a:cubicBezTo>
                  <a:pt x="452" y="11"/>
                  <a:pt x="440" y="0"/>
                  <a:pt x="423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6"/>
          <p:cNvSpPr/>
          <p:nvPr/>
        </p:nvSpPr>
        <p:spPr>
          <a:xfrm>
            <a:off x="3867120" y="3049560"/>
            <a:ext cx="39600" cy="212760"/>
          </a:xfrm>
          <a:custGeom>
            <a:avLst/>
            <a:gdLst/>
            <a:ahLst/>
            <a:rect l="l" t="t" r="r" b="b"/>
            <a:pathLst>
              <a:path w="57" h="312">
                <a:moveTo>
                  <a:pt x="28" y="311"/>
                </a:moveTo>
                <a:lnTo>
                  <a:pt x="0" y="311"/>
                </a:lnTo>
                <a:lnTo>
                  <a:pt x="0" y="0"/>
                </a:lnTo>
                <a:lnTo>
                  <a:pt x="56" y="0"/>
                </a:lnTo>
                <a:lnTo>
                  <a:pt x="56" y="311"/>
                </a:lnTo>
                <a:lnTo>
                  <a:pt x="28" y="311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7"/>
          <p:cNvSpPr/>
          <p:nvPr/>
        </p:nvSpPr>
        <p:spPr>
          <a:xfrm>
            <a:off x="4556160" y="3029040"/>
            <a:ext cx="250920" cy="135000"/>
          </a:xfrm>
          <a:custGeom>
            <a:avLst/>
            <a:gdLst/>
            <a:ahLst/>
            <a:rect l="l" t="t" r="r" b="b"/>
            <a:pathLst>
              <a:path w="370" h="198">
                <a:moveTo>
                  <a:pt x="367" y="6"/>
                </a:moveTo>
                <a:cubicBezTo>
                  <a:pt x="364" y="3"/>
                  <a:pt x="361" y="0"/>
                  <a:pt x="355" y="0"/>
                </a:cubicBezTo>
                <a:lnTo>
                  <a:pt x="14" y="0"/>
                </a:lnTo>
                <a:cubicBezTo>
                  <a:pt x="8" y="0"/>
                  <a:pt x="5" y="3"/>
                  <a:pt x="3" y="6"/>
                </a:cubicBezTo>
                <a:cubicBezTo>
                  <a:pt x="0" y="8"/>
                  <a:pt x="0" y="14"/>
                  <a:pt x="0" y="17"/>
                </a:cubicBezTo>
                <a:lnTo>
                  <a:pt x="45" y="186"/>
                </a:lnTo>
                <a:cubicBezTo>
                  <a:pt x="48" y="192"/>
                  <a:pt x="53" y="197"/>
                  <a:pt x="59" y="197"/>
                </a:cubicBezTo>
                <a:lnTo>
                  <a:pt x="59" y="197"/>
                </a:lnTo>
                <a:lnTo>
                  <a:pt x="327" y="183"/>
                </a:lnTo>
                <a:cubicBezTo>
                  <a:pt x="333" y="183"/>
                  <a:pt x="338" y="178"/>
                  <a:pt x="341" y="172"/>
                </a:cubicBezTo>
                <a:lnTo>
                  <a:pt x="369" y="17"/>
                </a:lnTo>
                <a:cubicBezTo>
                  <a:pt x="369" y="11"/>
                  <a:pt x="369" y="8"/>
                  <a:pt x="367" y="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8"/>
          <p:cNvSpPr/>
          <p:nvPr/>
        </p:nvSpPr>
        <p:spPr>
          <a:xfrm>
            <a:off x="4729320" y="3067200"/>
            <a:ext cx="2052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5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9"/>
          <p:cNvSpPr/>
          <p:nvPr/>
        </p:nvSpPr>
        <p:spPr>
          <a:xfrm>
            <a:off x="467208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0"/>
          <p:cNvSpPr/>
          <p:nvPr/>
        </p:nvSpPr>
        <p:spPr>
          <a:xfrm>
            <a:off x="461340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1"/>
          <p:cNvSpPr/>
          <p:nvPr/>
        </p:nvSpPr>
        <p:spPr>
          <a:xfrm>
            <a:off x="4594320" y="321948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0"/>
                  <a:pt x="69" y="75"/>
                  <a:pt x="63" y="79"/>
                </a:cubicBezTo>
                <a:cubicBezTo>
                  <a:pt x="56" y="83"/>
                  <a:pt x="50" y="85"/>
                  <a:pt x="42" y="85"/>
                </a:cubicBezTo>
                <a:cubicBezTo>
                  <a:pt x="34" y="85"/>
                  <a:pt x="28" y="83"/>
                  <a:pt x="21" y="79"/>
                </a:cubicBezTo>
                <a:cubicBezTo>
                  <a:pt x="14" y="75"/>
                  <a:pt x="10" y="70"/>
                  <a:pt x="6" y="64"/>
                </a:cubicBezTo>
                <a:cubicBezTo>
                  <a:pt x="2" y="57"/>
                  <a:pt x="0" y="49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8" y="2"/>
                  <a:pt x="34" y="0"/>
                  <a:pt x="42" y="0"/>
                </a:cubicBezTo>
                <a:cubicBezTo>
                  <a:pt x="50" y="0"/>
                  <a:pt x="56" y="2"/>
                  <a:pt x="63" y="6"/>
                </a:cubicBezTo>
                <a:cubicBezTo>
                  <a:pt x="69" y="10"/>
                  <a:pt x="75" y="14"/>
                  <a:pt x="79" y="21"/>
                </a:cubicBezTo>
                <a:cubicBezTo>
                  <a:pt x="83" y="27"/>
                  <a:pt x="85" y="35"/>
                  <a:pt x="85" y="42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2"/>
          <p:cNvSpPr/>
          <p:nvPr/>
        </p:nvSpPr>
        <p:spPr>
          <a:xfrm>
            <a:off x="4708440" y="321948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0"/>
                  <a:pt x="71" y="75"/>
                  <a:pt x="64" y="79"/>
                </a:cubicBezTo>
                <a:cubicBezTo>
                  <a:pt x="57" y="83"/>
                  <a:pt x="50" y="85"/>
                  <a:pt x="43" y="85"/>
                </a:cubicBezTo>
                <a:cubicBezTo>
                  <a:pt x="35" y="85"/>
                  <a:pt x="27" y="83"/>
                  <a:pt x="21" y="79"/>
                </a:cubicBezTo>
                <a:cubicBezTo>
                  <a:pt x="14" y="75"/>
                  <a:pt x="10" y="70"/>
                  <a:pt x="6" y="64"/>
                </a:cubicBezTo>
                <a:cubicBezTo>
                  <a:pt x="2" y="57"/>
                  <a:pt x="0" y="49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7" y="2"/>
                  <a:pt x="35" y="0"/>
                  <a:pt x="43" y="0"/>
                </a:cubicBezTo>
                <a:cubicBezTo>
                  <a:pt x="50" y="0"/>
                  <a:pt x="57" y="2"/>
                  <a:pt x="64" y="6"/>
                </a:cubicBezTo>
                <a:cubicBezTo>
                  <a:pt x="71" y="10"/>
                  <a:pt x="75" y="14"/>
                  <a:pt x="79" y="21"/>
                </a:cubicBezTo>
                <a:cubicBezTo>
                  <a:pt x="83" y="27"/>
                  <a:pt x="85" y="35"/>
                  <a:pt x="85" y="42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3"/>
          <p:cNvSpPr/>
          <p:nvPr/>
        </p:nvSpPr>
        <p:spPr>
          <a:xfrm>
            <a:off x="4498920" y="2992320"/>
            <a:ext cx="270000" cy="212760"/>
          </a:xfrm>
          <a:custGeom>
            <a:avLst/>
            <a:gdLst/>
            <a:ahLst/>
            <a:rect l="l" t="t" r="r" b="b"/>
            <a:pathLst>
              <a:path w="396" h="311">
                <a:moveTo>
                  <a:pt x="381" y="310"/>
                </a:moveTo>
                <a:lnTo>
                  <a:pt x="155" y="310"/>
                </a:lnTo>
                <a:cubicBezTo>
                  <a:pt x="149" y="310"/>
                  <a:pt x="144" y="304"/>
                  <a:pt x="141" y="299"/>
                </a:cubicBezTo>
                <a:lnTo>
                  <a:pt x="6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79" y="0"/>
                </a:lnTo>
                <a:cubicBezTo>
                  <a:pt x="85" y="0"/>
                  <a:pt x="90" y="5"/>
                  <a:pt x="93" y="11"/>
                </a:cubicBezTo>
                <a:lnTo>
                  <a:pt x="166" y="282"/>
                </a:lnTo>
                <a:lnTo>
                  <a:pt x="381" y="282"/>
                </a:lnTo>
                <a:cubicBezTo>
                  <a:pt x="389" y="282"/>
                  <a:pt x="395" y="287"/>
                  <a:pt x="395" y="296"/>
                </a:cubicBezTo>
                <a:cubicBezTo>
                  <a:pt x="395" y="304"/>
                  <a:pt x="389" y="310"/>
                  <a:pt x="381" y="31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4"/>
          <p:cNvSpPr/>
          <p:nvPr/>
        </p:nvSpPr>
        <p:spPr>
          <a:xfrm>
            <a:off x="5321160" y="2989440"/>
            <a:ext cx="60480" cy="99720"/>
          </a:xfrm>
          <a:custGeom>
            <a:avLst/>
            <a:gdLst/>
            <a:ahLst/>
            <a:rect l="l" t="t" r="r" b="b"/>
            <a:pathLst>
              <a:path w="89" h="145">
                <a:moveTo>
                  <a:pt x="14" y="144"/>
                </a:moveTo>
                <a:cubicBezTo>
                  <a:pt x="12" y="144"/>
                  <a:pt x="9" y="144"/>
                  <a:pt x="9" y="141"/>
                </a:cubicBezTo>
                <a:cubicBezTo>
                  <a:pt x="3" y="138"/>
                  <a:pt x="0" y="130"/>
                  <a:pt x="3" y="121"/>
                </a:cubicBezTo>
                <a:lnTo>
                  <a:pt x="60" y="8"/>
                </a:lnTo>
                <a:cubicBezTo>
                  <a:pt x="62" y="3"/>
                  <a:pt x="71" y="0"/>
                  <a:pt x="79" y="3"/>
                </a:cubicBezTo>
                <a:cubicBezTo>
                  <a:pt x="85" y="5"/>
                  <a:pt x="88" y="14"/>
                  <a:pt x="85" y="22"/>
                </a:cubicBezTo>
                <a:lnTo>
                  <a:pt x="29" y="135"/>
                </a:lnTo>
                <a:cubicBezTo>
                  <a:pt x="26" y="141"/>
                  <a:pt x="20" y="144"/>
                  <a:pt x="14" y="14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5"/>
          <p:cNvSpPr/>
          <p:nvPr/>
        </p:nvSpPr>
        <p:spPr>
          <a:xfrm>
            <a:off x="5456160" y="2989440"/>
            <a:ext cx="60480" cy="99720"/>
          </a:xfrm>
          <a:custGeom>
            <a:avLst/>
            <a:gdLst/>
            <a:ahLst/>
            <a:rect l="l" t="t" r="r" b="b"/>
            <a:pathLst>
              <a:path w="88" h="145">
                <a:moveTo>
                  <a:pt x="70" y="144"/>
                </a:moveTo>
                <a:cubicBezTo>
                  <a:pt x="65" y="144"/>
                  <a:pt x="59" y="141"/>
                  <a:pt x="59" y="135"/>
                </a:cubicBezTo>
                <a:lnTo>
                  <a:pt x="3" y="22"/>
                </a:lnTo>
                <a:cubicBezTo>
                  <a:pt x="0" y="17"/>
                  <a:pt x="3" y="8"/>
                  <a:pt x="8" y="3"/>
                </a:cubicBezTo>
                <a:cubicBezTo>
                  <a:pt x="14" y="0"/>
                  <a:pt x="22" y="3"/>
                  <a:pt x="28" y="8"/>
                </a:cubicBezTo>
                <a:lnTo>
                  <a:pt x="84" y="121"/>
                </a:lnTo>
                <a:cubicBezTo>
                  <a:pt x="87" y="127"/>
                  <a:pt x="84" y="135"/>
                  <a:pt x="79" y="141"/>
                </a:cubicBezTo>
                <a:cubicBezTo>
                  <a:pt x="76" y="144"/>
                  <a:pt x="73" y="144"/>
                  <a:pt x="70" y="14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76"/>
          <p:cNvSpPr/>
          <p:nvPr/>
        </p:nvSpPr>
        <p:spPr>
          <a:xfrm>
            <a:off x="5283360" y="3106800"/>
            <a:ext cx="268200" cy="17280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92" y="5"/>
                </a:moveTo>
                <a:cubicBezTo>
                  <a:pt x="389" y="3"/>
                  <a:pt x="386" y="0"/>
                  <a:pt x="381" y="0"/>
                </a:cubicBezTo>
                <a:lnTo>
                  <a:pt x="14" y="0"/>
                </a:lnTo>
                <a:cubicBezTo>
                  <a:pt x="8" y="0"/>
                  <a:pt x="5" y="3"/>
                  <a:pt x="3" y="5"/>
                </a:cubicBezTo>
                <a:cubicBezTo>
                  <a:pt x="0" y="8"/>
                  <a:pt x="0" y="14"/>
                  <a:pt x="0" y="17"/>
                </a:cubicBezTo>
                <a:lnTo>
                  <a:pt x="56" y="243"/>
                </a:lnTo>
                <a:cubicBezTo>
                  <a:pt x="59" y="248"/>
                  <a:pt x="65" y="254"/>
                  <a:pt x="70" y="254"/>
                </a:cubicBezTo>
                <a:lnTo>
                  <a:pt x="324" y="254"/>
                </a:lnTo>
                <a:cubicBezTo>
                  <a:pt x="330" y="254"/>
                  <a:pt x="336" y="248"/>
                  <a:pt x="338" y="243"/>
                </a:cubicBezTo>
                <a:lnTo>
                  <a:pt x="395" y="17"/>
                </a:lnTo>
                <a:cubicBezTo>
                  <a:pt x="395" y="14"/>
                  <a:pt x="395" y="8"/>
                  <a:pt x="392" y="5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7"/>
          <p:cNvSpPr/>
          <p:nvPr/>
        </p:nvSpPr>
        <p:spPr>
          <a:xfrm>
            <a:off x="5264280" y="3067200"/>
            <a:ext cx="30780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437" y="85"/>
                </a:lnTo>
                <a:cubicBezTo>
                  <a:pt x="446" y="85"/>
                  <a:pt x="451" y="79"/>
                  <a:pt x="451" y="71"/>
                </a:cubicBezTo>
                <a:lnTo>
                  <a:pt x="451" y="15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8"/>
          <p:cNvSpPr/>
          <p:nvPr/>
        </p:nvSpPr>
        <p:spPr>
          <a:xfrm>
            <a:off x="540864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9"/>
          <p:cNvSpPr/>
          <p:nvPr/>
        </p:nvSpPr>
        <p:spPr>
          <a:xfrm>
            <a:off x="536112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0"/>
          <p:cNvSpPr/>
          <p:nvPr/>
        </p:nvSpPr>
        <p:spPr>
          <a:xfrm>
            <a:off x="545616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1"/>
          <p:cNvSpPr/>
          <p:nvPr/>
        </p:nvSpPr>
        <p:spPr>
          <a:xfrm>
            <a:off x="6031080" y="3049560"/>
            <a:ext cx="190440" cy="230040"/>
          </a:xfrm>
          <a:custGeom>
            <a:avLst/>
            <a:gdLst/>
            <a:ahLst/>
            <a:rect l="l" t="t" r="r" b="b"/>
            <a:pathLst>
              <a:path w="284" h="340">
                <a:moveTo>
                  <a:pt x="268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282"/>
                </a:lnTo>
                <a:cubicBezTo>
                  <a:pt x="0" y="313"/>
                  <a:pt x="26" y="339"/>
                  <a:pt x="57" y="339"/>
                </a:cubicBezTo>
                <a:lnTo>
                  <a:pt x="268" y="339"/>
                </a:lnTo>
                <a:cubicBezTo>
                  <a:pt x="277" y="339"/>
                  <a:pt x="283" y="333"/>
                  <a:pt x="283" y="325"/>
                </a:cubicBezTo>
                <a:lnTo>
                  <a:pt x="283" y="14"/>
                </a:lnTo>
                <a:cubicBezTo>
                  <a:pt x="283" y="6"/>
                  <a:pt x="277" y="0"/>
                  <a:pt x="26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2"/>
          <p:cNvSpPr/>
          <p:nvPr/>
        </p:nvSpPr>
        <p:spPr>
          <a:xfrm>
            <a:off x="6164280" y="3124080"/>
            <a:ext cx="174600" cy="15264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240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69"/>
                </a:lnTo>
                <a:cubicBezTo>
                  <a:pt x="0" y="200"/>
                  <a:pt x="25" y="226"/>
                  <a:pt x="56" y="226"/>
                </a:cubicBezTo>
                <a:lnTo>
                  <a:pt x="197" y="226"/>
                </a:lnTo>
                <a:cubicBezTo>
                  <a:pt x="229" y="226"/>
                  <a:pt x="254" y="200"/>
                  <a:pt x="254" y="169"/>
                </a:cubicBezTo>
                <a:lnTo>
                  <a:pt x="254" y="14"/>
                </a:lnTo>
                <a:cubicBezTo>
                  <a:pt x="254" y="6"/>
                  <a:pt x="248" y="0"/>
                  <a:pt x="240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3"/>
          <p:cNvSpPr/>
          <p:nvPr/>
        </p:nvSpPr>
        <p:spPr>
          <a:xfrm>
            <a:off x="6068880" y="2971800"/>
            <a:ext cx="117720" cy="11736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55" y="170"/>
                </a:moveTo>
                <a:cubicBezTo>
                  <a:pt x="147" y="170"/>
                  <a:pt x="141" y="164"/>
                  <a:pt x="141" y="156"/>
                </a:cubicBezTo>
                <a:lnTo>
                  <a:pt x="141" y="85"/>
                </a:lnTo>
                <a:cubicBezTo>
                  <a:pt x="141" y="54"/>
                  <a:pt x="117" y="29"/>
                  <a:pt x="85" y="29"/>
                </a:cubicBezTo>
                <a:cubicBezTo>
                  <a:pt x="54" y="29"/>
                  <a:pt x="28" y="54"/>
                  <a:pt x="28" y="85"/>
                </a:cubicBez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85"/>
                </a:lnTo>
                <a:cubicBezTo>
                  <a:pt x="0" y="37"/>
                  <a:pt x="38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lnTo>
                  <a:pt x="169" y="156"/>
                </a:lnTo>
                <a:cubicBezTo>
                  <a:pt x="169" y="164"/>
                  <a:pt x="164" y="170"/>
                  <a:pt x="155" y="17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4"/>
          <p:cNvSpPr/>
          <p:nvPr/>
        </p:nvSpPr>
        <p:spPr>
          <a:xfrm>
            <a:off x="6200640" y="306720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27" y="141"/>
                </a:moveTo>
                <a:cubicBezTo>
                  <a:pt x="119" y="141"/>
                  <a:pt x="113" y="136"/>
                  <a:pt x="113" y="127"/>
                </a:cubicBezTo>
                <a:lnTo>
                  <a:pt x="113" y="71"/>
                </a:lnTo>
                <a:cubicBezTo>
                  <a:pt x="113" y="48"/>
                  <a:pt x="94" y="29"/>
                  <a:pt x="71" y="29"/>
                </a:cubicBezTo>
                <a:cubicBezTo>
                  <a:pt x="48" y="29"/>
                  <a:pt x="29" y="48"/>
                  <a:pt x="29" y="71"/>
                </a:cubicBezTo>
                <a:lnTo>
                  <a:pt x="29" y="127"/>
                </a:lnTo>
                <a:cubicBezTo>
                  <a:pt x="29" y="136"/>
                  <a:pt x="23" y="141"/>
                  <a:pt x="14" y="141"/>
                </a:cubicBezTo>
                <a:cubicBezTo>
                  <a:pt x="6" y="141"/>
                  <a:pt x="0" y="136"/>
                  <a:pt x="0" y="127"/>
                </a:cubicBezTo>
                <a:lnTo>
                  <a:pt x="0" y="71"/>
                </a:ln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1"/>
                </a:cubicBezTo>
                <a:lnTo>
                  <a:pt x="141" y="127"/>
                </a:lnTo>
                <a:cubicBezTo>
                  <a:pt x="141" y="136"/>
                  <a:pt x="136" y="141"/>
                  <a:pt x="127" y="141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5"/>
          <p:cNvSpPr/>
          <p:nvPr/>
        </p:nvSpPr>
        <p:spPr>
          <a:xfrm>
            <a:off x="1434960" y="1496880"/>
            <a:ext cx="30960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86"/>
          <p:cNvSpPr/>
          <p:nvPr/>
        </p:nvSpPr>
        <p:spPr>
          <a:xfrm>
            <a:off x="1434960" y="1584360"/>
            <a:ext cx="309600" cy="125280"/>
          </a:xfrm>
          <a:custGeom>
            <a:avLst/>
            <a:gdLst/>
            <a:ahLst/>
            <a:rect l="l" t="t" r="r" b="b"/>
            <a:pathLst>
              <a:path w="452" h="185">
                <a:moveTo>
                  <a:pt x="423" y="184"/>
                </a:moveTo>
                <a:lnTo>
                  <a:pt x="28" y="184"/>
                </a:lnTo>
                <a:cubicBezTo>
                  <a:pt x="11" y="184"/>
                  <a:pt x="0" y="173"/>
                  <a:pt x="0" y="156"/>
                </a:cubicBezTo>
                <a:cubicBezTo>
                  <a:pt x="0" y="150"/>
                  <a:pt x="3" y="147"/>
                  <a:pt x="5" y="144"/>
                </a:cubicBezTo>
                <a:lnTo>
                  <a:pt x="217" y="3"/>
                </a:lnTo>
                <a:cubicBezTo>
                  <a:pt x="220" y="0"/>
                  <a:pt x="222" y="0"/>
                  <a:pt x="225" y="0"/>
                </a:cubicBezTo>
                <a:cubicBezTo>
                  <a:pt x="227" y="0"/>
                  <a:pt x="231" y="0"/>
                  <a:pt x="234" y="3"/>
                </a:cubicBezTo>
                <a:lnTo>
                  <a:pt x="446" y="144"/>
                </a:lnTo>
                <a:cubicBezTo>
                  <a:pt x="448" y="147"/>
                  <a:pt x="451" y="150"/>
                  <a:pt x="451" y="156"/>
                </a:cubicBezTo>
                <a:cubicBezTo>
                  <a:pt x="451" y="173"/>
                  <a:pt x="440" y="184"/>
                  <a:pt x="423" y="18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7"/>
          <p:cNvSpPr/>
          <p:nvPr/>
        </p:nvSpPr>
        <p:spPr>
          <a:xfrm>
            <a:off x="1434960" y="1496880"/>
            <a:ext cx="309600" cy="131760"/>
          </a:xfrm>
          <a:custGeom>
            <a:avLst/>
            <a:gdLst/>
            <a:ahLst/>
            <a:rect l="l" t="t" r="r" b="b"/>
            <a:pathLst>
              <a:path w="452" h="196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cubicBezTo>
                  <a:pt x="0" y="34"/>
                  <a:pt x="3" y="37"/>
                  <a:pt x="5" y="40"/>
                </a:cubicBezTo>
                <a:lnTo>
                  <a:pt x="217" y="192"/>
                </a:lnTo>
                <a:cubicBezTo>
                  <a:pt x="223" y="195"/>
                  <a:pt x="228" y="195"/>
                  <a:pt x="234" y="192"/>
                </a:cubicBezTo>
                <a:lnTo>
                  <a:pt x="446" y="40"/>
                </a:lnTo>
                <a:cubicBezTo>
                  <a:pt x="448" y="37"/>
                  <a:pt x="451" y="34"/>
                  <a:pt x="451" y="29"/>
                </a:cubicBezTo>
                <a:cubicBezTo>
                  <a:pt x="451" y="12"/>
                  <a:pt x="440" y="0"/>
                  <a:pt x="42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8"/>
          <p:cNvSpPr/>
          <p:nvPr/>
        </p:nvSpPr>
        <p:spPr>
          <a:xfrm>
            <a:off x="3024360" y="1459080"/>
            <a:ext cx="247320" cy="190440"/>
          </a:xfrm>
          <a:custGeom>
            <a:avLst/>
            <a:gdLst/>
            <a:ahLst/>
            <a:rect l="l" t="t" r="r" b="b"/>
            <a:pathLst>
              <a:path w="368" h="283">
                <a:moveTo>
                  <a:pt x="339" y="282"/>
                </a:moveTo>
                <a:lnTo>
                  <a:pt x="28" y="282"/>
                </a:lnTo>
                <a:cubicBezTo>
                  <a:pt x="11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54"/>
                </a:lnTo>
                <a:cubicBezTo>
                  <a:pt x="367" y="271"/>
                  <a:pt x="356" y="282"/>
                  <a:pt x="339" y="282"/>
                </a:cubicBez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9"/>
          <p:cNvSpPr/>
          <p:nvPr/>
        </p:nvSpPr>
        <p:spPr>
          <a:xfrm>
            <a:off x="3024360" y="1536840"/>
            <a:ext cx="2473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169"/>
                </a:moveTo>
                <a:lnTo>
                  <a:pt x="28" y="169"/>
                </a:lnTo>
                <a:cubicBezTo>
                  <a:pt x="11" y="169"/>
                  <a:pt x="0" y="158"/>
                  <a:pt x="0" y="141"/>
                </a:cubicBezTo>
                <a:cubicBezTo>
                  <a:pt x="0" y="135"/>
                  <a:pt x="3" y="132"/>
                  <a:pt x="6" y="130"/>
                </a:cubicBezTo>
                <a:lnTo>
                  <a:pt x="175" y="3"/>
                </a:lnTo>
                <a:cubicBezTo>
                  <a:pt x="178" y="0"/>
                  <a:pt x="180" y="0"/>
                  <a:pt x="183" y="0"/>
                </a:cubicBezTo>
                <a:cubicBezTo>
                  <a:pt x="185" y="0"/>
                  <a:pt x="189" y="0"/>
                  <a:pt x="192" y="3"/>
                </a:cubicBezTo>
                <a:lnTo>
                  <a:pt x="361" y="130"/>
                </a:lnTo>
                <a:cubicBezTo>
                  <a:pt x="364" y="132"/>
                  <a:pt x="367" y="135"/>
                  <a:pt x="367" y="141"/>
                </a:cubicBezTo>
                <a:cubicBezTo>
                  <a:pt x="367" y="158"/>
                  <a:pt x="356" y="169"/>
                  <a:pt x="339" y="16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0"/>
          <p:cNvSpPr/>
          <p:nvPr/>
        </p:nvSpPr>
        <p:spPr>
          <a:xfrm>
            <a:off x="3024360" y="1459080"/>
            <a:ext cx="247320" cy="11556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cubicBezTo>
                  <a:pt x="0" y="34"/>
                  <a:pt x="3" y="37"/>
                  <a:pt x="6" y="39"/>
                </a:cubicBezTo>
                <a:lnTo>
                  <a:pt x="175" y="166"/>
                </a:lnTo>
                <a:cubicBezTo>
                  <a:pt x="178" y="169"/>
                  <a:pt x="180" y="169"/>
                  <a:pt x="183" y="169"/>
                </a:cubicBezTo>
                <a:cubicBezTo>
                  <a:pt x="185" y="169"/>
                  <a:pt x="189" y="169"/>
                  <a:pt x="192" y="166"/>
                </a:cubicBezTo>
                <a:lnTo>
                  <a:pt x="361" y="39"/>
                </a:lnTo>
                <a:cubicBezTo>
                  <a:pt x="364" y="37"/>
                  <a:pt x="367" y="34"/>
                  <a:pt x="367" y="28"/>
                </a:cubicBezTo>
                <a:cubicBezTo>
                  <a:pt x="367" y="11"/>
                  <a:pt x="356" y="0"/>
                  <a:pt x="339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1"/>
          <p:cNvSpPr/>
          <p:nvPr/>
        </p:nvSpPr>
        <p:spPr>
          <a:xfrm>
            <a:off x="2967120" y="1536840"/>
            <a:ext cx="249120" cy="190440"/>
          </a:xfrm>
          <a:custGeom>
            <a:avLst/>
            <a:gdLst/>
            <a:ahLst/>
            <a:rect l="l" t="t" r="r" b="b"/>
            <a:pathLst>
              <a:path w="368" h="283">
                <a:moveTo>
                  <a:pt x="339" y="282"/>
                </a:moveTo>
                <a:lnTo>
                  <a:pt x="29" y="282"/>
                </a:lnTo>
                <a:cubicBezTo>
                  <a:pt x="12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54"/>
                </a:lnTo>
                <a:cubicBezTo>
                  <a:pt x="367" y="271"/>
                  <a:pt x="356" y="282"/>
                  <a:pt x="339" y="282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2"/>
          <p:cNvSpPr/>
          <p:nvPr/>
        </p:nvSpPr>
        <p:spPr>
          <a:xfrm>
            <a:off x="2967120" y="1614600"/>
            <a:ext cx="2491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169"/>
                </a:moveTo>
                <a:lnTo>
                  <a:pt x="29" y="169"/>
                </a:lnTo>
                <a:cubicBezTo>
                  <a:pt x="12" y="169"/>
                  <a:pt x="0" y="158"/>
                  <a:pt x="0" y="141"/>
                </a:cubicBezTo>
                <a:cubicBezTo>
                  <a:pt x="0" y="135"/>
                  <a:pt x="3" y="132"/>
                  <a:pt x="6" y="130"/>
                </a:cubicBezTo>
                <a:lnTo>
                  <a:pt x="175" y="3"/>
                </a:lnTo>
                <a:cubicBezTo>
                  <a:pt x="178" y="0"/>
                  <a:pt x="181" y="0"/>
                  <a:pt x="184" y="0"/>
                </a:cubicBezTo>
                <a:cubicBezTo>
                  <a:pt x="187" y="0"/>
                  <a:pt x="189" y="0"/>
                  <a:pt x="192" y="3"/>
                </a:cubicBezTo>
                <a:lnTo>
                  <a:pt x="362" y="130"/>
                </a:lnTo>
                <a:cubicBezTo>
                  <a:pt x="364" y="132"/>
                  <a:pt x="367" y="135"/>
                  <a:pt x="367" y="141"/>
                </a:cubicBezTo>
                <a:cubicBezTo>
                  <a:pt x="367" y="158"/>
                  <a:pt x="356" y="169"/>
                  <a:pt x="339" y="16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3"/>
          <p:cNvSpPr/>
          <p:nvPr/>
        </p:nvSpPr>
        <p:spPr>
          <a:xfrm>
            <a:off x="2967120" y="1536840"/>
            <a:ext cx="2491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cubicBezTo>
                  <a:pt x="0" y="34"/>
                  <a:pt x="3" y="37"/>
                  <a:pt x="6" y="39"/>
                </a:cubicBezTo>
                <a:lnTo>
                  <a:pt x="175" y="166"/>
                </a:lnTo>
                <a:cubicBezTo>
                  <a:pt x="178" y="169"/>
                  <a:pt x="181" y="169"/>
                  <a:pt x="184" y="169"/>
                </a:cubicBezTo>
                <a:cubicBezTo>
                  <a:pt x="187" y="169"/>
                  <a:pt x="189" y="169"/>
                  <a:pt x="192" y="166"/>
                </a:cubicBezTo>
                <a:lnTo>
                  <a:pt x="362" y="39"/>
                </a:lnTo>
                <a:cubicBezTo>
                  <a:pt x="364" y="37"/>
                  <a:pt x="367" y="34"/>
                  <a:pt x="367" y="28"/>
                </a:cubicBezTo>
                <a:cubicBezTo>
                  <a:pt x="367" y="11"/>
                  <a:pt x="356" y="0"/>
                  <a:pt x="339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4"/>
          <p:cNvSpPr/>
          <p:nvPr/>
        </p:nvSpPr>
        <p:spPr>
          <a:xfrm>
            <a:off x="2201760" y="1440000"/>
            <a:ext cx="30816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0" y="169"/>
                </a:moveTo>
                <a:lnTo>
                  <a:pt x="217" y="307"/>
                </a:lnTo>
                <a:cubicBezTo>
                  <a:pt x="220" y="310"/>
                  <a:pt x="222" y="310"/>
                  <a:pt x="225" y="310"/>
                </a:cubicBezTo>
                <a:cubicBezTo>
                  <a:pt x="228" y="310"/>
                  <a:pt x="231" y="310"/>
                  <a:pt x="234" y="307"/>
                </a:cubicBezTo>
                <a:lnTo>
                  <a:pt x="451" y="169"/>
                </a:lnTo>
                <a:lnTo>
                  <a:pt x="234" y="3"/>
                </a:lnTo>
                <a:cubicBezTo>
                  <a:pt x="228" y="0"/>
                  <a:pt x="222" y="0"/>
                  <a:pt x="217" y="3"/>
                </a:cubicBezTo>
                <a:lnTo>
                  <a:pt x="0" y="169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5"/>
          <p:cNvSpPr/>
          <p:nvPr/>
        </p:nvSpPr>
        <p:spPr>
          <a:xfrm>
            <a:off x="2239920" y="1440000"/>
            <a:ext cx="230400" cy="239400"/>
          </a:xfrm>
          <a:custGeom>
            <a:avLst/>
            <a:gdLst/>
            <a:ahLst/>
            <a:rect l="l" t="t" r="r" b="b"/>
            <a:pathLst>
              <a:path w="340" h="353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38"/>
                </a:lnTo>
                <a:cubicBezTo>
                  <a:pt x="0" y="347"/>
                  <a:pt x="6" y="352"/>
                  <a:pt x="14" y="352"/>
                </a:cubicBezTo>
                <a:lnTo>
                  <a:pt x="324" y="352"/>
                </a:lnTo>
                <a:cubicBezTo>
                  <a:pt x="333" y="352"/>
                  <a:pt x="339" y="347"/>
                  <a:pt x="339" y="338"/>
                </a:cubicBezTo>
                <a:lnTo>
                  <a:pt x="339" y="28"/>
                </a:lnTo>
                <a:cubicBezTo>
                  <a:pt x="339" y="11"/>
                  <a:pt x="327" y="0"/>
                  <a:pt x="31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6"/>
          <p:cNvSpPr/>
          <p:nvPr/>
        </p:nvSpPr>
        <p:spPr>
          <a:xfrm>
            <a:off x="2279520" y="147960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15" y="28"/>
                </a:moveTo>
                <a:lnTo>
                  <a:pt x="212" y="28"/>
                </a:lnTo>
                <a:cubicBezTo>
                  <a:pt x="221" y="28"/>
                  <a:pt x="226" y="22"/>
                  <a:pt x="226" y="14"/>
                </a:cubicBezTo>
                <a:cubicBezTo>
                  <a:pt x="226" y="5"/>
                  <a:pt x="221" y="0"/>
                  <a:pt x="212" y="0"/>
                </a:cubicBez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7"/>
          <p:cNvSpPr/>
          <p:nvPr/>
        </p:nvSpPr>
        <p:spPr>
          <a:xfrm>
            <a:off x="2279520" y="151776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  <a:lnTo>
                  <a:pt x="212" y="28"/>
                </a:lnTo>
                <a:cubicBezTo>
                  <a:pt x="221" y="28"/>
                  <a:pt x="226" y="22"/>
                  <a:pt x="226" y="14"/>
                </a:cubicBezTo>
                <a:cubicBezTo>
                  <a:pt x="226" y="5"/>
                  <a:pt x="221" y="0"/>
                  <a:pt x="212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8"/>
          <p:cNvSpPr/>
          <p:nvPr/>
        </p:nvSpPr>
        <p:spPr>
          <a:xfrm>
            <a:off x="2279520" y="155412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  <a:lnTo>
                  <a:pt x="127" y="28"/>
                </a:lnTo>
                <a:cubicBezTo>
                  <a:pt x="136" y="28"/>
                  <a:pt x="141" y="22"/>
                  <a:pt x="141" y="14"/>
                </a:cubicBezTo>
                <a:cubicBezTo>
                  <a:pt x="141" y="5"/>
                  <a:pt x="136" y="0"/>
                  <a:pt x="127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9"/>
          <p:cNvSpPr/>
          <p:nvPr/>
        </p:nvSpPr>
        <p:spPr>
          <a:xfrm>
            <a:off x="2201760" y="1554120"/>
            <a:ext cx="308160" cy="1904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234" y="138"/>
                </a:moveTo>
                <a:cubicBezTo>
                  <a:pt x="231" y="141"/>
                  <a:pt x="228" y="141"/>
                  <a:pt x="225" y="141"/>
                </a:cubicBezTo>
                <a:cubicBezTo>
                  <a:pt x="222" y="141"/>
                  <a:pt x="220" y="141"/>
                  <a:pt x="217" y="138"/>
                </a:cubicBezTo>
                <a:lnTo>
                  <a:pt x="0" y="0"/>
                </a:lnTo>
                <a:lnTo>
                  <a:pt x="0" y="254"/>
                </a:lnTo>
                <a:cubicBezTo>
                  <a:pt x="0" y="271"/>
                  <a:pt x="11" y="282"/>
                  <a:pt x="28" y="282"/>
                </a:cubicBezTo>
                <a:lnTo>
                  <a:pt x="423" y="282"/>
                </a:lnTo>
                <a:cubicBezTo>
                  <a:pt x="440" y="282"/>
                  <a:pt x="451" y="271"/>
                  <a:pt x="451" y="254"/>
                </a:cubicBezTo>
                <a:lnTo>
                  <a:pt x="451" y="0"/>
                </a:lnTo>
                <a:lnTo>
                  <a:pt x="234" y="138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0"/>
          <p:cNvSpPr/>
          <p:nvPr/>
        </p:nvSpPr>
        <p:spPr>
          <a:xfrm>
            <a:off x="2201760" y="1622520"/>
            <a:ext cx="308160" cy="125280"/>
          </a:xfrm>
          <a:custGeom>
            <a:avLst/>
            <a:gdLst/>
            <a:ahLst/>
            <a:rect l="l" t="t" r="r" b="b"/>
            <a:pathLst>
              <a:path w="452" h="184">
                <a:moveTo>
                  <a:pt x="423" y="183"/>
                </a:moveTo>
                <a:lnTo>
                  <a:pt x="28" y="183"/>
                </a:lnTo>
                <a:cubicBezTo>
                  <a:pt x="11" y="183"/>
                  <a:pt x="0" y="172"/>
                  <a:pt x="0" y="155"/>
                </a:cubicBezTo>
                <a:cubicBezTo>
                  <a:pt x="0" y="149"/>
                  <a:pt x="2" y="147"/>
                  <a:pt x="5" y="144"/>
                </a:cubicBezTo>
                <a:lnTo>
                  <a:pt x="217" y="3"/>
                </a:lnTo>
                <a:cubicBezTo>
                  <a:pt x="220" y="0"/>
                  <a:pt x="222" y="0"/>
                  <a:pt x="225" y="0"/>
                </a:cubicBezTo>
                <a:cubicBezTo>
                  <a:pt x="228" y="0"/>
                  <a:pt x="231" y="0"/>
                  <a:pt x="234" y="3"/>
                </a:cubicBezTo>
                <a:lnTo>
                  <a:pt x="445" y="144"/>
                </a:lnTo>
                <a:cubicBezTo>
                  <a:pt x="448" y="147"/>
                  <a:pt x="451" y="149"/>
                  <a:pt x="451" y="155"/>
                </a:cubicBezTo>
                <a:cubicBezTo>
                  <a:pt x="451" y="172"/>
                  <a:pt x="440" y="183"/>
                  <a:pt x="423" y="183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1"/>
          <p:cNvSpPr/>
          <p:nvPr/>
        </p:nvSpPr>
        <p:spPr>
          <a:xfrm>
            <a:off x="3733920" y="1479600"/>
            <a:ext cx="307800" cy="247680"/>
          </a:xfrm>
          <a:custGeom>
            <a:avLst/>
            <a:gdLst/>
            <a:ahLst/>
            <a:rect l="l" t="t" r="r" b="b"/>
            <a:pathLst>
              <a:path w="453" h="368">
                <a:moveTo>
                  <a:pt x="449" y="175"/>
                </a:moveTo>
                <a:lnTo>
                  <a:pt x="350" y="6"/>
                </a:lnTo>
                <a:cubicBezTo>
                  <a:pt x="347" y="0"/>
                  <a:pt x="342" y="0"/>
                  <a:pt x="339" y="0"/>
                </a:cubicBezTo>
                <a:lnTo>
                  <a:pt x="113" y="0"/>
                </a:lnTo>
                <a:cubicBezTo>
                  <a:pt x="107" y="0"/>
                  <a:pt x="104" y="3"/>
                  <a:pt x="102" y="6"/>
                </a:cubicBezTo>
                <a:lnTo>
                  <a:pt x="3" y="175"/>
                </a:lnTo>
                <a:cubicBezTo>
                  <a:pt x="3" y="178"/>
                  <a:pt x="0" y="181"/>
                  <a:pt x="0" y="184"/>
                </a:cubicBezTo>
                <a:lnTo>
                  <a:pt x="0" y="339"/>
                </a:lnTo>
                <a:cubicBezTo>
                  <a:pt x="0" y="356"/>
                  <a:pt x="11" y="367"/>
                  <a:pt x="28" y="367"/>
                </a:cubicBezTo>
                <a:lnTo>
                  <a:pt x="423" y="367"/>
                </a:lnTo>
                <a:cubicBezTo>
                  <a:pt x="440" y="367"/>
                  <a:pt x="452" y="356"/>
                  <a:pt x="452" y="339"/>
                </a:cubicBezTo>
                <a:lnTo>
                  <a:pt x="452" y="184"/>
                </a:lnTo>
                <a:cubicBezTo>
                  <a:pt x="452" y="181"/>
                  <a:pt x="452" y="178"/>
                  <a:pt x="449" y="175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2"/>
          <p:cNvSpPr/>
          <p:nvPr/>
        </p:nvSpPr>
        <p:spPr>
          <a:xfrm>
            <a:off x="3760920" y="1496880"/>
            <a:ext cx="253800" cy="13500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81" y="0"/>
                </a:moveTo>
                <a:lnTo>
                  <a:pt x="290" y="0"/>
                </a:lnTo>
                <a:lnTo>
                  <a:pt x="372" y="141"/>
                </a:lnTo>
                <a:lnTo>
                  <a:pt x="313" y="141"/>
                </a:lnTo>
                <a:cubicBezTo>
                  <a:pt x="307" y="141"/>
                  <a:pt x="302" y="144"/>
                  <a:pt x="302" y="150"/>
                </a:cubicBezTo>
                <a:lnTo>
                  <a:pt x="276" y="198"/>
                </a:lnTo>
                <a:lnTo>
                  <a:pt x="96" y="198"/>
                </a:lnTo>
                <a:lnTo>
                  <a:pt x="70" y="150"/>
                </a:lnTo>
                <a:cubicBezTo>
                  <a:pt x="67" y="144"/>
                  <a:pt x="62" y="141"/>
                  <a:pt x="59" y="141"/>
                </a:cubicBezTo>
                <a:lnTo>
                  <a:pt x="0" y="141"/>
                </a:lnTo>
                <a:lnTo>
                  <a:pt x="81" y="0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3"/>
          <p:cNvSpPr/>
          <p:nvPr/>
        </p:nvSpPr>
        <p:spPr>
          <a:xfrm>
            <a:off x="3828960" y="1517760"/>
            <a:ext cx="115920" cy="20520"/>
          </a:xfrm>
          <a:custGeom>
            <a:avLst/>
            <a:gdLst/>
            <a:ahLst/>
            <a:rect l="l" t="t" r="r" b="b"/>
            <a:pathLst>
              <a:path w="170" h="29">
                <a:moveTo>
                  <a:pt x="14" y="28"/>
                </a:moveTo>
                <a:lnTo>
                  <a:pt x="155" y="28"/>
                </a:lnTo>
                <a:cubicBezTo>
                  <a:pt x="164" y="28"/>
                  <a:pt x="169" y="22"/>
                  <a:pt x="169" y="14"/>
                </a:cubicBezTo>
                <a:cubicBezTo>
                  <a:pt x="169" y="5"/>
                  <a:pt x="164" y="0"/>
                  <a:pt x="155" y="0"/>
                </a:cubicBez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4"/>
          <p:cNvSpPr/>
          <p:nvPr/>
        </p:nvSpPr>
        <p:spPr>
          <a:xfrm>
            <a:off x="3811680" y="155412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212" y="28"/>
                </a:lnTo>
                <a:cubicBezTo>
                  <a:pt x="220" y="28"/>
                  <a:pt x="226" y="22"/>
                  <a:pt x="226" y="14"/>
                </a:cubicBezTo>
                <a:cubicBezTo>
                  <a:pt x="226" y="5"/>
                  <a:pt x="220" y="0"/>
                  <a:pt x="212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05"/>
          <p:cNvSpPr/>
          <p:nvPr/>
        </p:nvSpPr>
        <p:spPr>
          <a:xfrm>
            <a:off x="4556160" y="1440000"/>
            <a:ext cx="190440" cy="307800"/>
          </a:xfrm>
          <a:custGeom>
            <a:avLst/>
            <a:gdLst/>
            <a:ahLst/>
            <a:rect l="l" t="t" r="r" b="b"/>
            <a:pathLst>
              <a:path w="283" h="452">
                <a:moveTo>
                  <a:pt x="25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253" y="451"/>
                </a:lnTo>
                <a:cubicBezTo>
                  <a:pt x="270" y="451"/>
                  <a:pt x="282" y="440"/>
                  <a:pt x="282" y="423"/>
                </a:cubicBezTo>
                <a:lnTo>
                  <a:pt x="282" y="28"/>
                </a:lnTo>
                <a:cubicBezTo>
                  <a:pt x="282" y="11"/>
                  <a:pt x="270" y="0"/>
                  <a:pt x="253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06"/>
          <p:cNvSpPr/>
          <p:nvPr/>
        </p:nvSpPr>
        <p:spPr>
          <a:xfrm>
            <a:off x="4576680" y="1479600"/>
            <a:ext cx="152640" cy="190440"/>
          </a:xfrm>
          <a:custGeom>
            <a:avLst/>
            <a:gdLst/>
            <a:ahLst/>
            <a:rect l="l" t="t" r="r" b="b"/>
            <a:pathLst>
              <a:path w="226" h="283">
                <a:moveTo>
                  <a:pt x="113" y="282"/>
                </a:moveTo>
                <a:lnTo>
                  <a:pt x="0" y="282"/>
                </a:lnTo>
                <a:lnTo>
                  <a:pt x="0" y="0"/>
                </a:lnTo>
                <a:lnTo>
                  <a:pt x="225" y="0"/>
                </a:lnTo>
                <a:lnTo>
                  <a:pt x="225" y="282"/>
                </a:lnTo>
                <a:lnTo>
                  <a:pt x="113" y="282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7"/>
          <p:cNvSpPr/>
          <p:nvPr/>
        </p:nvSpPr>
        <p:spPr>
          <a:xfrm>
            <a:off x="4633920" y="168912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57" y="28"/>
                </a:moveTo>
                <a:cubicBezTo>
                  <a:pt x="57" y="33"/>
                  <a:pt x="56" y="37"/>
                  <a:pt x="53" y="42"/>
                </a:cubicBezTo>
                <a:cubicBezTo>
                  <a:pt x="50" y="46"/>
                  <a:pt x="47" y="49"/>
                  <a:pt x="43" y="52"/>
                </a:cubicBezTo>
                <a:cubicBezTo>
                  <a:pt x="38" y="54"/>
                  <a:pt x="34" y="56"/>
                  <a:pt x="29" y="56"/>
                </a:cubicBezTo>
                <a:cubicBezTo>
                  <a:pt x="23" y="56"/>
                  <a:pt x="19" y="54"/>
                  <a:pt x="15" y="52"/>
                </a:cubicBezTo>
                <a:cubicBezTo>
                  <a:pt x="10" y="49"/>
                  <a:pt x="6" y="46"/>
                  <a:pt x="4" y="42"/>
                </a:cubicBezTo>
                <a:cubicBezTo>
                  <a:pt x="1" y="37"/>
                  <a:pt x="0" y="33"/>
                  <a:pt x="0" y="28"/>
                </a:cubicBezTo>
                <a:cubicBezTo>
                  <a:pt x="0" y="23"/>
                  <a:pt x="1" y="18"/>
                  <a:pt x="4" y="14"/>
                </a:cubicBezTo>
                <a:cubicBezTo>
                  <a:pt x="6" y="9"/>
                  <a:pt x="10" y="5"/>
                  <a:pt x="15" y="3"/>
                </a:cubicBezTo>
                <a:cubicBezTo>
                  <a:pt x="19" y="0"/>
                  <a:pt x="23" y="0"/>
                  <a:pt x="29" y="0"/>
                </a:cubicBezTo>
                <a:cubicBezTo>
                  <a:pt x="34" y="0"/>
                  <a:pt x="38" y="0"/>
                  <a:pt x="43" y="3"/>
                </a:cubicBezTo>
                <a:cubicBezTo>
                  <a:pt x="47" y="5"/>
                  <a:pt x="50" y="9"/>
                  <a:pt x="53" y="14"/>
                </a:cubicBezTo>
                <a:cubicBezTo>
                  <a:pt x="56" y="18"/>
                  <a:pt x="57" y="23"/>
                  <a:pt x="5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8"/>
          <p:cNvSpPr/>
          <p:nvPr/>
        </p:nvSpPr>
        <p:spPr>
          <a:xfrm>
            <a:off x="5321160" y="1440000"/>
            <a:ext cx="212760" cy="307800"/>
          </a:xfrm>
          <a:custGeom>
            <a:avLst/>
            <a:gdLst/>
            <a:ahLst/>
            <a:rect l="l" t="t" r="r" b="b"/>
            <a:pathLst>
              <a:path w="312" h="452">
                <a:moveTo>
                  <a:pt x="282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2" y="451"/>
                  <a:pt x="29" y="451"/>
                </a:cubicBezTo>
                <a:lnTo>
                  <a:pt x="282" y="451"/>
                </a:lnTo>
                <a:cubicBezTo>
                  <a:pt x="299" y="451"/>
                  <a:pt x="311" y="440"/>
                  <a:pt x="311" y="423"/>
                </a:cubicBezTo>
                <a:lnTo>
                  <a:pt x="311" y="28"/>
                </a:lnTo>
                <a:cubicBezTo>
                  <a:pt x="311" y="11"/>
                  <a:pt x="299" y="0"/>
                  <a:pt x="282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9"/>
          <p:cNvSpPr/>
          <p:nvPr/>
        </p:nvSpPr>
        <p:spPr>
          <a:xfrm>
            <a:off x="5342040" y="1479600"/>
            <a:ext cx="174600" cy="212760"/>
          </a:xfrm>
          <a:custGeom>
            <a:avLst/>
            <a:gdLst/>
            <a:ahLst/>
            <a:rect l="l" t="t" r="r" b="b"/>
            <a:pathLst>
              <a:path w="254" h="312">
                <a:moveTo>
                  <a:pt x="126" y="311"/>
                </a:moveTo>
                <a:lnTo>
                  <a:pt x="0" y="311"/>
                </a:lnTo>
                <a:lnTo>
                  <a:pt x="0" y="0"/>
                </a:lnTo>
                <a:lnTo>
                  <a:pt x="253" y="0"/>
                </a:lnTo>
                <a:lnTo>
                  <a:pt x="253" y="311"/>
                </a:lnTo>
                <a:lnTo>
                  <a:pt x="126" y="311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0"/>
          <p:cNvSpPr/>
          <p:nvPr/>
        </p:nvSpPr>
        <p:spPr>
          <a:xfrm>
            <a:off x="5361120" y="1517760"/>
            <a:ext cx="554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1"/>
          <p:cNvSpPr/>
          <p:nvPr/>
        </p:nvSpPr>
        <p:spPr>
          <a:xfrm>
            <a:off x="5361120" y="159228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5"/>
                </a:cubicBezTo>
                <a:lnTo>
                  <a:pt x="84" y="71"/>
                </a:lnTo>
                <a:cubicBezTo>
                  <a:pt x="84" y="80"/>
                  <a:pt x="79" y="85"/>
                  <a:pt x="70" y="85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2"/>
          <p:cNvSpPr/>
          <p:nvPr/>
        </p:nvSpPr>
        <p:spPr>
          <a:xfrm>
            <a:off x="5438880" y="1517760"/>
            <a:ext cx="554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3"/>
          <p:cNvSpPr/>
          <p:nvPr/>
        </p:nvSpPr>
        <p:spPr>
          <a:xfrm>
            <a:off x="6031080" y="149688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2" y="311"/>
                  <a:pt x="29" y="311"/>
                </a:cubicBezTo>
                <a:lnTo>
                  <a:pt x="424" y="311"/>
                </a:lnTo>
                <a:cubicBezTo>
                  <a:pt x="441" y="311"/>
                  <a:pt x="452" y="300"/>
                  <a:pt x="452" y="283"/>
                </a:cubicBezTo>
                <a:lnTo>
                  <a:pt x="452" y="29"/>
                </a:lnTo>
                <a:cubicBezTo>
                  <a:pt x="452" y="12"/>
                  <a:pt x="441" y="0"/>
                  <a:pt x="424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4"/>
          <p:cNvSpPr/>
          <p:nvPr/>
        </p:nvSpPr>
        <p:spPr>
          <a:xfrm>
            <a:off x="6051600" y="1517760"/>
            <a:ext cx="266760" cy="171360"/>
          </a:xfrm>
          <a:custGeom>
            <a:avLst/>
            <a:gdLst/>
            <a:ahLst/>
            <a:rect l="l" t="t" r="r" b="b"/>
            <a:pathLst>
              <a:path w="394" h="253">
                <a:moveTo>
                  <a:pt x="311" y="252"/>
                </a:moveTo>
                <a:lnTo>
                  <a:pt x="82" y="252"/>
                </a:lnTo>
                <a:cubicBezTo>
                  <a:pt x="77" y="209"/>
                  <a:pt x="43" y="175"/>
                  <a:pt x="0" y="170"/>
                </a:cubicBezTo>
                <a:lnTo>
                  <a:pt x="0" y="82"/>
                </a:lnTo>
                <a:cubicBezTo>
                  <a:pt x="43" y="77"/>
                  <a:pt x="77" y="43"/>
                  <a:pt x="82" y="0"/>
                </a:cubicBezTo>
                <a:lnTo>
                  <a:pt x="311" y="0"/>
                </a:lnTo>
                <a:cubicBezTo>
                  <a:pt x="317" y="43"/>
                  <a:pt x="350" y="77"/>
                  <a:pt x="393" y="82"/>
                </a:cubicBezTo>
                <a:lnTo>
                  <a:pt x="393" y="170"/>
                </a:lnTo>
                <a:cubicBezTo>
                  <a:pt x="350" y="175"/>
                  <a:pt x="317" y="209"/>
                  <a:pt x="311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5"/>
          <p:cNvSpPr/>
          <p:nvPr/>
        </p:nvSpPr>
        <p:spPr>
          <a:xfrm>
            <a:off x="6143760" y="15652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6" y="0"/>
                </a:moveTo>
                <a:cubicBezTo>
                  <a:pt x="25" y="0"/>
                  <a:pt x="0" y="26"/>
                  <a:pt x="0" y="57"/>
                </a:cubicBezTo>
                <a:cubicBezTo>
                  <a:pt x="0" y="88"/>
                  <a:pt x="25" y="113"/>
                  <a:pt x="56" y="113"/>
                </a:cubicBezTo>
                <a:cubicBezTo>
                  <a:pt x="87" y="113"/>
                  <a:pt x="113" y="88"/>
                  <a:pt x="113" y="57"/>
                </a:cubicBezTo>
                <a:cubicBezTo>
                  <a:pt x="113" y="26"/>
                  <a:pt x="87" y="0"/>
                  <a:pt x="56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6"/>
          <p:cNvSpPr/>
          <p:nvPr/>
        </p:nvSpPr>
        <p:spPr>
          <a:xfrm>
            <a:off x="6813720" y="1459080"/>
            <a:ext cx="269640" cy="58680"/>
          </a:xfrm>
          <a:custGeom>
            <a:avLst/>
            <a:gdLst/>
            <a:ahLst/>
            <a:rect l="l" t="t" r="r" b="b"/>
            <a:pathLst>
              <a:path w="396" h="86">
                <a:moveTo>
                  <a:pt x="395" y="85"/>
                </a:moveTo>
                <a:lnTo>
                  <a:pt x="0" y="85"/>
                </a:ln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67" y="0"/>
                </a:lnTo>
                <a:cubicBezTo>
                  <a:pt x="384" y="0"/>
                  <a:pt x="395" y="11"/>
                  <a:pt x="395" y="28"/>
                </a:cubicBezTo>
                <a:lnTo>
                  <a:pt x="395" y="85"/>
                </a:lnTo>
              </a:path>
            </a:pathLst>
          </a:custGeom>
          <a:solidFill>
            <a:srgbClr val="00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7"/>
          <p:cNvSpPr/>
          <p:nvPr/>
        </p:nvSpPr>
        <p:spPr>
          <a:xfrm>
            <a:off x="6796080" y="149688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1" y="311"/>
                  <a:pt x="28" y="311"/>
                </a:cubicBezTo>
                <a:lnTo>
                  <a:pt x="423" y="311"/>
                </a:lnTo>
                <a:cubicBezTo>
                  <a:pt x="440" y="311"/>
                  <a:pt x="452" y="300"/>
                  <a:pt x="452" y="283"/>
                </a:cubicBezTo>
                <a:lnTo>
                  <a:pt x="452" y="29"/>
                </a:lnTo>
                <a:cubicBezTo>
                  <a:pt x="452" y="12"/>
                  <a:pt x="440" y="0"/>
                  <a:pt x="423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8"/>
          <p:cNvSpPr/>
          <p:nvPr/>
        </p:nvSpPr>
        <p:spPr>
          <a:xfrm>
            <a:off x="6816600" y="1517760"/>
            <a:ext cx="266760" cy="171360"/>
          </a:xfrm>
          <a:custGeom>
            <a:avLst/>
            <a:gdLst/>
            <a:ahLst/>
            <a:rect l="l" t="t" r="r" b="b"/>
            <a:pathLst>
              <a:path w="393" h="253">
                <a:moveTo>
                  <a:pt x="311" y="252"/>
                </a:moveTo>
                <a:lnTo>
                  <a:pt x="82" y="252"/>
                </a:lnTo>
                <a:cubicBezTo>
                  <a:pt x="76" y="209"/>
                  <a:pt x="43" y="175"/>
                  <a:pt x="0" y="170"/>
                </a:cubicBezTo>
                <a:lnTo>
                  <a:pt x="0" y="82"/>
                </a:lnTo>
                <a:cubicBezTo>
                  <a:pt x="43" y="77"/>
                  <a:pt x="76" y="43"/>
                  <a:pt x="82" y="0"/>
                </a:cubicBezTo>
                <a:lnTo>
                  <a:pt x="311" y="0"/>
                </a:lnTo>
                <a:cubicBezTo>
                  <a:pt x="316" y="43"/>
                  <a:pt x="350" y="77"/>
                  <a:pt x="392" y="82"/>
                </a:cubicBezTo>
                <a:lnTo>
                  <a:pt x="392" y="170"/>
                </a:lnTo>
                <a:cubicBezTo>
                  <a:pt x="350" y="175"/>
                  <a:pt x="316" y="209"/>
                  <a:pt x="311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9"/>
          <p:cNvSpPr/>
          <p:nvPr/>
        </p:nvSpPr>
        <p:spPr>
          <a:xfrm>
            <a:off x="6910560" y="15652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56" y="0"/>
                </a:moveTo>
                <a:cubicBezTo>
                  <a:pt x="25" y="0"/>
                  <a:pt x="0" y="26"/>
                  <a:pt x="0" y="57"/>
                </a:cubicBezTo>
                <a:cubicBezTo>
                  <a:pt x="0" y="88"/>
                  <a:pt x="25" y="113"/>
                  <a:pt x="56" y="113"/>
                </a:cubicBezTo>
                <a:cubicBezTo>
                  <a:pt x="87" y="113"/>
                  <a:pt x="112" y="88"/>
                  <a:pt x="112" y="57"/>
                </a:cubicBezTo>
                <a:cubicBezTo>
                  <a:pt x="112" y="26"/>
                  <a:pt x="87" y="0"/>
                  <a:pt x="56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0"/>
          <p:cNvSpPr/>
          <p:nvPr/>
        </p:nvSpPr>
        <p:spPr>
          <a:xfrm>
            <a:off x="7561440" y="1496880"/>
            <a:ext cx="30924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1" y="311"/>
                  <a:pt x="28" y="311"/>
                </a:cubicBezTo>
                <a:lnTo>
                  <a:pt x="423" y="311"/>
                </a:lnTo>
                <a:cubicBezTo>
                  <a:pt x="440" y="311"/>
                  <a:pt x="451" y="300"/>
                  <a:pt x="451" y="283"/>
                </a:cubicBezTo>
                <a:lnTo>
                  <a:pt x="451" y="29"/>
                </a:lnTo>
                <a:cubicBezTo>
                  <a:pt x="451" y="12"/>
                  <a:pt x="440" y="0"/>
                  <a:pt x="423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21"/>
          <p:cNvSpPr/>
          <p:nvPr/>
        </p:nvSpPr>
        <p:spPr>
          <a:xfrm>
            <a:off x="7583400" y="1517760"/>
            <a:ext cx="265320" cy="171360"/>
          </a:xfrm>
          <a:custGeom>
            <a:avLst/>
            <a:gdLst/>
            <a:ahLst/>
            <a:rect l="l" t="t" r="r" b="b"/>
            <a:pathLst>
              <a:path w="393" h="253">
                <a:moveTo>
                  <a:pt x="310" y="252"/>
                </a:moveTo>
                <a:lnTo>
                  <a:pt x="82" y="252"/>
                </a:lnTo>
                <a:cubicBezTo>
                  <a:pt x="76" y="209"/>
                  <a:pt x="42" y="175"/>
                  <a:pt x="0" y="170"/>
                </a:cubicBezTo>
                <a:lnTo>
                  <a:pt x="0" y="82"/>
                </a:lnTo>
                <a:cubicBezTo>
                  <a:pt x="42" y="77"/>
                  <a:pt x="76" y="43"/>
                  <a:pt x="82" y="0"/>
                </a:cubicBezTo>
                <a:lnTo>
                  <a:pt x="310" y="0"/>
                </a:lnTo>
                <a:cubicBezTo>
                  <a:pt x="316" y="43"/>
                  <a:pt x="350" y="77"/>
                  <a:pt x="392" y="82"/>
                </a:cubicBezTo>
                <a:lnTo>
                  <a:pt x="392" y="170"/>
                </a:lnTo>
                <a:cubicBezTo>
                  <a:pt x="350" y="175"/>
                  <a:pt x="316" y="209"/>
                  <a:pt x="310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22"/>
          <p:cNvSpPr/>
          <p:nvPr/>
        </p:nvSpPr>
        <p:spPr>
          <a:xfrm>
            <a:off x="7684920" y="1536840"/>
            <a:ext cx="59040" cy="133200"/>
          </a:xfrm>
          <a:custGeom>
            <a:avLst/>
            <a:gdLst/>
            <a:ahLst/>
            <a:rect l="l" t="t" r="r" b="b"/>
            <a:pathLst>
              <a:path w="86" h="198">
                <a:moveTo>
                  <a:pt x="43" y="84"/>
                </a:moveTo>
                <a:cubicBezTo>
                  <a:pt x="34" y="84"/>
                  <a:pt x="29" y="78"/>
                  <a:pt x="29" y="70"/>
                </a:cubicBezTo>
                <a:cubicBezTo>
                  <a:pt x="29" y="61"/>
                  <a:pt x="34" y="56"/>
                  <a:pt x="43" y="56"/>
                </a:cubicBezTo>
                <a:lnTo>
                  <a:pt x="71" y="56"/>
                </a:lnTo>
                <a:cubicBezTo>
                  <a:pt x="79" y="56"/>
                  <a:pt x="85" y="50"/>
                  <a:pt x="85" y="42"/>
                </a:cubicBezTo>
                <a:cubicBezTo>
                  <a:pt x="85" y="33"/>
                  <a:pt x="79" y="28"/>
                  <a:pt x="71" y="28"/>
                </a:cubicBezTo>
                <a:lnTo>
                  <a:pt x="57" y="28"/>
                </a:lnTo>
                <a:lnTo>
                  <a:pt x="57" y="14"/>
                </a:lnTo>
                <a:cubicBezTo>
                  <a:pt x="57" y="5"/>
                  <a:pt x="52" y="0"/>
                  <a:pt x="43" y="0"/>
                </a:cubicBezTo>
                <a:cubicBezTo>
                  <a:pt x="35" y="0"/>
                  <a:pt x="29" y="5"/>
                  <a:pt x="29" y="14"/>
                </a:cubicBezTo>
                <a:lnTo>
                  <a:pt x="29" y="31"/>
                </a:lnTo>
                <a:cubicBezTo>
                  <a:pt x="12" y="37"/>
                  <a:pt x="0" y="53"/>
                  <a:pt x="0" y="70"/>
                </a:cubicBezTo>
                <a:cubicBezTo>
                  <a:pt x="0" y="93"/>
                  <a:pt x="20" y="113"/>
                  <a:pt x="43" y="113"/>
                </a:cubicBez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  <a:lnTo>
                  <a:pt x="15" y="141"/>
                </a:lnTo>
                <a:cubicBezTo>
                  <a:pt x="6" y="141"/>
                  <a:pt x="0" y="146"/>
                  <a:pt x="0" y="155"/>
                </a:cubicBezTo>
                <a:cubicBezTo>
                  <a:pt x="0" y="163"/>
                  <a:pt x="6" y="169"/>
                  <a:pt x="15" y="169"/>
                </a:cubicBezTo>
                <a:lnTo>
                  <a:pt x="29" y="169"/>
                </a:lnTo>
                <a:lnTo>
                  <a:pt x="29" y="183"/>
                </a:lnTo>
                <a:cubicBezTo>
                  <a:pt x="29" y="192"/>
                  <a:pt x="35" y="197"/>
                  <a:pt x="43" y="197"/>
                </a:cubicBezTo>
                <a:cubicBezTo>
                  <a:pt x="52" y="197"/>
                  <a:pt x="57" y="192"/>
                  <a:pt x="57" y="183"/>
                </a:cubicBezTo>
                <a:lnTo>
                  <a:pt x="57" y="166"/>
                </a:lnTo>
                <a:cubicBezTo>
                  <a:pt x="74" y="161"/>
                  <a:pt x="85" y="144"/>
                  <a:pt x="85" y="127"/>
                </a:cubicBezTo>
                <a:cubicBezTo>
                  <a:pt x="85" y="104"/>
                  <a:pt x="65" y="84"/>
                  <a:pt x="43" y="84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23"/>
          <p:cNvSpPr/>
          <p:nvPr/>
        </p:nvSpPr>
        <p:spPr>
          <a:xfrm>
            <a:off x="8361360" y="1440000"/>
            <a:ext cx="233280" cy="307800"/>
          </a:xfrm>
          <a:custGeom>
            <a:avLst/>
            <a:gdLst/>
            <a:ahLst/>
            <a:rect l="l" t="t" r="r" b="b"/>
            <a:pathLst>
              <a:path w="345" h="452">
                <a:moveTo>
                  <a:pt x="327" y="293"/>
                </a:moveTo>
                <a:lnTo>
                  <a:pt x="217" y="99"/>
                </a:lnTo>
                <a:lnTo>
                  <a:pt x="268" y="22"/>
                </a:lnTo>
                <a:cubicBezTo>
                  <a:pt x="270" y="17"/>
                  <a:pt x="270" y="11"/>
                  <a:pt x="268" y="8"/>
                </a:cubicBezTo>
                <a:cubicBezTo>
                  <a:pt x="265" y="3"/>
                  <a:pt x="259" y="0"/>
                  <a:pt x="256" y="0"/>
                </a:cubicBezTo>
                <a:lnTo>
                  <a:pt x="87" y="0"/>
                </a:lnTo>
                <a:cubicBezTo>
                  <a:pt x="81" y="0"/>
                  <a:pt x="76" y="2"/>
                  <a:pt x="76" y="8"/>
                </a:cubicBezTo>
                <a:cubicBezTo>
                  <a:pt x="76" y="13"/>
                  <a:pt x="73" y="19"/>
                  <a:pt x="76" y="22"/>
                </a:cubicBezTo>
                <a:lnTo>
                  <a:pt x="127" y="99"/>
                </a:lnTo>
                <a:lnTo>
                  <a:pt x="16" y="293"/>
                </a:lnTo>
                <a:cubicBezTo>
                  <a:pt x="5" y="310"/>
                  <a:pt x="0" y="333"/>
                  <a:pt x="0" y="352"/>
                </a:cubicBezTo>
                <a:cubicBezTo>
                  <a:pt x="0" y="406"/>
                  <a:pt x="45" y="451"/>
                  <a:pt x="98" y="451"/>
                </a:cubicBezTo>
                <a:lnTo>
                  <a:pt x="239" y="451"/>
                </a:lnTo>
                <a:cubicBezTo>
                  <a:pt x="293" y="451"/>
                  <a:pt x="338" y="406"/>
                  <a:pt x="338" y="352"/>
                </a:cubicBezTo>
                <a:cubicBezTo>
                  <a:pt x="344" y="333"/>
                  <a:pt x="338" y="310"/>
                  <a:pt x="327" y="293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24"/>
          <p:cNvSpPr/>
          <p:nvPr/>
        </p:nvSpPr>
        <p:spPr>
          <a:xfrm>
            <a:off x="8432640" y="149688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cubicBezTo>
                  <a:pt x="141" y="23"/>
                  <a:pt x="135" y="29"/>
                  <a:pt x="127" y="2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25"/>
          <p:cNvSpPr/>
          <p:nvPr/>
        </p:nvSpPr>
        <p:spPr>
          <a:xfrm>
            <a:off x="8450280" y="1574640"/>
            <a:ext cx="60480" cy="13500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85"/>
                </a:moveTo>
                <a:cubicBezTo>
                  <a:pt x="34" y="85"/>
                  <a:pt x="28" y="79"/>
                  <a:pt x="28" y="71"/>
                </a:cubicBezTo>
                <a:cubicBezTo>
                  <a:pt x="28" y="62"/>
                  <a:pt x="34" y="57"/>
                  <a:pt x="43" y="57"/>
                </a:cubicBezTo>
                <a:lnTo>
                  <a:pt x="71" y="57"/>
                </a:lnTo>
                <a:cubicBezTo>
                  <a:pt x="79" y="57"/>
                  <a:pt x="85" y="51"/>
                  <a:pt x="85" y="43"/>
                </a:cubicBezTo>
                <a:cubicBezTo>
                  <a:pt x="85" y="34"/>
                  <a:pt x="79" y="28"/>
                  <a:pt x="71" y="28"/>
                </a:cubicBezTo>
                <a:lnTo>
                  <a:pt x="57" y="28"/>
                </a:lnTo>
                <a:lnTo>
                  <a:pt x="57" y="14"/>
                </a:lnTo>
                <a:cubicBezTo>
                  <a:pt x="57" y="6"/>
                  <a:pt x="52" y="0"/>
                  <a:pt x="43" y="0"/>
                </a:cubicBezTo>
                <a:cubicBezTo>
                  <a:pt x="35" y="0"/>
                  <a:pt x="28" y="6"/>
                  <a:pt x="28" y="14"/>
                </a:cubicBezTo>
                <a:lnTo>
                  <a:pt x="28" y="31"/>
                </a:lnTo>
                <a:cubicBezTo>
                  <a:pt x="11" y="37"/>
                  <a:pt x="0" y="54"/>
                  <a:pt x="0" y="71"/>
                </a:cubicBezTo>
                <a:cubicBezTo>
                  <a:pt x="0" y="93"/>
                  <a:pt x="20" y="113"/>
                  <a:pt x="43" y="113"/>
                </a:cubicBez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  <a:lnTo>
                  <a:pt x="14" y="141"/>
                </a:lnTo>
                <a:cubicBezTo>
                  <a:pt x="6" y="141"/>
                  <a:pt x="0" y="146"/>
                  <a:pt x="0" y="155"/>
                </a:cubicBezTo>
                <a:cubicBezTo>
                  <a:pt x="0" y="163"/>
                  <a:pt x="6" y="170"/>
                  <a:pt x="14" y="170"/>
                </a:cubicBezTo>
                <a:lnTo>
                  <a:pt x="28" y="170"/>
                </a:lnTo>
                <a:lnTo>
                  <a:pt x="28" y="184"/>
                </a:lnTo>
                <a:cubicBezTo>
                  <a:pt x="28" y="192"/>
                  <a:pt x="35" y="198"/>
                  <a:pt x="43" y="198"/>
                </a:cubicBezTo>
                <a:cubicBezTo>
                  <a:pt x="52" y="198"/>
                  <a:pt x="57" y="192"/>
                  <a:pt x="57" y="184"/>
                </a:cubicBezTo>
                <a:lnTo>
                  <a:pt x="57" y="167"/>
                </a:lnTo>
                <a:cubicBezTo>
                  <a:pt x="74" y="161"/>
                  <a:pt x="85" y="144"/>
                  <a:pt x="85" y="127"/>
                </a:cubicBezTo>
                <a:cubicBezTo>
                  <a:pt x="85" y="105"/>
                  <a:pt x="65" y="85"/>
                  <a:pt x="43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6"/>
          <p:cNvSpPr/>
          <p:nvPr/>
        </p:nvSpPr>
        <p:spPr>
          <a:xfrm>
            <a:off x="3733920" y="3794040"/>
            <a:ext cx="304560" cy="230400"/>
          </a:xfrm>
          <a:custGeom>
            <a:avLst/>
            <a:gdLst/>
            <a:ahLst/>
            <a:rect l="l" t="t" r="r" b="b"/>
            <a:pathLst>
              <a:path w="450" h="339">
                <a:moveTo>
                  <a:pt x="446" y="242"/>
                </a:moveTo>
                <a:lnTo>
                  <a:pt x="361" y="172"/>
                </a:lnTo>
                <a:cubicBezTo>
                  <a:pt x="358" y="169"/>
                  <a:pt x="350" y="169"/>
                  <a:pt x="347" y="169"/>
                </a:cubicBezTo>
                <a:cubicBezTo>
                  <a:pt x="342" y="172"/>
                  <a:pt x="339" y="178"/>
                  <a:pt x="339" y="183"/>
                </a:cubicBezTo>
                <a:lnTo>
                  <a:pt x="339" y="225"/>
                </a:lnTo>
                <a:lnTo>
                  <a:pt x="316" y="225"/>
                </a:lnTo>
                <a:cubicBezTo>
                  <a:pt x="296" y="225"/>
                  <a:pt x="279" y="214"/>
                  <a:pt x="268" y="200"/>
                </a:cubicBezTo>
                <a:lnTo>
                  <a:pt x="178" y="53"/>
                </a:lnTo>
                <a:cubicBezTo>
                  <a:pt x="158" y="19"/>
                  <a:pt x="121" y="0"/>
                  <a:pt x="82" y="0"/>
                </a:cubicBezTo>
                <a:lnTo>
                  <a:pt x="0" y="0"/>
                </a:lnTo>
                <a:lnTo>
                  <a:pt x="0" y="56"/>
                </a:lnTo>
                <a:lnTo>
                  <a:pt x="79" y="56"/>
                </a:lnTo>
                <a:cubicBezTo>
                  <a:pt x="99" y="56"/>
                  <a:pt x="116" y="67"/>
                  <a:pt x="127" y="82"/>
                </a:cubicBezTo>
                <a:lnTo>
                  <a:pt x="217" y="228"/>
                </a:lnTo>
                <a:cubicBezTo>
                  <a:pt x="237" y="262"/>
                  <a:pt x="274" y="282"/>
                  <a:pt x="313" y="282"/>
                </a:cubicBezTo>
                <a:lnTo>
                  <a:pt x="336" y="282"/>
                </a:lnTo>
                <a:lnTo>
                  <a:pt x="336" y="324"/>
                </a:lnTo>
                <a:cubicBezTo>
                  <a:pt x="336" y="330"/>
                  <a:pt x="339" y="336"/>
                  <a:pt x="344" y="338"/>
                </a:cubicBezTo>
                <a:cubicBezTo>
                  <a:pt x="347" y="338"/>
                  <a:pt x="347" y="338"/>
                  <a:pt x="350" y="338"/>
                </a:cubicBezTo>
                <a:cubicBezTo>
                  <a:pt x="353" y="338"/>
                  <a:pt x="356" y="338"/>
                  <a:pt x="358" y="336"/>
                </a:cubicBezTo>
                <a:lnTo>
                  <a:pt x="443" y="265"/>
                </a:lnTo>
                <a:cubicBezTo>
                  <a:pt x="446" y="262"/>
                  <a:pt x="449" y="259"/>
                  <a:pt x="449" y="254"/>
                </a:cubicBezTo>
                <a:cubicBezTo>
                  <a:pt x="449" y="248"/>
                  <a:pt x="449" y="245"/>
                  <a:pt x="446" y="242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7"/>
          <p:cNvSpPr/>
          <p:nvPr/>
        </p:nvSpPr>
        <p:spPr>
          <a:xfrm>
            <a:off x="3733920" y="3755880"/>
            <a:ext cx="304560" cy="230400"/>
          </a:xfrm>
          <a:custGeom>
            <a:avLst/>
            <a:gdLst/>
            <a:ahLst/>
            <a:rect l="l" t="t" r="r" b="b"/>
            <a:pathLst>
              <a:path w="450" h="340">
                <a:moveTo>
                  <a:pt x="446" y="74"/>
                </a:moveTo>
                <a:lnTo>
                  <a:pt x="361" y="3"/>
                </a:lnTo>
                <a:cubicBezTo>
                  <a:pt x="358" y="0"/>
                  <a:pt x="350" y="0"/>
                  <a:pt x="347" y="0"/>
                </a:cubicBezTo>
                <a:cubicBezTo>
                  <a:pt x="342" y="3"/>
                  <a:pt x="339" y="9"/>
                  <a:pt x="339" y="14"/>
                </a:cubicBezTo>
                <a:lnTo>
                  <a:pt x="339" y="57"/>
                </a:lnTo>
                <a:lnTo>
                  <a:pt x="316" y="57"/>
                </a:lnTo>
                <a:cubicBezTo>
                  <a:pt x="277" y="57"/>
                  <a:pt x="240" y="76"/>
                  <a:pt x="220" y="110"/>
                </a:cubicBezTo>
                <a:lnTo>
                  <a:pt x="130" y="257"/>
                </a:lnTo>
                <a:cubicBezTo>
                  <a:pt x="119" y="274"/>
                  <a:pt x="102" y="282"/>
                  <a:pt x="82" y="282"/>
                </a:cubicBezTo>
                <a:lnTo>
                  <a:pt x="0" y="282"/>
                </a:lnTo>
                <a:lnTo>
                  <a:pt x="0" y="339"/>
                </a:lnTo>
                <a:lnTo>
                  <a:pt x="79" y="339"/>
                </a:lnTo>
                <a:cubicBezTo>
                  <a:pt x="119" y="339"/>
                  <a:pt x="155" y="319"/>
                  <a:pt x="175" y="285"/>
                </a:cubicBezTo>
                <a:lnTo>
                  <a:pt x="265" y="139"/>
                </a:lnTo>
                <a:cubicBezTo>
                  <a:pt x="277" y="122"/>
                  <a:pt x="294" y="113"/>
                  <a:pt x="313" y="113"/>
                </a:cubicBezTo>
                <a:lnTo>
                  <a:pt x="336" y="113"/>
                </a:lnTo>
                <a:lnTo>
                  <a:pt x="336" y="156"/>
                </a:lnTo>
                <a:cubicBezTo>
                  <a:pt x="336" y="161"/>
                  <a:pt x="339" y="167"/>
                  <a:pt x="344" y="170"/>
                </a:cubicBezTo>
                <a:cubicBezTo>
                  <a:pt x="347" y="170"/>
                  <a:pt x="347" y="170"/>
                  <a:pt x="350" y="170"/>
                </a:cubicBezTo>
                <a:cubicBezTo>
                  <a:pt x="353" y="170"/>
                  <a:pt x="356" y="170"/>
                  <a:pt x="358" y="167"/>
                </a:cubicBezTo>
                <a:lnTo>
                  <a:pt x="443" y="96"/>
                </a:lnTo>
                <a:cubicBezTo>
                  <a:pt x="446" y="93"/>
                  <a:pt x="449" y="91"/>
                  <a:pt x="449" y="85"/>
                </a:cubicBezTo>
                <a:cubicBezTo>
                  <a:pt x="449" y="79"/>
                  <a:pt x="449" y="76"/>
                  <a:pt x="446" y="7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28"/>
          <p:cNvSpPr/>
          <p:nvPr/>
        </p:nvSpPr>
        <p:spPr>
          <a:xfrm>
            <a:off x="4664160" y="3735360"/>
            <a:ext cx="142920" cy="308160"/>
          </a:xfrm>
          <a:custGeom>
            <a:avLst/>
            <a:gdLst/>
            <a:ahLst/>
            <a:rect l="l" t="t" r="r" b="b"/>
            <a:pathLst>
              <a:path w="212" h="456">
                <a:moveTo>
                  <a:pt x="209" y="122"/>
                </a:moveTo>
                <a:lnTo>
                  <a:pt x="124" y="9"/>
                </a:lnTo>
                <a:cubicBezTo>
                  <a:pt x="118" y="0"/>
                  <a:pt x="107" y="0"/>
                  <a:pt x="101" y="9"/>
                </a:cubicBezTo>
                <a:lnTo>
                  <a:pt x="17" y="122"/>
                </a:lnTo>
                <a:cubicBezTo>
                  <a:pt x="14" y="127"/>
                  <a:pt x="14" y="133"/>
                  <a:pt x="17" y="136"/>
                </a:cubicBezTo>
                <a:cubicBezTo>
                  <a:pt x="19" y="141"/>
                  <a:pt x="25" y="144"/>
                  <a:pt x="28" y="144"/>
                </a:cubicBezTo>
                <a:lnTo>
                  <a:pt x="70" y="144"/>
                </a:lnTo>
                <a:lnTo>
                  <a:pt x="70" y="308"/>
                </a:lnTo>
                <a:cubicBezTo>
                  <a:pt x="70" y="342"/>
                  <a:pt x="48" y="376"/>
                  <a:pt x="19" y="409"/>
                </a:cubicBezTo>
                <a:lnTo>
                  <a:pt x="3" y="432"/>
                </a:lnTo>
                <a:cubicBezTo>
                  <a:pt x="0" y="438"/>
                  <a:pt x="0" y="443"/>
                  <a:pt x="3" y="449"/>
                </a:cubicBezTo>
                <a:cubicBezTo>
                  <a:pt x="5" y="455"/>
                  <a:pt x="11" y="455"/>
                  <a:pt x="14" y="455"/>
                </a:cubicBezTo>
                <a:lnTo>
                  <a:pt x="17" y="455"/>
                </a:lnTo>
                <a:cubicBezTo>
                  <a:pt x="101" y="438"/>
                  <a:pt x="155" y="364"/>
                  <a:pt x="155" y="268"/>
                </a:cubicBezTo>
                <a:lnTo>
                  <a:pt x="155" y="144"/>
                </a:lnTo>
                <a:lnTo>
                  <a:pt x="197" y="144"/>
                </a:lnTo>
                <a:cubicBezTo>
                  <a:pt x="203" y="144"/>
                  <a:pt x="209" y="141"/>
                  <a:pt x="209" y="136"/>
                </a:cubicBezTo>
                <a:cubicBezTo>
                  <a:pt x="209" y="130"/>
                  <a:pt x="211" y="127"/>
                  <a:pt x="209" y="122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9"/>
          <p:cNvSpPr/>
          <p:nvPr/>
        </p:nvSpPr>
        <p:spPr>
          <a:xfrm>
            <a:off x="4516560" y="3736800"/>
            <a:ext cx="144360" cy="308160"/>
          </a:xfrm>
          <a:custGeom>
            <a:avLst/>
            <a:gdLst/>
            <a:ahLst/>
            <a:rect l="l" t="t" r="r" b="b"/>
            <a:pathLst>
              <a:path w="213" h="455">
                <a:moveTo>
                  <a:pt x="198" y="0"/>
                </a:moveTo>
                <a:cubicBezTo>
                  <a:pt x="198" y="0"/>
                  <a:pt x="195" y="0"/>
                  <a:pt x="198" y="0"/>
                </a:cubicBezTo>
                <a:cubicBezTo>
                  <a:pt x="110" y="17"/>
                  <a:pt x="57" y="90"/>
                  <a:pt x="57" y="186"/>
                </a:cubicBezTo>
                <a:lnTo>
                  <a:pt x="57" y="310"/>
                </a:lnTo>
                <a:lnTo>
                  <a:pt x="14" y="310"/>
                </a:lnTo>
                <a:cubicBezTo>
                  <a:pt x="9" y="310"/>
                  <a:pt x="3" y="313"/>
                  <a:pt x="3" y="319"/>
                </a:cubicBezTo>
                <a:cubicBezTo>
                  <a:pt x="3" y="325"/>
                  <a:pt x="0" y="330"/>
                  <a:pt x="3" y="333"/>
                </a:cubicBezTo>
                <a:lnTo>
                  <a:pt x="88" y="446"/>
                </a:lnTo>
                <a:cubicBezTo>
                  <a:pt x="93" y="454"/>
                  <a:pt x="104" y="454"/>
                  <a:pt x="110" y="446"/>
                </a:cubicBezTo>
                <a:lnTo>
                  <a:pt x="195" y="333"/>
                </a:lnTo>
                <a:cubicBezTo>
                  <a:pt x="198" y="327"/>
                  <a:pt x="198" y="322"/>
                  <a:pt x="195" y="319"/>
                </a:cubicBezTo>
                <a:cubicBezTo>
                  <a:pt x="192" y="313"/>
                  <a:pt x="186" y="310"/>
                  <a:pt x="184" y="310"/>
                </a:cubicBezTo>
                <a:lnTo>
                  <a:pt x="141" y="310"/>
                </a:lnTo>
                <a:lnTo>
                  <a:pt x="141" y="147"/>
                </a:lnTo>
                <a:cubicBezTo>
                  <a:pt x="141" y="113"/>
                  <a:pt x="164" y="79"/>
                  <a:pt x="192" y="45"/>
                </a:cubicBezTo>
                <a:lnTo>
                  <a:pt x="209" y="23"/>
                </a:lnTo>
                <a:cubicBezTo>
                  <a:pt x="212" y="17"/>
                  <a:pt x="212" y="11"/>
                  <a:pt x="209" y="6"/>
                </a:cubicBezTo>
                <a:cubicBezTo>
                  <a:pt x="206" y="3"/>
                  <a:pt x="203" y="0"/>
                  <a:pt x="198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30"/>
          <p:cNvSpPr/>
          <p:nvPr/>
        </p:nvSpPr>
        <p:spPr>
          <a:xfrm>
            <a:off x="4498920" y="526896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451" y="225"/>
                </a:moveTo>
                <a:cubicBezTo>
                  <a:pt x="451" y="267"/>
                  <a:pt x="442" y="302"/>
                  <a:pt x="421" y="338"/>
                </a:cubicBezTo>
                <a:cubicBezTo>
                  <a:pt x="400" y="374"/>
                  <a:pt x="374" y="400"/>
                  <a:pt x="338" y="421"/>
                </a:cubicBezTo>
                <a:cubicBezTo>
                  <a:pt x="302" y="442"/>
                  <a:pt x="267" y="451"/>
                  <a:pt x="226" y="451"/>
                </a:cubicBezTo>
                <a:cubicBezTo>
                  <a:pt x="184" y="451"/>
                  <a:pt x="149" y="442"/>
                  <a:pt x="113" y="421"/>
                </a:cubicBezTo>
                <a:cubicBezTo>
                  <a:pt x="77" y="400"/>
                  <a:pt x="51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1" y="77"/>
                  <a:pt x="77" y="51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7" y="0"/>
                  <a:pt x="302" y="9"/>
                  <a:pt x="338" y="30"/>
                </a:cubicBezTo>
                <a:cubicBezTo>
                  <a:pt x="374" y="51"/>
                  <a:pt x="400" y="77"/>
                  <a:pt x="421" y="113"/>
                </a:cubicBezTo>
                <a:cubicBezTo>
                  <a:pt x="442" y="149"/>
                  <a:pt x="451" y="184"/>
                  <a:pt x="451" y="225"/>
                </a:cubicBez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1"/>
          <p:cNvSpPr/>
          <p:nvPr/>
        </p:nvSpPr>
        <p:spPr>
          <a:xfrm>
            <a:off x="4495680" y="5272200"/>
            <a:ext cx="304920" cy="301680"/>
          </a:xfrm>
          <a:custGeom>
            <a:avLst/>
            <a:gdLst/>
            <a:ahLst/>
            <a:rect l="l" t="t" r="r" b="b"/>
            <a:pathLst>
              <a:path w="450" h="447">
                <a:moveTo>
                  <a:pt x="68" y="381"/>
                </a:moveTo>
                <a:cubicBezTo>
                  <a:pt x="71" y="384"/>
                  <a:pt x="73" y="387"/>
                  <a:pt x="79" y="390"/>
                </a:cubicBezTo>
                <a:lnTo>
                  <a:pt x="152" y="316"/>
                </a:lnTo>
                <a:cubicBezTo>
                  <a:pt x="186" y="353"/>
                  <a:pt x="209" y="398"/>
                  <a:pt x="217" y="446"/>
                </a:cubicBezTo>
                <a:cubicBezTo>
                  <a:pt x="220" y="446"/>
                  <a:pt x="226" y="446"/>
                  <a:pt x="229" y="446"/>
                </a:cubicBezTo>
                <a:cubicBezTo>
                  <a:pt x="234" y="446"/>
                  <a:pt x="240" y="446"/>
                  <a:pt x="246" y="446"/>
                </a:cubicBezTo>
                <a:lnTo>
                  <a:pt x="246" y="443"/>
                </a:lnTo>
                <a:cubicBezTo>
                  <a:pt x="237" y="387"/>
                  <a:pt x="212" y="336"/>
                  <a:pt x="172" y="297"/>
                </a:cubicBezTo>
                <a:lnTo>
                  <a:pt x="226" y="243"/>
                </a:lnTo>
                <a:lnTo>
                  <a:pt x="375" y="393"/>
                </a:lnTo>
                <a:cubicBezTo>
                  <a:pt x="378" y="390"/>
                  <a:pt x="384" y="387"/>
                  <a:pt x="387" y="384"/>
                </a:cubicBezTo>
                <a:cubicBezTo>
                  <a:pt x="389" y="381"/>
                  <a:pt x="392" y="378"/>
                  <a:pt x="395" y="373"/>
                </a:cubicBezTo>
                <a:lnTo>
                  <a:pt x="246" y="223"/>
                </a:lnTo>
                <a:lnTo>
                  <a:pt x="299" y="170"/>
                </a:lnTo>
                <a:cubicBezTo>
                  <a:pt x="341" y="206"/>
                  <a:pt x="392" y="232"/>
                  <a:pt x="446" y="243"/>
                </a:cubicBezTo>
                <a:lnTo>
                  <a:pt x="449" y="243"/>
                </a:lnTo>
                <a:cubicBezTo>
                  <a:pt x="449" y="234"/>
                  <a:pt x="449" y="223"/>
                  <a:pt x="449" y="215"/>
                </a:cubicBezTo>
                <a:cubicBezTo>
                  <a:pt x="401" y="206"/>
                  <a:pt x="356" y="184"/>
                  <a:pt x="319" y="150"/>
                </a:cubicBezTo>
                <a:lnTo>
                  <a:pt x="392" y="76"/>
                </a:lnTo>
                <a:cubicBezTo>
                  <a:pt x="389" y="74"/>
                  <a:pt x="387" y="68"/>
                  <a:pt x="384" y="65"/>
                </a:cubicBezTo>
                <a:cubicBezTo>
                  <a:pt x="381" y="62"/>
                  <a:pt x="378" y="60"/>
                  <a:pt x="373" y="57"/>
                </a:cubicBezTo>
                <a:lnTo>
                  <a:pt x="299" y="130"/>
                </a:lnTo>
                <a:cubicBezTo>
                  <a:pt x="265" y="93"/>
                  <a:pt x="243" y="48"/>
                  <a:pt x="234" y="0"/>
                </a:cubicBezTo>
                <a:cubicBezTo>
                  <a:pt x="231" y="0"/>
                  <a:pt x="226" y="0"/>
                  <a:pt x="223" y="0"/>
                </a:cubicBezTo>
                <a:cubicBezTo>
                  <a:pt x="217" y="0"/>
                  <a:pt x="212" y="0"/>
                  <a:pt x="206" y="0"/>
                </a:cubicBezTo>
                <a:lnTo>
                  <a:pt x="206" y="3"/>
                </a:lnTo>
                <a:cubicBezTo>
                  <a:pt x="215" y="60"/>
                  <a:pt x="240" y="110"/>
                  <a:pt x="279" y="153"/>
                </a:cubicBezTo>
                <a:lnTo>
                  <a:pt x="226" y="206"/>
                </a:lnTo>
                <a:lnTo>
                  <a:pt x="76" y="57"/>
                </a:lnTo>
                <a:cubicBezTo>
                  <a:pt x="73" y="60"/>
                  <a:pt x="68" y="62"/>
                  <a:pt x="65" y="65"/>
                </a:cubicBezTo>
                <a:cubicBezTo>
                  <a:pt x="62" y="68"/>
                  <a:pt x="59" y="71"/>
                  <a:pt x="56" y="76"/>
                </a:cubicBezTo>
                <a:lnTo>
                  <a:pt x="206" y="226"/>
                </a:lnTo>
                <a:lnTo>
                  <a:pt x="152" y="280"/>
                </a:lnTo>
                <a:cubicBezTo>
                  <a:pt x="110" y="243"/>
                  <a:pt x="59" y="218"/>
                  <a:pt x="3" y="206"/>
                </a:cubicBezTo>
                <a:lnTo>
                  <a:pt x="0" y="206"/>
                </a:lnTo>
                <a:cubicBezTo>
                  <a:pt x="0" y="215"/>
                  <a:pt x="0" y="226"/>
                  <a:pt x="0" y="234"/>
                </a:cubicBezTo>
                <a:cubicBezTo>
                  <a:pt x="48" y="243"/>
                  <a:pt x="93" y="266"/>
                  <a:pt x="130" y="299"/>
                </a:cubicBezTo>
                <a:lnTo>
                  <a:pt x="56" y="373"/>
                </a:lnTo>
                <a:cubicBezTo>
                  <a:pt x="62" y="373"/>
                  <a:pt x="65" y="376"/>
                  <a:pt x="68" y="381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2"/>
          <p:cNvSpPr/>
          <p:nvPr/>
        </p:nvSpPr>
        <p:spPr>
          <a:xfrm>
            <a:off x="3733920" y="526896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52" y="225"/>
                </a:moveTo>
                <a:cubicBezTo>
                  <a:pt x="452" y="267"/>
                  <a:pt x="441" y="302"/>
                  <a:pt x="421" y="338"/>
                </a:cubicBezTo>
                <a:cubicBezTo>
                  <a:pt x="400" y="374"/>
                  <a:pt x="375" y="400"/>
                  <a:pt x="339" y="421"/>
                </a:cubicBezTo>
                <a:cubicBezTo>
                  <a:pt x="303" y="442"/>
                  <a:pt x="267" y="451"/>
                  <a:pt x="226" y="451"/>
                </a:cubicBezTo>
                <a:cubicBezTo>
                  <a:pt x="184" y="451"/>
                  <a:pt x="149" y="442"/>
                  <a:pt x="113" y="421"/>
                </a:cubicBezTo>
                <a:cubicBezTo>
                  <a:pt x="77" y="400"/>
                  <a:pt x="50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0" y="77"/>
                  <a:pt x="77" y="51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7" y="0"/>
                  <a:pt x="303" y="9"/>
                  <a:pt x="339" y="30"/>
                </a:cubicBezTo>
                <a:cubicBezTo>
                  <a:pt x="375" y="51"/>
                  <a:pt x="400" y="77"/>
                  <a:pt x="421" y="113"/>
                </a:cubicBezTo>
                <a:cubicBezTo>
                  <a:pt x="441" y="149"/>
                  <a:pt x="452" y="184"/>
                  <a:pt x="452" y="225"/>
                </a:cubicBez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3"/>
          <p:cNvSpPr/>
          <p:nvPr/>
        </p:nvSpPr>
        <p:spPr>
          <a:xfrm>
            <a:off x="3733920" y="5262480"/>
            <a:ext cx="30780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333" y="356"/>
                </a:moveTo>
                <a:lnTo>
                  <a:pt x="302" y="319"/>
                </a:lnTo>
                <a:lnTo>
                  <a:pt x="339" y="217"/>
                </a:lnTo>
                <a:lnTo>
                  <a:pt x="387" y="195"/>
                </a:lnTo>
                <a:lnTo>
                  <a:pt x="449" y="262"/>
                </a:lnTo>
                <a:cubicBezTo>
                  <a:pt x="452" y="251"/>
                  <a:pt x="452" y="240"/>
                  <a:pt x="452" y="229"/>
                </a:cubicBezTo>
                <a:cubicBezTo>
                  <a:pt x="452" y="172"/>
                  <a:pt x="429" y="119"/>
                  <a:pt x="395" y="79"/>
                </a:cubicBezTo>
                <a:lnTo>
                  <a:pt x="375" y="164"/>
                </a:lnTo>
                <a:lnTo>
                  <a:pt x="327" y="186"/>
                </a:lnTo>
                <a:lnTo>
                  <a:pt x="240" y="121"/>
                </a:lnTo>
                <a:lnTo>
                  <a:pt x="240" y="62"/>
                </a:lnTo>
                <a:lnTo>
                  <a:pt x="319" y="20"/>
                </a:lnTo>
                <a:cubicBezTo>
                  <a:pt x="291" y="8"/>
                  <a:pt x="260" y="0"/>
                  <a:pt x="226" y="0"/>
                </a:cubicBezTo>
                <a:cubicBezTo>
                  <a:pt x="192" y="0"/>
                  <a:pt x="161" y="8"/>
                  <a:pt x="133" y="20"/>
                </a:cubicBezTo>
                <a:lnTo>
                  <a:pt x="212" y="62"/>
                </a:lnTo>
                <a:lnTo>
                  <a:pt x="212" y="121"/>
                </a:lnTo>
                <a:lnTo>
                  <a:pt x="124" y="186"/>
                </a:lnTo>
                <a:lnTo>
                  <a:pt x="76" y="164"/>
                </a:lnTo>
                <a:lnTo>
                  <a:pt x="57" y="79"/>
                </a:lnTo>
                <a:cubicBezTo>
                  <a:pt x="23" y="119"/>
                  <a:pt x="0" y="172"/>
                  <a:pt x="0" y="229"/>
                </a:cubicBezTo>
                <a:cubicBezTo>
                  <a:pt x="0" y="240"/>
                  <a:pt x="0" y="251"/>
                  <a:pt x="3" y="262"/>
                </a:cubicBezTo>
                <a:lnTo>
                  <a:pt x="65" y="195"/>
                </a:lnTo>
                <a:lnTo>
                  <a:pt x="113" y="217"/>
                </a:lnTo>
                <a:lnTo>
                  <a:pt x="150" y="319"/>
                </a:lnTo>
                <a:lnTo>
                  <a:pt x="119" y="356"/>
                </a:lnTo>
                <a:lnTo>
                  <a:pt x="34" y="350"/>
                </a:lnTo>
                <a:cubicBezTo>
                  <a:pt x="62" y="398"/>
                  <a:pt x="110" y="432"/>
                  <a:pt x="164" y="449"/>
                </a:cubicBezTo>
                <a:lnTo>
                  <a:pt x="141" y="372"/>
                </a:lnTo>
                <a:lnTo>
                  <a:pt x="172" y="336"/>
                </a:lnTo>
                <a:lnTo>
                  <a:pt x="279" y="336"/>
                </a:lnTo>
                <a:lnTo>
                  <a:pt x="310" y="372"/>
                </a:lnTo>
                <a:lnTo>
                  <a:pt x="274" y="452"/>
                </a:lnTo>
                <a:cubicBezTo>
                  <a:pt x="339" y="437"/>
                  <a:pt x="395" y="395"/>
                  <a:pt x="426" y="336"/>
                </a:cubicBezTo>
                <a:lnTo>
                  <a:pt x="333" y="356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34"/>
          <p:cNvSpPr/>
          <p:nvPr/>
        </p:nvSpPr>
        <p:spPr>
          <a:xfrm>
            <a:off x="5303880" y="5305320"/>
            <a:ext cx="230040" cy="268560"/>
          </a:xfrm>
          <a:custGeom>
            <a:avLst/>
            <a:gdLst/>
            <a:ahLst/>
            <a:rect l="l" t="t" r="r" b="b"/>
            <a:pathLst>
              <a:path w="340" h="396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67"/>
                </a:lnTo>
                <a:cubicBezTo>
                  <a:pt x="0" y="384"/>
                  <a:pt x="11" y="395"/>
                  <a:pt x="28" y="395"/>
                </a:cubicBezTo>
                <a:lnTo>
                  <a:pt x="310" y="395"/>
                </a:lnTo>
                <a:cubicBezTo>
                  <a:pt x="327" y="395"/>
                  <a:pt x="339" y="384"/>
                  <a:pt x="339" y="367"/>
                </a:cubicBezTo>
                <a:lnTo>
                  <a:pt x="339" y="28"/>
                </a:lnTo>
                <a:cubicBezTo>
                  <a:pt x="339" y="11"/>
                  <a:pt x="327" y="0"/>
                  <a:pt x="31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5"/>
          <p:cNvSpPr/>
          <p:nvPr/>
        </p:nvSpPr>
        <p:spPr>
          <a:xfrm>
            <a:off x="5361120" y="5268960"/>
            <a:ext cx="115920" cy="77760"/>
          </a:xfrm>
          <a:custGeom>
            <a:avLst/>
            <a:gdLst/>
            <a:ahLst/>
            <a:rect l="l" t="t" r="r" b="b"/>
            <a:pathLst>
              <a:path w="170" h="114">
                <a:moveTo>
                  <a:pt x="155" y="28"/>
                </a:moveTo>
                <a:lnTo>
                  <a:pt x="124" y="28"/>
                </a:lnTo>
                <a:cubicBezTo>
                  <a:pt x="118" y="11"/>
                  <a:pt x="101" y="0"/>
                  <a:pt x="84" y="0"/>
                </a:cubicBezTo>
                <a:cubicBezTo>
                  <a:pt x="67" y="0"/>
                  <a:pt x="51" y="11"/>
                  <a:pt x="45" y="28"/>
                </a:cubicBezTo>
                <a:lnTo>
                  <a:pt x="14" y="28"/>
                </a:lnTo>
                <a:cubicBezTo>
                  <a:pt x="5" y="28"/>
                  <a:pt x="0" y="33"/>
                  <a:pt x="0" y="42"/>
                </a:cubicBezTo>
                <a:lnTo>
                  <a:pt x="0" y="98"/>
                </a:lnTo>
                <a:cubicBezTo>
                  <a:pt x="0" y="107"/>
                  <a:pt x="5" y="113"/>
                  <a:pt x="14" y="113"/>
                </a:cubicBezTo>
                <a:lnTo>
                  <a:pt x="155" y="113"/>
                </a:lnTo>
                <a:cubicBezTo>
                  <a:pt x="163" y="113"/>
                  <a:pt x="169" y="107"/>
                  <a:pt x="169" y="98"/>
                </a:cubicBezTo>
                <a:lnTo>
                  <a:pt x="169" y="42"/>
                </a:lnTo>
                <a:cubicBezTo>
                  <a:pt x="169" y="33"/>
                  <a:pt x="163" y="28"/>
                  <a:pt x="155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6"/>
          <p:cNvSpPr/>
          <p:nvPr/>
        </p:nvSpPr>
        <p:spPr>
          <a:xfrm>
            <a:off x="5303880" y="5364000"/>
            <a:ext cx="233280" cy="155880"/>
          </a:xfrm>
          <a:custGeom>
            <a:avLst/>
            <a:gdLst/>
            <a:ahLst/>
            <a:rect l="l" t="t" r="r" b="b"/>
            <a:pathLst>
              <a:path w="345" h="229">
                <a:moveTo>
                  <a:pt x="268" y="84"/>
                </a:moveTo>
                <a:cubicBezTo>
                  <a:pt x="263" y="84"/>
                  <a:pt x="257" y="87"/>
                  <a:pt x="254" y="93"/>
                </a:cubicBezTo>
                <a:lnTo>
                  <a:pt x="226" y="166"/>
                </a:lnTo>
                <a:lnTo>
                  <a:pt x="181" y="11"/>
                </a:lnTo>
                <a:cubicBezTo>
                  <a:pt x="178" y="5"/>
                  <a:pt x="175" y="0"/>
                  <a:pt x="167" y="0"/>
                </a:cubicBezTo>
                <a:cubicBezTo>
                  <a:pt x="161" y="0"/>
                  <a:pt x="155" y="3"/>
                  <a:pt x="152" y="8"/>
                </a:cubicBezTo>
                <a:lnTo>
                  <a:pt x="104" y="127"/>
                </a:lnTo>
                <a:lnTo>
                  <a:pt x="76" y="90"/>
                </a:lnTo>
                <a:cubicBezTo>
                  <a:pt x="73" y="87"/>
                  <a:pt x="71" y="84"/>
                  <a:pt x="65" y="84"/>
                </a:cubicBezTo>
                <a:lnTo>
                  <a:pt x="0" y="84"/>
                </a:lnTo>
                <a:lnTo>
                  <a:pt x="0" y="113"/>
                </a:lnTo>
                <a:lnTo>
                  <a:pt x="62" y="113"/>
                </a:lnTo>
                <a:lnTo>
                  <a:pt x="102" y="163"/>
                </a:lnTo>
                <a:cubicBezTo>
                  <a:pt x="104" y="166"/>
                  <a:pt x="111" y="169"/>
                  <a:pt x="116" y="169"/>
                </a:cubicBezTo>
                <a:cubicBezTo>
                  <a:pt x="122" y="169"/>
                  <a:pt x="124" y="166"/>
                  <a:pt x="127" y="161"/>
                </a:cubicBezTo>
                <a:lnTo>
                  <a:pt x="169" y="59"/>
                </a:lnTo>
                <a:lnTo>
                  <a:pt x="215" y="217"/>
                </a:lnTo>
                <a:cubicBezTo>
                  <a:pt x="217" y="223"/>
                  <a:pt x="220" y="228"/>
                  <a:pt x="229" y="228"/>
                </a:cubicBezTo>
                <a:lnTo>
                  <a:pt x="229" y="228"/>
                </a:lnTo>
                <a:cubicBezTo>
                  <a:pt x="234" y="228"/>
                  <a:pt x="240" y="225"/>
                  <a:pt x="243" y="220"/>
                </a:cubicBezTo>
                <a:lnTo>
                  <a:pt x="282" y="115"/>
                </a:lnTo>
                <a:lnTo>
                  <a:pt x="344" y="115"/>
                </a:lnTo>
                <a:lnTo>
                  <a:pt x="344" y="87"/>
                </a:lnTo>
                <a:lnTo>
                  <a:pt x="268" y="87"/>
                </a:lnTo>
                <a:lnTo>
                  <a:pt x="268" y="84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7"/>
          <p:cNvSpPr/>
          <p:nvPr/>
        </p:nvSpPr>
        <p:spPr>
          <a:xfrm>
            <a:off x="5425920" y="3736800"/>
            <a:ext cx="144720" cy="144720"/>
          </a:xfrm>
          <a:custGeom>
            <a:avLst/>
            <a:gdLst/>
            <a:ahLst/>
            <a:rect l="l" t="t" r="r" b="b"/>
            <a:pathLst>
              <a:path w="213" h="213">
                <a:moveTo>
                  <a:pt x="0" y="212"/>
                </a:moveTo>
                <a:lnTo>
                  <a:pt x="212" y="212"/>
                </a:lnTo>
                <a:cubicBezTo>
                  <a:pt x="207" y="99"/>
                  <a:pt x="113" y="9"/>
                  <a:pt x="0" y="0"/>
                </a:cubicBezTo>
                <a:lnTo>
                  <a:pt x="0" y="212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8"/>
          <p:cNvSpPr/>
          <p:nvPr/>
        </p:nvSpPr>
        <p:spPr>
          <a:xfrm>
            <a:off x="5264280" y="3736800"/>
            <a:ext cx="30780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5" y="240"/>
                </a:moveTo>
                <a:cubicBezTo>
                  <a:pt x="217" y="240"/>
                  <a:pt x="211" y="234"/>
                  <a:pt x="211" y="226"/>
                </a:cubicBezTo>
                <a:lnTo>
                  <a:pt x="211" y="0"/>
                </a:lnTo>
                <a:cubicBezTo>
                  <a:pt x="93" y="9"/>
                  <a:pt x="0" y="104"/>
                  <a:pt x="0" y="226"/>
                </a:cubicBezTo>
                <a:cubicBezTo>
                  <a:pt x="0" y="350"/>
                  <a:pt x="101" y="452"/>
                  <a:pt x="225" y="452"/>
                </a:cubicBezTo>
                <a:cubicBezTo>
                  <a:pt x="344" y="452"/>
                  <a:pt x="443" y="358"/>
                  <a:pt x="451" y="240"/>
                </a:cubicBezTo>
                <a:lnTo>
                  <a:pt x="225" y="24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9"/>
          <p:cNvSpPr/>
          <p:nvPr/>
        </p:nvSpPr>
        <p:spPr>
          <a:xfrm>
            <a:off x="6191280" y="3736800"/>
            <a:ext cx="144360" cy="144720"/>
          </a:xfrm>
          <a:custGeom>
            <a:avLst/>
            <a:gdLst/>
            <a:ahLst/>
            <a:rect l="l" t="t" r="r" b="b"/>
            <a:pathLst>
              <a:path w="213" h="213">
                <a:moveTo>
                  <a:pt x="0" y="212"/>
                </a:moveTo>
                <a:lnTo>
                  <a:pt x="212" y="212"/>
                </a:lnTo>
                <a:cubicBezTo>
                  <a:pt x="206" y="99"/>
                  <a:pt x="113" y="9"/>
                  <a:pt x="0" y="0"/>
                </a:cubicBezTo>
                <a:lnTo>
                  <a:pt x="0" y="212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0"/>
          <p:cNvSpPr/>
          <p:nvPr/>
        </p:nvSpPr>
        <p:spPr>
          <a:xfrm>
            <a:off x="6081840" y="3898800"/>
            <a:ext cx="253800" cy="144720"/>
          </a:xfrm>
          <a:custGeom>
            <a:avLst/>
            <a:gdLst/>
            <a:ahLst/>
            <a:rect l="l" t="t" r="r" b="b"/>
            <a:pathLst>
              <a:path w="376" h="213">
                <a:moveTo>
                  <a:pt x="155" y="0"/>
                </a:moveTo>
                <a:lnTo>
                  <a:pt x="0" y="155"/>
                </a:lnTo>
                <a:cubicBezTo>
                  <a:pt x="39" y="189"/>
                  <a:pt x="93" y="212"/>
                  <a:pt x="149" y="212"/>
                </a:cubicBezTo>
                <a:cubicBezTo>
                  <a:pt x="268" y="212"/>
                  <a:pt x="366" y="118"/>
                  <a:pt x="375" y="0"/>
                </a:cubicBezTo>
                <a:lnTo>
                  <a:pt x="155" y="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1"/>
          <p:cNvSpPr/>
          <p:nvPr/>
        </p:nvSpPr>
        <p:spPr>
          <a:xfrm>
            <a:off x="6031080" y="3736800"/>
            <a:ext cx="142560" cy="255600"/>
          </a:xfrm>
          <a:custGeom>
            <a:avLst/>
            <a:gdLst/>
            <a:ahLst/>
            <a:rect l="l" t="t" r="r" b="b"/>
            <a:pathLst>
              <a:path w="213" h="376">
                <a:moveTo>
                  <a:pt x="212" y="220"/>
                </a:moveTo>
                <a:lnTo>
                  <a:pt x="212" y="0"/>
                </a:lnTo>
                <a:cubicBezTo>
                  <a:pt x="94" y="9"/>
                  <a:pt x="0" y="104"/>
                  <a:pt x="0" y="226"/>
                </a:cubicBezTo>
                <a:cubicBezTo>
                  <a:pt x="0" y="282"/>
                  <a:pt x="23" y="336"/>
                  <a:pt x="57" y="375"/>
                </a:cubicBezTo>
                <a:lnTo>
                  <a:pt x="212" y="22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2"/>
          <p:cNvSpPr/>
          <p:nvPr/>
        </p:nvSpPr>
        <p:spPr>
          <a:xfrm>
            <a:off x="6796080" y="3736800"/>
            <a:ext cx="30816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452" y="226"/>
                </a:moveTo>
                <a:cubicBezTo>
                  <a:pt x="452" y="267"/>
                  <a:pt x="442" y="303"/>
                  <a:pt x="421" y="339"/>
                </a:cubicBezTo>
                <a:cubicBezTo>
                  <a:pt x="401" y="375"/>
                  <a:pt x="375" y="400"/>
                  <a:pt x="339" y="421"/>
                </a:cubicBezTo>
                <a:cubicBezTo>
                  <a:pt x="303" y="441"/>
                  <a:pt x="268" y="452"/>
                  <a:pt x="226" y="452"/>
                </a:cubicBezTo>
                <a:cubicBezTo>
                  <a:pt x="184" y="452"/>
                  <a:pt x="149" y="441"/>
                  <a:pt x="113" y="421"/>
                </a:cubicBezTo>
                <a:cubicBezTo>
                  <a:pt x="77" y="400"/>
                  <a:pt x="51" y="375"/>
                  <a:pt x="30" y="339"/>
                </a:cubicBezTo>
                <a:cubicBezTo>
                  <a:pt x="10" y="303"/>
                  <a:pt x="0" y="267"/>
                  <a:pt x="0" y="226"/>
                </a:cubicBezTo>
                <a:cubicBezTo>
                  <a:pt x="0" y="184"/>
                  <a:pt x="10" y="149"/>
                  <a:pt x="30" y="113"/>
                </a:cubicBezTo>
                <a:cubicBezTo>
                  <a:pt x="51" y="77"/>
                  <a:pt x="77" y="50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8" y="0"/>
                  <a:pt x="303" y="9"/>
                  <a:pt x="339" y="30"/>
                </a:cubicBezTo>
                <a:cubicBezTo>
                  <a:pt x="375" y="50"/>
                  <a:pt x="401" y="77"/>
                  <a:pt x="421" y="113"/>
                </a:cubicBezTo>
                <a:cubicBezTo>
                  <a:pt x="442" y="149"/>
                  <a:pt x="452" y="184"/>
                  <a:pt x="452" y="226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3"/>
          <p:cNvSpPr/>
          <p:nvPr/>
        </p:nvSpPr>
        <p:spPr>
          <a:xfrm>
            <a:off x="6843600" y="3833640"/>
            <a:ext cx="212760" cy="211320"/>
          </a:xfrm>
          <a:custGeom>
            <a:avLst/>
            <a:gdLst/>
            <a:ahLst/>
            <a:rect l="l" t="t" r="r" b="b"/>
            <a:pathLst>
              <a:path w="311" h="312">
                <a:moveTo>
                  <a:pt x="310" y="155"/>
                </a:moveTo>
                <a:cubicBezTo>
                  <a:pt x="310" y="184"/>
                  <a:pt x="304" y="208"/>
                  <a:pt x="289" y="233"/>
                </a:cubicBezTo>
                <a:cubicBezTo>
                  <a:pt x="275" y="258"/>
                  <a:pt x="258" y="276"/>
                  <a:pt x="233" y="290"/>
                </a:cubicBezTo>
                <a:cubicBezTo>
                  <a:pt x="209" y="304"/>
                  <a:pt x="184" y="311"/>
                  <a:pt x="155" y="311"/>
                </a:cubicBezTo>
                <a:cubicBezTo>
                  <a:pt x="126" y="311"/>
                  <a:pt x="102" y="304"/>
                  <a:pt x="77" y="290"/>
                </a:cubicBezTo>
                <a:cubicBezTo>
                  <a:pt x="53" y="276"/>
                  <a:pt x="36" y="258"/>
                  <a:pt x="21" y="233"/>
                </a:cubicBezTo>
                <a:cubicBezTo>
                  <a:pt x="7" y="208"/>
                  <a:pt x="0" y="183"/>
                  <a:pt x="0" y="155"/>
                </a:cubicBezTo>
                <a:cubicBezTo>
                  <a:pt x="0" y="126"/>
                  <a:pt x="7" y="103"/>
                  <a:pt x="21" y="78"/>
                </a:cubicBezTo>
                <a:cubicBezTo>
                  <a:pt x="36" y="53"/>
                  <a:pt x="53" y="35"/>
                  <a:pt x="77" y="21"/>
                </a:cubicBezTo>
                <a:cubicBezTo>
                  <a:pt x="102" y="7"/>
                  <a:pt x="126" y="0"/>
                  <a:pt x="155" y="0"/>
                </a:cubicBezTo>
                <a:cubicBezTo>
                  <a:pt x="184" y="0"/>
                  <a:pt x="209" y="7"/>
                  <a:pt x="233" y="21"/>
                </a:cubicBezTo>
                <a:cubicBezTo>
                  <a:pt x="258" y="35"/>
                  <a:pt x="275" y="53"/>
                  <a:pt x="289" y="78"/>
                </a:cubicBezTo>
                <a:cubicBezTo>
                  <a:pt x="304" y="103"/>
                  <a:pt x="310" y="127"/>
                  <a:pt x="310" y="155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4"/>
          <p:cNvSpPr/>
          <p:nvPr/>
        </p:nvSpPr>
        <p:spPr>
          <a:xfrm>
            <a:off x="6891480" y="3929040"/>
            <a:ext cx="11736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0" y="85"/>
                </a:moveTo>
                <a:cubicBezTo>
                  <a:pt x="170" y="101"/>
                  <a:pt x="166" y="113"/>
                  <a:pt x="158" y="127"/>
                </a:cubicBezTo>
                <a:cubicBezTo>
                  <a:pt x="150" y="140"/>
                  <a:pt x="141" y="150"/>
                  <a:pt x="127" y="158"/>
                </a:cubicBezTo>
                <a:cubicBezTo>
                  <a:pt x="114" y="166"/>
                  <a:pt x="101" y="170"/>
                  <a:pt x="85" y="170"/>
                </a:cubicBezTo>
                <a:cubicBezTo>
                  <a:pt x="69" y="170"/>
                  <a:pt x="57" y="166"/>
                  <a:pt x="43" y="158"/>
                </a:cubicBezTo>
                <a:cubicBezTo>
                  <a:pt x="30" y="150"/>
                  <a:pt x="20" y="140"/>
                  <a:pt x="12" y="127"/>
                </a:cubicBezTo>
                <a:cubicBezTo>
                  <a:pt x="5" y="113"/>
                  <a:pt x="0" y="101"/>
                  <a:pt x="0" y="85"/>
                </a:cubicBezTo>
                <a:cubicBezTo>
                  <a:pt x="0" y="69"/>
                  <a:pt x="5" y="56"/>
                  <a:pt x="12" y="43"/>
                </a:cubicBezTo>
                <a:cubicBezTo>
                  <a:pt x="20" y="29"/>
                  <a:pt x="30" y="19"/>
                  <a:pt x="43" y="12"/>
                </a:cubicBezTo>
                <a:cubicBezTo>
                  <a:pt x="57" y="4"/>
                  <a:pt x="69" y="0"/>
                  <a:pt x="85" y="0"/>
                </a:cubicBezTo>
                <a:cubicBezTo>
                  <a:pt x="101" y="0"/>
                  <a:pt x="114" y="4"/>
                  <a:pt x="127" y="12"/>
                </a:cubicBezTo>
                <a:cubicBezTo>
                  <a:pt x="141" y="19"/>
                  <a:pt x="150" y="29"/>
                  <a:pt x="158" y="43"/>
                </a:cubicBezTo>
                <a:cubicBezTo>
                  <a:pt x="166" y="56"/>
                  <a:pt x="170" y="69"/>
                  <a:pt x="170" y="85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5"/>
          <p:cNvSpPr/>
          <p:nvPr/>
        </p:nvSpPr>
        <p:spPr>
          <a:xfrm>
            <a:off x="7561440" y="3736800"/>
            <a:ext cx="134640" cy="39960"/>
          </a:xfrm>
          <a:custGeom>
            <a:avLst/>
            <a:gdLst/>
            <a:ahLst/>
            <a:rect l="l" t="t" r="r" b="b"/>
            <a:pathLst>
              <a:path w="199" h="58">
                <a:moveTo>
                  <a:pt x="141" y="57"/>
                </a:moveTo>
                <a:lnTo>
                  <a:pt x="0" y="57"/>
                </a:lnTo>
                <a:lnTo>
                  <a:pt x="56" y="0"/>
                </a:lnTo>
                <a:lnTo>
                  <a:pt x="198" y="0"/>
                </a:lnTo>
                <a:lnTo>
                  <a:pt x="141" y="57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46"/>
          <p:cNvSpPr/>
          <p:nvPr/>
        </p:nvSpPr>
        <p:spPr>
          <a:xfrm>
            <a:off x="7561440" y="3776760"/>
            <a:ext cx="96840" cy="268200"/>
          </a:xfrm>
          <a:custGeom>
            <a:avLst/>
            <a:gdLst/>
            <a:ahLst/>
            <a:rect l="l" t="t" r="r" b="b"/>
            <a:pathLst>
              <a:path w="142" h="396">
                <a:moveTo>
                  <a:pt x="71" y="395"/>
                </a:moveTo>
                <a:lnTo>
                  <a:pt x="0" y="395"/>
                </a:lnTo>
                <a:lnTo>
                  <a:pt x="0" y="0"/>
                </a:lnTo>
                <a:lnTo>
                  <a:pt x="141" y="0"/>
                </a:lnTo>
                <a:lnTo>
                  <a:pt x="141" y="395"/>
                </a:lnTo>
                <a:lnTo>
                  <a:pt x="71" y="395"/>
                </a:ln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7"/>
          <p:cNvSpPr/>
          <p:nvPr/>
        </p:nvSpPr>
        <p:spPr>
          <a:xfrm>
            <a:off x="7658280" y="3736800"/>
            <a:ext cx="37800" cy="308160"/>
          </a:xfrm>
          <a:custGeom>
            <a:avLst/>
            <a:gdLst/>
            <a:ahLst/>
            <a:rect l="l" t="t" r="r" b="b"/>
            <a:pathLst>
              <a:path w="58" h="453">
                <a:moveTo>
                  <a:pt x="0" y="452"/>
                </a:moveTo>
                <a:lnTo>
                  <a:pt x="57" y="452"/>
                </a:lnTo>
                <a:lnTo>
                  <a:pt x="57" y="0"/>
                </a:lnTo>
                <a:lnTo>
                  <a:pt x="0" y="57"/>
                </a:lnTo>
                <a:lnTo>
                  <a:pt x="0" y="452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48"/>
          <p:cNvSpPr/>
          <p:nvPr/>
        </p:nvSpPr>
        <p:spPr>
          <a:xfrm>
            <a:off x="7658280" y="3833640"/>
            <a:ext cx="134640" cy="38160"/>
          </a:xfrm>
          <a:custGeom>
            <a:avLst/>
            <a:gdLst/>
            <a:ahLst/>
            <a:rect l="l" t="t" r="r" b="b"/>
            <a:pathLst>
              <a:path w="199" h="58">
                <a:moveTo>
                  <a:pt x="141" y="57"/>
                </a:moveTo>
                <a:lnTo>
                  <a:pt x="0" y="57"/>
                </a:lnTo>
                <a:lnTo>
                  <a:pt x="57" y="0"/>
                </a:lnTo>
                <a:lnTo>
                  <a:pt x="198" y="0"/>
                </a:lnTo>
                <a:lnTo>
                  <a:pt x="141" y="57"/>
                </a:lnTo>
              </a:path>
            </a:pathLst>
          </a:custGeom>
          <a:solidFill>
            <a:srgbClr val="80c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9"/>
          <p:cNvSpPr/>
          <p:nvPr/>
        </p:nvSpPr>
        <p:spPr>
          <a:xfrm>
            <a:off x="7658280" y="3871800"/>
            <a:ext cx="95040" cy="173160"/>
          </a:xfrm>
          <a:custGeom>
            <a:avLst/>
            <a:gdLst/>
            <a:ahLst/>
            <a:rect l="l" t="t" r="r" b="b"/>
            <a:pathLst>
              <a:path w="142" h="255">
                <a:moveTo>
                  <a:pt x="71" y="254"/>
                </a:moveTo>
                <a:lnTo>
                  <a:pt x="0" y="254"/>
                </a:lnTo>
                <a:lnTo>
                  <a:pt x="0" y="0"/>
                </a:lnTo>
                <a:lnTo>
                  <a:pt x="141" y="0"/>
                </a:lnTo>
                <a:lnTo>
                  <a:pt x="141" y="254"/>
                </a:lnTo>
                <a:lnTo>
                  <a:pt x="71" y="254"/>
                </a:lnTo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0"/>
          <p:cNvSpPr/>
          <p:nvPr/>
        </p:nvSpPr>
        <p:spPr>
          <a:xfrm>
            <a:off x="7753320" y="3833640"/>
            <a:ext cx="39600" cy="211320"/>
          </a:xfrm>
          <a:custGeom>
            <a:avLst/>
            <a:gdLst/>
            <a:ahLst/>
            <a:rect l="l" t="t" r="r" b="b"/>
            <a:pathLst>
              <a:path w="58" h="312">
                <a:moveTo>
                  <a:pt x="0" y="311"/>
                </a:moveTo>
                <a:lnTo>
                  <a:pt x="57" y="311"/>
                </a:lnTo>
                <a:lnTo>
                  <a:pt x="57" y="0"/>
                </a:lnTo>
                <a:lnTo>
                  <a:pt x="0" y="57"/>
                </a:lnTo>
                <a:lnTo>
                  <a:pt x="0" y="311"/>
                </a:ln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7753320" y="3911760"/>
            <a:ext cx="117360" cy="37800"/>
          </a:xfrm>
          <a:custGeom>
            <a:avLst/>
            <a:gdLst/>
            <a:ahLst/>
            <a:rect l="l" t="t" r="r" b="b"/>
            <a:pathLst>
              <a:path w="170" h="57">
                <a:moveTo>
                  <a:pt x="113" y="56"/>
                </a:moveTo>
                <a:lnTo>
                  <a:pt x="0" y="56"/>
                </a:lnTo>
                <a:lnTo>
                  <a:pt x="57" y="0"/>
                </a:lnTo>
                <a:lnTo>
                  <a:pt x="169" y="0"/>
                </a:lnTo>
                <a:lnTo>
                  <a:pt x="113" y="56"/>
                </a:ln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52"/>
          <p:cNvSpPr/>
          <p:nvPr/>
        </p:nvSpPr>
        <p:spPr>
          <a:xfrm>
            <a:off x="7753320" y="3946680"/>
            <a:ext cx="77760" cy="96840"/>
          </a:xfrm>
          <a:custGeom>
            <a:avLst/>
            <a:gdLst/>
            <a:ahLst/>
            <a:rect l="l" t="t" r="r" b="b"/>
            <a:pathLst>
              <a:path w="114" h="143">
                <a:moveTo>
                  <a:pt x="57" y="142"/>
                </a:moveTo>
                <a:lnTo>
                  <a:pt x="0" y="142"/>
                </a:lnTo>
                <a:lnTo>
                  <a:pt x="0" y="0"/>
                </a:lnTo>
                <a:lnTo>
                  <a:pt x="113" y="0"/>
                </a:lnTo>
                <a:lnTo>
                  <a:pt x="113" y="142"/>
                </a:lnTo>
                <a:lnTo>
                  <a:pt x="57" y="142"/>
                </a:lnTo>
              </a:path>
            </a:pathLst>
          </a:custGeom>
          <a:solidFill>
            <a:srgbClr val="ffc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53"/>
          <p:cNvSpPr/>
          <p:nvPr/>
        </p:nvSpPr>
        <p:spPr>
          <a:xfrm>
            <a:off x="7827840" y="3911760"/>
            <a:ext cx="39960" cy="133200"/>
          </a:xfrm>
          <a:custGeom>
            <a:avLst/>
            <a:gdLst/>
            <a:ahLst/>
            <a:rect l="l" t="t" r="r" b="b"/>
            <a:pathLst>
              <a:path w="57" h="199">
                <a:moveTo>
                  <a:pt x="0" y="198"/>
                </a:moveTo>
                <a:lnTo>
                  <a:pt x="56" y="141"/>
                </a:lnTo>
                <a:lnTo>
                  <a:pt x="56" y="0"/>
                </a:lnTo>
                <a:lnTo>
                  <a:pt x="0" y="56"/>
                </a:lnTo>
                <a:lnTo>
                  <a:pt x="0" y="198"/>
                </a:lnTo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4"/>
          <p:cNvSpPr/>
          <p:nvPr/>
        </p:nvSpPr>
        <p:spPr>
          <a:xfrm>
            <a:off x="6031080" y="5421240"/>
            <a:ext cx="307800" cy="96840"/>
          </a:xfrm>
          <a:custGeom>
            <a:avLst/>
            <a:gdLst/>
            <a:ahLst/>
            <a:rect l="l" t="t" r="r" b="b"/>
            <a:pathLst>
              <a:path w="453" h="142">
                <a:moveTo>
                  <a:pt x="381" y="0"/>
                </a:moveTo>
                <a:lnTo>
                  <a:pt x="71" y="0"/>
                </a:lnTo>
                <a:cubicBezTo>
                  <a:pt x="31" y="0"/>
                  <a:pt x="0" y="32"/>
                  <a:pt x="0" y="71"/>
                </a:cubicBezTo>
                <a:cubicBezTo>
                  <a:pt x="0" y="111"/>
                  <a:pt x="31" y="141"/>
                  <a:pt x="71" y="141"/>
                </a:cubicBezTo>
                <a:lnTo>
                  <a:pt x="381" y="141"/>
                </a:lnTo>
                <a:cubicBezTo>
                  <a:pt x="421" y="141"/>
                  <a:pt x="452" y="111"/>
                  <a:pt x="452" y="71"/>
                </a:cubicBezTo>
                <a:cubicBezTo>
                  <a:pt x="452" y="32"/>
                  <a:pt x="421" y="0"/>
                  <a:pt x="381" y="0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5"/>
          <p:cNvSpPr/>
          <p:nvPr/>
        </p:nvSpPr>
        <p:spPr>
          <a:xfrm>
            <a:off x="6031080" y="5495760"/>
            <a:ext cx="307800" cy="7812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49" y="6"/>
                </a:moveTo>
                <a:cubicBezTo>
                  <a:pt x="446" y="3"/>
                  <a:pt x="443" y="0"/>
                  <a:pt x="438" y="0"/>
                </a:cubicBezTo>
                <a:lnTo>
                  <a:pt x="15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20"/>
                </a:cubicBezTo>
                <a:lnTo>
                  <a:pt x="9" y="45"/>
                </a:lnTo>
                <a:cubicBezTo>
                  <a:pt x="23" y="85"/>
                  <a:pt x="60" y="113"/>
                  <a:pt x="102" y="113"/>
                </a:cubicBezTo>
                <a:lnTo>
                  <a:pt x="348" y="113"/>
                </a:lnTo>
                <a:cubicBezTo>
                  <a:pt x="390" y="113"/>
                  <a:pt x="427" y="85"/>
                  <a:pt x="441" y="45"/>
                </a:cubicBezTo>
                <a:lnTo>
                  <a:pt x="449" y="20"/>
                </a:lnTo>
                <a:cubicBezTo>
                  <a:pt x="452" y="14"/>
                  <a:pt x="452" y="9"/>
                  <a:pt x="449" y="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56"/>
          <p:cNvSpPr/>
          <p:nvPr/>
        </p:nvSpPr>
        <p:spPr>
          <a:xfrm>
            <a:off x="6031080" y="538308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49" y="48"/>
                </a:moveTo>
                <a:lnTo>
                  <a:pt x="421" y="6"/>
                </a:lnTo>
                <a:cubicBezTo>
                  <a:pt x="418" y="3"/>
                  <a:pt x="415" y="0"/>
                  <a:pt x="410" y="0"/>
                </a:cubicBezTo>
                <a:lnTo>
                  <a:pt x="43" y="0"/>
                </a:lnTo>
                <a:cubicBezTo>
                  <a:pt x="37" y="0"/>
                  <a:pt x="34" y="3"/>
                  <a:pt x="31" y="6"/>
                </a:cubicBezTo>
                <a:lnTo>
                  <a:pt x="3" y="48"/>
                </a:lnTo>
                <a:cubicBezTo>
                  <a:pt x="0" y="51"/>
                  <a:pt x="0" y="54"/>
                  <a:pt x="0" y="56"/>
                </a:cubicBezTo>
                <a:cubicBezTo>
                  <a:pt x="0" y="87"/>
                  <a:pt x="26" y="113"/>
                  <a:pt x="57" y="113"/>
                </a:cubicBezTo>
                <a:cubicBezTo>
                  <a:pt x="74" y="113"/>
                  <a:pt x="88" y="104"/>
                  <a:pt x="99" y="93"/>
                </a:cubicBezTo>
                <a:cubicBezTo>
                  <a:pt x="110" y="104"/>
                  <a:pt x="126" y="113"/>
                  <a:pt x="142" y="113"/>
                </a:cubicBezTo>
                <a:cubicBezTo>
                  <a:pt x="159" y="113"/>
                  <a:pt x="173" y="104"/>
                  <a:pt x="184" y="93"/>
                </a:cubicBezTo>
                <a:cubicBezTo>
                  <a:pt x="195" y="104"/>
                  <a:pt x="209" y="113"/>
                  <a:pt x="226" y="113"/>
                </a:cubicBezTo>
                <a:cubicBezTo>
                  <a:pt x="243" y="113"/>
                  <a:pt x="257" y="104"/>
                  <a:pt x="268" y="93"/>
                </a:cubicBezTo>
                <a:cubicBezTo>
                  <a:pt x="280" y="104"/>
                  <a:pt x="294" y="113"/>
                  <a:pt x="311" y="113"/>
                </a:cubicBezTo>
                <a:cubicBezTo>
                  <a:pt x="328" y="113"/>
                  <a:pt x="342" y="104"/>
                  <a:pt x="353" y="93"/>
                </a:cubicBezTo>
                <a:cubicBezTo>
                  <a:pt x="364" y="104"/>
                  <a:pt x="379" y="113"/>
                  <a:pt x="395" y="113"/>
                </a:cubicBezTo>
                <a:cubicBezTo>
                  <a:pt x="427" y="113"/>
                  <a:pt x="452" y="87"/>
                  <a:pt x="452" y="56"/>
                </a:cubicBezTo>
                <a:cubicBezTo>
                  <a:pt x="452" y="54"/>
                  <a:pt x="452" y="51"/>
                  <a:pt x="449" y="48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57"/>
          <p:cNvSpPr/>
          <p:nvPr/>
        </p:nvSpPr>
        <p:spPr>
          <a:xfrm>
            <a:off x="6086520" y="5495760"/>
            <a:ext cx="96840" cy="39960"/>
          </a:xfrm>
          <a:custGeom>
            <a:avLst/>
            <a:gdLst/>
            <a:ahLst/>
            <a:rect l="l" t="t" r="r" b="b"/>
            <a:pathLst>
              <a:path w="142" h="58">
                <a:moveTo>
                  <a:pt x="0" y="0"/>
                </a:moveTo>
                <a:lnTo>
                  <a:pt x="71" y="57"/>
                </a:lnTo>
                <a:lnTo>
                  <a:pt x="141" y="0"/>
                </a:lnTo>
                <a:lnTo>
                  <a:pt x="0" y="0"/>
                </a:lnTo>
              </a:path>
            </a:pathLst>
          </a:custGeom>
          <a:solidFill>
            <a:srgbClr val="ffe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58"/>
          <p:cNvSpPr/>
          <p:nvPr/>
        </p:nvSpPr>
        <p:spPr>
          <a:xfrm>
            <a:off x="6027840" y="5286240"/>
            <a:ext cx="307800" cy="117720"/>
          </a:xfrm>
          <a:custGeom>
            <a:avLst/>
            <a:gdLst/>
            <a:ahLst/>
            <a:rect l="l" t="t" r="r" b="b"/>
            <a:pathLst>
              <a:path w="455" h="171">
                <a:moveTo>
                  <a:pt x="454" y="149"/>
                </a:moveTo>
                <a:cubicBezTo>
                  <a:pt x="417" y="59"/>
                  <a:pt x="327" y="0"/>
                  <a:pt x="228" y="0"/>
                </a:cubicBezTo>
                <a:cubicBezTo>
                  <a:pt x="129" y="0"/>
                  <a:pt x="42" y="59"/>
                  <a:pt x="2" y="149"/>
                </a:cubicBezTo>
                <a:cubicBezTo>
                  <a:pt x="0" y="155"/>
                  <a:pt x="2" y="159"/>
                  <a:pt x="2" y="164"/>
                </a:cubicBezTo>
                <a:cubicBezTo>
                  <a:pt x="2" y="170"/>
                  <a:pt x="8" y="169"/>
                  <a:pt x="14" y="169"/>
                </a:cubicBezTo>
                <a:lnTo>
                  <a:pt x="437" y="169"/>
                </a:lnTo>
                <a:cubicBezTo>
                  <a:pt x="443" y="169"/>
                  <a:pt x="445" y="167"/>
                  <a:pt x="448" y="164"/>
                </a:cubicBezTo>
                <a:cubicBezTo>
                  <a:pt x="451" y="162"/>
                  <a:pt x="454" y="155"/>
                  <a:pt x="454" y="14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59"/>
          <p:cNvSpPr/>
          <p:nvPr/>
        </p:nvSpPr>
        <p:spPr>
          <a:xfrm>
            <a:off x="6799320" y="5448240"/>
            <a:ext cx="68040" cy="9072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96" y="56"/>
                </a:moveTo>
                <a:lnTo>
                  <a:pt x="45" y="6"/>
                </a:lnTo>
                <a:cubicBezTo>
                  <a:pt x="42" y="3"/>
                  <a:pt x="37" y="0"/>
                  <a:pt x="34" y="3"/>
                </a:cubicBezTo>
                <a:cubicBezTo>
                  <a:pt x="28" y="3"/>
                  <a:pt x="25" y="6"/>
                  <a:pt x="22" y="11"/>
                </a:cubicBezTo>
                <a:cubicBezTo>
                  <a:pt x="11" y="34"/>
                  <a:pt x="0" y="73"/>
                  <a:pt x="14" y="121"/>
                </a:cubicBezTo>
                <a:cubicBezTo>
                  <a:pt x="14" y="124"/>
                  <a:pt x="17" y="127"/>
                  <a:pt x="22" y="130"/>
                </a:cubicBezTo>
                <a:cubicBezTo>
                  <a:pt x="25" y="130"/>
                  <a:pt x="25" y="130"/>
                  <a:pt x="28" y="130"/>
                </a:cubicBezTo>
                <a:cubicBezTo>
                  <a:pt x="31" y="130"/>
                  <a:pt x="31" y="130"/>
                  <a:pt x="34" y="130"/>
                </a:cubicBezTo>
                <a:cubicBezTo>
                  <a:pt x="56" y="121"/>
                  <a:pt x="76" y="104"/>
                  <a:pt x="96" y="76"/>
                </a:cubicBezTo>
                <a:cubicBezTo>
                  <a:pt x="101" y="68"/>
                  <a:pt x="101" y="62"/>
                  <a:pt x="96" y="5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0"/>
          <p:cNvSpPr/>
          <p:nvPr/>
        </p:nvSpPr>
        <p:spPr>
          <a:xfrm>
            <a:off x="7026120" y="5451480"/>
            <a:ext cx="71640" cy="84240"/>
          </a:xfrm>
          <a:custGeom>
            <a:avLst/>
            <a:gdLst/>
            <a:ahLst/>
            <a:rect l="l" t="t" r="r" b="b"/>
            <a:pathLst>
              <a:path w="105" h="125">
                <a:moveTo>
                  <a:pt x="79" y="8"/>
                </a:moveTo>
                <a:cubicBezTo>
                  <a:pt x="76" y="5"/>
                  <a:pt x="73" y="3"/>
                  <a:pt x="67" y="0"/>
                </a:cubicBezTo>
                <a:cubicBezTo>
                  <a:pt x="62" y="0"/>
                  <a:pt x="59" y="0"/>
                  <a:pt x="56" y="3"/>
                </a:cubicBezTo>
                <a:lnTo>
                  <a:pt x="5" y="53"/>
                </a:lnTo>
                <a:cubicBezTo>
                  <a:pt x="0" y="59"/>
                  <a:pt x="0" y="65"/>
                  <a:pt x="2" y="70"/>
                </a:cubicBezTo>
                <a:cubicBezTo>
                  <a:pt x="22" y="98"/>
                  <a:pt x="45" y="115"/>
                  <a:pt x="65" y="124"/>
                </a:cubicBezTo>
                <a:cubicBezTo>
                  <a:pt x="67" y="124"/>
                  <a:pt x="67" y="124"/>
                  <a:pt x="70" y="124"/>
                </a:cubicBezTo>
                <a:cubicBezTo>
                  <a:pt x="73" y="124"/>
                  <a:pt x="73" y="124"/>
                  <a:pt x="76" y="124"/>
                </a:cubicBezTo>
                <a:cubicBezTo>
                  <a:pt x="79" y="121"/>
                  <a:pt x="81" y="118"/>
                  <a:pt x="84" y="115"/>
                </a:cubicBezTo>
                <a:cubicBezTo>
                  <a:pt x="104" y="67"/>
                  <a:pt x="93" y="31"/>
                  <a:pt x="79" y="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1"/>
          <p:cNvSpPr/>
          <p:nvPr/>
        </p:nvSpPr>
        <p:spPr>
          <a:xfrm>
            <a:off x="6792840" y="5376960"/>
            <a:ext cx="122400" cy="131760"/>
          </a:xfrm>
          <a:custGeom>
            <a:avLst/>
            <a:gdLst/>
            <a:ahLst/>
            <a:rect l="l" t="t" r="r" b="b"/>
            <a:pathLst>
              <a:path w="182" h="195">
                <a:moveTo>
                  <a:pt x="175" y="138"/>
                </a:moveTo>
                <a:lnTo>
                  <a:pt x="65" y="5"/>
                </a:lnTo>
                <a:cubicBezTo>
                  <a:pt x="62" y="2"/>
                  <a:pt x="57" y="0"/>
                  <a:pt x="54" y="0"/>
                </a:cubicBezTo>
                <a:cubicBezTo>
                  <a:pt x="48" y="0"/>
                  <a:pt x="46" y="2"/>
                  <a:pt x="43" y="8"/>
                </a:cubicBezTo>
                <a:lnTo>
                  <a:pt x="9" y="67"/>
                </a:lnTo>
                <a:cubicBezTo>
                  <a:pt x="0" y="84"/>
                  <a:pt x="3" y="104"/>
                  <a:pt x="14" y="118"/>
                </a:cubicBezTo>
                <a:lnTo>
                  <a:pt x="79" y="183"/>
                </a:lnTo>
                <a:cubicBezTo>
                  <a:pt x="88" y="192"/>
                  <a:pt x="99" y="194"/>
                  <a:pt x="110" y="194"/>
                </a:cubicBezTo>
                <a:cubicBezTo>
                  <a:pt x="119" y="194"/>
                  <a:pt x="130" y="192"/>
                  <a:pt x="139" y="186"/>
                </a:cubicBezTo>
                <a:lnTo>
                  <a:pt x="175" y="155"/>
                </a:lnTo>
                <a:cubicBezTo>
                  <a:pt x="178" y="152"/>
                  <a:pt x="181" y="149"/>
                  <a:pt x="181" y="146"/>
                </a:cubicBezTo>
                <a:cubicBezTo>
                  <a:pt x="178" y="146"/>
                  <a:pt x="178" y="141"/>
                  <a:pt x="175" y="138"/>
                </a:cubicBez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62"/>
          <p:cNvSpPr/>
          <p:nvPr/>
        </p:nvSpPr>
        <p:spPr>
          <a:xfrm>
            <a:off x="6981840" y="5376960"/>
            <a:ext cx="122400" cy="135000"/>
          </a:xfrm>
          <a:custGeom>
            <a:avLst/>
            <a:gdLst/>
            <a:ahLst/>
            <a:rect l="l" t="t" r="r" b="b"/>
            <a:pathLst>
              <a:path w="182" h="199">
                <a:moveTo>
                  <a:pt x="172" y="68"/>
                </a:moveTo>
                <a:lnTo>
                  <a:pt x="138" y="9"/>
                </a:lnTo>
                <a:cubicBezTo>
                  <a:pt x="135" y="6"/>
                  <a:pt x="133" y="3"/>
                  <a:pt x="127" y="0"/>
                </a:cubicBezTo>
                <a:cubicBezTo>
                  <a:pt x="121" y="0"/>
                  <a:pt x="118" y="3"/>
                  <a:pt x="116" y="6"/>
                </a:cubicBezTo>
                <a:lnTo>
                  <a:pt x="6" y="139"/>
                </a:lnTo>
                <a:cubicBezTo>
                  <a:pt x="0" y="144"/>
                  <a:pt x="3" y="153"/>
                  <a:pt x="8" y="159"/>
                </a:cubicBezTo>
                <a:lnTo>
                  <a:pt x="45" y="190"/>
                </a:lnTo>
                <a:cubicBezTo>
                  <a:pt x="54" y="195"/>
                  <a:pt x="62" y="198"/>
                  <a:pt x="73" y="198"/>
                </a:cubicBezTo>
                <a:cubicBezTo>
                  <a:pt x="85" y="198"/>
                  <a:pt x="96" y="192"/>
                  <a:pt x="104" y="187"/>
                </a:cubicBezTo>
                <a:lnTo>
                  <a:pt x="169" y="122"/>
                </a:lnTo>
                <a:cubicBezTo>
                  <a:pt x="178" y="105"/>
                  <a:pt x="181" y="85"/>
                  <a:pt x="172" y="68"/>
                </a:cubicBez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3"/>
          <p:cNvSpPr/>
          <p:nvPr/>
        </p:nvSpPr>
        <p:spPr>
          <a:xfrm>
            <a:off x="6813720" y="5305320"/>
            <a:ext cx="269640" cy="190440"/>
          </a:xfrm>
          <a:custGeom>
            <a:avLst/>
            <a:gdLst/>
            <a:ahLst/>
            <a:rect l="l" t="t" r="r" b="b"/>
            <a:pathLst>
              <a:path w="398" h="283">
                <a:moveTo>
                  <a:pt x="395" y="90"/>
                </a:moveTo>
                <a:cubicBezTo>
                  <a:pt x="347" y="34"/>
                  <a:pt x="276" y="0"/>
                  <a:pt x="200" y="0"/>
                </a:cubicBezTo>
                <a:cubicBezTo>
                  <a:pt x="124" y="0"/>
                  <a:pt x="53" y="34"/>
                  <a:pt x="5" y="90"/>
                </a:cubicBezTo>
                <a:cubicBezTo>
                  <a:pt x="0" y="96"/>
                  <a:pt x="0" y="104"/>
                  <a:pt x="5" y="107"/>
                </a:cubicBezTo>
                <a:lnTo>
                  <a:pt x="146" y="277"/>
                </a:lnTo>
                <a:cubicBezTo>
                  <a:pt x="152" y="282"/>
                  <a:pt x="160" y="282"/>
                  <a:pt x="166" y="279"/>
                </a:cubicBezTo>
                <a:cubicBezTo>
                  <a:pt x="186" y="265"/>
                  <a:pt x="214" y="265"/>
                  <a:pt x="234" y="279"/>
                </a:cubicBezTo>
                <a:cubicBezTo>
                  <a:pt x="237" y="282"/>
                  <a:pt x="239" y="282"/>
                  <a:pt x="242" y="282"/>
                </a:cubicBezTo>
                <a:cubicBezTo>
                  <a:pt x="245" y="282"/>
                  <a:pt x="251" y="279"/>
                  <a:pt x="254" y="277"/>
                </a:cubicBezTo>
                <a:lnTo>
                  <a:pt x="395" y="107"/>
                </a:lnTo>
                <a:cubicBezTo>
                  <a:pt x="397" y="102"/>
                  <a:pt x="397" y="96"/>
                  <a:pt x="395" y="9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4"/>
          <p:cNvSpPr/>
          <p:nvPr/>
        </p:nvSpPr>
        <p:spPr>
          <a:xfrm>
            <a:off x="7780320" y="5286240"/>
            <a:ext cx="87480" cy="77760"/>
          </a:xfrm>
          <a:custGeom>
            <a:avLst/>
            <a:gdLst/>
            <a:ahLst/>
            <a:rect l="l" t="t" r="r" b="b"/>
            <a:pathLst>
              <a:path w="128" h="114">
                <a:moveTo>
                  <a:pt x="15" y="113"/>
                </a:moveTo>
                <a:cubicBezTo>
                  <a:pt x="15" y="113"/>
                  <a:pt x="12" y="113"/>
                  <a:pt x="15" y="113"/>
                </a:cubicBezTo>
                <a:cubicBezTo>
                  <a:pt x="3" y="110"/>
                  <a:pt x="0" y="104"/>
                  <a:pt x="0" y="96"/>
                </a:cubicBezTo>
                <a:lnTo>
                  <a:pt x="15" y="11"/>
                </a:lnTo>
                <a:cubicBezTo>
                  <a:pt x="15" y="5"/>
                  <a:pt x="20" y="0"/>
                  <a:pt x="29" y="0"/>
                </a:cubicBezTo>
                <a:lnTo>
                  <a:pt x="113" y="0"/>
                </a:lnTo>
                <a:cubicBezTo>
                  <a:pt x="122" y="0"/>
                  <a:pt x="127" y="6"/>
                  <a:pt x="127" y="14"/>
                </a:cubicBezTo>
                <a:cubicBezTo>
                  <a:pt x="127" y="23"/>
                  <a:pt x="122" y="28"/>
                  <a:pt x="113" y="28"/>
                </a:cubicBezTo>
                <a:lnTo>
                  <a:pt x="40" y="28"/>
                </a:lnTo>
                <a:lnTo>
                  <a:pt x="29" y="101"/>
                </a:lnTo>
                <a:cubicBezTo>
                  <a:pt x="29" y="107"/>
                  <a:pt x="20" y="113"/>
                  <a:pt x="15" y="11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5"/>
          <p:cNvSpPr/>
          <p:nvPr/>
        </p:nvSpPr>
        <p:spPr>
          <a:xfrm>
            <a:off x="7715160" y="5343480"/>
            <a:ext cx="152640" cy="233280"/>
          </a:xfrm>
          <a:custGeom>
            <a:avLst/>
            <a:gdLst/>
            <a:ahLst/>
            <a:rect l="l" t="t" r="r" b="b"/>
            <a:pathLst>
              <a:path w="226" h="342">
                <a:moveTo>
                  <a:pt x="223" y="5"/>
                </a:moveTo>
                <a:cubicBezTo>
                  <a:pt x="220" y="2"/>
                  <a:pt x="217" y="0"/>
                  <a:pt x="211" y="0"/>
                </a:cubicBezTo>
                <a:lnTo>
                  <a:pt x="14" y="0"/>
                </a:lnTo>
                <a:cubicBezTo>
                  <a:pt x="11" y="0"/>
                  <a:pt x="5" y="2"/>
                  <a:pt x="3" y="5"/>
                </a:cubicBezTo>
                <a:cubicBezTo>
                  <a:pt x="0" y="8"/>
                  <a:pt x="0" y="11"/>
                  <a:pt x="0" y="16"/>
                </a:cubicBezTo>
                <a:lnTo>
                  <a:pt x="28" y="327"/>
                </a:lnTo>
                <a:cubicBezTo>
                  <a:pt x="28" y="335"/>
                  <a:pt x="34" y="341"/>
                  <a:pt x="42" y="341"/>
                </a:cubicBezTo>
                <a:lnTo>
                  <a:pt x="183" y="341"/>
                </a:lnTo>
                <a:cubicBezTo>
                  <a:pt x="192" y="341"/>
                  <a:pt x="197" y="335"/>
                  <a:pt x="197" y="327"/>
                </a:cubicBezTo>
                <a:lnTo>
                  <a:pt x="225" y="16"/>
                </a:lnTo>
                <a:cubicBezTo>
                  <a:pt x="225" y="11"/>
                  <a:pt x="225" y="8"/>
                  <a:pt x="223" y="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6"/>
          <p:cNvSpPr/>
          <p:nvPr/>
        </p:nvSpPr>
        <p:spPr>
          <a:xfrm>
            <a:off x="7580160" y="5518080"/>
            <a:ext cx="190800" cy="586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68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cubicBezTo>
                  <a:pt x="0" y="54"/>
                  <a:pt x="31" y="85"/>
                  <a:pt x="71" y="85"/>
                </a:cubicBezTo>
                <a:lnTo>
                  <a:pt x="212" y="85"/>
                </a:lnTo>
                <a:cubicBezTo>
                  <a:pt x="251" y="85"/>
                  <a:pt x="282" y="54"/>
                  <a:pt x="282" y="15"/>
                </a:cubicBezTo>
                <a:cubicBezTo>
                  <a:pt x="282" y="6"/>
                  <a:pt x="277" y="0"/>
                  <a:pt x="26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67"/>
          <p:cNvSpPr/>
          <p:nvPr/>
        </p:nvSpPr>
        <p:spPr>
          <a:xfrm>
            <a:off x="7580160" y="5421240"/>
            <a:ext cx="190800" cy="604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68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cubicBezTo>
                  <a:pt x="0" y="31"/>
                  <a:pt x="31" y="0"/>
                  <a:pt x="71" y="0"/>
                </a:cubicBezTo>
                <a:lnTo>
                  <a:pt x="212" y="0"/>
                </a:lnTo>
                <a:cubicBezTo>
                  <a:pt x="251" y="0"/>
                  <a:pt x="282" y="31"/>
                  <a:pt x="282" y="71"/>
                </a:cubicBezTo>
                <a:cubicBezTo>
                  <a:pt x="282" y="79"/>
                  <a:pt x="277" y="85"/>
                  <a:pt x="268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8"/>
          <p:cNvSpPr/>
          <p:nvPr/>
        </p:nvSpPr>
        <p:spPr>
          <a:xfrm>
            <a:off x="7561440" y="5478480"/>
            <a:ext cx="231480" cy="39600"/>
          </a:xfrm>
          <a:custGeom>
            <a:avLst/>
            <a:gdLst/>
            <a:ahLst/>
            <a:rect l="l" t="t" r="r" b="b"/>
            <a:pathLst>
              <a:path w="340" h="57">
                <a:moveTo>
                  <a:pt x="310" y="56"/>
                </a:moveTo>
                <a:lnTo>
                  <a:pt x="28" y="56"/>
                </a:lnTo>
                <a:cubicBezTo>
                  <a:pt x="11" y="56"/>
                  <a:pt x="0" y="45"/>
                  <a:pt x="0" y="28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28"/>
                </a:lnTo>
                <a:cubicBezTo>
                  <a:pt x="339" y="45"/>
                  <a:pt x="327" y="56"/>
                  <a:pt x="310" y="56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9"/>
          <p:cNvSpPr/>
          <p:nvPr/>
        </p:nvSpPr>
        <p:spPr>
          <a:xfrm>
            <a:off x="8321760" y="5262480"/>
            <a:ext cx="314280" cy="311400"/>
          </a:xfrm>
          <a:custGeom>
            <a:avLst/>
            <a:gdLst/>
            <a:ahLst/>
            <a:rect l="l" t="t" r="r" b="b"/>
            <a:pathLst>
              <a:path w="461" h="458">
                <a:moveTo>
                  <a:pt x="378" y="59"/>
                </a:moveTo>
                <a:cubicBezTo>
                  <a:pt x="325" y="17"/>
                  <a:pt x="257" y="0"/>
                  <a:pt x="189" y="11"/>
                </a:cubicBezTo>
                <a:cubicBezTo>
                  <a:pt x="102" y="28"/>
                  <a:pt x="31" y="99"/>
                  <a:pt x="14" y="186"/>
                </a:cubicBezTo>
                <a:cubicBezTo>
                  <a:pt x="0" y="254"/>
                  <a:pt x="17" y="322"/>
                  <a:pt x="62" y="375"/>
                </a:cubicBezTo>
                <a:cubicBezTo>
                  <a:pt x="105" y="429"/>
                  <a:pt x="170" y="457"/>
                  <a:pt x="237" y="457"/>
                </a:cubicBezTo>
                <a:cubicBezTo>
                  <a:pt x="277" y="457"/>
                  <a:pt x="311" y="429"/>
                  <a:pt x="314" y="390"/>
                </a:cubicBezTo>
                <a:lnTo>
                  <a:pt x="316" y="356"/>
                </a:lnTo>
                <a:cubicBezTo>
                  <a:pt x="319" y="333"/>
                  <a:pt x="336" y="313"/>
                  <a:pt x="359" y="313"/>
                </a:cubicBezTo>
                <a:lnTo>
                  <a:pt x="393" y="311"/>
                </a:lnTo>
                <a:cubicBezTo>
                  <a:pt x="432" y="308"/>
                  <a:pt x="460" y="274"/>
                  <a:pt x="460" y="234"/>
                </a:cubicBezTo>
                <a:cubicBezTo>
                  <a:pt x="460" y="167"/>
                  <a:pt x="429" y="105"/>
                  <a:pt x="378" y="59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70"/>
          <p:cNvSpPr/>
          <p:nvPr/>
        </p:nvSpPr>
        <p:spPr>
          <a:xfrm>
            <a:off x="8366040" y="5383080"/>
            <a:ext cx="96840" cy="9540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9" y="95"/>
                  <a:pt x="132" y="106"/>
                </a:cubicBezTo>
                <a:cubicBezTo>
                  <a:pt x="126" y="117"/>
                  <a:pt x="117" y="126"/>
                  <a:pt x="106" y="132"/>
                </a:cubicBezTo>
                <a:cubicBezTo>
                  <a:pt x="95" y="139"/>
                  <a:pt x="84" y="141"/>
                  <a:pt x="71" y="141"/>
                </a:cubicBezTo>
                <a:cubicBezTo>
                  <a:pt x="58" y="141"/>
                  <a:pt x="47" y="139"/>
                  <a:pt x="35" y="132"/>
                </a:cubicBezTo>
                <a:cubicBezTo>
                  <a:pt x="24" y="126"/>
                  <a:pt x="17" y="117"/>
                  <a:pt x="10" y="106"/>
                </a:cubicBezTo>
                <a:cubicBezTo>
                  <a:pt x="4" y="95"/>
                  <a:pt x="0" y="83"/>
                  <a:pt x="0" y="70"/>
                </a:cubicBezTo>
                <a:cubicBezTo>
                  <a:pt x="0" y="58"/>
                  <a:pt x="4" y="46"/>
                  <a:pt x="10" y="35"/>
                </a:cubicBezTo>
                <a:cubicBezTo>
                  <a:pt x="17" y="24"/>
                  <a:pt x="24" y="16"/>
                  <a:pt x="35" y="9"/>
                </a:cubicBezTo>
                <a:cubicBezTo>
                  <a:pt x="47" y="3"/>
                  <a:pt x="58" y="0"/>
                  <a:pt x="71" y="0"/>
                </a:cubicBezTo>
                <a:cubicBezTo>
                  <a:pt x="84" y="0"/>
                  <a:pt x="95" y="3"/>
                  <a:pt x="106" y="9"/>
                </a:cubicBezTo>
                <a:cubicBezTo>
                  <a:pt x="117" y="16"/>
                  <a:pt x="126" y="24"/>
                  <a:pt x="132" y="35"/>
                </a:cubicBezTo>
                <a:cubicBezTo>
                  <a:pt x="139" y="46"/>
                  <a:pt x="141" y="58"/>
                  <a:pt x="141" y="7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71"/>
          <p:cNvSpPr/>
          <p:nvPr/>
        </p:nvSpPr>
        <p:spPr>
          <a:xfrm>
            <a:off x="8385120" y="5400720"/>
            <a:ext cx="28800" cy="30240"/>
          </a:xfrm>
          <a:custGeom>
            <a:avLst/>
            <a:gdLst/>
            <a:ahLst/>
            <a:rect l="l" t="t" r="r" b="b"/>
            <a:pathLst>
              <a:path w="44" h="43">
                <a:moveTo>
                  <a:pt x="15" y="42"/>
                </a:moveTo>
                <a:cubicBezTo>
                  <a:pt x="6" y="42"/>
                  <a:pt x="0" y="37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37" y="0"/>
                  <a:pt x="43" y="6"/>
                  <a:pt x="43" y="14"/>
                </a:cubicBezTo>
                <a:cubicBezTo>
                  <a:pt x="43" y="23"/>
                  <a:pt x="37" y="28"/>
                  <a:pt x="29" y="28"/>
                </a:cubicBezTo>
                <a:cubicBezTo>
                  <a:pt x="29" y="37"/>
                  <a:pt x="23" y="42"/>
                  <a:pt x="15" y="42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72"/>
          <p:cNvSpPr/>
          <p:nvPr/>
        </p:nvSpPr>
        <p:spPr>
          <a:xfrm>
            <a:off x="8480520" y="5326200"/>
            <a:ext cx="95040" cy="950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1"/>
                </a:moveTo>
                <a:cubicBezTo>
                  <a:pt x="141" y="84"/>
                  <a:pt x="138" y="95"/>
                  <a:pt x="131" y="106"/>
                </a:cubicBezTo>
                <a:cubicBezTo>
                  <a:pt x="125" y="117"/>
                  <a:pt x="117" y="126"/>
                  <a:pt x="105" y="132"/>
                </a:cubicBezTo>
                <a:cubicBezTo>
                  <a:pt x="94" y="139"/>
                  <a:pt x="83" y="141"/>
                  <a:pt x="70" y="141"/>
                </a:cubicBezTo>
                <a:cubicBezTo>
                  <a:pt x="57" y="141"/>
                  <a:pt x="46" y="139"/>
                  <a:pt x="35" y="132"/>
                </a:cubicBezTo>
                <a:cubicBezTo>
                  <a:pt x="24" y="126"/>
                  <a:pt x="16" y="117"/>
                  <a:pt x="9" y="106"/>
                </a:cubicBezTo>
                <a:cubicBezTo>
                  <a:pt x="3" y="95"/>
                  <a:pt x="0" y="84"/>
                  <a:pt x="0" y="71"/>
                </a:cubicBezTo>
                <a:cubicBezTo>
                  <a:pt x="0" y="58"/>
                  <a:pt x="3" y="48"/>
                  <a:pt x="9" y="36"/>
                </a:cubicBezTo>
                <a:cubicBezTo>
                  <a:pt x="16" y="25"/>
                  <a:pt x="24" y="17"/>
                  <a:pt x="35" y="10"/>
                </a:cubicBezTo>
                <a:cubicBezTo>
                  <a:pt x="46" y="4"/>
                  <a:pt x="57" y="0"/>
                  <a:pt x="70" y="0"/>
                </a:cubicBezTo>
                <a:cubicBezTo>
                  <a:pt x="83" y="0"/>
                  <a:pt x="94" y="4"/>
                  <a:pt x="105" y="10"/>
                </a:cubicBezTo>
                <a:cubicBezTo>
                  <a:pt x="117" y="17"/>
                  <a:pt x="125" y="25"/>
                  <a:pt x="131" y="36"/>
                </a:cubicBezTo>
                <a:cubicBezTo>
                  <a:pt x="138" y="48"/>
                  <a:pt x="141" y="58"/>
                  <a:pt x="141" y="71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3"/>
          <p:cNvSpPr/>
          <p:nvPr/>
        </p:nvSpPr>
        <p:spPr>
          <a:xfrm>
            <a:off x="8497800" y="5343480"/>
            <a:ext cx="30240" cy="302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4" y="42"/>
                </a:moveTo>
                <a:cubicBezTo>
                  <a:pt x="5" y="42"/>
                  <a:pt x="0" y="36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36" y="0"/>
                  <a:pt x="42" y="6"/>
                  <a:pt x="42" y="14"/>
                </a:cubicBezTo>
                <a:cubicBezTo>
                  <a:pt x="42" y="23"/>
                  <a:pt x="36" y="28"/>
                  <a:pt x="28" y="28"/>
                </a:cubicBezTo>
                <a:cubicBezTo>
                  <a:pt x="28" y="36"/>
                  <a:pt x="22" y="42"/>
                  <a:pt x="14" y="42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74"/>
          <p:cNvSpPr/>
          <p:nvPr/>
        </p:nvSpPr>
        <p:spPr>
          <a:xfrm>
            <a:off x="1531800" y="6073920"/>
            <a:ext cx="190800" cy="117360"/>
          </a:xfrm>
          <a:custGeom>
            <a:avLst/>
            <a:gdLst/>
            <a:ahLst/>
            <a:rect l="l" t="t" r="r" b="b"/>
            <a:pathLst>
              <a:path w="283" h="170">
                <a:moveTo>
                  <a:pt x="203" y="28"/>
                </a:moveTo>
                <a:cubicBezTo>
                  <a:pt x="186" y="11"/>
                  <a:pt x="164" y="0"/>
                  <a:pt x="141" y="0"/>
                </a:cubicBezTo>
                <a:cubicBezTo>
                  <a:pt x="118" y="0"/>
                  <a:pt x="93" y="11"/>
                  <a:pt x="79" y="28"/>
                </a:cubicBezTo>
                <a:cubicBezTo>
                  <a:pt x="37" y="31"/>
                  <a:pt x="0" y="68"/>
                  <a:pt x="0" y="113"/>
                </a:cubicBezTo>
                <a:cubicBezTo>
                  <a:pt x="0" y="130"/>
                  <a:pt x="5" y="149"/>
                  <a:pt x="17" y="164"/>
                </a:cubicBezTo>
                <a:cubicBezTo>
                  <a:pt x="20" y="166"/>
                  <a:pt x="22" y="169"/>
                  <a:pt x="28" y="169"/>
                </a:cubicBezTo>
                <a:lnTo>
                  <a:pt x="254" y="169"/>
                </a:lnTo>
                <a:cubicBezTo>
                  <a:pt x="259" y="169"/>
                  <a:pt x="262" y="166"/>
                  <a:pt x="265" y="164"/>
                </a:cubicBezTo>
                <a:cubicBezTo>
                  <a:pt x="276" y="149"/>
                  <a:pt x="282" y="130"/>
                  <a:pt x="282" y="113"/>
                </a:cubicBezTo>
                <a:cubicBezTo>
                  <a:pt x="282" y="68"/>
                  <a:pt x="248" y="31"/>
                  <a:pt x="203" y="28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5"/>
          <p:cNvSpPr/>
          <p:nvPr/>
        </p:nvSpPr>
        <p:spPr>
          <a:xfrm>
            <a:off x="1617840" y="6130800"/>
            <a:ext cx="21960" cy="57240"/>
          </a:xfrm>
          <a:custGeom>
            <a:avLst/>
            <a:gdLst/>
            <a:ahLst/>
            <a:rect l="l" t="t" r="r" b="b"/>
            <a:pathLst>
              <a:path w="29" h="85">
                <a:moveTo>
                  <a:pt x="14" y="84"/>
                </a:move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70"/>
                </a:lnTo>
                <a:cubicBezTo>
                  <a:pt x="28" y="79"/>
                  <a:pt x="22" y="84"/>
                  <a:pt x="14" y="84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6"/>
          <p:cNvSpPr/>
          <p:nvPr/>
        </p:nvSpPr>
        <p:spPr>
          <a:xfrm>
            <a:off x="1576440" y="6137280"/>
            <a:ext cx="63360" cy="50760"/>
          </a:xfrm>
          <a:custGeom>
            <a:avLst/>
            <a:gdLst/>
            <a:ahLst/>
            <a:rect l="l" t="t" r="r" b="b"/>
            <a:pathLst>
              <a:path w="92" h="74">
                <a:moveTo>
                  <a:pt x="74" y="73"/>
                </a:moveTo>
                <a:cubicBezTo>
                  <a:pt x="71" y="73"/>
                  <a:pt x="68" y="73"/>
                  <a:pt x="65" y="70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6" y="5"/>
                </a:cubicBezTo>
                <a:lnTo>
                  <a:pt x="82" y="48"/>
                </a:lnTo>
                <a:cubicBezTo>
                  <a:pt x="88" y="53"/>
                  <a:pt x="91" y="62"/>
                  <a:pt x="85" y="68"/>
                </a:cubicBezTo>
                <a:cubicBezTo>
                  <a:pt x="82" y="70"/>
                  <a:pt x="80" y="73"/>
                  <a:pt x="74" y="73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7"/>
          <p:cNvSpPr/>
          <p:nvPr/>
        </p:nvSpPr>
        <p:spPr>
          <a:xfrm>
            <a:off x="1616040" y="6137280"/>
            <a:ext cx="61920" cy="50760"/>
          </a:xfrm>
          <a:custGeom>
            <a:avLst/>
            <a:gdLst/>
            <a:ahLst/>
            <a:rect l="l" t="t" r="r" b="b"/>
            <a:pathLst>
              <a:path w="91" h="74">
                <a:moveTo>
                  <a:pt x="17" y="73"/>
                </a:moveTo>
                <a:cubicBezTo>
                  <a:pt x="11" y="73"/>
                  <a:pt x="8" y="70"/>
                  <a:pt x="6" y="68"/>
                </a:cubicBezTo>
                <a:cubicBezTo>
                  <a:pt x="0" y="62"/>
                  <a:pt x="3" y="53"/>
                  <a:pt x="8" y="48"/>
                </a:cubicBezTo>
                <a:lnTo>
                  <a:pt x="65" y="5"/>
                </a:lnTo>
                <a:cubicBezTo>
                  <a:pt x="71" y="0"/>
                  <a:pt x="79" y="3"/>
                  <a:pt x="85" y="8"/>
                </a:cubicBezTo>
                <a:cubicBezTo>
                  <a:pt x="90" y="14"/>
                  <a:pt x="87" y="22"/>
                  <a:pt x="82" y="28"/>
                </a:cubicBezTo>
                <a:lnTo>
                  <a:pt x="25" y="70"/>
                </a:lnTo>
                <a:cubicBezTo>
                  <a:pt x="23" y="73"/>
                  <a:pt x="20" y="73"/>
                  <a:pt x="17" y="73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8"/>
          <p:cNvSpPr/>
          <p:nvPr/>
        </p:nvSpPr>
        <p:spPr>
          <a:xfrm>
            <a:off x="1492200" y="60530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99" y="0"/>
                </a:moveTo>
                <a:cubicBezTo>
                  <a:pt x="46" y="0"/>
                  <a:pt x="0" y="45"/>
                  <a:pt x="0" y="98"/>
                </a:cubicBezTo>
                <a:cubicBezTo>
                  <a:pt x="0" y="152"/>
                  <a:pt x="46" y="197"/>
                  <a:pt x="99" y="197"/>
                </a:cubicBezTo>
                <a:cubicBezTo>
                  <a:pt x="108" y="197"/>
                  <a:pt x="113" y="192"/>
                  <a:pt x="113" y="183"/>
                </a:cubicBezTo>
                <a:lnTo>
                  <a:pt x="113" y="14"/>
                </a:lnTo>
                <a:cubicBezTo>
                  <a:pt x="113" y="5"/>
                  <a:pt x="108" y="0"/>
                  <a:pt x="99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9"/>
          <p:cNvSpPr/>
          <p:nvPr/>
        </p:nvSpPr>
        <p:spPr>
          <a:xfrm>
            <a:off x="1447920" y="6097680"/>
            <a:ext cx="125280" cy="125280"/>
          </a:xfrm>
          <a:custGeom>
            <a:avLst/>
            <a:gdLst/>
            <a:ahLst/>
            <a:rect l="l" t="t" r="r" b="b"/>
            <a:pathLst>
              <a:path w="185" h="184">
                <a:moveTo>
                  <a:pt x="40" y="5"/>
                </a:moveTo>
                <a:cubicBezTo>
                  <a:pt x="1" y="45"/>
                  <a:pt x="0" y="107"/>
                  <a:pt x="40" y="143"/>
                </a:cubicBezTo>
                <a:cubicBezTo>
                  <a:pt x="79" y="180"/>
                  <a:pt x="142" y="183"/>
                  <a:pt x="178" y="143"/>
                </a:cubicBezTo>
                <a:cubicBezTo>
                  <a:pt x="184" y="138"/>
                  <a:pt x="184" y="129"/>
                  <a:pt x="178" y="124"/>
                </a:cubicBezTo>
                <a:lnTo>
                  <a:pt x="60" y="5"/>
                </a:lnTo>
                <a:cubicBezTo>
                  <a:pt x="54" y="0"/>
                  <a:pt x="46" y="0"/>
                  <a:pt x="40" y="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0"/>
          <p:cNvSpPr/>
          <p:nvPr/>
        </p:nvSpPr>
        <p:spPr>
          <a:xfrm>
            <a:off x="1434960" y="6165720"/>
            <a:ext cx="309600" cy="174600"/>
          </a:xfrm>
          <a:custGeom>
            <a:avLst/>
            <a:gdLst/>
            <a:ahLst/>
            <a:rect l="l" t="t" r="r" b="b"/>
            <a:pathLst>
              <a:path w="452" h="255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cubicBezTo>
                  <a:pt x="0" y="102"/>
                  <a:pt x="56" y="178"/>
                  <a:pt x="141" y="212"/>
                </a:cubicBezTo>
                <a:lnTo>
                  <a:pt x="141" y="240"/>
                </a:lnTo>
                <a:cubicBezTo>
                  <a:pt x="141" y="248"/>
                  <a:pt x="146" y="254"/>
                  <a:pt x="155" y="254"/>
                </a:cubicBezTo>
                <a:lnTo>
                  <a:pt x="296" y="254"/>
                </a:lnTo>
                <a:cubicBezTo>
                  <a:pt x="305" y="254"/>
                  <a:pt x="310" y="248"/>
                  <a:pt x="310" y="240"/>
                </a:cubicBezTo>
                <a:lnTo>
                  <a:pt x="310" y="212"/>
                </a:lnTo>
                <a:cubicBezTo>
                  <a:pt x="395" y="181"/>
                  <a:pt x="451" y="102"/>
                  <a:pt x="451" y="14"/>
                </a:cubicBez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1"/>
          <p:cNvSpPr/>
          <p:nvPr/>
        </p:nvSpPr>
        <p:spPr>
          <a:xfrm>
            <a:off x="2279520" y="6035760"/>
            <a:ext cx="152640" cy="586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198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71"/>
                </a:lnTo>
                <a:cubicBezTo>
                  <a:pt x="0" y="79"/>
                  <a:pt x="6" y="85"/>
                  <a:pt x="15" y="85"/>
                </a:cubicBezTo>
                <a:lnTo>
                  <a:pt x="212" y="85"/>
                </a:lnTo>
                <a:cubicBezTo>
                  <a:pt x="221" y="85"/>
                  <a:pt x="226" y="79"/>
                  <a:pt x="226" y="71"/>
                </a:cubicBezTo>
                <a:lnTo>
                  <a:pt x="226" y="29"/>
                </a:lnTo>
                <a:cubicBezTo>
                  <a:pt x="226" y="12"/>
                  <a:pt x="215" y="0"/>
                  <a:pt x="198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82"/>
          <p:cNvSpPr/>
          <p:nvPr/>
        </p:nvSpPr>
        <p:spPr>
          <a:xfrm>
            <a:off x="2259000" y="6091200"/>
            <a:ext cx="190440" cy="252360"/>
          </a:xfrm>
          <a:custGeom>
            <a:avLst/>
            <a:gdLst/>
            <a:ahLst/>
            <a:rect l="l" t="t" r="r" b="b"/>
            <a:pathLst>
              <a:path w="283" h="371">
                <a:moveTo>
                  <a:pt x="280" y="6"/>
                </a:moveTo>
                <a:cubicBezTo>
                  <a:pt x="277" y="3"/>
                  <a:pt x="274" y="0"/>
                  <a:pt x="268" y="0"/>
                </a:cubicBezTo>
                <a:lnTo>
                  <a:pt x="14" y="0"/>
                </a:lnTo>
                <a:cubicBezTo>
                  <a:pt x="11" y="0"/>
                  <a:pt x="6" y="3"/>
                  <a:pt x="3" y="6"/>
                </a:cubicBezTo>
                <a:cubicBezTo>
                  <a:pt x="0" y="9"/>
                  <a:pt x="0" y="11"/>
                  <a:pt x="0" y="17"/>
                </a:cubicBezTo>
                <a:lnTo>
                  <a:pt x="28" y="356"/>
                </a:lnTo>
                <a:cubicBezTo>
                  <a:pt x="28" y="364"/>
                  <a:pt x="34" y="370"/>
                  <a:pt x="43" y="370"/>
                </a:cubicBezTo>
                <a:lnTo>
                  <a:pt x="240" y="370"/>
                </a:lnTo>
                <a:cubicBezTo>
                  <a:pt x="249" y="370"/>
                  <a:pt x="254" y="364"/>
                  <a:pt x="254" y="356"/>
                </a:cubicBezTo>
                <a:lnTo>
                  <a:pt x="282" y="17"/>
                </a:lnTo>
                <a:cubicBezTo>
                  <a:pt x="282" y="11"/>
                  <a:pt x="282" y="9"/>
                  <a:pt x="280" y="6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83"/>
          <p:cNvSpPr/>
          <p:nvPr/>
        </p:nvSpPr>
        <p:spPr>
          <a:xfrm>
            <a:off x="2239920" y="6073920"/>
            <a:ext cx="230400" cy="3960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42"/>
                </a:move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4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42"/>
                </a:lnTo>
                <a:cubicBezTo>
                  <a:pt x="339" y="51"/>
                  <a:pt x="333" y="56"/>
                  <a:pt x="324" y="56"/>
                </a:cubicBezTo>
                <a:lnTo>
                  <a:pt x="14" y="56"/>
                </a:lnTo>
                <a:cubicBezTo>
                  <a:pt x="6" y="56"/>
                  <a:pt x="0" y="51"/>
                  <a:pt x="0" y="42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4"/>
          <p:cNvSpPr/>
          <p:nvPr/>
        </p:nvSpPr>
        <p:spPr>
          <a:xfrm>
            <a:off x="2266920" y="6188040"/>
            <a:ext cx="176400" cy="95400"/>
          </a:xfrm>
          <a:custGeom>
            <a:avLst/>
            <a:gdLst/>
            <a:ahLst/>
            <a:rect l="l" t="t" r="r" b="b"/>
            <a:pathLst>
              <a:path w="261" h="142">
                <a:moveTo>
                  <a:pt x="12" y="141"/>
                </a:moveTo>
                <a:lnTo>
                  <a:pt x="249" y="141"/>
                </a:lnTo>
                <a:lnTo>
                  <a:pt x="260" y="0"/>
                </a:lnTo>
                <a:lnTo>
                  <a:pt x="0" y="0"/>
                </a:lnTo>
                <a:lnTo>
                  <a:pt x="12" y="141"/>
                </a:ln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85"/>
          <p:cNvSpPr/>
          <p:nvPr/>
        </p:nvSpPr>
        <p:spPr>
          <a:xfrm>
            <a:off x="2336760" y="621504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56" y="29"/>
                </a:moveTo>
                <a:cubicBezTo>
                  <a:pt x="56" y="34"/>
                  <a:pt x="55" y="39"/>
                  <a:pt x="53" y="43"/>
                </a:cubicBezTo>
                <a:cubicBezTo>
                  <a:pt x="50" y="48"/>
                  <a:pt x="46" y="51"/>
                  <a:pt x="42" y="53"/>
                </a:cubicBezTo>
                <a:cubicBezTo>
                  <a:pt x="37" y="56"/>
                  <a:pt x="33" y="57"/>
                  <a:pt x="28" y="57"/>
                </a:cubicBezTo>
                <a:cubicBezTo>
                  <a:pt x="23" y="57"/>
                  <a:pt x="18" y="56"/>
                  <a:pt x="14" y="53"/>
                </a:cubicBezTo>
                <a:cubicBezTo>
                  <a:pt x="9" y="51"/>
                  <a:pt x="6" y="48"/>
                  <a:pt x="4" y="43"/>
                </a:cubicBezTo>
                <a:cubicBezTo>
                  <a:pt x="1" y="39"/>
                  <a:pt x="0" y="34"/>
                  <a:pt x="0" y="29"/>
                </a:cubicBezTo>
                <a:cubicBezTo>
                  <a:pt x="0" y="24"/>
                  <a:pt x="1" y="20"/>
                  <a:pt x="4" y="15"/>
                </a:cubicBezTo>
                <a:cubicBezTo>
                  <a:pt x="6" y="11"/>
                  <a:pt x="9" y="7"/>
                  <a:pt x="14" y="4"/>
                </a:cubicBezTo>
                <a:cubicBezTo>
                  <a:pt x="18" y="2"/>
                  <a:pt x="23" y="0"/>
                  <a:pt x="28" y="0"/>
                </a:cubicBezTo>
                <a:cubicBezTo>
                  <a:pt x="33" y="0"/>
                  <a:pt x="37" y="2"/>
                  <a:pt x="42" y="4"/>
                </a:cubicBezTo>
                <a:cubicBezTo>
                  <a:pt x="46" y="7"/>
                  <a:pt x="50" y="11"/>
                  <a:pt x="53" y="15"/>
                </a:cubicBezTo>
                <a:cubicBezTo>
                  <a:pt x="55" y="20"/>
                  <a:pt x="56" y="24"/>
                  <a:pt x="56" y="29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6"/>
          <p:cNvSpPr/>
          <p:nvPr/>
        </p:nvSpPr>
        <p:spPr>
          <a:xfrm>
            <a:off x="3159000" y="6148440"/>
            <a:ext cx="95400" cy="13500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111" y="0"/>
                  <a:pt x="142" y="31"/>
                  <a:pt x="142" y="70"/>
                </a:cubicBezTo>
                <a:lnTo>
                  <a:pt x="142" y="127"/>
                </a:lnTo>
                <a:cubicBezTo>
                  <a:pt x="142" y="166"/>
                  <a:pt x="111" y="197"/>
                  <a:pt x="71" y="197"/>
                </a:cubicBezTo>
                <a:close/>
                <a:moveTo>
                  <a:pt x="29" y="169"/>
                </a:moveTo>
                <a:lnTo>
                  <a:pt x="71" y="169"/>
                </a:lnTo>
                <a:cubicBezTo>
                  <a:pt x="94" y="169"/>
                  <a:pt x="113" y="149"/>
                  <a:pt x="113" y="127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lnTo>
                  <a:pt x="29" y="28"/>
                </a:lnTo>
                <a:lnTo>
                  <a:pt x="29" y="169"/>
                </a:lnTo>
                <a:close/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7"/>
          <p:cNvSpPr/>
          <p:nvPr/>
        </p:nvSpPr>
        <p:spPr>
          <a:xfrm>
            <a:off x="2963880" y="6148440"/>
            <a:ext cx="212760" cy="195120"/>
          </a:xfrm>
          <a:custGeom>
            <a:avLst/>
            <a:gdLst/>
            <a:ahLst/>
            <a:rect l="l" t="t" r="r" b="b"/>
            <a:pathLst>
              <a:path w="315" h="286">
                <a:moveTo>
                  <a:pt x="300" y="0"/>
                </a:moveTo>
                <a:lnTo>
                  <a:pt x="17" y="0"/>
                </a:lnTo>
                <a:cubicBezTo>
                  <a:pt x="12" y="0"/>
                  <a:pt x="6" y="3"/>
                  <a:pt x="3" y="8"/>
                </a:cubicBezTo>
                <a:cubicBezTo>
                  <a:pt x="0" y="14"/>
                  <a:pt x="3" y="19"/>
                  <a:pt x="9" y="25"/>
                </a:cubicBezTo>
                <a:lnTo>
                  <a:pt x="60" y="65"/>
                </a:lnTo>
                <a:lnTo>
                  <a:pt x="60" y="257"/>
                </a:lnTo>
                <a:cubicBezTo>
                  <a:pt x="60" y="273"/>
                  <a:pt x="71" y="285"/>
                  <a:pt x="88" y="285"/>
                </a:cubicBezTo>
                <a:lnTo>
                  <a:pt x="285" y="285"/>
                </a:lnTo>
                <a:cubicBezTo>
                  <a:pt x="302" y="285"/>
                  <a:pt x="314" y="273"/>
                  <a:pt x="314" y="257"/>
                </a:cubicBezTo>
                <a:lnTo>
                  <a:pt x="314" y="17"/>
                </a:lnTo>
                <a:cubicBezTo>
                  <a:pt x="314" y="5"/>
                  <a:pt x="308" y="0"/>
                  <a:pt x="30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8"/>
          <p:cNvSpPr/>
          <p:nvPr/>
        </p:nvSpPr>
        <p:spPr>
          <a:xfrm>
            <a:off x="3084480" y="6110280"/>
            <a:ext cx="20520" cy="152280"/>
          </a:xfrm>
          <a:custGeom>
            <a:avLst/>
            <a:gdLst/>
            <a:ahLst/>
            <a:rect l="l" t="t" r="r" b="b"/>
            <a:pathLst>
              <a:path w="29" h="227">
                <a:moveTo>
                  <a:pt x="14" y="226"/>
                </a:moveTo>
                <a:cubicBezTo>
                  <a:pt x="5" y="226"/>
                  <a:pt x="0" y="220"/>
                  <a:pt x="0" y="212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212"/>
                </a:lnTo>
                <a:cubicBezTo>
                  <a:pt x="28" y="220"/>
                  <a:pt x="22" y="226"/>
                  <a:pt x="14" y="22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89"/>
          <p:cNvSpPr/>
          <p:nvPr/>
        </p:nvSpPr>
        <p:spPr>
          <a:xfrm>
            <a:off x="3024360" y="6243480"/>
            <a:ext cx="134640" cy="22320"/>
          </a:xfrm>
          <a:custGeom>
            <a:avLst/>
            <a:gdLst/>
            <a:ahLst/>
            <a:rect l="l" t="t" r="r" b="b"/>
            <a:pathLst>
              <a:path w="198" h="29">
                <a:moveTo>
                  <a:pt x="183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83" y="0"/>
                </a:lnTo>
                <a:cubicBezTo>
                  <a:pt x="192" y="0"/>
                  <a:pt x="197" y="6"/>
                  <a:pt x="197" y="14"/>
                </a:cubicBezTo>
                <a:cubicBezTo>
                  <a:pt x="197" y="23"/>
                  <a:pt x="192" y="28"/>
                  <a:pt x="183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90"/>
          <p:cNvSpPr/>
          <p:nvPr/>
        </p:nvSpPr>
        <p:spPr>
          <a:xfrm>
            <a:off x="3024360" y="6262560"/>
            <a:ext cx="134640" cy="59040"/>
          </a:xfrm>
          <a:custGeom>
            <a:avLst/>
            <a:gdLst/>
            <a:ahLst/>
            <a:rect l="l" t="t" r="r" b="b"/>
            <a:pathLst>
              <a:path w="198" h="86">
                <a:moveTo>
                  <a:pt x="99" y="85"/>
                </a:moveTo>
                <a:lnTo>
                  <a:pt x="0" y="85"/>
                </a:lnTo>
                <a:lnTo>
                  <a:pt x="0" y="0"/>
                </a:lnTo>
                <a:lnTo>
                  <a:pt x="197" y="0"/>
                </a:lnTo>
                <a:lnTo>
                  <a:pt x="197" y="85"/>
                </a:lnTo>
                <a:lnTo>
                  <a:pt x="99" y="85"/>
                </a:ln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1"/>
          <p:cNvSpPr/>
          <p:nvPr/>
        </p:nvSpPr>
        <p:spPr>
          <a:xfrm>
            <a:off x="3062160" y="6035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3"/>
                </a:moveTo>
                <a:cubicBezTo>
                  <a:pt x="85" y="51"/>
                  <a:pt x="83" y="57"/>
                  <a:pt x="79" y="64"/>
                </a:cubicBezTo>
                <a:cubicBezTo>
                  <a:pt x="75" y="71"/>
                  <a:pt x="71" y="76"/>
                  <a:pt x="64" y="79"/>
                </a:cubicBezTo>
                <a:cubicBezTo>
                  <a:pt x="57" y="83"/>
                  <a:pt x="51" y="85"/>
                  <a:pt x="43" y="85"/>
                </a:cubicBezTo>
                <a:cubicBezTo>
                  <a:pt x="35" y="85"/>
                  <a:pt x="28" y="83"/>
                  <a:pt x="22" y="79"/>
                </a:cubicBezTo>
                <a:cubicBezTo>
                  <a:pt x="15" y="76"/>
                  <a:pt x="10" y="71"/>
                  <a:pt x="6" y="64"/>
                </a:cubicBezTo>
                <a:cubicBezTo>
                  <a:pt x="2" y="57"/>
                  <a:pt x="0" y="51"/>
                  <a:pt x="0" y="43"/>
                </a:cubicBezTo>
                <a:cubicBezTo>
                  <a:pt x="0" y="35"/>
                  <a:pt x="2" y="29"/>
                  <a:pt x="6" y="22"/>
                </a:cubicBezTo>
                <a:cubicBezTo>
                  <a:pt x="10" y="16"/>
                  <a:pt x="15" y="10"/>
                  <a:pt x="22" y="6"/>
                </a:cubicBezTo>
                <a:cubicBezTo>
                  <a:pt x="28" y="2"/>
                  <a:pt x="35" y="0"/>
                  <a:pt x="43" y="0"/>
                </a:cubicBezTo>
                <a:cubicBezTo>
                  <a:pt x="51" y="0"/>
                  <a:pt x="57" y="2"/>
                  <a:pt x="64" y="6"/>
                </a:cubicBezTo>
                <a:cubicBezTo>
                  <a:pt x="71" y="10"/>
                  <a:pt x="75" y="16"/>
                  <a:pt x="79" y="22"/>
                </a:cubicBezTo>
                <a:cubicBezTo>
                  <a:pt x="83" y="29"/>
                  <a:pt x="85" y="35"/>
                  <a:pt x="85" y="43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2"/>
          <p:cNvSpPr/>
          <p:nvPr/>
        </p:nvSpPr>
        <p:spPr>
          <a:xfrm>
            <a:off x="3006720" y="6091200"/>
            <a:ext cx="173160" cy="39600"/>
          </a:xfrm>
          <a:custGeom>
            <a:avLst/>
            <a:gdLst/>
            <a:ahLst/>
            <a:rect l="l" t="t" r="r" b="b"/>
            <a:pathLst>
              <a:path w="255" h="58">
                <a:moveTo>
                  <a:pt x="254" y="57"/>
                </a:moveTo>
                <a:lnTo>
                  <a:pt x="0" y="57"/>
                </a:ln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3"/>
          <p:cNvSpPr/>
          <p:nvPr/>
        </p:nvSpPr>
        <p:spPr>
          <a:xfrm>
            <a:off x="3941640" y="61484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cubicBezTo>
                  <a:pt x="0" y="175"/>
                  <a:pt x="6" y="169"/>
                  <a:pt x="15" y="169"/>
                </a:cubicBezTo>
                <a:lnTo>
                  <a:pt x="71" y="169"/>
                </a:lnTo>
                <a:cubicBezTo>
                  <a:pt x="80" y="169"/>
                  <a:pt x="85" y="163"/>
                  <a:pt x="85" y="155"/>
                </a:cubicBezTo>
                <a:lnTo>
                  <a:pt x="85" y="42"/>
                </a:lnTo>
                <a:cubicBezTo>
                  <a:pt x="85" y="34"/>
                  <a:pt x="80" y="28"/>
                  <a:pt x="71" y="28"/>
                </a:cubicBez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94" y="0"/>
                  <a:pt x="113" y="19"/>
                  <a:pt x="113" y="42"/>
                </a:cubicBezTo>
                <a:lnTo>
                  <a:pt x="113" y="155"/>
                </a:lnTo>
                <a:cubicBezTo>
                  <a:pt x="113" y="178"/>
                  <a:pt x="94" y="197"/>
                  <a:pt x="71" y="19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94"/>
          <p:cNvSpPr/>
          <p:nvPr/>
        </p:nvSpPr>
        <p:spPr>
          <a:xfrm>
            <a:off x="3751200" y="6124680"/>
            <a:ext cx="212760" cy="215640"/>
          </a:xfrm>
          <a:custGeom>
            <a:avLst/>
            <a:gdLst/>
            <a:ahLst/>
            <a:rect l="l" t="t" r="r" b="b"/>
            <a:pathLst>
              <a:path w="312" h="317">
                <a:moveTo>
                  <a:pt x="297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259"/>
                </a:lnTo>
                <a:cubicBezTo>
                  <a:pt x="0" y="291"/>
                  <a:pt x="26" y="316"/>
                  <a:pt x="57" y="316"/>
                </a:cubicBezTo>
                <a:lnTo>
                  <a:pt x="254" y="316"/>
                </a:lnTo>
                <a:cubicBezTo>
                  <a:pt x="285" y="316"/>
                  <a:pt x="311" y="291"/>
                  <a:pt x="311" y="259"/>
                </a:cubicBezTo>
                <a:lnTo>
                  <a:pt x="311" y="14"/>
                </a:lnTo>
                <a:cubicBezTo>
                  <a:pt x="311" y="6"/>
                  <a:pt x="305" y="0"/>
                  <a:pt x="297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5"/>
          <p:cNvSpPr/>
          <p:nvPr/>
        </p:nvSpPr>
        <p:spPr>
          <a:xfrm>
            <a:off x="388620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2" y="141"/>
                  <a:pt x="14" y="141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381168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7"/>
          <p:cNvSpPr/>
          <p:nvPr/>
        </p:nvSpPr>
        <p:spPr>
          <a:xfrm>
            <a:off x="3741840" y="6035760"/>
            <a:ext cx="230040" cy="172800"/>
          </a:xfrm>
          <a:custGeom>
            <a:avLst/>
            <a:gdLst/>
            <a:ahLst/>
            <a:rect l="l" t="t" r="r" b="b"/>
            <a:pathLst>
              <a:path w="340" h="255">
                <a:moveTo>
                  <a:pt x="268" y="43"/>
                </a:moveTo>
                <a:cubicBezTo>
                  <a:pt x="257" y="43"/>
                  <a:pt x="246" y="46"/>
                  <a:pt x="237" y="51"/>
                </a:cubicBezTo>
                <a:cubicBezTo>
                  <a:pt x="229" y="23"/>
                  <a:pt x="201" y="0"/>
                  <a:pt x="170" y="0"/>
                </a:cubicBezTo>
                <a:cubicBezTo>
                  <a:pt x="138" y="0"/>
                  <a:pt x="110" y="20"/>
                  <a:pt x="102" y="51"/>
                </a:cubicBezTo>
                <a:cubicBezTo>
                  <a:pt x="93" y="46"/>
                  <a:pt x="82" y="43"/>
                  <a:pt x="71" y="43"/>
                </a:cubicBezTo>
                <a:cubicBezTo>
                  <a:pt x="31" y="43"/>
                  <a:pt x="0" y="74"/>
                  <a:pt x="0" y="113"/>
                </a:cubicBezTo>
                <a:cubicBezTo>
                  <a:pt x="0" y="153"/>
                  <a:pt x="31" y="184"/>
                  <a:pt x="71" y="184"/>
                </a:cubicBezTo>
                <a:lnTo>
                  <a:pt x="71" y="212"/>
                </a:lnTo>
                <a:cubicBezTo>
                  <a:pt x="71" y="235"/>
                  <a:pt x="90" y="254"/>
                  <a:pt x="113" y="254"/>
                </a:cubicBezTo>
                <a:cubicBezTo>
                  <a:pt x="136" y="254"/>
                  <a:pt x="155" y="235"/>
                  <a:pt x="155" y="212"/>
                </a:cubicBezTo>
                <a:lnTo>
                  <a:pt x="155" y="192"/>
                </a:lnTo>
                <a:cubicBezTo>
                  <a:pt x="181" y="204"/>
                  <a:pt x="215" y="198"/>
                  <a:pt x="234" y="175"/>
                </a:cubicBezTo>
                <a:cubicBezTo>
                  <a:pt x="246" y="181"/>
                  <a:pt x="257" y="184"/>
                  <a:pt x="268" y="184"/>
                </a:cubicBezTo>
                <a:cubicBezTo>
                  <a:pt x="308" y="184"/>
                  <a:pt x="339" y="153"/>
                  <a:pt x="339" y="113"/>
                </a:cubicBezTo>
                <a:cubicBezTo>
                  <a:pt x="339" y="74"/>
                  <a:pt x="308" y="43"/>
                  <a:pt x="268" y="43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8"/>
          <p:cNvSpPr/>
          <p:nvPr/>
        </p:nvSpPr>
        <p:spPr>
          <a:xfrm>
            <a:off x="4708440" y="6165720"/>
            <a:ext cx="9864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74" y="141"/>
                </a:moveTo>
                <a:lnTo>
                  <a:pt x="15" y="141"/>
                </a:lnTo>
                <a:cubicBezTo>
                  <a:pt x="6" y="141"/>
                  <a:pt x="0" y="136"/>
                  <a:pt x="0" y="127"/>
                </a:cubicBezTo>
                <a:cubicBezTo>
                  <a:pt x="0" y="119"/>
                  <a:pt x="6" y="113"/>
                  <a:pt x="15" y="113"/>
                </a:cubicBezTo>
                <a:lnTo>
                  <a:pt x="74" y="113"/>
                </a:lnTo>
                <a:cubicBezTo>
                  <a:pt x="85" y="113"/>
                  <a:pt x="96" y="107"/>
                  <a:pt x="105" y="102"/>
                </a:cubicBezTo>
                <a:cubicBezTo>
                  <a:pt x="113" y="93"/>
                  <a:pt x="116" y="82"/>
                  <a:pt x="116" y="70"/>
                </a:cubicBezTo>
                <a:cubicBezTo>
                  <a:pt x="116" y="48"/>
                  <a:pt x="96" y="28"/>
                  <a:pt x="74" y="28"/>
                </a:cubicBezTo>
                <a:lnTo>
                  <a:pt x="17" y="28"/>
                </a:lnTo>
                <a:cubicBezTo>
                  <a:pt x="9" y="28"/>
                  <a:pt x="3" y="23"/>
                  <a:pt x="3" y="14"/>
                </a:cubicBezTo>
                <a:cubicBezTo>
                  <a:pt x="3" y="6"/>
                  <a:pt x="9" y="0"/>
                  <a:pt x="17" y="0"/>
                </a:cubicBezTo>
                <a:lnTo>
                  <a:pt x="74" y="0"/>
                </a:lnTo>
                <a:cubicBezTo>
                  <a:pt x="113" y="0"/>
                  <a:pt x="144" y="31"/>
                  <a:pt x="144" y="70"/>
                </a:cubicBezTo>
                <a:cubicBezTo>
                  <a:pt x="144" y="90"/>
                  <a:pt x="136" y="107"/>
                  <a:pt x="125" y="121"/>
                </a:cubicBezTo>
                <a:cubicBezTo>
                  <a:pt x="111" y="133"/>
                  <a:pt x="94" y="141"/>
                  <a:pt x="74" y="141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99"/>
          <p:cNvSpPr/>
          <p:nvPr/>
        </p:nvSpPr>
        <p:spPr>
          <a:xfrm>
            <a:off x="4537080" y="6053040"/>
            <a:ext cx="174600" cy="115920"/>
          </a:xfrm>
          <a:custGeom>
            <a:avLst/>
            <a:gdLst/>
            <a:ahLst/>
            <a:rect l="l" t="t" r="r" b="b"/>
            <a:pathLst>
              <a:path w="255" h="170">
                <a:moveTo>
                  <a:pt x="198" y="84"/>
                </a:moveTo>
                <a:cubicBezTo>
                  <a:pt x="198" y="53"/>
                  <a:pt x="172" y="28"/>
                  <a:pt x="141" y="28"/>
                </a:cubicBezTo>
                <a:lnTo>
                  <a:pt x="139" y="28"/>
                </a:lnTo>
                <a:cubicBezTo>
                  <a:pt x="124" y="11"/>
                  <a:pt x="108" y="2"/>
                  <a:pt x="108" y="2"/>
                </a:cubicBezTo>
                <a:cubicBezTo>
                  <a:pt x="102" y="0"/>
                  <a:pt x="96" y="0"/>
                  <a:pt x="91" y="2"/>
                </a:cubicBezTo>
                <a:cubicBezTo>
                  <a:pt x="85" y="5"/>
                  <a:pt x="85" y="14"/>
                  <a:pt x="88" y="19"/>
                </a:cubicBezTo>
                <a:cubicBezTo>
                  <a:pt x="88" y="19"/>
                  <a:pt x="91" y="25"/>
                  <a:pt x="91" y="33"/>
                </a:cubicBezTo>
                <a:cubicBezTo>
                  <a:pt x="71" y="42"/>
                  <a:pt x="57" y="62"/>
                  <a:pt x="57" y="84"/>
                </a:cubicBezTo>
                <a:cubicBezTo>
                  <a:pt x="26" y="84"/>
                  <a:pt x="0" y="110"/>
                  <a:pt x="0" y="141"/>
                </a:cubicBezTo>
                <a:lnTo>
                  <a:pt x="0" y="155"/>
                </a:lnTo>
                <a:cubicBezTo>
                  <a:pt x="0" y="163"/>
                  <a:pt x="6" y="169"/>
                  <a:pt x="14" y="169"/>
                </a:cubicBezTo>
                <a:lnTo>
                  <a:pt x="240" y="169"/>
                </a:lnTo>
                <a:cubicBezTo>
                  <a:pt x="249" y="169"/>
                  <a:pt x="254" y="163"/>
                  <a:pt x="254" y="155"/>
                </a:cubicBezTo>
                <a:lnTo>
                  <a:pt x="254" y="141"/>
                </a:lnTo>
                <a:cubicBezTo>
                  <a:pt x="254" y="110"/>
                  <a:pt x="229" y="84"/>
                  <a:pt x="198" y="84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0"/>
          <p:cNvSpPr/>
          <p:nvPr/>
        </p:nvSpPr>
        <p:spPr>
          <a:xfrm>
            <a:off x="4516560" y="6148440"/>
            <a:ext cx="212760" cy="173160"/>
          </a:xfrm>
          <a:custGeom>
            <a:avLst/>
            <a:gdLst/>
            <a:ahLst/>
            <a:rect l="l" t="t" r="r" b="b"/>
            <a:pathLst>
              <a:path w="311" h="255">
                <a:moveTo>
                  <a:pt x="296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127"/>
                </a:lnTo>
                <a:cubicBezTo>
                  <a:pt x="0" y="197"/>
                  <a:pt x="57" y="254"/>
                  <a:pt x="127" y="254"/>
                </a:cubicBezTo>
                <a:lnTo>
                  <a:pt x="184" y="254"/>
                </a:lnTo>
                <a:cubicBezTo>
                  <a:pt x="254" y="254"/>
                  <a:pt x="310" y="197"/>
                  <a:pt x="310" y="127"/>
                </a:cubicBezTo>
                <a:lnTo>
                  <a:pt x="310" y="14"/>
                </a:lnTo>
                <a:cubicBezTo>
                  <a:pt x="310" y="5"/>
                  <a:pt x="305" y="0"/>
                  <a:pt x="296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1"/>
          <p:cNvSpPr/>
          <p:nvPr/>
        </p:nvSpPr>
        <p:spPr>
          <a:xfrm>
            <a:off x="6891480" y="2971800"/>
            <a:ext cx="212760" cy="270000"/>
          </a:xfrm>
          <a:custGeom>
            <a:avLst/>
            <a:gdLst/>
            <a:ahLst/>
            <a:rect l="l" t="t" r="r" b="b"/>
            <a:pathLst>
              <a:path w="312" h="396">
                <a:moveTo>
                  <a:pt x="282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367"/>
                </a:lnTo>
                <a:cubicBezTo>
                  <a:pt x="0" y="384"/>
                  <a:pt x="12" y="395"/>
                  <a:pt x="29" y="395"/>
                </a:cubicBezTo>
                <a:lnTo>
                  <a:pt x="282" y="395"/>
                </a:lnTo>
                <a:cubicBezTo>
                  <a:pt x="299" y="395"/>
                  <a:pt x="311" y="384"/>
                  <a:pt x="311" y="367"/>
                </a:cubicBezTo>
                <a:lnTo>
                  <a:pt x="311" y="29"/>
                </a:lnTo>
                <a:cubicBezTo>
                  <a:pt x="311" y="12"/>
                  <a:pt x="299" y="0"/>
                  <a:pt x="282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02"/>
          <p:cNvSpPr/>
          <p:nvPr/>
        </p:nvSpPr>
        <p:spPr>
          <a:xfrm>
            <a:off x="6931080" y="3011400"/>
            <a:ext cx="135000" cy="55800"/>
          </a:xfrm>
          <a:custGeom>
            <a:avLst/>
            <a:gdLst/>
            <a:ahLst/>
            <a:rect l="l" t="t" r="r" b="b"/>
            <a:pathLst>
              <a:path w="198" h="85">
                <a:moveTo>
                  <a:pt x="183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183" y="84"/>
                </a:lnTo>
                <a:cubicBezTo>
                  <a:pt x="192" y="84"/>
                  <a:pt x="197" y="79"/>
                  <a:pt x="197" y="70"/>
                </a:cubicBezTo>
                <a:lnTo>
                  <a:pt x="197" y="14"/>
                </a:lnTo>
                <a:cubicBezTo>
                  <a:pt x="197" y="5"/>
                  <a:pt x="192" y="0"/>
                  <a:pt x="18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03"/>
          <p:cNvSpPr/>
          <p:nvPr/>
        </p:nvSpPr>
        <p:spPr>
          <a:xfrm>
            <a:off x="6796080" y="3049560"/>
            <a:ext cx="230040" cy="230040"/>
          </a:xfrm>
          <a:custGeom>
            <a:avLst/>
            <a:gdLst/>
            <a:ahLst/>
            <a:rect l="l" t="t" r="r" b="b"/>
            <a:pathLst>
              <a:path w="340" h="340">
                <a:moveTo>
                  <a:pt x="339" y="169"/>
                </a:moveTo>
                <a:cubicBezTo>
                  <a:pt x="339" y="201"/>
                  <a:pt x="332" y="227"/>
                  <a:pt x="316" y="254"/>
                </a:cubicBezTo>
                <a:cubicBezTo>
                  <a:pt x="301" y="281"/>
                  <a:pt x="281" y="300"/>
                  <a:pt x="254" y="316"/>
                </a:cubicBezTo>
                <a:cubicBezTo>
                  <a:pt x="227" y="331"/>
                  <a:pt x="202" y="339"/>
                  <a:pt x="170" y="339"/>
                </a:cubicBezTo>
                <a:cubicBezTo>
                  <a:pt x="139" y="339"/>
                  <a:pt x="112" y="331"/>
                  <a:pt x="85" y="316"/>
                </a:cubicBezTo>
                <a:cubicBezTo>
                  <a:pt x="58" y="300"/>
                  <a:pt x="39" y="281"/>
                  <a:pt x="23" y="254"/>
                </a:cubicBezTo>
                <a:cubicBezTo>
                  <a:pt x="8" y="227"/>
                  <a:pt x="0" y="200"/>
                  <a:pt x="0" y="169"/>
                </a:cubicBezTo>
                <a:cubicBezTo>
                  <a:pt x="0" y="137"/>
                  <a:pt x="8" y="112"/>
                  <a:pt x="23" y="85"/>
                </a:cubicBezTo>
                <a:cubicBezTo>
                  <a:pt x="39" y="58"/>
                  <a:pt x="58" y="38"/>
                  <a:pt x="85" y="23"/>
                </a:cubicBezTo>
                <a:cubicBezTo>
                  <a:pt x="112" y="7"/>
                  <a:pt x="138" y="0"/>
                  <a:pt x="170" y="0"/>
                </a:cubicBezTo>
                <a:cubicBezTo>
                  <a:pt x="201" y="0"/>
                  <a:pt x="227" y="7"/>
                  <a:pt x="254" y="23"/>
                </a:cubicBezTo>
                <a:cubicBezTo>
                  <a:pt x="281" y="38"/>
                  <a:pt x="301" y="58"/>
                  <a:pt x="316" y="85"/>
                </a:cubicBezTo>
                <a:cubicBezTo>
                  <a:pt x="332" y="112"/>
                  <a:pt x="339" y="138"/>
                  <a:pt x="339" y="16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04"/>
          <p:cNvSpPr/>
          <p:nvPr/>
        </p:nvSpPr>
        <p:spPr>
          <a:xfrm>
            <a:off x="7043760" y="310680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05"/>
          <p:cNvSpPr/>
          <p:nvPr/>
        </p:nvSpPr>
        <p:spPr>
          <a:xfrm>
            <a:off x="7043760" y="3164040"/>
            <a:ext cx="223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06"/>
          <p:cNvSpPr/>
          <p:nvPr/>
        </p:nvSpPr>
        <p:spPr>
          <a:xfrm>
            <a:off x="6862680" y="3086280"/>
            <a:ext cx="5868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7"/>
          <p:cNvSpPr/>
          <p:nvPr/>
        </p:nvSpPr>
        <p:spPr>
          <a:xfrm>
            <a:off x="6900840" y="31813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08"/>
          <p:cNvSpPr/>
          <p:nvPr/>
        </p:nvSpPr>
        <p:spPr>
          <a:xfrm>
            <a:off x="6862680" y="3103560"/>
            <a:ext cx="101520" cy="115920"/>
          </a:xfrm>
          <a:custGeom>
            <a:avLst/>
            <a:gdLst/>
            <a:ahLst/>
            <a:rect l="l" t="t" r="r" b="b"/>
            <a:pathLst>
              <a:path w="148" h="173">
                <a:moveTo>
                  <a:pt x="17" y="172"/>
                </a:moveTo>
                <a:cubicBezTo>
                  <a:pt x="14" y="172"/>
                  <a:pt x="11" y="172"/>
                  <a:pt x="9" y="169"/>
                </a:cubicBezTo>
                <a:cubicBezTo>
                  <a:pt x="3" y="164"/>
                  <a:pt x="0" y="155"/>
                  <a:pt x="6" y="150"/>
                </a:cubicBezTo>
                <a:lnTo>
                  <a:pt x="119" y="8"/>
                </a:lnTo>
                <a:cubicBezTo>
                  <a:pt x="124" y="3"/>
                  <a:pt x="133" y="0"/>
                  <a:pt x="138" y="6"/>
                </a:cubicBezTo>
                <a:cubicBezTo>
                  <a:pt x="144" y="11"/>
                  <a:pt x="147" y="20"/>
                  <a:pt x="141" y="25"/>
                </a:cubicBezTo>
                <a:lnTo>
                  <a:pt x="28" y="167"/>
                </a:lnTo>
                <a:cubicBezTo>
                  <a:pt x="26" y="169"/>
                  <a:pt x="20" y="172"/>
                  <a:pt x="17" y="17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09"/>
          <p:cNvSpPr/>
          <p:nvPr/>
        </p:nvSpPr>
        <p:spPr>
          <a:xfrm>
            <a:off x="7580160" y="3106800"/>
            <a:ext cx="268560" cy="17280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92" y="5"/>
                </a:moveTo>
                <a:cubicBezTo>
                  <a:pt x="390" y="3"/>
                  <a:pt x="387" y="0"/>
                  <a:pt x="381" y="0"/>
                </a:cubicBezTo>
                <a:lnTo>
                  <a:pt x="14" y="0"/>
                </a:lnTo>
                <a:cubicBezTo>
                  <a:pt x="9" y="0"/>
                  <a:pt x="6" y="3"/>
                  <a:pt x="3" y="5"/>
                </a:cubicBezTo>
                <a:cubicBezTo>
                  <a:pt x="0" y="8"/>
                  <a:pt x="0" y="14"/>
                  <a:pt x="0" y="17"/>
                </a:cubicBezTo>
                <a:lnTo>
                  <a:pt x="57" y="243"/>
                </a:lnTo>
                <a:cubicBezTo>
                  <a:pt x="59" y="248"/>
                  <a:pt x="65" y="254"/>
                  <a:pt x="71" y="254"/>
                </a:cubicBezTo>
                <a:lnTo>
                  <a:pt x="325" y="254"/>
                </a:lnTo>
                <a:cubicBezTo>
                  <a:pt x="330" y="254"/>
                  <a:pt x="336" y="248"/>
                  <a:pt x="339" y="243"/>
                </a:cubicBezTo>
                <a:lnTo>
                  <a:pt x="395" y="17"/>
                </a:lnTo>
                <a:cubicBezTo>
                  <a:pt x="395" y="14"/>
                  <a:pt x="395" y="8"/>
                  <a:pt x="392" y="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0"/>
          <p:cNvSpPr/>
          <p:nvPr/>
        </p:nvSpPr>
        <p:spPr>
          <a:xfrm>
            <a:off x="7561440" y="3067200"/>
            <a:ext cx="30924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437" y="85"/>
                </a:lnTo>
                <a:cubicBezTo>
                  <a:pt x="446" y="85"/>
                  <a:pt x="451" y="79"/>
                  <a:pt x="451" y="71"/>
                </a:cubicBezTo>
                <a:lnTo>
                  <a:pt x="451" y="15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11"/>
          <p:cNvSpPr/>
          <p:nvPr/>
        </p:nvSpPr>
        <p:spPr>
          <a:xfrm>
            <a:off x="770580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12"/>
          <p:cNvSpPr/>
          <p:nvPr/>
        </p:nvSpPr>
        <p:spPr>
          <a:xfrm>
            <a:off x="765828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13"/>
          <p:cNvSpPr/>
          <p:nvPr/>
        </p:nvSpPr>
        <p:spPr>
          <a:xfrm>
            <a:off x="775332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4"/>
          <p:cNvSpPr/>
          <p:nvPr/>
        </p:nvSpPr>
        <p:spPr>
          <a:xfrm>
            <a:off x="7597800" y="3011400"/>
            <a:ext cx="77760" cy="55800"/>
          </a:xfrm>
          <a:custGeom>
            <a:avLst/>
            <a:gdLst/>
            <a:ahLst/>
            <a:rect l="l" t="t" r="r" b="b"/>
            <a:pathLst>
              <a:path w="114" h="85">
                <a:moveTo>
                  <a:pt x="113" y="84"/>
                </a:moveTo>
                <a:lnTo>
                  <a:pt x="0" y="84"/>
                </a:ln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lnTo>
                  <a:pt x="113" y="84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15"/>
          <p:cNvSpPr/>
          <p:nvPr/>
        </p:nvSpPr>
        <p:spPr>
          <a:xfrm>
            <a:off x="7675560" y="2971800"/>
            <a:ext cx="77760" cy="9540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113" y="141"/>
                </a:moveTo>
                <a:lnTo>
                  <a:pt x="0" y="141"/>
                </a:ln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6"/>
                  <a:pt x="113" y="14"/>
                </a:cubicBezTo>
                <a:lnTo>
                  <a:pt x="113" y="141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16"/>
          <p:cNvSpPr/>
          <p:nvPr/>
        </p:nvSpPr>
        <p:spPr>
          <a:xfrm>
            <a:off x="7753320" y="299232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112"/>
                </a:moveTo>
                <a:lnTo>
                  <a:pt x="0" y="112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5"/>
                  <a:pt x="113" y="14"/>
                </a:cubicBezTo>
                <a:lnTo>
                  <a:pt x="113" y="112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17"/>
          <p:cNvSpPr/>
          <p:nvPr/>
        </p:nvSpPr>
        <p:spPr>
          <a:xfrm>
            <a:off x="8327880" y="3011400"/>
            <a:ext cx="308160" cy="21132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282"/>
                </a:lnTo>
                <a:cubicBezTo>
                  <a:pt x="0" y="299"/>
                  <a:pt x="11" y="310"/>
                  <a:pt x="28" y="310"/>
                </a:cubicBezTo>
                <a:lnTo>
                  <a:pt x="423" y="310"/>
                </a:lnTo>
                <a:cubicBezTo>
                  <a:pt x="440" y="310"/>
                  <a:pt x="451" y="299"/>
                  <a:pt x="451" y="282"/>
                </a:cubicBezTo>
                <a:lnTo>
                  <a:pt x="451" y="28"/>
                </a:lnTo>
                <a:cubicBezTo>
                  <a:pt x="451" y="11"/>
                  <a:pt x="440" y="0"/>
                  <a:pt x="423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18"/>
          <p:cNvSpPr/>
          <p:nvPr/>
        </p:nvSpPr>
        <p:spPr>
          <a:xfrm>
            <a:off x="836604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29"/>
                </a:moveTo>
                <a:cubicBezTo>
                  <a:pt x="51" y="29"/>
                  <a:pt x="57" y="23"/>
                  <a:pt x="57" y="15"/>
                </a:cubicBezTo>
                <a:cubicBezTo>
                  <a:pt x="57" y="6"/>
                  <a:pt x="51" y="0"/>
                  <a:pt x="43" y="0"/>
                </a:cubicBez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57"/>
                </a:lnTo>
                <a:cubicBezTo>
                  <a:pt x="0" y="74"/>
                  <a:pt x="11" y="85"/>
                  <a:pt x="28" y="85"/>
                </a:cubicBezTo>
                <a:lnTo>
                  <a:pt x="28" y="113"/>
                </a:lnTo>
                <a:lnTo>
                  <a:pt x="14" y="113"/>
                </a:lnTo>
                <a:cubicBezTo>
                  <a:pt x="6" y="113"/>
                  <a:pt x="0" y="118"/>
                  <a:pt x="0" y="127"/>
                </a:cubicBezTo>
                <a:cubicBezTo>
                  <a:pt x="0" y="135"/>
                  <a:pt x="6" y="141"/>
                  <a:pt x="14" y="141"/>
                </a:cubicBezTo>
                <a:lnTo>
                  <a:pt x="28" y="141"/>
                </a:lnTo>
                <a:cubicBezTo>
                  <a:pt x="45" y="141"/>
                  <a:pt x="57" y="130"/>
                  <a:pt x="57" y="113"/>
                </a:cubicBezTo>
                <a:lnTo>
                  <a:pt x="57" y="85"/>
                </a:lnTo>
                <a:cubicBezTo>
                  <a:pt x="57" y="68"/>
                  <a:pt x="45" y="57"/>
                  <a:pt x="28" y="57"/>
                </a:cubicBezTo>
                <a:lnTo>
                  <a:pt x="28" y="29"/>
                </a:lnTo>
                <a:lnTo>
                  <a:pt x="43" y="2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19"/>
          <p:cNvSpPr/>
          <p:nvPr/>
        </p:nvSpPr>
        <p:spPr>
          <a:xfrm>
            <a:off x="8497800" y="3067200"/>
            <a:ext cx="39600" cy="968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42" y="113"/>
                </a:moveTo>
                <a:lnTo>
                  <a:pt x="28" y="113"/>
                </a:lnTo>
                <a:lnTo>
                  <a:pt x="28" y="15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5" y="141"/>
                  <a:pt x="14" y="141"/>
                </a:cubicBezTo>
                <a:lnTo>
                  <a:pt x="42" y="141"/>
                </a:lnTo>
                <a:cubicBezTo>
                  <a:pt x="51" y="141"/>
                  <a:pt x="56" y="135"/>
                  <a:pt x="56" y="127"/>
                </a:cubicBezTo>
                <a:cubicBezTo>
                  <a:pt x="56" y="118"/>
                  <a:pt x="51" y="113"/>
                  <a:pt x="42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0"/>
          <p:cNvSpPr/>
          <p:nvPr/>
        </p:nvSpPr>
        <p:spPr>
          <a:xfrm>
            <a:off x="855504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85"/>
                </a:moveTo>
                <a:cubicBezTo>
                  <a:pt x="51" y="85"/>
                  <a:pt x="57" y="79"/>
                  <a:pt x="57" y="71"/>
                </a:cubicBezTo>
                <a:cubicBezTo>
                  <a:pt x="57" y="62"/>
                  <a:pt x="51" y="57"/>
                  <a:pt x="43" y="57"/>
                </a:cubicBezTo>
                <a:lnTo>
                  <a:pt x="29" y="57"/>
                </a:lnTo>
                <a:lnTo>
                  <a:pt x="29" y="29"/>
                </a:lnTo>
                <a:lnTo>
                  <a:pt x="43" y="29"/>
                </a:lnTo>
                <a:cubicBezTo>
                  <a:pt x="51" y="29"/>
                  <a:pt x="57" y="23"/>
                  <a:pt x="57" y="15"/>
                </a:cubicBezTo>
                <a:cubicBezTo>
                  <a:pt x="57" y="6"/>
                  <a:pt x="51" y="0"/>
                  <a:pt x="43" y="0"/>
                </a:cubicBez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43" y="141"/>
                </a:lnTo>
                <a:cubicBezTo>
                  <a:pt x="51" y="141"/>
                  <a:pt x="57" y="135"/>
                  <a:pt x="57" y="127"/>
                </a:cubicBezTo>
                <a:cubicBezTo>
                  <a:pt x="57" y="118"/>
                  <a:pt x="51" y="113"/>
                  <a:pt x="43" y="113"/>
                </a:cubicBezTo>
                <a:lnTo>
                  <a:pt x="29" y="113"/>
                </a:lnTo>
                <a:lnTo>
                  <a:pt x="29" y="85"/>
                </a:lnTo>
                <a:lnTo>
                  <a:pt x="43" y="85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1"/>
          <p:cNvSpPr/>
          <p:nvPr/>
        </p:nvSpPr>
        <p:spPr>
          <a:xfrm>
            <a:off x="8420040" y="3067200"/>
            <a:ext cx="63720" cy="99720"/>
          </a:xfrm>
          <a:custGeom>
            <a:avLst/>
            <a:gdLst/>
            <a:ahLst/>
            <a:rect l="l" t="t" r="r" b="b"/>
            <a:pathLst>
              <a:path w="91" h="145">
                <a:moveTo>
                  <a:pt x="59" y="12"/>
                </a:moveTo>
                <a:cubicBezTo>
                  <a:pt x="56" y="0"/>
                  <a:pt x="34" y="0"/>
                  <a:pt x="31" y="12"/>
                </a:cubicBezTo>
                <a:lnTo>
                  <a:pt x="3" y="125"/>
                </a:lnTo>
                <a:cubicBezTo>
                  <a:pt x="0" y="133"/>
                  <a:pt x="6" y="139"/>
                  <a:pt x="14" y="141"/>
                </a:cubicBezTo>
                <a:cubicBezTo>
                  <a:pt x="23" y="144"/>
                  <a:pt x="28" y="139"/>
                  <a:pt x="31" y="130"/>
                </a:cubicBezTo>
                <a:lnTo>
                  <a:pt x="37" y="113"/>
                </a:lnTo>
                <a:lnTo>
                  <a:pt x="56" y="113"/>
                </a:lnTo>
                <a:lnTo>
                  <a:pt x="62" y="130"/>
                </a:lnTo>
                <a:cubicBezTo>
                  <a:pt x="65" y="136"/>
                  <a:pt x="71" y="141"/>
                  <a:pt x="76" y="141"/>
                </a:cubicBezTo>
                <a:lnTo>
                  <a:pt x="79" y="141"/>
                </a:lnTo>
                <a:cubicBezTo>
                  <a:pt x="88" y="139"/>
                  <a:pt x="90" y="133"/>
                  <a:pt x="90" y="125"/>
                </a:cubicBezTo>
                <a:lnTo>
                  <a:pt x="59" y="12"/>
                </a:lnTo>
                <a:close/>
                <a:moveTo>
                  <a:pt x="42" y="85"/>
                </a:moveTo>
                <a:lnTo>
                  <a:pt x="45" y="74"/>
                </a:lnTo>
                <a:lnTo>
                  <a:pt x="48" y="85"/>
                </a:lnTo>
                <a:lnTo>
                  <a:pt x="42" y="85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2"/>
          <p:cNvSpPr/>
          <p:nvPr/>
        </p:nvSpPr>
        <p:spPr>
          <a:xfrm>
            <a:off x="1522440" y="4578480"/>
            <a:ext cx="135000" cy="233280"/>
          </a:xfrm>
          <a:custGeom>
            <a:avLst/>
            <a:gdLst/>
            <a:ahLst/>
            <a:rect l="l" t="t" r="r" b="b"/>
            <a:pathLst>
              <a:path w="198" h="342">
                <a:moveTo>
                  <a:pt x="189" y="59"/>
                </a:moveTo>
                <a:lnTo>
                  <a:pt x="19" y="3"/>
                </a:lnTo>
                <a:cubicBezTo>
                  <a:pt x="14" y="0"/>
                  <a:pt x="11" y="3"/>
                  <a:pt x="5" y="6"/>
                </a:cubicBezTo>
                <a:cubicBezTo>
                  <a:pt x="3" y="8"/>
                  <a:pt x="0" y="11"/>
                  <a:pt x="0" y="17"/>
                </a:cubicBezTo>
                <a:lnTo>
                  <a:pt x="0" y="271"/>
                </a:lnTo>
                <a:cubicBezTo>
                  <a:pt x="0" y="276"/>
                  <a:pt x="3" y="282"/>
                  <a:pt x="8" y="285"/>
                </a:cubicBezTo>
                <a:lnTo>
                  <a:pt x="178" y="341"/>
                </a:lnTo>
                <a:cubicBezTo>
                  <a:pt x="180" y="341"/>
                  <a:pt x="180" y="341"/>
                  <a:pt x="183" y="341"/>
                </a:cubicBezTo>
                <a:cubicBezTo>
                  <a:pt x="186" y="341"/>
                  <a:pt x="189" y="341"/>
                  <a:pt x="192" y="339"/>
                </a:cubicBezTo>
                <a:cubicBezTo>
                  <a:pt x="194" y="336"/>
                  <a:pt x="197" y="333"/>
                  <a:pt x="197" y="327"/>
                </a:cubicBezTo>
                <a:lnTo>
                  <a:pt x="197" y="73"/>
                </a:lnTo>
                <a:cubicBezTo>
                  <a:pt x="197" y="68"/>
                  <a:pt x="194" y="62"/>
                  <a:pt x="189" y="59"/>
                </a:cubicBez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23"/>
          <p:cNvSpPr/>
          <p:nvPr/>
        </p:nvSpPr>
        <p:spPr>
          <a:xfrm>
            <a:off x="1434960" y="4581360"/>
            <a:ext cx="9684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41" y="0"/>
                </a:moveTo>
                <a:cubicBezTo>
                  <a:pt x="138" y="0"/>
                  <a:pt x="138" y="0"/>
                  <a:pt x="135" y="0"/>
                </a:cubicBezTo>
                <a:lnTo>
                  <a:pt x="8" y="56"/>
                </a:lnTo>
                <a:cubicBezTo>
                  <a:pt x="3" y="59"/>
                  <a:pt x="0" y="65"/>
                  <a:pt x="0" y="70"/>
                </a:cubicBezTo>
                <a:lnTo>
                  <a:pt x="0" y="324"/>
                </a:lnTo>
                <a:cubicBezTo>
                  <a:pt x="0" y="330"/>
                  <a:pt x="2" y="333"/>
                  <a:pt x="5" y="336"/>
                </a:cubicBezTo>
                <a:cubicBezTo>
                  <a:pt x="8" y="338"/>
                  <a:pt x="11" y="338"/>
                  <a:pt x="14" y="338"/>
                </a:cubicBezTo>
                <a:cubicBezTo>
                  <a:pt x="17" y="338"/>
                  <a:pt x="17" y="338"/>
                  <a:pt x="19" y="338"/>
                </a:cubicBezTo>
                <a:lnTo>
                  <a:pt x="141" y="282"/>
                </a:lnTo>
                <a:lnTo>
                  <a:pt x="141" y="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24"/>
          <p:cNvSpPr/>
          <p:nvPr/>
        </p:nvSpPr>
        <p:spPr>
          <a:xfrm>
            <a:off x="1647720" y="4581360"/>
            <a:ext cx="9684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36" y="3"/>
                </a:moveTo>
                <a:cubicBezTo>
                  <a:pt x="133" y="0"/>
                  <a:pt x="127" y="0"/>
                  <a:pt x="122" y="3"/>
                </a:cubicBezTo>
                <a:lnTo>
                  <a:pt x="0" y="56"/>
                </a:lnTo>
                <a:lnTo>
                  <a:pt x="0" y="338"/>
                </a:lnTo>
                <a:cubicBezTo>
                  <a:pt x="3" y="338"/>
                  <a:pt x="3" y="338"/>
                  <a:pt x="6" y="338"/>
                </a:cubicBezTo>
                <a:lnTo>
                  <a:pt x="133" y="282"/>
                </a:lnTo>
                <a:cubicBezTo>
                  <a:pt x="138" y="279"/>
                  <a:pt x="141" y="273"/>
                  <a:pt x="141" y="268"/>
                </a:cubicBezTo>
                <a:lnTo>
                  <a:pt x="141" y="14"/>
                </a:lnTo>
                <a:cubicBezTo>
                  <a:pt x="141" y="8"/>
                  <a:pt x="138" y="5"/>
                  <a:pt x="136" y="3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25"/>
          <p:cNvSpPr/>
          <p:nvPr/>
        </p:nvSpPr>
        <p:spPr>
          <a:xfrm>
            <a:off x="1609560" y="4503600"/>
            <a:ext cx="135000" cy="17316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98" y="0"/>
                </a:moveTo>
                <a:cubicBezTo>
                  <a:pt x="45" y="0"/>
                  <a:pt x="0" y="45"/>
                  <a:pt x="0" y="99"/>
                </a:cubicBezTo>
                <a:cubicBezTo>
                  <a:pt x="0" y="149"/>
                  <a:pt x="79" y="240"/>
                  <a:pt x="87" y="248"/>
                </a:cubicBezTo>
                <a:cubicBezTo>
                  <a:pt x="90" y="251"/>
                  <a:pt x="92" y="254"/>
                  <a:pt x="98" y="254"/>
                </a:cubicBezTo>
                <a:cubicBezTo>
                  <a:pt x="103" y="254"/>
                  <a:pt x="107" y="251"/>
                  <a:pt x="110" y="248"/>
                </a:cubicBezTo>
                <a:cubicBezTo>
                  <a:pt x="118" y="237"/>
                  <a:pt x="197" y="149"/>
                  <a:pt x="197" y="99"/>
                </a:cubicBezTo>
                <a:cubicBezTo>
                  <a:pt x="197" y="45"/>
                  <a:pt x="152" y="0"/>
                  <a:pt x="9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26"/>
          <p:cNvSpPr/>
          <p:nvPr/>
        </p:nvSpPr>
        <p:spPr>
          <a:xfrm>
            <a:off x="1647720" y="45417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3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1"/>
                  <a:pt x="70" y="75"/>
                  <a:pt x="64" y="79"/>
                </a:cubicBezTo>
                <a:cubicBezTo>
                  <a:pt x="57" y="83"/>
                  <a:pt x="49" y="85"/>
                  <a:pt x="42" y="85"/>
                </a:cubicBezTo>
                <a:cubicBezTo>
                  <a:pt x="34" y="85"/>
                  <a:pt x="27" y="83"/>
                  <a:pt x="21" y="79"/>
                </a:cubicBezTo>
                <a:cubicBezTo>
                  <a:pt x="14" y="75"/>
                  <a:pt x="10" y="71"/>
                  <a:pt x="6" y="64"/>
                </a:cubicBezTo>
                <a:cubicBezTo>
                  <a:pt x="2" y="57"/>
                  <a:pt x="0" y="50"/>
                  <a:pt x="0" y="43"/>
                </a:cubicBezTo>
                <a:cubicBezTo>
                  <a:pt x="0" y="35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7" y="2"/>
                  <a:pt x="35" y="0"/>
                  <a:pt x="42" y="0"/>
                </a:cubicBezTo>
                <a:cubicBezTo>
                  <a:pt x="50" y="0"/>
                  <a:pt x="57" y="2"/>
                  <a:pt x="64" y="6"/>
                </a:cubicBezTo>
                <a:cubicBezTo>
                  <a:pt x="70" y="10"/>
                  <a:pt x="75" y="14"/>
                  <a:pt x="79" y="21"/>
                </a:cubicBezTo>
                <a:cubicBezTo>
                  <a:pt x="83" y="27"/>
                  <a:pt x="85" y="35"/>
                  <a:pt x="85" y="4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27"/>
          <p:cNvSpPr/>
          <p:nvPr/>
        </p:nvSpPr>
        <p:spPr>
          <a:xfrm>
            <a:off x="2287440" y="4500720"/>
            <a:ext cx="135000" cy="233280"/>
          </a:xfrm>
          <a:custGeom>
            <a:avLst/>
            <a:gdLst/>
            <a:ahLst/>
            <a:rect l="l" t="t" r="r" b="b"/>
            <a:pathLst>
              <a:path w="198" h="342">
                <a:moveTo>
                  <a:pt x="189" y="59"/>
                </a:moveTo>
                <a:lnTo>
                  <a:pt x="19" y="3"/>
                </a:lnTo>
                <a:cubicBezTo>
                  <a:pt x="14" y="0"/>
                  <a:pt x="11" y="3"/>
                  <a:pt x="5" y="6"/>
                </a:cubicBezTo>
                <a:cubicBezTo>
                  <a:pt x="2" y="8"/>
                  <a:pt x="0" y="11"/>
                  <a:pt x="0" y="17"/>
                </a:cubicBezTo>
                <a:lnTo>
                  <a:pt x="0" y="271"/>
                </a:lnTo>
                <a:cubicBezTo>
                  <a:pt x="0" y="277"/>
                  <a:pt x="2" y="282"/>
                  <a:pt x="8" y="285"/>
                </a:cubicBezTo>
                <a:lnTo>
                  <a:pt x="177" y="341"/>
                </a:lnTo>
                <a:cubicBezTo>
                  <a:pt x="180" y="341"/>
                  <a:pt x="180" y="341"/>
                  <a:pt x="183" y="341"/>
                </a:cubicBezTo>
                <a:cubicBezTo>
                  <a:pt x="186" y="341"/>
                  <a:pt x="189" y="341"/>
                  <a:pt x="191" y="339"/>
                </a:cubicBezTo>
                <a:cubicBezTo>
                  <a:pt x="194" y="336"/>
                  <a:pt x="197" y="333"/>
                  <a:pt x="197" y="327"/>
                </a:cubicBezTo>
                <a:lnTo>
                  <a:pt x="197" y="73"/>
                </a:lnTo>
                <a:cubicBezTo>
                  <a:pt x="197" y="68"/>
                  <a:pt x="194" y="62"/>
                  <a:pt x="189" y="59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28"/>
          <p:cNvSpPr/>
          <p:nvPr/>
        </p:nvSpPr>
        <p:spPr>
          <a:xfrm>
            <a:off x="2201760" y="4503600"/>
            <a:ext cx="9540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41" y="0"/>
                </a:moveTo>
                <a:cubicBezTo>
                  <a:pt x="138" y="0"/>
                  <a:pt x="138" y="0"/>
                  <a:pt x="135" y="0"/>
                </a:cubicBezTo>
                <a:lnTo>
                  <a:pt x="8" y="56"/>
                </a:lnTo>
                <a:cubicBezTo>
                  <a:pt x="2" y="59"/>
                  <a:pt x="0" y="65"/>
                  <a:pt x="0" y="70"/>
                </a:cubicBezTo>
                <a:lnTo>
                  <a:pt x="0" y="324"/>
                </a:lnTo>
                <a:cubicBezTo>
                  <a:pt x="0" y="330"/>
                  <a:pt x="2" y="333"/>
                  <a:pt x="5" y="336"/>
                </a:cubicBezTo>
                <a:cubicBezTo>
                  <a:pt x="8" y="338"/>
                  <a:pt x="11" y="338"/>
                  <a:pt x="14" y="338"/>
                </a:cubicBezTo>
                <a:cubicBezTo>
                  <a:pt x="16" y="338"/>
                  <a:pt x="16" y="338"/>
                  <a:pt x="19" y="338"/>
                </a:cubicBezTo>
                <a:lnTo>
                  <a:pt x="141" y="282"/>
                </a:lnTo>
                <a:lnTo>
                  <a:pt x="141" y="0"/>
                </a:ln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29"/>
          <p:cNvSpPr/>
          <p:nvPr/>
        </p:nvSpPr>
        <p:spPr>
          <a:xfrm>
            <a:off x="2414520" y="4503600"/>
            <a:ext cx="9540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35" y="3"/>
                </a:moveTo>
                <a:cubicBezTo>
                  <a:pt x="133" y="0"/>
                  <a:pt x="127" y="0"/>
                  <a:pt x="121" y="3"/>
                </a:cubicBezTo>
                <a:lnTo>
                  <a:pt x="0" y="56"/>
                </a:lnTo>
                <a:lnTo>
                  <a:pt x="0" y="338"/>
                </a:lnTo>
                <a:cubicBezTo>
                  <a:pt x="3" y="338"/>
                  <a:pt x="3" y="338"/>
                  <a:pt x="6" y="338"/>
                </a:cubicBezTo>
                <a:lnTo>
                  <a:pt x="133" y="282"/>
                </a:lnTo>
                <a:cubicBezTo>
                  <a:pt x="138" y="279"/>
                  <a:pt x="141" y="274"/>
                  <a:pt x="141" y="268"/>
                </a:cubicBezTo>
                <a:lnTo>
                  <a:pt x="141" y="14"/>
                </a:lnTo>
                <a:cubicBezTo>
                  <a:pt x="141" y="8"/>
                  <a:pt x="138" y="5"/>
                  <a:pt x="135" y="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30"/>
          <p:cNvSpPr/>
          <p:nvPr/>
        </p:nvSpPr>
        <p:spPr>
          <a:xfrm>
            <a:off x="2408400" y="4707000"/>
            <a:ext cx="104760" cy="101520"/>
          </a:xfrm>
          <a:custGeom>
            <a:avLst/>
            <a:gdLst/>
            <a:ahLst/>
            <a:rect l="l" t="t" r="r" b="b"/>
            <a:pathLst>
              <a:path w="154" h="150">
                <a:moveTo>
                  <a:pt x="122" y="149"/>
                </a:moveTo>
                <a:cubicBezTo>
                  <a:pt x="113" y="149"/>
                  <a:pt x="108" y="147"/>
                  <a:pt x="102" y="141"/>
                </a:cubicBezTo>
                <a:lnTo>
                  <a:pt x="12" y="51"/>
                </a:lnTo>
                <a:cubicBezTo>
                  <a:pt x="0" y="39"/>
                  <a:pt x="0" y="22"/>
                  <a:pt x="12" y="11"/>
                </a:cubicBezTo>
                <a:cubicBezTo>
                  <a:pt x="23" y="0"/>
                  <a:pt x="40" y="0"/>
                  <a:pt x="51" y="11"/>
                </a:cubicBezTo>
                <a:lnTo>
                  <a:pt x="142" y="101"/>
                </a:lnTo>
                <a:cubicBezTo>
                  <a:pt x="153" y="113"/>
                  <a:pt x="153" y="130"/>
                  <a:pt x="142" y="141"/>
                </a:cubicBezTo>
                <a:cubicBezTo>
                  <a:pt x="136" y="147"/>
                  <a:pt x="130" y="149"/>
                  <a:pt x="122" y="14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1"/>
          <p:cNvSpPr/>
          <p:nvPr/>
        </p:nvSpPr>
        <p:spPr>
          <a:xfrm>
            <a:off x="2297160" y="4599000"/>
            <a:ext cx="191880" cy="131760"/>
          </a:xfrm>
          <a:custGeom>
            <a:avLst/>
            <a:gdLst/>
            <a:ahLst/>
            <a:rect l="l" t="t" r="r" b="b"/>
            <a:pathLst>
              <a:path w="283" h="196">
                <a:moveTo>
                  <a:pt x="282" y="141"/>
                </a:moveTo>
                <a:cubicBezTo>
                  <a:pt x="282" y="62"/>
                  <a:pt x="220" y="0"/>
                  <a:pt x="141" y="0"/>
                </a:cubicBezTo>
                <a:cubicBezTo>
                  <a:pt x="62" y="0"/>
                  <a:pt x="0" y="62"/>
                  <a:pt x="0" y="141"/>
                </a:cubicBezTo>
                <a:lnTo>
                  <a:pt x="0" y="141"/>
                </a:lnTo>
                <a:lnTo>
                  <a:pt x="163" y="195"/>
                </a:lnTo>
                <a:cubicBezTo>
                  <a:pt x="166" y="195"/>
                  <a:pt x="166" y="195"/>
                  <a:pt x="169" y="195"/>
                </a:cubicBezTo>
                <a:cubicBezTo>
                  <a:pt x="172" y="195"/>
                  <a:pt x="172" y="195"/>
                  <a:pt x="175" y="195"/>
                </a:cubicBezTo>
                <a:lnTo>
                  <a:pt x="282" y="147"/>
                </a:lnTo>
                <a:cubicBezTo>
                  <a:pt x="282" y="147"/>
                  <a:pt x="282" y="144"/>
                  <a:pt x="282" y="141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32"/>
          <p:cNvSpPr/>
          <p:nvPr/>
        </p:nvSpPr>
        <p:spPr>
          <a:xfrm>
            <a:off x="2317680" y="4616280"/>
            <a:ext cx="152640" cy="15264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6" y="113"/>
                </a:moveTo>
                <a:cubicBezTo>
                  <a:pt x="226" y="134"/>
                  <a:pt x="220" y="151"/>
                  <a:pt x="210" y="169"/>
                </a:cubicBezTo>
                <a:cubicBezTo>
                  <a:pt x="199" y="187"/>
                  <a:pt x="187" y="200"/>
                  <a:pt x="169" y="211"/>
                </a:cubicBezTo>
                <a:cubicBezTo>
                  <a:pt x="151" y="221"/>
                  <a:pt x="133" y="226"/>
                  <a:pt x="113" y="226"/>
                </a:cubicBezTo>
                <a:cubicBezTo>
                  <a:pt x="92" y="226"/>
                  <a:pt x="74" y="221"/>
                  <a:pt x="56" y="211"/>
                </a:cubicBezTo>
                <a:cubicBezTo>
                  <a:pt x="38" y="200"/>
                  <a:pt x="25" y="187"/>
                  <a:pt x="15" y="169"/>
                </a:cubicBezTo>
                <a:cubicBezTo>
                  <a:pt x="5" y="151"/>
                  <a:pt x="0" y="134"/>
                  <a:pt x="0" y="113"/>
                </a:cubicBezTo>
                <a:cubicBezTo>
                  <a:pt x="0" y="92"/>
                  <a:pt x="5" y="75"/>
                  <a:pt x="15" y="57"/>
                </a:cubicBezTo>
                <a:cubicBezTo>
                  <a:pt x="25" y="39"/>
                  <a:pt x="38" y="25"/>
                  <a:pt x="56" y="15"/>
                </a:cubicBezTo>
                <a:cubicBezTo>
                  <a:pt x="74" y="4"/>
                  <a:pt x="92" y="0"/>
                  <a:pt x="113" y="0"/>
                </a:cubicBezTo>
                <a:cubicBezTo>
                  <a:pt x="133" y="0"/>
                  <a:pt x="151" y="4"/>
                  <a:pt x="169" y="15"/>
                </a:cubicBezTo>
                <a:cubicBezTo>
                  <a:pt x="187" y="25"/>
                  <a:pt x="199" y="39"/>
                  <a:pt x="210" y="57"/>
                </a:cubicBezTo>
                <a:cubicBezTo>
                  <a:pt x="220" y="75"/>
                  <a:pt x="226" y="92"/>
                  <a:pt x="226" y="113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33"/>
          <p:cNvSpPr/>
          <p:nvPr/>
        </p:nvSpPr>
        <p:spPr>
          <a:xfrm>
            <a:off x="3102120" y="4521240"/>
            <a:ext cx="172800" cy="95040"/>
          </a:xfrm>
          <a:custGeom>
            <a:avLst/>
            <a:gdLst/>
            <a:ahLst/>
            <a:rect l="l" t="t" r="r" b="b"/>
            <a:pathLst>
              <a:path w="255" h="142">
                <a:moveTo>
                  <a:pt x="251" y="59"/>
                </a:moveTo>
                <a:lnTo>
                  <a:pt x="195" y="3"/>
                </a:lnTo>
                <a:cubicBezTo>
                  <a:pt x="192" y="0"/>
                  <a:pt x="189" y="0"/>
                  <a:pt x="183" y="0"/>
                </a:cubicBez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27"/>
                </a:lnTo>
                <a:cubicBezTo>
                  <a:pt x="0" y="136"/>
                  <a:pt x="5" y="141"/>
                  <a:pt x="14" y="141"/>
                </a:cubicBezTo>
                <a:lnTo>
                  <a:pt x="183" y="141"/>
                </a:lnTo>
                <a:cubicBezTo>
                  <a:pt x="186" y="141"/>
                  <a:pt x="192" y="138"/>
                  <a:pt x="195" y="138"/>
                </a:cubicBezTo>
                <a:lnTo>
                  <a:pt x="251" y="82"/>
                </a:lnTo>
                <a:cubicBezTo>
                  <a:pt x="254" y="76"/>
                  <a:pt x="254" y="65"/>
                  <a:pt x="251" y="5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34"/>
          <p:cNvSpPr/>
          <p:nvPr/>
        </p:nvSpPr>
        <p:spPr>
          <a:xfrm>
            <a:off x="3102120" y="4638600"/>
            <a:ext cx="134640" cy="77760"/>
          </a:xfrm>
          <a:custGeom>
            <a:avLst/>
            <a:gdLst/>
            <a:ahLst/>
            <a:rect l="l" t="t" r="r" b="b"/>
            <a:pathLst>
              <a:path w="198" h="114">
                <a:moveTo>
                  <a:pt x="192" y="46"/>
                </a:moveTo>
                <a:lnTo>
                  <a:pt x="135" y="3"/>
                </a:lnTo>
                <a:cubicBezTo>
                  <a:pt x="132" y="0"/>
                  <a:pt x="130" y="0"/>
                  <a:pt x="127" y="0"/>
                </a:cubicBez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99"/>
                </a:lnTo>
                <a:cubicBezTo>
                  <a:pt x="0" y="108"/>
                  <a:pt x="5" y="113"/>
                  <a:pt x="14" y="113"/>
                </a:cubicBezTo>
                <a:lnTo>
                  <a:pt x="127" y="113"/>
                </a:lnTo>
                <a:cubicBezTo>
                  <a:pt x="130" y="113"/>
                  <a:pt x="132" y="113"/>
                  <a:pt x="135" y="110"/>
                </a:cubicBezTo>
                <a:lnTo>
                  <a:pt x="192" y="68"/>
                </a:lnTo>
                <a:cubicBezTo>
                  <a:pt x="195" y="65"/>
                  <a:pt x="197" y="62"/>
                  <a:pt x="197" y="57"/>
                </a:cubicBezTo>
                <a:cubicBezTo>
                  <a:pt x="197" y="51"/>
                  <a:pt x="195" y="48"/>
                  <a:pt x="192" y="46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35"/>
          <p:cNvSpPr/>
          <p:nvPr/>
        </p:nvSpPr>
        <p:spPr>
          <a:xfrm>
            <a:off x="2963880" y="4581360"/>
            <a:ext cx="155520" cy="95400"/>
          </a:xfrm>
          <a:custGeom>
            <a:avLst/>
            <a:gdLst/>
            <a:ahLst/>
            <a:rect l="l" t="t" r="r" b="b"/>
            <a:pathLst>
              <a:path w="230" h="139">
                <a:moveTo>
                  <a:pt x="215" y="0"/>
                </a:moveTo>
                <a:lnTo>
                  <a:pt x="74" y="0"/>
                </a:lnTo>
                <a:cubicBezTo>
                  <a:pt x="71" y="0"/>
                  <a:pt x="65" y="3"/>
                  <a:pt x="63" y="3"/>
                </a:cubicBezTo>
                <a:lnTo>
                  <a:pt x="6" y="59"/>
                </a:lnTo>
                <a:cubicBezTo>
                  <a:pt x="0" y="65"/>
                  <a:pt x="0" y="73"/>
                  <a:pt x="6" y="79"/>
                </a:cubicBezTo>
                <a:lnTo>
                  <a:pt x="63" y="135"/>
                </a:lnTo>
                <a:cubicBezTo>
                  <a:pt x="65" y="138"/>
                  <a:pt x="68" y="138"/>
                  <a:pt x="74" y="138"/>
                </a:cubicBezTo>
                <a:lnTo>
                  <a:pt x="215" y="138"/>
                </a:lnTo>
                <a:cubicBezTo>
                  <a:pt x="223" y="138"/>
                  <a:pt x="229" y="132"/>
                  <a:pt x="229" y="124"/>
                </a:cubicBezTo>
                <a:lnTo>
                  <a:pt x="229" y="11"/>
                </a:lnTo>
                <a:cubicBezTo>
                  <a:pt x="229" y="5"/>
                  <a:pt x="223" y="0"/>
                  <a:pt x="215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6"/>
          <p:cNvSpPr/>
          <p:nvPr/>
        </p:nvSpPr>
        <p:spPr>
          <a:xfrm>
            <a:off x="3102120" y="4503600"/>
            <a:ext cx="20520" cy="30816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37"/>
          <p:cNvSpPr/>
          <p:nvPr/>
        </p:nvSpPr>
        <p:spPr>
          <a:xfrm>
            <a:off x="3772080" y="4503600"/>
            <a:ext cx="230040" cy="30816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169" y="0"/>
                </a:moveTo>
                <a:cubicBezTo>
                  <a:pt x="76" y="0"/>
                  <a:pt x="0" y="76"/>
                  <a:pt x="0" y="169"/>
                </a:cubicBezTo>
                <a:cubicBezTo>
                  <a:pt x="0" y="288"/>
                  <a:pt x="152" y="440"/>
                  <a:pt x="158" y="449"/>
                </a:cubicBezTo>
                <a:cubicBezTo>
                  <a:pt x="160" y="451"/>
                  <a:pt x="163" y="451"/>
                  <a:pt x="169" y="451"/>
                </a:cubicBezTo>
                <a:cubicBezTo>
                  <a:pt x="174" y="451"/>
                  <a:pt x="177" y="451"/>
                  <a:pt x="180" y="449"/>
                </a:cubicBezTo>
                <a:cubicBezTo>
                  <a:pt x="186" y="443"/>
                  <a:pt x="338" y="288"/>
                  <a:pt x="338" y="169"/>
                </a:cubicBezTo>
                <a:cubicBezTo>
                  <a:pt x="338" y="76"/>
                  <a:pt x="262" y="0"/>
                  <a:pt x="169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38"/>
          <p:cNvSpPr/>
          <p:nvPr/>
        </p:nvSpPr>
        <p:spPr>
          <a:xfrm>
            <a:off x="3828960" y="456084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4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49"/>
                  <a:pt x="127" y="157"/>
                </a:cubicBezTo>
                <a:cubicBezTo>
                  <a:pt x="113" y="164"/>
                  <a:pt x="100" y="169"/>
                  <a:pt x="85" y="169"/>
                </a:cubicBezTo>
                <a:cubicBezTo>
                  <a:pt x="69" y="169"/>
                  <a:pt x="56" y="164"/>
                  <a:pt x="43" y="157"/>
                </a:cubicBezTo>
                <a:cubicBezTo>
                  <a:pt x="29" y="149"/>
                  <a:pt x="19" y="140"/>
                  <a:pt x="12" y="127"/>
                </a:cubicBezTo>
                <a:cubicBezTo>
                  <a:pt x="4" y="113"/>
                  <a:pt x="0" y="99"/>
                  <a:pt x="0" y="84"/>
                </a:cubicBezTo>
                <a:cubicBezTo>
                  <a:pt x="0" y="68"/>
                  <a:pt x="4" y="55"/>
                  <a:pt x="12" y="42"/>
                </a:cubicBezTo>
                <a:cubicBezTo>
                  <a:pt x="19" y="28"/>
                  <a:pt x="29" y="19"/>
                  <a:pt x="43" y="11"/>
                </a:cubicBezTo>
                <a:cubicBezTo>
                  <a:pt x="56" y="3"/>
                  <a:pt x="69" y="0"/>
                  <a:pt x="85" y="0"/>
                </a:cubicBezTo>
                <a:cubicBezTo>
                  <a:pt x="100" y="0"/>
                  <a:pt x="113" y="3"/>
                  <a:pt x="127" y="11"/>
                </a:cubicBezTo>
                <a:cubicBezTo>
                  <a:pt x="140" y="19"/>
                  <a:pt x="150" y="28"/>
                  <a:pt x="158" y="42"/>
                </a:cubicBezTo>
                <a:cubicBezTo>
                  <a:pt x="166" y="55"/>
                  <a:pt x="169" y="69"/>
                  <a:pt x="169" y="84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39"/>
          <p:cNvSpPr/>
          <p:nvPr/>
        </p:nvSpPr>
        <p:spPr>
          <a:xfrm>
            <a:off x="4495680" y="4503600"/>
            <a:ext cx="250920" cy="247680"/>
          </a:xfrm>
          <a:custGeom>
            <a:avLst/>
            <a:gdLst/>
            <a:ahLst/>
            <a:rect l="l" t="t" r="r" b="b"/>
            <a:pathLst>
              <a:path w="371" h="365">
                <a:moveTo>
                  <a:pt x="186" y="0"/>
                </a:moveTo>
                <a:cubicBezTo>
                  <a:pt x="85" y="0"/>
                  <a:pt x="3" y="82"/>
                  <a:pt x="3" y="183"/>
                </a:cubicBezTo>
                <a:cubicBezTo>
                  <a:pt x="3" y="217"/>
                  <a:pt x="11" y="251"/>
                  <a:pt x="31" y="279"/>
                </a:cubicBezTo>
                <a:lnTo>
                  <a:pt x="3" y="347"/>
                </a:lnTo>
                <a:cubicBezTo>
                  <a:pt x="0" y="353"/>
                  <a:pt x="3" y="358"/>
                  <a:pt x="6" y="361"/>
                </a:cubicBezTo>
                <a:cubicBezTo>
                  <a:pt x="8" y="364"/>
                  <a:pt x="11" y="364"/>
                  <a:pt x="17" y="364"/>
                </a:cubicBezTo>
                <a:cubicBezTo>
                  <a:pt x="20" y="364"/>
                  <a:pt x="20" y="364"/>
                  <a:pt x="23" y="364"/>
                </a:cubicBezTo>
                <a:lnTo>
                  <a:pt x="90" y="336"/>
                </a:lnTo>
                <a:cubicBezTo>
                  <a:pt x="119" y="353"/>
                  <a:pt x="152" y="364"/>
                  <a:pt x="186" y="364"/>
                </a:cubicBezTo>
                <a:cubicBezTo>
                  <a:pt x="288" y="364"/>
                  <a:pt x="370" y="281"/>
                  <a:pt x="370" y="180"/>
                </a:cubicBezTo>
                <a:cubicBezTo>
                  <a:pt x="370" y="78"/>
                  <a:pt x="288" y="0"/>
                  <a:pt x="186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40"/>
          <p:cNvSpPr/>
          <p:nvPr/>
        </p:nvSpPr>
        <p:spPr>
          <a:xfrm>
            <a:off x="4603680" y="4608360"/>
            <a:ext cx="206280" cy="200160"/>
          </a:xfrm>
          <a:custGeom>
            <a:avLst/>
            <a:gdLst/>
            <a:ahLst/>
            <a:rect l="l" t="t" r="r" b="b"/>
            <a:pathLst>
              <a:path w="303" h="297">
                <a:moveTo>
                  <a:pt x="271" y="217"/>
                </a:moveTo>
                <a:cubicBezTo>
                  <a:pt x="288" y="192"/>
                  <a:pt x="296" y="161"/>
                  <a:pt x="296" y="127"/>
                </a:cubicBezTo>
                <a:cubicBezTo>
                  <a:pt x="296" y="76"/>
                  <a:pt x="274" y="31"/>
                  <a:pt x="237" y="0"/>
                </a:cubicBezTo>
                <a:cubicBezTo>
                  <a:pt x="237" y="9"/>
                  <a:pt x="240" y="20"/>
                  <a:pt x="240" y="28"/>
                </a:cubicBezTo>
                <a:cubicBezTo>
                  <a:pt x="240" y="144"/>
                  <a:pt x="144" y="240"/>
                  <a:pt x="28" y="240"/>
                </a:cubicBezTo>
                <a:cubicBezTo>
                  <a:pt x="20" y="240"/>
                  <a:pt x="9" y="240"/>
                  <a:pt x="0" y="237"/>
                </a:cubicBezTo>
                <a:cubicBezTo>
                  <a:pt x="31" y="274"/>
                  <a:pt x="76" y="296"/>
                  <a:pt x="127" y="296"/>
                </a:cubicBezTo>
                <a:cubicBezTo>
                  <a:pt x="158" y="296"/>
                  <a:pt x="189" y="288"/>
                  <a:pt x="217" y="271"/>
                </a:cubicBezTo>
                <a:lnTo>
                  <a:pt x="279" y="296"/>
                </a:lnTo>
                <a:cubicBezTo>
                  <a:pt x="282" y="296"/>
                  <a:pt x="282" y="296"/>
                  <a:pt x="285" y="296"/>
                </a:cubicBezTo>
                <a:cubicBezTo>
                  <a:pt x="288" y="296"/>
                  <a:pt x="294" y="294"/>
                  <a:pt x="296" y="294"/>
                </a:cubicBezTo>
                <a:cubicBezTo>
                  <a:pt x="299" y="291"/>
                  <a:pt x="302" y="282"/>
                  <a:pt x="299" y="279"/>
                </a:cubicBezTo>
                <a:lnTo>
                  <a:pt x="271" y="217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41"/>
          <p:cNvSpPr/>
          <p:nvPr/>
        </p:nvSpPr>
        <p:spPr>
          <a:xfrm>
            <a:off x="8327880" y="3736800"/>
            <a:ext cx="311400" cy="308160"/>
          </a:xfrm>
          <a:custGeom>
            <a:avLst/>
            <a:gdLst/>
            <a:ahLst/>
            <a:rect l="l" t="t" r="r" b="b"/>
            <a:pathLst>
              <a:path w="458" h="453">
                <a:moveTo>
                  <a:pt x="395" y="0"/>
                </a:moveTo>
                <a:lnTo>
                  <a:pt x="56" y="0"/>
                </a:lnTo>
                <a:cubicBezTo>
                  <a:pt x="25" y="0"/>
                  <a:pt x="0" y="25"/>
                  <a:pt x="0" y="57"/>
                </a:cubicBezTo>
                <a:lnTo>
                  <a:pt x="0" y="310"/>
                </a:lnTo>
                <a:cubicBezTo>
                  <a:pt x="0" y="342"/>
                  <a:pt x="25" y="367"/>
                  <a:pt x="56" y="367"/>
                </a:cubicBezTo>
                <a:lnTo>
                  <a:pt x="149" y="367"/>
                </a:lnTo>
                <a:lnTo>
                  <a:pt x="217" y="446"/>
                </a:lnTo>
                <a:cubicBezTo>
                  <a:pt x="220" y="449"/>
                  <a:pt x="223" y="452"/>
                  <a:pt x="228" y="452"/>
                </a:cubicBezTo>
                <a:lnTo>
                  <a:pt x="228" y="452"/>
                </a:lnTo>
                <a:cubicBezTo>
                  <a:pt x="231" y="452"/>
                  <a:pt x="237" y="449"/>
                  <a:pt x="240" y="446"/>
                </a:cubicBezTo>
                <a:lnTo>
                  <a:pt x="310" y="367"/>
                </a:lnTo>
                <a:lnTo>
                  <a:pt x="400" y="367"/>
                </a:lnTo>
                <a:cubicBezTo>
                  <a:pt x="432" y="367"/>
                  <a:pt x="457" y="342"/>
                  <a:pt x="457" y="310"/>
                </a:cubicBezTo>
                <a:lnTo>
                  <a:pt x="457" y="57"/>
                </a:lnTo>
                <a:cubicBezTo>
                  <a:pt x="451" y="25"/>
                  <a:pt x="426" y="0"/>
                  <a:pt x="39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42"/>
          <p:cNvSpPr/>
          <p:nvPr/>
        </p:nvSpPr>
        <p:spPr>
          <a:xfrm>
            <a:off x="8402760" y="387180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cubicBezTo>
                  <a:pt x="141" y="22"/>
                  <a:pt x="135" y="28"/>
                  <a:pt x="12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43"/>
          <p:cNvSpPr/>
          <p:nvPr/>
        </p:nvSpPr>
        <p:spPr>
          <a:xfrm>
            <a:off x="8402760" y="3814920"/>
            <a:ext cx="152280" cy="21960"/>
          </a:xfrm>
          <a:custGeom>
            <a:avLst/>
            <a:gdLst/>
            <a:ahLst/>
            <a:rect l="l" t="t" r="r" b="b"/>
            <a:pathLst>
              <a:path w="226" h="29">
                <a:moveTo>
                  <a:pt x="211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211" y="0"/>
                </a:lnTo>
                <a:cubicBezTo>
                  <a:pt x="220" y="0"/>
                  <a:pt x="225" y="5"/>
                  <a:pt x="225" y="14"/>
                </a:cubicBezTo>
                <a:cubicBezTo>
                  <a:pt x="225" y="22"/>
                  <a:pt x="220" y="28"/>
                  <a:pt x="211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4"/>
          <p:cNvSpPr/>
          <p:nvPr/>
        </p:nvSpPr>
        <p:spPr>
          <a:xfrm>
            <a:off x="5264280" y="4503600"/>
            <a:ext cx="252360" cy="209520"/>
          </a:xfrm>
          <a:custGeom>
            <a:avLst/>
            <a:gdLst/>
            <a:ahLst/>
            <a:rect l="l" t="t" r="r" b="b"/>
            <a:pathLst>
              <a:path w="370" h="308">
                <a:moveTo>
                  <a:pt x="183" y="0"/>
                </a:moveTo>
                <a:cubicBezTo>
                  <a:pt x="81" y="0"/>
                  <a:pt x="0" y="70"/>
                  <a:pt x="0" y="155"/>
                </a:cubicBezTo>
                <a:cubicBezTo>
                  <a:pt x="0" y="189"/>
                  <a:pt x="14" y="223"/>
                  <a:pt x="39" y="251"/>
                </a:cubicBezTo>
                <a:lnTo>
                  <a:pt x="5" y="285"/>
                </a:lnTo>
                <a:cubicBezTo>
                  <a:pt x="2" y="288"/>
                  <a:pt x="0" y="296"/>
                  <a:pt x="2" y="299"/>
                </a:cubicBezTo>
                <a:cubicBezTo>
                  <a:pt x="5" y="305"/>
                  <a:pt x="11" y="307"/>
                  <a:pt x="17" y="307"/>
                </a:cubicBezTo>
                <a:lnTo>
                  <a:pt x="186" y="307"/>
                </a:lnTo>
                <a:cubicBezTo>
                  <a:pt x="287" y="307"/>
                  <a:pt x="369" y="236"/>
                  <a:pt x="369" y="152"/>
                </a:cubicBezTo>
                <a:cubicBezTo>
                  <a:pt x="369" y="67"/>
                  <a:pt x="285" y="0"/>
                  <a:pt x="183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5"/>
          <p:cNvSpPr/>
          <p:nvPr/>
        </p:nvSpPr>
        <p:spPr>
          <a:xfrm>
            <a:off x="5337000" y="4608360"/>
            <a:ext cx="238320" cy="182880"/>
          </a:xfrm>
          <a:custGeom>
            <a:avLst/>
            <a:gdLst/>
            <a:ahLst/>
            <a:rect l="l" t="t" r="r" b="b"/>
            <a:pathLst>
              <a:path w="351" h="269">
                <a:moveTo>
                  <a:pt x="308" y="209"/>
                </a:moveTo>
                <a:cubicBezTo>
                  <a:pt x="333" y="181"/>
                  <a:pt x="347" y="147"/>
                  <a:pt x="347" y="113"/>
                </a:cubicBezTo>
                <a:cubicBezTo>
                  <a:pt x="347" y="68"/>
                  <a:pt x="325" y="28"/>
                  <a:pt x="291" y="0"/>
                </a:cubicBezTo>
                <a:cubicBezTo>
                  <a:pt x="291" y="102"/>
                  <a:pt x="195" y="183"/>
                  <a:pt x="79" y="183"/>
                </a:cubicBezTo>
                <a:lnTo>
                  <a:pt x="0" y="183"/>
                </a:lnTo>
                <a:cubicBezTo>
                  <a:pt x="31" y="234"/>
                  <a:pt x="93" y="268"/>
                  <a:pt x="164" y="268"/>
                </a:cubicBezTo>
                <a:lnTo>
                  <a:pt x="333" y="268"/>
                </a:lnTo>
                <a:cubicBezTo>
                  <a:pt x="339" y="268"/>
                  <a:pt x="344" y="265"/>
                  <a:pt x="347" y="260"/>
                </a:cubicBezTo>
                <a:cubicBezTo>
                  <a:pt x="350" y="254"/>
                  <a:pt x="347" y="248"/>
                  <a:pt x="344" y="246"/>
                </a:cubicBezTo>
                <a:lnTo>
                  <a:pt x="308" y="209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46"/>
          <p:cNvSpPr/>
          <p:nvPr/>
        </p:nvSpPr>
        <p:spPr>
          <a:xfrm>
            <a:off x="5321160" y="4581360"/>
            <a:ext cx="135000" cy="20880"/>
          </a:xfrm>
          <a:custGeom>
            <a:avLst/>
            <a:gdLst/>
            <a:ahLst/>
            <a:rect l="l" t="t" r="r" b="b"/>
            <a:pathLst>
              <a:path w="199" h="29">
                <a:moveTo>
                  <a:pt x="184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184" y="28"/>
                </a:lnTo>
                <a:cubicBezTo>
                  <a:pt x="192" y="28"/>
                  <a:pt x="198" y="22"/>
                  <a:pt x="198" y="14"/>
                </a:cubicBezTo>
                <a:cubicBezTo>
                  <a:pt x="198" y="5"/>
                  <a:pt x="192" y="0"/>
                  <a:pt x="184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47"/>
          <p:cNvSpPr/>
          <p:nvPr/>
        </p:nvSpPr>
        <p:spPr>
          <a:xfrm>
            <a:off x="5321160" y="4616280"/>
            <a:ext cx="95400" cy="223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127" y="28"/>
                </a:lnTo>
                <a:cubicBezTo>
                  <a:pt x="136" y="28"/>
                  <a:pt x="141" y="22"/>
                  <a:pt x="141" y="14"/>
                </a:cubicBezTo>
                <a:cubicBezTo>
                  <a:pt x="141" y="5"/>
                  <a:pt x="136" y="0"/>
                  <a:pt x="127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8"/>
          <p:cNvSpPr/>
          <p:nvPr/>
        </p:nvSpPr>
        <p:spPr>
          <a:xfrm>
            <a:off x="6068880" y="4734000"/>
            <a:ext cx="152640" cy="77760"/>
          </a:xfrm>
          <a:custGeom>
            <a:avLst/>
            <a:gdLst/>
            <a:ahLst/>
            <a:rect l="l" t="t" r="r" b="b"/>
            <a:pathLst>
              <a:path w="227" h="114">
                <a:moveTo>
                  <a:pt x="155" y="113"/>
                </a:moveTo>
                <a:lnTo>
                  <a:pt x="70" y="113"/>
                </a:lnTo>
                <a:cubicBezTo>
                  <a:pt x="31" y="113"/>
                  <a:pt x="0" y="82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65"/>
                  <a:pt x="48" y="85"/>
                  <a:pt x="70" y="85"/>
                </a:cubicBezTo>
                <a:lnTo>
                  <a:pt x="155" y="85"/>
                </a:lnTo>
                <a:cubicBezTo>
                  <a:pt x="178" y="85"/>
                  <a:pt x="197" y="65"/>
                  <a:pt x="197" y="43"/>
                </a:cubicBezTo>
                <a:lnTo>
                  <a:pt x="197" y="15"/>
                </a:lnTo>
                <a:cubicBezTo>
                  <a:pt x="197" y="6"/>
                  <a:pt x="203" y="0"/>
                  <a:pt x="211" y="0"/>
                </a:cubicBezTo>
                <a:cubicBezTo>
                  <a:pt x="220" y="0"/>
                  <a:pt x="226" y="6"/>
                  <a:pt x="226" y="15"/>
                </a:cubicBezTo>
                <a:lnTo>
                  <a:pt x="226" y="43"/>
                </a:lnTo>
                <a:cubicBezTo>
                  <a:pt x="226" y="82"/>
                  <a:pt x="195" y="113"/>
                  <a:pt x="155" y="11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49"/>
          <p:cNvSpPr/>
          <p:nvPr/>
        </p:nvSpPr>
        <p:spPr>
          <a:xfrm>
            <a:off x="6143760" y="4503600"/>
            <a:ext cx="191880" cy="247680"/>
          </a:xfrm>
          <a:custGeom>
            <a:avLst/>
            <a:gdLst/>
            <a:ahLst/>
            <a:rect l="l" t="t" r="r" b="b"/>
            <a:pathLst>
              <a:path w="283" h="368">
                <a:moveTo>
                  <a:pt x="254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38"/>
                </a:lnTo>
                <a:cubicBezTo>
                  <a:pt x="0" y="355"/>
                  <a:pt x="11" y="367"/>
                  <a:pt x="28" y="367"/>
                </a:cubicBezTo>
                <a:lnTo>
                  <a:pt x="254" y="367"/>
                </a:lnTo>
                <a:cubicBezTo>
                  <a:pt x="271" y="367"/>
                  <a:pt x="282" y="355"/>
                  <a:pt x="282" y="338"/>
                </a:cubicBezTo>
                <a:lnTo>
                  <a:pt x="282" y="28"/>
                </a:lnTo>
                <a:cubicBezTo>
                  <a:pt x="282" y="11"/>
                  <a:pt x="271" y="0"/>
                  <a:pt x="254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50"/>
          <p:cNvSpPr/>
          <p:nvPr/>
        </p:nvSpPr>
        <p:spPr>
          <a:xfrm>
            <a:off x="6031080" y="4500720"/>
            <a:ext cx="95040" cy="250560"/>
          </a:xfrm>
          <a:custGeom>
            <a:avLst/>
            <a:gdLst/>
            <a:ahLst/>
            <a:rect l="l" t="t" r="r" b="b"/>
            <a:pathLst>
              <a:path w="142" h="371">
                <a:moveTo>
                  <a:pt x="127" y="116"/>
                </a:moveTo>
                <a:lnTo>
                  <a:pt x="136" y="99"/>
                </a:lnTo>
                <a:cubicBezTo>
                  <a:pt x="139" y="93"/>
                  <a:pt x="141" y="88"/>
                  <a:pt x="141" y="79"/>
                </a:cubicBezTo>
                <a:lnTo>
                  <a:pt x="141" y="42"/>
                </a:lnTo>
                <a:cubicBezTo>
                  <a:pt x="141" y="20"/>
                  <a:pt x="122" y="0"/>
                  <a:pt x="99" y="0"/>
                </a:cubicBezTo>
                <a:lnTo>
                  <a:pt x="43" y="0"/>
                </a:lnTo>
                <a:cubicBezTo>
                  <a:pt x="20" y="0"/>
                  <a:pt x="0" y="20"/>
                  <a:pt x="0" y="42"/>
                </a:cubicBezTo>
                <a:lnTo>
                  <a:pt x="0" y="79"/>
                </a:lnTo>
                <a:cubicBezTo>
                  <a:pt x="0" y="85"/>
                  <a:pt x="3" y="93"/>
                  <a:pt x="6" y="99"/>
                </a:cubicBezTo>
                <a:lnTo>
                  <a:pt x="14" y="116"/>
                </a:lnTo>
                <a:cubicBezTo>
                  <a:pt x="14" y="119"/>
                  <a:pt x="17" y="119"/>
                  <a:pt x="17" y="121"/>
                </a:cubicBezTo>
                <a:lnTo>
                  <a:pt x="17" y="248"/>
                </a:lnTo>
                <a:cubicBezTo>
                  <a:pt x="17" y="251"/>
                  <a:pt x="17" y="254"/>
                  <a:pt x="14" y="254"/>
                </a:cubicBezTo>
                <a:lnTo>
                  <a:pt x="6" y="271"/>
                </a:lnTo>
                <a:cubicBezTo>
                  <a:pt x="3" y="277"/>
                  <a:pt x="0" y="282"/>
                  <a:pt x="0" y="291"/>
                </a:cubicBezTo>
                <a:lnTo>
                  <a:pt x="0" y="327"/>
                </a:lnTo>
                <a:cubicBezTo>
                  <a:pt x="0" y="350"/>
                  <a:pt x="20" y="370"/>
                  <a:pt x="43" y="370"/>
                </a:cubicBezTo>
                <a:lnTo>
                  <a:pt x="99" y="370"/>
                </a:lnTo>
                <a:cubicBezTo>
                  <a:pt x="122" y="370"/>
                  <a:pt x="141" y="350"/>
                  <a:pt x="141" y="327"/>
                </a:cubicBezTo>
                <a:lnTo>
                  <a:pt x="141" y="291"/>
                </a:lnTo>
                <a:cubicBezTo>
                  <a:pt x="141" y="285"/>
                  <a:pt x="139" y="277"/>
                  <a:pt x="136" y="271"/>
                </a:cubicBezTo>
                <a:lnTo>
                  <a:pt x="127" y="254"/>
                </a:lnTo>
                <a:cubicBezTo>
                  <a:pt x="127" y="251"/>
                  <a:pt x="124" y="251"/>
                  <a:pt x="124" y="248"/>
                </a:cubicBezTo>
                <a:lnTo>
                  <a:pt x="124" y="121"/>
                </a:lnTo>
                <a:cubicBezTo>
                  <a:pt x="124" y="121"/>
                  <a:pt x="124" y="119"/>
                  <a:pt x="127" y="11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1"/>
          <p:cNvSpPr/>
          <p:nvPr/>
        </p:nvSpPr>
        <p:spPr>
          <a:xfrm>
            <a:off x="6183360" y="4541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155" y="85"/>
                </a:lnTo>
                <a:cubicBezTo>
                  <a:pt x="164" y="85"/>
                  <a:pt x="169" y="79"/>
                  <a:pt x="169" y="71"/>
                </a:cubicBezTo>
                <a:lnTo>
                  <a:pt x="169" y="14"/>
                </a:lnTo>
                <a:cubicBezTo>
                  <a:pt x="169" y="6"/>
                  <a:pt x="164" y="0"/>
                  <a:pt x="15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52"/>
          <p:cNvSpPr/>
          <p:nvPr/>
        </p:nvSpPr>
        <p:spPr>
          <a:xfrm>
            <a:off x="623088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53"/>
          <p:cNvSpPr/>
          <p:nvPr/>
        </p:nvSpPr>
        <p:spPr>
          <a:xfrm>
            <a:off x="623088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54"/>
          <p:cNvSpPr/>
          <p:nvPr/>
        </p:nvSpPr>
        <p:spPr>
          <a:xfrm>
            <a:off x="623088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55"/>
          <p:cNvSpPr/>
          <p:nvPr/>
        </p:nvSpPr>
        <p:spPr>
          <a:xfrm>
            <a:off x="618336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56"/>
          <p:cNvSpPr/>
          <p:nvPr/>
        </p:nvSpPr>
        <p:spPr>
          <a:xfrm>
            <a:off x="618336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57"/>
          <p:cNvSpPr/>
          <p:nvPr/>
        </p:nvSpPr>
        <p:spPr>
          <a:xfrm>
            <a:off x="618336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58"/>
          <p:cNvSpPr/>
          <p:nvPr/>
        </p:nvSpPr>
        <p:spPr>
          <a:xfrm>
            <a:off x="6278400" y="4656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59"/>
          <p:cNvSpPr/>
          <p:nvPr/>
        </p:nvSpPr>
        <p:spPr>
          <a:xfrm>
            <a:off x="6278400" y="4616280"/>
            <a:ext cx="2088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60"/>
          <p:cNvSpPr/>
          <p:nvPr/>
        </p:nvSpPr>
        <p:spPr>
          <a:xfrm>
            <a:off x="6278400" y="469440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1"/>
          <p:cNvSpPr/>
          <p:nvPr/>
        </p:nvSpPr>
        <p:spPr>
          <a:xfrm>
            <a:off x="6796080" y="4541760"/>
            <a:ext cx="270000" cy="27000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81" y="282"/>
                </a:moveTo>
                <a:cubicBezTo>
                  <a:pt x="339" y="282"/>
                  <a:pt x="302" y="274"/>
                  <a:pt x="265" y="257"/>
                </a:cubicBezTo>
                <a:cubicBezTo>
                  <a:pt x="263" y="254"/>
                  <a:pt x="257" y="254"/>
                  <a:pt x="254" y="257"/>
                </a:cubicBezTo>
                <a:cubicBezTo>
                  <a:pt x="251" y="257"/>
                  <a:pt x="249" y="260"/>
                  <a:pt x="246" y="266"/>
                </a:cubicBezTo>
                <a:lnTo>
                  <a:pt x="223" y="311"/>
                </a:lnTo>
                <a:cubicBezTo>
                  <a:pt x="167" y="280"/>
                  <a:pt x="119" y="232"/>
                  <a:pt x="85" y="172"/>
                </a:cubicBezTo>
                <a:lnTo>
                  <a:pt x="130" y="150"/>
                </a:lnTo>
                <a:cubicBezTo>
                  <a:pt x="133" y="147"/>
                  <a:pt x="136" y="144"/>
                  <a:pt x="138" y="141"/>
                </a:cubicBezTo>
                <a:cubicBezTo>
                  <a:pt x="138" y="139"/>
                  <a:pt x="138" y="133"/>
                  <a:pt x="138" y="130"/>
                </a:cubicBezTo>
                <a:cubicBezTo>
                  <a:pt x="122" y="93"/>
                  <a:pt x="113" y="54"/>
                  <a:pt x="113" y="14"/>
                </a:cubicBezTo>
                <a:cubicBezTo>
                  <a:pt x="113" y="6"/>
                  <a:pt x="107" y="0"/>
                  <a:pt x="99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23"/>
                  <a:pt x="172" y="395"/>
                  <a:pt x="381" y="395"/>
                </a:cubicBezTo>
                <a:cubicBezTo>
                  <a:pt x="390" y="395"/>
                  <a:pt x="395" y="390"/>
                  <a:pt x="395" y="381"/>
                </a:cubicBezTo>
                <a:lnTo>
                  <a:pt x="395" y="297"/>
                </a:lnTo>
                <a:cubicBezTo>
                  <a:pt x="395" y="288"/>
                  <a:pt x="390" y="282"/>
                  <a:pt x="381" y="282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62"/>
          <p:cNvSpPr/>
          <p:nvPr/>
        </p:nvSpPr>
        <p:spPr>
          <a:xfrm>
            <a:off x="6931080" y="4521240"/>
            <a:ext cx="17316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225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lnTo>
                  <a:pt x="56" y="169"/>
                </a:lnTo>
                <a:lnTo>
                  <a:pt x="56" y="212"/>
                </a:lnTo>
                <a:cubicBezTo>
                  <a:pt x="56" y="217"/>
                  <a:pt x="59" y="223"/>
                  <a:pt x="65" y="226"/>
                </a:cubicBezTo>
                <a:cubicBezTo>
                  <a:pt x="67" y="226"/>
                  <a:pt x="67" y="226"/>
                  <a:pt x="70" y="226"/>
                </a:cubicBezTo>
                <a:cubicBezTo>
                  <a:pt x="76" y="226"/>
                  <a:pt x="79" y="223"/>
                  <a:pt x="82" y="220"/>
                </a:cubicBezTo>
                <a:lnTo>
                  <a:pt x="118" y="169"/>
                </a:lnTo>
                <a:lnTo>
                  <a:pt x="225" y="169"/>
                </a:lnTo>
                <a:cubicBezTo>
                  <a:pt x="242" y="169"/>
                  <a:pt x="254" y="158"/>
                  <a:pt x="254" y="141"/>
                </a:cubicBezTo>
                <a:lnTo>
                  <a:pt x="254" y="28"/>
                </a:lnTo>
                <a:cubicBezTo>
                  <a:pt x="254" y="11"/>
                  <a:pt x="242" y="0"/>
                  <a:pt x="225" y="0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3"/>
          <p:cNvSpPr/>
          <p:nvPr/>
        </p:nvSpPr>
        <p:spPr>
          <a:xfrm>
            <a:off x="7693200" y="4521240"/>
            <a:ext cx="174600" cy="270000"/>
          </a:xfrm>
          <a:custGeom>
            <a:avLst/>
            <a:gdLst/>
            <a:ahLst/>
            <a:rect l="l" t="t" r="r" b="b"/>
            <a:pathLst>
              <a:path w="256" h="396">
                <a:moveTo>
                  <a:pt x="58" y="395"/>
                </a:moveTo>
                <a:cubicBezTo>
                  <a:pt x="41" y="395"/>
                  <a:pt x="27" y="392"/>
                  <a:pt x="13" y="390"/>
                </a:cubicBezTo>
                <a:cubicBezTo>
                  <a:pt x="4" y="387"/>
                  <a:pt x="2" y="381"/>
                  <a:pt x="2" y="373"/>
                </a:cubicBezTo>
                <a:cubicBezTo>
                  <a:pt x="4" y="364"/>
                  <a:pt x="10" y="361"/>
                  <a:pt x="18" y="361"/>
                </a:cubicBezTo>
                <a:cubicBezTo>
                  <a:pt x="30" y="364"/>
                  <a:pt x="44" y="367"/>
                  <a:pt x="58" y="367"/>
                </a:cubicBezTo>
                <a:cubicBezTo>
                  <a:pt x="151" y="367"/>
                  <a:pt x="227" y="291"/>
                  <a:pt x="227" y="198"/>
                </a:cubicBezTo>
                <a:cubicBezTo>
                  <a:pt x="227" y="104"/>
                  <a:pt x="151" y="28"/>
                  <a:pt x="58" y="28"/>
                </a:cubicBezTo>
                <a:cubicBezTo>
                  <a:pt x="44" y="28"/>
                  <a:pt x="33" y="31"/>
                  <a:pt x="18" y="34"/>
                </a:cubicBezTo>
                <a:cubicBezTo>
                  <a:pt x="10" y="37"/>
                  <a:pt x="5" y="31"/>
                  <a:pt x="2" y="23"/>
                </a:cubicBezTo>
                <a:cubicBezTo>
                  <a:pt x="0" y="14"/>
                  <a:pt x="4" y="9"/>
                  <a:pt x="13" y="6"/>
                </a:cubicBezTo>
                <a:cubicBezTo>
                  <a:pt x="27" y="3"/>
                  <a:pt x="44" y="0"/>
                  <a:pt x="58" y="0"/>
                </a:cubicBezTo>
                <a:cubicBezTo>
                  <a:pt x="168" y="0"/>
                  <a:pt x="255" y="88"/>
                  <a:pt x="255" y="198"/>
                </a:cubicBezTo>
                <a:cubicBezTo>
                  <a:pt x="255" y="308"/>
                  <a:pt x="168" y="395"/>
                  <a:pt x="58" y="395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64"/>
          <p:cNvSpPr/>
          <p:nvPr/>
        </p:nvSpPr>
        <p:spPr>
          <a:xfrm>
            <a:off x="7675560" y="4599000"/>
            <a:ext cx="6048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43" y="85"/>
                </a:moveTo>
                <a:cubicBezTo>
                  <a:pt x="65" y="85"/>
                  <a:pt x="85" y="64"/>
                  <a:pt x="85" y="42"/>
                </a:cubicBezTo>
                <a:cubicBezTo>
                  <a:pt x="85" y="19"/>
                  <a:pt x="65" y="0"/>
                  <a:pt x="43" y="0"/>
                </a:cubicBez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43" y="28"/>
                </a:lnTo>
                <a:cubicBezTo>
                  <a:pt x="51" y="28"/>
                  <a:pt x="57" y="33"/>
                  <a:pt x="57" y="42"/>
                </a:cubicBezTo>
                <a:cubicBezTo>
                  <a:pt x="57" y="50"/>
                  <a:pt x="51" y="56"/>
                  <a:pt x="43" y="56"/>
                </a:cubicBezTo>
                <a:cubicBezTo>
                  <a:pt x="20" y="56"/>
                  <a:pt x="0" y="76"/>
                  <a:pt x="0" y="99"/>
                </a:cubicBezTo>
                <a:lnTo>
                  <a:pt x="0" y="127"/>
                </a:lnTo>
                <a:cubicBezTo>
                  <a:pt x="0" y="135"/>
                  <a:pt x="6" y="141"/>
                  <a:pt x="14" y="141"/>
                </a:cubicBezTo>
                <a:lnTo>
                  <a:pt x="71" y="141"/>
                </a:lnTo>
                <a:cubicBezTo>
                  <a:pt x="79" y="141"/>
                  <a:pt x="85" y="135"/>
                  <a:pt x="85" y="127"/>
                </a:cubicBezTo>
                <a:cubicBezTo>
                  <a:pt x="85" y="118"/>
                  <a:pt x="79" y="113"/>
                  <a:pt x="71" y="113"/>
                </a:cubicBezTo>
                <a:lnTo>
                  <a:pt x="29" y="113"/>
                </a:lnTo>
                <a:lnTo>
                  <a:pt x="29" y="99"/>
                </a:lnTo>
                <a:cubicBezTo>
                  <a:pt x="29" y="90"/>
                  <a:pt x="34" y="85"/>
                  <a:pt x="43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5"/>
          <p:cNvSpPr/>
          <p:nvPr/>
        </p:nvSpPr>
        <p:spPr>
          <a:xfrm>
            <a:off x="7750080" y="4595760"/>
            <a:ext cx="60480" cy="98640"/>
          </a:xfrm>
          <a:custGeom>
            <a:avLst/>
            <a:gdLst/>
            <a:ahLst/>
            <a:rect l="l" t="t" r="r" b="b"/>
            <a:pathLst>
              <a:path w="89" h="145">
                <a:moveTo>
                  <a:pt x="74" y="3"/>
                </a:moveTo>
                <a:cubicBezTo>
                  <a:pt x="65" y="3"/>
                  <a:pt x="60" y="9"/>
                  <a:pt x="60" y="17"/>
                </a:cubicBezTo>
                <a:lnTo>
                  <a:pt x="60" y="59"/>
                </a:lnTo>
                <a:lnTo>
                  <a:pt x="34" y="59"/>
                </a:lnTo>
                <a:lnTo>
                  <a:pt x="43" y="20"/>
                </a:lnTo>
                <a:cubicBezTo>
                  <a:pt x="45" y="11"/>
                  <a:pt x="40" y="6"/>
                  <a:pt x="31" y="3"/>
                </a:cubicBezTo>
                <a:cubicBezTo>
                  <a:pt x="23" y="0"/>
                  <a:pt x="17" y="6"/>
                  <a:pt x="14" y="14"/>
                </a:cubicBezTo>
                <a:lnTo>
                  <a:pt x="0" y="71"/>
                </a:lnTo>
                <a:cubicBezTo>
                  <a:pt x="0" y="74"/>
                  <a:pt x="0" y="79"/>
                  <a:pt x="3" y="82"/>
                </a:cubicBezTo>
                <a:cubicBezTo>
                  <a:pt x="6" y="85"/>
                  <a:pt x="9" y="88"/>
                  <a:pt x="14" y="88"/>
                </a:cubicBezTo>
                <a:lnTo>
                  <a:pt x="57" y="88"/>
                </a:lnTo>
                <a:lnTo>
                  <a:pt x="57" y="130"/>
                </a:lnTo>
                <a:cubicBezTo>
                  <a:pt x="57" y="138"/>
                  <a:pt x="63" y="144"/>
                  <a:pt x="71" y="144"/>
                </a:cubicBezTo>
                <a:cubicBezTo>
                  <a:pt x="80" y="144"/>
                  <a:pt x="85" y="138"/>
                  <a:pt x="85" y="130"/>
                </a:cubicBezTo>
                <a:lnTo>
                  <a:pt x="85" y="17"/>
                </a:lnTo>
                <a:cubicBezTo>
                  <a:pt x="88" y="9"/>
                  <a:pt x="82" y="3"/>
                  <a:pt x="74" y="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66"/>
          <p:cNvSpPr/>
          <p:nvPr/>
        </p:nvSpPr>
        <p:spPr>
          <a:xfrm>
            <a:off x="7561440" y="4506840"/>
            <a:ext cx="107640" cy="308160"/>
          </a:xfrm>
          <a:custGeom>
            <a:avLst/>
            <a:gdLst/>
            <a:ahLst/>
            <a:rect l="l" t="t" r="r" b="b"/>
            <a:pathLst>
              <a:path w="159" h="453">
                <a:moveTo>
                  <a:pt x="110" y="294"/>
                </a:moveTo>
                <a:cubicBezTo>
                  <a:pt x="110" y="291"/>
                  <a:pt x="107" y="288"/>
                  <a:pt x="104" y="286"/>
                </a:cubicBezTo>
                <a:cubicBezTo>
                  <a:pt x="102" y="283"/>
                  <a:pt x="96" y="283"/>
                  <a:pt x="93" y="286"/>
                </a:cubicBezTo>
                <a:lnTo>
                  <a:pt x="54" y="300"/>
                </a:lnTo>
                <a:cubicBezTo>
                  <a:pt x="48" y="274"/>
                  <a:pt x="45" y="248"/>
                  <a:pt x="45" y="223"/>
                </a:cubicBezTo>
                <a:cubicBezTo>
                  <a:pt x="45" y="197"/>
                  <a:pt x="48" y="173"/>
                  <a:pt x="54" y="147"/>
                </a:cubicBezTo>
                <a:lnTo>
                  <a:pt x="93" y="161"/>
                </a:lnTo>
                <a:cubicBezTo>
                  <a:pt x="96" y="161"/>
                  <a:pt x="102" y="161"/>
                  <a:pt x="104" y="161"/>
                </a:cubicBezTo>
                <a:cubicBezTo>
                  <a:pt x="107" y="159"/>
                  <a:pt x="110" y="156"/>
                  <a:pt x="110" y="153"/>
                </a:cubicBezTo>
                <a:cubicBezTo>
                  <a:pt x="118" y="122"/>
                  <a:pt x="133" y="94"/>
                  <a:pt x="152" y="68"/>
                </a:cubicBezTo>
                <a:cubicBezTo>
                  <a:pt x="158" y="63"/>
                  <a:pt x="155" y="54"/>
                  <a:pt x="150" y="48"/>
                </a:cubicBezTo>
                <a:lnTo>
                  <a:pt x="96" y="3"/>
                </a:lnTo>
                <a:cubicBezTo>
                  <a:pt x="93" y="0"/>
                  <a:pt x="90" y="0"/>
                  <a:pt x="85" y="0"/>
                </a:cubicBezTo>
                <a:cubicBezTo>
                  <a:pt x="82" y="0"/>
                  <a:pt x="76" y="3"/>
                  <a:pt x="76" y="6"/>
                </a:cubicBezTo>
                <a:cubicBezTo>
                  <a:pt x="25" y="68"/>
                  <a:pt x="0" y="147"/>
                  <a:pt x="0" y="226"/>
                </a:cubicBezTo>
                <a:cubicBezTo>
                  <a:pt x="0" y="305"/>
                  <a:pt x="28" y="384"/>
                  <a:pt x="76" y="446"/>
                </a:cubicBezTo>
                <a:cubicBezTo>
                  <a:pt x="79" y="449"/>
                  <a:pt x="82" y="452"/>
                  <a:pt x="85" y="452"/>
                </a:cubicBezTo>
                <a:lnTo>
                  <a:pt x="85" y="452"/>
                </a:lnTo>
                <a:cubicBezTo>
                  <a:pt x="87" y="452"/>
                  <a:pt x="90" y="452"/>
                  <a:pt x="93" y="449"/>
                </a:cubicBezTo>
                <a:lnTo>
                  <a:pt x="147" y="404"/>
                </a:lnTo>
                <a:cubicBezTo>
                  <a:pt x="152" y="398"/>
                  <a:pt x="152" y="390"/>
                  <a:pt x="150" y="384"/>
                </a:cubicBezTo>
                <a:cubicBezTo>
                  <a:pt x="133" y="353"/>
                  <a:pt x="118" y="325"/>
                  <a:pt x="110" y="29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67"/>
          <p:cNvSpPr/>
          <p:nvPr/>
        </p:nvSpPr>
        <p:spPr>
          <a:xfrm>
            <a:off x="5456160" y="607392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5"/>
                </a:moveTo>
                <a:cubicBezTo>
                  <a:pt x="169" y="100"/>
                  <a:pt x="166" y="114"/>
                  <a:pt x="158" y="127"/>
                </a:cubicBezTo>
                <a:cubicBezTo>
                  <a:pt x="150" y="141"/>
                  <a:pt x="141" y="150"/>
                  <a:pt x="127" y="158"/>
                </a:cubicBezTo>
                <a:cubicBezTo>
                  <a:pt x="114" y="166"/>
                  <a:pt x="100" y="169"/>
                  <a:pt x="84" y="169"/>
                </a:cubicBezTo>
                <a:cubicBezTo>
                  <a:pt x="69" y="169"/>
                  <a:pt x="56" y="166"/>
                  <a:pt x="42" y="158"/>
                </a:cubicBezTo>
                <a:cubicBezTo>
                  <a:pt x="29" y="150"/>
                  <a:pt x="19" y="141"/>
                  <a:pt x="11" y="127"/>
                </a:cubicBezTo>
                <a:cubicBezTo>
                  <a:pt x="3" y="114"/>
                  <a:pt x="0" y="101"/>
                  <a:pt x="0" y="85"/>
                </a:cubicBezTo>
                <a:cubicBezTo>
                  <a:pt x="0" y="70"/>
                  <a:pt x="3" y="56"/>
                  <a:pt x="11" y="42"/>
                </a:cubicBezTo>
                <a:cubicBezTo>
                  <a:pt x="19" y="29"/>
                  <a:pt x="29" y="19"/>
                  <a:pt x="42" y="11"/>
                </a:cubicBezTo>
                <a:cubicBezTo>
                  <a:pt x="56" y="3"/>
                  <a:pt x="69" y="0"/>
                  <a:pt x="84" y="0"/>
                </a:cubicBezTo>
                <a:cubicBezTo>
                  <a:pt x="100" y="0"/>
                  <a:pt x="114" y="3"/>
                  <a:pt x="127" y="11"/>
                </a:cubicBezTo>
                <a:cubicBezTo>
                  <a:pt x="141" y="19"/>
                  <a:pt x="150" y="29"/>
                  <a:pt x="158" y="42"/>
                </a:cubicBezTo>
                <a:cubicBezTo>
                  <a:pt x="166" y="56"/>
                  <a:pt x="169" y="69"/>
                  <a:pt x="169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68"/>
          <p:cNvSpPr/>
          <p:nvPr/>
        </p:nvSpPr>
        <p:spPr>
          <a:xfrm>
            <a:off x="5264280" y="6091200"/>
            <a:ext cx="307800" cy="1922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364" y="113"/>
                </a:moveTo>
                <a:cubicBezTo>
                  <a:pt x="350" y="48"/>
                  <a:pt x="293" y="0"/>
                  <a:pt x="225" y="0"/>
                </a:cubicBezTo>
                <a:cubicBezTo>
                  <a:pt x="169" y="0"/>
                  <a:pt x="118" y="34"/>
                  <a:pt x="96" y="85"/>
                </a:cubicBezTo>
                <a:cubicBezTo>
                  <a:pt x="42" y="85"/>
                  <a:pt x="0" y="130"/>
                  <a:pt x="0" y="183"/>
                </a:cubicBezTo>
                <a:cubicBezTo>
                  <a:pt x="0" y="237"/>
                  <a:pt x="45" y="282"/>
                  <a:pt x="98" y="282"/>
                </a:cubicBezTo>
                <a:lnTo>
                  <a:pt x="366" y="282"/>
                </a:lnTo>
                <a:cubicBezTo>
                  <a:pt x="414" y="282"/>
                  <a:pt x="451" y="246"/>
                  <a:pt x="451" y="198"/>
                </a:cubicBezTo>
                <a:cubicBezTo>
                  <a:pt x="451" y="150"/>
                  <a:pt x="412" y="113"/>
                  <a:pt x="364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69"/>
          <p:cNvSpPr/>
          <p:nvPr/>
        </p:nvSpPr>
        <p:spPr>
          <a:xfrm>
            <a:off x="6031080" y="6053040"/>
            <a:ext cx="30780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113"/>
                </a:moveTo>
                <a:cubicBezTo>
                  <a:pt x="350" y="48"/>
                  <a:pt x="294" y="0"/>
                  <a:pt x="226" y="0"/>
                </a:cubicBezTo>
                <a:cubicBezTo>
                  <a:pt x="170" y="0"/>
                  <a:pt x="119" y="33"/>
                  <a:pt x="96" y="84"/>
                </a:cubicBezTo>
                <a:cubicBezTo>
                  <a:pt x="43" y="84"/>
                  <a:pt x="0" y="129"/>
                  <a:pt x="0" y="183"/>
                </a:cubicBezTo>
                <a:cubicBezTo>
                  <a:pt x="0" y="237"/>
                  <a:pt x="46" y="282"/>
                  <a:pt x="99" y="282"/>
                </a:cubicBezTo>
                <a:lnTo>
                  <a:pt x="367" y="282"/>
                </a:lnTo>
                <a:cubicBezTo>
                  <a:pt x="415" y="282"/>
                  <a:pt x="452" y="245"/>
                  <a:pt x="452" y="197"/>
                </a:cubicBezTo>
                <a:cubicBezTo>
                  <a:pt x="452" y="149"/>
                  <a:pt x="415" y="113"/>
                  <a:pt x="367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0"/>
          <p:cNvSpPr/>
          <p:nvPr/>
        </p:nvSpPr>
        <p:spPr>
          <a:xfrm>
            <a:off x="6240600" y="6262560"/>
            <a:ext cx="554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71"/>
          <p:cNvSpPr/>
          <p:nvPr/>
        </p:nvSpPr>
        <p:spPr>
          <a:xfrm>
            <a:off x="615312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72"/>
          <p:cNvSpPr/>
          <p:nvPr/>
        </p:nvSpPr>
        <p:spPr>
          <a:xfrm>
            <a:off x="606888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5" y="96"/>
                  <a:pt x="85" y="74"/>
                </a:cubicBezTo>
                <a:cubicBezTo>
                  <a:pt x="85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73"/>
          <p:cNvSpPr/>
          <p:nvPr/>
        </p:nvSpPr>
        <p:spPr>
          <a:xfrm>
            <a:off x="6796080" y="6053040"/>
            <a:ext cx="30816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113"/>
                </a:moveTo>
                <a:cubicBezTo>
                  <a:pt x="350" y="48"/>
                  <a:pt x="294" y="0"/>
                  <a:pt x="226" y="0"/>
                </a:cubicBezTo>
                <a:cubicBezTo>
                  <a:pt x="170" y="0"/>
                  <a:pt x="119" y="33"/>
                  <a:pt x="96" y="84"/>
                </a:cubicBezTo>
                <a:cubicBezTo>
                  <a:pt x="43" y="84"/>
                  <a:pt x="0" y="129"/>
                  <a:pt x="0" y="183"/>
                </a:cubicBezTo>
                <a:cubicBezTo>
                  <a:pt x="0" y="237"/>
                  <a:pt x="45" y="282"/>
                  <a:pt x="99" y="282"/>
                </a:cubicBezTo>
                <a:lnTo>
                  <a:pt x="367" y="282"/>
                </a:lnTo>
                <a:cubicBezTo>
                  <a:pt x="415" y="282"/>
                  <a:pt x="452" y="245"/>
                  <a:pt x="452" y="197"/>
                </a:cubicBezTo>
                <a:cubicBezTo>
                  <a:pt x="452" y="149"/>
                  <a:pt x="415" y="113"/>
                  <a:pt x="367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74"/>
          <p:cNvSpPr/>
          <p:nvPr/>
        </p:nvSpPr>
        <p:spPr>
          <a:xfrm>
            <a:off x="702612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53" y="9"/>
                </a:moveTo>
                <a:cubicBezTo>
                  <a:pt x="48" y="0"/>
                  <a:pt x="37" y="0"/>
                  <a:pt x="31" y="9"/>
                </a:cubicBez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75"/>
          <p:cNvSpPr/>
          <p:nvPr/>
        </p:nvSpPr>
        <p:spPr>
          <a:xfrm>
            <a:off x="694836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31" y="9"/>
                </a:moveTo>
                <a:cubicBezTo>
                  <a:pt x="23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5" y="96"/>
                  <a:pt x="85" y="74"/>
                </a:cubicBezTo>
                <a:cubicBezTo>
                  <a:pt x="85" y="57"/>
                  <a:pt x="62" y="23"/>
                  <a:pt x="54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76"/>
          <p:cNvSpPr/>
          <p:nvPr/>
        </p:nvSpPr>
        <p:spPr>
          <a:xfrm>
            <a:off x="6823080" y="6188040"/>
            <a:ext cx="77760" cy="152280"/>
          </a:xfrm>
          <a:custGeom>
            <a:avLst/>
            <a:gdLst/>
            <a:ahLst/>
            <a:rect l="l" t="t" r="r" b="b"/>
            <a:pathLst>
              <a:path w="116" h="227">
                <a:moveTo>
                  <a:pt x="113" y="90"/>
                </a:moveTo>
                <a:cubicBezTo>
                  <a:pt x="110" y="88"/>
                  <a:pt x="107" y="85"/>
                  <a:pt x="101" y="85"/>
                </a:cubicBezTo>
                <a:lnTo>
                  <a:pt x="73" y="85"/>
                </a:lnTo>
                <a:lnTo>
                  <a:pt x="73" y="14"/>
                </a:lnTo>
                <a:cubicBezTo>
                  <a:pt x="73" y="9"/>
                  <a:pt x="67" y="3"/>
                  <a:pt x="62" y="0"/>
                </a:cubicBezTo>
                <a:cubicBezTo>
                  <a:pt x="56" y="0"/>
                  <a:pt x="48" y="3"/>
                  <a:pt x="45" y="9"/>
                </a:cubicBezTo>
                <a:lnTo>
                  <a:pt x="3" y="122"/>
                </a:lnTo>
                <a:cubicBezTo>
                  <a:pt x="0" y="127"/>
                  <a:pt x="3" y="130"/>
                  <a:pt x="5" y="136"/>
                </a:cubicBezTo>
                <a:cubicBezTo>
                  <a:pt x="8" y="138"/>
                  <a:pt x="11" y="141"/>
                  <a:pt x="17" y="141"/>
                </a:cubicBezTo>
                <a:lnTo>
                  <a:pt x="45" y="141"/>
                </a:lnTo>
                <a:lnTo>
                  <a:pt x="45" y="212"/>
                </a:lnTo>
                <a:cubicBezTo>
                  <a:pt x="45" y="217"/>
                  <a:pt x="50" y="223"/>
                  <a:pt x="56" y="226"/>
                </a:cubicBezTo>
                <a:lnTo>
                  <a:pt x="59" y="226"/>
                </a:lnTo>
                <a:cubicBezTo>
                  <a:pt x="65" y="226"/>
                  <a:pt x="70" y="223"/>
                  <a:pt x="73" y="217"/>
                </a:cubicBezTo>
                <a:lnTo>
                  <a:pt x="115" y="105"/>
                </a:lnTo>
                <a:cubicBezTo>
                  <a:pt x="115" y="99"/>
                  <a:pt x="115" y="93"/>
                  <a:pt x="113" y="9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77"/>
          <p:cNvSpPr/>
          <p:nvPr/>
        </p:nvSpPr>
        <p:spPr>
          <a:xfrm>
            <a:off x="7770960" y="6130800"/>
            <a:ext cx="3960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43" y="56"/>
                </a:moveTo>
                <a:lnTo>
                  <a:pt x="0" y="56"/>
                </a:lnTo>
                <a:lnTo>
                  <a:pt x="0" y="0"/>
                </a:lnTo>
                <a:lnTo>
                  <a:pt x="43" y="0"/>
                </a:lnTo>
                <a:cubicBezTo>
                  <a:pt x="51" y="0"/>
                  <a:pt x="57" y="5"/>
                  <a:pt x="57" y="14"/>
                </a:cubicBezTo>
                <a:lnTo>
                  <a:pt x="57" y="42"/>
                </a:lnTo>
                <a:cubicBezTo>
                  <a:pt x="57" y="50"/>
                  <a:pt x="51" y="56"/>
                  <a:pt x="43" y="56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8"/>
          <p:cNvSpPr/>
          <p:nvPr/>
        </p:nvSpPr>
        <p:spPr>
          <a:xfrm>
            <a:off x="7631280" y="6035760"/>
            <a:ext cx="145800" cy="79200"/>
          </a:xfrm>
          <a:custGeom>
            <a:avLst/>
            <a:gdLst/>
            <a:ahLst/>
            <a:rect l="l" t="t" r="r" b="b"/>
            <a:pathLst>
              <a:path w="215" h="120">
                <a:moveTo>
                  <a:pt x="16" y="119"/>
                </a:moveTo>
                <a:lnTo>
                  <a:pt x="200" y="119"/>
                </a:lnTo>
                <a:cubicBezTo>
                  <a:pt x="206" y="119"/>
                  <a:pt x="208" y="116"/>
                  <a:pt x="211" y="113"/>
                </a:cubicBezTo>
                <a:cubicBezTo>
                  <a:pt x="214" y="110"/>
                  <a:pt x="214" y="105"/>
                  <a:pt x="211" y="99"/>
                </a:cubicBezTo>
                <a:cubicBezTo>
                  <a:pt x="197" y="74"/>
                  <a:pt x="191" y="43"/>
                  <a:pt x="191" y="15"/>
                </a:cubicBezTo>
                <a:cubicBezTo>
                  <a:pt x="191" y="6"/>
                  <a:pt x="186" y="0"/>
                  <a:pt x="177" y="0"/>
                </a:cubicBezTo>
                <a:lnTo>
                  <a:pt x="36" y="0"/>
                </a:lnTo>
                <a:cubicBezTo>
                  <a:pt x="28" y="0"/>
                  <a:pt x="22" y="6"/>
                  <a:pt x="22" y="15"/>
                </a:cubicBezTo>
                <a:cubicBezTo>
                  <a:pt x="22" y="43"/>
                  <a:pt x="16" y="74"/>
                  <a:pt x="2" y="99"/>
                </a:cubicBezTo>
                <a:cubicBezTo>
                  <a:pt x="0" y="105"/>
                  <a:pt x="0" y="108"/>
                  <a:pt x="2" y="113"/>
                </a:cubicBezTo>
                <a:cubicBezTo>
                  <a:pt x="5" y="119"/>
                  <a:pt x="14" y="119"/>
                  <a:pt x="16" y="11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79"/>
          <p:cNvSpPr/>
          <p:nvPr/>
        </p:nvSpPr>
        <p:spPr>
          <a:xfrm>
            <a:off x="7634160" y="6259680"/>
            <a:ext cx="146160" cy="80640"/>
          </a:xfrm>
          <a:custGeom>
            <a:avLst/>
            <a:gdLst/>
            <a:ahLst/>
            <a:rect l="l" t="t" r="r" b="b"/>
            <a:pathLst>
              <a:path w="216" h="120">
                <a:moveTo>
                  <a:pt x="198" y="0"/>
                </a:moveTo>
                <a:lnTo>
                  <a:pt x="14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5"/>
                  <a:pt x="3" y="20"/>
                </a:cubicBezTo>
                <a:cubicBezTo>
                  <a:pt x="17" y="46"/>
                  <a:pt x="23" y="74"/>
                  <a:pt x="23" y="105"/>
                </a:cubicBezTo>
                <a:cubicBezTo>
                  <a:pt x="23" y="113"/>
                  <a:pt x="28" y="119"/>
                  <a:pt x="37" y="119"/>
                </a:cubicBezTo>
                <a:lnTo>
                  <a:pt x="178" y="119"/>
                </a:lnTo>
                <a:cubicBezTo>
                  <a:pt x="186" y="119"/>
                  <a:pt x="192" y="113"/>
                  <a:pt x="192" y="105"/>
                </a:cubicBezTo>
                <a:cubicBezTo>
                  <a:pt x="192" y="77"/>
                  <a:pt x="198" y="46"/>
                  <a:pt x="212" y="20"/>
                </a:cubicBezTo>
                <a:cubicBezTo>
                  <a:pt x="215" y="15"/>
                  <a:pt x="215" y="12"/>
                  <a:pt x="212" y="6"/>
                </a:cubicBezTo>
                <a:cubicBezTo>
                  <a:pt x="206" y="3"/>
                  <a:pt x="201" y="0"/>
                  <a:pt x="198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80"/>
          <p:cNvSpPr/>
          <p:nvPr/>
        </p:nvSpPr>
        <p:spPr>
          <a:xfrm>
            <a:off x="7618320" y="6091200"/>
            <a:ext cx="17460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7" y="282"/>
                </a:moveTo>
                <a:lnTo>
                  <a:pt x="56" y="282"/>
                </a:lnTo>
                <a:cubicBezTo>
                  <a:pt x="25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8" y="282"/>
                  <a:pt x="197" y="282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81"/>
          <p:cNvSpPr/>
          <p:nvPr/>
        </p:nvSpPr>
        <p:spPr>
          <a:xfrm>
            <a:off x="7637400" y="6110280"/>
            <a:ext cx="133560" cy="152280"/>
          </a:xfrm>
          <a:custGeom>
            <a:avLst/>
            <a:gdLst/>
            <a:ahLst/>
            <a:rect l="l" t="t" r="r" b="b"/>
            <a:pathLst>
              <a:path w="198" h="227">
                <a:moveTo>
                  <a:pt x="28" y="0"/>
                </a:moveTo>
                <a:cubicBezTo>
                  <a:pt x="11" y="0"/>
                  <a:pt x="0" y="12"/>
                  <a:pt x="0" y="29"/>
                </a:cubicBezTo>
                <a:lnTo>
                  <a:pt x="0" y="198"/>
                </a:lnTo>
                <a:cubicBezTo>
                  <a:pt x="0" y="215"/>
                  <a:pt x="11" y="226"/>
                  <a:pt x="28" y="226"/>
                </a:cubicBezTo>
                <a:lnTo>
                  <a:pt x="169" y="226"/>
                </a:lnTo>
                <a:cubicBezTo>
                  <a:pt x="186" y="226"/>
                  <a:pt x="197" y="215"/>
                  <a:pt x="197" y="198"/>
                </a:cubicBezTo>
                <a:lnTo>
                  <a:pt x="197" y="29"/>
                </a:lnTo>
                <a:cubicBezTo>
                  <a:pt x="197" y="12"/>
                  <a:pt x="186" y="0"/>
                  <a:pt x="169" y="0"/>
                </a:cubicBezTo>
                <a:lnTo>
                  <a:pt x="28" y="0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82"/>
          <p:cNvSpPr/>
          <p:nvPr/>
        </p:nvSpPr>
        <p:spPr>
          <a:xfrm>
            <a:off x="7666200" y="61452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07" y="79"/>
                </a:moveTo>
                <a:cubicBezTo>
                  <a:pt x="96" y="79"/>
                  <a:pt x="88" y="76"/>
                  <a:pt x="76" y="73"/>
                </a:cubicBezTo>
                <a:cubicBezTo>
                  <a:pt x="74" y="73"/>
                  <a:pt x="74" y="73"/>
                  <a:pt x="71" y="73"/>
                </a:cubicBezTo>
                <a:cubicBezTo>
                  <a:pt x="68" y="73"/>
                  <a:pt x="68" y="76"/>
                  <a:pt x="68" y="76"/>
                </a:cubicBezTo>
                <a:lnTo>
                  <a:pt x="62" y="85"/>
                </a:lnTo>
                <a:cubicBezTo>
                  <a:pt x="48" y="76"/>
                  <a:pt x="37" y="65"/>
                  <a:pt x="28" y="51"/>
                </a:cubicBezTo>
                <a:lnTo>
                  <a:pt x="37" y="45"/>
                </a:lnTo>
                <a:cubicBezTo>
                  <a:pt x="40" y="45"/>
                  <a:pt x="40" y="42"/>
                  <a:pt x="40" y="42"/>
                </a:cubicBezTo>
                <a:cubicBezTo>
                  <a:pt x="40" y="39"/>
                  <a:pt x="40" y="39"/>
                  <a:pt x="40" y="37"/>
                </a:cubicBezTo>
                <a:cubicBezTo>
                  <a:pt x="34" y="28"/>
                  <a:pt x="34" y="17"/>
                  <a:pt x="34" y="6"/>
                </a:cubicBezTo>
                <a:cubicBezTo>
                  <a:pt x="34" y="3"/>
                  <a:pt x="31" y="0"/>
                  <a:pt x="28" y="0"/>
                </a:cubicBezTo>
                <a:lnTo>
                  <a:pt x="6" y="0"/>
                </a:lnTo>
                <a:cubicBezTo>
                  <a:pt x="3" y="0"/>
                  <a:pt x="0" y="3"/>
                  <a:pt x="0" y="6"/>
                </a:cubicBezTo>
                <a:cubicBezTo>
                  <a:pt x="0" y="65"/>
                  <a:pt x="48" y="113"/>
                  <a:pt x="107" y="113"/>
                </a:cubicBezTo>
                <a:cubicBezTo>
                  <a:pt x="110" y="113"/>
                  <a:pt x="113" y="110"/>
                  <a:pt x="113" y="107"/>
                </a:cubicBezTo>
                <a:lnTo>
                  <a:pt x="113" y="87"/>
                </a:lnTo>
                <a:cubicBezTo>
                  <a:pt x="113" y="82"/>
                  <a:pt x="110" y="79"/>
                  <a:pt x="107" y="79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83"/>
          <p:cNvSpPr/>
          <p:nvPr/>
        </p:nvSpPr>
        <p:spPr>
          <a:xfrm>
            <a:off x="8537400" y="613080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42" y="56"/>
                </a:moveTo>
                <a:lnTo>
                  <a:pt x="0" y="56"/>
                </a:lnTo>
                <a:lnTo>
                  <a:pt x="0" y="0"/>
                </a:lnTo>
                <a:lnTo>
                  <a:pt x="42" y="0"/>
                </a:lnTo>
                <a:cubicBezTo>
                  <a:pt x="51" y="0"/>
                  <a:pt x="57" y="5"/>
                  <a:pt x="57" y="14"/>
                </a:cubicBezTo>
                <a:lnTo>
                  <a:pt x="57" y="42"/>
                </a:lnTo>
                <a:cubicBezTo>
                  <a:pt x="57" y="50"/>
                  <a:pt x="51" y="56"/>
                  <a:pt x="42" y="56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84"/>
          <p:cNvSpPr/>
          <p:nvPr/>
        </p:nvSpPr>
        <p:spPr>
          <a:xfrm>
            <a:off x="8396280" y="6035760"/>
            <a:ext cx="146160" cy="79200"/>
          </a:xfrm>
          <a:custGeom>
            <a:avLst/>
            <a:gdLst/>
            <a:ahLst/>
            <a:rect l="l" t="t" r="r" b="b"/>
            <a:pathLst>
              <a:path w="216" h="120">
                <a:moveTo>
                  <a:pt x="17" y="119"/>
                </a:moveTo>
                <a:lnTo>
                  <a:pt x="201" y="119"/>
                </a:lnTo>
                <a:cubicBezTo>
                  <a:pt x="206" y="119"/>
                  <a:pt x="209" y="116"/>
                  <a:pt x="212" y="113"/>
                </a:cubicBezTo>
                <a:cubicBezTo>
                  <a:pt x="215" y="110"/>
                  <a:pt x="215" y="105"/>
                  <a:pt x="212" y="99"/>
                </a:cubicBezTo>
                <a:cubicBezTo>
                  <a:pt x="198" y="74"/>
                  <a:pt x="192" y="43"/>
                  <a:pt x="192" y="15"/>
                </a:cubicBezTo>
                <a:cubicBezTo>
                  <a:pt x="192" y="6"/>
                  <a:pt x="187" y="0"/>
                  <a:pt x="178" y="0"/>
                </a:cubicBezTo>
                <a:lnTo>
                  <a:pt x="37" y="0"/>
                </a:lnTo>
                <a:cubicBezTo>
                  <a:pt x="29" y="0"/>
                  <a:pt x="23" y="6"/>
                  <a:pt x="23" y="15"/>
                </a:cubicBezTo>
                <a:cubicBezTo>
                  <a:pt x="23" y="43"/>
                  <a:pt x="17" y="74"/>
                  <a:pt x="3" y="99"/>
                </a:cubicBezTo>
                <a:cubicBezTo>
                  <a:pt x="0" y="105"/>
                  <a:pt x="0" y="108"/>
                  <a:pt x="3" y="113"/>
                </a:cubicBezTo>
                <a:cubicBezTo>
                  <a:pt x="6" y="119"/>
                  <a:pt x="14" y="119"/>
                  <a:pt x="17" y="11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85"/>
          <p:cNvSpPr/>
          <p:nvPr/>
        </p:nvSpPr>
        <p:spPr>
          <a:xfrm>
            <a:off x="8399520" y="6259680"/>
            <a:ext cx="146160" cy="80640"/>
          </a:xfrm>
          <a:custGeom>
            <a:avLst/>
            <a:gdLst/>
            <a:ahLst/>
            <a:rect l="l" t="t" r="r" b="b"/>
            <a:pathLst>
              <a:path w="215" h="120">
                <a:moveTo>
                  <a:pt x="198" y="0"/>
                </a:moveTo>
                <a:lnTo>
                  <a:pt x="14" y="0"/>
                </a:lnTo>
                <a:cubicBezTo>
                  <a:pt x="8" y="0"/>
                  <a:pt x="6" y="3"/>
                  <a:pt x="3" y="6"/>
                </a:cubicBezTo>
                <a:cubicBezTo>
                  <a:pt x="0" y="9"/>
                  <a:pt x="0" y="15"/>
                  <a:pt x="3" y="20"/>
                </a:cubicBezTo>
                <a:cubicBezTo>
                  <a:pt x="17" y="46"/>
                  <a:pt x="23" y="74"/>
                  <a:pt x="23" y="105"/>
                </a:cubicBezTo>
                <a:cubicBezTo>
                  <a:pt x="23" y="113"/>
                  <a:pt x="28" y="119"/>
                  <a:pt x="37" y="119"/>
                </a:cubicBezTo>
                <a:lnTo>
                  <a:pt x="178" y="119"/>
                </a:lnTo>
                <a:cubicBezTo>
                  <a:pt x="186" y="119"/>
                  <a:pt x="192" y="113"/>
                  <a:pt x="192" y="105"/>
                </a:cubicBezTo>
                <a:cubicBezTo>
                  <a:pt x="192" y="77"/>
                  <a:pt x="198" y="46"/>
                  <a:pt x="212" y="20"/>
                </a:cubicBezTo>
                <a:cubicBezTo>
                  <a:pt x="214" y="15"/>
                  <a:pt x="214" y="12"/>
                  <a:pt x="212" y="6"/>
                </a:cubicBezTo>
                <a:cubicBezTo>
                  <a:pt x="206" y="3"/>
                  <a:pt x="200" y="0"/>
                  <a:pt x="198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86"/>
          <p:cNvSpPr/>
          <p:nvPr/>
        </p:nvSpPr>
        <p:spPr>
          <a:xfrm>
            <a:off x="8385120" y="6091200"/>
            <a:ext cx="17316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8" y="282"/>
                </a:moveTo>
                <a:lnTo>
                  <a:pt x="57" y="282"/>
                </a:lnTo>
                <a:cubicBezTo>
                  <a:pt x="26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6" y="0"/>
                  <a:pt x="57" y="0"/>
                </a:cubicBezTo>
                <a:lnTo>
                  <a:pt x="198" y="0"/>
                </a:lnTo>
                <a:cubicBezTo>
                  <a:pt x="229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9" y="282"/>
                  <a:pt x="198" y="282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7"/>
          <p:cNvSpPr/>
          <p:nvPr/>
        </p:nvSpPr>
        <p:spPr>
          <a:xfrm>
            <a:off x="8402760" y="6110280"/>
            <a:ext cx="134640" cy="152280"/>
          </a:xfrm>
          <a:custGeom>
            <a:avLst/>
            <a:gdLst/>
            <a:ahLst/>
            <a:rect l="l" t="t" r="r" b="b"/>
            <a:pathLst>
              <a:path w="198" h="227">
                <a:moveTo>
                  <a:pt x="28" y="0"/>
                </a:moveTo>
                <a:cubicBezTo>
                  <a:pt x="11" y="0"/>
                  <a:pt x="0" y="12"/>
                  <a:pt x="0" y="29"/>
                </a:cubicBezTo>
                <a:lnTo>
                  <a:pt x="0" y="198"/>
                </a:lnTo>
                <a:cubicBezTo>
                  <a:pt x="0" y="215"/>
                  <a:pt x="11" y="226"/>
                  <a:pt x="28" y="226"/>
                </a:cubicBezTo>
                <a:lnTo>
                  <a:pt x="169" y="226"/>
                </a:lnTo>
                <a:cubicBezTo>
                  <a:pt x="186" y="226"/>
                  <a:pt x="197" y="215"/>
                  <a:pt x="197" y="198"/>
                </a:cubicBezTo>
                <a:lnTo>
                  <a:pt x="197" y="29"/>
                </a:lnTo>
                <a:cubicBezTo>
                  <a:pt x="197" y="12"/>
                  <a:pt x="186" y="0"/>
                  <a:pt x="169" y="0"/>
                </a:cubicBezTo>
                <a:lnTo>
                  <a:pt x="28" y="0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8"/>
          <p:cNvSpPr/>
          <p:nvPr/>
        </p:nvSpPr>
        <p:spPr>
          <a:xfrm>
            <a:off x="8402760" y="6148440"/>
            <a:ext cx="134640" cy="95040"/>
          </a:xfrm>
          <a:custGeom>
            <a:avLst/>
            <a:gdLst/>
            <a:ahLst/>
            <a:rect l="l" t="t" r="r" b="b"/>
            <a:pathLst>
              <a:path w="198" h="142">
                <a:moveTo>
                  <a:pt x="197" y="141"/>
                </a:moveTo>
                <a:cubicBezTo>
                  <a:pt x="160" y="141"/>
                  <a:pt x="149" y="107"/>
                  <a:pt x="141" y="79"/>
                </a:cubicBezTo>
                <a:cubicBezTo>
                  <a:pt x="132" y="48"/>
                  <a:pt x="124" y="28"/>
                  <a:pt x="98" y="28"/>
                </a:cubicBezTo>
                <a:cubicBezTo>
                  <a:pt x="73" y="28"/>
                  <a:pt x="65" y="48"/>
                  <a:pt x="56" y="79"/>
                </a:cubicBezTo>
                <a:cubicBezTo>
                  <a:pt x="48" y="107"/>
                  <a:pt x="36" y="141"/>
                  <a:pt x="0" y="141"/>
                </a:cubicBezTo>
                <a:lnTo>
                  <a:pt x="0" y="113"/>
                </a:lnTo>
                <a:cubicBezTo>
                  <a:pt x="14" y="113"/>
                  <a:pt x="19" y="98"/>
                  <a:pt x="28" y="70"/>
                </a:cubicBezTo>
                <a:cubicBezTo>
                  <a:pt x="36" y="39"/>
                  <a:pt x="50" y="0"/>
                  <a:pt x="98" y="0"/>
                </a:cubicBezTo>
                <a:cubicBezTo>
                  <a:pt x="146" y="0"/>
                  <a:pt x="158" y="42"/>
                  <a:pt x="169" y="70"/>
                </a:cubicBezTo>
                <a:cubicBezTo>
                  <a:pt x="177" y="98"/>
                  <a:pt x="183" y="113"/>
                  <a:pt x="197" y="113"/>
                </a:cubicBezTo>
                <a:lnTo>
                  <a:pt x="197" y="141"/>
                </a:lnTo>
              </a:path>
            </a:pathLst>
          </a:custGeom>
          <a:solidFill>
            <a:srgbClr val="4dd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9"/>
          <p:cNvSpPr/>
          <p:nvPr/>
        </p:nvSpPr>
        <p:spPr>
          <a:xfrm>
            <a:off x="8432640" y="6138720"/>
            <a:ext cx="38160" cy="399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6" y="28"/>
                </a:moveTo>
                <a:cubicBezTo>
                  <a:pt x="56" y="33"/>
                  <a:pt x="56" y="38"/>
                  <a:pt x="53" y="42"/>
                </a:cubicBezTo>
                <a:cubicBezTo>
                  <a:pt x="51" y="47"/>
                  <a:pt x="47" y="50"/>
                  <a:pt x="42" y="52"/>
                </a:cubicBezTo>
                <a:cubicBezTo>
                  <a:pt x="38" y="55"/>
                  <a:pt x="33" y="56"/>
                  <a:pt x="28" y="56"/>
                </a:cubicBezTo>
                <a:cubicBezTo>
                  <a:pt x="23" y="56"/>
                  <a:pt x="19" y="55"/>
                  <a:pt x="14" y="52"/>
                </a:cubicBezTo>
                <a:cubicBezTo>
                  <a:pt x="10" y="50"/>
                  <a:pt x="7" y="47"/>
                  <a:pt x="4" y="42"/>
                </a:cubicBezTo>
                <a:cubicBezTo>
                  <a:pt x="2" y="38"/>
                  <a:pt x="0" y="33"/>
                  <a:pt x="0" y="28"/>
                </a:cubicBezTo>
                <a:cubicBezTo>
                  <a:pt x="0" y="23"/>
                  <a:pt x="2" y="19"/>
                  <a:pt x="4" y="14"/>
                </a:cubicBezTo>
                <a:cubicBezTo>
                  <a:pt x="7" y="10"/>
                  <a:pt x="10" y="6"/>
                  <a:pt x="14" y="3"/>
                </a:cubicBezTo>
                <a:cubicBezTo>
                  <a:pt x="19" y="1"/>
                  <a:pt x="23" y="0"/>
                  <a:pt x="28" y="0"/>
                </a:cubicBezTo>
                <a:cubicBezTo>
                  <a:pt x="33" y="0"/>
                  <a:pt x="38" y="1"/>
                  <a:pt x="42" y="3"/>
                </a:cubicBezTo>
                <a:cubicBezTo>
                  <a:pt x="47" y="6"/>
                  <a:pt x="51" y="10"/>
                  <a:pt x="53" y="14"/>
                </a:cubicBezTo>
                <a:cubicBezTo>
                  <a:pt x="56" y="19"/>
                  <a:pt x="56" y="23"/>
                  <a:pt x="56" y="2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0"/>
          <p:cNvSpPr/>
          <p:nvPr/>
        </p:nvSpPr>
        <p:spPr>
          <a:xfrm>
            <a:off x="1531800" y="6800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155" y="85"/>
                </a:lnTo>
                <a:cubicBezTo>
                  <a:pt x="164" y="85"/>
                  <a:pt x="169" y="79"/>
                  <a:pt x="169" y="71"/>
                </a:cubicBezTo>
                <a:lnTo>
                  <a:pt x="169" y="14"/>
                </a:lnTo>
                <a:cubicBezTo>
                  <a:pt x="169" y="6"/>
                  <a:pt x="164" y="0"/>
                  <a:pt x="155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1"/>
          <p:cNvSpPr/>
          <p:nvPr/>
        </p:nvSpPr>
        <p:spPr>
          <a:xfrm>
            <a:off x="1465200" y="6848640"/>
            <a:ext cx="246240" cy="95040"/>
          </a:xfrm>
          <a:custGeom>
            <a:avLst/>
            <a:gdLst/>
            <a:ahLst/>
            <a:rect l="l" t="t" r="r" b="b"/>
            <a:pathLst>
              <a:path w="362" h="142">
                <a:moveTo>
                  <a:pt x="0" y="141"/>
                </a:moveTo>
                <a:lnTo>
                  <a:pt x="48" y="17"/>
                </a:lnTo>
                <a:cubicBezTo>
                  <a:pt x="54" y="5"/>
                  <a:pt x="62" y="0"/>
                  <a:pt x="73" y="0"/>
                </a:cubicBezTo>
                <a:lnTo>
                  <a:pt x="288" y="0"/>
                </a:lnTo>
                <a:cubicBezTo>
                  <a:pt x="299" y="0"/>
                  <a:pt x="310" y="5"/>
                  <a:pt x="313" y="17"/>
                </a:cubicBezTo>
                <a:lnTo>
                  <a:pt x="361" y="141"/>
                </a:lnTo>
                <a:lnTo>
                  <a:pt x="0" y="141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2"/>
          <p:cNvSpPr/>
          <p:nvPr/>
        </p:nvSpPr>
        <p:spPr>
          <a:xfrm>
            <a:off x="145728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cubicBezTo>
                  <a:pt x="62" y="0"/>
                  <a:pt x="56" y="5"/>
                  <a:pt x="56" y="14"/>
                </a:cubicBezTo>
                <a:lnTo>
                  <a:pt x="28" y="14"/>
                </a:ln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71" y="84"/>
                </a:lnTo>
                <a:cubicBezTo>
                  <a:pt x="79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93"/>
          <p:cNvSpPr/>
          <p:nvPr/>
        </p:nvSpPr>
        <p:spPr>
          <a:xfrm>
            <a:off x="166680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cubicBezTo>
                  <a:pt x="62" y="0"/>
                  <a:pt x="57" y="5"/>
                  <a:pt x="57" y="14"/>
                </a:cubicBezTo>
                <a:lnTo>
                  <a:pt x="29" y="14"/>
                </a:lnTo>
                <a:cubicBezTo>
                  <a:pt x="29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71" y="84"/>
                </a:lnTo>
                <a:cubicBezTo>
                  <a:pt x="79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94"/>
          <p:cNvSpPr/>
          <p:nvPr/>
        </p:nvSpPr>
        <p:spPr>
          <a:xfrm>
            <a:off x="1434960" y="6935760"/>
            <a:ext cx="309600" cy="115920"/>
          </a:xfrm>
          <a:custGeom>
            <a:avLst/>
            <a:gdLst/>
            <a:ahLst/>
            <a:rect l="l" t="t" r="r" b="b"/>
            <a:pathLst>
              <a:path w="452" h="170">
                <a:moveTo>
                  <a:pt x="409" y="0"/>
                </a:moveTo>
                <a:lnTo>
                  <a:pt x="42" y="0"/>
                </a:lnTo>
                <a:cubicBezTo>
                  <a:pt x="19" y="0"/>
                  <a:pt x="0" y="19"/>
                  <a:pt x="0" y="42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437" y="169"/>
                </a:lnTo>
                <a:cubicBezTo>
                  <a:pt x="446" y="169"/>
                  <a:pt x="451" y="163"/>
                  <a:pt x="451" y="155"/>
                </a:cubicBezTo>
                <a:lnTo>
                  <a:pt x="451" y="42"/>
                </a:lnTo>
                <a:cubicBezTo>
                  <a:pt x="451" y="19"/>
                  <a:pt x="432" y="0"/>
                  <a:pt x="409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95"/>
          <p:cNvSpPr/>
          <p:nvPr/>
        </p:nvSpPr>
        <p:spPr>
          <a:xfrm>
            <a:off x="1454040" y="6838920"/>
            <a:ext cx="268560" cy="11736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17" y="167"/>
                </a:moveTo>
                <a:cubicBezTo>
                  <a:pt x="14" y="167"/>
                  <a:pt x="14" y="167"/>
                  <a:pt x="11" y="167"/>
                </a:cubicBezTo>
                <a:cubicBezTo>
                  <a:pt x="3" y="164"/>
                  <a:pt x="0" y="156"/>
                  <a:pt x="3" y="150"/>
                </a:cubicBezTo>
                <a:lnTo>
                  <a:pt x="51" y="26"/>
                </a:lnTo>
                <a:cubicBezTo>
                  <a:pt x="57" y="9"/>
                  <a:pt x="74" y="0"/>
                  <a:pt x="90" y="0"/>
                </a:cubicBezTo>
                <a:lnTo>
                  <a:pt x="305" y="0"/>
                </a:lnTo>
                <a:cubicBezTo>
                  <a:pt x="322" y="0"/>
                  <a:pt x="339" y="12"/>
                  <a:pt x="344" y="26"/>
                </a:cubicBezTo>
                <a:lnTo>
                  <a:pt x="392" y="150"/>
                </a:lnTo>
                <a:cubicBezTo>
                  <a:pt x="395" y="158"/>
                  <a:pt x="392" y="164"/>
                  <a:pt x="384" y="167"/>
                </a:cubicBezTo>
                <a:cubicBezTo>
                  <a:pt x="375" y="170"/>
                  <a:pt x="370" y="167"/>
                  <a:pt x="367" y="158"/>
                </a:cubicBezTo>
                <a:lnTo>
                  <a:pt x="319" y="34"/>
                </a:lnTo>
                <a:cubicBezTo>
                  <a:pt x="316" y="29"/>
                  <a:pt x="311" y="26"/>
                  <a:pt x="305" y="26"/>
                </a:cubicBezTo>
                <a:lnTo>
                  <a:pt x="90" y="26"/>
                </a:lnTo>
                <a:cubicBezTo>
                  <a:pt x="85" y="26"/>
                  <a:pt x="79" y="29"/>
                  <a:pt x="76" y="34"/>
                </a:cubicBezTo>
                <a:lnTo>
                  <a:pt x="28" y="158"/>
                </a:lnTo>
                <a:cubicBezTo>
                  <a:pt x="28" y="164"/>
                  <a:pt x="23" y="167"/>
                  <a:pt x="17" y="16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96"/>
          <p:cNvSpPr/>
          <p:nvPr/>
        </p:nvSpPr>
        <p:spPr>
          <a:xfrm>
            <a:off x="1474920" y="6970680"/>
            <a:ext cx="3780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8" y="57"/>
                </a:moveTo>
                <a:cubicBezTo>
                  <a:pt x="11" y="57"/>
                  <a:pt x="0" y="45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45" y="0"/>
                  <a:pt x="57" y="11"/>
                  <a:pt x="57" y="28"/>
                </a:cubicBezTo>
                <a:cubicBezTo>
                  <a:pt x="57" y="45"/>
                  <a:pt x="45" y="57"/>
                  <a:pt x="28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7"/>
          <p:cNvSpPr/>
          <p:nvPr/>
        </p:nvSpPr>
        <p:spPr>
          <a:xfrm>
            <a:off x="1666800" y="6970680"/>
            <a:ext cx="3816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cubicBezTo>
                  <a:pt x="12" y="57"/>
                  <a:pt x="0" y="45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46" y="0"/>
                  <a:pt x="57" y="11"/>
                  <a:pt x="57" y="28"/>
                </a:cubicBezTo>
                <a:cubicBezTo>
                  <a:pt x="57" y="45"/>
                  <a:pt x="46" y="57"/>
                  <a:pt x="29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8"/>
          <p:cNvSpPr/>
          <p:nvPr/>
        </p:nvSpPr>
        <p:spPr>
          <a:xfrm>
            <a:off x="1531800" y="6970680"/>
            <a:ext cx="115920" cy="39600"/>
          </a:xfrm>
          <a:custGeom>
            <a:avLst/>
            <a:gdLst/>
            <a:ahLst/>
            <a:rect l="l" t="t" r="r" b="b"/>
            <a:pathLst>
              <a:path w="173" h="58">
                <a:moveTo>
                  <a:pt x="172" y="9"/>
                </a:moveTo>
                <a:cubicBezTo>
                  <a:pt x="169" y="3"/>
                  <a:pt x="164" y="0"/>
                  <a:pt x="158" y="0"/>
                </a:cubicBezTo>
                <a:lnTo>
                  <a:pt x="17" y="0"/>
                </a:lnTo>
                <a:cubicBezTo>
                  <a:pt x="11" y="0"/>
                  <a:pt x="6" y="4"/>
                  <a:pt x="3" y="9"/>
                </a:cubicBezTo>
                <a:cubicBezTo>
                  <a:pt x="0" y="15"/>
                  <a:pt x="3" y="20"/>
                  <a:pt x="8" y="26"/>
                </a:cubicBezTo>
                <a:lnTo>
                  <a:pt x="42" y="54"/>
                </a:lnTo>
                <a:cubicBezTo>
                  <a:pt x="45" y="57"/>
                  <a:pt x="48" y="57"/>
                  <a:pt x="51" y="57"/>
                </a:cubicBezTo>
                <a:lnTo>
                  <a:pt x="121" y="57"/>
                </a:lnTo>
                <a:cubicBezTo>
                  <a:pt x="124" y="57"/>
                  <a:pt x="127" y="57"/>
                  <a:pt x="130" y="54"/>
                </a:cubicBezTo>
                <a:lnTo>
                  <a:pt x="164" y="26"/>
                </a:lnTo>
                <a:cubicBezTo>
                  <a:pt x="172" y="23"/>
                  <a:pt x="172" y="14"/>
                  <a:pt x="172" y="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99"/>
          <p:cNvSpPr/>
          <p:nvPr/>
        </p:nvSpPr>
        <p:spPr>
          <a:xfrm>
            <a:off x="2209680" y="6827760"/>
            <a:ext cx="117720" cy="247680"/>
          </a:xfrm>
          <a:custGeom>
            <a:avLst/>
            <a:gdLst/>
            <a:ahLst/>
            <a:rect l="l" t="t" r="r" b="b"/>
            <a:pathLst>
              <a:path w="170" h="367">
                <a:moveTo>
                  <a:pt x="169" y="183"/>
                </a:moveTo>
                <a:cubicBezTo>
                  <a:pt x="169" y="217"/>
                  <a:pt x="165" y="246"/>
                  <a:pt x="158" y="275"/>
                </a:cubicBezTo>
                <a:cubicBezTo>
                  <a:pt x="150" y="305"/>
                  <a:pt x="140" y="325"/>
                  <a:pt x="127" y="342"/>
                </a:cubicBezTo>
                <a:cubicBezTo>
                  <a:pt x="113" y="359"/>
                  <a:pt x="99" y="366"/>
                  <a:pt x="84" y="366"/>
                </a:cubicBezTo>
                <a:cubicBezTo>
                  <a:pt x="68" y="366"/>
                  <a:pt x="55" y="359"/>
                  <a:pt x="42" y="342"/>
                </a:cubicBezTo>
                <a:cubicBezTo>
                  <a:pt x="28" y="325"/>
                  <a:pt x="19" y="305"/>
                  <a:pt x="11" y="275"/>
                </a:cubicBezTo>
                <a:cubicBezTo>
                  <a:pt x="3" y="246"/>
                  <a:pt x="0" y="217"/>
                  <a:pt x="0" y="183"/>
                </a:cubicBezTo>
                <a:cubicBezTo>
                  <a:pt x="0" y="149"/>
                  <a:pt x="3" y="120"/>
                  <a:pt x="11" y="91"/>
                </a:cubicBezTo>
                <a:cubicBezTo>
                  <a:pt x="19" y="62"/>
                  <a:pt x="28" y="41"/>
                  <a:pt x="42" y="24"/>
                </a:cubicBezTo>
                <a:cubicBezTo>
                  <a:pt x="55" y="7"/>
                  <a:pt x="69" y="0"/>
                  <a:pt x="84" y="0"/>
                </a:cubicBezTo>
                <a:cubicBezTo>
                  <a:pt x="100" y="0"/>
                  <a:pt x="113" y="7"/>
                  <a:pt x="127" y="24"/>
                </a:cubicBezTo>
                <a:cubicBezTo>
                  <a:pt x="140" y="41"/>
                  <a:pt x="150" y="62"/>
                  <a:pt x="158" y="91"/>
                </a:cubicBezTo>
                <a:cubicBezTo>
                  <a:pt x="165" y="120"/>
                  <a:pt x="169" y="149"/>
                  <a:pt x="169" y="18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00"/>
          <p:cNvSpPr/>
          <p:nvPr/>
        </p:nvSpPr>
        <p:spPr>
          <a:xfrm>
            <a:off x="2201760" y="6818400"/>
            <a:ext cx="135000" cy="269640"/>
          </a:xfrm>
          <a:custGeom>
            <a:avLst/>
            <a:gdLst/>
            <a:ahLst/>
            <a:rect l="l" t="t" r="r" b="b"/>
            <a:pathLst>
              <a:path w="198" h="396">
                <a:moveTo>
                  <a:pt x="98" y="395"/>
                </a:moveTo>
                <a:cubicBezTo>
                  <a:pt x="42" y="395"/>
                  <a:pt x="0" y="308"/>
                  <a:pt x="0" y="198"/>
                </a:cubicBezTo>
                <a:cubicBezTo>
                  <a:pt x="0" y="88"/>
                  <a:pt x="41" y="0"/>
                  <a:pt x="98" y="0"/>
                </a:cubicBezTo>
                <a:cubicBezTo>
                  <a:pt x="154" y="0"/>
                  <a:pt x="197" y="88"/>
                  <a:pt x="197" y="198"/>
                </a:cubicBezTo>
                <a:cubicBezTo>
                  <a:pt x="197" y="308"/>
                  <a:pt x="155" y="395"/>
                  <a:pt x="98" y="395"/>
                </a:cubicBezTo>
                <a:close/>
                <a:moveTo>
                  <a:pt x="98" y="29"/>
                </a:moveTo>
                <a:cubicBezTo>
                  <a:pt x="64" y="29"/>
                  <a:pt x="28" y="99"/>
                  <a:pt x="28" y="198"/>
                </a:cubicBezTo>
                <a:cubicBezTo>
                  <a:pt x="28" y="297"/>
                  <a:pt x="64" y="367"/>
                  <a:pt x="98" y="367"/>
                </a:cubicBezTo>
                <a:cubicBezTo>
                  <a:pt x="132" y="367"/>
                  <a:pt x="169" y="297"/>
                  <a:pt x="169" y="198"/>
                </a:cubicBezTo>
                <a:cubicBezTo>
                  <a:pt x="169" y="99"/>
                  <a:pt x="132" y="29"/>
                  <a:pt x="98" y="29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1"/>
          <p:cNvSpPr/>
          <p:nvPr/>
        </p:nvSpPr>
        <p:spPr>
          <a:xfrm>
            <a:off x="2249640" y="6875640"/>
            <a:ext cx="260280" cy="152280"/>
          </a:xfrm>
          <a:custGeom>
            <a:avLst/>
            <a:gdLst/>
            <a:ahLst/>
            <a:rect l="l" t="t" r="r" b="b"/>
            <a:pathLst>
              <a:path w="382" h="227">
                <a:moveTo>
                  <a:pt x="364" y="127"/>
                </a:moveTo>
                <a:lnTo>
                  <a:pt x="353" y="116"/>
                </a:lnTo>
                <a:cubicBezTo>
                  <a:pt x="350" y="113"/>
                  <a:pt x="347" y="113"/>
                  <a:pt x="344" y="113"/>
                </a:cubicBezTo>
                <a:lnTo>
                  <a:pt x="268" y="113"/>
                </a:lnTo>
                <a:cubicBezTo>
                  <a:pt x="124" y="113"/>
                  <a:pt x="102" y="42"/>
                  <a:pt x="99" y="14"/>
                </a:cubicBezTo>
                <a:cubicBezTo>
                  <a:pt x="99" y="6"/>
                  <a:pt x="93" y="0"/>
                  <a:pt x="85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3"/>
                  <a:pt x="6" y="28"/>
                  <a:pt x="14" y="28"/>
                </a:cubicBezTo>
                <a:lnTo>
                  <a:pt x="28" y="28"/>
                </a:lnTo>
                <a:cubicBezTo>
                  <a:pt x="37" y="28"/>
                  <a:pt x="42" y="34"/>
                  <a:pt x="42" y="42"/>
                </a:cubicBezTo>
                <a:cubicBezTo>
                  <a:pt x="42" y="51"/>
                  <a:pt x="37" y="57"/>
                  <a:pt x="28" y="57"/>
                </a:cubicBezTo>
                <a:lnTo>
                  <a:pt x="14" y="57"/>
                </a:lnTo>
                <a:cubicBezTo>
                  <a:pt x="6" y="57"/>
                  <a:pt x="0" y="62"/>
                  <a:pt x="0" y="71"/>
                </a:cubicBezTo>
                <a:lnTo>
                  <a:pt x="0" y="99"/>
                </a:lnTo>
                <a:cubicBezTo>
                  <a:pt x="0" y="107"/>
                  <a:pt x="6" y="113"/>
                  <a:pt x="14" y="113"/>
                </a:cubicBezTo>
                <a:lnTo>
                  <a:pt x="28" y="113"/>
                </a:lnTo>
                <a:cubicBezTo>
                  <a:pt x="37" y="113"/>
                  <a:pt x="42" y="119"/>
                  <a:pt x="42" y="127"/>
                </a:cubicBezTo>
                <a:cubicBezTo>
                  <a:pt x="42" y="136"/>
                  <a:pt x="37" y="141"/>
                  <a:pt x="28" y="141"/>
                </a:cubicBezTo>
                <a:lnTo>
                  <a:pt x="14" y="141"/>
                </a:lnTo>
                <a:cubicBezTo>
                  <a:pt x="6" y="141"/>
                  <a:pt x="0" y="147"/>
                  <a:pt x="0" y="155"/>
                </a:cubicBezTo>
                <a:cubicBezTo>
                  <a:pt x="0" y="164"/>
                  <a:pt x="6" y="169"/>
                  <a:pt x="14" y="169"/>
                </a:cubicBezTo>
                <a:lnTo>
                  <a:pt x="71" y="169"/>
                </a:lnTo>
                <a:cubicBezTo>
                  <a:pt x="79" y="169"/>
                  <a:pt x="85" y="175"/>
                  <a:pt x="85" y="183"/>
                </a:cubicBezTo>
                <a:cubicBezTo>
                  <a:pt x="85" y="192"/>
                  <a:pt x="79" y="198"/>
                  <a:pt x="71" y="198"/>
                </a:cubicBezTo>
                <a:lnTo>
                  <a:pt x="14" y="198"/>
                </a:lnTo>
                <a:cubicBezTo>
                  <a:pt x="6" y="198"/>
                  <a:pt x="0" y="204"/>
                  <a:pt x="0" y="212"/>
                </a:cubicBezTo>
                <a:cubicBezTo>
                  <a:pt x="0" y="221"/>
                  <a:pt x="6" y="226"/>
                  <a:pt x="14" y="226"/>
                </a:cubicBezTo>
                <a:lnTo>
                  <a:pt x="325" y="226"/>
                </a:lnTo>
                <a:cubicBezTo>
                  <a:pt x="356" y="226"/>
                  <a:pt x="381" y="200"/>
                  <a:pt x="381" y="169"/>
                </a:cubicBezTo>
                <a:cubicBezTo>
                  <a:pt x="381" y="152"/>
                  <a:pt x="375" y="138"/>
                  <a:pt x="364" y="12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02"/>
          <p:cNvSpPr/>
          <p:nvPr/>
        </p:nvSpPr>
        <p:spPr>
          <a:xfrm>
            <a:off x="2300400" y="6875640"/>
            <a:ext cx="193680" cy="98280"/>
          </a:xfrm>
          <a:custGeom>
            <a:avLst/>
            <a:gdLst/>
            <a:ahLst/>
            <a:rect l="l" t="t" r="r" b="b"/>
            <a:pathLst>
              <a:path w="286" h="145">
                <a:moveTo>
                  <a:pt x="269" y="141"/>
                </a:moveTo>
                <a:cubicBezTo>
                  <a:pt x="274" y="141"/>
                  <a:pt x="280" y="139"/>
                  <a:pt x="283" y="133"/>
                </a:cubicBezTo>
                <a:cubicBezTo>
                  <a:pt x="285" y="128"/>
                  <a:pt x="283" y="121"/>
                  <a:pt x="280" y="119"/>
                </a:cubicBezTo>
                <a:lnTo>
                  <a:pt x="175" y="20"/>
                </a:lnTo>
                <a:cubicBezTo>
                  <a:pt x="161" y="9"/>
                  <a:pt x="144" y="0"/>
                  <a:pt x="127" y="0"/>
                </a:cubicBezTo>
                <a:lnTo>
                  <a:pt x="15" y="0"/>
                </a:lnTo>
                <a:cubicBezTo>
                  <a:pt x="12" y="0"/>
                  <a:pt x="6" y="3"/>
                  <a:pt x="3" y="6"/>
                </a:cubicBezTo>
                <a:cubicBezTo>
                  <a:pt x="0" y="9"/>
                  <a:pt x="0" y="11"/>
                  <a:pt x="0" y="17"/>
                </a:cubicBezTo>
                <a:cubicBezTo>
                  <a:pt x="3" y="54"/>
                  <a:pt x="31" y="144"/>
                  <a:pt x="198" y="144"/>
                </a:cubicBezTo>
                <a:lnTo>
                  <a:pt x="269" y="144"/>
                </a:lnTo>
                <a:lnTo>
                  <a:pt x="269" y="141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03"/>
          <p:cNvSpPr/>
          <p:nvPr/>
        </p:nvSpPr>
        <p:spPr>
          <a:xfrm>
            <a:off x="3102120" y="6838920"/>
            <a:ext cx="20520" cy="17460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8"/>
                  <a:pt x="0" y="239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39"/>
                </a:lnTo>
                <a:cubicBezTo>
                  <a:pt x="28" y="248"/>
                  <a:pt x="22" y="254"/>
                  <a:pt x="14" y="25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04"/>
          <p:cNvSpPr/>
          <p:nvPr/>
        </p:nvSpPr>
        <p:spPr>
          <a:xfrm>
            <a:off x="3003480" y="6991200"/>
            <a:ext cx="212760" cy="96840"/>
          </a:xfrm>
          <a:custGeom>
            <a:avLst/>
            <a:gdLst/>
            <a:ahLst/>
            <a:rect l="l" t="t" r="r" b="b"/>
            <a:pathLst>
              <a:path w="314" h="142">
                <a:moveTo>
                  <a:pt x="299" y="57"/>
                </a:moveTo>
                <a:lnTo>
                  <a:pt x="220" y="57"/>
                </a:lnTo>
                <a:lnTo>
                  <a:pt x="183" y="6"/>
                </a:lnTo>
                <a:cubicBezTo>
                  <a:pt x="181" y="3"/>
                  <a:pt x="178" y="0"/>
                  <a:pt x="172" y="0"/>
                </a:cubicBezTo>
                <a:lnTo>
                  <a:pt x="144" y="0"/>
                </a:lnTo>
                <a:cubicBezTo>
                  <a:pt x="138" y="0"/>
                  <a:pt x="135" y="3"/>
                  <a:pt x="133" y="6"/>
                </a:cubicBezTo>
                <a:lnTo>
                  <a:pt x="93" y="57"/>
                </a:lnTo>
                <a:lnTo>
                  <a:pt x="14" y="57"/>
                </a:lnTo>
                <a:cubicBezTo>
                  <a:pt x="6" y="57"/>
                  <a:pt x="0" y="62"/>
                  <a:pt x="0" y="71"/>
                </a:cubicBez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296" y="141"/>
                </a:lnTo>
                <a:cubicBezTo>
                  <a:pt x="305" y="141"/>
                  <a:pt x="310" y="136"/>
                  <a:pt x="310" y="127"/>
                </a:cubicBezTo>
                <a:lnTo>
                  <a:pt x="310" y="71"/>
                </a:lnTo>
                <a:cubicBezTo>
                  <a:pt x="313" y="62"/>
                  <a:pt x="308" y="57"/>
                  <a:pt x="299" y="57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05"/>
          <p:cNvSpPr/>
          <p:nvPr/>
        </p:nvSpPr>
        <p:spPr>
          <a:xfrm>
            <a:off x="2967120" y="6991200"/>
            <a:ext cx="6012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56"/>
                </a:lnTo>
                <a:cubicBezTo>
                  <a:pt x="0" y="164"/>
                  <a:pt x="6" y="170"/>
                  <a:pt x="14" y="170"/>
                </a:cubicBezTo>
                <a:lnTo>
                  <a:pt x="71" y="170"/>
                </a:lnTo>
                <a:cubicBezTo>
                  <a:pt x="79" y="170"/>
                  <a:pt x="85" y="164"/>
                  <a:pt x="85" y="156"/>
                </a:cubicBezTo>
                <a:lnTo>
                  <a:pt x="85" y="14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06"/>
          <p:cNvSpPr/>
          <p:nvPr/>
        </p:nvSpPr>
        <p:spPr>
          <a:xfrm>
            <a:off x="3197160" y="6991200"/>
            <a:ext cx="6048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0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56"/>
                </a:lnTo>
                <a:cubicBezTo>
                  <a:pt x="0" y="164"/>
                  <a:pt x="6" y="170"/>
                  <a:pt x="14" y="170"/>
                </a:cubicBezTo>
                <a:lnTo>
                  <a:pt x="70" y="170"/>
                </a:lnTo>
                <a:cubicBezTo>
                  <a:pt x="79" y="170"/>
                  <a:pt x="85" y="164"/>
                  <a:pt x="85" y="156"/>
                </a:cubicBezTo>
                <a:lnTo>
                  <a:pt x="85" y="14"/>
                </a:lnTo>
                <a:cubicBezTo>
                  <a:pt x="85" y="6"/>
                  <a:pt x="79" y="0"/>
                  <a:pt x="70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07"/>
          <p:cNvSpPr/>
          <p:nvPr/>
        </p:nvSpPr>
        <p:spPr>
          <a:xfrm>
            <a:off x="302436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08"/>
          <p:cNvSpPr/>
          <p:nvPr/>
        </p:nvSpPr>
        <p:spPr>
          <a:xfrm>
            <a:off x="311940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09"/>
          <p:cNvSpPr/>
          <p:nvPr/>
        </p:nvSpPr>
        <p:spPr>
          <a:xfrm>
            <a:off x="3084480" y="680076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70" y="85"/>
                </a:lnTo>
                <a:cubicBezTo>
                  <a:pt x="79" y="85"/>
                  <a:pt x="84" y="79"/>
                  <a:pt x="84" y="71"/>
                </a:cubicBezTo>
                <a:lnTo>
                  <a:pt x="84" y="14"/>
                </a:lnTo>
                <a:cubicBezTo>
                  <a:pt x="84" y="6"/>
                  <a:pt x="79" y="0"/>
                  <a:pt x="70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10"/>
          <p:cNvSpPr/>
          <p:nvPr/>
        </p:nvSpPr>
        <p:spPr>
          <a:xfrm>
            <a:off x="3772080" y="7027920"/>
            <a:ext cx="5688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14" y="0"/>
                </a:move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70" y="84"/>
                </a:lnTo>
                <a:cubicBezTo>
                  <a:pt x="79" y="84"/>
                  <a:pt x="84" y="79"/>
                  <a:pt x="84" y="70"/>
                </a:cubicBezTo>
                <a:lnTo>
                  <a:pt x="84" y="14"/>
                </a:lnTo>
                <a:cubicBezTo>
                  <a:pt x="84" y="5"/>
                  <a:pt x="79" y="0"/>
                  <a:pt x="70" y="0"/>
                </a:cubicBezTo>
                <a:lnTo>
                  <a:pt x="14" y="0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1"/>
          <p:cNvSpPr/>
          <p:nvPr/>
        </p:nvSpPr>
        <p:spPr>
          <a:xfrm>
            <a:off x="3941640" y="7027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5" y="84"/>
                </a:cubicBezTo>
                <a:lnTo>
                  <a:pt x="71" y="84"/>
                </a:lnTo>
                <a:cubicBezTo>
                  <a:pt x="80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80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12"/>
          <p:cNvSpPr/>
          <p:nvPr/>
        </p:nvSpPr>
        <p:spPr>
          <a:xfrm>
            <a:off x="3751200" y="6939000"/>
            <a:ext cx="268200" cy="109440"/>
          </a:xfrm>
          <a:custGeom>
            <a:avLst/>
            <a:gdLst/>
            <a:ahLst/>
            <a:rect l="l" t="t" r="r" b="b"/>
            <a:pathLst>
              <a:path w="396" h="165">
                <a:moveTo>
                  <a:pt x="362" y="3"/>
                </a:moveTo>
                <a:cubicBezTo>
                  <a:pt x="359" y="3"/>
                  <a:pt x="356" y="0"/>
                  <a:pt x="353" y="0"/>
                </a:cubicBezTo>
                <a:lnTo>
                  <a:pt x="43" y="0"/>
                </a:lnTo>
                <a:cubicBezTo>
                  <a:pt x="40" y="0"/>
                  <a:pt x="37" y="0"/>
                  <a:pt x="34" y="3"/>
                </a:cubicBezTo>
                <a:cubicBezTo>
                  <a:pt x="12" y="17"/>
                  <a:pt x="0" y="40"/>
                  <a:pt x="0" y="65"/>
                </a:cubicBezTo>
                <a:lnTo>
                  <a:pt x="0" y="150"/>
                </a:lnTo>
                <a:cubicBezTo>
                  <a:pt x="0" y="158"/>
                  <a:pt x="6" y="164"/>
                  <a:pt x="14" y="164"/>
                </a:cubicBezTo>
                <a:lnTo>
                  <a:pt x="381" y="164"/>
                </a:lnTo>
                <a:cubicBezTo>
                  <a:pt x="390" y="164"/>
                  <a:pt x="395" y="158"/>
                  <a:pt x="395" y="150"/>
                </a:cubicBezTo>
                <a:lnTo>
                  <a:pt x="395" y="65"/>
                </a:lnTo>
                <a:cubicBezTo>
                  <a:pt x="395" y="40"/>
                  <a:pt x="381" y="17"/>
                  <a:pt x="362" y="3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13"/>
          <p:cNvSpPr/>
          <p:nvPr/>
        </p:nvSpPr>
        <p:spPr>
          <a:xfrm>
            <a:off x="3772080" y="6838920"/>
            <a:ext cx="230040" cy="174600"/>
          </a:xfrm>
          <a:custGeom>
            <a:avLst/>
            <a:gdLst/>
            <a:ahLst/>
            <a:rect l="l" t="t" r="r" b="b"/>
            <a:pathLst>
              <a:path w="339" h="255">
                <a:moveTo>
                  <a:pt x="239" y="0"/>
                </a:moveTo>
                <a:lnTo>
                  <a:pt x="98" y="0"/>
                </a:lnTo>
                <a:cubicBezTo>
                  <a:pt x="45" y="0"/>
                  <a:pt x="0" y="45"/>
                  <a:pt x="0" y="98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50" y="169"/>
                </a:lnTo>
                <a:cubicBezTo>
                  <a:pt x="73" y="169"/>
                  <a:pt x="93" y="183"/>
                  <a:pt x="98" y="203"/>
                </a:cubicBezTo>
                <a:cubicBezTo>
                  <a:pt x="110" y="234"/>
                  <a:pt x="135" y="254"/>
                  <a:pt x="166" y="254"/>
                </a:cubicBezTo>
                <a:cubicBezTo>
                  <a:pt x="197" y="254"/>
                  <a:pt x="225" y="234"/>
                  <a:pt x="234" y="203"/>
                </a:cubicBezTo>
                <a:cubicBezTo>
                  <a:pt x="239" y="183"/>
                  <a:pt x="259" y="169"/>
                  <a:pt x="282" y="169"/>
                </a:cubicBezTo>
                <a:lnTo>
                  <a:pt x="318" y="169"/>
                </a:lnTo>
                <a:cubicBezTo>
                  <a:pt x="327" y="169"/>
                  <a:pt x="333" y="163"/>
                  <a:pt x="333" y="155"/>
                </a:cubicBezTo>
                <a:lnTo>
                  <a:pt x="333" y="98"/>
                </a:lnTo>
                <a:cubicBezTo>
                  <a:pt x="338" y="45"/>
                  <a:pt x="293" y="0"/>
                  <a:pt x="239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14"/>
          <p:cNvSpPr/>
          <p:nvPr/>
        </p:nvSpPr>
        <p:spPr>
          <a:xfrm>
            <a:off x="3789360" y="6858000"/>
            <a:ext cx="192240" cy="74520"/>
          </a:xfrm>
          <a:custGeom>
            <a:avLst/>
            <a:gdLst/>
            <a:ahLst/>
            <a:rect l="l" t="t" r="r" b="b"/>
            <a:pathLst>
              <a:path w="283" h="111">
                <a:moveTo>
                  <a:pt x="70" y="0"/>
                </a:moveTo>
                <a:lnTo>
                  <a:pt x="211" y="0"/>
                </a:lnTo>
                <a:cubicBezTo>
                  <a:pt x="251" y="0"/>
                  <a:pt x="282" y="31"/>
                  <a:pt x="282" y="70"/>
                </a:cubicBezTo>
                <a:lnTo>
                  <a:pt x="282" y="110"/>
                </a:lnTo>
                <a:cubicBezTo>
                  <a:pt x="189" y="79"/>
                  <a:pt x="93" y="79"/>
                  <a:pt x="0" y="110"/>
                </a:cubicBezTo>
                <a:lnTo>
                  <a:pt x="0" y="70"/>
                </a:lnTo>
                <a:cubicBezTo>
                  <a:pt x="0" y="31"/>
                  <a:pt x="31" y="0"/>
                  <a:pt x="7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5"/>
          <p:cNvSpPr/>
          <p:nvPr/>
        </p:nvSpPr>
        <p:spPr>
          <a:xfrm>
            <a:off x="3733920" y="7027920"/>
            <a:ext cx="307800" cy="2052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7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3"/>
                  <a:pt x="6" y="28"/>
                  <a:pt x="14" y="28"/>
                </a:cubicBezTo>
                <a:lnTo>
                  <a:pt x="437" y="28"/>
                </a:lnTo>
                <a:cubicBezTo>
                  <a:pt x="446" y="28"/>
                  <a:pt x="452" y="23"/>
                  <a:pt x="452" y="14"/>
                </a:cubicBezTo>
                <a:cubicBezTo>
                  <a:pt x="452" y="6"/>
                  <a:pt x="446" y="0"/>
                  <a:pt x="437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16"/>
          <p:cNvSpPr/>
          <p:nvPr/>
        </p:nvSpPr>
        <p:spPr>
          <a:xfrm>
            <a:off x="3789360" y="6970680"/>
            <a:ext cx="39600" cy="39600"/>
          </a:xfrm>
          <a:custGeom>
            <a:avLst/>
            <a:gdLst/>
            <a:ahLst/>
            <a:rect l="l" t="t" r="r" b="b"/>
            <a:pathLst>
              <a:path w="57" h="58">
                <a:moveTo>
                  <a:pt x="56" y="28"/>
                </a:moveTo>
                <a:cubicBezTo>
                  <a:pt x="56" y="34"/>
                  <a:pt x="54" y="38"/>
                  <a:pt x="52" y="42"/>
                </a:cubicBezTo>
                <a:cubicBezTo>
                  <a:pt x="49" y="47"/>
                  <a:pt x="46" y="51"/>
                  <a:pt x="42" y="53"/>
                </a:cubicBezTo>
                <a:cubicBezTo>
                  <a:pt x="37" y="56"/>
                  <a:pt x="33" y="57"/>
                  <a:pt x="28" y="57"/>
                </a:cubicBezTo>
                <a:cubicBezTo>
                  <a:pt x="23" y="57"/>
                  <a:pt x="18" y="56"/>
                  <a:pt x="14" y="53"/>
                </a:cubicBezTo>
                <a:cubicBezTo>
                  <a:pt x="9" y="51"/>
                  <a:pt x="6" y="47"/>
                  <a:pt x="4" y="42"/>
                </a:cubicBezTo>
                <a:cubicBezTo>
                  <a:pt x="1" y="38"/>
                  <a:pt x="0" y="34"/>
                  <a:pt x="0" y="28"/>
                </a:cubicBezTo>
                <a:cubicBezTo>
                  <a:pt x="0" y="23"/>
                  <a:pt x="1" y="19"/>
                  <a:pt x="4" y="14"/>
                </a:cubicBezTo>
                <a:cubicBezTo>
                  <a:pt x="6" y="10"/>
                  <a:pt x="9" y="7"/>
                  <a:pt x="14" y="4"/>
                </a:cubicBezTo>
                <a:cubicBezTo>
                  <a:pt x="18" y="1"/>
                  <a:pt x="23" y="0"/>
                  <a:pt x="28" y="0"/>
                </a:cubicBezTo>
                <a:cubicBezTo>
                  <a:pt x="33" y="0"/>
                  <a:pt x="37" y="1"/>
                  <a:pt x="42" y="4"/>
                </a:cubicBezTo>
                <a:cubicBezTo>
                  <a:pt x="46" y="7"/>
                  <a:pt x="49" y="10"/>
                  <a:pt x="52" y="14"/>
                </a:cubicBezTo>
                <a:cubicBezTo>
                  <a:pt x="54" y="19"/>
                  <a:pt x="56" y="23"/>
                  <a:pt x="56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17"/>
          <p:cNvSpPr/>
          <p:nvPr/>
        </p:nvSpPr>
        <p:spPr>
          <a:xfrm>
            <a:off x="3941640" y="6970680"/>
            <a:ext cx="3996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57" y="28"/>
                </a:moveTo>
                <a:cubicBezTo>
                  <a:pt x="57" y="34"/>
                  <a:pt x="55" y="38"/>
                  <a:pt x="53" y="42"/>
                </a:cubicBezTo>
                <a:cubicBezTo>
                  <a:pt x="50" y="47"/>
                  <a:pt x="47" y="51"/>
                  <a:pt x="43" y="53"/>
                </a:cubicBezTo>
                <a:cubicBezTo>
                  <a:pt x="38" y="56"/>
                  <a:pt x="34" y="57"/>
                  <a:pt x="29" y="57"/>
                </a:cubicBezTo>
                <a:cubicBezTo>
                  <a:pt x="24" y="57"/>
                  <a:pt x="19" y="56"/>
                  <a:pt x="15" y="53"/>
                </a:cubicBezTo>
                <a:cubicBezTo>
                  <a:pt x="10" y="51"/>
                  <a:pt x="6" y="47"/>
                  <a:pt x="4" y="42"/>
                </a:cubicBezTo>
                <a:cubicBezTo>
                  <a:pt x="1" y="38"/>
                  <a:pt x="0" y="34"/>
                  <a:pt x="0" y="28"/>
                </a:cubicBezTo>
                <a:cubicBezTo>
                  <a:pt x="0" y="23"/>
                  <a:pt x="1" y="19"/>
                  <a:pt x="4" y="14"/>
                </a:cubicBezTo>
                <a:cubicBezTo>
                  <a:pt x="6" y="10"/>
                  <a:pt x="10" y="7"/>
                  <a:pt x="15" y="4"/>
                </a:cubicBezTo>
                <a:cubicBezTo>
                  <a:pt x="19" y="1"/>
                  <a:pt x="24" y="0"/>
                  <a:pt x="29" y="0"/>
                </a:cubicBezTo>
                <a:cubicBezTo>
                  <a:pt x="34" y="0"/>
                  <a:pt x="38" y="1"/>
                  <a:pt x="43" y="4"/>
                </a:cubicBezTo>
                <a:cubicBezTo>
                  <a:pt x="47" y="7"/>
                  <a:pt x="50" y="10"/>
                  <a:pt x="53" y="14"/>
                </a:cubicBezTo>
                <a:cubicBezTo>
                  <a:pt x="55" y="19"/>
                  <a:pt x="57" y="23"/>
                  <a:pt x="5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18"/>
          <p:cNvSpPr/>
          <p:nvPr/>
        </p:nvSpPr>
        <p:spPr>
          <a:xfrm>
            <a:off x="3876840" y="6916680"/>
            <a:ext cx="20520" cy="114480"/>
          </a:xfrm>
          <a:custGeom>
            <a:avLst/>
            <a:gdLst/>
            <a:ahLst/>
            <a:rect l="l" t="t" r="r" b="b"/>
            <a:pathLst>
              <a:path w="29" h="168">
                <a:moveTo>
                  <a:pt x="0" y="0"/>
                </a:moveTo>
                <a:lnTo>
                  <a:pt x="0" y="153"/>
                </a:lnTo>
                <a:cubicBezTo>
                  <a:pt x="0" y="161"/>
                  <a:pt x="5" y="167"/>
                  <a:pt x="14" y="167"/>
                </a:cubicBezTo>
                <a:cubicBezTo>
                  <a:pt x="22" y="167"/>
                  <a:pt x="28" y="161"/>
                  <a:pt x="28" y="153"/>
                </a:cubicBezTo>
                <a:lnTo>
                  <a:pt x="28" y="0"/>
                </a:lnTo>
                <a:cubicBezTo>
                  <a:pt x="19" y="0"/>
                  <a:pt x="8" y="0"/>
                  <a:pt x="0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19"/>
          <p:cNvSpPr/>
          <p:nvPr/>
        </p:nvSpPr>
        <p:spPr>
          <a:xfrm>
            <a:off x="4495680" y="6797520"/>
            <a:ext cx="314280" cy="277920"/>
          </a:xfrm>
          <a:custGeom>
            <a:avLst/>
            <a:gdLst/>
            <a:ahLst/>
            <a:rect l="l" t="t" r="r" b="b"/>
            <a:pathLst>
              <a:path w="464" h="408">
                <a:moveTo>
                  <a:pt x="409" y="246"/>
                </a:moveTo>
                <a:cubicBezTo>
                  <a:pt x="404" y="243"/>
                  <a:pt x="398" y="240"/>
                  <a:pt x="390" y="237"/>
                </a:cubicBezTo>
                <a:cubicBezTo>
                  <a:pt x="390" y="237"/>
                  <a:pt x="390" y="237"/>
                  <a:pt x="387" y="237"/>
                </a:cubicBezTo>
                <a:cubicBezTo>
                  <a:pt x="328" y="220"/>
                  <a:pt x="297" y="170"/>
                  <a:pt x="313" y="108"/>
                </a:cubicBezTo>
                <a:lnTo>
                  <a:pt x="313" y="108"/>
                </a:lnTo>
                <a:cubicBezTo>
                  <a:pt x="313" y="108"/>
                  <a:pt x="313" y="108"/>
                  <a:pt x="313" y="105"/>
                </a:cubicBezTo>
                <a:cubicBezTo>
                  <a:pt x="316" y="99"/>
                  <a:pt x="316" y="91"/>
                  <a:pt x="316" y="85"/>
                </a:cubicBezTo>
                <a:cubicBezTo>
                  <a:pt x="316" y="37"/>
                  <a:pt x="280" y="0"/>
                  <a:pt x="232" y="0"/>
                </a:cubicBezTo>
                <a:cubicBezTo>
                  <a:pt x="184" y="0"/>
                  <a:pt x="147" y="37"/>
                  <a:pt x="147" y="85"/>
                </a:cubicBezTo>
                <a:cubicBezTo>
                  <a:pt x="147" y="91"/>
                  <a:pt x="147" y="99"/>
                  <a:pt x="150" y="105"/>
                </a:cubicBezTo>
                <a:lnTo>
                  <a:pt x="150" y="108"/>
                </a:lnTo>
                <a:cubicBezTo>
                  <a:pt x="167" y="167"/>
                  <a:pt x="136" y="220"/>
                  <a:pt x="76" y="237"/>
                </a:cubicBezTo>
                <a:cubicBezTo>
                  <a:pt x="76" y="237"/>
                  <a:pt x="76" y="237"/>
                  <a:pt x="74" y="237"/>
                </a:cubicBezTo>
                <a:cubicBezTo>
                  <a:pt x="65" y="240"/>
                  <a:pt x="59" y="243"/>
                  <a:pt x="54" y="246"/>
                </a:cubicBezTo>
                <a:cubicBezTo>
                  <a:pt x="14" y="268"/>
                  <a:pt x="0" y="322"/>
                  <a:pt x="23" y="362"/>
                </a:cubicBezTo>
                <a:cubicBezTo>
                  <a:pt x="34" y="381"/>
                  <a:pt x="51" y="395"/>
                  <a:pt x="74" y="401"/>
                </a:cubicBezTo>
                <a:cubicBezTo>
                  <a:pt x="96" y="407"/>
                  <a:pt x="119" y="404"/>
                  <a:pt x="138" y="393"/>
                </a:cubicBezTo>
                <a:cubicBezTo>
                  <a:pt x="144" y="390"/>
                  <a:pt x="150" y="384"/>
                  <a:pt x="155" y="381"/>
                </a:cubicBezTo>
                <a:lnTo>
                  <a:pt x="155" y="381"/>
                </a:lnTo>
                <a:cubicBezTo>
                  <a:pt x="201" y="336"/>
                  <a:pt x="260" y="336"/>
                  <a:pt x="305" y="381"/>
                </a:cubicBezTo>
                <a:lnTo>
                  <a:pt x="305" y="381"/>
                </a:lnTo>
                <a:cubicBezTo>
                  <a:pt x="311" y="387"/>
                  <a:pt x="316" y="390"/>
                  <a:pt x="322" y="395"/>
                </a:cubicBezTo>
                <a:cubicBezTo>
                  <a:pt x="336" y="404"/>
                  <a:pt x="350" y="407"/>
                  <a:pt x="364" y="407"/>
                </a:cubicBezTo>
                <a:cubicBezTo>
                  <a:pt x="373" y="407"/>
                  <a:pt x="378" y="407"/>
                  <a:pt x="387" y="404"/>
                </a:cubicBezTo>
                <a:cubicBezTo>
                  <a:pt x="409" y="398"/>
                  <a:pt x="426" y="384"/>
                  <a:pt x="438" y="364"/>
                </a:cubicBezTo>
                <a:cubicBezTo>
                  <a:pt x="463" y="322"/>
                  <a:pt x="449" y="271"/>
                  <a:pt x="409" y="24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20"/>
          <p:cNvSpPr/>
          <p:nvPr/>
        </p:nvSpPr>
        <p:spPr>
          <a:xfrm>
            <a:off x="4613400" y="692316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99" y="93"/>
                  <a:pt x="94" y="100"/>
                  <a:pt x="85" y="105"/>
                </a:cubicBezTo>
                <a:cubicBezTo>
                  <a:pt x="76" y="110"/>
                  <a:pt x="67" y="112"/>
                  <a:pt x="57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3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7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99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21"/>
          <p:cNvSpPr/>
          <p:nvPr/>
        </p:nvSpPr>
        <p:spPr>
          <a:xfrm>
            <a:off x="4624560" y="682776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70"/>
                  <a:pt x="71" y="76"/>
                  <a:pt x="64" y="79"/>
                </a:cubicBezTo>
                <a:cubicBezTo>
                  <a:pt x="57" y="83"/>
                  <a:pt x="50" y="84"/>
                  <a:pt x="43" y="84"/>
                </a:cubicBezTo>
                <a:cubicBezTo>
                  <a:pt x="35" y="84"/>
                  <a:pt x="27" y="83"/>
                  <a:pt x="21" y="79"/>
                </a:cubicBezTo>
                <a:cubicBezTo>
                  <a:pt x="14" y="76"/>
                  <a:pt x="10" y="70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5"/>
                  <a:pt x="14" y="9"/>
                  <a:pt x="21" y="5"/>
                </a:cubicBezTo>
                <a:cubicBezTo>
                  <a:pt x="27" y="1"/>
                  <a:pt x="35" y="0"/>
                  <a:pt x="43" y="0"/>
                </a:cubicBezTo>
                <a:cubicBezTo>
                  <a:pt x="50" y="0"/>
                  <a:pt x="57" y="1"/>
                  <a:pt x="64" y="5"/>
                </a:cubicBezTo>
                <a:cubicBezTo>
                  <a:pt x="71" y="9"/>
                  <a:pt x="75" y="15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2"/>
          <p:cNvSpPr/>
          <p:nvPr/>
        </p:nvSpPr>
        <p:spPr>
          <a:xfrm>
            <a:off x="4529160" y="6980400"/>
            <a:ext cx="65160" cy="63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85" y="28"/>
                </a:moveTo>
                <a:cubicBezTo>
                  <a:pt x="74" y="9"/>
                  <a:pt x="48" y="0"/>
                  <a:pt x="28" y="14"/>
                </a:cubicBezTo>
                <a:lnTo>
                  <a:pt x="28" y="14"/>
                </a:lnTo>
                <a:cubicBezTo>
                  <a:pt x="9" y="26"/>
                  <a:pt x="0" y="51"/>
                  <a:pt x="14" y="71"/>
                </a:cubicBezTo>
                <a:cubicBezTo>
                  <a:pt x="20" y="79"/>
                  <a:pt x="28" y="88"/>
                  <a:pt x="40" y="91"/>
                </a:cubicBezTo>
                <a:cubicBezTo>
                  <a:pt x="43" y="91"/>
                  <a:pt x="48" y="93"/>
                  <a:pt x="51" y="93"/>
                </a:cubicBezTo>
                <a:cubicBezTo>
                  <a:pt x="59" y="93"/>
                  <a:pt x="65" y="91"/>
                  <a:pt x="71" y="88"/>
                </a:cubicBezTo>
                <a:cubicBezTo>
                  <a:pt x="90" y="74"/>
                  <a:pt x="96" y="48"/>
                  <a:pt x="85" y="28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23"/>
          <p:cNvSpPr/>
          <p:nvPr/>
        </p:nvSpPr>
        <p:spPr>
          <a:xfrm>
            <a:off x="4711680" y="6986520"/>
            <a:ext cx="65160" cy="58680"/>
          </a:xfrm>
          <a:custGeom>
            <a:avLst/>
            <a:gdLst/>
            <a:ahLst/>
            <a:rect l="l" t="t" r="r" b="b"/>
            <a:pathLst>
              <a:path w="97" h="86">
                <a:moveTo>
                  <a:pt x="68" y="8"/>
                </a:moveTo>
                <a:cubicBezTo>
                  <a:pt x="59" y="3"/>
                  <a:pt x="45" y="0"/>
                  <a:pt x="37" y="3"/>
                </a:cubicBezTo>
                <a:cubicBezTo>
                  <a:pt x="25" y="6"/>
                  <a:pt x="17" y="14"/>
                  <a:pt x="11" y="22"/>
                </a:cubicBezTo>
                <a:cubicBezTo>
                  <a:pt x="0" y="42"/>
                  <a:pt x="6" y="68"/>
                  <a:pt x="25" y="79"/>
                </a:cubicBezTo>
                <a:cubicBezTo>
                  <a:pt x="31" y="82"/>
                  <a:pt x="40" y="85"/>
                  <a:pt x="45" y="85"/>
                </a:cubicBezTo>
                <a:cubicBezTo>
                  <a:pt x="59" y="85"/>
                  <a:pt x="73" y="76"/>
                  <a:pt x="82" y="62"/>
                </a:cubicBezTo>
                <a:cubicBezTo>
                  <a:pt x="96" y="45"/>
                  <a:pt x="88" y="20"/>
                  <a:pt x="68" y="8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24"/>
          <p:cNvSpPr/>
          <p:nvPr/>
        </p:nvSpPr>
        <p:spPr>
          <a:xfrm>
            <a:off x="474336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68" y="119"/>
                </a:moveTo>
                <a:cubicBezTo>
                  <a:pt x="62" y="119"/>
                  <a:pt x="57" y="116"/>
                  <a:pt x="54" y="108"/>
                </a:cubicBezTo>
                <a:cubicBezTo>
                  <a:pt x="45" y="76"/>
                  <a:pt x="28" y="48"/>
                  <a:pt x="6" y="26"/>
                </a:cubicBezTo>
                <a:cubicBezTo>
                  <a:pt x="0" y="20"/>
                  <a:pt x="0" y="12"/>
                  <a:pt x="6" y="6"/>
                </a:cubicBezTo>
                <a:cubicBezTo>
                  <a:pt x="11" y="0"/>
                  <a:pt x="20" y="0"/>
                  <a:pt x="25" y="6"/>
                </a:cubicBezTo>
                <a:cubicBezTo>
                  <a:pt x="51" y="31"/>
                  <a:pt x="71" y="65"/>
                  <a:pt x="79" y="102"/>
                </a:cubicBezTo>
                <a:cubicBezTo>
                  <a:pt x="82" y="110"/>
                  <a:pt x="76" y="116"/>
                  <a:pt x="71" y="119"/>
                </a:cubicBezTo>
                <a:lnTo>
                  <a:pt x="68" y="119"/>
                </a:ln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5"/>
          <p:cNvSpPr/>
          <p:nvPr/>
        </p:nvSpPr>
        <p:spPr>
          <a:xfrm>
            <a:off x="450540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14" y="119"/>
                </a:moveTo>
                <a:lnTo>
                  <a:pt x="12" y="119"/>
                </a:lnTo>
                <a:cubicBezTo>
                  <a:pt x="3" y="116"/>
                  <a:pt x="0" y="110"/>
                  <a:pt x="3" y="102"/>
                </a:cubicBezTo>
                <a:cubicBezTo>
                  <a:pt x="12" y="65"/>
                  <a:pt x="31" y="34"/>
                  <a:pt x="57" y="6"/>
                </a:cubicBezTo>
                <a:cubicBezTo>
                  <a:pt x="62" y="0"/>
                  <a:pt x="71" y="0"/>
                  <a:pt x="77" y="6"/>
                </a:cubicBezTo>
                <a:cubicBezTo>
                  <a:pt x="82" y="12"/>
                  <a:pt x="82" y="21"/>
                  <a:pt x="77" y="26"/>
                </a:cubicBezTo>
                <a:cubicBezTo>
                  <a:pt x="54" y="49"/>
                  <a:pt x="37" y="76"/>
                  <a:pt x="29" y="108"/>
                </a:cubicBezTo>
                <a:cubicBezTo>
                  <a:pt x="26" y="116"/>
                  <a:pt x="20" y="119"/>
                  <a:pt x="14" y="119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26"/>
          <p:cNvSpPr/>
          <p:nvPr/>
        </p:nvSpPr>
        <p:spPr>
          <a:xfrm>
            <a:off x="4610160" y="7081920"/>
            <a:ext cx="88920" cy="2700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5" y="37"/>
                </a:moveTo>
                <a:cubicBezTo>
                  <a:pt x="45" y="37"/>
                  <a:pt x="28" y="34"/>
                  <a:pt x="11" y="31"/>
                </a:cubicBezTo>
                <a:cubicBezTo>
                  <a:pt x="3" y="28"/>
                  <a:pt x="0" y="23"/>
                  <a:pt x="0" y="14"/>
                </a:cubicBezTo>
                <a:cubicBezTo>
                  <a:pt x="3" y="6"/>
                  <a:pt x="8" y="3"/>
                  <a:pt x="17" y="3"/>
                </a:cubicBezTo>
                <a:cubicBezTo>
                  <a:pt x="48" y="11"/>
                  <a:pt x="82" y="11"/>
                  <a:pt x="113" y="3"/>
                </a:cubicBezTo>
                <a:cubicBezTo>
                  <a:pt x="121" y="0"/>
                  <a:pt x="127" y="6"/>
                  <a:pt x="130" y="14"/>
                </a:cubicBezTo>
                <a:cubicBezTo>
                  <a:pt x="132" y="23"/>
                  <a:pt x="127" y="28"/>
                  <a:pt x="118" y="31"/>
                </a:cubicBezTo>
                <a:cubicBezTo>
                  <a:pt x="101" y="34"/>
                  <a:pt x="84" y="37"/>
                  <a:pt x="65" y="37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27"/>
          <p:cNvSpPr/>
          <p:nvPr/>
        </p:nvSpPr>
        <p:spPr>
          <a:xfrm>
            <a:off x="4716360" y="6869160"/>
            <a:ext cx="49320" cy="66600"/>
          </a:xfrm>
          <a:custGeom>
            <a:avLst/>
            <a:gdLst/>
            <a:ahLst/>
            <a:rect l="l" t="t" r="r" b="b"/>
            <a:pathLst>
              <a:path w="72" h="97">
                <a:moveTo>
                  <a:pt x="54" y="96"/>
                </a:moveTo>
                <a:cubicBezTo>
                  <a:pt x="49" y="96"/>
                  <a:pt x="43" y="93"/>
                  <a:pt x="40" y="84"/>
                </a:cubicBezTo>
                <a:cubicBezTo>
                  <a:pt x="34" y="62"/>
                  <a:pt x="23" y="42"/>
                  <a:pt x="6" y="25"/>
                </a:cubicBezTo>
                <a:cubicBezTo>
                  <a:pt x="1" y="20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cubicBezTo>
                  <a:pt x="46" y="25"/>
                  <a:pt x="60" y="51"/>
                  <a:pt x="68" y="76"/>
                </a:cubicBezTo>
                <a:cubicBezTo>
                  <a:pt x="71" y="84"/>
                  <a:pt x="65" y="90"/>
                  <a:pt x="57" y="93"/>
                </a:cubicBezTo>
                <a:cubicBezTo>
                  <a:pt x="57" y="96"/>
                  <a:pt x="54" y="96"/>
                  <a:pt x="54" y="9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28"/>
          <p:cNvSpPr/>
          <p:nvPr/>
        </p:nvSpPr>
        <p:spPr>
          <a:xfrm>
            <a:off x="4540320" y="6869160"/>
            <a:ext cx="47520" cy="63360"/>
          </a:xfrm>
          <a:custGeom>
            <a:avLst/>
            <a:gdLst/>
            <a:ahLst/>
            <a:rect l="l" t="t" r="r" b="b"/>
            <a:pathLst>
              <a:path w="69" h="94">
                <a:moveTo>
                  <a:pt x="14" y="93"/>
                </a:moveTo>
                <a:lnTo>
                  <a:pt x="11" y="93"/>
                </a:lnTo>
                <a:cubicBezTo>
                  <a:pt x="3" y="90"/>
                  <a:pt x="0" y="84"/>
                  <a:pt x="0" y="76"/>
                </a:cubicBezTo>
                <a:cubicBezTo>
                  <a:pt x="8" y="50"/>
                  <a:pt x="22" y="25"/>
                  <a:pt x="42" y="5"/>
                </a:cubicBezTo>
                <a:cubicBezTo>
                  <a:pt x="47" y="0"/>
                  <a:pt x="56" y="0"/>
                  <a:pt x="62" y="5"/>
                </a:cubicBezTo>
                <a:cubicBezTo>
                  <a:pt x="68" y="11"/>
                  <a:pt x="68" y="19"/>
                  <a:pt x="62" y="25"/>
                </a:cubicBezTo>
                <a:cubicBezTo>
                  <a:pt x="45" y="42"/>
                  <a:pt x="34" y="62"/>
                  <a:pt x="28" y="84"/>
                </a:cubicBezTo>
                <a:cubicBezTo>
                  <a:pt x="25" y="87"/>
                  <a:pt x="20" y="93"/>
                  <a:pt x="14" y="93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29"/>
          <p:cNvSpPr/>
          <p:nvPr/>
        </p:nvSpPr>
        <p:spPr>
          <a:xfrm>
            <a:off x="4614840" y="7043760"/>
            <a:ext cx="73080" cy="23760"/>
          </a:xfrm>
          <a:custGeom>
            <a:avLst/>
            <a:gdLst/>
            <a:ahLst/>
            <a:rect l="l" t="t" r="r" b="b"/>
            <a:pathLst>
              <a:path w="105" h="37">
                <a:moveTo>
                  <a:pt x="54" y="36"/>
                </a:moveTo>
                <a:cubicBezTo>
                  <a:pt x="40" y="36"/>
                  <a:pt x="25" y="33"/>
                  <a:pt x="11" y="31"/>
                </a:cubicBezTo>
                <a:cubicBezTo>
                  <a:pt x="3" y="28"/>
                  <a:pt x="0" y="22"/>
                  <a:pt x="0" y="14"/>
                </a:cubicBezTo>
                <a:cubicBezTo>
                  <a:pt x="3" y="5"/>
                  <a:pt x="8" y="2"/>
                  <a:pt x="17" y="2"/>
                </a:cubicBezTo>
                <a:cubicBezTo>
                  <a:pt x="40" y="8"/>
                  <a:pt x="62" y="8"/>
                  <a:pt x="85" y="2"/>
                </a:cubicBezTo>
                <a:cubicBezTo>
                  <a:pt x="93" y="0"/>
                  <a:pt x="99" y="5"/>
                  <a:pt x="102" y="14"/>
                </a:cubicBezTo>
                <a:cubicBezTo>
                  <a:pt x="104" y="22"/>
                  <a:pt x="99" y="28"/>
                  <a:pt x="90" y="31"/>
                </a:cubicBezTo>
                <a:cubicBezTo>
                  <a:pt x="82" y="33"/>
                  <a:pt x="68" y="36"/>
                  <a:pt x="54" y="3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30"/>
          <p:cNvSpPr/>
          <p:nvPr/>
        </p:nvSpPr>
        <p:spPr>
          <a:xfrm>
            <a:off x="5398920" y="6800760"/>
            <a:ext cx="20880" cy="3816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1"/>
          <p:cNvSpPr/>
          <p:nvPr/>
        </p:nvSpPr>
        <p:spPr>
          <a:xfrm>
            <a:off x="5408640" y="695340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96" y="76"/>
                </a:moveTo>
                <a:lnTo>
                  <a:pt x="26" y="6"/>
                </a:lnTo>
                <a:cubicBezTo>
                  <a:pt x="20" y="0"/>
                  <a:pt x="12" y="1"/>
                  <a:pt x="6" y="6"/>
                </a:cubicBezTo>
                <a:cubicBezTo>
                  <a:pt x="0" y="12"/>
                  <a:pt x="0" y="20"/>
                  <a:pt x="6" y="25"/>
                </a:cubicBezTo>
                <a:lnTo>
                  <a:pt x="76" y="96"/>
                </a:lnTo>
                <a:cubicBezTo>
                  <a:pt x="79" y="99"/>
                  <a:pt x="83" y="99"/>
                  <a:pt x="88" y="99"/>
                </a:cubicBezTo>
                <a:cubicBezTo>
                  <a:pt x="94" y="99"/>
                  <a:pt x="96" y="99"/>
                  <a:pt x="99" y="96"/>
                </a:cubicBezTo>
                <a:cubicBezTo>
                  <a:pt x="102" y="90"/>
                  <a:pt x="102" y="82"/>
                  <a:pt x="96" y="7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32"/>
          <p:cNvSpPr/>
          <p:nvPr/>
        </p:nvSpPr>
        <p:spPr>
          <a:xfrm>
            <a:off x="5361120" y="6913440"/>
            <a:ext cx="95040" cy="57240"/>
          </a:xfrm>
          <a:custGeom>
            <a:avLst/>
            <a:gdLst/>
            <a:ahLst/>
            <a:rect l="l" t="t" r="r" b="b"/>
            <a:pathLst>
              <a:path w="142" h="85">
                <a:moveTo>
                  <a:pt x="127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127" y="84"/>
                </a:lnTo>
                <a:cubicBezTo>
                  <a:pt x="135" y="84"/>
                  <a:pt x="141" y="79"/>
                  <a:pt x="141" y="70"/>
                </a:cubicBezTo>
                <a:lnTo>
                  <a:pt x="141" y="14"/>
                </a:lnTo>
                <a:cubicBezTo>
                  <a:pt x="141" y="5"/>
                  <a:pt x="135" y="0"/>
                  <a:pt x="12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33"/>
          <p:cNvSpPr/>
          <p:nvPr/>
        </p:nvSpPr>
        <p:spPr>
          <a:xfrm>
            <a:off x="5283360" y="6818400"/>
            <a:ext cx="247320" cy="135000"/>
          </a:xfrm>
          <a:custGeom>
            <a:avLst/>
            <a:gdLst/>
            <a:ahLst/>
            <a:rect l="l" t="t" r="r" b="b"/>
            <a:pathLst>
              <a:path w="368" h="199">
                <a:moveTo>
                  <a:pt x="338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170"/>
                </a:lnTo>
                <a:cubicBezTo>
                  <a:pt x="0" y="187"/>
                  <a:pt x="11" y="198"/>
                  <a:pt x="28" y="198"/>
                </a:cubicBezTo>
                <a:lnTo>
                  <a:pt x="338" y="198"/>
                </a:lnTo>
                <a:cubicBezTo>
                  <a:pt x="355" y="198"/>
                  <a:pt x="367" y="187"/>
                  <a:pt x="367" y="170"/>
                </a:cubicBezTo>
                <a:lnTo>
                  <a:pt x="367" y="29"/>
                </a:lnTo>
                <a:cubicBezTo>
                  <a:pt x="367" y="12"/>
                  <a:pt x="355" y="0"/>
                  <a:pt x="338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34"/>
          <p:cNvSpPr/>
          <p:nvPr/>
        </p:nvSpPr>
        <p:spPr>
          <a:xfrm>
            <a:off x="5303880" y="6838920"/>
            <a:ext cx="190440" cy="96840"/>
          </a:xfrm>
          <a:custGeom>
            <a:avLst/>
            <a:gdLst/>
            <a:ahLst/>
            <a:rect l="l" t="t" r="r" b="b"/>
            <a:pathLst>
              <a:path w="283" h="142">
                <a:moveTo>
                  <a:pt x="141" y="141"/>
                </a:moveTo>
                <a:lnTo>
                  <a:pt x="0" y="141"/>
                </a:lnTo>
                <a:lnTo>
                  <a:pt x="0" y="0"/>
                </a:lnTo>
                <a:lnTo>
                  <a:pt x="282" y="0"/>
                </a:lnTo>
                <a:lnTo>
                  <a:pt x="282" y="141"/>
                </a:lnTo>
                <a:lnTo>
                  <a:pt x="141" y="141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35"/>
          <p:cNvSpPr/>
          <p:nvPr/>
        </p:nvSpPr>
        <p:spPr>
          <a:xfrm>
            <a:off x="5438880" y="6989760"/>
            <a:ext cx="115920" cy="11592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164" y="110"/>
                </a:moveTo>
                <a:lnTo>
                  <a:pt x="68" y="5"/>
                </a:lnTo>
                <a:cubicBezTo>
                  <a:pt x="65" y="2"/>
                  <a:pt x="63" y="0"/>
                  <a:pt x="60" y="0"/>
                </a:cubicBezTo>
                <a:cubicBezTo>
                  <a:pt x="57" y="0"/>
                  <a:pt x="51" y="0"/>
                  <a:pt x="48" y="2"/>
                </a:cubicBezTo>
                <a:lnTo>
                  <a:pt x="6" y="39"/>
                </a:lnTo>
                <a:cubicBezTo>
                  <a:pt x="0" y="45"/>
                  <a:pt x="0" y="53"/>
                  <a:pt x="6" y="59"/>
                </a:cubicBezTo>
                <a:lnTo>
                  <a:pt x="102" y="163"/>
                </a:lnTo>
                <a:cubicBezTo>
                  <a:pt x="105" y="166"/>
                  <a:pt x="108" y="169"/>
                  <a:pt x="110" y="169"/>
                </a:cubicBezTo>
                <a:lnTo>
                  <a:pt x="110" y="169"/>
                </a:lnTo>
                <a:cubicBezTo>
                  <a:pt x="113" y="169"/>
                  <a:pt x="116" y="169"/>
                  <a:pt x="119" y="166"/>
                </a:cubicBezTo>
                <a:lnTo>
                  <a:pt x="161" y="129"/>
                </a:lnTo>
                <a:cubicBezTo>
                  <a:pt x="167" y="124"/>
                  <a:pt x="170" y="115"/>
                  <a:pt x="164" y="11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36"/>
          <p:cNvSpPr/>
          <p:nvPr/>
        </p:nvSpPr>
        <p:spPr>
          <a:xfrm>
            <a:off x="5378400" y="684864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04" y="45"/>
                </a:moveTo>
                <a:lnTo>
                  <a:pt x="20" y="3"/>
                </a:lnTo>
                <a:cubicBezTo>
                  <a:pt x="14" y="0"/>
                  <a:pt x="11" y="0"/>
                  <a:pt x="6" y="3"/>
                </a:cubicBezTo>
                <a:cubicBezTo>
                  <a:pt x="3" y="5"/>
                  <a:pt x="0" y="11"/>
                  <a:pt x="0" y="14"/>
                </a:cubicBezTo>
                <a:lnTo>
                  <a:pt x="0" y="99"/>
                </a:lnTo>
                <a:cubicBezTo>
                  <a:pt x="0" y="104"/>
                  <a:pt x="3" y="107"/>
                  <a:pt x="6" y="110"/>
                </a:cubicBezTo>
                <a:cubicBezTo>
                  <a:pt x="8" y="110"/>
                  <a:pt x="11" y="113"/>
                  <a:pt x="14" y="113"/>
                </a:cubicBezTo>
                <a:cubicBezTo>
                  <a:pt x="17" y="113"/>
                  <a:pt x="20" y="113"/>
                  <a:pt x="20" y="110"/>
                </a:cubicBezTo>
                <a:lnTo>
                  <a:pt x="104" y="67"/>
                </a:lnTo>
                <a:cubicBezTo>
                  <a:pt x="110" y="65"/>
                  <a:pt x="113" y="59"/>
                  <a:pt x="113" y="56"/>
                </a:cubicBezTo>
                <a:cubicBezTo>
                  <a:pt x="113" y="53"/>
                  <a:pt x="110" y="45"/>
                  <a:pt x="104" y="45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37"/>
          <p:cNvSpPr/>
          <p:nvPr/>
        </p:nvSpPr>
        <p:spPr>
          <a:xfrm>
            <a:off x="6068880" y="6838920"/>
            <a:ext cx="230400" cy="212760"/>
          </a:xfrm>
          <a:custGeom>
            <a:avLst/>
            <a:gdLst/>
            <a:ahLst/>
            <a:rect l="l" t="t" r="r" b="b"/>
            <a:pathLst>
              <a:path w="339" h="311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296"/>
                </a:lnTo>
                <a:cubicBezTo>
                  <a:pt x="0" y="304"/>
                  <a:pt x="5" y="310"/>
                  <a:pt x="14" y="310"/>
                </a:cubicBezTo>
                <a:lnTo>
                  <a:pt x="324" y="310"/>
                </a:lnTo>
                <a:cubicBezTo>
                  <a:pt x="333" y="310"/>
                  <a:pt x="338" y="304"/>
                  <a:pt x="338" y="296"/>
                </a:cubicBezTo>
                <a:lnTo>
                  <a:pt x="338" y="28"/>
                </a:lnTo>
                <a:cubicBezTo>
                  <a:pt x="338" y="11"/>
                  <a:pt x="327" y="0"/>
                  <a:pt x="310" y="0"/>
                </a:cubicBezTo>
              </a:path>
            </a:pathLst>
          </a:custGeom>
          <a:solidFill>
            <a:srgbClr val="795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38"/>
          <p:cNvSpPr/>
          <p:nvPr/>
        </p:nvSpPr>
        <p:spPr>
          <a:xfrm>
            <a:off x="6031080" y="6875640"/>
            <a:ext cx="307800" cy="19188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254"/>
                </a:lnTo>
                <a:cubicBezTo>
                  <a:pt x="0" y="271"/>
                  <a:pt x="12" y="282"/>
                  <a:pt x="29" y="282"/>
                </a:cubicBezTo>
                <a:lnTo>
                  <a:pt x="127" y="282"/>
                </a:lnTo>
                <a:cubicBezTo>
                  <a:pt x="150" y="282"/>
                  <a:pt x="170" y="268"/>
                  <a:pt x="178" y="248"/>
                </a:cubicBezTo>
                <a:lnTo>
                  <a:pt x="212" y="175"/>
                </a:lnTo>
                <a:cubicBezTo>
                  <a:pt x="215" y="167"/>
                  <a:pt x="223" y="167"/>
                  <a:pt x="226" y="167"/>
                </a:cubicBezTo>
                <a:cubicBezTo>
                  <a:pt x="229" y="167"/>
                  <a:pt x="235" y="167"/>
                  <a:pt x="240" y="175"/>
                </a:cubicBezTo>
                <a:lnTo>
                  <a:pt x="274" y="248"/>
                </a:lnTo>
                <a:cubicBezTo>
                  <a:pt x="283" y="268"/>
                  <a:pt x="302" y="282"/>
                  <a:pt x="325" y="282"/>
                </a:cubicBezTo>
                <a:lnTo>
                  <a:pt x="424" y="282"/>
                </a:lnTo>
                <a:cubicBezTo>
                  <a:pt x="441" y="282"/>
                  <a:pt x="452" y="271"/>
                  <a:pt x="452" y="254"/>
                </a:cubicBezTo>
                <a:lnTo>
                  <a:pt x="452" y="28"/>
                </a:lnTo>
                <a:cubicBezTo>
                  <a:pt x="452" y="11"/>
                  <a:pt x="441" y="0"/>
                  <a:pt x="424" y="0"/>
                </a:cubicBez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39"/>
          <p:cNvSpPr/>
          <p:nvPr/>
        </p:nvSpPr>
        <p:spPr>
          <a:xfrm>
            <a:off x="6048360" y="691344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8" y="94"/>
                  <a:pt x="131" y="105"/>
                </a:cubicBezTo>
                <a:cubicBezTo>
                  <a:pt x="125" y="117"/>
                  <a:pt x="117" y="125"/>
                  <a:pt x="105" y="131"/>
                </a:cubicBezTo>
                <a:cubicBezTo>
                  <a:pt x="94" y="138"/>
                  <a:pt x="83" y="141"/>
                  <a:pt x="70" y="141"/>
                </a:cubicBezTo>
                <a:cubicBezTo>
                  <a:pt x="57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7" y="0"/>
                  <a:pt x="70" y="0"/>
                </a:cubicBezTo>
                <a:cubicBezTo>
                  <a:pt x="83" y="0"/>
                  <a:pt x="94" y="3"/>
                  <a:pt x="105" y="9"/>
                </a:cubicBezTo>
                <a:cubicBezTo>
                  <a:pt x="117" y="16"/>
                  <a:pt x="125" y="24"/>
                  <a:pt x="131" y="35"/>
                </a:cubicBezTo>
                <a:cubicBezTo>
                  <a:pt x="138" y="46"/>
                  <a:pt x="141" y="57"/>
                  <a:pt x="141" y="70"/>
                </a:cubicBezTo>
              </a:path>
            </a:pathLst>
          </a:custGeom>
          <a:solidFill>
            <a:srgbClr val="5d4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0"/>
          <p:cNvSpPr/>
          <p:nvPr/>
        </p:nvSpPr>
        <p:spPr>
          <a:xfrm>
            <a:off x="6221520" y="6913440"/>
            <a:ext cx="9684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8" y="94"/>
                  <a:pt x="131" y="105"/>
                </a:cubicBezTo>
                <a:cubicBezTo>
                  <a:pt x="125" y="117"/>
                  <a:pt x="117" y="125"/>
                  <a:pt x="105" y="131"/>
                </a:cubicBezTo>
                <a:cubicBezTo>
                  <a:pt x="94" y="138"/>
                  <a:pt x="83" y="141"/>
                  <a:pt x="70" y="141"/>
                </a:cubicBezTo>
                <a:cubicBezTo>
                  <a:pt x="57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7" y="0"/>
                  <a:pt x="70" y="0"/>
                </a:cubicBezTo>
                <a:cubicBezTo>
                  <a:pt x="83" y="0"/>
                  <a:pt x="94" y="3"/>
                  <a:pt x="105" y="9"/>
                </a:cubicBezTo>
                <a:cubicBezTo>
                  <a:pt x="117" y="16"/>
                  <a:pt x="125" y="24"/>
                  <a:pt x="131" y="35"/>
                </a:cubicBezTo>
                <a:cubicBezTo>
                  <a:pt x="138" y="46"/>
                  <a:pt x="141" y="57"/>
                  <a:pt x="141" y="70"/>
                </a:cubicBezTo>
              </a:path>
            </a:pathLst>
          </a:custGeom>
          <a:solidFill>
            <a:srgbClr val="5d4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41"/>
          <p:cNvSpPr/>
          <p:nvPr/>
        </p:nvSpPr>
        <p:spPr>
          <a:xfrm>
            <a:off x="6931080" y="6953400"/>
            <a:ext cx="38160" cy="60120"/>
          </a:xfrm>
          <a:custGeom>
            <a:avLst/>
            <a:gdLst/>
            <a:ahLst/>
            <a:rect l="l" t="t" r="r" b="b"/>
            <a:pathLst>
              <a:path w="57" h="86">
                <a:moveTo>
                  <a:pt x="28" y="85"/>
                </a:moveTo>
                <a:lnTo>
                  <a:pt x="0" y="85"/>
                </a:lnTo>
                <a:lnTo>
                  <a:pt x="0" y="0"/>
                </a:lnTo>
                <a:lnTo>
                  <a:pt x="56" y="0"/>
                </a:lnTo>
                <a:lnTo>
                  <a:pt x="56" y="85"/>
                </a:lnTo>
                <a:lnTo>
                  <a:pt x="28" y="85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2"/>
          <p:cNvSpPr/>
          <p:nvPr/>
        </p:nvSpPr>
        <p:spPr>
          <a:xfrm>
            <a:off x="6991200" y="6935760"/>
            <a:ext cx="92160" cy="11592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121" y="169"/>
                </a:moveTo>
                <a:cubicBezTo>
                  <a:pt x="116" y="169"/>
                  <a:pt x="110" y="163"/>
                  <a:pt x="107" y="158"/>
                </a:cubicBezTo>
                <a:lnTo>
                  <a:pt x="93" y="84"/>
                </a:lnTo>
                <a:cubicBezTo>
                  <a:pt x="88" y="51"/>
                  <a:pt x="56" y="28"/>
                  <a:pt x="23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3" y="0"/>
                </a:lnTo>
                <a:cubicBezTo>
                  <a:pt x="71" y="0"/>
                  <a:pt x="110" y="34"/>
                  <a:pt x="119" y="79"/>
                </a:cubicBezTo>
                <a:lnTo>
                  <a:pt x="133" y="152"/>
                </a:lnTo>
                <a:cubicBezTo>
                  <a:pt x="135" y="161"/>
                  <a:pt x="133" y="166"/>
                  <a:pt x="121" y="16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43"/>
          <p:cNvSpPr/>
          <p:nvPr/>
        </p:nvSpPr>
        <p:spPr>
          <a:xfrm>
            <a:off x="6813720" y="6935760"/>
            <a:ext cx="90360" cy="115920"/>
          </a:xfrm>
          <a:custGeom>
            <a:avLst/>
            <a:gdLst/>
            <a:ahLst/>
            <a:rect l="l" t="t" r="r" b="b"/>
            <a:pathLst>
              <a:path w="134" h="170">
                <a:moveTo>
                  <a:pt x="15" y="169"/>
                </a:moveTo>
                <a:cubicBezTo>
                  <a:pt x="15" y="169"/>
                  <a:pt x="12" y="169"/>
                  <a:pt x="15" y="169"/>
                </a:cubicBezTo>
                <a:cubicBezTo>
                  <a:pt x="3" y="166"/>
                  <a:pt x="0" y="161"/>
                  <a:pt x="0" y="152"/>
                </a:cubicBezTo>
                <a:lnTo>
                  <a:pt x="15" y="79"/>
                </a:lnTo>
                <a:cubicBezTo>
                  <a:pt x="23" y="34"/>
                  <a:pt x="65" y="0"/>
                  <a:pt x="110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4"/>
                </a:cubicBezTo>
                <a:cubicBezTo>
                  <a:pt x="133" y="23"/>
                  <a:pt x="127" y="28"/>
                  <a:pt x="119" y="28"/>
                </a:cubicBezTo>
                <a:lnTo>
                  <a:pt x="113" y="28"/>
                </a:lnTo>
                <a:cubicBezTo>
                  <a:pt x="79" y="28"/>
                  <a:pt x="51" y="51"/>
                  <a:pt x="46" y="84"/>
                </a:cubicBezTo>
                <a:lnTo>
                  <a:pt x="31" y="158"/>
                </a:lnTo>
                <a:cubicBezTo>
                  <a:pt x="26" y="163"/>
                  <a:pt x="20" y="169"/>
                  <a:pt x="15" y="16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44"/>
          <p:cNvSpPr/>
          <p:nvPr/>
        </p:nvSpPr>
        <p:spPr>
          <a:xfrm>
            <a:off x="6870600" y="6875640"/>
            <a:ext cx="152640" cy="95040"/>
          </a:xfrm>
          <a:custGeom>
            <a:avLst/>
            <a:gdLst/>
            <a:ahLst/>
            <a:rect l="l" t="t" r="r" b="b"/>
            <a:pathLst>
              <a:path w="227" h="139">
                <a:moveTo>
                  <a:pt x="223" y="6"/>
                </a:moveTo>
                <a:cubicBezTo>
                  <a:pt x="220" y="3"/>
                  <a:pt x="217" y="0"/>
                  <a:pt x="212" y="0"/>
                </a:cubicBezTo>
                <a:lnTo>
                  <a:pt x="14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17"/>
                </a:cubicBezTo>
                <a:lnTo>
                  <a:pt x="23" y="107"/>
                </a:lnTo>
                <a:cubicBezTo>
                  <a:pt x="28" y="127"/>
                  <a:pt x="45" y="138"/>
                  <a:pt x="65" y="138"/>
                </a:cubicBezTo>
                <a:lnTo>
                  <a:pt x="161" y="138"/>
                </a:lnTo>
                <a:cubicBezTo>
                  <a:pt x="181" y="138"/>
                  <a:pt x="198" y="124"/>
                  <a:pt x="203" y="107"/>
                </a:cubicBezTo>
                <a:lnTo>
                  <a:pt x="226" y="17"/>
                </a:lnTo>
                <a:cubicBezTo>
                  <a:pt x="226" y="14"/>
                  <a:pt x="226" y="9"/>
                  <a:pt x="223" y="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45"/>
          <p:cNvSpPr/>
          <p:nvPr/>
        </p:nvSpPr>
        <p:spPr>
          <a:xfrm>
            <a:off x="6835680" y="6800760"/>
            <a:ext cx="2088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46"/>
          <p:cNvSpPr/>
          <p:nvPr/>
        </p:nvSpPr>
        <p:spPr>
          <a:xfrm>
            <a:off x="679608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47"/>
          <p:cNvSpPr/>
          <p:nvPr/>
        </p:nvSpPr>
        <p:spPr>
          <a:xfrm>
            <a:off x="7043760" y="6800760"/>
            <a:ext cx="2232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48"/>
          <p:cNvSpPr/>
          <p:nvPr/>
        </p:nvSpPr>
        <p:spPr>
          <a:xfrm>
            <a:off x="700560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8"/>
                  <a:pt x="127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49"/>
          <p:cNvSpPr/>
          <p:nvPr/>
        </p:nvSpPr>
        <p:spPr>
          <a:xfrm>
            <a:off x="6835680" y="6875640"/>
            <a:ext cx="23040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6"/>
                  <a:pt x="338" y="14"/>
                </a:cubicBezTo>
                <a:cubicBezTo>
                  <a:pt x="338" y="23"/>
                  <a:pt x="333" y="28"/>
                  <a:pt x="324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0"/>
          <p:cNvSpPr/>
          <p:nvPr/>
        </p:nvSpPr>
        <p:spPr>
          <a:xfrm>
            <a:off x="6813720" y="68389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lnTo>
                  <a:pt x="0" y="42"/>
                </a:lnTo>
                <a:cubicBezTo>
                  <a:pt x="0" y="65"/>
                  <a:pt x="21" y="84"/>
                  <a:pt x="43" y="84"/>
                </a:cubicBezTo>
                <a:cubicBezTo>
                  <a:pt x="66" y="84"/>
                  <a:pt x="85" y="65"/>
                  <a:pt x="85" y="42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1"/>
          <p:cNvSpPr/>
          <p:nvPr/>
        </p:nvSpPr>
        <p:spPr>
          <a:xfrm>
            <a:off x="7026120" y="6838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42"/>
                </a:lnTo>
                <a:cubicBezTo>
                  <a:pt x="0" y="65"/>
                  <a:pt x="20" y="84"/>
                  <a:pt x="42" y="84"/>
                </a:cubicBezTo>
                <a:cubicBezTo>
                  <a:pt x="65" y="84"/>
                  <a:pt x="84" y="65"/>
                  <a:pt x="84" y="42"/>
                </a:cubicBezTo>
                <a:lnTo>
                  <a:pt x="84" y="14"/>
                </a:lnTo>
                <a:cubicBezTo>
                  <a:pt x="84" y="5"/>
                  <a:pt x="79" y="0"/>
                  <a:pt x="70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52"/>
          <p:cNvSpPr/>
          <p:nvPr/>
        </p:nvSpPr>
        <p:spPr>
          <a:xfrm>
            <a:off x="6891480" y="6991200"/>
            <a:ext cx="117360" cy="1177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0" y="85"/>
                </a:moveTo>
                <a:cubicBezTo>
                  <a:pt x="170" y="101"/>
                  <a:pt x="166" y="114"/>
                  <a:pt x="158" y="127"/>
                </a:cubicBezTo>
                <a:cubicBezTo>
                  <a:pt x="150" y="141"/>
                  <a:pt x="141" y="151"/>
                  <a:pt x="127" y="158"/>
                </a:cubicBezTo>
                <a:cubicBezTo>
                  <a:pt x="114" y="166"/>
                  <a:pt x="101" y="170"/>
                  <a:pt x="85" y="170"/>
                </a:cubicBezTo>
                <a:cubicBezTo>
                  <a:pt x="69" y="170"/>
                  <a:pt x="57" y="166"/>
                  <a:pt x="43" y="158"/>
                </a:cubicBezTo>
                <a:cubicBezTo>
                  <a:pt x="30" y="151"/>
                  <a:pt x="20" y="141"/>
                  <a:pt x="12" y="127"/>
                </a:cubicBezTo>
                <a:cubicBezTo>
                  <a:pt x="5" y="114"/>
                  <a:pt x="0" y="101"/>
                  <a:pt x="0" y="85"/>
                </a:cubicBezTo>
                <a:cubicBezTo>
                  <a:pt x="0" y="69"/>
                  <a:pt x="5" y="57"/>
                  <a:pt x="12" y="43"/>
                </a:cubicBezTo>
                <a:cubicBezTo>
                  <a:pt x="20" y="30"/>
                  <a:pt x="30" y="20"/>
                  <a:pt x="43" y="12"/>
                </a:cubicBezTo>
                <a:cubicBezTo>
                  <a:pt x="57" y="4"/>
                  <a:pt x="69" y="0"/>
                  <a:pt x="85" y="0"/>
                </a:cubicBezTo>
                <a:cubicBezTo>
                  <a:pt x="101" y="0"/>
                  <a:pt x="114" y="4"/>
                  <a:pt x="127" y="12"/>
                </a:cubicBezTo>
                <a:cubicBezTo>
                  <a:pt x="141" y="20"/>
                  <a:pt x="150" y="30"/>
                  <a:pt x="158" y="43"/>
                </a:cubicBezTo>
                <a:cubicBezTo>
                  <a:pt x="166" y="57"/>
                  <a:pt x="170" y="69"/>
                  <a:pt x="170" y="8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53"/>
          <p:cNvSpPr/>
          <p:nvPr/>
        </p:nvSpPr>
        <p:spPr>
          <a:xfrm>
            <a:off x="6918480" y="7027920"/>
            <a:ext cx="5688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2"/>
                </a:moveTo>
                <a:cubicBezTo>
                  <a:pt x="84" y="50"/>
                  <a:pt x="83" y="57"/>
                  <a:pt x="79" y="63"/>
                </a:cubicBezTo>
                <a:cubicBezTo>
                  <a:pt x="76" y="70"/>
                  <a:pt x="70" y="75"/>
                  <a:pt x="63" y="79"/>
                </a:cubicBezTo>
                <a:cubicBezTo>
                  <a:pt x="56" y="83"/>
                  <a:pt x="50" y="84"/>
                  <a:pt x="42" y="84"/>
                </a:cubicBezTo>
                <a:cubicBezTo>
                  <a:pt x="34" y="84"/>
                  <a:pt x="28" y="83"/>
                  <a:pt x="21" y="79"/>
                </a:cubicBezTo>
                <a:cubicBezTo>
                  <a:pt x="14" y="75"/>
                  <a:pt x="9" y="70"/>
                  <a:pt x="5" y="63"/>
                </a:cubicBezTo>
                <a:cubicBezTo>
                  <a:pt x="1" y="57"/>
                  <a:pt x="0" y="50"/>
                  <a:pt x="0" y="42"/>
                </a:cubicBezTo>
                <a:cubicBezTo>
                  <a:pt x="0" y="34"/>
                  <a:pt x="1" y="28"/>
                  <a:pt x="5" y="21"/>
                </a:cubicBezTo>
                <a:cubicBezTo>
                  <a:pt x="9" y="14"/>
                  <a:pt x="14" y="9"/>
                  <a:pt x="21" y="5"/>
                </a:cubicBezTo>
                <a:cubicBezTo>
                  <a:pt x="28" y="2"/>
                  <a:pt x="34" y="0"/>
                  <a:pt x="42" y="0"/>
                </a:cubicBezTo>
                <a:cubicBezTo>
                  <a:pt x="50" y="0"/>
                  <a:pt x="56" y="2"/>
                  <a:pt x="63" y="5"/>
                </a:cubicBezTo>
                <a:cubicBezTo>
                  <a:pt x="70" y="9"/>
                  <a:pt x="76" y="14"/>
                  <a:pt x="79" y="21"/>
                </a:cubicBezTo>
                <a:cubicBezTo>
                  <a:pt x="83" y="28"/>
                  <a:pt x="84" y="34"/>
                  <a:pt x="84" y="42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54"/>
          <p:cNvSpPr/>
          <p:nvPr/>
        </p:nvSpPr>
        <p:spPr>
          <a:xfrm>
            <a:off x="6940440" y="700092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5"/>
                </a:moveTo>
                <a:cubicBezTo>
                  <a:pt x="28" y="17"/>
                  <a:pt x="27" y="20"/>
                  <a:pt x="26" y="22"/>
                </a:cubicBezTo>
                <a:cubicBezTo>
                  <a:pt x="25" y="25"/>
                  <a:pt x="23" y="26"/>
                  <a:pt x="21" y="27"/>
                </a:cubicBezTo>
                <a:cubicBezTo>
                  <a:pt x="19" y="28"/>
                  <a:pt x="17" y="29"/>
                  <a:pt x="14" y="29"/>
                </a:cubicBezTo>
                <a:cubicBezTo>
                  <a:pt x="11" y="29"/>
                  <a:pt x="9" y="28"/>
                  <a:pt x="7" y="27"/>
                </a:cubicBezTo>
                <a:cubicBezTo>
                  <a:pt x="5" y="26"/>
                  <a:pt x="4" y="25"/>
                  <a:pt x="2" y="22"/>
                </a:cubicBezTo>
                <a:cubicBezTo>
                  <a:pt x="1" y="20"/>
                  <a:pt x="0" y="18"/>
                  <a:pt x="0" y="15"/>
                </a:cubicBezTo>
                <a:cubicBezTo>
                  <a:pt x="0" y="13"/>
                  <a:pt x="1" y="11"/>
                  <a:pt x="2" y="8"/>
                </a:cubicBezTo>
                <a:cubicBezTo>
                  <a:pt x="4" y="6"/>
                  <a:pt x="5" y="4"/>
                  <a:pt x="7" y="2"/>
                </a:cubicBezTo>
                <a:cubicBezTo>
                  <a:pt x="9" y="1"/>
                  <a:pt x="11" y="0"/>
                  <a:pt x="14" y="0"/>
                </a:cubicBezTo>
                <a:cubicBezTo>
                  <a:pt x="17" y="0"/>
                  <a:pt x="19" y="1"/>
                  <a:pt x="21" y="2"/>
                </a:cubicBezTo>
                <a:cubicBezTo>
                  <a:pt x="23" y="4"/>
                  <a:pt x="25" y="6"/>
                  <a:pt x="26" y="8"/>
                </a:cubicBezTo>
                <a:cubicBezTo>
                  <a:pt x="27" y="11"/>
                  <a:pt x="28" y="12"/>
                  <a:pt x="28" y="15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55"/>
          <p:cNvSpPr/>
          <p:nvPr/>
        </p:nvSpPr>
        <p:spPr>
          <a:xfrm>
            <a:off x="7561440" y="6818400"/>
            <a:ext cx="309240" cy="269640"/>
          </a:xfrm>
          <a:custGeom>
            <a:avLst/>
            <a:gdLst/>
            <a:ahLst/>
            <a:rect l="l" t="t" r="r" b="b"/>
            <a:pathLst>
              <a:path w="452" h="396">
                <a:moveTo>
                  <a:pt x="381" y="0"/>
                </a:moveTo>
                <a:lnTo>
                  <a:pt x="353" y="0"/>
                </a:lnTo>
                <a:cubicBezTo>
                  <a:pt x="344" y="0"/>
                  <a:pt x="339" y="7"/>
                  <a:pt x="339" y="15"/>
                </a:cubicBezTo>
                <a:cubicBezTo>
                  <a:pt x="339" y="24"/>
                  <a:pt x="344" y="29"/>
                  <a:pt x="353" y="29"/>
                </a:cubicBezTo>
                <a:lnTo>
                  <a:pt x="381" y="29"/>
                </a:lnTo>
                <a:cubicBezTo>
                  <a:pt x="404" y="29"/>
                  <a:pt x="423" y="48"/>
                  <a:pt x="423" y="71"/>
                </a:cubicBezTo>
                <a:lnTo>
                  <a:pt x="423" y="198"/>
                </a:lnTo>
                <a:lnTo>
                  <a:pt x="28" y="198"/>
                </a:lnTo>
                <a:lnTo>
                  <a:pt x="28" y="71"/>
                </a:lnTo>
                <a:cubicBezTo>
                  <a:pt x="28" y="48"/>
                  <a:pt x="48" y="29"/>
                  <a:pt x="71" y="29"/>
                </a:cubicBezTo>
                <a:lnTo>
                  <a:pt x="99" y="29"/>
                </a:lnTo>
                <a:cubicBezTo>
                  <a:pt x="107" y="29"/>
                  <a:pt x="113" y="24"/>
                  <a:pt x="113" y="15"/>
                </a:cubicBezTo>
                <a:cubicBezTo>
                  <a:pt x="113" y="7"/>
                  <a:pt x="107" y="0"/>
                  <a:pt x="99" y="0"/>
                </a:cubicBezTo>
                <a:lnTo>
                  <a:pt x="71" y="0"/>
                </a:lnTo>
                <a:cubicBezTo>
                  <a:pt x="31" y="0"/>
                  <a:pt x="0" y="31"/>
                  <a:pt x="0" y="71"/>
                </a:cubicBezTo>
                <a:lnTo>
                  <a:pt x="0" y="212"/>
                </a:lnTo>
                <a:lnTo>
                  <a:pt x="0" y="381"/>
                </a:lnTo>
                <a:cubicBezTo>
                  <a:pt x="0" y="390"/>
                  <a:pt x="6" y="395"/>
                  <a:pt x="14" y="395"/>
                </a:cubicBezTo>
                <a:lnTo>
                  <a:pt x="169" y="395"/>
                </a:lnTo>
                <a:cubicBezTo>
                  <a:pt x="175" y="395"/>
                  <a:pt x="181" y="390"/>
                  <a:pt x="183" y="384"/>
                </a:cubicBezTo>
                <a:lnTo>
                  <a:pt x="209" y="283"/>
                </a:lnTo>
                <a:lnTo>
                  <a:pt x="243" y="283"/>
                </a:lnTo>
                <a:lnTo>
                  <a:pt x="268" y="384"/>
                </a:lnTo>
                <a:cubicBezTo>
                  <a:pt x="271" y="390"/>
                  <a:pt x="277" y="395"/>
                  <a:pt x="282" y="395"/>
                </a:cubicBezTo>
                <a:lnTo>
                  <a:pt x="437" y="395"/>
                </a:lnTo>
                <a:cubicBezTo>
                  <a:pt x="446" y="395"/>
                  <a:pt x="451" y="390"/>
                  <a:pt x="451" y="381"/>
                </a:cubicBezTo>
                <a:lnTo>
                  <a:pt x="451" y="212"/>
                </a:lnTo>
                <a:lnTo>
                  <a:pt x="451" y="71"/>
                </a:lnTo>
                <a:cubicBezTo>
                  <a:pt x="451" y="31"/>
                  <a:pt x="420" y="0"/>
                  <a:pt x="381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56"/>
          <p:cNvSpPr/>
          <p:nvPr/>
        </p:nvSpPr>
        <p:spPr>
          <a:xfrm>
            <a:off x="7580160" y="6970680"/>
            <a:ext cx="108000" cy="96840"/>
          </a:xfrm>
          <a:custGeom>
            <a:avLst/>
            <a:gdLst/>
            <a:ahLst/>
            <a:rect l="l" t="t" r="r" b="b"/>
            <a:pathLst>
              <a:path w="159" h="142">
                <a:moveTo>
                  <a:pt x="0" y="14"/>
                </a:move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116" y="141"/>
                </a:lnTo>
                <a:cubicBezTo>
                  <a:pt x="122" y="141"/>
                  <a:pt x="127" y="136"/>
                  <a:pt x="130" y="130"/>
                </a:cubicBezTo>
                <a:lnTo>
                  <a:pt x="155" y="17"/>
                </a:lnTo>
                <a:cubicBezTo>
                  <a:pt x="158" y="9"/>
                  <a:pt x="150" y="0"/>
                  <a:pt x="141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7"/>
          <p:cNvSpPr/>
          <p:nvPr/>
        </p:nvSpPr>
        <p:spPr>
          <a:xfrm>
            <a:off x="7740720" y="6970680"/>
            <a:ext cx="108000" cy="96840"/>
          </a:xfrm>
          <a:custGeom>
            <a:avLst/>
            <a:gdLst/>
            <a:ahLst/>
            <a:rect l="l" t="t" r="r" b="b"/>
            <a:pathLst>
              <a:path w="159" h="142">
                <a:moveTo>
                  <a:pt x="158" y="14"/>
                </a:moveTo>
                <a:lnTo>
                  <a:pt x="158" y="127"/>
                </a:lnTo>
                <a:cubicBezTo>
                  <a:pt x="158" y="136"/>
                  <a:pt x="153" y="141"/>
                  <a:pt x="144" y="141"/>
                </a:cubicBezTo>
                <a:lnTo>
                  <a:pt x="43" y="141"/>
                </a:lnTo>
                <a:cubicBezTo>
                  <a:pt x="37" y="141"/>
                  <a:pt x="31" y="136"/>
                  <a:pt x="28" y="130"/>
                </a:cubicBezTo>
                <a:lnTo>
                  <a:pt x="3" y="17"/>
                </a:lnTo>
                <a:cubicBezTo>
                  <a:pt x="0" y="9"/>
                  <a:pt x="9" y="0"/>
                  <a:pt x="17" y="0"/>
                </a:cubicBezTo>
                <a:lnTo>
                  <a:pt x="144" y="0"/>
                </a:lnTo>
                <a:cubicBezTo>
                  <a:pt x="153" y="0"/>
                  <a:pt x="158" y="6"/>
                  <a:pt x="158" y="14"/>
                </a:cubicBezTo>
              </a:path>
            </a:pathLst>
          </a:custGeom>
          <a:solidFill>
            <a:srgbClr val="e53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58"/>
          <p:cNvSpPr/>
          <p:nvPr/>
        </p:nvSpPr>
        <p:spPr>
          <a:xfrm>
            <a:off x="8366040" y="6838920"/>
            <a:ext cx="60480" cy="39600"/>
          </a:xfrm>
          <a:custGeom>
            <a:avLst/>
            <a:gdLst/>
            <a:ahLst/>
            <a:rect l="l" t="t" r="r" b="b"/>
            <a:pathLst>
              <a:path w="86" h="57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42"/>
                </a:lnTo>
                <a:cubicBezTo>
                  <a:pt x="0" y="50"/>
                  <a:pt x="6" y="56"/>
                  <a:pt x="14" y="56"/>
                </a:cubicBezTo>
                <a:lnTo>
                  <a:pt x="71" y="56"/>
                </a:lnTo>
                <a:cubicBezTo>
                  <a:pt x="79" y="56"/>
                  <a:pt x="85" y="50"/>
                  <a:pt x="85" y="42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59"/>
          <p:cNvSpPr/>
          <p:nvPr/>
        </p:nvSpPr>
        <p:spPr>
          <a:xfrm>
            <a:off x="8327880" y="6838920"/>
            <a:ext cx="308160" cy="104760"/>
          </a:xfrm>
          <a:custGeom>
            <a:avLst/>
            <a:gdLst/>
            <a:ahLst/>
            <a:rect l="l" t="t" r="r" b="b"/>
            <a:pathLst>
              <a:path w="452" h="156">
                <a:moveTo>
                  <a:pt x="451" y="28"/>
                </a:moveTo>
                <a:lnTo>
                  <a:pt x="451" y="155"/>
                </a:lnTo>
                <a:lnTo>
                  <a:pt x="0" y="155"/>
                </a:lnTo>
                <a:lnTo>
                  <a:pt x="0" y="56"/>
                </a:lnTo>
                <a:cubicBezTo>
                  <a:pt x="0" y="42"/>
                  <a:pt x="14" y="28"/>
                  <a:pt x="28" y="28"/>
                </a:cubicBezTo>
                <a:lnTo>
                  <a:pt x="169" y="28"/>
                </a:lnTo>
                <a:cubicBezTo>
                  <a:pt x="169" y="14"/>
                  <a:pt x="183" y="0"/>
                  <a:pt x="197" y="0"/>
                </a:cubicBezTo>
                <a:lnTo>
                  <a:pt x="423" y="0"/>
                </a:lnTo>
                <a:cubicBezTo>
                  <a:pt x="437" y="0"/>
                  <a:pt x="451" y="14"/>
                  <a:pt x="451" y="28"/>
                </a:cubicBezTo>
              </a:path>
            </a:pathLst>
          </a:custGeom>
          <a:solidFill>
            <a:srgbClr val="795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60"/>
          <p:cNvSpPr/>
          <p:nvPr/>
        </p:nvSpPr>
        <p:spPr>
          <a:xfrm>
            <a:off x="8327880" y="6943680"/>
            <a:ext cx="308160" cy="125280"/>
          </a:xfrm>
          <a:custGeom>
            <a:avLst/>
            <a:gdLst/>
            <a:ahLst/>
            <a:rect l="l" t="t" r="r" b="b"/>
            <a:pathLst>
              <a:path w="452" h="184">
                <a:moveTo>
                  <a:pt x="451" y="0"/>
                </a:moveTo>
                <a:lnTo>
                  <a:pt x="451" y="155"/>
                </a:lnTo>
                <a:cubicBezTo>
                  <a:pt x="451" y="169"/>
                  <a:pt x="437" y="183"/>
                  <a:pt x="423" y="183"/>
                </a:cubicBezTo>
                <a:lnTo>
                  <a:pt x="28" y="183"/>
                </a:lnTo>
                <a:cubicBezTo>
                  <a:pt x="14" y="183"/>
                  <a:pt x="0" y="169"/>
                  <a:pt x="0" y="155"/>
                </a:cubicBezTo>
                <a:lnTo>
                  <a:pt x="0" y="0"/>
                </a:lnTo>
                <a:lnTo>
                  <a:pt x="451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1"/>
          <p:cNvSpPr/>
          <p:nvPr/>
        </p:nvSpPr>
        <p:spPr>
          <a:xfrm>
            <a:off x="8327880" y="6935760"/>
            <a:ext cx="308160" cy="55440"/>
          </a:xfrm>
          <a:custGeom>
            <a:avLst/>
            <a:gdLst/>
            <a:ahLst/>
            <a:rect l="l" t="t" r="r" b="b"/>
            <a:pathLst>
              <a:path w="452" h="85">
                <a:moveTo>
                  <a:pt x="226" y="84"/>
                </a:moveTo>
                <a:lnTo>
                  <a:pt x="0" y="84"/>
                </a:lnTo>
                <a:lnTo>
                  <a:pt x="0" y="0"/>
                </a:lnTo>
                <a:lnTo>
                  <a:pt x="451" y="0"/>
                </a:lnTo>
                <a:lnTo>
                  <a:pt x="451" y="84"/>
                </a:lnTo>
                <a:lnTo>
                  <a:pt x="226" y="84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62"/>
          <p:cNvSpPr/>
          <p:nvPr/>
        </p:nvSpPr>
        <p:spPr>
          <a:xfrm>
            <a:off x="8440560" y="699120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113"/>
                </a:moveTo>
                <a:lnTo>
                  <a:pt x="0" y="113"/>
                </a:lnTo>
                <a:lnTo>
                  <a:pt x="0" y="0"/>
                </a:lnTo>
                <a:lnTo>
                  <a:pt x="113" y="0"/>
                </a:lnTo>
                <a:lnTo>
                  <a:pt x="113" y="113"/>
                </a:lnTo>
                <a:lnTo>
                  <a:pt x="57" y="113"/>
                </a:ln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63"/>
          <p:cNvSpPr/>
          <p:nvPr/>
        </p:nvSpPr>
        <p:spPr>
          <a:xfrm>
            <a:off x="8413920" y="6896160"/>
            <a:ext cx="134640" cy="13500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197" y="99"/>
                </a:moveTo>
                <a:cubicBezTo>
                  <a:pt x="197" y="117"/>
                  <a:pt x="193" y="133"/>
                  <a:pt x="184" y="148"/>
                </a:cubicBezTo>
                <a:cubicBezTo>
                  <a:pt x="175" y="164"/>
                  <a:pt x="164" y="176"/>
                  <a:pt x="148" y="185"/>
                </a:cubicBezTo>
                <a:cubicBezTo>
                  <a:pt x="132" y="195"/>
                  <a:pt x="118" y="198"/>
                  <a:pt x="99" y="198"/>
                </a:cubicBezTo>
                <a:cubicBezTo>
                  <a:pt x="81" y="198"/>
                  <a:pt x="65" y="195"/>
                  <a:pt x="49" y="185"/>
                </a:cubicBezTo>
                <a:cubicBezTo>
                  <a:pt x="33" y="176"/>
                  <a:pt x="22" y="164"/>
                  <a:pt x="13" y="148"/>
                </a:cubicBezTo>
                <a:cubicBezTo>
                  <a:pt x="4" y="133"/>
                  <a:pt x="0" y="117"/>
                  <a:pt x="0" y="99"/>
                </a:cubicBezTo>
                <a:cubicBezTo>
                  <a:pt x="0" y="81"/>
                  <a:pt x="4" y="66"/>
                  <a:pt x="13" y="50"/>
                </a:cubicBezTo>
                <a:cubicBezTo>
                  <a:pt x="22" y="35"/>
                  <a:pt x="33" y="24"/>
                  <a:pt x="49" y="14"/>
                </a:cubicBezTo>
                <a:cubicBezTo>
                  <a:pt x="65" y="5"/>
                  <a:pt x="80" y="0"/>
                  <a:pt x="99" y="0"/>
                </a:cubicBezTo>
                <a:cubicBezTo>
                  <a:pt x="117" y="0"/>
                  <a:pt x="132" y="5"/>
                  <a:pt x="148" y="14"/>
                </a:cubicBezTo>
                <a:cubicBezTo>
                  <a:pt x="164" y="24"/>
                  <a:pt x="175" y="35"/>
                  <a:pt x="184" y="50"/>
                </a:cubicBezTo>
                <a:cubicBezTo>
                  <a:pt x="193" y="66"/>
                  <a:pt x="197" y="81"/>
                  <a:pt x="197" y="9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64"/>
          <p:cNvSpPr/>
          <p:nvPr/>
        </p:nvSpPr>
        <p:spPr>
          <a:xfrm>
            <a:off x="8432640" y="691344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9" y="94"/>
                  <a:pt x="132" y="105"/>
                </a:cubicBezTo>
                <a:cubicBezTo>
                  <a:pt x="126" y="117"/>
                  <a:pt x="117" y="125"/>
                  <a:pt x="106" y="131"/>
                </a:cubicBezTo>
                <a:cubicBezTo>
                  <a:pt x="95" y="138"/>
                  <a:pt x="84" y="141"/>
                  <a:pt x="71" y="141"/>
                </a:cubicBezTo>
                <a:cubicBezTo>
                  <a:pt x="59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8" y="0"/>
                  <a:pt x="71" y="0"/>
                </a:cubicBezTo>
                <a:cubicBezTo>
                  <a:pt x="83" y="0"/>
                  <a:pt x="95" y="3"/>
                  <a:pt x="106" y="9"/>
                </a:cubicBezTo>
                <a:cubicBezTo>
                  <a:pt x="117" y="16"/>
                  <a:pt x="126" y="24"/>
                  <a:pt x="132" y="35"/>
                </a:cubicBezTo>
                <a:cubicBezTo>
                  <a:pt x="139" y="46"/>
                  <a:pt x="141" y="57"/>
                  <a:pt x="141" y="7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65"/>
          <p:cNvSpPr/>
          <p:nvPr/>
        </p:nvSpPr>
        <p:spPr>
          <a:xfrm>
            <a:off x="1558800" y="7718400"/>
            <a:ext cx="142920" cy="152280"/>
          </a:xfrm>
          <a:custGeom>
            <a:avLst/>
            <a:gdLst/>
            <a:ahLst/>
            <a:rect l="l" t="t" r="r" b="b"/>
            <a:pathLst>
              <a:path w="210" h="226">
                <a:moveTo>
                  <a:pt x="209" y="155"/>
                </a:moveTo>
                <a:cubicBezTo>
                  <a:pt x="167" y="197"/>
                  <a:pt x="110" y="225"/>
                  <a:pt x="45" y="225"/>
                </a:cubicBezTo>
                <a:cubicBezTo>
                  <a:pt x="31" y="225"/>
                  <a:pt x="14" y="225"/>
                  <a:pt x="0" y="220"/>
                </a:cubicBezTo>
                <a:lnTo>
                  <a:pt x="82" y="70"/>
                </a:lnTo>
                <a:lnTo>
                  <a:pt x="122" y="0"/>
                </a:lnTo>
                <a:lnTo>
                  <a:pt x="209" y="155"/>
                </a:ln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66"/>
          <p:cNvSpPr/>
          <p:nvPr/>
        </p:nvSpPr>
        <p:spPr>
          <a:xfrm>
            <a:off x="1444680" y="7767720"/>
            <a:ext cx="171360" cy="101520"/>
          </a:xfrm>
          <a:custGeom>
            <a:avLst/>
            <a:gdLst/>
            <a:ahLst/>
            <a:rect l="l" t="t" r="r" b="b"/>
            <a:pathLst>
              <a:path w="252" h="151">
                <a:moveTo>
                  <a:pt x="251" y="0"/>
                </a:moveTo>
                <a:lnTo>
                  <a:pt x="169" y="150"/>
                </a:lnTo>
                <a:cubicBezTo>
                  <a:pt x="90" y="133"/>
                  <a:pt x="22" y="76"/>
                  <a:pt x="0" y="0"/>
                </a:cubicBezTo>
                <a:lnTo>
                  <a:pt x="251" y="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67"/>
          <p:cNvSpPr/>
          <p:nvPr/>
        </p:nvSpPr>
        <p:spPr>
          <a:xfrm>
            <a:off x="1434960" y="7613640"/>
            <a:ext cx="127080" cy="154080"/>
          </a:xfrm>
          <a:custGeom>
            <a:avLst/>
            <a:gdLst/>
            <a:ahLst/>
            <a:rect l="l" t="t" r="r" b="b"/>
            <a:pathLst>
              <a:path w="187" h="226">
                <a:moveTo>
                  <a:pt x="186" y="225"/>
                </a:moveTo>
                <a:lnTo>
                  <a:pt x="11" y="225"/>
                </a:lnTo>
                <a:cubicBezTo>
                  <a:pt x="3" y="203"/>
                  <a:pt x="0" y="180"/>
                  <a:pt x="0" y="155"/>
                </a:cubicBezTo>
                <a:cubicBezTo>
                  <a:pt x="0" y="95"/>
                  <a:pt x="22" y="39"/>
                  <a:pt x="62" y="0"/>
                </a:cubicBezTo>
                <a:lnTo>
                  <a:pt x="146" y="155"/>
                </a:lnTo>
                <a:lnTo>
                  <a:pt x="186" y="225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68"/>
          <p:cNvSpPr/>
          <p:nvPr/>
        </p:nvSpPr>
        <p:spPr>
          <a:xfrm>
            <a:off x="1481040" y="7566120"/>
            <a:ext cx="139680" cy="152280"/>
          </a:xfrm>
          <a:custGeom>
            <a:avLst/>
            <a:gdLst/>
            <a:ahLst/>
            <a:rect l="l" t="t" r="r" b="b"/>
            <a:pathLst>
              <a:path w="207" h="227">
                <a:moveTo>
                  <a:pt x="206" y="3"/>
                </a:moveTo>
                <a:lnTo>
                  <a:pt x="124" y="155"/>
                </a:lnTo>
                <a:lnTo>
                  <a:pt x="124" y="155"/>
                </a:lnTo>
                <a:lnTo>
                  <a:pt x="84" y="226"/>
                </a:lnTo>
                <a:lnTo>
                  <a:pt x="0" y="71"/>
                </a:lnTo>
                <a:cubicBezTo>
                  <a:pt x="42" y="28"/>
                  <a:pt x="98" y="0"/>
                  <a:pt x="163" y="0"/>
                </a:cubicBezTo>
                <a:cubicBezTo>
                  <a:pt x="175" y="0"/>
                  <a:pt x="192" y="0"/>
                  <a:pt x="206" y="3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69"/>
          <p:cNvSpPr/>
          <p:nvPr/>
        </p:nvSpPr>
        <p:spPr>
          <a:xfrm>
            <a:off x="1562040" y="7566120"/>
            <a:ext cx="173160" cy="104760"/>
          </a:xfrm>
          <a:custGeom>
            <a:avLst/>
            <a:gdLst/>
            <a:ahLst/>
            <a:rect l="l" t="t" r="r" b="b"/>
            <a:pathLst>
              <a:path w="255" h="153">
                <a:moveTo>
                  <a:pt x="254" y="152"/>
                </a:moveTo>
                <a:lnTo>
                  <a:pt x="0" y="152"/>
                </a:lnTo>
                <a:lnTo>
                  <a:pt x="82" y="0"/>
                </a:lnTo>
                <a:cubicBezTo>
                  <a:pt x="164" y="17"/>
                  <a:pt x="229" y="76"/>
                  <a:pt x="254" y="152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0"/>
          <p:cNvSpPr/>
          <p:nvPr/>
        </p:nvSpPr>
        <p:spPr>
          <a:xfrm>
            <a:off x="1535040" y="7670880"/>
            <a:ext cx="206280" cy="152280"/>
          </a:xfrm>
          <a:custGeom>
            <a:avLst/>
            <a:gdLst/>
            <a:ahLst/>
            <a:rect l="l" t="t" r="r" b="b"/>
            <a:pathLst>
              <a:path w="306" h="227">
                <a:moveTo>
                  <a:pt x="305" y="71"/>
                </a:moveTo>
                <a:cubicBezTo>
                  <a:pt x="305" y="130"/>
                  <a:pt x="283" y="186"/>
                  <a:pt x="243" y="226"/>
                </a:cubicBezTo>
                <a:lnTo>
                  <a:pt x="159" y="71"/>
                </a:lnTo>
                <a:lnTo>
                  <a:pt x="119" y="141"/>
                </a:lnTo>
                <a:lnTo>
                  <a:pt x="40" y="141"/>
                </a:lnTo>
                <a:lnTo>
                  <a:pt x="0" y="71"/>
                </a:lnTo>
                <a:lnTo>
                  <a:pt x="40" y="0"/>
                </a:lnTo>
                <a:lnTo>
                  <a:pt x="294" y="0"/>
                </a:lnTo>
                <a:cubicBezTo>
                  <a:pt x="302" y="23"/>
                  <a:pt x="305" y="45"/>
                  <a:pt x="305" y="71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1"/>
          <p:cNvSpPr/>
          <p:nvPr/>
        </p:nvSpPr>
        <p:spPr>
          <a:xfrm>
            <a:off x="1535040" y="7670880"/>
            <a:ext cx="106560" cy="96840"/>
          </a:xfrm>
          <a:custGeom>
            <a:avLst/>
            <a:gdLst/>
            <a:ahLst/>
            <a:rect l="l" t="t" r="r" b="b"/>
            <a:pathLst>
              <a:path w="160" h="142">
                <a:moveTo>
                  <a:pt x="159" y="71"/>
                </a:moveTo>
                <a:lnTo>
                  <a:pt x="119" y="141"/>
                </a:lnTo>
                <a:lnTo>
                  <a:pt x="40" y="141"/>
                </a:lnTo>
                <a:lnTo>
                  <a:pt x="0" y="71"/>
                </a:lnTo>
                <a:lnTo>
                  <a:pt x="40" y="0"/>
                </a:lnTo>
                <a:lnTo>
                  <a:pt x="119" y="0"/>
                </a:lnTo>
                <a:lnTo>
                  <a:pt x="159" y="71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72"/>
          <p:cNvSpPr/>
          <p:nvPr/>
        </p:nvSpPr>
        <p:spPr>
          <a:xfrm>
            <a:off x="1434960" y="7566120"/>
            <a:ext cx="30960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395" y="226"/>
                </a:moveTo>
                <a:cubicBezTo>
                  <a:pt x="395" y="319"/>
                  <a:pt x="318" y="395"/>
                  <a:pt x="225" y="395"/>
                </a:cubicBezTo>
                <a:cubicBezTo>
                  <a:pt x="131" y="395"/>
                  <a:pt x="56" y="319"/>
                  <a:pt x="56" y="226"/>
                </a:cubicBezTo>
                <a:cubicBezTo>
                  <a:pt x="56" y="133"/>
                  <a:pt x="131" y="56"/>
                  <a:pt x="225" y="56"/>
                </a:cubicBezTo>
                <a:cubicBezTo>
                  <a:pt x="318" y="56"/>
                  <a:pt x="395" y="133"/>
                  <a:pt x="395" y="226"/>
                </a:cubicBezTo>
                <a:close/>
                <a:moveTo>
                  <a:pt x="225" y="0"/>
                </a:moveTo>
                <a:cubicBezTo>
                  <a:pt x="100" y="0"/>
                  <a:pt x="0" y="102"/>
                  <a:pt x="0" y="226"/>
                </a:cubicBezTo>
                <a:cubicBezTo>
                  <a:pt x="0" y="350"/>
                  <a:pt x="100" y="451"/>
                  <a:pt x="225" y="451"/>
                </a:cubicBezTo>
                <a:cubicBezTo>
                  <a:pt x="349" y="451"/>
                  <a:pt x="451" y="350"/>
                  <a:pt x="451" y="226"/>
                </a:cubicBezTo>
                <a:cubicBezTo>
                  <a:pt x="451" y="102"/>
                  <a:pt x="349" y="0"/>
                  <a:pt x="225" y="0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73"/>
          <p:cNvSpPr/>
          <p:nvPr/>
        </p:nvSpPr>
        <p:spPr>
          <a:xfrm>
            <a:off x="2209680" y="7670880"/>
            <a:ext cx="287280" cy="191880"/>
          </a:xfrm>
          <a:custGeom>
            <a:avLst/>
            <a:gdLst/>
            <a:ahLst/>
            <a:rect l="l" t="t" r="r" b="b"/>
            <a:pathLst>
              <a:path w="424" h="283">
                <a:moveTo>
                  <a:pt x="409" y="282"/>
                </a:moveTo>
                <a:lnTo>
                  <a:pt x="14" y="282"/>
                </a:lnTo>
                <a:cubicBezTo>
                  <a:pt x="5" y="282"/>
                  <a:pt x="0" y="277"/>
                  <a:pt x="0" y="268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09" y="0"/>
                </a:lnTo>
                <a:cubicBezTo>
                  <a:pt x="417" y="0"/>
                  <a:pt x="423" y="6"/>
                  <a:pt x="423" y="14"/>
                </a:cubicBezTo>
                <a:lnTo>
                  <a:pt x="423" y="268"/>
                </a:lnTo>
                <a:cubicBezTo>
                  <a:pt x="423" y="277"/>
                  <a:pt x="417" y="282"/>
                  <a:pt x="409" y="282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74"/>
          <p:cNvSpPr/>
          <p:nvPr/>
        </p:nvSpPr>
        <p:spPr>
          <a:xfrm>
            <a:off x="2297160" y="7718400"/>
            <a:ext cx="191880" cy="138240"/>
          </a:xfrm>
          <a:custGeom>
            <a:avLst/>
            <a:gdLst/>
            <a:ahLst/>
            <a:rect l="l" t="t" r="r" b="b"/>
            <a:pathLst>
              <a:path w="283" h="201">
                <a:moveTo>
                  <a:pt x="5" y="175"/>
                </a:moveTo>
                <a:lnTo>
                  <a:pt x="161" y="5"/>
                </a:lnTo>
                <a:cubicBezTo>
                  <a:pt x="166" y="0"/>
                  <a:pt x="175" y="0"/>
                  <a:pt x="180" y="5"/>
                </a:cubicBezTo>
                <a:lnTo>
                  <a:pt x="282" y="118"/>
                </a:lnTo>
                <a:lnTo>
                  <a:pt x="282" y="200"/>
                </a:lnTo>
                <a:lnTo>
                  <a:pt x="14" y="200"/>
                </a:lnTo>
                <a:cubicBezTo>
                  <a:pt x="8" y="200"/>
                  <a:pt x="3" y="197"/>
                  <a:pt x="0" y="192"/>
                </a:cubicBezTo>
                <a:cubicBezTo>
                  <a:pt x="3" y="183"/>
                  <a:pt x="3" y="178"/>
                  <a:pt x="5" y="175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75"/>
          <p:cNvSpPr/>
          <p:nvPr/>
        </p:nvSpPr>
        <p:spPr>
          <a:xfrm>
            <a:off x="2216160" y="7737480"/>
            <a:ext cx="216000" cy="115920"/>
          </a:xfrm>
          <a:custGeom>
            <a:avLst/>
            <a:gdLst/>
            <a:ahLst/>
            <a:rect l="l" t="t" r="r" b="b"/>
            <a:pathLst>
              <a:path w="317" h="170">
                <a:moveTo>
                  <a:pt x="9" y="147"/>
                </a:moveTo>
                <a:lnTo>
                  <a:pt x="150" y="6"/>
                </a:lnTo>
                <a:cubicBezTo>
                  <a:pt x="155" y="0"/>
                  <a:pt x="164" y="0"/>
                  <a:pt x="169" y="6"/>
                </a:cubicBezTo>
                <a:lnTo>
                  <a:pt x="311" y="147"/>
                </a:lnTo>
                <a:cubicBezTo>
                  <a:pt x="313" y="150"/>
                  <a:pt x="316" y="158"/>
                  <a:pt x="313" y="161"/>
                </a:cubicBezTo>
                <a:cubicBezTo>
                  <a:pt x="311" y="167"/>
                  <a:pt x="305" y="169"/>
                  <a:pt x="299" y="169"/>
                </a:cubicBezTo>
                <a:lnTo>
                  <a:pt x="17" y="169"/>
                </a:lnTo>
                <a:cubicBezTo>
                  <a:pt x="11" y="169"/>
                  <a:pt x="6" y="167"/>
                  <a:pt x="3" y="161"/>
                </a:cubicBezTo>
                <a:cubicBezTo>
                  <a:pt x="0" y="155"/>
                  <a:pt x="6" y="153"/>
                  <a:pt x="9" y="147"/>
                </a:cubicBezTo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76"/>
          <p:cNvSpPr/>
          <p:nvPr/>
        </p:nvSpPr>
        <p:spPr>
          <a:xfrm>
            <a:off x="236052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64" y="127"/>
                </a:moveTo>
                <a:cubicBezTo>
                  <a:pt x="161" y="127"/>
                  <a:pt x="158" y="127"/>
                  <a:pt x="155" y="124"/>
                </a:cubicBezTo>
                <a:lnTo>
                  <a:pt x="8" y="29"/>
                </a:lnTo>
                <a:cubicBezTo>
                  <a:pt x="3" y="23"/>
                  <a:pt x="0" y="14"/>
                  <a:pt x="6" y="9"/>
                </a:cubicBezTo>
                <a:cubicBezTo>
                  <a:pt x="11" y="3"/>
                  <a:pt x="20" y="0"/>
                  <a:pt x="25" y="6"/>
                </a:cubicBezTo>
                <a:lnTo>
                  <a:pt x="172" y="102"/>
                </a:lnTo>
                <a:cubicBezTo>
                  <a:pt x="178" y="108"/>
                  <a:pt x="181" y="116"/>
                  <a:pt x="175" y="122"/>
                </a:cubicBezTo>
                <a:cubicBezTo>
                  <a:pt x="172" y="124"/>
                  <a:pt x="169" y="127"/>
                  <a:pt x="164" y="12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77"/>
          <p:cNvSpPr/>
          <p:nvPr/>
        </p:nvSpPr>
        <p:spPr>
          <a:xfrm>
            <a:off x="222876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7" y="127"/>
                </a:moveTo>
                <a:cubicBezTo>
                  <a:pt x="11" y="127"/>
                  <a:pt x="8" y="124"/>
                  <a:pt x="6" y="122"/>
                </a:cubicBezTo>
                <a:cubicBezTo>
                  <a:pt x="0" y="116"/>
                  <a:pt x="3" y="108"/>
                  <a:pt x="8" y="102"/>
                </a:cubicBezTo>
                <a:lnTo>
                  <a:pt x="155" y="6"/>
                </a:lnTo>
                <a:cubicBezTo>
                  <a:pt x="161" y="0"/>
                  <a:pt x="169" y="3"/>
                  <a:pt x="175" y="9"/>
                </a:cubicBezTo>
                <a:cubicBezTo>
                  <a:pt x="181" y="14"/>
                  <a:pt x="178" y="23"/>
                  <a:pt x="172" y="29"/>
                </a:cubicBezTo>
                <a:lnTo>
                  <a:pt x="25" y="124"/>
                </a:lnTo>
                <a:cubicBezTo>
                  <a:pt x="23" y="127"/>
                  <a:pt x="20" y="127"/>
                  <a:pt x="17" y="12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78"/>
          <p:cNvSpPr/>
          <p:nvPr/>
        </p:nvSpPr>
        <p:spPr>
          <a:xfrm>
            <a:off x="2327400" y="756612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79"/>
          <p:cNvSpPr/>
          <p:nvPr/>
        </p:nvSpPr>
        <p:spPr>
          <a:xfrm>
            <a:off x="2201760" y="7662960"/>
            <a:ext cx="308160" cy="2109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0"/>
          <p:cNvSpPr/>
          <p:nvPr/>
        </p:nvSpPr>
        <p:spPr>
          <a:xfrm>
            <a:off x="8366040" y="4503600"/>
            <a:ext cx="249480" cy="247680"/>
          </a:xfrm>
          <a:custGeom>
            <a:avLst/>
            <a:gdLst/>
            <a:ahLst/>
            <a:rect l="l" t="t" r="r" b="b"/>
            <a:pathLst>
              <a:path w="368" h="368">
                <a:moveTo>
                  <a:pt x="364" y="186"/>
                </a:moveTo>
                <a:lnTo>
                  <a:pt x="181" y="3"/>
                </a:lnTo>
                <a:cubicBezTo>
                  <a:pt x="178" y="0"/>
                  <a:pt x="175" y="0"/>
                  <a:pt x="170" y="0"/>
                </a:cubicBezTo>
                <a:lnTo>
                  <a:pt x="14" y="0"/>
                </a:lnTo>
                <a:cubicBezTo>
                  <a:pt x="11" y="0"/>
                  <a:pt x="6" y="3"/>
                  <a:pt x="3" y="3"/>
                </a:cubicBezTo>
                <a:cubicBezTo>
                  <a:pt x="0" y="3"/>
                  <a:pt x="0" y="8"/>
                  <a:pt x="0" y="14"/>
                </a:cubicBezTo>
                <a:lnTo>
                  <a:pt x="0" y="169"/>
                </a:lnTo>
                <a:cubicBezTo>
                  <a:pt x="0" y="172"/>
                  <a:pt x="3" y="178"/>
                  <a:pt x="6" y="180"/>
                </a:cubicBezTo>
                <a:lnTo>
                  <a:pt x="203" y="364"/>
                </a:lnTo>
                <a:cubicBezTo>
                  <a:pt x="206" y="367"/>
                  <a:pt x="209" y="367"/>
                  <a:pt x="212" y="367"/>
                </a:cubicBezTo>
                <a:lnTo>
                  <a:pt x="212" y="367"/>
                </a:lnTo>
                <a:cubicBezTo>
                  <a:pt x="215" y="367"/>
                  <a:pt x="220" y="364"/>
                  <a:pt x="220" y="361"/>
                </a:cubicBezTo>
                <a:lnTo>
                  <a:pt x="361" y="206"/>
                </a:lnTo>
                <a:cubicBezTo>
                  <a:pt x="367" y="200"/>
                  <a:pt x="367" y="192"/>
                  <a:pt x="364" y="186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81"/>
          <p:cNvSpPr/>
          <p:nvPr/>
        </p:nvSpPr>
        <p:spPr>
          <a:xfrm>
            <a:off x="8327880" y="4560840"/>
            <a:ext cx="247680" cy="2476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4" y="186"/>
                </a:moveTo>
                <a:lnTo>
                  <a:pt x="180" y="2"/>
                </a:lnTo>
                <a:cubicBezTo>
                  <a:pt x="178" y="0"/>
                  <a:pt x="175" y="0"/>
                  <a:pt x="169" y="0"/>
                </a:cubicBezTo>
                <a:lnTo>
                  <a:pt x="14" y="0"/>
                </a:lnTo>
                <a:cubicBezTo>
                  <a:pt x="11" y="0"/>
                  <a:pt x="6" y="2"/>
                  <a:pt x="3" y="2"/>
                </a:cubicBezTo>
                <a:cubicBezTo>
                  <a:pt x="1" y="2"/>
                  <a:pt x="0" y="8"/>
                  <a:pt x="0" y="14"/>
                </a:cubicBezTo>
                <a:lnTo>
                  <a:pt x="0" y="169"/>
                </a:lnTo>
                <a:cubicBezTo>
                  <a:pt x="0" y="172"/>
                  <a:pt x="3" y="177"/>
                  <a:pt x="5" y="180"/>
                </a:cubicBezTo>
                <a:lnTo>
                  <a:pt x="203" y="364"/>
                </a:lnTo>
                <a:cubicBezTo>
                  <a:pt x="206" y="366"/>
                  <a:pt x="209" y="366"/>
                  <a:pt x="211" y="366"/>
                </a:cubicBezTo>
                <a:lnTo>
                  <a:pt x="211" y="366"/>
                </a:lnTo>
                <a:cubicBezTo>
                  <a:pt x="214" y="366"/>
                  <a:pt x="220" y="364"/>
                  <a:pt x="220" y="361"/>
                </a:cubicBezTo>
                <a:lnTo>
                  <a:pt x="361" y="206"/>
                </a:lnTo>
                <a:cubicBezTo>
                  <a:pt x="367" y="200"/>
                  <a:pt x="367" y="191"/>
                  <a:pt x="364" y="186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82"/>
          <p:cNvSpPr/>
          <p:nvPr/>
        </p:nvSpPr>
        <p:spPr>
          <a:xfrm>
            <a:off x="8366040" y="459900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69"/>
                  <a:pt x="71" y="75"/>
                  <a:pt x="64" y="79"/>
                </a:cubicBezTo>
                <a:cubicBezTo>
                  <a:pt x="58" y="83"/>
                  <a:pt x="51" y="85"/>
                  <a:pt x="43" y="85"/>
                </a:cubicBezTo>
                <a:cubicBezTo>
                  <a:pt x="36" y="85"/>
                  <a:pt x="28" y="83"/>
                  <a:pt x="21" y="79"/>
                </a:cubicBezTo>
                <a:cubicBezTo>
                  <a:pt x="15" y="75"/>
                  <a:pt x="10" y="69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4"/>
                  <a:pt x="15" y="10"/>
                  <a:pt x="21" y="6"/>
                </a:cubicBezTo>
                <a:cubicBezTo>
                  <a:pt x="28" y="2"/>
                  <a:pt x="35" y="0"/>
                  <a:pt x="43" y="0"/>
                </a:cubicBezTo>
                <a:cubicBezTo>
                  <a:pt x="50" y="0"/>
                  <a:pt x="58" y="2"/>
                  <a:pt x="64" y="6"/>
                </a:cubicBezTo>
                <a:cubicBezTo>
                  <a:pt x="71" y="10"/>
                  <a:pt x="75" y="14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83"/>
          <p:cNvSpPr/>
          <p:nvPr/>
        </p:nvSpPr>
        <p:spPr>
          <a:xfrm>
            <a:off x="3006720" y="7566120"/>
            <a:ext cx="230040" cy="30780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225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310" y="451"/>
                </a:lnTo>
                <a:cubicBezTo>
                  <a:pt x="327" y="451"/>
                  <a:pt x="338" y="440"/>
                  <a:pt x="338" y="423"/>
                </a:cubicBezTo>
                <a:lnTo>
                  <a:pt x="338" y="113"/>
                </a:lnTo>
                <a:lnTo>
                  <a:pt x="225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84"/>
          <p:cNvSpPr/>
          <p:nvPr/>
        </p:nvSpPr>
        <p:spPr>
          <a:xfrm>
            <a:off x="3159000" y="756612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0"/>
                </a:moveTo>
                <a:lnTo>
                  <a:pt x="0" y="85"/>
                </a:lnTo>
                <a:cubicBezTo>
                  <a:pt x="0" y="102"/>
                  <a:pt x="12" y="113"/>
                  <a:pt x="29" y="113"/>
                </a:cubicBezTo>
                <a:lnTo>
                  <a:pt x="113" y="113"/>
                </a:lnTo>
                <a:lnTo>
                  <a:pt x="0" y="0"/>
                </a:ln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85"/>
          <p:cNvSpPr/>
          <p:nvPr/>
        </p:nvSpPr>
        <p:spPr>
          <a:xfrm>
            <a:off x="3044880" y="773748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cubicBezTo>
                  <a:pt x="226" y="23"/>
                  <a:pt x="220" y="28"/>
                  <a:pt x="212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86"/>
          <p:cNvSpPr/>
          <p:nvPr/>
        </p:nvSpPr>
        <p:spPr>
          <a:xfrm>
            <a:off x="3044880" y="7775640"/>
            <a:ext cx="95040" cy="2052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9"/>
                  <a:pt x="127" y="2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87"/>
          <p:cNvSpPr/>
          <p:nvPr/>
        </p:nvSpPr>
        <p:spPr>
          <a:xfrm>
            <a:off x="3044880" y="7566120"/>
            <a:ext cx="95040" cy="137880"/>
          </a:xfrm>
          <a:custGeom>
            <a:avLst/>
            <a:gdLst/>
            <a:ahLst/>
            <a:rect l="l" t="t" r="r" b="b"/>
            <a:pathLst>
              <a:path w="142" h="201">
                <a:moveTo>
                  <a:pt x="96" y="198"/>
                </a:moveTo>
                <a:cubicBezTo>
                  <a:pt x="93" y="198"/>
                  <a:pt x="87" y="195"/>
                  <a:pt x="85" y="195"/>
                </a:cubicBezTo>
                <a:lnTo>
                  <a:pt x="54" y="164"/>
                </a:lnTo>
                <a:lnTo>
                  <a:pt x="23" y="195"/>
                </a:lnTo>
                <a:cubicBezTo>
                  <a:pt x="20" y="198"/>
                  <a:pt x="11" y="200"/>
                  <a:pt x="8" y="198"/>
                </a:cubicBezTo>
                <a:cubicBezTo>
                  <a:pt x="3" y="195"/>
                  <a:pt x="0" y="189"/>
                  <a:pt x="0" y="183"/>
                </a:cubicBezTo>
                <a:lnTo>
                  <a:pt x="0" y="42"/>
                </a:lnTo>
                <a:cubicBezTo>
                  <a:pt x="0" y="20"/>
                  <a:pt x="20" y="0"/>
                  <a:pt x="42" y="0"/>
                </a:cubicBezTo>
                <a:lnTo>
                  <a:pt x="141" y="0"/>
                </a:lnTo>
                <a:lnTo>
                  <a:pt x="141" y="0"/>
                </a:lnTo>
                <a:cubicBezTo>
                  <a:pt x="124" y="0"/>
                  <a:pt x="113" y="11"/>
                  <a:pt x="113" y="28"/>
                </a:cubicBezTo>
                <a:lnTo>
                  <a:pt x="113" y="183"/>
                </a:lnTo>
                <a:cubicBezTo>
                  <a:pt x="113" y="189"/>
                  <a:pt x="110" y="195"/>
                  <a:pt x="104" y="198"/>
                </a:cubicBezTo>
                <a:cubicBezTo>
                  <a:pt x="99" y="198"/>
                  <a:pt x="99" y="198"/>
                  <a:pt x="96" y="198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88"/>
          <p:cNvSpPr/>
          <p:nvPr/>
        </p:nvSpPr>
        <p:spPr>
          <a:xfrm>
            <a:off x="3733920" y="756612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423" y="451"/>
                </a:lnTo>
                <a:cubicBezTo>
                  <a:pt x="440" y="451"/>
                  <a:pt x="452" y="440"/>
                  <a:pt x="452" y="423"/>
                </a:cubicBezTo>
                <a:lnTo>
                  <a:pt x="452" y="28"/>
                </a:lnTo>
                <a:cubicBezTo>
                  <a:pt x="452" y="11"/>
                  <a:pt x="440" y="0"/>
                  <a:pt x="423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89"/>
          <p:cNvSpPr/>
          <p:nvPr/>
        </p:nvSpPr>
        <p:spPr>
          <a:xfrm>
            <a:off x="3751200" y="7623000"/>
            <a:ext cx="268200" cy="230400"/>
          </a:xfrm>
          <a:custGeom>
            <a:avLst/>
            <a:gdLst/>
            <a:ahLst/>
            <a:rect l="l" t="t" r="r" b="b"/>
            <a:pathLst>
              <a:path w="396" h="339">
                <a:moveTo>
                  <a:pt x="0" y="338"/>
                </a:moveTo>
                <a:lnTo>
                  <a:pt x="0" y="0"/>
                </a:lnTo>
                <a:lnTo>
                  <a:pt x="395" y="0"/>
                </a:lnTo>
                <a:lnTo>
                  <a:pt x="395" y="338"/>
                </a:lnTo>
                <a:lnTo>
                  <a:pt x="0" y="33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90"/>
          <p:cNvSpPr/>
          <p:nvPr/>
        </p:nvSpPr>
        <p:spPr>
          <a:xfrm>
            <a:off x="4002120" y="7585200"/>
            <a:ext cx="205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4"/>
                </a:moveTo>
                <a:cubicBezTo>
                  <a:pt x="28" y="17"/>
                  <a:pt x="27" y="19"/>
                  <a:pt x="26" y="21"/>
                </a:cubicBezTo>
                <a:cubicBezTo>
                  <a:pt x="24" y="24"/>
                  <a:pt x="23" y="26"/>
                  <a:pt x="21" y="27"/>
                </a:cubicBezTo>
                <a:cubicBezTo>
                  <a:pt x="18" y="29"/>
                  <a:pt x="16" y="28"/>
                  <a:pt x="14" y="28"/>
                </a:cubicBezTo>
                <a:cubicBezTo>
                  <a:pt x="11" y="28"/>
                  <a:pt x="9" y="29"/>
                  <a:pt x="7" y="27"/>
                </a:cubicBezTo>
                <a:cubicBezTo>
                  <a:pt x="5" y="26"/>
                  <a:pt x="3" y="24"/>
                  <a:pt x="2" y="21"/>
                </a:cubicBezTo>
                <a:cubicBezTo>
                  <a:pt x="1" y="19"/>
                  <a:pt x="0" y="17"/>
                  <a:pt x="0" y="14"/>
                </a:cubicBezTo>
                <a:cubicBezTo>
                  <a:pt x="0" y="12"/>
                  <a:pt x="1" y="9"/>
                  <a:pt x="2" y="7"/>
                </a:cubicBezTo>
                <a:cubicBezTo>
                  <a:pt x="3" y="5"/>
                  <a:pt x="5" y="3"/>
                  <a:pt x="7" y="2"/>
                </a:cubicBezTo>
                <a:cubicBezTo>
                  <a:pt x="9" y="1"/>
                  <a:pt x="12" y="0"/>
                  <a:pt x="14" y="0"/>
                </a:cubicBezTo>
                <a:cubicBezTo>
                  <a:pt x="17" y="0"/>
                  <a:pt x="18" y="1"/>
                  <a:pt x="21" y="2"/>
                </a:cubicBezTo>
                <a:cubicBezTo>
                  <a:pt x="23" y="3"/>
                  <a:pt x="24" y="5"/>
                  <a:pt x="26" y="7"/>
                </a:cubicBezTo>
                <a:cubicBezTo>
                  <a:pt x="27" y="9"/>
                  <a:pt x="28" y="12"/>
                  <a:pt x="28" y="1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91"/>
          <p:cNvSpPr/>
          <p:nvPr/>
        </p:nvSpPr>
        <p:spPr>
          <a:xfrm>
            <a:off x="3963960" y="7585200"/>
            <a:ext cx="205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4"/>
                </a:moveTo>
                <a:cubicBezTo>
                  <a:pt x="28" y="17"/>
                  <a:pt x="27" y="19"/>
                  <a:pt x="26" y="21"/>
                </a:cubicBezTo>
                <a:cubicBezTo>
                  <a:pt x="25" y="24"/>
                  <a:pt x="23" y="26"/>
                  <a:pt x="21" y="27"/>
                </a:cubicBezTo>
                <a:cubicBezTo>
                  <a:pt x="19" y="29"/>
                  <a:pt x="16" y="28"/>
                  <a:pt x="14" y="28"/>
                </a:cubicBezTo>
                <a:cubicBezTo>
                  <a:pt x="11" y="28"/>
                  <a:pt x="9" y="29"/>
                  <a:pt x="7" y="27"/>
                </a:cubicBezTo>
                <a:cubicBezTo>
                  <a:pt x="5" y="26"/>
                  <a:pt x="3" y="24"/>
                  <a:pt x="2" y="21"/>
                </a:cubicBezTo>
                <a:cubicBezTo>
                  <a:pt x="0" y="19"/>
                  <a:pt x="0" y="17"/>
                  <a:pt x="0" y="14"/>
                </a:cubicBezTo>
                <a:cubicBezTo>
                  <a:pt x="0" y="12"/>
                  <a:pt x="0" y="9"/>
                  <a:pt x="2" y="7"/>
                </a:cubicBezTo>
                <a:cubicBezTo>
                  <a:pt x="3" y="5"/>
                  <a:pt x="5" y="3"/>
                  <a:pt x="7" y="2"/>
                </a:cubicBezTo>
                <a:cubicBezTo>
                  <a:pt x="9" y="1"/>
                  <a:pt x="11" y="0"/>
                  <a:pt x="14" y="0"/>
                </a:cubicBezTo>
                <a:cubicBezTo>
                  <a:pt x="16" y="0"/>
                  <a:pt x="19" y="1"/>
                  <a:pt x="21" y="2"/>
                </a:cubicBezTo>
                <a:cubicBezTo>
                  <a:pt x="23" y="3"/>
                  <a:pt x="25" y="5"/>
                  <a:pt x="26" y="7"/>
                </a:cubicBezTo>
                <a:cubicBezTo>
                  <a:pt x="27" y="9"/>
                  <a:pt x="28" y="12"/>
                  <a:pt x="28" y="1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392"/>
          <p:cNvSpPr/>
          <p:nvPr/>
        </p:nvSpPr>
        <p:spPr>
          <a:xfrm>
            <a:off x="3825720" y="7680240"/>
            <a:ext cx="119160" cy="115920"/>
          </a:xfrm>
          <a:custGeom>
            <a:avLst/>
            <a:gdLst/>
            <a:ahLst/>
            <a:rect l="l" t="t" r="r" b="b"/>
            <a:pathLst>
              <a:path w="176" h="174">
                <a:moveTo>
                  <a:pt x="175" y="65"/>
                </a:moveTo>
                <a:cubicBezTo>
                  <a:pt x="173" y="60"/>
                  <a:pt x="170" y="57"/>
                  <a:pt x="164" y="57"/>
                </a:cubicBezTo>
                <a:lnTo>
                  <a:pt x="122" y="51"/>
                </a:lnTo>
                <a:lnTo>
                  <a:pt x="102" y="12"/>
                </a:lnTo>
                <a:cubicBezTo>
                  <a:pt x="96" y="0"/>
                  <a:pt x="82" y="0"/>
                  <a:pt x="77" y="12"/>
                </a:cubicBezTo>
                <a:lnTo>
                  <a:pt x="57" y="51"/>
                </a:lnTo>
                <a:lnTo>
                  <a:pt x="15" y="57"/>
                </a:lnTo>
                <a:cubicBezTo>
                  <a:pt x="9" y="57"/>
                  <a:pt x="5" y="62"/>
                  <a:pt x="3" y="65"/>
                </a:cubicBezTo>
                <a:cubicBezTo>
                  <a:pt x="0" y="68"/>
                  <a:pt x="3" y="76"/>
                  <a:pt x="6" y="79"/>
                </a:cubicBezTo>
                <a:lnTo>
                  <a:pt x="37" y="110"/>
                </a:lnTo>
                <a:lnTo>
                  <a:pt x="29" y="155"/>
                </a:lnTo>
                <a:cubicBezTo>
                  <a:pt x="29" y="161"/>
                  <a:pt x="28" y="168"/>
                  <a:pt x="34" y="170"/>
                </a:cubicBezTo>
                <a:cubicBezTo>
                  <a:pt x="39" y="173"/>
                  <a:pt x="46" y="172"/>
                  <a:pt x="49" y="170"/>
                </a:cubicBezTo>
                <a:lnTo>
                  <a:pt x="85" y="150"/>
                </a:lnTo>
                <a:lnTo>
                  <a:pt x="122" y="170"/>
                </a:lnTo>
                <a:cubicBezTo>
                  <a:pt x="125" y="170"/>
                  <a:pt x="128" y="172"/>
                  <a:pt x="128" y="172"/>
                </a:cubicBezTo>
                <a:cubicBezTo>
                  <a:pt x="130" y="172"/>
                  <a:pt x="133" y="172"/>
                  <a:pt x="136" y="170"/>
                </a:cubicBezTo>
                <a:cubicBezTo>
                  <a:pt x="142" y="167"/>
                  <a:pt x="142" y="161"/>
                  <a:pt x="142" y="155"/>
                </a:cubicBezTo>
                <a:lnTo>
                  <a:pt x="133" y="110"/>
                </a:lnTo>
                <a:lnTo>
                  <a:pt x="164" y="79"/>
                </a:lnTo>
                <a:cubicBezTo>
                  <a:pt x="175" y="74"/>
                  <a:pt x="175" y="68"/>
                  <a:pt x="175" y="6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93"/>
          <p:cNvSpPr/>
          <p:nvPr/>
        </p:nvSpPr>
        <p:spPr>
          <a:xfrm>
            <a:off x="4498920" y="7585200"/>
            <a:ext cx="308160" cy="288720"/>
          </a:xfrm>
          <a:custGeom>
            <a:avLst/>
            <a:gdLst/>
            <a:ahLst/>
            <a:rect l="l" t="t" r="r" b="b"/>
            <a:pathLst>
              <a:path w="455" h="427">
                <a:moveTo>
                  <a:pt x="443" y="59"/>
                </a:moveTo>
                <a:lnTo>
                  <a:pt x="344" y="3"/>
                </a:lnTo>
                <a:cubicBezTo>
                  <a:pt x="341" y="3"/>
                  <a:pt x="338" y="0"/>
                  <a:pt x="338" y="0"/>
                </a:cubicBezTo>
                <a:lnTo>
                  <a:pt x="113" y="0"/>
                </a:lnTo>
                <a:cubicBezTo>
                  <a:pt x="110" y="0"/>
                  <a:pt x="107" y="0"/>
                  <a:pt x="107" y="3"/>
                </a:cubicBezTo>
                <a:lnTo>
                  <a:pt x="8" y="59"/>
                </a:lnTo>
                <a:cubicBezTo>
                  <a:pt x="3" y="62"/>
                  <a:pt x="0" y="71"/>
                  <a:pt x="3" y="76"/>
                </a:cubicBezTo>
                <a:lnTo>
                  <a:pt x="31" y="175"/>
                </a:lnTo>
                <a:cubicBezTo>
                  <a:pt x="34" y="184"/>
                  <a:pt x="39" y="186"/>
                  <a:pt x="48" y="184"/>
                </a:cubicBezTo>
                <a:lnTo>
                  <a:pt x="87" y="175"/>
                </a:lnTo>
                <a:lnTo>
                  <a:pt x="87" y="412"/>
                </a:lnTo>
                <a:cubicBezTo>
                  <a:pt x="87" y="421"/>
                  <a:pt x="93" y="426"/>
                  <a:pt x="101" y="426"/>
                </a:cubicBezTo>
                <a:lnTo>
                  <a:pt x="355" y="426"/>
                </a:lnTo>
                <a:cubicBezTo>
                  <a:pt x="364" y="426"/>
                  <a:pt x="370" y="421"/>
                  <a:pt x="370" y="412"/>
                </a:cubicBezTo>
                <a:lnTo>
                  <a:pt x="370" y="175"/>
                </a:lnTo>
                <a:lnTo>
                  <a:pt x="409" y="184"/>
                </a:lnTo>
                <a:cubicBezTo>
                  <a:pt x="418" y="186"/>
                  <a:pt x="423" y="181"/>
                  <a:pt x="426" y="175"/>
                </a:cubicBezTo>
                <a:lnTo>
                  <a:pt x="454" y="76"/>
                </a:lnTo>
                <a:cubicBezTo>
                  <a:pt x="451" y="68"/>
                  <a:pt x="449" y="62"/>
                  <a:pt x="443" y="59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94"/>
          <p:cNvSpPr/>
          <p:nvPr/>
        </p:nvSpPr>
        <p:spPr>
          <a:xfrm>
            <a:off x="4603680" y="7585200"/>
            <a:ext cx="95400" cy="47520"/>
          </a:xfrm>
          <a:custGeom>
            <a:avLst/>
            <a:gdLst/>
            <a:ahLst/>
            <a:rect l="l" t="t" r="r" b="b"/>
            <a:pathLst>
              <a:path w="142" h="72">
                <a:moveTo>
                  <a:pt x="141" y="0"/>
                </a:moveTo>
                <a:cubicBezTo>
                  <a:pt x="141" y="40"/>
                  <a:pt x="110" y="71"/>
                  <a:pt x="71" y="71"/>
                </a:cubicBezTo>
                <a:cubicBezTo>
                  <a:pt x="31" y="71"/>
                  <a:pt x="0" y="40"/>
                  <a:pt x="0" y="0"/>
                </a:cubicBezTo>
                <a:lnTo>
                  <a:pt x="141" y="0"/>
                </a:lnTo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95"/>
          <p:cNvSpPr/>
          <p:nvPr/>
        </p:nvSpPr>
        <p:spPr>
          <a:xfrm>
            <a:off x="5264280" y="7585200"/>
            <a:ext cx="307800" cy="288720"/>
          </a:xfrm>
          <a:custGeom>
            <a:avLst/>
            <a:gdLst/>
            <a:ahLst/>
            <a:rect l="l" t="t" r="r" b="b"/>
            <a:pathLst>
              <a:path w="455" h="427">
                <a:moveTo>
                  <a:pt x="443" y="59"/>
                </a:moveTo>
                <a:lnTo>
                  <a:pt x="344" y="3"/>
                </a:lnTo>
                <a:cubicBezTo>
                  <a:pt x="341" y="3"/>
                  <a:pt x="338" y="0"/>
                  <a:pt x="338" y="0"/>
                </a:cubicBezTo>
                <a:lnTo>
                  <a:pt x="113" y="0"/>
                </a:lnTo>
                <a:cubicBezTo>
                  <a:pt x="110" y="0"/>
                  <a:pt x="107" y="0"/>
                  <a:pt x="107" y="3"/>
                </a:cubicBezTo>
                <a:lnTo>
                  <a:pt x="8" y="59"/>
                </a:lnTo>
                <a:cubicBezTo>
                  <a:pt x="2" y="62"/>
                  <a:pt x="0" y="71"/>
                  <a:pt x="2" y="76"/>
                </a:cubicBezTo>
                <a:lnTo>
                  <a:pt x="31" y="175"/>
                </a:lnTo>
                <a:cubicBezTo>
                  <a:pt x="33" y="184"/>
                  <a:pt x="39" y="186"/>
                  <a:pt x="48" y="184"/>
                </a:cubicBezTo>
                <a:lnTo>
                  <a:pt x="87" y="175"/>
                </a:lnTo>
                <a:lnTo>
                  <a:pt x="87" y="412"/>
                </a:lnTo>
                <a:cubicBezTo>
                  <a:pt x="87" y="421"/>
                  <a:pt x="93" y="426"/>
                  <a:pt x="101" y="426"/>
                </a:cubicBezTo>
                <a:lnTo>
                  <a:pt x="355" y="426"/>
                </a:lnTo>
                <a:cubicBezTo>
                  <a:pt x="364" y="426"/>
                  <a:pt x="369" y="421"/>
                  <a:pt x="369" y="412"/>
                </a:cubicBezTo>
                <a:lnTo>
                  <a:pt x="369" y="175"/>
                </a:lnTo>
                <a:lnTo>
                  <a:pt x="409" y="184"/>
                </a:lnTo>
                <a:cubicBezTo>
                  <a:pt x="417" y="186"/>
                  <a:pt x="423" y="181"/>
                  <a:pt x="426" y="175"/>
                </a:cubicBezTo>
                <a:lnTo>
                  <a:pt x="454" y="76"/>
                </a:lnTo>
                <a:cubicBezTo>
                  <a:pt x="451" y="68"/>
                  <a:pt x="448" y="62"/>
                  <a:pt x="443" y="59"/>
                </a:cubicBezTo>
              </a:path>
            </a:pathLst>
          </a:custGeom>
          <a:solidFill>
            <a:srgbClr val="03a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96"/>
          <p:cNvSpPr/>
          <p:nvPr/>
        </p:nvSpPr>
        <p:spPr>
          <a:xfrm>
            <a:off x="5361120" y="7566120"/>
            <a:ext cx="115920" cy="69840"/>
          </a:xfrm>
          <a:custGeom>
            <a:avLst/>
            <a:gdLst/>
            <a:ahLst/>
            <a:rect l="l" t="t" r="r" b="b"/>
            <a:pathLst>
              <a:path w="170" h="100">
                <a:moveTo>
                  <a:pt x="0" y="0"/>
                </a:moveTo>
                <a:lnTo>
                  <a:pt x="169" y="0"/>
                </a:lnTo>
                <a:lnTo>
                  <a:pt x="84" y="99"/>
                </a:lnTo>
                <a:lnTo>
                  <a:pt x="0" y="0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97"/>
          <p:cNvSpPr/>
          <p:nvPr/>
        </p:nvSpPr>
        <p:spPr>
          <a:xfrm>
            <a:off x="5408640" y="7623000"/>
            <a:ext cx="20520" cy="78120"/>
          </a:xfrm>
          <a:custGeom>
            <a:avLst/>
            <a:gdLst/>
            <a:ahLst/>
            <a:rect l="l" t="t" r="r" b="b"/>
            <a:pathLst>
              <a:path w="29" h="114">
                <a:moveTo>
                  <a:pt x="0" y="0"/>
                </a:moveTo>
                <a:lnTo>
                  <a:pt x="0" y="98"/>
                </a:lnTo>
                <a:cubicBezTo>
                  <a:pt x="0" y="107"/>
                  <a:pt x="6" y="113"/>
                  <a:pt x="14" y="113"/>
                </a:cubicBezTo>
                <a:cubicBezTo>
                  <a:pt x="23" y="113"/>
                  <a:pt x="28" y="107"/>
                  <a:pt x="28" y="98"/>
                </a:cubicBezTo>
                <a:lnTo>
                  <a:pt x="28" y="0"/>
                </a:lnTo>
                <a:lnTo>
                  <a:pt x="0" y="0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398"/>
          <p:cNvSpPr/>
          <p:nvPr/>
        </p:nvSpPr>
        <p:spPr>
          <a:xfrm>
            <a:off x="5351400" y="7566120"/>
            <a:ext cx="65160" cy="77760"/>
          </a:xfrm>
          <a:custGeom>
            <a:avLst/>
            <a:gdLst/>
            <a:ahLst/>
            <a:rect l="l" t="t" r="r" b="b"/>
            <a:pathLst>
              <a:path w="99" h="114">
                <a:moveTo>
                  <a:pt x="14" y="0"/>
                </a:moveTo>
                <a:lnTo>
                  <a:pt x="0" y="28"/>
                </a:lnTo>
                <a:lnTo>
                  <a:pt x="42" y="113"/>
                </a:lnTo>
                <a:lnTo>
                  <a:pt x="98" y="85"/>
                </a:lnTo>
                <a:lnTo>
                  <a:pt x="14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99"/>
          <p:cNvSpPr/>
          <p:nvPr/>
        </p:nvSpPr>
        <p:spPr>
          <a:xfrm>
            <a:off x="5416560" y="7566120"/>
            <a:ext cx="69840" cy="77760"/>
          </a:xfrm>
          <a:custGeom>
            <a:avLst/>
            <a:gdLst/>
            <a:ahLst/>
            <a:rect l="l" t="t" r="r" b="b"/>
            <a:pathLst>
              <a:path w="100" h="114">
                <a:moveTo>
                  <a:pt x="85" y="0"/>
                </a:moveTo>
                <a:lnTo>
                  <a:pt x="99" y="28"/>
                </a:lnTo>
                <a:lnTo>
                  <a:pt x="57" y="113"/>
                </a:lnTo>
                <a:lnTo>
                  <a:pt x="0" y="85"/>
                </a:lnTo>
                <a:lnTo>
                  <a:pt x="85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00"/>
          <p:cNvSpPr/>
          <p:nvPr/>
        </p:nvSpPr>
        <p:spPr>
          <a:xfrm>
            <a:off x="6048360" y="7566120"/>
            <a:ext cx="250920" cy="307800"/>
          </a:xfrm>
          <a:custGeom>
            <a:avLst/>
            <a:gdLst/>
            <a:ahLst/>
            <a:rect l="l" t="t" r="r" b="b"/>
            <a:pathLst>
              <a:path w="370" h="452">
                <a:moveTo>
                  <a:pt x="369" y="432"/>
                </a:moveTo>
                <a:lnTo>
                  <a:pt x="259" y="183"/>
                </a:lnTo>
                <a:lnTo>
                  <a:pt x="313" y="20"/>
                </a:lnTo>
                <a:cubicBezTo>
                  <a:pt x="316" y="14"/>
                  <a:pt x="313" y="11"/>
                  <a:pt x="310" y="6"/>
                </a:cubicBezTo>
                <a:cubicBezTo>
                  <a:pt x="307" y="3"/>
                  <a:pt x="305" y="0"/>
                  <a:pt x="299" y="0"/>
                </a:cubicBezTo>
                <a:lnTo>
                  <a:pt x="73" y="0"/>
                </a:lnTo>
                <a:cubicBezTo>
                  <a:pt x="68" y="0"/>
                  <a:pt x="65" y="3"/>
                  <a:pt x="62" y="6"/>
                </a:cubicBezTo>
                <a:cubicBezTo>
                  <a:pt x="59" y="8"/>
                  <a:pt x="59" y="14"/>
                  <a:pt x="59" y="20"/>
                </a:cubicBezTo>
                <a:lnTo>
                  <a:pt x="113" y="183"/>
                </a:lnTo>
                <a:lnTo>
                  <a:pt x="3" y="432"/>
                </a:lnTo>
                <a:cubicBezTo>
                  <a:pt x="0" y="437"/>
                  <a:pt x="0" y="440"/>
                  <a:pt x="3" y="446"/>
                </a:cubicBezTo>
                <a:cubicBezTo>
                  <a:pt x="5" y="449"/>
                  <a:pt x="8" y="451"/>
                  <a:pt x="14" y="451"/>
                </a:cubicBezTo>
                <a:lnTo>
                  <a:pt x="353" y="451"/>
                </a:lnTo>
                <a:cubicBezTo>
                  <a:pt x="358" y="451"/>
                  <a:pt x="361" y="449"/>
                  <a:pt x="364" y="446"/>
                </a:cubicBezTo>
                <a:cubicBezTo>
                  <a:pt x="369" y="440"/>
                  <a:pt x="369" y="437"/>
                  <a:pt x="369" y="432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401"/>
          <p:cNvSpPr/>
          <p:nvPr/>
        </p:nvSpPr>
        <p:spPr>
          <a:xfrm>
            <a:off x="6116760" y="7680240"/>
            <a:ext cx="117360" cy="20880"/>
          </a:xfrm>
          <a:custGeom>
            <a:avLst/>
            <a:gdLst/>
            <a:ahLst/>
            <a:rect l="l" t="t" r="r" b="b"/>
            <a:pathLst>
              <a:path w="171" h="30">
                <a:moveTo>
                  <a:pt x="156" y="29"/>
                </a:moveTo>
                <a:lnTo>
                  <a:pt x="15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56" y="0"/>
                </a:lnTo>
                <a:cubicBezTo>
                  <a:pt x="164" y="0"/>
                  <a:pt x="170" y="6"/>
                  <a:pt x="170" y="14"/>
                </a:cubicBezTo>
                <a:cubicBezTo>
                  <a:pt x="170" y="23"/>
                  <a:pt x="164" y="29"/>
                  <a:pt x="156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402"/>
          <p:cNvSpPr/>
          <p:nvPr/>
        </p:nvSpPr>
        <p:spPr>
          <a:xfrm>
            <a:off x="6126120" y="7566120"/>
            <a:ext cx="95400" cy="47520"/>
          </a:xfrm>
          <a:custGeom>
            <a:avLst/>
            <a:gdLst/>
            <a:ahLst/>
            <a:rect l="l" t="t" r="r" b="b"/>
            <a:pathLst>
              <a:path w="142" h="72">
                <a:moveTo>
                  <a:pt x="141" y="0"/>
                </a:moveTo>
                <a:cubicBezTo>
                  <a:pt x="141" y="39"/>
                  <a:pt x="110" y="71"/>
                  <a:pt x="70" y="71"/>
                </a:cubicBezTo>
                <a:cubicBezTo>
                  <a:pt x="31" y="71"/>
                  <a:pt x="0" y="39"/>
                  <a:pt x="0" y="0"/>
                </a:cubicBezTo>
                <a:lnTo>
                  <a:pt x="141" y="0"/>
                </a:ln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3"/>
          <p:cNvSpPr/>
          <p:nvPr/>
        </p:nvSpPr>
        <p:spPr>
          <a:xfrm>
            <a:off x="6792840" y="7602480"/>
            <a:ext cx="93600" cy="12852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119" y="187"/>
                </a:moveTo>
                <a:cubicBezTo>
                  <a:pt x="116" y="187"/>
                  <a:pt x="116" y="187"/>
                  <a:pt x="113" y="187"/>
                </a:cubicBezTo>
                <a:lnTo>
                  <a:pt x="105" y="184"/>
                </a:lnTo>
                <a:cubicBezTo>
                  <a:pt x="43" y="161"/>
                  <a:pt x="0" y="102"/>
                  <a:pt x="0" y="3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7"/>
                  <a:pt x="113" y="15"/>
                </a:cubicBezTo>
                <a:cubicBezTo>
                  <a:pt x="113" y="24"/>
                  <a:pt x="108" y="29"/>
                  <a:pt x="99" y="29"/>
                </a:cubicBezTo>
                <a:lnTo>
                  <a:pt x="31" y="29"/>
                </a:lnTo>
                <a:lnTo>
                  <a:pt x="31" y="37"/>
                </a:lnTo>
                <a:cubicBezTo>
                  <a:pt x="31" y="91"/>
                  <a:pt x="65" y="139"/>
                  <a:pt x="116" y="156"/>
                </a:cubicBezTo>
                <a:lnTo>
                  <a:pt x="125" y="158"/>
                </a:lnTo>
                <a:cubicBezTo>
                  <a:pt x="133" y="161"/>
                  <a:pt x="136" y="170"/>
                  <a:pt x="133" y="175"/>
                </a:cubicBezTo>
                <a:cubicBezTo>
                  <a:pt x="130" y="184"/>
                  <a:pt x="125" y="187"/>
                  <a:pt x="119" y="18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04"/>
          <p:cNvSpPr/>
          <p:nvPr/>
        </p:nvSpPr>
        <p:spPr>
          <a:xfrm>
            <a:off x="7012080" y="7602480"/>
            <a:ext cx="88920" cy="128520"/>
          </a:xfrm>
          <a:custGeom>
            <a:avLst/>
            <a:gdLst/>
            <a:ahLst/>
            <a:rect l="l" t="t" r="r" b="b"/>
            <a:pathLst>
              <a:path w="134" h="188">
                <a:moveTo>
                  <a:pt x="17" y="187"/>
                </a:moveTo>
                <a:cubicBezTo>
                  <a:pt x="11" y="187"/>
                  <a:pt x="6" y="184"/>
                  <a:pt x="3" y="178"/>
                </a:cubicBezTo>
                <a:cubicBezTo>
                  <a:pt x="0" y="170"/>
                  <a:pt x="6" y="164"/>
                  <a:pt x="11" y="161"/>
                </a:cubicBezTo>
                <a:lnTo>
                  <a:pt x="20" y="158"/>
                </a:lnTo>
                <a:cubicBezTo>
                  <a:pt x="71" y="142"/>
                  <a:pt x="104" y="94"/>
                  <a:pt x="104" y="40"/>
                </a:cubicBezTo>
                <a:lnTo>
                  <a:pt x="104" y="29"/>
                </a:lnTo>
                <a:lnTo>
                  <a:pt x="34" y="29"/>
                </a:lnTo>
                <a:cubicBezTo>
                  <a:pt x="25" y="29"/>
                  <a:pt x="20" y="24"/>
                  <a:pt x="20" y="15"/>
                </a:cubicBezTo>
                <a:cubicBezTo>
                  <a:pt x="20" y="7"/>
                  <a:pt x="25" y="0"/>
                  <a:pt x="34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5"/>
                </a:cubicBezTo>
                <a:lnTo>
                  <a:pt x="133" y="37"/>
                </a:lnTo>
                <a:cubicBezTo>
                  <a:pt x="133" y="102"/>
                  <a:pt x="90" y="161"/>
                  <a:pt x="28" y="184"/>
                </a:cubicBezTo>
                <a:lnTo>
                  <a:pt x="20" y="187"/>
                </a:lnTo>
                <a:cubicBezTo>
                  <a:pt x="20" y="187"/>
                  <a:pt x="20" y="187"/>
                  <a:pt x="17" y="18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05"/>
          <p:cNvSpPr/>
          <p:nvPr/>
        </p:nvSpPr>
        <p:spPr>
          <a:xfrm>
            <a:off x="6918480" y="7775640"/>
            <a:ext cx="56880" cy="69840"/>
          </a:xfrm>
          <a:custGeom>
            <a:avLst/>
            <a:gdLst/>
            <a:ahLst/>
            <a:rect l="l" t="t" r="r" b="b"/>
            <a:pathLst>
              <a:path w="85" h="100">
                <a:moveTo>
                  <a:pt x="70" y="0"/>
                </a:moveTo>
                <a:cubicBezTo>
                  <a:pt x="62" y="0"/>
                  <a:pt x="56" y="6"/>
                  <a:pt x="56" y="14"/>
                </a:cubicBezTo>
                <a:lnTo>
                  <a:pt x="56" y="14"/>
                </a:lnTo>
                <a:lnTo>
                  <a:pt x="28" y="14"/>
                </a:lnTo>
                <a:lnTo>
                  <a:pt x="28" y="14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4"/>
                </a:cubicBezTo>
                <a:lnTo>
                  <a:pt x="0" y="85"/>
                </a:lnTo>
                <a:cubicBezTo>
                  <a:pt x="0" y="94"/>
                  <a:pt x="5" y="99"/>
                  <a:pt x="14" y="99"/>
                </a:cubicBezTo>
                <a:lnTo>
                  <a:pt x="70" y="99"/>
                </a:lnTo>
                <a:cubicBezTo>
                  <a:pt x="79" y="99"/>
                  <a:pt x="84" y="94"/>
                  <a:pt x="84" y="85"/>
                </a:cubicBezTo>
                <a:lnTo>
                  <a:pt x="84" y="14"/>
                </a:lnTo>
                <a:cubicBezTo>
                  <a:pt x="84" y="9"/>
                  <a:pt x="79" y="0"/>
                  <a:pt x="70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06"/>
          <p:cNvSpPr/>
          <p:nvPr/>
        </p:nvSpPr>
        <p:spPr>
          <a:xfrm>
            <a:off x="6853320" y="7585200"/>
            <a:ext cx="190440" cy="206280"/>
          </a:xfrm>
          <a:custGeom>
            <a:avLst/>
            <a:gdLst/>
            <a:ahLst/>
            <a:rect l="l" t="t" r="r" b="b"/>
            <a:pathLst>
              <a:path w="283" h="306">
                <a:moveTo>
                  <a:pt x="268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27"/>
                </a:lnTo>
                <a:cubicBezTo>
                  <a:pt x="0" y="201"/>
                  <a:pt x="45" y="271"/>
                  <a:pt x="113" y="299"/>
                </a:cubicBezTo>
                <a:cubicBezTo>
                  <a:pt x="121" y="302"/>
                  <a:pt x="133" y="305"/>
                  <a:pt x="141" y="305"/>
                </a:cubicBezTo>
                <a:cubicBezTo>
                  <a:pt x="150" y="305"/>
                  <a:pt x="161" y="302"/>
                  <a:pt x="169" y="299"/>
                </a:cubicBezTo>
                <a:cubicBezTo>
                  <a:pt x="237" y="268"/>
                  <a:pt x="282" y="201"/>
                  <a:pt x="282" y="127"/>
                </a:cubicBezTo>
                <a:lnTo>
                  <a:pt x="282" y="14"/>
                </a:lnTo>
                <a:cubicBezTo>
                  <a:pt x="282" y="6"/>
                  <a:pt x="276" y="0"/>
                  <a:pt x="268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7"/>
          <p:cNvSpPr/>
          <p:nvPr/>
        </p:nvSpPr>
        <p:spPr>
          <a:xfrm>
            <a:off x="6891480" y="7832880"/>
            <a:ext cx="117360" cy="37800"/>
          </a:xfrm>
          <a:custGeom>
            <a:avLst/>
            <a:gdLst/>
            <a:ahLst/>
            <a:rect l="l" t="t" r="r" b="b"/>
            <a:pathLst>
              <a:path w="171" h="57">
                <a:moveTo>
                  <a:pt x="155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42"/>
                </a:lnTo>
                <a:cubicBezTo>
                  <a:pt x="0" y="51"/>
                  <a:pt x="6" y="56"/>
                  <a:pt x="14" y="56"/>
                </a:cubicBezTo>
                <a:lnTo>
                  <a:pt x="155" y="56"/>
                </a:lnTo>
                <a:cubicBezTo>
                  <a:pt x="164" y="56"/>
                  <a:pt x="170" y="51"/>
                  <a:pt x="170" y="42"/>
                </a:cubicBezTo>
                <a:lnTo>
                  <a:pt x="170" y="14"/>
                </a:lnTo>
                <a:cubicBezTo>
                  <a:pt x="170" y="6"/>
                  <a:pt x="164" y="0"/>
                  <a:pt x="155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08"/>
          <p:cNvSpPr/>
          <p:nvPr/>
        </p:nvSpPr>
        <p:spPr>
          <a:xfrm>
            <a:off x="7561440" y="7640640"/>
            <a:ext cx="30924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37" y="0"/>
                </a:moveTo>
                <a:cubicBezTo>
                  <a:pt x="364" y="0"/>
                  <a:pt x="313" y="59"/>
                  <a:pt x="271" y="110"/>
                </a:cubicBezTo>
                <a:cubicBezTo>
                  <a:pt x="237" y="149"/>
                  <a:pt x="206" y="186"/>
                  <a:pt x="169" y="195"/>
                </a:cubicBezTo>
                <a:lnTo>
                  <a:pt x="169" y="127"/>
                </a:lnTo>
                <a:cubicBezTo>
                  <a:pt x="169" y="118"/>
                  <a:pt x="164" y="113"/>
                  <a:pt x="155" y="113"/>
                </a:cubicBezTo>
                <a:lnTo>
                  <a:pt x="14" y="113"/>
                </a:lnTo>
                <a:cubicBezTo>
                  <a:pt x="6" y="113"/>
                  <a:pt x="0" y="118"/>
                  <a:pt x="0" y="127"/>
                </a:cubicBezTo>
                <a:lnTo>
                  <a:pt x="0" y="226"/>
                </a:lnTo>
                <a:cubicBezTo>
                  <a:pt x="0" y="274"/>
                  <a:pt x="37" y="310"/>
                  <a:pt x="85" y="310"/>
                </a:cubicBezTo>
                <a:cubicBezTo>
                  <a:pt x="87" y="310"/>
                  <a:pt x="90" y="310"/>
                  <a:pt x="90" y="310"/>
                </a:cubicBezTo>
                <a:cubicBezTo>
                  <a:pt x="90" y="310"/>
                  <a:pt x="90" y="310"/>
                  <a:pt x="93" y="310"/>
                </a:cubicBezTo>
                <a:cubicBezTo>
                  <a:pt x="209" y="310"/>
                  <a:pt x="279" y="220"/>
                  <a:pt x="333" y="149"/>
                </a:cubicBezTo>
                <a:cubicBezTo>
                  <a:pt x="370" y="101"/>
                  <a:pt x="404" y="59"/>
                  <a:pt x="437" y="56"/>
                </a:cubicBezTo>
                <a:cubicBezTo>
                  <a:pt x="446" y="56"/>
                  <a:pt x="451" y="51"/>
                  <a:pt x="451" y="42"/>
                </a:cubicBezTo>
                <a:lnTo>
                  <a:pt x="451" y="14"/>
                </a:lnTo>
                <a:cubicBezTo>
                  <a:pt x="451" y="5"/>
                  <a:pt x="446" y="0"/>
                  <a:pt x="437" y="0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09"/>
          <p:cNvSpPr/>
          <p:nvPr/>
        </p:nvSpPr>
        <p:spPr>
          <a:xfrm>
            <a:off x="7580160" y="7566120"/>
            <a:ext cx="78120" cy="135000"/>
          </a:xfrm>
          <a:custGeom>
            <a:avLst/>
            <a:gdLst/>
            <a:ahLst/>
            <a:rect l="l" t="t" r="r" b="b"/>
            <a:pathLst>
              <a:path w="114" h="199">
                <a:moveTo>
                  <a:pt x="57" y="195"/>
                </a:moveTo>
                <a:cubicBezTo>
                  <a:pt x="59" y="195"/>
                  <a:pt x="59" y="198"/>
                  <a:pt x="62" y="198"/>
                </a:cubicBezTo>
                <a:lnTo>
                  <a:pt x="62" y="198"/>
                </a:lnTo>
                <a:cubicBezTo>
                  <a:pt x="65" y="198"/>
                  <a:pt x="71" y="195"/>
                  <a:pt x="74" y="192"/>
                </a:cubicBezTo>
                <a:cubicBezTo>
                  <a:pt x="76" y="189"/>
                  <a:pt x="79" y="181"/>
                  <a:pt x="76" y="178"/>
                </a:cubicBezTo>
                <a:cubicBezTo>
                  <a:pt x="68" y="158"/>
                  <a:pt x="71" y="152"/>
                  <a:pt x="76" y="150"/>
                </a:cubicBezTo>
                <a:cubicBezTo>
                  <a:pt x="79" y="147"/>
                  <a:pt x="82" y="144"/>
                  <a:pt x="85" y="141"/>
                </a:cubicBezTo>
                <a:cubicBezTo>
                  <a:pt x="96" y="130"/>
                  <a:pt x="113" y="116"/>
                  <a:pt x="113" y="85"/>
                </a:cubicBezTo>
                <a:cubicBezTo>
                  <a:pt x="113" y="37"/>
                  <a:pt x="82" y="14"/>
                  <a:pt x="57" y="3"/>
                </a:cubicBezTo>
                <a:cubicBezTo>
                  <a:pt x="54" y="3"/>
                  <a:pt x="54" y="0"/>
                  <a:pt x="51" y="0"/>
                </a:cubicBezTo>
                <a:cubicBezTo>
                  <a:pt x="48" y="0"/>
                  <a:pt x="43" y="0"/>
                  <a:pt x="40" y="6"/>
                </a:cubicBezTo>
                <a:cubicBezTo>
                  <a:pt x="37" y="8"/>
                  <a:pt x="34" y="17"/>
                  <a:pt x="37" y="20"/>
                </a:cubicBezTo>
                <a:cubicBezTo>
                  <a:pt x="40" y="28"/>
                  <a:pt x="43" y="37"/>
                  <a:pt x="43" y="39"/>
                </a:cubicBezTo>
                <a:cubicBezTo>
                  <a:pt x="43" y="45"/>
                  <a:pt x="40" y="48"/>
                  <a:pt x="28" y="56"/>
                </a:cubicBezTo>
                <a:cubicBezTo>
                  <a:pt x="17" y="68"/>
                  <a:pt x="0" y="82"/>
                  <a:pt x="0" y="113"/>
                </a:cubicBezTo>
                <a:cubicBezTo>
                  <a:pt x="0" y="135"/>
                  <a:pt x="9" y="158"/>
                  <a:pt x="26" y="172"/>
                </a:cubicBezTo>
                <a:cubicBezTo>
                  <a:pt x="34" y="183"/>
                  <a:pt x="43" y="189"/>
                  <a:pt x="57" y="19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0"/>
          <p:cNvSpPr/>
          <p:nvPr/>
        </p:nvSpPr>
        <p:spPr>
          <a:xfrm>
            <a:off x="7561440" y="7718400"/>
            <a:ext cx="117360" cy="39600"/>
          </a:xfrm>
          <a:custGeom>
            <a:avLst/>
            <a:gdLst/>
            <a:ahLst/>
            <a:rect l="l" t="t" r="r" b="b"/>
            <a:pathLst>
              <a:path w="170" h="57">
                <a:moveTo>
                  <a:pt x="169" y="56"/>
                </a:moveTo>
                <a:lnTo>
                  <a:pt x="0" y="56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5"/>
                  <a:pt x="169" y="14"/>
                </a:cubicBezTo>
                <a:lnTo>
                  <a:pt x="169" y="56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1"/>
          <p:cNvSpPr/>
          <p:nvPr/>
        </p:nvSpPr>
        <p:spPr>
          <a:xfrm>
            <a:off x="8443800" y="7677000"/>
            <a:ext cx="201600" cy="193680"/>
          </a:xfrm>
          <a:custGeom>
            <a:avLst/>
            <a:gdLst/>
            <a:ahLst/>
            <a:rect l="l" t="t" r="r" b="b"/>
            <a:pathLst>
              <a:path w="294" h="286">
                <a:moveTo>
                  <a:pt x="268" y="197"/>
                </a:moveTo>
                <a:cubicBezTo>
                  <a:pt x="265" y="192"/>
                  <a:pt x="260" y="189"/>
                  <a:pt x="257" y="189"/>
                </a:cubicBezTo>
                <a:lnTo>
                  <a:pt x="231" y="189"/>
                </a:lnTo>
                <a:lnTo>
                  <a:pt x="231" y="163"/>
                </a:lnTo>
                <a:cubicBezTo>
                  <a:pt x="231" y="155"/>
                  <a:pt x="226" y="149"/>
                  <a:pt x="217" y="149"/>
                </a:cubicBezTo>
                <a:lnTo>
                  <a:pt x="192" y="149"/>
                </a:lnTo>
                <a:lnTo>
                  <a:pt x="192" y="124"/>
                </a:lnTo>
                <a:cubicBezTo>
                  <a:pt x="192" y="121"/>
                  <a:pt x="189" y="115"/>
                  <a:pt x="189" y="113"/>
                </a:cubicBezTo>
                <a:lnTo>
                  <a:pt x="82" y="5"/>
                </a:lnTo>
                <a:cubicBezTo>
                  <a:pt x="76" y="0"/>
                  <a:pt x="68" y="0"/>
                  <a:pt x="62" y="5"/>
                </a:cubicBezTo>
                <a:lnTo>
                  <a:pt x="3" y="65"/>
                </a:lnTo>
                <a:cubicBezTo>
                  <a:pt x="0" y="67"/>
                  <a:pt x="0" y="71"/>
                  <a:pt x="0" y="76"/>
                </a:cubicBezTo>
                <a:cubicBezTo>
                  <a:pt x="0" y="82"/>
                  <a:pt x="3" y="84"/>
                  <a:pt x="3" y="87"/>
                </a:cubicBezTo>
                <a:lnTo>
                  <a:pt x="110" y="194"/>
                </a:lnTo>
                <a:cubicBezTo>
                  <a:pt x="113" y="197"/>
                  <a:pt x="116" y="197"/>
                  <a:pt x="121" y="197"/>
                </a:cubicBezTo>
                <a:lnTo>
                  <a:pt x="147" y="197"/>
                </a:lnTo>
                <a:lnTo>
                  <a:pt x="147" y="223"/>
                </a:lnTo>
                <a:cubicBezTo>
                  <a:pt x="147" y="231"/>
                  <a:pt x="152" y="237"/>
                  <a:pt x="161" y="237"/>
                </a:cubicBezTo>
                <a:lnTo>
                  <a:pt x="186" y="237"/>
                </a:lnTo>
                <a:lnTo>
                  <a:pt x="186" y="262"/>
                </a:lnTo>
                <a:cubicBezTo>
                  <a:pt x="186" y="268"/>
                  <a:pt x="189" y="273"/>
                  <a:pt x="195" y="273"/>
                </a:cubicBezTo>
                <a:cubicBezTo>
                  <a:pt x="197" y="276"/>
                  <a:pt x="217" y="285"/>
                  <a:pt x="237" y="285"/>
                </a:cubicBezTo>
                <a:cubicBezTo>
                  <a:pt x="248" y="285"/>
                  <a:pt x="262" y="282"/>
                  <a:pt x="271" y="271"/>
                </a:cubicBezTo>
                <a:cubicBezTo>
                  <a:pt x="293" y="248"/>
                  <a:pt x="271" y="203"/>
                  <a:pt x="268" y="19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2"/>
          <p:cNvSpPr/>
          <p:nvPr/>
        </p:nvSpPr>
        <p:spPr>
          <a:xfrm>
            <a:off x="8464680" y="7677000"/>
            <a:ext cx="177840" cy="185760"/>
          </a:xfrm>
          <a:custGeom>
            <a:avLst/>
            <a:gdLst/>
            <a:ahLst/>
            <a:rect l="l" t="t" r="r" b="b"/>
            <a:pathLst>
              <a:path w="261" h="274">
                <a:moveTo>
                  <a:pt x="234" y="273"/>
                </a:moveTo>
                <a:cubicBezTo>
                  <a:pt x="260" y="248"/>
                  <a:pt x="240" y="203"/>
                  <a:pt x="237" y="197"/>
                </a:cubicBezTo>
                <a:cubicBezTo>
                  <a:pt x="234" y="192"/>
                  <a:pt x="229" y="189"/>
                  <a:pt x="226" y="189"/>
                </a:cubicBezTo>
                <a:lnTo>
                  <a:pt x="200" y="189"/>
                </a:lnTo>
                <a:lnTo>
                  <a:pt x="200" y="163"/>
                </a:lnTo>
                <a:cubicBezTo>
                  <a:pt x="200" y="155"/>
                  <a:pt x="195" y="149"/>
                  <a:pt x="186" y="149"/>
                </a:cubicBezTo>
                <a:lnTo>
                  <a:pt x="161" y="149"/>
                </a:lnTo>
                <a:lnTo>
                  <a:pt x="161" y="124"/>
                </a:lnTo>
                <a:cubicBezTo>
                  <a:pt x="161" y="121"/>
                  <a:pt x="158" y="115"/>
                  <a:pt x="158" y="113"/>
                </a:cubicBezTo>
                <a:lnTo>
                  <a:pt x="51" y="5"/>
                </a:lnTo>
                <a:cubicBezTo>
                  <a:pt x="45" y="0"/>
                  <a:pt x="37" y="0"/>
                  <a:pt x="31" y="5"/>
                </a:cubicBezTo>
                <a:lnTo>
                  <a:pt x="0" y="36"/>
                </a:lnTo>
                <a:lnTo>
                  <a:pt x="234" y="273"/>
                </a:ln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13"/>
          <p:cNvSpPr/>
          <p:nvPr/>
        </p:nvSpPr>
        <p:spPr>
          <a:xfrm>
            <a:off x="8327880" y="7559640"/>
            <a:ext cx="203400" cy="209520"/>
          </a:xfrm>
          <a:custGeom>
            <a:avLst/>
            <a:gdLst/>
            <a:ahLst/>
            <a:rect l="l" t="t" r="r" b="b"/>
            <a:pathLst>
              <a:path w="300" h="309">
                <a:moveTo>
                  <a:pt x="285" y="116"/>
                </a:moveTo>
                <a:lnTo>
                  <a:pt x="206" y="37"/>
                </a:lnTo>
                <a:cubicBezTo>
                  <a:pt x="169" y="0"/>
                  <a:pt x="104" y="0"/>
                  <a:pt x="67" y="37"/>
                </a:cubicBezTo>
                <a:lnTo>
                  <a:pt x="28" y="77"/>
                </a:lnTo>
                <a:cubicBezTo>
                  <a:pt x="8" y="96"/>
                  <a:pt x="0" y="119"/>
                  <a:pt x="0" y="147"/>
                </a:cubicBezTo>
                <a:cubicBezTo>
                  <a:pt x="0" y="175"/>
                  <a:pt x="11" y="198"/>
                  <a:pt x="28" y="218"/>
                </a:cubicBezTo>
                <a:lnTo>
                  <a:pt x="107" y="297"/>
                </a:lnTo>
                <a:cubicBezTo>
                  <a:pt x="115" y="305"/>
                  <a:pt x="127" y="308"/>
                  <a:pt x="138" y="308"/>
                </a:cubicBezTo>
                <a:cubicBezTo>
                  <a:pt x="149" y="308"/>
                  <a:pt x="160" y="302"/>
                  <a:pt x="169" y="297"/>
                </a:cubicBezTo>
                <a:lnTo>
                  <a:pt x="287" y="178"/>
                </a:lnTo>
                <a:cubicBezTo>
                  <a:pt x="296" y="170"/>
                  <a:pt x="299" y="158"/>
                  <a:pt x="299" y="147"/>
                </a:cubicBezTo>
                <a:cubicBezTo>
                  <a:pt x="299" y="133"/>
                  <a:pt x="293" y="122"/>
                  <a:pt x="285" y="11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14"/>
          <p:cNvSpPr/>
          <p:nvPr/>
        </p:nvSpPr>
        <p:spPr>
          <a:xfrm>
            <a:off x="8366040" y="7599240"/>
            <a:ext cx="90720" cy="9216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27" y="54"/>
                </a:moveTo>
                <a:lnTo>
                  <a:pt x="96" y="23"/>
                </a:lnTo>
                <a:cubicBezTo>
                  <a:pt x="74" y="0"/>
                  <a:pt x="37" y="0"/>
                  <a:pt x="17" y="23"/>
                </a:cubicBezTo>
                <a:cubicBezTo>
                  <a:pt x="6" y="34"/>
                  <a:pt x="0" y="48"/>
                  <a:pt x="0" y="62"/>
                </a:cubicBezTo>
                <a:cubicBezTo>
                  <a:pt x="0" y="76"/>
                  <a:pt x="6" y="90"/>
                  <a:pt x="17" y="102"/>
                </a:cubicBezTo>
                <a:lnTo>
                  <a:pt x="48" y="133"/>
                </a:lnTo>
                <a:cubicBezTo>
                  <a:pt x="51" y="135"/>
                  <a:pt x="54" y="135"/>
                  <a:pt x="59" y="135"/>
                </a:cubicBezTo>
                <a:cubicBezTo>
                  <a:pt x="65" y="135"/>
                  <a:pt x="68" y="135"/>
                  <a:pt x="71" y="133"/>
                </a:cubicBezTo>
                <a:lnTo>
                  <a:pt x="130" y="73"/>
                </a:lnTo>
                <a:cubicBezTo>
                  <a:pt x="133" y="70"/>
                  <a:pt x="133" y="59"/>
                  <a:pt x="127" y="54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15"/>
          <p:cNvSpPr/>
          <p:nvPr/>
        </p:nvSpPr>
        <p:spPr>
          <a:xfrm>
            <a:off x="5261040" y="8367840"/>
            <a:ext cx="309600" cy="249120"/>
          </a:xfrm>
          <a:custGeom>
            <a:avLst/>
            <a:gdLst/>
            <a:ahLst/>
            <a:rect l="l" t="t" r="r" b="b"/>
            <a:pathLst>
              <a:path w="455" h="368">
                <a:moveTo>
                  <a:pt x="454" y="43"/>
                </a:moveTo>
                <a:cubicBezTo>
                  <a:pt x="437" y="51"/>
                  <a:pt x="420" y="54"/>
                  <a:pt x="401" y="57"/>
                </a:cubicBezTo>
                <a:cubicBezTo>
                  <a:pt x="420" y="45"/>
                  <a:pt x="434" y="28"/>
                  <a:pt x="440" y="6"/>
                </a:cubicBezTo>
                <a:cubicBezTo>
                  <a:pt x="423" y="17"/>
                  <a:pt x="403" y="23"/>
                  <a:pt x="381" y="28"/>
                </a:cubicBezTo>
                <a:cubicBezTo>
                  <a:pt x="364" y="11"/>
                  <a:pt x="338" y="0"/>
                  <a:pt x="313" y="0"/>
                </a:cubicBezTo>
                <a:cubicBezTo>
                  <a:pt x="262" y="0"/>
                  <a:pt x="220" y="43"/>
                  <a:pt x="220" y="93"/>
                </a:cubicBezTo>
                <a:cubicBezTo>
                  <a:pt x="220" y="102"/>
                  <a:pt x="220" y="107"/>
                  <a:pt x="223" y="113"/>
                </a:cubicBezTo>
                <a:cubicBezTo>
                  <a:pt x="147" y="110"/>
                  <a:pt x="79" y="74"/>
                  <a:pt x="31" y="17"/>
                </a:cubicBezTo>
                <a:cubicBezTo>
                  <a:pt x="22" y="31"/>
                  <a:pt x="20" y="48"/>
                  <a:pt x="20" y="65"/>
                </a:cubicBezTo>
                <a:cubicBezTo>
                  <a:pt x="20" y="96"/>
                  <a:pt x="36" y="124"/>
                  <a:pt x="62" y="141"/>
                </a:cubicBezTo>
                <a:cubicBezTo>
                  <a:pt x="48" y="141"/>
                  <a:pt x="34" y="136"/>
                  <a:pt x="20" y="130"/>
                </a:cubicBezTo>
                <a:lnTo>
                  <a:pt x="20" y="130"/>
                </a:lnTo>
                <a:cubicBezTo>
                  <a:pt x="20" y="175"/>
                  <a:pt x="51" y="212"/>
                  <a:pt x="93" y="220"/>
                </a:cubicBezTo>
                <a:cubicBezTo>
                  <a:pt x="84" y="223"/>
                  <a:pt x="76" y="223"/>
                  <a:pt x="68" y="223"/>
                </a:cubicBezTo>
                <a:cubicBezTo>
                  <a:pt x="62" y="223"/>
                  <a:pt x="56" y="223"/>
                  <a:pt x="51" y="220"/>
                </a:cubicBezTo>
                <a:cubicBezTo>
                  <a:pt x="62" y="257"/>
                  <a:pt x="96" y="285"/>
                  <a:pt x="138" y="285"/>
                </a:cubicBezTo>
                <a:cubicBezTo>
                  <a:pt x="107" y="311"/>
                  <a:pt x="68" y="325"/>
                  <a:pt x="22" y="325"/>
                </a:cubicBezTo>
                <a:cubicBezTo>
                  <a:pt x="14" y="325"/>
                  <a:pt x="8" y="325"/>
                  <a:pt x="0" y="325"/>
                </a:cubicBezTo>
                <a:cubicBezTo>
                  <a:pt x="42" y="350"/>
                  <a:pt x="90" y="367"/>
                  <a:pt x="141" y="367"/>
                </a:cubicBezTo>
                <a:cubicBezTo>
                  <a:pt x="310" y="367"/>
                  <a:pt x="403" y="226"/>
                  <a:pt x="403" y="105"/>
                </a:cubicBezTo>
                <a:cubicBezTo>
                  <a:pt x="403" y="102"/>
                  <a:pt x="403" y="96"/>
                  <a:pt x="403" y="93"/>
                </a:cubicBezTo>
                <a:cubicBezTo>
                  <a:pt x="426" y="79"/>
                  <a:pt x="443" y="62"/>
                  <a:pt x="454" y="43"/>
                </a:cubicBezTo>
              </a:path>
            </a:pathLst>
          </a:custGeom>
          <a:solidFill>
            <a:srgbClr val="03a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16"/>
          <p:cNvSpPr/>
          <p:nvPr/>
        </p:nvSpPr>
        <p:spPr>
          <a:xfrm>
            <a:off x="6031080" y="833292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395" y="0"/>
                </a:moveTo>
                <a:lnTo>
                  <a:pt x="57" y="0"/>
                </a:lnTo>
                <a:cubicBezTo>
                  <a:pt x="26" y="0"/>
                  <a:pt x="0" y="25"/>
                  <a:pt x="0" y="56"/>
                </a:cubicBezTo>
                <a:lnTo>
                  <a:pt x="0" y="395"/>
                </a:lnTo>
                <a:cubicBezTo>
                  <a:pt x="0" y="426"/>
                  <a:pt x="26" y="451"/>
                  <a:pt x="57" y="451"/>
                </a:cubicBezTo>
                <a:lnTo>
                  <a:pt x="395" y="451"/>
                </a:lnTo>
                <a:cubicBezTo>
                  <a:pt x="427" y="451"/>
                  <a:pt x="452" y="426"/>
                  <a:pt x="452" y="395"/>
                </a:cubicBezTo>
                <a:lnTo>
                  <a:pt x="452" y="56"/>
                </a:lnTo>
                <a:cubicBezTo>
                  <a:pt x="452" y="25"/>
                  <a:pt x="427" y="0"/>
                  <a:pt x="395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17"/>
          <p:cNvSpPr/>
          <p:nvPr/>
        </p:nvSpPr>
        <p:spPr>
          <a:xfrm>
            <a:off x="6143760" y="8388360"/>
            <a:ext cx="144360" cy="249120"/>
          </a:xfrm>
          <a:custGeom>
            <a:avLst/>
            <a:gdLst/>
            <a:ahLst/>
            <a:rect l="l" t="t" r="r" b="b"/>
            <a:pathLst>
              <a:path w="212" h="368">
                <a:moveTo>
                  <a:pt x="211" y="142"/>
                </a:moveTo>
                <a:lnTo>
                  <a:pt x="141" y="142"/>
                </a:lnTo>
                <a:lnTo>
                  <a:pt x="141" y="85"/>
                </a:lnTo>
                <a:cubicBezTo>
                  <a:pt x="141" y="68"/>
                  <a:pt x="152" y="71"/>
                  <a:pt x="169" y="71"/>
                </a:cubicBezTo>
                <a:lnTo>
                  <a:pt x="197" y="71"/>
                </a:lnTo>
                <a:lnTo>
                  <a:pt x="197" y="0"/>
                </a:lnTo>
                <a:lnTo>
                  <a:pt x="141" y="0"/>
                </a:lnTo>
                <a:lnTo>
                  <a:pt x="141" y="0"/>
                </a:lnTo>
                <a:cubicBezTo>
                  <a:pt x="93" y="0"/>
                  <a:pt x="56" y="37"/>
                  <a:pt x="56" y="85"/>
                </a:cubicBezTo>
                <a:lnTo>
                  <a:pt x="56" y="142"/>
                </a:lnTo>
                <a:lnTo>
                  <a:pt x="0" y="142"/>
                </a:lnTo>
                <a:lnTo>
                  <a:pt x="0" y="212"/>
                </a:lnTo>
                <a:lnTo>
                  <a:pt x="56" y="212"/>
                </a:lnTo>
                <a:lnTo>
                  <a:pt x="56" y="367"/>
                </a:lnTo>
                <a:lnTo>
                  <a:pt x="141" y="367"/>
                </a:lnTo>
                <a:lnTo>
                  <a:pt x="141" y="212"/>
                </a:lnTo>
                <a:lnTo>
                  <a:pt x="183" y="212"/>
                </a:lnTo>
                <a:lnTo>
                  <a:pt x="211" y="142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18"/>
          <p:cNvSpPr/>
          <p:nvPr/>
        </p:nvSpPr>
        <p:spPr>
          <a:xfrm>
            <a:off x="6792840" y="8388360"/>
            <a:ext cx="311400" cy="212760"/>
          </a:xfrm>
          <a:custGeom>
            <a:avLst/>
            <a:gdLst/>
            <a:ahLst/>
            <a:rect l="l" t="t" r="r" b="b"/>
            <a:pathLst>
              <a:path w="458" h="312">
                <a:moveTo>
                  <a:pt x="437" y="31"/>
                </a:moveTo>
                <a:cubicBezTo>
                  <a:pt x="426" y="9"/>
                  <a:pt x="412" y="6"/>
                  <a:pt x="383" y="3"/>
                </a:cubicBezTo>
                <a:cubicBezTo>
                  <a:pt x="355" y="0"/>
                  <a:pt x="287" y="0"/>
                  <a:pt x="228" y="0"/>
                </a:cubicBezTo>
                <a:cubicBezTo>
                  <a:pt x="169" y="0"/>
                  <a:pt x="101" y="0"/>
                  <a:pt x="73" y="3"/>
                </a:cubicBezTo>
                <a:cubicBezTo>
                  <a:pt x="45" y="6"/>
                  <a:pt x="33" y="9"/>
                  <a:pt x="19" y="31"/>
                </a:cubicBezTo>
                <a:cubicBezTo>
                  <a:pt x="8" y="54"/>
                  <a:pt x="0" y="91"/>
                  <a:pt x="0" y="156"/>
                </a:cubicBezTo>
                <a:lnTo>
                  <a:pt x="0" y="156"/>
                </a:lnTo>
                <a:lnTo>
                  <a:pt x="0" y="156"/>
                </a:lnTo>
                <a:lnTo>
                  <a:pt x="0" y="156"/>
                </a:lnTo>
                <a:cubicBezTo>
                  <a:pt x="0" y="221"/>
                  <a:pt x="5" y="260"/>
                  <a:pt x="19" y="280"/>
                </a:cubicBezTo>
                <a:cubicBezTo>
                  <a:pt x="31" y="302"/>
                  <a:pt x="45" y="305"/>
                  <a:pt x="73" y="308"/>
                </a:cubicBezTo>
                <a:cubicBezTo>
                  <a:pt x="101" y="311"/>
                  <a:pt x="169" y="311"/>
                  <a:pt x="228" y="311"/>
                </a:cubicBezTo>
                <a:cubicBezTo>
                  <a:pt x="287" y="311"/>
                  <a:pt x="355" y="311"/>
                  <a:pt x="383" y="308"/>
                </a:cubicBezTo>
                <a:cubicBezTo>
                  <a:pt x="412" y="305"/>
                  <a:pt x="423" y="303"/>
                  <a:pt x="437" y="280"/>
                </a:cubicBezTo>
                <a:cubicBezTo>
                  <a:pt x="451" y="258"/>
                  <a:pt x="457" y="221"/>
                  <a:pt x="457" y="156"/>
                </a:cubicBezTo>
                <a:lnTo>
                  <a:pt x="457" y="156"/>
                </a:lnTo>
                <a:lnTo>
                  <a:pt x="457" y="156"/>
                </a:lnTo>
                <a:cubicBezTo>
                  <a:pt x="457" y="91"/>
                  <a:pt x="451" y="51"/>
                  <a:pt x="437" y="31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19"/>
          <p:cNvSpPr/>
          <p:nvPr/>
        </p:nvSpPr>
        <p:spPr>
          <a:xfrm>
            <a:off x="6910560" y="8437680"/>
            <a:ext cx="9504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0" y="169"/>
                </a:moveTo>
                <a:lnTo>
                  <a:pt x="0" y="0"/>
                </a:lnTo>
                <a:lnTo>
                  <a:pt x="141" y="85"/>
                </a:lnTo>
                <a:lnTo>
                  <a:pt x="0" y="16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20"/>
          <p:cNvSpPr/>
          <p:nvPr/>
        </p:nvSpPr>
        <p:spPr>
          <a:xfrm>
            <a:off x="7705800" y="8332920"/>
            <a:ext cx="68040" cy="7452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74" y="73"/>
                </a:moveTo>
                <a:cubicBezTo>
                  <a:pt x="88" y="53"/>
                  <a:pt x="99" y="28"/>
                  <a:pt x="96" y="0"/>
                </a:cubicBezTo>
                <a:cubicBezTo>
                  <a:pt x="71" y="3"/>
                  <a:pt x="46" y="17"/>
                  <a:pt x="29" y="36"/>
                </a:cubicBezTo>
                <a:cubicBezTo>
                  <a:pt x="15" y="53"/>
                  <a:pt x="0" y="82"/>
                  <a:pt x="6" y="107"/>
                </a:cubicBezTo>
                <a:cubicBezTo>
                  <a:pt x="31" y="110"/>
                  <a:pt x="60" y="93"/>
                  <a:pt x="74" y="7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1"/>
          <p:cNvSpPr/>
          <p:nvPr/>
        </p:nvSpPr>
        <p:spPr>
          <a:xfrm>
            <a:off x="7577280" y="8404200"/>
            <a:ext cx="268200" cy="233280"/>
          </a:xfrm>
          <a:custGeom>
            <a:avLst/>
            <a:gdLst/>
            <a:ahLst/>
            <a:rect l="l" t="t" r="r" b="b"/>
            <a:pathLst>
              <a:path w="398" h="345">
                <a:moveTo>
                  <a:pt x="383" y="45"/>
                </a:moveTo>
                <a:cubicBezTo>
                  <a:pt x="361" y="17"/>
                  <a:pt x="327" y="0"/>
                  <a:pt x="296" y="0"/>
                </a:cubicBezTo>
                <a:cubicBezTo>
                  <a:pt x="256" y="0"/>
                  <a:pt x="239" y="20"/>
                  <a:pt x="211" y="20"/>
                </a:cubicBezTo>
                <a:cubicBezTo>
                  <a:pt x="183" y="20"/>
                  <a:pt x="161" y="0"/>
                  <a:pt x="127" y="0"/>
                </a:cubicBezTo>
                <a:cubicBezTo>
                  <a:pt x="94" y="0"/>
                  <a:pt x="56" y="20"/>
                  <a:pt x="33" y="56"/>
                </a:cubicBezTo>
                <a:cubicBezTo>
                  <a:pt x="0" y="107"/>
                  <a:pt x="5" y="203"/>
                  <a:pt x="59" y="282"/>
                </a:cubicBezTo>
                <a:cubicBezTo>
                  <a:pt x="79" y="310"/>
                  <a:pt x="104" y="344"/>
                  <a:pt x="135" y="344"/>
                </a:cubicBezTo>
                <a:cubicBezTo>
                  <a:pt x="163" y="344"/>
                  <a:pt x="172" y="325"/>
                  <a:pt x="214" y="325"/>
                </a:cubicBezTo>
                <a:cubicBezTo>
                  <a:pt x="254" y="325"/>
                  <a:pt x="262" y="344"/>
                  <a:pt x="290" y="344"/>
                </a:cubicBezTo>
                <a:cubicBezTo>
                  <a:pt x="324" y="344"/>
                  <a:pt x="349" y="308"/>
                  <a:pt x="369" y="279"/>
                </a:cubicBezTo>
                <a:cubicBezTo>
                  <a:pt x="383" y="260"/>
                  <a:pt x="389" y="248"/>
                  <a:pt x="397" y="226"/>
                </a:cubicBezTo>
                <a:cubicBezTo>
                  <a:pt x="318" y="195"/>
                  <a:pt x="307" y="85"/>
                  <a:pt x="383" y="4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2"/>
          <p:cNvSpPr/>
          <p:nvPr/>
        </p:nvSpPr>
        <p:spPr>
          <a:xfrm>
            <a:off x="8345520" y="8445600"/>
            <a:ext cx="39600" cy="117360"/>
          </a:xfrm>
          <a:custGeom>
            <a:avLst/>
            <a:gdLst/>
            <a:ahLst/>
            <a:rect l="l" t="t" r="r" b="b"/>
            <a:pathLst>
              <a:path w="57" h="170">
                <a:moveTo>
                  <a:pt x="28" y="0"/>
                </a:move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cubicBezTo>
                  <a:pt x="45" y="169"/>
                  <a:pt x="56" y="158"/>
                  <a:pt x="56" y="141"/>
                </a:cubicBezTo>
                <a:lnTo>
                  <a:pt x="56" y="28"/>
                </a:lnTo>
                <a:cubicBezTo>
                  <a:pt x="56" y="11"/>
                  <a:pt x="45" y="0"/>
                  <a:pt x="28" y="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423"/>
          <p:cNvSpPr/>
          <p:nvPr/>
        </p:nvSpPr>
        <p:spPr>
          <a:xfrm>
            <a:off x="8575560" y="8445600"/>
            <a:ext cx="39960" cy="117360"/>
          </a:xfrm>
          <a:custGeom>
            <a:avLst/>
            <a:gdLst/>
            <a:ahLst/>
            <a:rect l="l" t="t" r="r" b="b"/>
            <a:pathLst>
              <a:path w="57" h="170">
                <a:moveTo>
                  <a:pt x="28" y="0"/>
                </a:move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cubicBezTo>
                  <a:pt x="45" y="169"/>
                  <a:pt x="56" y="158"/>
                  <a:pt x="56" y="141"/>
                </a:cubicBezTo>
                <a:lnTo>
                  <a:pt x="56" y="28"/>
                </a:lnTo>
                <a:cubicBezTo>
                  <a:pt x="56" y="11"/>
                  <a:pt x="45" y="0"/>
                  <a:pt x="28" y="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24"/>
          <p:cNvSpPr/>
          <p:nvPr/>
        </p:nvSpPr>
        <p:spPr>
          <a:xfrm>
            <a:off x="8402760" y="8448840"/>
            <a:ext cx="152280" cy="188640"/>
          </a:xfrm>
          <a:custGeom>
            <a:avLst/>
            <a:gdLst/>
            <a:ahLst/>
            <a:rect l="l" t="t" r="r" b="b"/>
            <a:pathLst>
              <a:path w="226" h="280">
                <a:moveTo>
                  <a:pt x="0" y="169"/>
                </a:moveTo>
                <a:cubicBezTo>
                  <a:pt x="0" y="186"/>
                  <a:pt x="11" y="197"/>
                  <a:pt x="28" y="197"/>
                </a:cubicBezTo>
                <a:lnTo>
                  <a:pt x="28" y="251"/>
                </a:lnTo>
                <a:cubicBezTo>
                  <a:pt x="28" y="268"/>
                  <a:pt x="39" y="279"/>
                  <a:pt x="56" y="279"/>
                </a:cubicBezTo>
                <a:cubicBezTo>
                  <a:pt x="73" y="279"/>
                  <a:pt x="84" y="268"/>
                  <a:pt x="84" y="251"/>
                </a:cubicBezTo>
                <a:lnTo>
                  <a:pt x="84" y="197"/>
                </a:lnTo>
                <a:lnTo>
                  <a:pt x="141" y="197"/>
                </a:lnTo>
                <a:lnTo>
                  <a:pt x="141" y="251"/>
                </a:lnTo>
                <a:cubicBezTo>
                  <a:pt x="141" y="268"/>
                  <a:pt x="152" y="279"/>
                  <a:pt x="169" y="279"/>
                </a:cubicBezTo>
                <a:cubicBezTo>
                  <a:pt x="186" y="279"/>
                  <a:pt x="197" y="268"/>
                  <a:pt x="197" y="251"/>
                </a:cubicBezTo>
                <a:lnTo>
                  <a:pt x="197" y="197"/>
                </a:lnTo>
                <a:cubicBezTo>
                  <a:pt x="214" y="197"/>
                  <a:pt x="225" y="186"/>
                  <a:pt x="225" y="169"/>
                </a:cubicBezTo>
                <a:lnTo>
                  <a:pt x="225" y="0"/>
                </a:lnTo>
                <a:lnTo>
                  <a:pt x="0" y="0"/>
                </a:lnTo>
                <a:lnTo>
                  <a:pt x="0" y="169"/>
                </a:ln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25"/>
          <p:cNvSpPr/>
          <p:nvPr/>
        </p:nvSpPr>
        <p:spPr>
          <a:xfrm>
            <a:off x="8402760" y="8329680"/>
            <a:ext cx="152280" cy="98280"/>
          </a:xfrm>
          <a:custGeom>
            <a:avLst/>
            <a:gdLst/>
            <a:ahLst/>
            <a:rect l="l" t="t" r="r" b="b"/>
            <a:pathLst>
              <a:path w="226" h="145">
                <a:moveTo>
                  <a:pt x="183" y="56"/>
                </a:moveTo>
                <a:lnTo>
                  <a:pt x="208" y="25"/>
                </a:lnTo>
                <a:cubicBezTo>
                  <a:pt x="214" y="20"/>
                  <a:pt x="211" y="11"/>
                  <a:pt x="206" y="6"/>
                </a:cubicBezTo>
                <a:cubicBezTo>
                  <a:pt x="200" y="0"/>
                  <a:pt x="192" y="3"/>
                  <a:pt x="186" y="8"/>
                </a:cubicBezTo>
                <a:lnTo>
                  <a:pt x="158" y="42"/>
                </a:lnTo>
                <a:cubicBezTo>
                  <a:pt x="144" y="37"/>
                  <a:pt x="127" y="31"/>
                  <a:pt x="113" y="31"/>
                </a:cubicBezTo>
                <a:cubicBezTo>
                  <a:pt x="96" y="31"/>
                  <a:pt x="79" y="34"/>
                  <a:pt x="65" y="42"/>
                </a:cubicBezTo>
                <a:lnTo>
                  <a:pt x="39" y="8"/>
                </a:lnTo>
                <a:cubicBezTo>
                  <a:pt x="33" y="3"/>
                  <a:pt x="25" y="1"/>
                  <a:pt x="19" y="6"/>
                </a:cubicBezTo>
                <a:cubicBezTo>
                  <a:pt x="14" y="12"/>
                  <a:pt x="11" y="20"/>
                  <a:pt x="17" y="25"/>
                </a:cubicBezTo>
                <a:lnTo>
                  <a:pt x="42" y="56"/>
                </a:lnTo>
                <a:cubicBezTo>
                  <a:pt x="17" y="76"/>
                  <a:pt x="0" y="107"/>
                  <a:pt x="0" y="144"/>
                </a:cubicBezTo>
                <a:lnTo>
                  <a:pt x="225" y="144"/>
                </a:lnTo>
                <a:cubicBezTo>
                  <a:pt x="225" y="107"/>
                  <a:pt x="208" y="76"/>
                  <a:pt x="183" y="56"/>
                </a:cubicBezTo>
                <a:close/>
                <a:moveTo>
                  <a:pt x="84" y="102"/>
                </a:moveTo>
                <a:cubicBezTo>
                  <a:pt x="76" y="102"/>
                  <a:pt x="70" y="96"/>
                  <a:pt x="70" y="87"/>
                </a:cubicBezTo>
                <a:cubicBezTo>
                  <a:pt x="70" y="79"/>
                  <a:pt x="76" y="73"/>
                  <a:pt x="84" y="73"/>
                </a:cubicBezTo>
                <a:cubicBezTo>
                  <a:pt x="93" y="73"/>
                  <a:pt x="98" y="79"/>
                  <a:pt x="98" y="87"/>
                </a:cubicBezTo>
                <a:cubicBezTo>
                  <a:pt x="98" y="96"/>
                  <a:pt x="93" y="102"/>
                  <a:pt x="84" y="102"/>
                </a:cubicBezTo>
                <a:close/>
                <a:moveTo>
                  <a:pt x="141" y="102"/>
                </a:moveTo>
                <a:cubicBezTo>
                  <a:pt x="132" y="102"/>
                  <a:pt x="127" y="96"/>
                  <a:pt x="127" y="87"/>
                </a:cubicBezTo>
                <a:cubicBezTo>
                  <a:pt x="127" y="79"/>
                  <a:pt x="133" y="73"/>
                  <a:pt x="141" y="73"/>
                </a:cubicBezTo>
                <a:cubicBezTo>
                  <a:pt x="150" y="73"/>
                  <a:pt x="155" y="79"/>
                  <a:pt x="155" y="87"/>
                </a:cubicBezTo>
                <a:cubicBezTo>
                  <a:pt x="155" y="96"/>
                  <a:pt x="149" y="102"/>
                  <a:pt x="141" y="102"/>
                </a:cubicBezTo>
                <a:close/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26"/>
          <p:cNvSpPr/>
          <p:nvPr/>
        </p:nvSpPr>
        <p:spPr>
          <a:xfrm>
            <a:off x="1434960" y="8329680"/>
            <a:ext cx="309600" cy="287280"/>
          </a:xfrm>
          <a:custGeom>
            <a:avLst/>
            <a:gdLst/>
            <a:ahLst/>
            <a:rect l="l" t="t" r="r" b="b"/>
            <a:pathLst>
              <a:path w="455" h="424">
                <a:moveTo>
                  <a:pt x="417" y="59"/>
                </a:moveTo>
                <a:lnTo>
                  <a:pt x="141" y="3"/>
                </a:lnTo>
                <a:cubicBezTo>
                  <a:pt x="135" y="3"/>
                  <a:pt x="132" y="0"/>
                  <a:pt x="127" y="0"/>
                </a:cubicBezTo>
                <a:cubicBezTo>
                  <a:pt x="96" y="0"/>
                  <a:pt x="67" y="20"/>
                  <a:pt x="59" y="51"/>
                </a:cubicBezTo>
                <a:lnTo>
                  <a:pt x="3" y="248"/>
                </a:lnTo>
                <a:cubicBezTo>
                  <a:pt x="0" y="254"/>
                  <a:pt x="0" y="262"/>
                  <a:pt x="0" y="268"/>
                </a:cubicBezTo>
                <a:cubicBezTo>
                  <a:pt x="0" y="308"/>
                  <a:pt x="31" y="339"/>
                  <a:pt x="70" y="339"/>
                </a:cubicBezTo>
                <a:cubicBezTo>
                  <a:pt x="73" y="339"/>
                  <a:pt x="76" y="339"/>
                  <a:pt x="76" y="339"/>
                </a:cubicBezTo>
                <a:lnTo>
                  <a:pt x="279" y="322"/>
                </a:lnTo>
                <a:lnTo>
                  <a:pt x="310" y="415"/>
                </a:lnTo>
                <a:cubicBezTo>
                  <a:pt x="313" y="420"/>
                  <a:pt x="318" y="423"/>
                  <a:pt x="324" y="423"/>
                </a:cubicBezTo>
                <a:cubicBezTo>
                  <a:pt x="329" y="423"/>
                  <a:pt x="336" y="420"/>
                  <a:pt x="338" y="415"/>
                </a:cubicBezTo>
                <a:lnTo>
                  <a:pt x="372" y="316"/>
                </a:lnTo>
                <a:lnTo>
                  <a:pt x="415" y="313"/>
                </a:lnTo>
                <a:cubicBezTo>
                  <a:pt x="437" y="310"/>
                  <a:pt x="454" y="293"/>
                  <a:pt x="454" y="271"/>
                </a:cubicBezTo>
                <a:lnTo>
                  <a:pt x="454" y="102"/>
                </a:lnTo>
                <a:cubicBezTo>
                  <a:pt x="451" y="82"/>
                  <a:pt x="437" y="65"/>
                  <a:pt x="417" y="59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7"/>
          <p:cNvSpPr/>
          <p:nvPr/>
        </p:nvSpPr>
        <p:spPr>
          <a:xfrm>
            <a:off x="2300400" y="8535960"/>
            <a:ext cx="114120" cy="101520"/>
          </a:xfrm>
          <a:custGeom>
            <a:avLst/>
            <a:gdLst/>
            <a:ahLst/>
            <a:rect l="l" t="t" r="r" b="b"/>
            <a:pathLst>
              <a:path w="168" h="150">
                <a:moveTo>
                  <a:pt x="167" y="130"/>
                </a:moveTo>
                <a:lnTo>
                  <a:pt x="113" y="11"/>
                </a:lnTo>
                <a:cubicBezTo>
                  <a:pt x="110" y="5"/>
                  <a:pt x="102" y="0"/>
                  <a:pt x="96" y="3"/>
                </a:cubicBezTo>
                <a:lnTo>
                  <a:pt x="9" y="36"/>
                </a:lnTo>
                <a:cubicBezTo>
                  <a:pt x="3" y="39"/>
                  <a:pt x="0" y="43"/>
                  <a:pt x="0" y="48"/>
                </a:cubicBezTo>
                <a:cubicBezTo>
                  <a:pt x="0" y="54"/>
                  <a:pt x="3" y="59"/>
                  <a:pt x="6" y="62"/>
                </a:cubicBezTo>
                <a:lnTo>
                  <a:pt x="147" y="146"/>
                </a:lnTo>
                <a:cubicBezTo>
                  <a:pt x="150" y="146"/>
                  <a:pt x="153" y="149"/>
                  <a:pt x="156" y="149"/>
                </a:cubicBezTo>
                <a:cubicBezTo>
                  <a:pt x="158" y="149"/>
                  <a:pt x="161" y="149"/>
                  <a:pt x="164" y="146"/>
                </a:cubicBezTo>
                <a:cubicBezTo>
                  <a:pt x="167" y="141"/>
                  <a:pt x="167" y="135"/>
                  <a:pt x="167" y="13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428"/>
          <p:cNvSpPr/>
          <p:nvPr/>
        </p:nvSpPr>
        <p:spPr>
          <a:xfrm>
            <a:off x="2297160" y="8485200"/>
            <a:ext cx="173160" cy="95400"/>
          </a:xfrm>
          <a:custGeom>
            <a:avLst/>
            <a:gdLst/>
            <a:ahLst/>
            <a:rect l="l" t="t" r="r" b="b"/>
            <a:pathLst>
              <a:path w="257" h="142">
                <a:moveTo>
                  <a:pt x="242" y="26"/>
                </a:moveTo>
                <a:lnTo>
                  <a:pt x="79" y="0"/>
                </a:lnTo>
                <a:cubicBezTo>
                  <a:pt x="73" y="0"/>
                  <a:pt x="67" y="3"/>
                  <a:pt x="65" y="9"/>
                </a:cubicBezTo>
                <a:lnTo>
                  <a:pt x="2" y="119"/>
                </a:lnTo>
                <a:cubicBezTo>
                  <a:pt x="0" y="124"/>
                  <a:pt x="0" y="130"/>
                  <a:pt x="5" y="136"/>
                </a:cubicBezTo>
                <a:cubicBezTo>
                  <a:pt x="8" y="139"/>
                  <a:pt x="11" y="141"/>
                  <a:pt x="17" y="141"/>
                </a:cubicBezTo>
                <a:cubicBezTo>
                  <a:pt x="19" y="141"/>
                  <a:pt x="19" y="141"/>
                  <a:pt x="22" y="141"/>
                </a:cubicBezTo>
                <a:lnTo>
                  <a:pt x="248" y="57"/>
                </a:lnTo>
                <a:cubicBezTo>
                  <a:pt x="254" y="54"/>
                  <a:pt x="256" y="48"/>
                  <a:pt x="256" y="43"/>
                </a:cubicBezTo>
                <a:cubicBezTo>
                  <a:pt x="254" y="31"/>
                  <a:pt x="248" y="26"/>
                  <a:pt x="242" y="26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429"/>
          <p:cNvSpPr/>
          <p:nvPr/>
        </p:nvSpPr>
        <p:spPr>
          <a:xfrm>
            <a:off x="2201760" y="8332920"/>
            <a:ext cx="308160" cy="190440"/>
          </a:xfrm>
          <a:custGeom>
            <a:avLst/>
            <a:gdLst/>
            <a:ahLst/>
            <a:rect l="l" t="t" r="r" b="b"/>
            <a:pathLst>
              <a:path w="455" h="283">
                <a:moveTo>
                  <a:pt x="451" y="34"/>
                </a:moveTo>
                <a:cubicBezTo>
                  <a:pt x="448" y="31"/>
                  <a:pt x="446" y="28"/>
                  <a:pt x="440" y="28"/>
                </a:cubicBezTo>
                <a:lnTo>
                  <a:pt x="17" y="0"/>
                </a:lnTo>
                <a:cubicBezTo>
                  <a:pt x="14" y="0"/>
                  <a:pt x="7" y="1"/>
                  <a:pt x="5" y="3"/>
                </a:cubicBezTo>
                <a:cubicBezTo>
                  <a:pt x="2" y="6"/>
                  <a:pt x="0" y="8"/>
                  <a:pt x="0" y="14"/>
                </a:cubicBezTo>
                <a:lnTo>
                  <a:pt x="0" y="211"/>
                </a:lnTo>
                <a:cubicBezTo>
                  <a:pt x="0" y="217"/>
                  <a:pt x="5" y="226"/>
                  <a:pt x="11" y="226"/>
                </a:cubicBezTo>
                <a:lnTo>
                  <a:pt x="378" y="282"/>
                </a:lnTo>
                <a:lnTo>
                  <a:pt x="381" y="282"/>
                </a:lnTo>
                <a:cubicBezTo>
                  <a:pt x="386" y="282"/>
                  <a:pt x="392" y="276"/>
                  <a:pt x="395" y="271"/>
                </a:cubicBezTo>
                <a:lnTo>
                  <a:pt x="451" y="45"/>
                </a:lnTo>
                <a:cubicBezTo>
                  <a:pt x="454" y="42"/>
                  <a:pt x="454" y="36"/>
                  <a:pt x="451" y="3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430"/>
          <p:cNvSpPr/>
          <p:nvPr/>
        </p:nvSpPr>
        <p:spPr>
          <a:xfrm>
            <a:off x="3733920" y="8542440"/>
            <a:ext cx="307800" cy="95040"/>
          </a:xfrm>
          <a:custGeom>
            <a:avLst/>
            <a:gdLst/>
            <a:ahLst/>
            <a:rect l="l" t="t" r="r" b="b"/>
            <a:pathLst>
              <a:path w="453" h="142">
                <a:moveTo>
                  <a:pt x="0" y="0"/>
                </a:moveTo>
                <a:lnTo>
                  <a:pt x="226" y="141"/>
                </a:lnTo>
                <a:lnTo>
                  <a:pt x="452" y="0"/>
                </a:lnTo>
                <a:lnTo>
                  <a:pt x="0" y="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31"/>
          <p:cNvSpPr/>
          <p:nvPr/>
        </p:nvSpPr>
        <p:spPr>
          <a:xfrm>
            <a:off x="3733920" y="8332920"/>
            <a:ext cx="152280" cy="307800"/>
          </a:xfrm>
          <a:custGeom>
            <a:avLst/>
            <a:gdLst/>
            <a:ahLst/>
            <a:rect l="l" t="t" r="r" b="b"/>
            <a:pathLst>
              <a:path w="227" h="452">
                <a:moveTo>
                  <a:pt x="0" y="310"/>
                </a:moveTo>
                <a:lnTo>
                  <a:pt x="226" y="451"/>
                </a:lnTo>
                <a:lnTo>
                  <a:pt x="226" y="0"/>
                </a:lnTo>
                <a:lnTo>
                  <a:pt x="0" y="310"/>
                </a:ln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32"/>
          <p:cNvSpPr/>
          <p:nvPr/>
        </p:nvSpPr>
        <p:spPr>
          <a:xfrm>
            <a:off x="3886200" y="8332920"/>
            <a:ext cx="152280" cy="307800"/>
          </a:xfrm>
          <a:custGeom>
            <a:avLst/>
            <a:gdLst/>
            <a:ahLst/>
            <a:rect l="l" t="t" r="r" b="b"/>
            <a:pathLst>
              <a:path w="227" h="452">
                <a:moveTo>
                  <a:pt x="226" y="310"/>
                </a:moveTo>
                <a:lnTo>
                  <a:pt x="0" y="451"/>
                </a:lnTo>
                <a:lnTo>
                  <a:pt x="0" y="0"/>
                </a:lnTo>
                <a:lnTo>
                  <a:pt x="226" y="31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33"/>
          <p:cNvSpPr/>
          <p:nvPr/>
        </p:nvSpPr>
        <p:spPr>
          <a:xfrm>
            <a:off x="3044880" y="833292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169" y="338"/>
                </a:moveTo>
                <a:lnTo>
                  <a:pt x="0" y="338"/>
                </a:lnTo>
                <a:lnTo>
                  <a:pt x="0" y="0"/>
                </a:lnTo>
                <a:lnTo>
                  <a:pt x="339" y="0"/>
                </a:lnTo>
                <a:lnTo>
                  <a:pt x="339" y="338"/>
                </a:lnTo>
                <a:lnTo>
                  <a:pt x="169" y="338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34"/>
          <p:cNvSpPr/>
          <p:nvPr/>
        </p:nvSpPr>
        <p:spPr>
          <a:xfrm>
            <a:off x="2967120" y="855972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339" y="113"/>
                </a:moveTo>
                <a:lnTo>
                  <a:pt x="0" y="113"/>
                </a:lnTo>
                <a:lnTo>
                  <a:pt x="113" y="0"/>
                </a:lnTo>
                <a:lnTo>
                  <a:pt x="452" y="0"/>
                </a:lnTo>
                <a:lnTo>
                  <a:pt x="339" y="113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35"/>
          <p:cNvSpPr/>
          <p:nvPr/>
        </p:nvSpPr>
        <p:spPr>
          <a:xfrm>
            <a:off x="2967120" y="840744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170" y="338"/>
                </a:moveTo>
                <a:lnTo>
                  <a:pt x="0" y="338"/>
                </a:lnTo>
                <a:lnTo>
                  <a:pt x="0" y="0"/>
                </a:lnTo>
                <a:lnTo>
                  <a:pt x="339" y="0"/>
                </a:lnTo>
                <a:lnTo>
                  <a:pt x="339" y="338"/>
                </a:lnTo>
                <a:lnTo>
                  <a:pt x="170" y="338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36"/>
          <p:cNvSpPr/>
          <p:nvPr/>
        </p:nvSpPr>
        <p:spPr>
          <a:xfrm>
            <a:off x="3197160" y="8332920"/>
            <a:ext cx="77760" cy="307800"/>
          </a:xfrm>
          <a:custGeom>
            <a:avLst/>
            <a:gdLst/>
            <a:ahLst/>
            <a:rect l="l" t="t" r="r" b="b"/>
            <a:pathLst>
              <a:path w="114" h="452">
                <a:moveTo>
                  <a:pt x="113" y="338"/>
                </a:moveTo>
                <a:lnTo>
                  <a:pt x="0" y="451"/>
                </a:lnTo>
                <a:lnTo>
                  <a:pt x="0" y="113"/>
                </a:lnTo>
                <a:lnTo>
                  <a:pt x="113" y="0"/>
                </a:lnTo>
                <a:lnTo>
                  <a:pt x="113" y="338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37"/>
          <p:cNvSpPr/>
          <p:nvPr/>
        </p:nvSpPr>
        <p:spPr>
          <a:xfrm>
            <a:off x="2967120" y="833292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339" y="113"/>
                </a:moveTo>
                <a:lnTo>
                  <a:pt x="0" y="113"/>
                </a:lnTo>
                <a:lnTo>
                  <a:pt x="113" y="0"/>
                </a:lnTo>
                <a:lnTo>
                  <a:pt x="452" y="0"/>
                </a:lnTo>
                <a:lnTo>
                  <a:pt x="339" y="113"/>
                </a:ln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38"/>
          <p:cNvSpPr/>
          <p:nvPr/>
        </p:nvSpPr>
        <p:spPr>
          <a:xfrm>
            <a:off x="4516560" y="8332920"/>
            <a:ext cx="260280" cy="307800"/>
          </a:xfrm>
          <a:custGeom>
            <a:avLst/>
            <a:gdLst/>
            <a:ahLst/>
            <a:rect l="l" t="t" r="r" b="b"/>
            <a:pathLst>
              <a:path w="382" h="452">
                <a:moveTo>
                  <a:pt x="378" y="276"/>
                </a:moveTo>
                <a:lnTo>
                  <a:pt x="339" y="194"/>
                </a:lnTo>
                <a:lnTo>
                  <a:pt x="339" y="169"/>
                </a:lnTo>
                <a:cubicBezTo>
                  <a:pt x="339" y="76"/>
                  <a:pt x="262" y="0"/>
                  <a:pt x="169" y="0"/>
                </a:cubicBezTo>
                <a:cubicBezTo>
                  <a:pt x="75" y="0"/>
                  <a:pt x="0" y="76"/>
                  <a:pt x="0" y="169"/>
                </a:cubicBezTo>
                <a:cubicBezTo>
                  <a:pt x="0" y="209"/>
                  <a:pt x="14" y="245"/>
                  <a:pt x="40" y="276"/>
                </a:cubicBezTo>
                <a:cubicBezTo>
                  <a:pt x="48" y="285"/>
                  <a:pt x="57" y="302"/>
                  <a:pt x="57" y="321"/>
                </a:cubicBezTo>
                <a:lnTo>
                  <a:pt x="57" y="409"/>
                </a:lnTo>
                <a:cubicBezTo>
                  <a:pt x="57" y="415"/>
                  <a:pt x="62" y="423"/>
                  <a:pt x="68" y="423"/>
                </a:cubicBezTo>
                <a:lnTo>
                  <a:pt x="237" y="451"/>
                </a:lnTo>
                <a:lnTo>
                  <a:pt x="240" y="451"/>
                </a:lnTo>
                <a:cubicBezTo>
                  <a:pt x="243" y="451"/>
                  <a:pt x="246" y="451"/>
                  <a:pt x="248" y="448"/>
                </a:cubicBezTo>
                <a:cubicBezTo>
                  <a:pt x="251" y="446"/>
                  <a:pt x="254" y="443"/>
                  <a:pt x="254" y="437"/>
                </a:cubicBezTo>
                <a:lnTo>
                  <a:pt x="254" y="384"/>
                </a:lnTo>
                <a:lnTo>
                  <a:pt x="305" y="392"/>
                </a:lnTo>
                <a:cubicBezTo>
                  <a:pt x="313" y="392"/>
                  <a:pt x="322" y="392"/>
                  <a:pt x="327" y="386"/>
                </a:cubicBezTo>
                <a:cubicBezTo>
                  <a:pt x="333" y="381"/>
                  <a:pt x="339" y="372"/>
                  <a:pt x="339" y="364"/>
                </a:cubicBezTo>
                <a:lnTo>
                  <a:pt x="339" y="296"/>
                </a:lnTo>
                <a:lnTo>
                  <a:pt x="367" y="296"/>
                </a:lnTo>
                <a:cubicBezTo>
                  <a:pt x="373" y="296"/>
                  <a:pt x="375" y="293"/>
                  <a:pt x="378" y="290"/>
                </a:cubicBezTo>
                <a:cubicBezTo>
                  <a:pt x="381" y="285"/>
                  <a:pt x="381" y="279"/>
                  <a:pt x="378" y="27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39"/>
          <p:cNvSpPr/>
          <p:nvPr/>
        </p:nvSpPr>
        <p:spPr>
          <a:xfrm>
            <a:off x="4594320" y="8367840"/>
            <a:ext cx="20520" cy="396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40"/>
          <p:cNvSpPr/>
          <p:nvPr/>
        </p:nvSpPr>
        <p:spPr>
          <a:xfrm>
            <a:off x="4633920" y="83678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1"/>
          <p:cNvSpPr/>
          <p:nvPr/>
        </p:nvSpPr>
        <p:spPr>
          <a:xfrm>
            <a:off x="4594320" y="846468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42"/>
          <p:cNvSpPr/>
          <p:nvPr/>
        </p:nvSpPr>
        <p:spPr>
          <a:xfrm>
            <a:off x="4633920" y="8464680"/>
            <a:ext cx="20520" cy="378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43"/>
          <p:cNvSpPr/>
          <p:nvPr/>
        </p:nvSpPr>
        <p:spPr>
          <a:xfrm>
            <a:off x="455616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44"/>
          <p:cNvSpPr/>
          <p:nvPr/>
        </p:nvSpPr>
        <p:spPr>
          <a:xfrm>
            <a:off x="455616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45"/>
          <p:cNvSpPr/>
          <p:nvPr/>
        </p:nvSpPr>
        <p:spPr>
          <a:xfrm>
            <a:off x="4651200" y="8445600"/>
            <a:ext cx="399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46"/>
          <p:cNvSpPr/>
          <p:nvPr/>
        </p:nvSpPr>
        <p:spPr>
          <a:xfrm>
            <a:off x="4651200" y="8407440"/>
            <a:ext cx="399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47"/>
          <p:cNvSpPr/>
          <p:nvPr/>
        </p:nvSpPr>
        <p:spPr>
          <a:xfrm>
            <a:off x="4576680" y="8388360"/>
            <a:ext cx="95400" cy="96840"/>
          </a:xfrm>
          <a:custGeom>
            <a:avLst/>
            <a:gdLst/>
            <a:ahLst/>
            <a:rect l="l" t="t" r="r" b="b"/>
            <a:pathLst>
              <a:path w="142" h="143">
                <a:moveTo>
                  <a:pt x="127" y="0"/>
                </a:move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5" y="142"/>
                  <a:pt x="14" y="142"/>
                </a:cubicBezTo>
                <a:lnTo>
                  <a:pt x="127" y="142"/>
                </a:lnTo>
                <a:cubicBezTo>
                  <a:pt x="135" y="142"/>
                  <a:pt x="141" y="136"/>
                  <a:pt x="141" y="127"/>
                </a:cubicBezTo>
                <a:lnTo>
                  <a:pt x="141" y="15"/>
                </a:lnTo>
                <a:cubicBezTo>
                  <a:pt x="141" y="6"/>
                  <a:pt x="135" y="0"/>
                  <a:pt x="127" y="0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448"/>
          <p:cNvSpPr/>
          <p:nvPr/>
        </p:nvSpPr>
        <p:spPr>
          <a:xfrm>
            <a:off x="8450280" y="245412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0"/>
                </a:moveTo>
                <a:cubicBezTo>
                  <a:pt x="62" y="0"/>
                  <a:pt x="57" y="6"/>
                  <a:pt x="57" y="14"/>
                </a:cubicBezTo>
                <a:lnTo>
                  <a:pt x="28" y="14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71" y="85"/>
                </a:lnTo>
                <a:cubicBezTo>
                  <a:pt x="79" y="85"/>
                  <a:pt x="85" y="79"/>
                  <a:pt x="85" y="71"/>
                </a:cubicBezTo>
                <a:lnTo>
                  <a:pt x="85" y="14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449"/>
          <p:cNvSpPr/>
          <p:nvPr/>
        </p:nvSpPr>
        <p:spPr>
          <a:xfrm>
            <a:off x="8362800" y="2349360"/>
            <a:ext cx="233640" cy="125640"/>
          </a:xfrm>
          <a:custGeom>
            <a:avLst/>
            <a:gdLst/>
            <a:ahLst/>
            <a:rect l="l" t="t" r="r" b="b"/>
            <a:pathLst>
              <a:path w="343" h="185">
                <a:moveTo>
                  <a:pt x="342" y="147"/>
                </a:moveTo>
                <a:cubicBezTo>
                  <a:pt x="339" y="150"/>
                  <a:pt x="336" y="153"/>
                  <a:pt x="333" y="155"/>
                </a:cubicBezTo>
                <a:cubicBezTo>
                  <a:pt x="271" y="175"/>
                  <a:pt x="224" y="184"/>
                  <a:pt x="173" y="184"/>
                </a:cubicBezTo>
                <a:cubicBezTo>
                  <a:pt x="123" y="184"/>
                  <a:pt x="74" y="175"/>
                  <a:pt x="12" y="155"/>
                </a:cubicBezTo>
                <a:cubicBezTo>
                  <a:pt x="9" y="155"/>
                  <a:pt x="3" y="150"/>
                  <a:pt x="3" y="147"/>
                </a:cubicBezTo>
                <a:cubicBezTo>
                  <a:pt x="0" y="144"/>
                  <a:pt x="3" y="138"/>
                  <a:pt x="3" y="136"/>
                </a:cubicBezTo>
                <a:lnTo>
                  <a:pt x="26" y="93"/>
                </a:lnTo>
                <a:lnTo>
                  <a:pt x="54" y="42"/>
                </a:lnTo>
                <a:lnTo>
                  <a:pt x="74" y="9"/>
                </a:lnTo>
                <a:cubicBezTo>
                  <a:pt x="77" y="3"/>
                  <a:pt x="82" y="0"/>
                  <a:pt x="85" y="0"/>
                </a:cubicBezTo>
                <a:lnTo>
                  <a:pt x="257" y="0"/>
                </a:lnTo>
                <a:cubicBezTo>
                  <a:pt x="263" y="0"/>
                  <a:pt x="266" y="3"/>
                  <a:pt x="268" y="9"/>
                </a:cubicBezTo>
                <a:lnTo>
                  <a:pt x="288" y="42"/>
                </a:lnTo>
                <a:lnTo>
                  <a:pt x="316" y="93"/>
                </a:lnTo>
                <a:lnTo>
                  <a:pt x="339" y="136"/>
                </a:lnTo>
                <a:cubicBezTo>
                  <a:pt x="342" y="138"/>
                  <a:pt x="342" y="141"/>
                  <a:pt x="342" y="147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50"/>
          <p:cNvSpPr/>
          <p:nvPr/>
        </p:nvSpPr>
        <p:spPr>
          <a:xfrm>
            <a:off x="8385120" y="2203560"/>
            <a:ext cx="190440" cy="172800"/>
          </a:xfrm>
          <a:custGeom>
            <a:avLst/>
            <a:gdLst/>
            <a:ahLst/>
            <a:rect l="l" t="t" r="r" b="b"/>
            <a:pathLst>
              <a:path w="284" h="255">
                <a:moveTo>
                  <a:pt x="283" y="217"/>
                </a:moveTo>
                <a:cubicBezTo>
                  <a:pt x="283" y="220"/>
                  <a:pt x="280" y="223"/>
                  <a:pt x="274" y="225"/>
                </a:cubicBezTo>
                <a:cubicBezTo>
                  <a:pt x="232" y="245"/>
                  <a:pt x="188" y="254"/>
                  <a:pt x="142" y="254"/>
                </a:cubicBezTo>
                <a:cubicBezTo>
                  <a:pt x="97" y="254"/>
                  <a:pt x="51" y="242"/>
                  <a:pt x="9" y="225"/>
                </a:cubicBezTo>
                <a:cubicBezTo>
                  <a:pt x="6" y="223"/>
                  <a:pt x="3" y="220"/>
                  <a:pt x="0" y="217"/>
                </a:cubicBezTo>
                <a:cubicBezTo>
                  <a:pt x="0" y="214"/>
                  <a:pt x="0" y="209"/>
                  <a:pt x="3" y="206"/>
                </a:cubicBezTo>
                <a:lnTo>
                  <a:pt x="29" y="166"/>
                </a:lnTo>
                <a:lnTo>
                  <a:pt x="60" y="115"/>
                </a:lnTo>
                <a:lnTo>
                  <a:pt x="130" y="8"/>
                </a:lnTo>
                <a:cubicBezTo>
                  <a:pt x="136" y="0"/>
                  <a:pt x="150" y="0"/>
                  <a:pt x="153" y="8"/>
                </a:cubicBezTo>
                <a:lnTo>
                  <a:pt x="223" y="115"/>
                </a:lnTo>
                <a:lnTo>
                  <a:pt x="254" y="166"/>
                </a:lnTo>
                <a:lnTo>
                  <a:pt x="280" y="206"/>
                </a:lnTo>
                <a:cubicBezTo>
                  <a:pt x="283" y="209"/>
                  <a:pt x="283" y="214"/>
                  <a:pt x="283" y="217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51"/>
          <p:cNvSpPr/>
          <p:nvPr/>
        </p:nvSpPr>
        <p:spPr>
          <a:xfrm>
            <a:off x="8537400" y="2416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5"/>
                  <a:pt x="28" y="14"/>
                </a:cubicBezTo>
                <a:cubicBezTo>
                  <a:pt x="28" y="22"/>
                  <a:pt x="23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52"/>
          <p:cNvSpPr/>
          <p:nvPr/>
        </p:nvSpPr>
        <p:spPr>
          <a:xfrm>
            <a:off x="8497800" y="2397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453"/>
          <p:cNvSpPr/>
          <p:nvPr/>
        </p:nvSpPr>
        <p:spPr>
          <a:xfrm>
            <a:off x="8459640" y="241632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54"/>
          <p:cNvSpPr/>
          <p:nvPr/>
        </p:nvSpPr>
        <p:spPr>
          <a:xfrm>
            <a:off x="842328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55"/>
          <p:cNvSpPr/>
          <p:nvPr/>
        </p:nvSpPr>
        <p:spPr>
          <a:xfrm>
            <a:off x="8497800" y="23018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56"/>
          <p:cNvSpPr/>
          <p:nvPr/>
        </p:nvSpPr>
        <p:spPr>
          <a:xfrm>
            <a:off x="8459640" y="231948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57"/>
          <p:cNvSpPr/>
          <p:nvPr/>
        </p:nvSpPr>
        <p:spPr>
          <a:xfrm>
            <a:off x="8459640" y="2284560"/>
            <a:ext cx="2088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4" y="29"/>
                </a:move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6"/>
                  <a:pt x="29" y="15"/>
                </a:cubicBezTo>
                <a:cubicBezTo>
                  <a:pt x="29" y="23"/>
                  <a:pt x="23" y="29"/>
                  <a:pt x="14" y="2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58"/>
          <p:cNvSpPr/>
          <p:nvPr/>
        </p:nvSpPr>
        <p:spPr>
          <a:xfrm>
            <a:off x="2986200" y="2206800"/>
            <a:ext cx="258480" cy="307800"/>
          </a:xfrm>
          <a:custGeom>
            <a:avLst/>
            <a:gdLst/>
            <a:ahLst/>
            <a:rect l="l" t="t" r="r" b="b"/>
            <a:pathLst>
              <a:path w="384" h="452">
                <a:moveTo>
                  <a:pt x="381" y="276"/>
                </a:moveTo>
                <a:lnTo>
                  <a:pt x="358" y="228"/>
                </a:lnTo>
                <a:lnTo>
                  <a:pt x="327" y="104"/>
                </a:lnTo>
                <a:cubicBezTo>
                  <a:pt x="302" y="39"/>
                  <a:pt x="240" y="0"/>
                  <a:pt x="169" y="0"/>
                </a:cubicBezTo>
                <a:cubicBezTo>
                  <a:pt x="76" y="0"/>
                  <a:pt x="0" y="76"/>
                  <a:pt x="0" y="169"/>
                </a:cubicBezTo>
                <a:cubicBezTo>
                  <a:pt x="0" y="208"/>
                  <a:pt x="14" y="248"/>
                  <a:pt x="39" y="276"/>
                </a:cubicBezTo>
                <a:cubicBezTo>
                  <a:pt x="48" y="285"/>
                  <a:pt x="56" y="301"/>
                  <a:pt x="56" y="321"/>
                </a:cubicBezTo>
                <a:lnTo>
                  <a:pt x="56" y="409"/>
                </a:lnTo>
                <a:cubicBezTo>
                  <a:pt x="56" y="414"/>
                  <a:pt x="62" y="423"/>
                  <a:pt x="67" y="423"/>
                </a:cubicBezTo>
                <a:lnTo>
                  <a:pt x="237" y="451"/>
                </a:lnTo>
                <a:lnTo>
                  <a:pt x="240" y="451"/>
                </a:lnTo>
                <a:cubicBezTo>
                  <a:pt x="242" y="451"/>
                  <a:pt x="245" y="451"/>
                  <a:pt x="248" y="448"/>
                </a:cubicBezTo>
                <a:cubicBezTo>
                  <a:pt x="251" y="445"/>
                  <a:pt x="254" y="443"/>
                  <a:pt x="254" y="437"/>
                </a:cubicBezTo>
                <a:lnTo>
                  <a:pt x="254" y="383"/>
                </a:lnTo>
                <a:lnTo>
                  <a:pt x="304" y="392"/>
                </a:lnTo>
                <a:cubicBezTo>
                  <a:pt x="313" y="392"/>
                  <a:pt x="321" y="392"/>
                  <a:pt x="327" y="386"/>
                </a:cubicBezTo>
                <a:cubicBezTo>
                  <a:pt x="333" y="380"/>
                  <a:pt x="338" y="372"/>
                  <a:pt x="338" y="364"/>
                </a:cubicBezTo>
                <a:lnTo>
                  <a:pt x="338" y="296"/>
                </a:lnTo>
                <a:lnTo>
                  <a:pt x="367" y="296"/>
                </a:lnTo>
                <a:cubicBezTo>
                  <a:pt x="372" y="296"/>
                  <a:pt x="375" y="293"/>
                  <a:pt x="378" y="290"/>
                </a:cubicBezTo>
                <a:cubicBezTo>
                  <a:pt x="383" y="285"/>
                  <a:pt x="383" y="279"/>
                  <a:pt x="381" y="27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59"/>
          <p:cNvSpPr/>
          <p:nvPr/>
        </p:nvSpPr>
        <p:spPr>
          <a:xfrm>
            <a:off x="2967120" y="2301840"/>
            <a:ext cx="152280" cy="38160"/>
          </a:xfrm>
          <a:custGeom>
            <a:avLst/>
            <a:gdLst/>
            <a:ahLst/>
            <a:rect l="l" t="t" r="r" b="b"/>
            <a:pathLst>
              <a:path w="227" h="57">
                <a:moveTo>
                  <a:pt x="226" y="56"/>
                </a:moveTo>
                <a:lnTo>
                  <a:pt x="29" y="56"/>
                </a:lnTo>
                <a:cubicBezTo>
                  <a:pt x="12" y="56"/>
                  <a:pt x="0" y="45"/>
                  <a:pt x="0" y="28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226" y="0"/>
                </a:lnTo>
                <a:lnTo>
                  <a:pt x="226" y="56"/>
                </a:ln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60"/>
          <p:cNvSpPr/>
          <p:nvPr/>
        </p:nvSpPr>
        <p:spPr>
          <a:xfrm>
            <a:off x="3119400" y="2262240"/>
            <a:ext cx="135000" cy="117360"/>
          </a:xfrm>
          <a:custGeom>
            <a:avLst/>
            <a:gdLst/>
            <a:ahLst/>
            <a:rect l="l" t="t" r="r" b="b"/>
            <a:pathLst>
              <a:path w="199" h="170">
                <a:moveTo>
                  <a:pt x="192" y="3"/>
                </a:moveTo>
                <a:cubicBezTo>
                  <a:pt x="189" y="0"/>
                  <a:pt x="183" y="0"/>
                  <a:pt x="181" y="0"/>
                </a:cubicBezTo>
                <a:lnTo>
                  <a:pt x="11" y="28"/>
                </a:lnTo>
                <a:cubicBezTo>
                  <a:pt x="6" y="28"/>
                  <a:pt x="0" y="34"/>
                  <a:pt x="0" y="43"/>
                </a:cubicBezTo>
                <a:lnTo>
                  <a:pt x="0" y="127"/>
                </a:lnTo>
                <a:cubicBezTo>
                  <a:pt x="0" y="133"/>
                  <a:pt x="6" y="141"/>
                  <a:pt x="11" y="141"/>
                </a:cubicBezTo>
                <a:lnTo>
                  <a:pt x="181" y="169"/>
                </a:lnTo>
                <a:lnTo>
                  <a:pt x="183" y="169"/>
                </a:lnTo>
                <a:cubicBezTo>
                  <a:pt x="186" y="169"/>
                  <a:pt x="189" y="169"/>
                  <a:pt x="192" y="167"/>
                </a:cubicBezTo>
                <a:cubicBezTo>
                  <a:pt x="195" y="164"/>
                  <a:pt x="198" y="161"/>
                  <a:pt x="198" y="155"/>
                </a:cubicBezTo>
                <a:lnTo>
                  <a:pt x="198" y="14"/>
                </a:lnTo>
                <a:cubicBezTo>
                  <a:pt x="198" y="11"/>
                  <a:pt x="195" y="6"/>
                  <a:pt x="192" y="3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61"/>
          <p:cNvSpPr/>
          <p:nvPr/>
        </p:nvSpPr>
        <p:spPr>
          <a:xfrm>
            <a:off x="3757680" y="2206800"/>
            <a:ext cx="268200" cy="284040"/>
          </a:xfrm>
          <a:custGeom>
            <a:avLst/>
            <a:gdLst/>
            <a:ahLst/>
            <a:rect l="l" t="t" r="r" b="b"/>
            <a:pathLst>
              <a:path w="396" h="421">
                <a:moveTo>
                  <a:pt x="322" y="285"/>
                </a:moveTo>
                <a:lnTo>
                  <a:pt x="260" y="273"/>
                </a:lnTo>
                <a:cubicBezTo>
                  <a:pt x="254" y="273"/>
                  <a:pt x="248" y="268"/>
                  <a:pt x="248" y="259"/>
                </a:cubicBezTo>
                <a:lnTo>
                  <a:pt x="248" y="245"/>
                </a:lnTo>
                <a:cubicBezTo>
                  <a:pt x="251" y="239"/>
                  <a:pt x="257" y="230"/>
                  <a:pt x="260" y="225"/>
                </a:cubicBezTo>
                <a:cubicBezTo>
                  <a:pt x="262" y="219"/>
                  <a:pt x="268" y="211"/>
                  <a:pt x="271" y="208"/>
                </a:cubicBezTo>
                <a:cubicBezTo>
                  <a:pt x="282" y="197"/>
                  <a:pt x="296" y="183"/>
                  <a:pt x="299" y="163"/>
                </a:cubicBezTo>
                <a:cubicBezTo>
                  <a:pt x="299" y="160"/>
                  <a:pt x="299" y="160"/>
                  <a:pt x="299" y="158"/>
                </a:cubicBezTo>
                <a:cubicBezTo>
                  <a:pt x="299" y="158"/>
                  <a:pt x="299" y="158"/>
                  <a:pt x="299" y="155"/>
                </a:cubicBezTo>
                <a:lnTo>
                  <a:pt x="291" y="70"/>
                </a:lnTo>
                <a:cubicBezTo>
                  <a:pt x="291" y="47"/>
                  <a:pt x="285" y="36"/>
                  <a:pt x="276" y="25"/>
                </a:cubicBezTo>
                <a:cubicBezTo>
                  <a:pt x="268" y="16"/>
                  <a:pt x="260" y="16"/>
                  <a:pt x="251" y="14"/>
                </a:cubicBezTo>
                <a:cubicBezTo>
                  <a:pt x="248" y="14"/>
                  <a:pt x="243" y="14"/>
                  <a:pt x="243" y="11"/>
                </a:cubicBezTo>
                <a:cubicBezTo>
                  <a:pt x="229" y="2"/>
                  <a:pt x="212" y="0"/>
                  <a:pt x="195" y="0"/>
                </a:cubicBezTo>
                <a:cubicBezTo>
                  <a:pt x="158" y="2"/>
                  <a:pt x="113" y="22"/>
                  <a:pt x="99" y="64"/>
                </a:cubicBezTo>
                <a:lnTo>
                  <a:pt x="99" y="67"/>
                </a:lnTo>
                <a:lnTo>
                  <a:pt x="90" y="155"/>
                </a:lnTo>
                <a:cubicBezTo>
                  <a:pt x="90" y="158"/>
                  <a:pt x="90" y="160"/>
                  <a:pt x="90" y="160"/>
                </a:cubicBezTo>
                <a:cubicBezTo>
                  <a:pt x="93" y="177"/>
                  <a:pt x="107" y="191"/>
                  <a:pt x="118" y="206"/>
                </a:cubicBezTo>
                <a:cubicBezTo>
                  <a:pt x="121" y="208"/>
                  <a:pt x="124" y="217"/>
                  <a:pt x="130" y="222"/>
                </a:cubicBezTo>
                <a:cubicBezTo>
                  <a:pt x="133" y="231"/>
                  <a:pt x="138" y="237"/>
                  <a:pt x="141" y="242"/>
                </a:cubicBezTo>
                <a:lnTo>
                  <a:pt x="141" y="256"/>
                </a:lnTo>
                <a:cubicBezTo>
                  <a:pt x="141" y="262"/>
                  <a:pt x="135" y="268"/>
                  <a:pt x="130" y="270"/>
                </a:cubicBezTo>
                <a:lnTo>
                  <a:pt x="68" y="282"/>
                </a:lnTo>
                <a:cubicBezTo>
                  <a:pt x="28" y="290"/>
                  <a:pt x="0" y="324"/>
                  <a:pt x="0" y="364"/>
                </a:cubicBezTo>
                <a:lnTo>
                  <a:pt x="0" y="392"/>
                </a:lnTo>
                <a:cubicBezTo>
                  <a:pt x="0" y="409"/>
                  <a:pt x="11" y="420"/>
                  <a:pt x="28" y="420"/>
                </a:cubicBezTo>
                <a:lnTo>
                  <a:pt x="367" y="420"/>
                </a:lnTo>
                <a:cubicBezTo>
                  <a:pt x="384" y="420"/>
                  <a:pt x="395" y="409"/>
                  <a:pt x="395" y="392"/>
                </a:cubicBezTo>
                <a:lnTo>
                  <a:pt x="395" y="364"/>
                </a:lnTo>
                <a:cubicBezTo>
                  <a:pt x="389" y="327"/>
                  <a:pt x="361" y="293"/>
                  <a:pt x="322" y="28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62"/>
          <p:cNvSpPr/>
          <p:nvPr/>
        </p:nvSpPr>
        <p:spPr>
          <a:xfrm>
            <a:off x="3789360" y="2244600"/>
            <a:ext cx="19224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54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85"/>
                </a:lnTo>
                <a:cubicBezTo>
                  <a:pt x="0" y="102"/>
                  <a:pt x="11" y="113"/>
                  <a:pt x="28" y="113"/>
                </a:cubicBezTo>
                <a:lnTo>
                  <a:pt x="113" y="113"/>
                </a:lnTo>
                <a:cubicBezTo>
                  <a:pt x="115" y="113"/>
                  <a:pt x="118" y="113"/>
                  <a:pt x="118" y="110"/>
                </a:cubicBezTo>
                <a:lnTo>
                  <a:pt x="141" y="99"/>
                </a:lnTo>
                <a:lnTo>
                  <a:pt x="163" y="110"/>
                </a:lnTo>
                <a:cubicBezTo>
                  <a:pt x="166" y="110"/>
                  <a:pt x="166" y="113"/>
                  <a:pt x="169" y="113"/>
                </a:cubicBezTo>
                <a:lnTo>
                  <a:pt x="254" y="113"/>
                </a:lnTo>
                <a:cubicBezTo>
                  <a:pt x="271" y="113"/>
                  <a:pt x="282" y="102"/>
                  <a:pt x="282" y="85"/>
                </a:cubicBezTo>
                <a:lnTo>
                  <a:pt x="282" y="28"/>
                </a:lnTo>
                <a:cubicBezTo>
                  <a:pt x="282" y="11"/>
                  <a:pt x="271" y="0"/>
                  <a:pt x="254" y="0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63"/>
          <p:cNvSpPr/>
          <p:nvPr/>
        </p:nvSpPr>
        <p:spPr>
          <a:xfrm>
            <a:off x="4516560" y="2206800"/>
            <a:ext cx="269640" cy="307800"/>
          </a:xfrm>
          <a:custGeom>
            <a:avLst/>
            <a:gdLst/>
            <a:ahLst/>
            <a:rect l="l" t="t" r="r" b="b"/>
            <a:pathLst>
              <a:path w="396" h="452">
                <a:moveTo>
                  <a:pt x="367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367" y="451"/>
                </a:lnTo>
                <a:cubicBezTo>
                  <a:pt x="384" y="451"/>
                  <a:pt x="395" y="440"/>
                  <a:pt x="395" y="423"/>
                </a:cubicBezTo>
                <a:lnTo>
                  <a:pt x="395" y="28"/>
                </a:lnTo>
                <a:cubicBezTo>
                  <a:pt x="395" y="11"/>
                  <a:pt x="384" y="0"/>
                  <a:pt x="36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64"/>
          <p:cNvSpPr/>
          <p:nvPr/>
        </p:nvSpPr>
        <p:spPr>
          <a:xfrm>
            <a:off x="4556160" y="235908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lnTo>
                  <a:pt x="0" y="57"/>
                </a:lnTo>
                <a:lnTo>
                  <a:pt x="0" y="0"/>
                </a:lnTo>
                <a:lnTo>
                  <a:pt x="56" y="0"/>
                </a:lnTo>
                <a:lnTo>
                  <a:pt x="56" y="57"/>
                </a:lnTo>
                <a:lnTo>
                  <a:pt x="28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65"/>
          <p:cNvSpPr/>
          <p:nvPr/>
        </p:nvSpPr>
        <p:spPr>
          <a:xfrm>
            <a:off x="4633920" y="2359080"/>
            <a:ext cx="38160" cy="38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lnTo>
                  <a:pt x="0" y="57"/>
                </a:lnTo>
                <a:lnTo>
                  <a:pt x="0" y="0"/>
                </a:lnTo>
                <a:lnTo>
                  <a:pt x="57" y="0"/>
                </a:lnTo>
                <a:lnTo>
                  <a:pt x="57" y="57"/>
                </a:lnTo>
                <a:lnTo>
                  <a:pt x="29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66"/>
          <p:cNvSpPr/>
          <p:nvPr/>
        </p:nvSpPr>
        <p:spPr>
          <a:xfrm>
            <a:off x="4556160" y="243684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lnTo>
                  <a:pt x="0" y="57"/>
                </a:lnTo>
                <a:lnTo>
                  <a:pt x="0" y="0"/>
                </a:lnTo>
                <a:lnTo>
                  <a:pt x="56" y="0"/>
                </a:lnTo>
                <a:lnTo>
                  <a:pt x="56" y="57"/>
                </a:lnTo>
                <a:lnTo>
                  <a:pt x="28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67"/>
          <p:cNvSpPr/>
          <p:nvPr/>
        </p:nvSpPr>
        <p:spPr>
          <a:xfrm>
            <a:off x="4633920" y="2436840"/>
            <a:ext cx="38160" cy="38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lnTo>
                  <a:pt x="0" y="57"/>
                </a:lnTo>
                <a:lnTo>
                  <a:pt x="0" y="0"/>
                </a:lnTo>
                <a:lnTo>
                  <a:pt x="57" y="0"/>
                </a:lnTo>
                <a:lnTo>
                  <a:pt x="57" y="57"/>
                </a:lnTo>
                <a:lnTo>
                  <a:pt x="29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68"/>
          <p:cNvSpPr/>
          <p:nvPr/>
        </p:nvSpPr>
        <p:spPr>
          <a:xfrm>
            <a:off x="4708440" y="2359080"/>
            <a:ext cx="38160" cy="115920"/>
          </a:xfrm>
          <a:custGeom>
            <a:avLst/>
            <a:gdLst/>
            <a:ahLst/>
            <a:rect l="l" t="t" r="r" b="b"/>
            <a:pathLst>
              <a:path w="58" h="171">
                <a:moveTo>
                  <a:pt x="28" y="170"/>
                </a:moveTo>
                <a:lnTo>
                  <a:pt x="0" y="170"/>
                </a:lnTo>
                <a:lnTo>
                  <a:pt x="0" y="0"/>
                </a:lnTo>
                <a:lnTo>
                  <a:pt x="57" y="0"/>
                </a:lnTo>
                <a:lnTo>
                  <a:pt x="57" y="170"/>
                </a:lnTo>
                <a:lnTo>
                  <a:pt x="28" y="17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69"/>
          <p:cNvSpPr/>
          <p:nvPr/>
        </p:nvSpPr>
        <p:spPr>
          <a:xfrm>
            <a:off x="4556160" y="2244600"/>
            <a:ext cx="19044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82" y="99"/>
                </a:moveTo>
                <a:cubicBezTo>
                  <a:pt x="282" y="107"/>
                  <a:pt x="276" y="113"/>
                  <a:pt x="268" y="113"/>
                </a:cubicBez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68" y="0"/>
                </a:lnTo>
                <a:cubicBezTo>
                  <a:pt x="276" y="0"/>
                  <a:pt x="282" y="6"/>
                  <a:pt x="282" y="14"/>
                </a:cubicBezTo>
                <a:lnTo>
                  <a:pt x="282" y="9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70"/>
          <p:cNvSpPr/>
          <p:nvPr/>
        </p:nvSpPr>
        <p:spPr>
          <a:xfrm>
            <a:off x="547380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1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4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4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1" y="37"/>
                  <a:pt x="113" y="46"/>
                  <a:pt x="113" y="56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71"/>
          <p:cNvSpPr/>
          <p:nvPr/>
        </p:nvSpPr>
        <p:spPr>
          <a:xfrm>
            <a:off x="528336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3" y="93"/>
                  <a:pt x="7" y="84"/>
                </a:cubicBezTo>
                <a:cubicBezTo>
                  <a:pt x="2" y="75"/>
                  <a:pt x="0" y="66"/>
                  <a:pt x="0" y="56"/>
                </a:cubicBezTo>
                <a:cubicBezTo>
                  <a:pt x="0" y="46"/>
                  <a:pt x="2" y="37"/>
                  <a:pt x="7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72"/>
          <p:cNvSpPr/>
          <p:nvPr/>
        </p:nvSpPr>
        <p:spPr>
          <a:xfrm>
            <a:off x="537840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4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4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73"/>
          <p:cNvSpPr/>
          <p:nvPr/>
        </p:nvSpPr>
        <p:spPr>
          <a:xfrm>
            <a:off x="5361120" y="2301840"/>
            <a:ext cx="115920" cy="212760"/>
          </a:xfrm>
          <a:custGeom>
            <a:avLst/>
            <a:gdLst/>
            <a:ahLst/>
            <a:rect l="l" t="t" r="r" b="b"/>
            <a:pathLst>
              <a:path w="170" h="311">
                <a:moveTo>
                  <a:pt x="155" y="25"/>
                </a:moveTo>
                <a:cubicBezTo>
                  <a:pt x="152" y="11"/>
                  <a:pt x="141" y="0"/>
                  <a:pt x="127" y="0"/>
                </a:cubicBezTo>
                <a:lnTo>
                  <a:pt x="113" y="0"/>
                </a:lnTo>
                <a:cubicBezTo>
                  <a:pt x="110" y="0"/>
                  <a:pt x="104" y="2"/>
                  <a:pt x="101" y="2"/>
                </a:cubicBezTo>
                <a:lnTo>
                  <a:pt x="84" y="19"/>
                </a:lnTo>
                <a:lnTo>
                  <a:pt x="67" y="2"/>
                </a:lnTo>
                <a:cubicBezTo>
                  <a:pt x="65" y="0"/>
                  <a:pt x="62" y="0"/>
                  <a:pt x="56" y="0"/>
                </a:cubicBezTo>
                <a:lnTo>
                  <a:pt x="42" y="0"/>
                </a:lnTo>
                <a:cubicBezTo>
                  <a:pt x="28" y="0"/>
                  <a:pt x="17" y="11"/>
                  <a:pt x="14" y="25"/>
                </a:cubicBezTo>
                <a:lnTo>
                  <a:pt x="0" y="124"/>
                </a:lnTo>
                <a:cubicBezTo>
                  <a:pt x="0" y="127"/>
                  <a:pt x="1" y="132"/>
                  <a:pt x="3" y="135"/>
                </a:cubicBezTo>
                <a:cubicBezTo>
                  <a:pt x="6" y="138"/>
                  <a:pt x="8" y="141"/>
                  <a:pt x="14" y="141"/>
                </a:cubicBezTo>
                <a:lnTo>
                  <a:pt x="28" y="141"/>
                </a:lnTo>
                <a:lnTo>
                  <a:pt x="39" y="285"/>
                </a:lnTo>
                <a:cubicBezTo>
                  <a:pt x="42" y="299"/>
                  <a:pt x="53" y="310"/>
                  <a:pt x="67" y="310"/>
                </a:cubicBezTo>
                <a:lnTo>
                  <a:pt x="98" y="310"/>
                </a:lnTo>
                <a:cubicBezTo>
                  <a:pt x="113" y="310"/>
                  <a:pt x="124" y="299"/>
                  <a:pt x="127" y="285"/>
                </a:cubicBezTo>
                <a:lnTo>
                  <a:pt x="141" y="141"/>
                </a:lnTo>
                <a:lnTo>
                  <a:pt x="155" y="141"/>
                </a:lnTo>
                <a:cubicBezTo>
                  <a:pt x="158" y="141"/>
                  <a:pt x="163" y="138"/>
                  <a:pt x="166" y="135"/>
                </a:cubicBezTo>
                <a:cubicBezTo>
                  <a:pt x="169" y="132"/>
                  <a:pt x="169" y="127"/>
                  <a:pt x="169" y="124"/>
                </a:cubicBezTo>
                <a:lnTo>
                  <a:pt x="155" y="25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74"/>
          <p:cNvSpPr/>
          <p:nvPr/>
        </p:nvSpPr>
        <p:spPr>
          <a:xfrm>
            <a:off x="5264280" y="2301840"/>
            <a:ext cx="93600" cy="192240"/>
          </a:xfrm>
          <a:custGeom>
            <a:avLst/>
            <a:gdLst/>
            <a:ahLst/>
            <a:rect l="l" t="t" r="r" b="b"/>
            <a:pathLst>
              <a:path w="136" h="283">
                <a:moveTo>
                  <a:pt x="124" y="155"/>
                </a:moveTo>
                <a:cubicBezTo>
                  <a:pt x="115" y="146"/>
                  <a:pt x="113" y="135"/>
                  <a:pt x="113" y="121"/>
                </a:cubicBezTo>
                <a:lnTo>
                  <a:pt x="127" y="19"/>
                </a:lnTo>
                <a:cubicBezTo>
                  <a:pt x="127" y="11"/>
                  <a:pt x="129" y="5"/>
                  <a:pt x="132" y="0"/>
                </a:cubicBezTo>
                <a:cubicBezTo>
                  <a:pt x="129" y="0"/>
                  <a:pt x="129" y="0"/>
                  <a:pt x="127" y="0"/>
                </a:cubicBezTo>
                <a:lnTo>
                  <a:pt x="113" y="0"/>
                </a:lnTo>
                <a:cubicBezTo>
                  <a:pt x="110" y="0"/>
                  <a:pt x="104" y="2"/>
                  <a:pt x="101" y="2"/>
                </a:cubicBezTo>
                <a:lnTo>
                  <a:pt x="84" y="19"/>
                </a:lnTo>
                <a:lnTo>
                  <a:pt x="67" y="2"/>
                </a:lnTo>
                <a:cubicBezTo>
                  <a:pt x="65" y="0"/>
                  <a:pt x="62" y="0"/>
                  <a:pt x="56" y="0"/>
                </a:cubicBezTo>
                <a:lnTo>
                  <a:pt x="42" y="0"/>
                </a:lnTo>
                <a:cubicBezTo>
                  <a:pt x="28" y="0"/>
                  <a:pt x="17" y="11"/>
                  <a:pt x="14" y="25"/>
                </a:cubicBezTo>
                <a:lnTo>
                  <a:pt x="0" y="124"/>
                </a:lnTo>
                <a:cubicBezTo>
                  <a:pt x="0" y="127"/>
                  <a:pt x="0" y="132"/>
                  <a:pt x="2" y="135"/>
                </a:cubicBezTo>
                <a:cubicBezTo>
                  <a:pt x="5" y="138"/>
                  <a:pt x="8" y="141"/>
                  <a:pt x="14" y="141"/>
                </a:cubicBezTo>
                <a:lnTo>
                  <a:pt x="28" y="141"/>
                </a:lnTo>
                <a:lnTo>
                  <a:pt x="39" y="256"/>
                </a:lnTo>
                <a:cubicBezTo>
                  <a:pt x="42" y="271"/>
                  <a:pt x="53" y="282"/>
                  <a:pt x="67" y="282"/>
                </a:cubicBezTo>
                <a:lnTo>
                  <a:pt x="98" y="282"/>
                </a:lnTo>
                <a:cubicBezTo>
                  <a:pt x="113" y="282"/>
                  <a:pt x="124" y="271"/>
                  <a:pt x="127" y="256"/>
                </a:cubicBezTo>
                <a:lnTo>
                  <a:pt x="135" y="166"/>
                </a:lnTo>
                <a:cubicBezTo>
                  <a:pt x="132" y="163"/>
                  <a:pt x="127" y="158"/>
                  <a:pt x="124" y="155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75"/>
          <p:cNvSpPr/>
          <p:nvPr/>
        </p:nvSpPr>
        <p:spPr>
          <a:xfrm>
            <a:off x="5477040" y="2301840"/>
            <a:ext cx="95040" cy="193680"/>
          </a:xfrm>
          <a:custGeom>
            <a:avLst/>
            <a:gdLst/>
            <a:ahLst/>
            <a:rect l="l" t="t" r="r" b="b"/>
            <a:pathLst>
              <a:path w="139" h="286">
                <a:moveTo>
                  <a:pt x="124" y="25"/>
                </a:moveTo>
                <a:cubicBezTo>
                  <a:pt x="121" y="11"/>
                  <a:pt x="110" y="0"/>
                  <a:pt x="96" y="0"/>
                </a:cubicBezTo>
                <a:lnTo>
                  <a:pt x="82" y="0"/>
                </a:lnTo>
                <a:cubicBezTo>
                  <a:pt x="79" y="0"/>
                  <a:pt x="73" y="2"/>
                  <a:pt x="70" y="2"/>
                </a:cubicBezTo>
                <a:lnTo>
                  <a:pt x="53" y="19"/>
                </a:lnTo>
                <a:lnTo>
                  <a:pt x="37" y="2"/>
                </a:lnTo>
                <a:cubicBezTo>
                  <a:pt x="34" y="0"/>
                  <a:pt x="31" y="0"/>
                  <a:pt x="25" y="0"/>
                </a:cubicBezTo>
                <a:lnTo>
                  <a:pt x="11" y="0"/>
                </a:lnTo>
                <a:cubicBezTo>
                  <a:pt x="8" y="0"/>
                  <a:pt x="8" y="0"/>
                  <a:pt x="6" y="0"/>
                </a:cubicBezTo>
                <a:cubicBezTo>
                  <a:pt x="8" y="5"/>
                  <a:pt x="11" y="14"/>
                  <a:pt x="11" y="22"/>
                </a:cubicBezTo>
                <a:lnTo>
                  <a:pt x="25" y="121"/>
                </a:lnTo>
                <a:cubicBezTo>
                  <a:pt x="28" y="132"/>
                  <a:pt x="22" y="146"/>
                  <a:pt x="14" y="155"/>
                </a:cubicBezTo>
                <a:cubicBezTo>
                  <a:pt x="11" y="160"/>
                  <a:pt x="6" y="163"/>
                  <a:pt x="0" y="166"/>
                </a:cubicBezTo>
                <a:lnTo>
                  <a:pt x="8" y="259"/>
                </a:lnTo>
                <a:cubicBezTo>
                  <a:pt x="11" y="273"/>
                  <a:pt x="22" y="285"/>
                  <a:pt x="37" y="285"/>
                </a:cubicBezTo>
                <a:lnTo>
                  <a:pt x="68" y="285"/>
                </a:lnTo>
                <a:cubicBezTo>
                  <a:pt x="82" y="285"/>
                  <a:pt x="93" y="273"/>
                  <a:pt x="96" y="259"/>
                </a:cubicBezTo>
                <a:lnTo>
                  <a:pt x="110" y="141"/>
                </a:lnTo>
                <a:lnTo>
                  <a:pt x="124" y="141"/>
                </a:lnTo>
                <a:cubicBezTo>
                  <a:pt x="127" y="141"/>
                  <a:pt x="133" y="138"/>
                  <a:pt x="135" y="135"/>
                </a:cubicBezTo>
                <a:cubicBezTo>
                  <a:pt x="138" y="132"/>
                  <a:pt x="138" y="127"/>
                  <a:pt x="138" y="124"/>
                </a:cubicBezTo>
                <a:lnTo>
                  <a:pt x="124" y="25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76"/>
          <p:cNvSpPr/>
          <p:nvPr/>
        </p:nvSpPr>
        <p:spPr>
          <a:xfrm>
            <a:off x="6031080" y="226224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282"/>
                </a:lnTo>
                <a:cubicBezTo>
                  <a:pt x="0" y="299"/>
                  <a:pt x="12" y="311"/>
                  <a:pt x="29" y="311"/>
                </a:cubicBezTo>
                <a:lnTo>
                  <a:pt x="424" y="311"/>
                </a:lnTo>
                <a:cubicBezTo>
                  <a:pt x="441" y="311"/>
                  <a:pt x="452" y="299"/>
                  <a:pt x="452" y="282"/>
                </a:cubicBezTo>
                <a:lnTo>
                  <a:pt x="452" y="28"/>
                </a:lnTo>
                <a:cubicBezTo>
                  <a:pt x="452" y="11"/>
                  <a:pt x="441" y="0"/>
                  <a:pt x="424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77"/>
          <p:cNvSpPr/>
          <p:nvPr/>
        </p:nvSpPr>
        <p:spPr>
          <a:xfrm>
            <a:off x="6086520" y="2319480"/>
            <a:ext cx="6012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69"/>
                  <a:pt x="71" y="75"/>
                  <a:pt x="64" y="79"/>
                </a:cubicBezTo>
                <a:cubicBezTo>
                  <a:pt x="58" y="83"/>
                  <a:pt x="50" y="84"/>
                  <a:pt x="42" y="84"/>
                </a:cubicBezTo>
                <a:cubicBezTo>
                  <a:pt x="35" y="84"/>
                  <a:pt x="28" y="83"/>
                  <a:pt x="21" y="79"/>
                </a:cubicBezTo>
                <a:cubicBezTo>
                  <a:pt x="14" y="75"/>
                  <a:pt x="10" y="69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4"/>
                  <a:pt x="14" y="9"/>
                  <a:pt x="21" y="6"/>
                </a:cubicBezTo>
                <a:cubicBezTo>
                  <a:pt x="28" y="2"/>
                  <a:pt x="35" y="0"/>
                  <a:pt x="42" y="0"/>
                </a:cubicBezTo>
                <a:cubicBezTo>
                  <a:pt x="50" y="0"/>
                  <a:pt x="58" y="2"/>
                  <a:pt x="64" y="6"/>
                </a:cubicBezTo>
                <a:cubicBezTo>
                  <a:pt x="71" y="9"/>
                  <a:pt x="75" y="14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78"/>
          <p:cNvSpPr/>
          <p:nvPr/>
        </p:nvSpPr>
        <p:spPr>
          <a:xfrm>
            <a:off x="6066000" y="2386080"/>
            <a:ext cx="98280" cy="50760"/>
          </a:xfrm>
          <a:custGeom>
            <a:avLst/>
            <a:gdLst/>
            <a:ahLst/>
            <a:rect l="l" t="t" r="r" b="b"/>
            <a:pathLst>
              <a:path w="145" h="74">
                <a:moveTo>
                  <a:pt x="135" y="20"/>
                </a:moveTo>
                <a:cubicBezTo>
                  <a:pt x="96" y="0"/>
                  <a:pt x="48" y="0"/>
                  <a:pt x="8" y="20"/>
                </a:cubicBezTo>
                <a:cubicBezTo>
                  <a:pt x="3" y="22"/>
                  <a:pt x="0" y="28"/>
                  <a:pt x="0" y="31"/>
                </a:cubicBezTo>
                <a:lnTo>
                  <a:pt x="0" y="59"/>
                </a:lnTo>
                <a:cubicBezTo>
                  <a:pt x="0" y="68"/>
                  <a:pt x="6" y="73"/>
                  <a:pt x="14" y="73"/>
                </a:cubicBezTo>
                <a:lnTo>
                  <a:pt x="127" y="73"/>
                </a:lnTo>
                <a:cubicBezTo>
                  <a:pt x="135" y="73"/>
                  <a:pt x="141" y="68"/>
                  <a:pt x="141" y="59"/>
                </a:cubicBezTo>
                <a:lnTo>
                  <a:pt x="141" y="31"/>
                </a:lnTo>
                <a:cubicBezTo>
                  <a:pt x="144" y="25"/>
                  <a:pt x="141" y="20"/>
                  <a:pt x="135" y="2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79"/>
          <p:cNvSpPr/>
          <p:nvPr/>
        </p:nvSpPr>
        <p:spPr>
          <a:xfrm>
            <a:off x="6200640" y="235908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80"/>
          <p:cNvSpPr/>
          <p:nvPr/>
        </p:nvSpPr>
        <p:spPr>
          <a:xfrm>
            <a:off x="6200640" y="239724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81"/>
          <p:cNvSpPr/>
          <p:nvPr/>
        </p:nvSpPr>
        <p:spPr>
          <a:xfrm>
            <a:off x="6143760" y="22240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lnTo>
                  <a:pt x="98" y="113"/>
                </a:lnTo>
                <a:cubicBezTo>
                  <a:pt x="107" y="113"/>
                  <a:pt x="113" y="107"/>
                  <a:pt x="113" y="99"/>
                </a:cubicBezTo>
                <a:lnTo>
                  <a:pt x="113" y="56"/>
                </a:lnTo>
                <a:cubicBezTo>
                  <a:pt x="113" y="25"/>
                  <a:pt x="87" y="0"/>
                  <a:pt x="56" y="0"/>
                </a:cubicBezTo>
                <a:cubicBezTo>
                  <a:pt x="25" y="0"/>
                  <a:pt x="0" y="25"/>
                  <a:pt x="0" y="56"/>
                </a:cubicBezTo>
                <a:lnTo>
                  <a:pt x="0" y="99"/>
                </a:lnTo>
                <a:cubicBezTo>
                  <a:pt x="0" y="107"/>
                  <a:pt x="5" y="113"/>
                  <a:pt x="14" y="11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82"/>
          <p:cNvSpPr/>
          <p:nvPr/>
        </p:nvSpPr>
        <p:spPr>
          <a:xfrm>
            <a:off x="6891480" y="2284560"/>
            <a:ext cx="11736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4" y="0"/>
                </a:moveTo>
                <a:lnTo>
                  <a:pt x="155" y="0"/>
                </a:lnTo>
                <a:cubicBezTo>
                  <a:pt x="164" y="0"/>
                  <a:pt x="170" y="6"/>
                  <a:pt x="170" y="15"/>
                </a:cubicBezTo>
                <a:lnTo>
                  <a:pt x="170" y="170"/>
                </a:lnTo>
                <a:lnTo>
                  <a:pt x="0" y="170"/>
                </a:ln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83"/>
          <p:cNvSpPr/>
          <p:nvPr/>
        </p:nvSpPr>
        <p:spPr>
          <a:xfrm>
            <a:off x="6891480" y="2359080"/>
            <a:ext cx="152280" cy="115920"/>
          </a:xfrm>
          <a:custGeom>
            <a:avLst/>
            <a:gdLst/>
            <a:ahLst/>
            <a:rect l="l" t="t" r="r" b="b"/>
            <a:pathLst>
              <a:path w="227" h="171">
                <a:moveTo>
                  <a:pt x="14" y="0"/>
                </a:move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lnTo>
                  <a:pt x="226" y="170"/>
                </a:lnTo>
                <a:lnTo>
                  <a:pt x="0" y="170"/>
                </a:ln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84"/>
          <p:cNvSpPr/>
          <p:nvPr/>
        </p:nvSpPr>
        <p:spPr>
          <a:xfrm>
            <a:off x="6835680" y="2203560"/>
            <a:ext cx="233280" cy="307800"/>
          </a:xfrm>
          <a:custGeom>
            <a:avLst/>
            <a:gdLst/>
            <a:ahLst/>
            <a:rect l="l" t="t" r="r" b="b"/>
            <a:pathLst>
              <a:path w="342" h="456">
                <a:moveTo>
                  <a:pt x="324" y="399"/>
                </a:moveTo>
                <a:lnTo>
                  <a:pt x="110" y="399"/>
                </a:lnTo>
                <a:cubicBezTo>
                  <a:pt x="104" y="387"/>
                  <a:pt x="96" y="376"/>
                  <a:pt x="84" y="373"/>
                </a:cubicBezTo>
                <a:lnTo>
                  <a:pt x="84" y="74"/>
                </a:lnTo>
                <a:cubicBezTo>
                  <a:pt x="84" y="71"/>
                  <a:pt x="81" y="66"/>
                  <a:pt x="81" y="63"/>
                </a:cubicBezTo>
                <a:lnTo>
                  <a:pt x="25" y="6"/>
                </a:lnTo>
                <a:cubicBezTo>
                  <a:pt x="19" y="1"/>
                  <a:pt x="11" y="0"/>
                  <a:pt x="5" y="6"/>
                </a:cubicBezTo>
                <a:cubicBezTo>
                  <a:pt x="0" y="11"/>
                  <a:pt x="0" y="20"/>
                  <a:pt x="5" y="26"/>
                </a:cubicBezTo>
                <a:lnTo>
                  <a:pt x="59" y="80"/>
                </a:lnTo>
                <a:lnTo>
                  <a:pt x="59" y="373"/>
                </a:lnTo>
                <a:cubicBezTo>
                  <a:pt x="42" y="379"/>
                  <a:pt x="31" y="396"/>
                  <a:pt x="31" y="413"/>
                </a:cubicBezTo>
                <a:cubicBezTo>
                  <a:pt x="31" y="435"/>
                  <a:pt x="50" y="455"/>
                  <a:pt x="73" y="455"/>
                </a:cubicBezTo>
                <a:cubicBezTo>
                  <a:pt x="93" y="455"/>
                  <a:pt x="107" y="444"/>
                  <a:pt x="113" y="427"/>
                </a:cubicBezTo>
                <a:lnTo>
                  <a:pt x="327" y="427"/>
                </a:lnTo>
                <a:cubicBezTo>
                  <a:pt x="335" y="427"/>
                  <a:pt x="341" y="421"/>
                  <a:pt x="341" y="413"/>
                </a:cubicBezTo>
                <a:cubicBezTo>
                  <a:pt x="341" y="404"/>
                  <a:pt x="333" y="399"/>
                  <a:pt x="324" y="39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85"/>
          <p:cNvSpPr/>
          <p:nvPr/>
        </p:nvSpPr>
        <p:spPr>
          <a:xfrm>
            <a:off x="6870600" y="2471760"/>
            <a:ext cx="2088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5"/>
                </a:moveTo>
                <a:cubicBezTo>
                  <a:pt x="28" y="17"/>
                  <a:pt x="28" y="20"/>
                  <a:pt x="26" y="22"/>
                </a:cubicBezTo>
                <a:cubicBezTo>
                  <a:pt x="25" y="24"/>
                  <a:pt x="23" y="26"/>
                  <a:pt x="21" y="27"/>
                </a:cubicBezTo>
                <a:cubicBezTo>
                  <a:pt x="19" y="28"/>
                  <a:pt x="17" y="29"/>
                  <a:pt x="14" y="29"/>
                </a:cubicBezTo>
                <a:cubicBezTo>
                  <a:pt x="12" y="29"/>
                  <a:pt x="9" y="28"/>
                  <a:pt x="7" y="27"/>
                </a:cubicBezTo>
                <a:cubicBezTo>
                  <a:pt x="5" y="26"/>
                  <a:pt x="3" y="24"/>
                  <a:pt x="2" y="22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12"/>
                  <a:pt x="1" y="10"/>
                  <a:pt x="2" y="8"/>
                </a:cubicBezTo>
                <a:cubicBezTo>
                  <a:pt x="3" y="5"/>
                  <a:pt x="5" y="3"/>
                  <a:pt x="7" y="2"/>
                </a:cubicBezTo>
                <a:cubicBezTo>
                  <a:pt x="9" y="0"/>
                  <a:pt x="12" y="1"/>
                  <a:pt x="14" y="1"/>
                </a:cubicBezTo>
                <a:cubicBezTo>
                  <a:pt x="17" y="1"/>
                  <a:pt x="19" y="0"/>
                  <a:pt x="21" y="2"/>
                </a:cubicBezTo>
                <a:cubicBezTo>
                  <a:pt x="23" y="3"/>
                  <a:pt x="25" y="5"/>
                  <a:pt x="26" y="8"/>
                </a:cubicBezTo>
                <a:cubicBezTo>
                  <a:pt x="28" y="10"/>
                  <a:pt x="28" y="12"/>
                  <a:pt x="28" y="1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6"/>
          <p:cNvSpPr/>
          <p:nvPr/>
        </p:nvSpPr>
        <p:spPr>
          <a:xfrm>
            <a:off x="6948360" y="2359080"/>
            <a:ext cx="39960" cy="58680"/>
          </a:xfrm>
          <a:custGeom>
            <a:avLst/>
            <a:gdLst/>
            <a:ahLst/>
            <a:rect l="l" t="t" r="r" b="b"/>
            <a:pathLst>
              <a:path w="57" h="86">
                <a:moveTo>
                  <a:pt x="28" y="85"/>
                </a:moveTo>
                <a:lnTo>
                  <a:pt x="0" y="85"/>
                </a:lnTo>
                <a:lnTo>
                  <a:pt x="0" y="0"/>
                </a:lnTo>
                <a:lnTo>
                  <a:pt x="56" y="0"/>
                </a:lnTo>
                <a:lnTo>
                  <a:pt x="56" y="85"/>
                </a:lnTo>
                <a:lnTo>
                  <a:pt x="28" y="85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87"/>
          <p:cNvSpPr/>
          <p:nvPr/>
        </p:nvSpPr>
        <p:spPr>
          <a:xfrm>
            <a:off x="6940440" y="228456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88"/>
          <p:cNvSpPr/>
          <p:nvPr/>
        </p:nvSpPr>
        <p:spPr>
          <a:xfrm>
            <a:off x="7561440" y="2262240"/>
            <a:ext cx="30924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1"/>
                  <a:pt x="423" y="311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89"/>
          <p:cNvSpPr/>
          <p:nvPr/>
        </p:nvSpPr>
        <p:spPr>
          <a:xfrm>
            <a:off x="7561440" y="2359080"/>
            <a:ext cx="309240" cy="20520"/>
          </a:xfrm>
          <a:custGeom>
            <a:avLst/>
            <a:gdLst/>
            <a:ahLst/>
            <a:rect l="l" t="t" r="r" b="b"/>
            <a:pathLst>
              <a:path w="452" h="29">
                <a:moveTo>
                  <a:pt x="226" y="28"/>
                </a:moveTo>
                <a:lnTo>
                  <a:pt x="0" y="28"/>
                </a:lnTo>
                <a:lnTo>
                  <a:pt x="0" y="0"/>
                </a:lnTo>
                <a:lnTo>
                  <a:pt x="451" y="0"/>
                </a:lnTo>
                <a:lnTo>
                  <a:pt x="451" y="28"/>
                </a:lnTo>
                <a:lnTo>
                  <a:pt x="226" y="28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90"/>
          <p:cNvSpPr/>
          <p:nvPr/>
        </p:nvSpPr>
        <p:spPr>
          <a:xfrm>
            <a:off x="7732800" y="2262240"/>
            <a:ext cx="20520" cy="212760"/>
          </a:xfrm>
          <a:custGeom>
            <a:avLst/>
            <a:gdLst/>
            <a:ahLst/>
            <a:rect l="l" t="t" r="r" b="b"/>
            <a:pathLst>
              <a:path w="29" h="312">
                <a:moveTo>
                  <a:pt x="14" y="311"/>
                </a:moveTo>
                <a:lnTo>
                  <a:pt x="0" y="311"/>
                </a:lnTo>
                <a:lnTo>
                  <a:pt x="0" y="0"/>
                </a:lnTo>
                <a:lnTo>
                  <a:pt x="28" y="0"/>
                </a:lnTo>
                <a:lnTo>
                  <a:pt x="28" y="311"/>
                </a:lnTo>
                <a:lnTo>
                  <a:pt x="14" y="311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91"/>
          <p:cNvSpPr/>
          <p:nvPr/>
        </p:nvSpPr>
        <p:spPr>
          <a:xfrm>
            <a:off x="7655040" y="2298600"/>
            <a:ext cx="101520" cy="77760"/>
          </a:xfrm>
          <a:custGeom>
            <a:avLst/>
            <a:gdLst/>
            <a:ahLst/>
            <a:rect l="l" t="t" r="r" b="b"/>
            <a:pathLst>
              <a:path w="148" h="116">
                <a:moveTo>
                  <a:pt x="130" y="115"/>
                </a:moveTo>
                <a:lnTo>
                  <a:pt x="127" y="115"/>
                </a:lnTo>
                <a:cubicBezTo>
                  <a:pt x="91" y="104"/>
                  <a:pt x="28" y="87"/>
                  <a:pt x="17" y="76"/>
                </a:cubicBezTo>
                <a:cubicBezTo>
                  <a:pt x="0" y="59"/>
                  <a:pt x="0" y="34"/>
                  <a:pt x="17" y="17"/>
                </a:cubicBezTo>
                <a:cubicBezTo>
                  <a:pt x="34" y="0"/>
                  <a:pt x="60" y="0"/>
                  <a:pt x="76" y="17"/>
                </a:cubicBezTo>
                <a:cubicBezTo>
                  <a:pt x="88" y="28"/>
                  <a:pt x="136" y="87"/>
                  <a:pt x="141" y="93"/>
                </a:cubicBezTo>
                <a:cubicBezTo>
                  <a:pt x="144" y="99"/>
                  <a:pt x="147" y="104"/>
                  <a:pt x="141" y="110"/>
                </a:cubicBezTo>
                <a:cubicBezTo>
                  <a:pt x="139" y="113"/>
                  <a:pt x="136" y="115"/>
                  <a:pt x="130" y="115"/>
                </a:cubicBezTo>
                <a:close/>
                <a:moveTo>
                  <a:pt x="45" y="31"/>
                </a:moveTo>
                <a:cubicBezTo>
                  <a:pt x="43" y="31"/>
                  <a:pt x="37" y="31"/>
                  <a:pt x="34" y="34"/>
                </a:cubicBezTo>
                <a:cubicBezTo>
                  <a:pt x="28" y="39"/>
                  <a:pt x="28" y="48"/>
                  <a:pt x="34" y="53"/>
                </a:cubicBezTo>
                <a:cubicBezTo>
                  <a:pt x="40" y="56"/>
                  <a:pt x="62" y="65"/>
                  <a:pt x="88" y="73"/>
                </a:cubicBezTo>
                <a:cubicBezTo>
                  <a:pt x="74" y="56"/>
                  <a:pt x="57" y="39"/>
                  <a:pt x="54" y="34"/>
                </a:cubicBezTo>
                <a:cubicBezTo>
                  <a:pt x="54" y="31"/>
                  <a:pt x="48" y="31"/>
                  <a:pt x="45" y="31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2"/>
          <p:cNvSpPr/>
          <p:nvPr/>
        </p:nvSpPr>
        <p:spPr>
          <a:xfrm>
            <a:off x="7732800" y="2298600"/>
            <a:ext cx="98280" cy="777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14" y="115"/>
                </a:moveTo>
                <a:cubicBezTo>
                  <a:pt x="8" y="115"/>
                  <a:pt x="6" y="113"/>
                  <a:pt x="3" y="110"/>
                </a:cubicBezTo>
                <a:cubicBezTo>
                  <a:pt x="0" y="104"/>
                  <a:pt x="0" y="99"/>
                  <a:pt x="3" y="93"/>
                </a:cubicBezTo>
                <a:cubicBezTo>
                  <a:pt x="8" y="87"/>
                  <a:pt x="56" y="28"/>
                  <a:pt x="68" y="17"/>
                </a:cubicBezTo>
                <a:cubicBezTo>
                  <a:pt x="85" y="0"/>
                  <a:pt x="110" y="0"/>
                  <a:pt x="127" y="17"/>
                </a:cubicBezTo>
                <a:cubicBezTo>
                  <a:pt x="144" y="34"/>
                  <a:pt x="144" y="59"/>
                  <a:pt x="127" y="76"/>
                </a:cubicBezTo>
                <a:cubicBezTo>
                  <a:pt x="116" y="87"/>
                  <a:pt x="54" y="107"/>
                  <a:pt x="17" y="115"/>
                </a:cubicBezTo>
                <a:lnTo>
                  <a:pt x="14" y="115"/>
                </a:lnTo>
                <a:close/>
                <a:moveTo>
                  <a:pt x="99" y="31"/>
                </a:moveTo>
                <a:cubicBezTo>
                  <a:pt x="96" y="31"/>
                  <a:pt x="90" y="31"/>
                  <a:pt x="87" y="34"/>
                </a:cubicBezTo>
                <a:cubicBezTo>
                  <a:pt x="82" y="39"/>
                  <a:pt x="68" y="56"/>
                  <a:pt x="54" y="73"/>
                </a:cubicBezTo>
                <a:cubicBezTo>
                  <a:pt x="82" y="65"/>
                  <a:pt x="104" y="56"/>
                  <a:pt x="107" y="53"/>
                </a:cubicBezTo>
                <a:cubicBezTo>
                  <a:pt x="113" y="48"/>
                  <a:pt x="113" y="39"/>
                  <a:pt x="107" y="34"/>
                </a:cubicBezTo>
                <a:cubicBezTo>
                  <a:pt x="107" y="31"/>
                  <a:pt x="102" y="31"/>
                  <a:pt x="99" y="31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93"/>
          <p:cNvSpPr/>
          <p:nvPr/>
        </p:nvSpPr>
        <p:spPr>
          <a:xfrm>
            <a:off x="7684920" y="235908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7" y="99"/>
                </a:moveTo>
                <a:cubicBezTo>
                  <a:pt x="14" y="99"/>
                  <a:pt x="8" y="99"/>
                  <a:pt x="5" y="96"/>
                </a:cubicBezTo>
                <a:cubicBezTo>
                  <a:pt x="0" y="91"/>
                  <a:pt x="0" y="82"/>
                  <a:pt x="5" y="76"/>
                </a:cubicBezTo>
                <a:lnTo>
                  <a:pt x="76" y="6"/>
                </a:lnTo>
                <a:cubicBezTo>
                  <a:pt x="81" y="0"/>
                  <a:pt x="91" y="0"/>
                  <a:pt x="96" y="6"/>
                </a:cubicBezTo>
                <a:cubicBezTo>
                  <a:pt x="102" y="12"/>
                  <a:pt x="101" y="20"/>
                  <a:pt x="96" y="26"/>
                </a:cubicBezTo>
                <a:lnTo>
                  <a:pt x="25" y="96"/>
                </a:lnTo>
                <a:cubicBezTo>
                  <a:pt x="25" y="99"/>
                  <a:pt x="19" y="99"/>
                  <a:pt x="17" y="99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94"/>
          <p:cNvSpPr/>
          <p:nvPr/>
        </p:nvSpPr>
        <p:spPr>
          <a:xfrm>
            <a:off x="7732800" y="2359080"/>
            <a:ext cx="6804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6" y="96"/>
                </a:cubicBezTo>
                <a:lnTo>
                  <a:pt x="6" y="26"/>
                </a:lnTo>
                <a:cubicBezTo>
                  <a:pt x="0" y="20"/>
                  <a:pt x="1" y="12"/>
                  <a:pt x="6" y="6"/>
                </a:cubicBezTo>
                <a:cubicBezTo>
                  <a:pt x="12" y="0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1"/>
                  <a:pt x="96" y="96"/>
                </a:cubicBezTo>
                <a:cubicBezTo>
                  <a:pt x="96" y="99"/>
                  <a:pt x="90" y="99"/>
                  <a:pt x="88" y="99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95"/>
          <p:cNvSpPr/>
          <p:nvPr/>
        </p:nvSpPr>
        <p:spPr>
          <a:xfrm>
            <a:off x="7597800" y="2416320"/>
            <a:ext cx="77760" cy="205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cubicBezTo>
                  <a:pt x="113" y="22"/>
                  <a:pt x="108" y="28"/>
                  <a:pt x="99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4:08:28Z</dcterms:modified>
  <cp:revision>2</cp:revision>
  <dc:subject/>
  <dc:title>PowerPoint Presentation</dc:title>
</cp:coreProperties>
</file>