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080625" cy="1008062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774800" y="812880"/>
            <a:ext cx="40068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ID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A0595-D1DC-43FB-B7E8-2F3F1BFB6826}" type="slidenum">
              <a:rPr b="0" lang="en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E7A15-AD01-48AA-AC34-D86646727456}" type="slidenum">
              <a:rPr b="0" lang="en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774800" y="812880"/>
            <a:ext cx="4008600" cy="4008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432-B028-4916-AD3A-6BEF9F42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74D-55CA-4172-B8CC-4A2B55E0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E0F-1D50-40E7-9733-94E4E5F0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25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37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25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FCC-BE30-4F2A-A55B-3035CE81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9E58-11BD-4E74-982F-DBB410ED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47A8-EC75-43E4-AF4C-8F6E421A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0302-948F-43A7-B525-439C49D6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CBCB-4A64-4653-98C0-A8A84E99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DFF1-F710-486C-AF19-1F6361EC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93720" y="536040"/>
            <a:ext cx="8693280" cy="90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72EA-C1EA-402C-B76F-439CCA74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99F0-CC81-4B8D-BBBF-EA58B620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257-7783-4109-9B33-2032AD61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9972-B47D-4016-835F-C798E359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9851-F82A-4629-8EB3-CA4B6467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59D5-2662-43AA-AF89-CFBF62C4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40A1-2D20-4D0C-B50C-3DAE5B9B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31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25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937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31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25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8E3D-DFE2-4BCC-9CE7-146E193D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5B4-6A07-4113-8735-28191F47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C4A-7CC1-4738-A5C8-38A49031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0DB-4610-41A9-A03F-61C5C271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3720" y="536040"/>
            <a:ext cx="8693280" cy="90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DFF-2E8F-4794-AA87-09F89107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ECD-3E74-4972-9D83-22BC78EC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393-55E2-409D-9623-7FF0A676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91A-42D5-4995-AF14-3F223724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360" y="9344160"/>
            <a:ext cx="22669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38640" y="9344160"/>
            <a:ext cx="3403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19720" y="9344160"/>
            <a:ext cx="22669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0034B-4AD3-4A3A-8C36-D0A03A9E1ADE}" type="slidenum">
              <a:rPr b="0" lang="en-ID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9183240"/>
            <a:ext cx="23461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9183240"/>
            <a:ext cx="3193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9183240"/>
            <a:ext cx="23464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BDA75-75D9-4BA3-87C9-4E88969809C5}" type="slidenum">
              <a:rPr b="0" lang="en-ID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1"/>
          <p:cNvSpPr/>
          <p:nvPr/>
        </p:nvSpPr>
        <p:spPr>
          <a:xfrm>
            <a:off x="1438200" y="1496880"/>
            <a:ext cx="308160" cy="212760"/>
          </a:xfrm>
          <a:custGeom>
            <a:avLst/>
            <a:gdLst/>
            <a:ahLst/>
            <a:rect l="l" t="t" r="r" b="b"/>
            <a:pathLst>
              <a:path w="452" h="312">
                <a:moveTo>
                  <a:pt x="423" y="311"/>
                </a:moveTo>
                <a:lnTo>
                  <a:pt x="28" y="311"/>
                </a:lnTo>
                <a:cubicBezTo>
                  <a:pt x="11" y="311"/>
                  <a:pt x="0" y="300"/>
                  <a:pt x="0" y="283"/>
                </a:cubicBezTo>
                <a:lnTo>
                  <a:pt x="0" y="29"/>
                </a:lnTo>
                <a:cubicBezTo>
                  <a:pt x="0" y="12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1" y="12"/>
                  <a:pt x="451" y="29"/>
                </a:cubicBezTo>
                <a:lnTo>
                  <a:pt x="451" y="283"/>
                </a:lnTo>
                <a:cubicBezTo>
                  <a:pt x="451" y="300"/>
                  <a:pt x="440" y="311"/>
                  <a:pt x="423" y="311"/>
                </a:cubicBezTo>
                <a:close/>
                <a:moveTo>
                  <a:pt x="28" y="29"/>
                </a:moveTo>
                <a:lnTo>
                  <a:pt x="28" y="283"/>
                </a:lnTo>
                <a:lnTo>
                  <a:pt x="423" y="283"/>
                </a:lnTo>
                <a:lnTo>
                  <a:pt x="423" y="29"/>
                </a:lnTo>
                <a:lnTo>
                  <a:pt x="2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"/>
          <p:cNvSpPr/>
          <p:nvPr/>
        </p:nvSpPr>
        <p:spPr>
          <a:xfrm>
            <a:off x="1438200" y="1506600"/>
            <a:ext cx="311400" cy="125280"/>
          </a:xfrm>
          <a:custGeom>
            <a:avLst/>
            <a:gdLst/>
            <a:ahLst/>
            <a:rect l="l" t="t" r="r" b="b"/>
            <a:pathLst>
              <a:path w="457" h="187">
                <a:moveTo>
                  <a:pt x="228" y="186"/>
                </a:moveTo>
                <a:cubicBezTo>
                  <a:pt x="226" y="186"/>
                  <a:pt x="223" y="186"/>
                  <a:pt x="220" y="183"/>
                </a:cubicBezTo>
                <a:lnTo>
                  <a:pt x="8" y="28"/>
                </a:lnTo>
                <a:cubicBezTo>
                  <a:pt x="3" y="22"/>
                  <a:pt x="0" y="14"/>
                  <a:pt x="6" y="8"/>
                </a:cubicBezTo>
                <a:cubicBezTo>
                  <a:pt x="11" y="3"/>
                  <a:pt x="20" y="0"/>
                  <a:pt x="25" y="5"/>
                </a:cubicBezTo>
                <a:lnTo>
                  <a:pt x="228" y="155"/>
                </a:lnTo>
                <a:lnTo>
                  <a:pt x="432" y="5"/>
                </a:lnTo>
                <a:cubicBezTo>
                  <a:pt x="437" y="0"/>
                  <a:pt x="445" y="2"/>
                  <a:pt x="451" y="8"/>
                </a:cubicBezTo>
                <a:cubicBezTo>
                  <a:pt x="456" y="13"/>
                  <a:pt x="454" y="22"/>
                  <a:pt x="449" y="28"/>
                </a:cubicBezTo>
                <a:lnTo>
                  <a:pt x="237" y="183"/>
                </a:lnTo>
                <a:cubicBezTo>
                  <a:pt x="234" y="186"/>
                  <a:pt x="231" y="186"/>
                  <a:pt x="228" y="18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609560" y="1592280"/>
            <a:ext cx="140040" cy="108000"/>
          </a:xfrm>
          <a:custGeom>
            <a:avLst/>
            <a:gdLst/>
            <a:ahLst/>
            <a:rect l="l" t="t" r="r" b="b"/>
            <a:pathLst>
              <a:path w="207" h="159">
                <a:moveTo>
                  <a:pt x="189" y="158"/>
                </a:moveTo>
                <a:cubicBezTo>
                  <a:pt x="186" y="158"/>
                  <a:pt x="184" y="158"/>
                  <a:pt x="181" y="155"/>
                </a:cubicBezTo>
                <a:lnTo>
                  <a:pt x="9" y="28"/>
                </a:lnTo>
                <a:cubicBezTo>
                  <a:pt x="3" y="22"/>
                  <a:pt x="0" y="14"/>
                  <a:pt x="6" y="8"/>
                </a:cubicBezTo>
                <a:cubicBezTo>
                  <a:pt x="11" y="2"/>
                  <a:pt x="20" y="0"/>
                  <a:pt x="25" y="5"/>
                </a:cubicBezTo>
                <a:lnTo>
                  <a:pt x="198" y="132"/>
                </a:lnTo>
                <a:cubicBezTo>
                  <a:pt x="203" y="138"/>
                  <a:pt x="206" y="146"/>
                  <a:pt x="200" y="152"/>
                </a:cubicBezTo>
                <a:cubicBezTo>
                  <a:pt x="198" y="155"/>
                  <a:pt x="195" y="158"/>
                  <a:pt x="189" y="15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1438200" y="1592280"/>
            <a:ext cx="141480" cy="108000"/>
          </a:xfrm>
          <a:custGeom>
            <a:avLst/>
            <a:gdLst/>
            <a:ahLst/>
            <a:rect l="l" t="t" r="r" b="b"/>
            <a:pathLst>
              <a:path w="207" h="159">
                <a:moveTo>
                  <a:pt x="17" y="158"/>
                </a:moveTo>
                <a:cubicBezTo>
                  <a:pt x="11" y="158"/>
                  <a:pt x="8" y="155"/>
                  <a:pt x="6" y="152"/>
                </a:cubicBezTo>
                <a:cubicBezTo>
                  <a:pt x="0" y="146"/>
                  <a:pt x="3" y="138"/>
                  <a:pt x="8" y="132"/>
                </a:cubicBezTo>
                <a:lnTo>
                  <a:pt x="181" y="5"/>
                </a:lnTo>
                <a:cubicBezTo>
                  <a:pt x="186" y="0"/>
                  <a:pt x="195" y="2"/>
                  <a:pt x="200" y="8"/>
                </a:cubicBezTo>
                <a:cubicBezTo>
                  <a:pt x="206" y="14"/>
                  <a:pt x="203" y="22"/>
                  <a:pt x="197" y="28"/>
                </a:cubicBezTo>
                <a:lnTo>
                  <a:pt x="25" y="155"/>
                </a:lnTo>
                <a:cubicBezTo>
                  <a:pt x="22" y="158"/>
                  <a:pt x="20" y="158"/>
                  <a:pt x="17" y="15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2205000" y="1509840"/>
            <a:ext cx="308160" cy="237960"/>
          </a:xfrm>
          <a:custGeom>
            <a:avLst/>
            <a:gdLst/>
            <a:ahLst/>
            <a:rect l="l" t="t" r="r" b="b"/>
            <a:pathLst>
              <a:path w="452" h="351">
                <a:moveTo>
                  <a:pt x="423" y="350"/>
                </a:moveTo>
                <a:lnTo>
                  <a:pt x="28" y="350"/>
                </a:lnTo>
                <a:cubicBezTo>
                  <a:pt x="11" y="350"/>
                  <a:pt x="0" y="339"/>
                  <a:pt x="0" y="322"/>
                </a:cubicBezTo>
                <a:lnTo>
                  <a:pt x="0" y="54"/>
                </a:lnTo>
                <a:cubicBezTo>
                  <a:pt x="0" y="48"/>
                  <a:pt x="2" y="45"/>
                  <a:pt x="5" y="43"/>
                </a:cubicBezTo>
                <a:lnTo>
                  <a:pt x="62" y="6"/>
                </a:lnTo>
                <a:cubicBezTo>
                  <a:pt x="67" y="0"/>
                  <a:pt x="76" y="3"/>
                  <a:pt x="81" y="9"/>
                </a:cubicBezTo>
                <a:cubicBezTo>
                  <a:pt x="87" y="14"/>
                  <a:pt x="84" y="23"/>
                  <a:pt x="79" y="29"/>
                </a:cubicBezTo>
                <a:lnTo>
                  <a:pt x="28" y="62"/>
                </a:lnTo>
                <a:lnTo>
                  <a:pt x="28" y="322"/>
                </a:lnTo>
                <a:lnTo>
                  <a:pt x="423" y="322"/>
                </a:lnTo>
                <a:lnTo>
                  <a:pt x="423" y="62"/>
                </a:lnTo>
                <a:lnTo>
                  <a:pt x="372" y="29"/>
                </a:lnTo>
                <a:cubicBezTo>
                  <a:pt x="366" y="23"/>
                  <a:pt x="363" y="14"/>
                  <a:pt x="369" y="9"/>
                </a:cubicBezTo>
                <a:cubicBezTo>
                  <a:pt x="374" y="3"/>
                  <a:pt x="383" y="0"/>
                  <a:pt x="389" y="6"/>
                </a:cubicBezTo>
                <a:lnTo>
                  <a:pt x="445" y="43"/>
                </a:lnTo>
                <a:cubicBezTo>
                  <a:pt x="448" y="45"/>
                  <a:pt x="451" y="48"/>
                  <a:pt x="451" y="54"/>
                </a:cubicBezTo>
                <a:lnTo>
                  <a:pt x="451" y="322"/>
                </a:lnTo>
                <a:cubicBezTo>
                  <a:pt x="451" y="339"/>
                  <a:pt x="440" y="350"/>
                  <a:pt x="423" y="35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"/>
          <p:cNvSpPr/>
          <p:nvPr/>
        </p:nvSpPr>
        <p:spPr>
          <a:xfrm>
            <a:off x="2374920" y="1544760"/>
            <a:ext cx="141120" cy="108000"/>
          </a:xfrm>
          <a:custGeom>
            <a:avLst/>
            <a:gdLst/>
            <a:ahLst/>
            <a:rect l="l" t="t" r="r" b="b"/>
            <a:pathLst>
              <a:path w="207" h="159">
                <a:moveTo>
                  <a:pt x="17" y="158"/>
                </a:moveTo>
                <a:cubicBezTo>
                  <a:pt x="11" y="158"/>
                  <a:pt x="8" y="155"/>
                  <a:pt x="5" y="153"/>
                </a:cubicBezTo>
                <a:cubicBezTo>
                  <a:pt x="0" y="147"/>
                  <a:pt x="3" y="138"/>
                  <a:pt x="8" y="133"/>
                </a:cubicBezTo>
                <a:lnTo>
                  <a:pt x="180" y="6"/>
                </a:lnTo>
                <a:cubicBezTo>
                  <a:pt x="186" y="0"/>
                  <a:pt x="195" y="3"/>
                  <a:pt x="200" y="9"/>
                </a:cubicBezTo>
                <a:cubicBezTo>
                  <a:pt x="206" y="14"/>
                  <a:pt x="203" y="23"/>
                  <a:pt x="197" y="28"/>
                </a:cubicBezTo>
                <a:lnTo>
                  <a:pt x="25" y="155"/>
                </a:lnTo>
                <a:cubicBezTo>
                  <a:pt x="22" y="158"/>
                  <a:pt x="20" y="158"/>
                  <a:pt x="17" y="15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7"/>
          <p:cNvSpPr/>
          <p:nvPr/>
        </p:nvSpPr>
        <p:spPr>
          <a:xfrm>
            <a:off x="2205000" y="1544760"/>
            <a:ext cx="139680" cy="108000"/>
          </a:xfrm>
          <a:custGeom>
            <a:avLst/>
            <a:gdLst/>
            <a:ahLst/>
            <a:rect l="l" t="t" r="r" b="b"/>
            <a:pathLst>
              <a:path w="207" h="159">
                <a:moveTo>
                  <a:pt x="189" y="158"/>
                </a:moveTo>
                <a:cubicBezTo>
                  <a:pt x="186" y="158"/>
                  <a:pt x="183" y="158"/>
                  <a:pt x="180" y="155"/>
                </a:cubicBezTo>
                <a:lnTo>
                  <a:pt x="8" y="28"/>
                </a:lnTo>
                <a:cubicBezTo>
                  <a:pt x="3" y="23"/>
                  <a:pt x="0" y="14"/>
                  <a:pt x="5" y="9"/>
                </a:cubicBezTo>
                <a:cubicBezTo>
                  <a:pt x="11" y="3"/>
                  <a:pt x="19" y="0"/>
                  <a:pt x="25" y="6"/>
                </a:cubicBezTo>
                <a:lnTo>
                  <a:pt x="197" y="133"/>
                </a:lnTo>
                <a:cubicBezTo>
                  <a:pt x="203" y="138"/>
                  <a:pt x="206" y="147"/>
                  <a:pt x="200" y="153"/>
                </a:cubicBezTo>
                <a:cubicBezTo>
                  <a:pt x="197" y="155"/>
                  <a:pt x="194" y="158"/>
                  <a:pt x="189" y="15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8"/>
          <p:cNvSpPr/>
          <p:nvPr/>
        </p:nvSpPr>
        <p:spPr>
          <a:xfrm>
            <a:off x="2205000" y="1614600"/>
            <a:ext cx="311040" cy="125280"/>
          </a:xfrm>
          <a:custGeom>
            <a:avLst/>
            <a:gdLst/>
            <a:ahLst/>
            <a:rect l="l" t="t" r="r" b="b"/>
            <a:pathLst>
              <a:path w="458" h="187">
                <a:moveTo>
                  <a:pt x="440" y="183"/>
                </a:moveTo>
                <a:cubicBezTo>
                  <a:pt x="437" y="183"/>
                  <a:pt x="434" y="183"/>
                  <a:pt x="431" y="180"/>
                </a:cubicBezTo>
                <a:lnTo>
                  <a:pt x="228" y="31"/>
                </a:lnTo>
                <a:lnTo>
                  <a:pt x="25" y="180"/>
                </a:lnTo>
                <a:cubicBezTo>
                  <a:pt x="19" y="186"/>
                  <a:pt x="11" y="183"/>
                  <a:pt x="5" y="178"/>
                </a:cubicBezTo>
                <a:cubicBezTo>
                  <a:pt x="0" y="172"/>
                  <a:pt x="3" y="163"/>
                  <a:pt x="8" y="158"/>
                </a:cubicBezTo>
                <a:lnTo>
                  <a:pt x="220" y="3"/>
                </a:lnTo>
                <a:cubicBezTo>
                  <a:pt x="225" y="0"/>
                  <a:pt x="231" y="0"/>
                  <a:pt x="237" y="3"/>
                </a:cubicBezTo>
                <a:lnTo>
                  <a:pt x="448" y="158"/>
                </a:lnTo>
                <a:cubicBezTo>
                  <a:pt x="454" y="163"/>
                  <a:pt x="457" y="172"/>
                  <a:pt x="451" y="178"/>
                </a:cubicBezTo>
                <a:cubicBezTo>
                  <a:pt x="448" y="180"/>
                  <a:pt x="446" y="183"/>
                  <a:pt x="440" y="18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9"/>
          <p:cNvSpPr/>
          <p:nvPr/>
        </p:nvSpPr>
        <p:spPr>
          <a:xfrm>
            <a:off x="2243160" y="1440000"/>
            <a:ext cx="230040" cy="152280"/>
          </a:xfrm>
          <a:custGeom>
            <a:avLst/>
            <a:gdLst/>
            <a:ahLst/>
            <a:rect l="l" t="t" r="r" b="b"/>
            <a:pathLst>
              <a:path w="340" h="226">
                <a:moveTo>
                  <a:pt x="324" y="225"/>
                </a:moveTo>
                <a:cubicBezTo>
                  <a:pt x="316" y="225"/>
                  <a:pt x="310" y="220"/>
                  <a:pt x="310" y="211"/>
                </a:cubicBezTo>
                <a:lnTo>
                  <a:pt x="310" y="28"/>
                </a:lnTo>
                <a:lnTo>
                  <a:pt x="28" y="28"/>
                </a:lnTo>
                <a:lnTo>
                  <a:pt x="28" y="211"/>
                </a:lnTo>
                <a:cubicBezTo>
                  <a:pt x="28" y="220"/>
                  <a:pt x="22" y="225"/>
                  <a:pt x="14" y="225"/>
                </a:cubicBezTo>
                <a:cubicBezTo>
                  <a:pt x="5" y="225"/>
                  <a:pt x="0" y="220"/>
                  <a:pt x="0" y="211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310" y="0"/>
                </a:lnTo>
                <a:cubicBezTo>
                  <a:pt x="327" y="0"/>
                  <a:pt x="339" y="11"/>
                  <a:pt x="339" y="28"/>
                </a:cubicBezTo>
                <a:lnTo>
                  <a:pt x="339" y="211"/>
                </a:lnTo>
                <a:cubicBezTo>
                  <a:pt x="339" y="220"/>
                  <a:pt x="333" y="225"/>
                  <a:pt x="324" y="22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0"/>
          <p:cNvSpPr/>
          <p:nvPr/>
        </p:nvSpPr>
        <p:spPr>
          <a:xfrm>
            <a:off x="2282760" y="1479600"/>
            <a:ext cx="152640" cy="20520"/>
          </a:xfrm>
          <a:custGeom>
            <a:avLst/>
            <a:gdLst/>
            <a:ahLst/>
            <a:rect l="l" t="t" r="r" b="b"/>
            <a:pathLst>
              <a:path w="227" h="29">
                <a:moveTo>
                  <a:pt x="212" y="28"/>
                </a:moveTo>
                <a:lnTo>
                  <a:pt x="15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5" y="0"/>
                </a:cubicBezTo>
                <a:lnTo>
                  <a:pt x="212" y="0"/>
                </a:lnTo>
                <a:cubicBezTo>
                  <a:pt x="221" y="0"/>
                  <a:pt x="226" y="5"/>
                  <a:pt x="226" y="14"/>
                </a:cubicBezTo>
                <a:cubicBezTo>
                  <a:pt x="226" y="22"/>
                  <a:pt x="221" y="28"/>
                  <a:pt x="21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1"/>
          <p:cNvSpPr/>
          <p:nvPr/>
        </p:nvSpPr>
        <p:spPr>
          <a:xfrm>
            <a:off x="2282760" y="1517760"/>
            <a:ext cx="152640" cy="20520"/>
          </a:xfrm>
          <a:custGeom>
            <a:avLst/>
            <a:gdLst/>
            <a:ahLst/>
            <a:rect l="l" t="t" r="r" b="b"/>
            <a:pathLst>
              <a:path w="227" h="29">
                <a:moveTo>
                  <a:pt x="212" y="28"/>
                </a:moveTo>
                <a:lnTo>
                  <a:pt x="15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5" y="0"/>
                </a:cubicBezTo>
                <a:lnTo>
                  <a:pt x="212" y="0"/>
                </a:lnTo>
                <a:cubicBezTo>
                  <a:pt x="221" y="0"/>
                  <a:pt x="226" y="5"/>
                  <a:pt x="226" y="14"/>
                </a:cubicBezTo>
                <a:cubicBezTo>
                  <a:pt x="226" y="22"/>
                  <a:pt x="221" y="28"/>
                  <a:pt x="21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2"/>
          <p:cNvSpPr/>
          <p:nvPr/>
        </p:nvSpPr>
        <p:spPr>
          <a:xfrm>
            <a:off x="2282760" y="1554120"/>
            <a:ext cx="95400" cy="2052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5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5" y="0"/>
                </a:cubicBezTo>
                <a:lnTo>
                  <a:pt x="127" y="0"/>
                </a:lnTo>
                <a:cubicBezTo>
                  <a:pt x="136" y="0"/>
                  <a:pt x="141" y="5"/>
                  <a:pt x="141" y="14"/>
                </a:cubicBezTo>
                <a:cubicBezTo>
                  <a:pt x="141" y="22"/>
                  <a:pt x="136" y="28"/>
                  <a:pt x="12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3"/>
          <p:cNvSpPr/>
          <p:nvPr/>
        </p:nvSpPr>
        <p:spPr>
          <a:xfrm>
            <a:off x="3027240" y="1459080"/>
            <a:ext cx="247680" cy="172800"/>
          </a:xfrm>
          <a:custGeom>
            <a:avLst/>
            <a:gdLst/>
            <a:ahLst/>
            <a:rect l="l" t="t" r="r" b="b"/>
            <a:pathLst>
              <a:path w="368" h="255">
                <a:moveTo>
                  <a:pt x="339" y="254"/>
                </a:moveTo>
                <a:lnTo>
                  <a:pt x="324" y="254"/>
                </a:lnTo>
                <a:cubicBezTo>
                  <a:pt x="316" y="254"/>
                  <a:pt x="310" y="248"/>
                  <a:pt x="310" y="240"/>
                </a:cubicBezTo>
                <a:cubicBezTo>
                  <a:pt x="310" y="231"/>
                  <a:pt x="316" y="226"/>
                  <a:pt x="324" y="226"/>
                </a:cubicBezTo>
                <a:lnTo>
                  <a:pt x="339" y="226"/>
                </a:lnTo>
                <a:lnTo>
                  <a:pt x="339" y="28"/>
                </a:lnTo>
                <a:lnTo>
                  <a:pt x="28" y="28"/>
                </a:lnTo>
                <a:lnTo>
                  <a:pt x="28" y="99"/>
                </a:lnTo>
                <a:cubicBezTo>
                  <a:pt x="28" y="107"/>
                  <a:pt x="22" y="113"/>
                  <a:pt x="14" y="113"/>
                </a:cubicBezTo>
                <a:cubicBezTo>
                  <a:pt x="5" y="113"/>
                  <a:pt x="0" y="107"/>
                  <a:pt x="0" y="99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339" y="0"/>
                </a:lnTo>
                <a:cubicBezTo>
                  <a:pt x="356" y="0"/>
                  <a:pt x="367" y="11"/>
                  <a:pt x="367" y="28"/>
                </a:cubicBezTo>
                <a:lnTo>
                  <a:pt x="367" y="226"/>
                </a:lnTo>
                <a:cubicBezTo>
                  <a:pt x="367" y="243"/>
                  <a:pt x="356" y="254"/>
                  <a:pt x="339" y="25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4"/>
          <p:cNvSpPr/>
          <p:nvPr/>
        </p:nvSpPr>
        <p:spPr>
          <a:xfrm>
            <a:off x="3192480" y="1467000"/>
            <a:ext cx="85680" cy="69840"/>
          </a:xfrm>
          <a:custGeom>
            <a:avLst/>
            <a:gdLst/>
            <a:ahLst/>
            <a:rect l="l" t="t" r="r" b="b"/>
            <a:pathLst>
              <a:path w="128" h="103">
                <a:moveTo>
                  <a:pt x="17" y="102"/>
                </a:moveTo>
                <a:cubicBezTo>
                  <a:pt x="11" y="102"/>
                  <a:pt x="8" y="99"/>
                  <a:pt x="5" y="96"/>
                </a:cubicBezTo>
                <a:cubicBezTo>
                  <a:pt x="0" y="91"/>
                  <a:pt x="2" y="82"/>
                  <a:pt x="8" y="76"/>
                </a:cubicBezTo>
                <a:lnTo>
                  <a:pt x="101" y="6"/>
                </a:lnTo>
                <a:cubicBezTo>
                  <a:pt x="107" y="0"/>
                  <a:pt x="115" y="3"/>
                  <a:pt x="121" y="9"/>
                </a:cubicBezTo>
                <a:cubicBezTo>
                  <a:pt x="127" y="14"/>
                  <a:pt x="124" y="23"/>
                  <a:pt x="118" y="28"/>
                </a:cubicBezTo>
                <a:lnTo>
                  <a:pt x="25" y="99"/>
                </a:lnTo>
                <a:cubicBezTo>
                  <a:pt x="22" y="102"/>
                  <a:pt x="19" y="102"/>
                  <a:pt x="17" y="10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5"/>
          <p:cNvSpPr/>
          <p:nvPr/>
        </p:nvSpPr>
        <p:spPr>
          <a:xfrm>
            <a:off x="3027240" y="1467000"/>
            <a:ext cx="87480" cy="69840"/>
          </a:xfrm>
          <a:custGeom>
            <a:avLst/>
            <a:gdLst/>
            <a:ahLst/>
            <a:rect l="l" t="t" r="r" b="b"/>
            <a:pathLst>
              <a:path w="128" h="103">
                <a:moveTo>
                  <a:pt x="110" y="102"/>
                </a:moveTo>
                <a:cubicBezTo>
                  <a:pt x="107" y="102"/>
                  <a:pt x="105" y="102"/>
                  <a:pt x="102" y="99"/>
                </a:cubicBezTo>
                <a:lnTo>
                  <a:pt x="9" y="28"/>
                </a:lnTo>
                <a:cubicBezTo>
                  <a:pt x="3" y="23"/>
                  <a:pt x="0" y="14"/>
                  <a:pt x="6" y="9"/>
                </a:cubicBezTo>
                <a:cubicBezTo>
                  <a:pt x="11" y="3"/>
                  <a:pt x="20" y="0"/>
                  <a:pt x="26" y="6"/>
                </a:cubicBezTo>
                <a:lnTo>
                  <a:pt x="119" y="76"/>
                </a:lnTo>
                <a:cubicBezTo>
                  <a:pt x="124" y="82"/>
                  <a:pt x="127" y="91"/>
                  <a:pt x="121" y="96"/>
                </a:cubicBezTo>
                <a:cubicBezTo>
                  <a:pt x="119" y="99"/>
                  <a:pt x="116" y="102"/>
                  <a:pt x="110" y="10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6"/>
          <p:cNvSpPr/>
          <p:nvPr/>
        </p:nvSpPr>
        <p:spPr>
          <a:xfrm>
            <a:off x="2970360" y="1554120"/>
            <a:ext cx="247680" cy="173160"/>
          </a:xfrm>
          <a:custGeom>
            <a:avLst/>
            <a:gdLst/>
            <a:ahLst/>
            <a:rect l="l" t="t" r="r" b="b"/>
            <a:pathLst>
              <a:path w="368" h="255">
                <a:moveTo>
                  <a:pt x="339" y="254"/>
                </a:moveTo>
                <a:lnTo>
                  <a:pt x="29" y="254"/>
                </a:lnTo>
                <a:cubicBezTo>
                  <a:pt x="12" y="254"/>
                  <a:pt x="0" y="243"/>
                  <a:pt x="0" y="226"/>
                </a:cubicBezTo>
                <a:lnTo>
                  <a:pt x="0" y="28"/>
                </a:lnTo>
                <a:cubicBezTo>
                  <a:pt x="0" y="11"/>
                  <a:pt x="12" y="0"/>
                  <a:pt x="29" y="0"/>
                </a:cubicBezTo>
                <a:lnTo>
                  <a:pt x="339" y="0"/>
                </a:lnTo>
                <a:cubicBezTo>
                  <a:pt x="356" y="0"/>
                  <a:pt x="367" y="11"/>
                  <a:pt x="367" y="28"/>
                </a:cubicBezTo>
                <a:lnTo>
                  <a:pt x="367" y="226"/>
                </a:lnTo>
                <a:cubicBezTo>
                  <a:pt x="367" y="243"/>
                  <a:pt x="356" y="254"/>
                  <a:pt x="339" y="254"/>
                </a:cubicBezTo>
                <a:close/>
                <a:moveTo>
                  <a:pt x="29" y="28"/>
                </a:moveTo>
                <a:lnTo>
                  <a:pt x="29" y="226"/>
                </a:lnTo>
                <a:lnTo>
                  <a:pt x="339" y="226"/>
                </a:lnTo>
                <a:lnTo>
                  <a:pt x="339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7"/>
          <p:cNvSpPr/>
          <p:nvPr/>
        </p:nvSpPr>
        <p:spPr>
          <a:xfrm>
            <a:off x="2967120" y="1563840"/>
            <a:ext cx="253800" cy="106200"/>
          </a:xfrm>
          <a:custGeom>
            <a:avLst/>
            <a:gdLst/>
            <a:ahLst/>
            <a:rect l="l" t="t" r="r" b="b"/>
            <a:pathLst>
              <a:path w="374" h="159">
                <a:moveTo>
                  <a:pt x="187" y="158"/>
                </a:moveTo>
                <a:cubicBezTo>
                  <a:pt x="184" y="158"/>
                  <a:pt x="181" y="158"/>
                  <a:pt x="178" y="156"/>
                </a:cubicBezTo>
                <a:lnTo>
                  <a:pt x="9" y="29"/>
                </a:lnTo>
                <a:cubicBezTo>
                  <a:pt x="3" y="23"/>
                  <a:pt x="0" y="14"/>
                  <a:pt x="6" y="9"/>
                </a:cubicBezTo>
                <a:cubicBezTo>
                  <a:pt x="12" y="3"/>
                  <a:pt x="20" y="0"/>
                  <a:pt x="26" y="6"/>
                </a:cubicBezTo>
                <a:lnTo>
                  <a:pt x="187" y="127"/>
                </a:lnTo>
                <a:lnTo>
                  <a:pt x="348" y="6"/>
                </a:lnTo>
                <a:cubicBezTo>
                  <a:pt x="353" y="0"/>
                  <a:pt x="362" y="3"/>
                  <a:pt x="367" y="9"/>
                </a:cubicBezTo>
                <a:cubicBezTo>
                  <a:pt x="373" y="14"/>
                  <a:pt x="370" y="23"/>
                  <a:pt x="365" y="29"/>
                </a:cubicBezTo>
                <a:lnTo>
                  <a:pt x="195" y="156"/>
                </a:lnTo>
                <a:cubicBezTo>
                  <a:pt x="192" y="158"/>
                  <a:pt x="190" y="158"/>
                  <a:pt x="187" y="15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8"/>
          <p:cNvSpPr/>
          <p:nvPr/>
        </p:nvSpPr>
        <p:spPr>
          <a:xfrm>
            <a:off x="3111480" y="1628640"/>
            <a:ext cx="109440" cy="90720"/>
          </a:xfrm>
          <a:custGeom>
            <a:avLst/>
            <a:gdLst/>
            <a:ahLst/>
            <a:rect l="l" t="t" r="r" b="b"/>
            <a:pathLst>
              <a:path w="165" h="131">
                <a:moveTo>
                  <a:pt x="147" y="130"/>
                </a:moveTo>
                <a:cubicBezTo>
                  <a:pt x="144" y="130"/>
                  <a:pt x="141" y="130"/>
                  <a:pt x="139" y="127"/>
                </a:cubicBezTo>
                <a:lnTo>
                  <a:pt x="9" y="28"/>
                </a:lnTo>
                <a:cubicBezTo>
                  <a:pt x="3" y="23"/>
                  <a:pt x="0" y="14"/>
                  <a:pt x="6" y="9"/>
                </a:cubicBezTo>
                <a:cubicBezTo>
                  <a:pt x="12" y="3"/>
                  <a:pt x="20" y="0"/>
                  <a:pt x="26" y="6"/>
                </a:cubicBezTo>
                <a:lnTo>
                  <a:pt x="156" y="105"/>
                </a:lnTo>
                <a:cubicBezTo>
                  <a:pt x="161" y="110"/>
                  <a:pt x="164" y="119"/>
                  <a:pt x="158" y="124"/>
                </a:cubicBezTo>
                <a:cubicBezTo>
                  <a:pt x="156" y="127"/>
                  <a:pt x="153" y="130"/>
                  <a:pt x="147" y="13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9"/>
          <p:cNvSpPr/>
          <p:nvPr/>
        </p:nvSpPr>
        <p:spPr>
          <a:xfrm>
            <a:off x="2967120" y="1628640"/>
            <a:ext cx="110880" cy="90720"/>
          </a:xfrm>
          <a:custGeom>
            <a:avLst/>
            <a:gdLst/>
            <a:ahLst/>
            <a:rect l="l" t="t" r="r" b="b"/>
            <a:pathLst>
              <a:path w="165" h="131">
                <a:moveTo>
                  <a:pt x="17" y="130"/>
                </a:moveTo>
                <a:cubicBezTo>
                  <a:pt x="12" y="130"/>
                  <a:pt x="9" y="127"/>
                  <a:pt x="6" y="124"/>
                </a:cubicBezTo>
                <a:cubicBezTo>
                  <a:pt x="0" y="119"/>
                  <a:pt x="3" y="110"/>
                  <a:pt x="9" y="105"/>
                </a:cubicBezTo>
                <a:lnTo>
                  <a:pt x="139" y="6"/>
                </a:lnTo>
                <a:cubicBezTo>
                  <a:pt x="144" y="0"/>
                  <a:pt x="153" y="3"/>
                  <a:pt x="159" y="9"/>
                </a:cubicBezTo>
                <a:cubicBezTo>
                  <a:pt x="164" y="14"/>
                  <a:pt x="161" y="23"/>
                  <a:pt x="156" y="28"/>
                </a:cubicBezTo>
                <a:lnTo>
                  <a:pt x="26" y="127"/>
                </a:lnTo>
                <a:cubicBezTo>
                  <a:pt x="23" y="130"/>
                  <a:pt x="20" y="130"/>
                  <a:pt x="17" y="13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0"/>
          <p:cNvSpPr/>
          <p:nvPr/>
        </p:nvSpPr>
        <p:spPr>
          <a:xfrm>
            <a:off x="3735360" y="1592280"/>
            <a:ext cx="309600" cy="135000"/>
          </a:xfrm>
          <a:custGeom>
            <a:avLst/>
            <a:gdLst/>
            <a:ahLst/>
            <a:rect l="l" t="t" r="r" b="b"/>
            <a:pathLst>
              <a:path w="453" h="199">
                <a:moveTo>
                  <a:pt x="423" y="198"/>
                </a:moveTo>
                <a:lnTo>
                  <a:pt x="28" y="198"/>
                </a:lnTo>
                <a:cubicBezTo>
                  <a:pt x="11" y="198"/>
                  <a:pt x="0" y="187"/>
                  <a:pt x="0" y="170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lnTo>
                  <a:pt x="99" y="0"/>
                </a:lnTo>
                <a:cubicBezTo>
                  <a:pt x="104" y="0"/>
                  <a:pt x="110" y="3"/>
                  <a:pt x="110" y="9"/>
                </a:cubicBezTo>
                <a:lnTo>
                  <a:pt x="136" y="57"/>
                </a:lnTo>
                <a:lnTo>
                  <a:pt x="316" y="57"/>
                </a:lnTo>
                <a:lnTo>
                  <a:pt x="342" y="9"/>
                </a:lnTo>
                <a:cubicBezTo>
                  <a:pt x="344" y="3"/>
                  <a:pt x="350" y="0"/>
                  <a:pt x="353" y="0"/>
                </a:cubicBezTo>
                <a:lnTo>
                  <a:pt x="437" y="0"/>
                </a:lnTo>
                <a:cubicBezTo>
                  <a:pt x="446" y="0"/>
                  <a:pt x="452" y="6"/>
                  <a:pt x="452" y="15"/>
                </a:cubicBezTo>
                <a:lnTo>
                  <a:pt x="452" y="170"/>
                </a:lnTo>
                <a:cubicBezTo>
                  <a:pt x="452" y="187"/>
                  <a:pt x="440" y="198"/>
                  <a:pt x="423" y="198"/>
                </a:cubicBezTo>
                <a:close/>
                <a:moveTo>
                  <a:pt x="28" y="29"/>
                </a:moveTo>
                <a:lnTo>
                  <a:pt x="28" y="170"/>
                </a:lnTo>
                <a:lnTo>
                  <a:pt x="423" y="170"/>
                </a:lnTo>
                <a:lnTo>
                  <a:pt x="423" y="29"/>
                </a:lnTo>
                <a:lnTo>
                  <a:pt x="361" y="29"/>
                </a:lnTo>
                <a:lnTo>
                  <a:pt x="336" y="77"/>
                </a:lnTo>
                <a:cubicBezTo>
                  <a:pt x="333" y="82"/>
                  <a:pt x="327" y="85"/>
                  <a:pt x="325" y="85"/>
                </a:cubicBezTo>
                <a:lnTo>
                  <a:pt x="127" y="85"/>
                </a:lnTo>
                <a:cubicBezTo>
                  <a:pt x="121" y="85"/>
                  <a:pt x="116" y="82"/>
                  <a:pt x="116" y="77"/>
                </a:cubicBezTo>
                <a:lnTo>
                  <a:pt x="90" y="29"/>
                </a:lnTo>
                <a:lnTo>
                  <a:pt x="2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1"/>
          <p:cNvSpPr/>
          <p:nvPr/>
        </p:nvSpPr>
        <p:spPr>
          <a:xfrm>
            <a:off x="3733920" y="1479600"/>
            <a:ext cx="307800" cy="135000"/>
          </a:xfrm>
          <a:custGeom>
            <a:avLst/>
            <a:gdLst/>
            <a:ahLst/>
            <a:rect l="l" t="t" r="r" b="b"/>
            <a:pathLst>
              <a:path w="453" h="199">
                <a:moveTo>
                  <a:pt x="440" y="195"/>
                </a:moveTo>
                <a:cubicBezTo>
                  <a:pt x="435" y="195"/>
                  <a:pt x="432" y="192"/>
                  <a:pt x="429" y="189"/>
                </a:cubicBezTo>
                <a:lnTo>
                  <a:pt x="333" y="25"/>
                </a:lnTo>
                <a:lnTo>
                  <a:pt x="124" y="25"/>
                </a:lnTo>
                <a:lnTo>
                  <a:pt x="28" y="189"/>
                </a:lnTo>
                <a:cubicBezTo>
                  <a:pt x="26" y="195"/>
                  <a:pt x="17" y="198"/>
                  <a:pt x="9" y="195"/>
                </a:cubicBezTo>
                <a:cubicBezTo>
                  <a:pt x="3" y="192"/>
                  <a:pt x="0" y="183"/>
                  <a:pt x="3" y="175"/>
                </a:cubicBezTo>
                <a:lnTo>
                  <a:pt x="102" y="6"/>
                </a:lnTo>
                <a:cubicBezTo>
                  <a:pt x="105" y="0"/>
                  <a:pt x="110" y="0"/>
                  <a:pt x="113" y="0"/>
                </a:cubicBezTo>
                <a:lnTo>
                  <a:pt x="339" y="0"/>
                </a:lnTo>
                <a:cubicBezTo>
                  <a:pt x="345" y="0"/>
                  <a:pt x="347" y="3"/>
                  <a:pt x="350" y="6"/>
                </a:cubicBezTo>
                <a:lnTo>
                  <a:pt x="449" y="175"/>
                </a:lnTo>
                <a:cubicBezTo>
                  <a:pt x="452" y="181"/>
                  <a:pt x="452" y="189"/>
                  <a:pt x="443" y="195"/>
                </a:cubicBezTo>
                <a:lnTo>
                  <a:pt x="440" y="19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2"/>
          <p:cNvSpPr/>
          <p:nvPr/>
        </p:nvSpPr>
        <p:spPr>
          <a:xfrm>
            <a:off x="3832200" y="1517760"/>
            <a:ext cx="115920" cy="20520"/>
          </a:xfrm>
          <a:custGeom>
            <a:avLst/>
            <a:gdLst/>
            <a:ahLst/>
            <a:rect l="l" t="t" r="r" b="b"/>
            <a:pathLst>
              <a:path w="170" h="29">
                <a:moveTo>
                  <a:pt x="155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55" y="0"/>
                </a:lnTo>
                <a:cubicBezTo>
                  <a:pt x="164" y="0"/>
                  <a:pt x="169" y="5"/>
                  <a:pt x="169" y="14"/>
                </a:cubicBezTo>
                <a:cubicBezTo>
                  <a:pt x="169" y="22"/>
                  <a:pt x="164" y="28"/>
                  <a:pt x="155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3"/>
          <p:cNvSpPr/>
          <p:nvPr/>
        </p:nvSpPr>
        <p:spPr>
          <a:xfrm>
            <a:off x="3813120" y="1554120"/>
            <a:ext cx="154080" cy="20520"/>
          </a:xfrm>
          <a:custGeom>
            <a:avLst/>
            <a:gdLst/>
            <a:ahLst/>
            <a:rect l="l" t="t" r="r" b="b"/>
            <a:pathLst>
              <a:path w="227" h="29">
                <a:moveTo>
                  <a:pt x="212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212" y="0"/>
                </a:lnTo>
                <a:cubicBezTo>
                  <a:pt x="220" y="0"/>
                  <a:pt x="226" y="5"/>
                  <a:pt x="226" y="14"/>
                </a:cubicBezTo>
                <a:cubicBezTo>
                  <a:pt x="226" y="22"/>
                  <a:pt x="220" y="28"/>
                  <a:pt x="21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4"/>
          <p:cNvSpPr/>
          <p:nvPr/>
        </p:nvSpPr>
        <p:spPr>
          <a:xfrm>
            <a:off x="1438200" y="3106800"/>
            <a:ext cx="135000" cy="172800"/>
          </a:xfrm>
          <a:custGeom>
            <a:avLst/>
            <a:gdLst/>
            <a:ahLst/>
            <a:rect l="l" t="t" r="r" b="b"/>
            <a:pathLst>
              <a:path w="198" h="255">
                <a:moveTo>
                  <a:pt x="183" y="254"/>
                </a:moveTo>
                <a:lnTo>
                  <a:pt x="14" y="254"/>
                </a:lnTo>
                <a:cubicBezTo>
                  <a:pt x="5" y="254"/>
                  <a:pt x="0" y="248"/>
                  <a:pt x="0" y="24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183" y="0"/>
                </a:lnTo>
                <a:cubicBezTo>
                  <a:pt x="192" y="0"/>
                  <a:pt x="197" y="5"/>
                  <a:pt x="197" y="14"/>
                </a:cubicBezTo>
                <a:lnTo>
                  <a:pt x="197" y="240"/>
                </a:lnTo>
                <a:cubicBezTo>
                  <a:pt x="197" y="248"/>
                  <a:pt x="192" y="254"/>
                  <a:pt x="183" y="254"/>
                </a:cubicBezTo>
                <a:close/>
                <a:moveTo>
                  <a:pt x="28" y="226"/>
                </a:moveTo>
                <a:lnTo>
                  <a:pt x="169" y="226"/>
                </a:lnTo>
                <a:lnTo>
                  <a:pt x="169" y="28"/>
                </a:lnTo>
                <a:lnTo>
                  <a:pt x="28" y="28"/>
                </a:lnTo>
                <a:lnTo>
                  <a:pt x="28" y="2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5"/>
          <p:cNvSpPr/>
          <p:nvPr/>
        </p:nvSpPr>
        <p:spPr>
          <a:xfrm>
            <a:off x="1495440" y="2971800"/>
            <a:ext cx="173160" cy="152280"/>
          </a:xfrm>
          <a:custGeom>
            <a:avLst/>
            <a:gdLst/>
            <a:ahLst/>
            <a:rect l="l" t="t" r="r" b="b"/>
            <a:pathLst>
              <a:path w="255" h="227">
                <a:moveTo>
                  <a:pt x="15" y="226"/>
                </a:moveTo>
                <a:cubicBezTo>
                  <a:pt x="6" y="226"/>
                  <a:pt x="0" y="220"/>
                  <a:pt x="0" y="212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lnTo>
                  <a:pt x="240" y="0"/>
                </a:lnTo>
                <a:cubicBezTo>
                  <a:pt x="249" y="0"/>
                  <a:pt x="254" y="6"/>
                  <a:pt x="254" y="14"/>
                </a:cubicBezTo>
                <a:lnTo>
                  <a:pt x="254" y="127"/>
                </a:lnTo>
                <a:cubicBezTo>
                  <a:pt x="254" y="136"/>
                  <a:pt x="248" y="141"/>
                  <a:pt x="240" y="141"/>
                </a:cubicBezTo>
                <a:cubicBezTo>
                  <a:pt x="231" y="141"/>
                  <a:pt x="226" y="136"/>
                  <a:pt x="226" y="127"/>
                </a:cubicBezTo>
                <a:lnTo>
                  <a:pt x="226" y="29"/>
                </a:lnTo>
                <a:lnTo>
                  <a:pt x="29" y="29"/>
                </a:lnTo>
                <a:lnTo>
                  <a:pt x="29" y="212"/>
                </a:lnTo>
                <a:cubicBezTo>
                  <a:pt x="29" y="220"/>
                  <a:pt x="23" y="226"/>
                  <a:pt x="15" y="22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6"/>
          <p:cNvSpPr/>
          <p:nvPr/>
        </p:nvSpPr>
        <p:spPr>
          <a:xfrm>
            <a:off x="1555920" y="3049560"/>
            <a:ext cx="190440" cy="230040"/>
          </a:xfrm>
          <a:custGeom>
            <a:avLst/>
            <a:gdLst/>
            <a:ahLst/>
            <a:rect l="l" t="t" r="r" b="b"/>
            <a:pathLst>
              <a:path w="283" h="340">
                <a:moveTo>
                  <a:pt x="268" y="339"/>
                </a:moveTo>
                <a:lnTo>
                  <a:pt x="14" y="339"/>
                </a:lnTo>
                <a:cubicBezTo>
                  <a:pt x="6" y="339"/>
                  <a:pt x="0" y="333"/>
                  <a:pt x="0" y="325"/>
                </a:cubicBezTo>
                <a:lnTo>
                  <a:pt x="0" y="155"/>
                </a:lnTo>
                <a:cubicBezTo>
                  <a:pt x="0" y="150"/>
                  <a:pt x="3" y="147"/>
                  <a:pt x="6" y="144"/>
                </a:cubicBezTo>
                <a:lnTo>
                  <a:pt x="85" y="90"/>
                </a:lnTo>
                <a:lnTo>
                  <a:pt x="85" y="14"/>
                </a:lnTo>
                <a:cubicBezTo>
                  <a:pt x="85" y="6"/>
                  <a:pt x="90" y="0"/>
                  <a:pt x="99" y="0"/>
                </a:cubicBezTo>
                <a:lnTo>
                  <a:pt x="268" y="0"/>
                </a:lnTo>
                <a:cubicBezTo>
                  <a:pt x="277" y="0"/>
                  <a:pt x="282" y="6"/>
                  <a:pt x="282" y="14"/>
                </a:cubicBezTo>
                <a:lnTo>
                  <a:pt x="282" y="325"/>
                </a:lnTo>
                <a:cubicBezTo>
                  <a:pt x="282" y="333"/>
                  <a:pt x="277" y="339"/>
                  <a:pt x="268" y="339"/>
                </a:cubicBezTo>
                <a:close/>
                <a:moveTo>
                  <a:pt x="28" y="311"/>
                </a:moveTo>
                <a:lnTo>
                  <a:pt x="254" y="311"/>
                </a:lnTo>
                <a:lnTo>
                  <a:pt x="254" y="28"/>
                </a:lnTo>
                <a:lnTo>
                  <a:pt x="113" y="28"/>
                </a:lnTo>
                <a:lnTo>
                  <a:pt x="113" y="99"/>
                </a:lnTo>
                <a:cubicBezTo>
                  <a:pt x="113" y="105"/>
                  <a:pt x="110" y="107"/>
                  <a:pt x="107" y="110"/>
                </a:cubicBezTo>
                <a:lnTo>
                  <a:pt x="28" y="164"/>
                </a:lnTo>
                <a:lnTo>
                  <a:pt x="28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7"/>
          <p:cNvSpPr/>
          <p:nvPr/>
        </p:nvSpPr>
        <p:spPr>
          <a:xfrm>
            <a:off x="1477800" y="3144960"/>
            <a:ext cx="2088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8"/>
          <p:cNvSpPr/>
          <p:nvPr/>
        </p:nvSpPr>
        <p:spPr>
          <a:xfrm>
            <a:off x="1515960" y="3144960"/>
            <a:ext cx="2232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9"/>
          <p:cNvSpPr/>
          <p:nvPr/>
        </p:nvSpPr>
        <p:spPr>
          <a:xfrm>
            <a:off x="1477800" y="318132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0"/>
          <p:cNvSpPr/>
          <p:nvPr/>
        </p:nvSpPr>
        <p:spPr>
          <a:xfrm>
            <a:off x="1515960" y="3181320"/>
            <a:ext cx="223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1"/>
          <p:cNvSpPr/>
          <p:nvPr/>
        </p:nvSpPr>
        <p:spPr>
          <a:xfrm>
            <a:off x="1535040" y="3011400"/>
            <a:ext cx="20880" cy="208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2"/>
          <p:cNvSpPr/>
          <p:nvPr/>
        </p:nvSpPr>
        <p:spPr>
          <a:xfrm>
            <a:off x="1573200" y="3011400"/>
            <a:ext cx="20520" cy="208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3"/>
          <p:cNvSpPr/>
          <p:nvPr/>
        </p:nvSpPr>
        <p:spPr>
          <a:xfrm>
            <a:off x="1535040" y="304956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4"/>
          <p:cNvSpPr/>
          <p:nvPr/>
        </p:nvSpPr>
        <p:spPr>
          <a:xfrm>
            <a:off x="1573200" y="304956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5"/>
          <p:cNvSpPr/>
          <p:nvPr/>
        </p:nvSpPr>
        <p:spPr>
          <a:xfrm>
            <a:off x="1612800" y="3011400"/>
            <a:ext cx="20880" cy="208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6"/>
          <p:cNvSpPr/>
          <p:nvPr/>
        </p:nvSpPr>
        <p:spPr>
          <a:xfrm>
            <a:off x="1650960" y="3164040"/>
            <a:ext cx="60480" cy="58680"/>
          </a:xfrm>
          <a:custGeom>
            <a:avLst/>
            <a:gdLst/>
            <a:ahLst/>
            <a:rect l="l" t="t" r="r" b="b"/>
            <a:pathLst>
              <a:path w="86" h="86">
                <a:moveTo>
                  <a:pt x="71" y="85"/>
                </a:moveTo>
                <a:lnTo>
                  <a:pt x="14" y="85"/>
                </a:lnTo>
                <a:cubicBezTo>
                  <a:pt x="6" y="85"/>
                  <a:pt x="0" y="80"/>
                  <a:pt x="0" y="71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lnTo>
                  <a:pt x="71" y="0"/>
                </a:lnTo>
                <a:cubicBezTo>
                  <a:pt x="79" y="0"/>
                  <a:pt x="85" y="6"/>
                  <a:pt x="85" y="15"/>
                </a:cubicBezTo>
                <a:lnTo>
                  <a:pt x="85" y="71"/>
                </a:lnTo>
                <a:cubicBezTo>
                  <a:pt x="85" y="80"/>
                  <a:pt x="79" y="85"/>
                  <a:pt x="71" y="85"/>
                </a:cubicBezTo>
                <a:close/>
                <a:moveTo>
                  <a:pt x="28" y="57"/>
                </a:moveTo>
                <a:lnTo>
                  <a:pt x="57" y="57"/>
                </a:lnTo>
                <a:lnTo>
                  <a:pt x="57" y="29"/>
                </a:lnTo>
                <a:lnTo>
                  <a:pt x="28" y="29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7"/>
          <p:cNvSpPr/>
          <p:nvPr/>
        </p:nvSpPr>
        <p:spPr>
          <a:xfrm>
            <a:off x="1650960" y="3086280"/>
            <a:ext cx="60480" cy="55440"/>
          </a:xfrm>
          <a:custGeom>
            <a:avLst/>
            <a:gdLst/>
            <a:ahLst/>
            <a:rect l="l" t="t" r="r" b="b"/>
            <a:pathLst>
              <a:path w="86" h="85">
                <a:moveTo>
                  <a:pt x="71" y="84"/>
                </a:moveTo>
                <a:lnTo>
                  <a:pt x="14" y="84"/>
                </a:lnTo>
                <a:cubicBezTo>
                  <a:pt x="6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71" y="0"/>
                </a:lnTo>
                <a:cubicBezTo>
                  <a:pt x="79" y="0"/>
                  <a:pt x="85" y="5"/>
                  <a:pt x="85" y="14"/>
                </a:cubicBezTo>
                <a:lnTo>
                  <a:pt x="85" y="70"/>
                </a:lnTo>
                <a:cubicBezTo>
                  <a:pt x="85" y="79"/>
                  <a:pt x="79" y="84"/>
                  <a:pt x="71" y="84"/>
                </a:cubicBezTo>
                <a:close/>
                <a:moveTo>
                  <a:pt x="28" y="56"/>
                </a:moveTo>
                <a:lnTo>
                  <a:pt x="57" y="56"/>
                </a:lnTo>
                <a:lnTo>
                  <a:pt x="57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8"/>
          <p:cNvSpPr/>
          <p:nvPr/>
        </p:nvSpPr>
        <p:spPr>
          <a:xfrm>
            <a:off x="2970360" y="3067200"/>
            <a:ext cx="60120" cy="77760"/>
          </a:xfrm>
          <a:custGeom>
            <a:avLst/>
            <a:gdLst/>
            <a:ahLst/>
            <a:rect l="l" t="t" r="r" b="b"/>
            <a:pathLst>
              <a:path w="86" h="114">
                <a:moveTo>
                  <a:pt x="71" y="113"/>
                </a:moveTo>
                <a:lnTo>
                  <a:pt x="14" y="113"/>
                </a:lnTo>
                <a:cubicBezTo>
                  <a:pt x="6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lnTo>
                  <a:pt x="71" y="0"/>
                </a:lnTo>
                <a:cubicBezTo>
                  <a:pt x="79" y="0"/>
                  <a:pt x="85" y="6"/>
                  <a:pt x="85" y="15"/>
                </a:cubicBezTo>
                <a:cubicBezTo>
                  <a:pt x="85" y="23"/>
                  <a:pt x="79" y="29"/>
                  <a:pt x="71" y="29"/>
                </a:cubicBezTo>
                <a:lnTo>
                  <a:pt x="29" y="29"/>
                </a:lnTo>
                <a:lnTo>
                  <a:pt x="29" y="85"/>
                </a:lnTo>
                <a:lnTo>
                  <a:pt x="71" y="85"/>
                </a:lnTo>
                <a:cubicBezTo>
                  <a:pt x="79" y="85"/>
                  <a:pt x="85" y="90"/>
                  <a:pt x="85" y="99"/>
                </a:cubicBezTo>
                <a:cubicBezTo>
                  <a:pt x="85" y="107"/>
                  <a:pt x="79" y="113"/>
                  <a:pt x="71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9"/>
          <p:cNvSpPr/>
          <p:nvPr/>
        </p:nvSpPr>
        <p:spPr>
          <a:xfrm>
            <a:off x="3009960" y="3049560"/>
            <a:ext cx="115920" cy="11736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55" y="169"/>
                </a:moveTo>
                <a:lnTo>
                  <a:pt x="14" y="169"/>
                </a:lnTo>
                <a:cubicBezTo>
                  <a:pt x="5" y="169"/>
                  <a:pt x="0" y="164"/>
                  <a:pt x="0" y="155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155" y="0"/>
                </a:lnTo>
                <a:cubicBezTo>
                  <a:pt x="163" y="0"/>
                  <a:pt x="169" y="6"/>
                  <a:pt x="169" y="14"/>
                </a:cubicBezTo>
                <a:lnTo>
                  <a:pt x="169" y="155"/>
                </a:lnTo>
                <a:cubicBezTo>
                  <a:pt x="169" y="164"/>
                  <a:pt x="163" y="169"/>
                  <a:pt x="155" y="169"/>
                </a:cubicBezTo>
                <a:close/>
                <a:moveTo>
                  <a:pt x="28" y="141"/>
                </a:moveTo>
                <a:lnTo>
                  <a:pt x="141" y="141"/>
                </a:lnTo>
                <a:lnTo>
                  <a:pt x="141" y="28"/>
                </a:lnTo>
                <a:lnTo>
                  <a:pt x="28" y="28"/>
                </a:lnTo>
                <a:lnTo>
                  <a:pt x="28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0"/>
          <p:cNvSpPr/>
          <p:nvPr/>
        </p:nvSpPr>
        <p:spPr>
          <a:xfrm>
            <a:off x="3105000" y="2971800"/>
            <a:ext cx="173160" cy="270000"/>
          </a:xfrm>
          <a:custGeom>
            <a:avLst/>
            <a:gdLst/>
            <a:ahLst/>
            <a:rect l="l" t="t" r="r" b="b"/>
            <a:pathLst>
              <a:path w="255" h="396">
                <a:moveTo>
                  <a:pt x="240" y="395"/>
                </a:moveTo>
                <a:cubicBezTo>
                  <a:pt x="237" y="395"/>
                  <a:pt x="231" y="393"/>
                  <a:pt x="228" y="390"/>
                </a:cubicBezTo>
                <a:cubicBezTo>
                  <a:pt x="175" y="325"/>
                  <a:pt x="96" y="285"/>
                  <a:pt x="14" y="282"/>
                </a:cubicBezTo>
                <a:cubicBezTo>
                  <a:pt x="5" y="282"/>
                  <a:pt x="0" y="276"/>
                  <a:pt x="0" y="268"/>
                </a:cubicBezTo>
                <a:cubicBezTo>
                  <a:pt x="0" y="259"/>
                  <a:pt x="5" y="254"/>
                  <a:pt x="14" y="254"/>
                </a:cubicBezTo>
                <a:cubicBezTo>
                  <a:pt x="93" y="257"/>
                  <a:pt x="169" y="291"/>
                  <a:pt x="226" y="345"/>
                </a:cubicBezTo>
                <a:lnTo>
                  <a:pt x="226" y="51"/>
                </a:lnTo>
                <a:cubicBezTo>
                  <a:pt x="169" y="105"/>
                  <a:pt x="93" y="139"/>
                  <a:pt x="14" y="141"/>
                </a:cubicBezTo>
                <a:cubicBezTo>
                  <a:pt x="5" y="141"/>
                  <a:pt x="0" y="135"/>
                  <a:pt x="0" y="127"/>
                </a:cubicBezTo>
                <a:cubicBezTo>
                  <a:pt x="0" y="118"/>
                  <a:pt x="5" y="113"/>
                  <a:pt x="14" y="113"/>
                </a:cubicBezTo>
                <a:cubicBezTo>
                  <a:pt x="99" y="110"/>
                  <a:pt x="175" y="71"/>
                  <a:pt x="228" y="6"/>
                </a:cubicBezTo>
                <a:cubicBezTo>
                  <a:pt x="231" y="0"/>
                  <a:pt x="240" y="0"/>
                  <a:pt x="245" y="0"/>
                </a:cubicBezTo>
                <a:cubicBezTo>
                  <a:pt x="251" y="3"/>
                  <a:pt x="254" y="9"/>
                  <a:pt x="254" y="14"/>
                </a:cubicBezTo>
                <a:lnTo>
                  <a:pt x="254" y="381"/>
                </a:lnTo>
                <a:cubicBezTo>
                  <a:pt x="254" y="387"/>
                  <a:pt x="251" y="393"/>
                  <a:pt x="245" y="395"/>
                </a:cubicBezTo>
                <a:cubicBezTo>
                  <a:pt x="243" y="395"/>
                  <a:pt x="243" y="395"/>
                  <a:pt x="240" y="3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1"/>
          <p:cNvSpPr/>
          <p:nvPr/>
        </p:nvSpPr>
        <p:spPr>
          <a:xfrm>
            <a:off x="3021120" y="3144960"/>
            <a:ext cx="104760" cy="134640"/>
          </a:xfrm>
          <a:custGeom>
            <a:avLst/>
            <a:gdLst/>
            <a:ahLst/>
            <a:rect l="l" t="t" r="r" b="b"/>
            <a:pathLst>
              <a:path w="153" h="199">
                <a:moveTo>
                  <a:pt x="87" y="198"/>
                </a:moveTo>
                <a:cubicBezTo>
                  <a:pt x="84" y="198"/>
                  <a:pt x="84" y="198"/>
                  <a:pt x="82" y="198"/>
                </a:cubicBezTo>
                <a:cubicBezTo>
                  <a:pt x="73" y="195"/>
                  <a:pt x="65" y="189"/>
                  <a:pt x="62" y="181"/>
                </a:cubicBezTo>
                <a:lnTo>
                  <a:pt x="2" y="20"/>
                </a:lnTo>
                <a:cubicBezTo>
                  <a:pt x="0" y="12"/>
                  <a:pt x="2" y="6"/>
                  <a:pt x="11" y="3"/>
                </a:cubicBezTo>
                <a:cubicBezTo>
                  <a:pt x="19" y="0"/>
                  <a:pt x="25" y="3"/>
                  <a:pt x="28" y="12"/>
                </a:cubicBezTo>
                <a:lnTo>
                  <a:pt x="87" y="172"/>
                </a:lnTo>
                <a:lnTo>
                  <a:pt x="121" y="139"/>
                </a:lnTo>
                <a:lnTo>
                  <a:pt x="65" y="23"/>
                </a:lnTo>
                <a:cubicBezTo>
                  <a:pt x="62" y="17"/>
                  <a:pt x="65" y="9"/>
                  <a:pt x="70" y="3"/>
                </a:cubicBezTo>
                <a:cubicBezTo>
                  <a:pt x="76" y="0"/>
                  <a:pt x="84" y="3"/>
                  <a:pt x="90" y="9"/>
                </a:cubicBezTo>
                <a:lnTo>
                  <a:pt x="146" y="124"/>
                </a:lnTo>
                <a:cubicBezTo>
                  <a:pt x="152" y="136"/>
                  <a:pt x="149" y="150"/>
                  <a:pt x="141" y="158"/>
                </a:cubicBezTo>
                <a:lnTo>
                  <a:pt x="107" y="192"/>
                </a:lnTo>
                <a:cubicBezTo>
                  <a:pt x="104" y="195"/>
                  <a:pt x="96" y="198"/>
                  <a:pt x="87" y="19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42"/>
          <p:cNvSpPr/>
          <p:nvPr/>
        </p:nvSpPr>
        <p:spPr>
          <a:xfrm>
            <a:off x="1438200" y="3755880"/>
            <a:ext cx="308160" cy="59040"/>
          </a:xfrm>
          <a:custGeom>
            <a:avLst/>
            <a:gdLst/>
            <a:ahLst/>
            <a:rect l="l" t="t" r="r" b="b"/>
            <a:pathLst>
              <a:path w="452" h="86">
                <a:moveTo>
                  <a:pt x="437" y="85"/>
                </a:moveTo>
                <a:lnTo>
                  <a:pt x="14" y="85"/>
                </a:lnTo>
                <a:cubicBezTo>
                  <a:pt x="5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437" y="0"/>
                </a:lnTo>
                <a:cubicBezTo>
                  <a:pt x="446" y="0"/>
                  <a:pt x="451" y="6"/>
                  <a:pt x="451" y="14"/>
                </a:cubicBezTo>
                <a:lnTo>
                  <a:pt x="451" y="71"/>
                </a:lnTo>
                <a:cubicBezTo>
                  <a:pt x="451" y="79"/>
                  <a:pt x="446" y="85"/>
                  <a:pt x="437" y="85"/>
                </a:cubicBezTo>
                <a:close/>
                <a:moveTo>
                  <a:pt x="28" y="57"/>
                </a:moveTo>
                <a:lnTo>
                  <a:pt x="423" y="57"/>
                </a:lnTo>
                <a:lnTo>
                  <a:pt x="423" y="29"/>
                </a:lnTo>
                <a:lnTo>
                  <a:pt x="28" y="29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43"/>
          <p:cNvSpPr/>
          <p:nvPr/>
        </p:nvSpPr>
        <p:spPr>
          <a:xfrm>
            <a:off x="1460520" y="3794040"/>
            <a:ext cx="268200" cy="173160"/>
          </a:xfrm>
          <a:custGeom>
            <a:avLst/>
            <a:gdLst/>
            <a:ahLst/>
            <a:rect l="l" t="t" r="r" b="b"/>
            <a:pathLst>
              <a:path w="396" h="255">
                <a:moveTo>
                  <a:pt x="367" y="254"/>
                </a:moveTo>
                <a:lnTo>
                  <a:pt x="28" y="254"/>
                </a:lnTo>
                <a:cubicBezTo>
                  <a:pt x="11" y="254"/>
                  <a:pt x="0" y="242"/>
                  <a:pt x="0" y="225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225"/>
                </a:lnTo>
                <a:lnTo>
                  <a:pt x="367" y="225"/>
                </a:lnTo>
                <a:lnTo>
                  <a:pt x="367" y="14"/>
                </a:lnTo>
                <a:cubicBezTo>
                  <a:pt x="367" y="5"/>
                  <a:pt x="372" y="0"/>
                  <a:pt x="381" y="0"/>
                </a:cubicBezTo>
                <a:cubicBezTo>
                  <a:pt x="389" y="0"/>
                  <a:pt x="395" y="5"/>
                  <a:pt x="395" y="14"/>
                </a:cubicBezTo>
                <a:lnTo>
                  <a:pt x="395" y="225"/>
                </a:lnTo>
                <a:cubicBezTo>
                  <a:pt x="395" y="242"/>
                  <a:pt x="384" y="254"/>
                  <a:pt x="367" y="25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44"/>
          <p:cNvSpPr/>
          <p:nvPr/>
        </p:nvSpPr>
        <p:spPr>
          <a:xfrm>
            <a:off x="1582560" y="3946680"/>
            <a:ext cx="20880" cy="60120"/>
          </a:xfrm>
          <a:custGeom>
            <a:avLst/>
            <a:gdLst/>
            <a:ahLst/>
            <a:rect l="l" t="t" r="r" b="b"/>
            <a:pathLst>
              <a:path w="30" h="86">
                <a:moveTo>
                  <a:pt x="14" y="85"/>
                </a:moveTo>
                <a:cubicBezTo>
                  <a:pt x="6" y="85"/>
                  <a:pt x="0" y="80"/>
                  <a:pt x="0" y="71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9" y="6"/>
                  <a:pt x="29" y="15"/>
                </a:cubicBezTo>
                <a:lnTo>
                  <a:pt x="29" y="71"/>
                </a:lnTo>
                <a:cubicBezTo>
                  <a:pt x="29" y="80"/>
                  <a:pt x="23" y="85"/>
                  <a:pt x="14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45"/>
          <p:cNvSpPr/>
          <p:nvPr/>
        </p:nvSpPr>
        <p:spPr>
          <a:xfrm>
            <a:off x="1552680" y="3986280"/>
            <a:ext cx="81000" cy="41040"/>
          </a:xfrm>
          <a:custGeom>
            <a:avLst/>
            <a:gdLst/>
            <a:ahLst/>
            <a:rect l="l" t="t" r="r" b="b"/>
            <a:pathLst>
              <a:path w="120" h="60">
                <a:moveTo>
                  <a:pt x="102" y="56"/>
                </a:moveTo>
                <a:cubicBezTo>
                  <a:pt x="99" y="56"/>
                  <a:pt x="96" y="56"/>
                  <a:pt x="93" y="54"/>
                </a:cubicBezTo>
                <a:lnTo>
                  <a:pt x="59" y="31"/>
                </a:lnTo>
                <a:lnTo>
                  <a:pt x="26" y="54"/>
                </a:lnTo>
                <a:cubicBezTo>
                  <a:pt x="20" y="59"/>
                  <a:pt x="12" y="56"/>
                  <a:pt x="6" y="51"/>
                </a:cubicBezTo>
                <a:cubicBezTo>
                  <a:pt x="0" y="45"/>
                  <a:pt x="3" y="37"/>
                  <a:pt x="9" y="31"/>
                </a:cubicBezTo>
                <a:lnTo>
                  <a:pt x="51" y="3"/>
                </a:lnTo>
                <a:cubicBezTo>
                  <a:pt x="57" y="0"/>
                  <a:pt x="62" y="0"/>
                  <a:pt x="68" y="3"/>
                </a:cubicBezTo>
                <a:lnTo>
                  <a:pt x="110" y="31"/>
                </a:lnTo>
                <a:cubicBezTo>
                  <a:pt x="116" y="37"/>
                  <a:pt x="119" y="45"/>
                  <a:pt x="113" y="51"/>
                </a:cubicBezTo>
                <a:cubicBezTo>
                  <a:pt x="110" y="54"/>
                  <a:pt x="107" y="56"/>
                  <a:pt x="102" y="5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6"/>
          <p:cNvSpPr/>
          <p:nvPr/>
        </p:nvSpPr>
        <p:spPr>
          <a:xfrm>
            <a:off x="1650960" y="3833640"/>
            <a:ext cx="20520" cy="95400"/>
          </a:xfrm>
          <a:custGeom>
            <a:avLst/>
            <a:gdLst/>
            <a:ahLst/>
            <a:rect l="l" t="t" r="r" b="b"/>
            <a:pathLst>
              <a:path w="29" h="142">
                <a:moveTo>
                  <a:pt x="14" y="141"/>
                </a:moveTo>
                <a:cubicBezTo>
                  <a:pt x="6" y="141"/>
                  <a:pt x="0" y="136"/>
                  <a:pt x="0" y="127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127"/>
                </a:lnTo>
                <a:cubicBezTo>
                  <a:pt x="28" y="136"/>
                  <a:pt x="23" y="141"/>
                  <a:pt x="1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47"/>
          <p:cNvSpPr/>
          <p:nvPr/>
        </p:nvSpPr>
        <p:spPr>
          <a:xfrm>
            <a:off x="1582560" y="3871800"/>
            <a:ext cx="20880" cy="57240"/>
          </a:xfrm>
          <a:custGeom>
            <a:avLst/>
            <a:gdLst/>
            <a:ahLst/>
            <a:rect l="l" t="t" r="r" b="b"/>
            <a:pathLst>
              <a:path w="30" h="85">
                <a:moveTo>
                  <a:pt x="14" y="84"/>
                </a:moveTo>
                <a:cubicBezTo>
                  <a:pt x="6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9" y="5"/>
                  <a:pt x="29" y="14"/>
                </a:cubicBezTo>
                <a:lnTo>
                  <a:pt x="29" y="70"/>
                </a:lnTo>
                <a:cubicBezTo>
                  <a:pt x="29" y="79"/>
                  <a:pt x="23" y="84"/>
                  <a:pt x="14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48"/>
          <p:cNvSpPr/>
          <p:nvPr/>
        </p:nvSpPr>
        <p:spPr>
          <a:xfrm>
            <a:off x="1515960" y="3889440"/>
            <a:ext cx="22320" cy="39600"/>
          </a:xfrm>
          <a:custGeom>
            <a:avLst/>
            <a:gdLst/>
            <a:ahLst/>
            <a:rect l="l" t="t" r="r" b="b"/>
            <a:pathLst>
              <a:path w="29" h="57">
                <a:moveTo>
                  <a:pt x="14" y="56"/>
                </a:moveTo>
                <a:cubicBezTo>
                  <a:pt x="5" y="56"/>
                  <a:pt x="0" y="51"/>
                  <a:pt x="0" y="42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42"/>
                </a:lnTo>
                <a:cubicBezTo>
                  <a:pt x="28" y="51"/>
                  <a:pt x="22" y="56"/>
                  <a:pt x="14" y="5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49"/>
          <p:cNvSpPr/>
          <p:nvPr/>
        </p:nvSpPr>
        <p:spPr>
          <a:xfrm>
            <a:off x="4559400" y="1440000"/>
            <a:ext cx="190440" cy="307800"/>
          </a:xfrm>
          <a:custGeom>
            <a:avLst/>
            <a:gdLst/>
            <a:ahLst/>
            <a:rect l="l" t="t" r="r" b="b"/>
            <a:pathLst>
              <a:path w="283" h="452">
                <a:moveTo>
                  <a:pt x="253" y="451"/>
                </a:moveTo>
                <a:lnTo>
                  <a:pt x="28" y="451"/>
                </a:lnTo>
                <a:cubicBezTo>
                  <a:pt x="11" y="451"/>
                  <a:pt x="0" y="440"/>
                  <a:pt x="0" y="423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253" y="0"/>
                </a:lnTo>
                <a:cubicBezTo>
                  <a:pt x="270" y="0"/>
                  <a:pt x="282" y="11"/>
                  <a:pt x="282" y="28"/>
                </a:cubicBezTo>
                <a:lnTo>
                  <a:pt x="282" y="423"/>
                </a:lnTo>
                <a:cubicBezTo>
                  <a:pt x="282" y="440"/>
                  <a:pt x="270" y="451"/>
                  <a:pt x="253" y="451"/>
                </a:cubicBezTo>
                <a:close/>
                <a:moveTo>
                  <a:pt x="28" y="28"/>
                </a:moveTo>
                <a:lnTo>
                  <a:pt x="28" y="423"/>
                </a:lnTo>
                <a:lnTo>
                  <a:pt x="253" y="423"/>
                </a:lnTo>
                <a:lnTo>
                  <a:pt x="253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50"/>
          <p:cNvSpPr/>
          <p:nvPr/>
        </p:nvSpPr>
        <p:spPr>
          <a:xfrm>
            <a:off x="4570560" y="1649520"/>
            <a:ext cx="172800" cy="20520"/>
          </a:xfrm>
          <a:custGeom>
            <a:avLst/>
            <a:gdLst/>
            <a:ahLst/>
            <a:rect l="l" t="t" r="r" b="b"/>
            <a:pathLst>
              <a:path w="255" h="29">
                <a:moveTo>
                  <a:pt x="127" y="28"/>
                </a:moveTo>
                <a:lnTo>
                  <a:pt x="0" y="28"/>
                </a:lnTo>
                <a:lnTo>
                  <a:pt x="0" y="0"/>
                </a:lnTo>
                <a:lnTo>
                  <a:pt x="254" y="0"/>
                </a:lnTo>
                <a:lnTo>
                  <a:pt x="254" y="28"/>
                </a:lnTo>
                <a:lnTo>
                  <a:pt x="127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51"/>
          <p:cNvSpPr/>
          <p:nvPr/>
        </p:nvSpPr>
        <p:spPr>
          <a:xfrm>
            <a:off x="4570560" y="1479600"/>
            <a:ext cx="172800" cy="20520"/>
          </a:xfrm>
          <a:custGeom>
            <a:avLst/>
            <a:gdLst/>
            <a:ahLst/>
            <a:rect l="l" t="t" r="r" b="b"/>
            <a:pathLst>
              <a:path w="255" h="29">
                <a:moveTo>
                  <a:pt x="127" y="28"/>
                </a:moveTo>
                <a:lnTo>
                  <a:pt x="0" y="28"/>
                </a:lnTo>
                <a:lnTo>
                  <a:pt x="0" y="0"/>
                </a:lnTo>
                <a:lnTo>
                  <a:pt x="254" y="0"/>
                </a:lnTo>
                <a:lnTo>
                  <a:pt x="254" y="28"/>
                </a:lnTo>
                <a:lnTo>
                  <a:pt x="127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52"/>
          <p:cNvSpPr/>
          <p:nvPr/>
        </p:nvSpPr>
        <p:spPr>
          <a:xfrm>
            <a:off x="4645080" y="168912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4" y="0"/>
                </a:lnTo>
                <a:cubicBezTo>
                  <a:pt x="22" y="0"/>
                  <a:pt x="28" y="5"/>
                  <a:pt x="28" y="14"/>
                </a:cubicBezTo>
                <a:cubicBezTo>
                  <a:pt x="28" y="22"/>
                  <a:pt x="22" y="28"/>
                  <a:pt x="1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3"/>
          <p:cNvSpPr/>
          <p:nvPr/>
        </p:nvSpPr>
        <p:spPr>
          <a:xfrm>
            <a:off x="5324400" y="1440000"/>
            <a:ext cx="212760" cy="307800"/>
          </a:xfrm>
          <a:custGeom>
            <a:avLst/>
            <a:gdLst/>
            <a:ahLst/>
            <a:rect l="l" t="t" r="r" b="b"/>
            <a:pathLst>
              <a:path w="312" h="452">
                <a:moveTo>
                  <a:pt x="282" y="451"/>
                </a:moveTo>
                <a:lnTo>
                  <a:pt x="29" y="451"/>
                </a:lnTo>
                <a:cubicBezTo>
                  <a:pt x="12" y="451"/>
                  <a:pt x="0" y="440"/>
                  <a:pt x="0" y="423"/>
                </a:cubicBezTo>
                <a:lnTo>
                  <a:pt x="0" y="28"/>
                </a:lnTo>
                <a:cubicBezTo>
                  <a:pt x="0" y="11"/>
                  <a:pt x="12" y="0"/>
                  <a:pt x="29" y="0"/>
                </a:cubicBezTo>
                <a:lnTo>
                  <a:pt x="282" y="0"/>
                </a:lnTo>
                <a:cubicBezTo>
                  <a:pt x="299" y="0"/>
                  <a:pt x="311" y="11"/>
                  <a:pt x="311" y="28"/>
                </a:cubicBezTo>
                <a:lnTo>
                  <a:pt x="311" y="423"/>
                </a:lnTo>
                <a:cubicBezTo>
                  <a:pt x="311" y="437"/>
                  <a:pt x="299" y="451"/>
                  <a:pt x="282" y="451"/>
                </a:cubicBezTo>
                <a:close/>
                <a:moveTo>
                  <a:pt x="29" y="28"/>
                </a:moveTo>
                <a:lnTo>
                  <a:pt x="29" y="423"/>
                </a:lnTo>
                <a:lnTo>
                  <a:pt x="282" y="423"/>
                </a:lnTo>
                <a:lnTo>
                  <a:pt x="282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54"/>
          <p:cNvSpPr/>
          <p:nvPr/>
        </p:nvSpPr>
        <p:spPr>
          <a:xfrm>
            <a:off x="5334120" y="1689120"/>
            <a:ext cx="190440" cy="20520"/>
          </a:xfrm>
          <a:custGeom>
            <a:avLst/>
            <a:gdLst/>
            <a:ahLst/>
            <a:rect l="l" t="t" r="r" b="b"/>
            <a:pathLst>
              <a:path w="284" h="29">
                <a:moveTo>
                  <a:pt x="141" y="28"/>
                </a:moveTo>
                <a:lnTo>
                  <a:pt x="0" y="28"/>
                </a:lnTo>
                <a:lnTo>
                  <a:pt x="0" y="0"/>
                </a:lnTo>
                <a:lnTo>
                  <a:pt x="283" y="0"/>
                </a:lnTo>
                <a:lnTo>
                  <a:pt x="283" y="28"/>
                </a:lnTo>
                <a:lnTo>
                  <a:pt x="141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5"/>
          <p:cNvSpPr/>
          <p:nvPr/>
        </p:nvSpPr>
        <p:spPr>
          <a:xfrm>
            <a:off x="5334120" y="1479600"/>
            <a:ext cx="190440" cy="20520"/>
          </a:xfrm>
          <a:custGeom>
            <a:avLst/>
            <a:gdLst/>
            <a:ahLst/>
            <a:rect l="l" t="t" r="r" b="b"/>
            <a:pathLst>
              <a:path w="284" h="29">
                <a:moveTo>
                  <a:pt x="141" y="28"/>
                </a:moveTo>
                <a:lnTo>
                  <a:pt x="0" y="28"/>
                </a:lnTo>
                <a:lnTo>
                  <a:pt x="0" y="0"/>
                </a:lnTo>
                <a:lnTo>
                  <a:pt x="283" y="0"/>
                </a:lnTo>
                <a:lnTo>
                  <a:pt x="283" y="28"/>
                </a:lnTo>
                <a:lnTo>
                  <a:pt x="141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56"/>
          <p:cNvSpPr/>
          <p:nvPr/>
        </p:nvSpPr>
        <p:spPr>
          <a:xfrm>
            <a:off x="5364000" y="1517760"/>
            <a:ext cx="55800" cy="56880"/>
          </a:xfrm>
          <a:custGeom>
            <a:avLst/>
            <a:gdLst/>
            <a:ahLst/>
            <a:rect l="l" t="t" r="r" b="b"/>
            <a:pathLst>
              <a:path w="85" h="85">
                <a:moveTo>
                  <a:pt x="70" y="84"/>
                </a:moveTo>
                <a:lnTo>
                  <a:pt x="14" y="84"/>
                </a:ln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5"/>
                  <a:pt x="84" y="14"/>
                </a:cubicBezTo>
                <a:lnTo>
                  <a:pt x="84" y="70"/>
                </a:lnTo>
                <a:cubicBezTo>
                  <a:pt x="84" y="79"/>
                  <a:pt x="79" y="84"/>
                  <a:pt x="70" y="84"/>
                </a:cubicBezTo>
                <a:close/>
                <a:moveTo>
                  <a:pt x="28" y="56"/>
                </a:moveTo>
                <a:lnTo>
                  <a:pt x="56" y="56"/>
                </a:lnTo>
                <a:lnTo>
                  <a:pt x="56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57"/>
          <p:cNvSpPr/>
          <p:nvPr/>
        </p:nvSpPr>
        <p:spPr>
          <a:xfrm>
            <a:off x="5440320" y="1517760"/>
            <a:ext cx="57240" cy="56880"/>
          </a:xfrm>
          <a:custGeom>
            <a:avLst/>
            <a:gdLst/>
            <a:ahLst/>
            <a:rect l="l" t="t" r="r" b="b"/>
            <a:pathLst>
              <a:path w="85" h="85">
                <a:moveTo>
                  <a:pt x="70" y="84"/>
                </a:moveTo>
                <a:lnTo>
                  <a:pt x="14" y="84"/>
                </a:ln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5"/>
                  <a:pt x="84" y="14"/>
                </a:cubicBezTo>
                <a:lnTo>
                  <a:pt x="84" y="70"/>
                </a:lnTo>
                <a:cubicBezTo>
                  <a:pt x="84" y="79"/>
                  <a:pt x="79" y="84"/>
                  <a:pt x="70" y="84"/>
                </a:cubicBezTo>
                <a:close/>
                <a:moveTo>
                  <a:pt x="28" y="56"/>
                </a:moveTo>
                <a:lnTo>
                  <a:pt x="56" y="56"/>
                </a:lnTo>
                <a:lnTo>
                  <a:pt x="56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58"/>
          <p:cNvSpPr/>
          <p:nvPr/>
        </p:nvSpPr>
        <p:spPr>
          <a:xfrm>
            <a:off x="5364000" y="1592280"/>
            <a:ext cx="55800" cy="60480"/>
          </a:xfrm>
          <a:custGeom>
            <a:avLst/>
            <a:gdLst/>
            <a:ahLst/>
            <a:rect l="l" t="t" r="r" b="b"/>
            <a:pathLst>
              <a:path w="85" h="86">
                <a:moveTo>
                  <a:pt x="70" y="85"/>
                </a:moveTo>
                <a:lnTo>
                  <a:pt x="14" y="85"/>
                </a:lnTo>
                <a:cubicBezTo>
                  <a:pt x="5" y="85"/>
                  <a:pt x="0" y="80"/>
                  <a:pt x="0" y="71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6"/>
                  <a:pt x="84" y="15"/>
                </a:cubicBezTo>
                <a:lnTo>
                  <a:pt x="84" y="71"/>
                </a:lnTo>
                <a:cubicBezTo>
                  <a:pt x="84" y="80"/>
                  <a:pt x="79" y="85"/>
                  <a:pt x="70" y="85"/>
                </a:cubicBezTo>
                <a:close/>
                <a:moveTo>
                  <a:pt x="28" y="57"/>
                </a:moveTo>
                <a:lnTo>
                  <a:pt x="56" y="57"/>
                </a:lnTo>
                <a:lnTo>
                  <a:pt x="56" y="29"/>
                </a:lnTo>
                <a:lnTo>
                  <a:pt x="28" y="29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59"/>
          <p:cNvSpPr/>
          <p:nvPr/>
        </p:nvSpPr>
        <p:spPr>
          <a:xfrm>
            <a:off x="6033960" y="4500720"/>
            <a:ext cx="95400" cy="250560"/>
          </a:xfrm>
          <a:custGeom>
            <a:avLst/>
            <a:gdLst/>
            <a:ahLst/>
            <a:rect l="l" t="t" r="r" b="b"/>
            <a:pathLst>
              <a:path w="143" h="371">
                <a:moveTo>
                  <a:pt x="99" y="370"/>
                </a:moveTo>
                <a:lnTo>
                  <a:pt x="43" y="370"/>
                </a:lnTo>
                <a:cubicBezTo>
                  <a:pt x="20" y="370"/>
                  <a:pt x="0" y="350"/>
                  <a:pt x="0" y="327"/>
                </a:cubicBezTo>
                <a:lnTo>
                  <a:pt x="0" y="291"/>
                </a:lnTo>
                <a:cubicBezTo>
                  <a:pt x="0" y="285"/>
                  <a:pt x="3" y="277"/>
                  <a:pt x="6" y="271"/>
                </a:cubicBezTo>
                <a:lnTo>
                  <a:pt x="15" y="254"/>
                </a:lnTo>
                <a:cubicBezTo>
                  <a:pt x="15" y="251"/>
                  <a:pt x="17" y="251"/>
                  <a:pt x="17" y="248"/>
                </a:cubicBezTo>
                <a:lnTo>
                  <a:pt x="17" y="121"/>
                </a:lnTo>
                <a:cubicBezTo>
                  <a:pt x="17" y="119"/>
                  <a:pt x="17" y="116"/>
                  <a:pt x="15" y="116"/>
                </a:cubicBezTo>
                <a:lnTo>
                  <a:pt x="6" y="99"/>
                </a:lnTo>
                <a:cubicBezTo>
                  <a:pt x="3" y="93"/>
                  <a:pt x="0" y="88"/>
                  <a:pt x="0" y="79"/>
                </a:cubicBezTo>
                <a:lnTo>
                  <a:pt x="0" y="42"/>
                </a:lnTo>
                <a:cubicBezTo>
                  <a:pt x="0" y="20"/>
                  <a:pt x="20" y="0"/>
                  <a:pt x="43" y="0"/>
                </a:cubicBezTo>
                <a:lnTo>
                  <a:pt x="99" y="0"/>
                </a:lnTo>
                <a:cubicBezTo>
                  <a:pt x="122" y="0"/>
                  <a:pt x="142" y="20"/>
                  <a:pt x="142" y="42"/>
                </a:cubicBezTo>
                <a:lnTo>
                  <a:pt x="142" y="79"/>
                </a:lnTo>
                <a:cubicBezTo>
                  <a:pt x="142" y="85"/>
                  <a:pt x="139" y="93"/>
                  <a:pt x="136" y="99"/>
                </a:cubicBezTo>
                <a:lnTo>
                  <a:pt x="127" y="116"/>
                </a:lnTo>
                <a:cubicBezTo>
                  <a:pt x="127" y="119"/>
                  <a:pt x="125" y="119"/>
                  <a:pt x="125" y="121"/>
                </a:cubicBezTo>
                <a:lnTo>
                  <a:pt x="125" y="248"/>
                </a:lnTo>
                <a:cubicBezTo>
                  <a:pt x="125" y="251"/>
                  <a:pt x="125" y="254"/>
                  <a:pt x="127" y="254"/>
                </a:cubicBezTo>
                <a:lnTo>
                  <a:pt x="136" y="271"/>
                </a:lnTo>
                <a:cubicBezTo>
                  <a:pt x="139" y="277"/>
                  <a:pt x="142" y="282"/>
                  <a:pt x="142" y="291"/>
                </a:cubicBezTo>
                <a:lnTo>
                  <a:pt x="142" y="327"/>
                </a:lnTo>
                <a:cubicBezTo>
                  <a:pt x="142" y="350"/>
                  <a:pt x="122" y="370"/>
                  <a:pt x="99" y="370"/>
                </a:cubicBezTo>
                <a:close/>
                <a:moveTo>
                  <a:pt x="43" y="31"/>
                </a:moveTo>
                <a:cubicBezTo>
                  <a:pt x="34" y="31"/>
                  <a:pt x="29" y="37"/>
                  <a:pt x="29" y="45"/>
                </a:cubicBezTo>
                <a:lnTo>
                  <a:pt x="29" y="82"/>
                </a:lnTo>
                <a:cubicBezTo>
                  <a:pt x="29" y="85"/>
                  <a:pt x="29" y="88"/>
                  <a:pt x="31" y="88"/>
                </a:cubicBezTo>
                <a:lnTo>
                  <a:pt x="40" y="104"/>
                </a:lnTo>
                <a:cubicBezTo>
                  <a:pt x="43" y="110"/>
                  <a:pt x="46" y="116"/>
                  <a:pt x="46" y="124"/>
                </a:cubicBezTo>
                <a:lnTo>
                  <a:pt x="46" y="251"/>
                </a:lnTo>
                <a:cubicBezTo>
                  <a:pt x="46" y="257"/>
                  <a:pt x="43" y="265"/>
                  <a:pt x="40" y="271"/>
                </a:cubicBezTo>
                <a:lnTo>
                  <a:pt x="31" y="288"/>
                </a:lnTo>
                <a:cubicBezTo>
                  <a:pt x="31" y="291"/>
                  <a:pt x="29" y="291"/>
                  <a:pt x="29" y="294"/>
                </a:cubicBezTo>
                <a:lnTo>
                  <a:pt x="29" y="330"/>
                </a:lnTo>
                <a:cubicBezTo>
                  <a:pt x="29" y="339"/>
                  <a:pt x="34" y="344"/>
                  <a:pt x="43" y="344"/>
                </a:cubicBezTo>
                <a:lnTo>
                  <a:pt x="99" y="344"/>
                </a:lnTo>
                <a:cubicBezTo>
                  <a:pt x="108" y="344"/>
                  <a:pt x="113" y="339"/>
                  <a:pt x="113" y="330"/>
                </a:cubicBezTo>
                <a:lnTo>
                  <a:pt x="113" y="294"/>
                </a:lnTo>
                <a:cubicBezTo>
                  <a:pt x="113" y="291"/>
                  <a:pt x="113" y="288"/>
                  <a:pt x="110" y="288"/>
                </a:cubicBezTo>
                <a:lnTo>
                  <a:pt x="102" y="271"/>
                </a:lnTo>
                <a:cubicBezTo>
                  <a:pt x="99" y="265"/>
                  <a:pt x="96" y="260"/>
                  <a:pt x="96" y="251"/>
                </a:cubicBezTo>
                <a:lnTo>
                  <a:pt x="96" y="124"/>
                </a:lnTo>
                <a:cubicBezTo>
                  <a:pt x="96" y="119"/>
                  <a:pt x="99" y="110"/>
                  <a:pt x="102" y="104"/>
                </a:cubicBezTo>
                <a:lnTo>
                  <a:pt x="110" y="88"/>
                </a:lnTo>
                <a:cubicBezTo>
                  <a:pt x="110" y="85"/>
                  <a:pt x="113" y="85"/>
                  <a:pt x="113" y="82"/>
                </a:cubicBezTo>
                <a:lnTo>
                  <a:pt x="113" y="45"/>
                </a:lnTo>
                <a:cubicBezTo>
                  <a:pt x="113" y="37"/>
                  <a:pt x="108" y="31"/>
                  <a:pt x="99" y="31"/>
                </a:cubicBezTo>
                <a:lnTo>
                  <a:pt x="43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0"/>
          <p:cNvSpPr/>
          <p:nvPr/>
        </p:nvSpPr>
        <p:spPr>
          <a:xfrm>
            <a:off x="6146640" y="4503600"/>
            <a:ext cx="192240" cy="247680"/>
          </a:xfrm>
          <a:custGeom>
            <a:avLst/>
            <a:gdLst/>
            <a:ahLst/>
            <a:rect l="l" t="t" r="r" b="b"/>
            <a:pathLst>
              <a:path w="283" h="368">
                <a:moveTo>
                  <a:pt x="254" y="367"/>
                </a:moveTo>
                <a:lnTo>
                  <a:pt x="28" y="367"/>
                </a:lnTo>
                <a:cubicBezTo>
                  <a:pt x="11" y="367"/>
                  <a:pt x="0" y="355"/>
                  <a:pt x="0" y="338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254" y="0"/>
                </a:lnTo>
                <a:cubicBezTo>
                  <a:pt x="271" y="0"/>
                  <a:pt x="282" y="11"/>
                  <a:pt x="282" y="28"/>
                </a:cubicBezTo>
                <a:lnTo>
                  <a:pt x="282" y="338"/>
                </a:lnTo>
                <a:cubicBezTo>
                  <a:pt x="282" y="355"/>
                  <a:pt x="271" y="367"/>
                  <a:pt x="254" y="367"/>
                </a:cubicBezTo>
                <a:close/>
                <a:moveTo>
                  <a:pt x="28" y="28"/>
                </a:moveTo>
                <a:lnTo>
                  <a:pt x="28" y="338"/>
                </a:lnTo>
                <a:lnTo>
                  <a:pt x="254" y="338"/>
                </a:lnTo>
                <a:lnTo>
                  <a:pt x="254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61"/>
          <p:cNvSpPr/>
          <p:nvPr/>
        </p:nvSpPr>
        <p:spPr>
          <a:xfrm>
            <a:off x="6186600" y="4541760"/>
            <a:ext cx="115920" cy="60480"/>
          </a:xfrm>
          <a:custGeom>
            <a:avLst/>
            <a:gdLst/>
            <a:ahLst/>
            <a:rect l="l" t="t" r="r" b="b"/>
            <a:pathLst>
              <a:path w="170" h="86">
                <a:moveTo>
                  <a:pt x="155" y="85"/>
                </a:moveTo>
                <a:lnTo>
                  <a:pt x="14" y="85"/>
                </a:lnTo>
                <a:cubicBezTo>
                  <a:pt x="6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155" y="0"/>
                </a:lnTo>
                <a:cubicBezTo>
                  <a:pt x="164" y="0"/>
                  <a:pt x="169" y="6"/>
                  <a:pt x="169" y="14"/>
                </a:cubicBezTo>
                <a:lnTo>
                  <a:pt x="169" y="71"/>
                </a:lnTo>
                <a:cubicBezTo>
                  <a:pt x="169" y="79"/>
                  <a:pt x="164" y="85"/>
                  <a:pt x="155" y="85"/>
                </a:cubicBezTo>
                <a:close/>
                <a:moveTo>
                  <a:pt x="28" y="57"/>
                </a:moveTo>
                <a:lnTo>
                  <a:pt x="141" y="57"/>
                </a:lnTo>
                <a:lnTo>
                  <a:pt x="141" y="29"/>
                </a:lnTo>
                <a:lnTo>
                  <a:pt x="28" y="29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62"/>
          <p:cNvSpPr/>
          <p:nvPr/>
        </p:nvSpPr>
        <p:spPr>
          <a:xfrm>
            <a:off x="6234120" y="465624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63"/>
          <p:cNvSpPr/>
          <p:nvPr/>
        </p:nvSpPr>
        <p:spPr>
          <a:xfrm>
            <a:off x="6234120" y="4616280"/>
            <a:ext cx="20520" cy="223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64"/>
          <p:cNvSpPr/>
          <p:nvPr/>
        </p:nvSpPr>
        <p:spPr>
          <a:xfrm>
            <a:off x="6234120" y="4694400"/>
            <a:ext cx="2052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5"/>
          <p:cNvSpPr/>
          <p:nvPr/>
        </p:nvSpPr>
        <p:spPr>
          <a:xfrm>
            <a:off x="6186600" y="465624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66"/>
          <p:cNvSpPr/>
          <p:nvPr/>
        </p:nvSpPr>
        <p:spPr>
          <a:xfrm>
            <a:off x="6186600" y="4616280"/>
            <a:ext cx="20520" cy="223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67"/>
          <p:cNvSpPr/>
          <p:nvPr/>
        </p:nvSpPr>
        <p:spPr>
          <a:xfrm>
            <a:off x="6186600" y="4694400"/>
            <a:ext cx="2052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68"/>
          <p:cNvSpPr/>
          <p:nvPr/>
        </p:nvSpPr>
        <p:spPr>
          <a:xfrm>
            <a:off x="6281640" y="465624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9"/>
          <p:cNvSpPr/>
          <p:nvPr/>
        </p:nvSpPr>
        <p:spPr>
          <a:xfrm>
            <a:off x="6281640" y="4616280"/>
            <a:ext cx="20880" cy="223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70"/>
          <p:cNvSpPr/>
          <p:nvPr/>
        </p:nvSpPr>
        <p:spPr>
          <a:xfrm>
            <a:off x="6281640" y="4694400"/>
            <a:ext cx="2088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71"/>
          <p:cNvSpPr/>
          <p:nvPr/>
        </p:nvSpPr>
        <p:spPr>
          <a:xfrm>
            <a:off x="6072120" y="4734000"/>
            <a:ext cx="152640" cy="77760"/>
          </a:xfrm>
          <a:custGeom>
            <a:avLst/>
            <a:gdLst/>
            <a:ahLst/>
            <a:rect l="l" t="t" r="r" b="b"/>
            <a:pathLst>
              <a:path w="227" h="114">
                <a:moveTo>
                  <a:pt x="155" y="113"/>
                </a:moveTo>
                <a:lnTo>
                  <a:pt x="70" y="113"/>
                </a:lnTo>
                <a:cubicBezTo>
                  <a:pt x="31" y="113"/>
                  <a:pt x="0" y="82"/>
                  <a:pt x="0" y="43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43"/>
                </a:lnTo>
                <a:cubicBezTo>
                  <a:pt x="28" y="65"/>
                  <a:pt x="48" y="85"/>
                  <a:pt x="70" y="85"/>
                </a:cubicBezTo>
                <a:lnTo>
                  <a:pt x="155" y="85"/>
                </a:lnTo>
                <a:cubicBezTo>
                  <a:pt x="178" y="85"/>
                  <a:pt x="197" y="65"/>
                  <a:pt x="197" y="43"/>
                </a:cubicBezTo>
                <a:lnTo>
                  <a:pt x="197" y="15"/>
                </a:lnTo>
                <a:cubicBezTo>
                  <a:pt x="197" y="6"/>
                  <a:pt x="203" y="0"/>
                  <a:pt x="211" y="0"/>
                </a:cubicBezTo>
                <a:cubicBezTo>
                  <a:pt x="220" y="0"/>
                  <a:pt x="226" y="6"/>
                  <a:pt x="226" y="15"/>
                </a:cubicBezTo>
                <a:lnTo>
                  <a:pt x="226" y="43"/>
                </a:lnTo>
                <a:cubicBezTo>
                  <a:pt x="226" y="82"/>
                  <a:pt x="195" y="113"/>
                  <a:pt x="155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72"/>
          <p:cNvSpPr/>
          <p:nvPr/>
        </p:nvSpPr>
        <p:spPr>
          <a:xfrm>
            <a:off x="7564320" y="4500720"/>
            <a:ext cx="108000" cy="311040"/>
          </a:xfrm>
          <a:custGeom>
            <a:avLst/>
            <a:gdLst/>
            <a:ahLst/>
            <a:rect l="l" t="t" r="r" b="b"/>
            <a:pathLst>
              <a:path w="159" h="458">
                <a:moveTo>
                  <a:pt x="87" y="457"/>
                </a:moveTo>
                <a:lnTo>
                  <a:pt x="87" y="457"/>
                </a:lnTo>
                <a:cubicBezTo>
                  <a:pt x="82" y="457"/>
                  <a:pt x="79" y="455"/>
                  <a:pt x="76" y="452"/>
                </a:cubicBezTo>
                <a:cubicBezTo>
                  <a:pt x="48" y="418"/>
                  <a:pt x="28" y="378"/>
                  <a:pt x="14" y="336"/>
                </a:cubicBezTo>
                <a:cubicBezTo>
                  <a:pt x="14" y="336"/>
                  <a:pt x="14" y="336"/>
                  <a:pt x="14" y="333"/>
                </a:cubicBezTo>
                <a:cubicBezTo>
                  <a:pt x="14" y="333"/>
                  <a:pt x="14" y="333"/>
                  <a:pt x="14" y="330"/>
                </a:cubicBezTo>
                <a:cubicBezTo>
                  <a:pt x="6" y="297"/>
                  <a:pt x="0" y="263"/>
                  <a:pt x="0" y="229"/>
                </a:cubicBezTo>
                <a:cubicBezTo>
                  <a:pt x="0" y="195"/>
                  <a:pt x="6" y="161"/>
                  <a:pt x="14" y="127"/>
                </a:cubicBezTo>
                <a:cubicBezTo>
                  <a:pt x="14" y="127"/>
                  <a:pt x="14" y="127"/>
                  <a:pt x="14" y="124"/>
                </a:cubicBezTo>
                <a:cubicBezTo>
                  <a:pt x="14" y="124"/>
                  <a:pt x="14" y="124"/>
                  <a:pt x="14" y="122"/>
                </a:cubicBezTo>
                <a:cubicBezTo>
                  <a:pt x="28" y="79"/>
                  <a:pt x="48" y="40"/>
                  <a:pt x="76" y="6"/>
                </a:cubicBezTo>
                <a:cubicBezTo>
                  <a:pt x="79" y="3"/>
                  <a:pt x="83" y="0"/>
                  <a:pt x="85" y="0"/>
                </a:cubicBezTo>
                <a:cubicBezTo>
                  <a:pt x="88" y="0"/>
                  <a:pt x="93" y="0"/>
                  <a:pt x="96" y="3"/>
                </a:cubicBezTo>
                <a:lnTo>
                  <a:pt x="150" y="48"/>
                </a:lnTo>
                <a:cubicBezTo>
                  <a:pt x="155" y="54"/>
                  <a:pt x="155" y="62"/>
                  <a:pt x="152" y="68"/>
                </a:cubicBezTo>
                <a:cubicBezTo>
                  <a:pt x="133" y="93"/>
                  <a:pt x="118" y="122"/>
                  <a:pt x="110" y="153"/>
                </a:cubicBezTo>
                <a:cubicBezTo>
                  <a:pt x="110" y="155"/>
                  <a:pt x="107" y="158"/>
                  <a:pt x="104" y="161"/>
                </a:cubicBezTo>
                <a:cubicBezTo>
                  <a:pt x="102" y="164"/>
                  <a:pt x="96" y="164"/>
                  <a:pt x="93" y="161"/>
                </a:cubicBezTo>
                <a:lnTo>
                  <a:pt x="39" y="144"/>
                </a:lnTo>
                <a:cubicBezTo>
                  <a:pt x="34" y="170"/>
                  <a:pt x="28" y="198"/>
                  <a:pt x="28" y="226"/>
                </a:cubicBezTo>
                <a:cubicBezTo>
                  <a:pt x="28" y="254"/>
                  <a:pt x="31" y="280"/>
                  <a:pt x="39" y="308"/>
                </a:cubicBezTo>
                <a:lnTo>
                  <a:pt x="93" y="291"/>
                </a:lnTo>
                <a:cubicBezTo>
                  <a:pt x="96" y="291"/>
                  <a:pt x="102" y="291"/>
                  <a:pt x="104" y="291"/>
                </a:cubicBezTo>
                <a:cubicBezTo>
                  <a:pt x="107" y="294"/>
                  <a:pt x="110" y="297"/>
                  <a:pt x="110" y="299"/>
                </a:cubicBezTo>
                <a:cubicBezTo>
                  <a:pt x="118" y="330"/>
                  <a:pt x="133" y="359"/>
                  <a:pt x="152" y="384"/>
                </a:cubicBezTo>
                <a:cubicBezTo>
                  <a:pt x="158" y="390"/>
                  <a:pt x="155" y="398"/>
                  <a:pt x="150" y="404"/>
                </a:cubicBezTo>
                <a:lnTo>
                  <a:pt x="96" y="449"/>
                </a:lnTo>
                <a:cubicBezTo>
                  <a:pt x="96" y="457"/>
                  <a:pt x="90" y="457"/>
                  <a:pt x="87" y="457"/>
                </a:cubicBezTo>
                <a:close/>
                <a:moveTo>
                  <a:pt x="48" y="339"/>
                </a:moveTo>
                <a:cubicBezTo>
                  <a:pt x="59" y="370"/>
                  <a:pt x="73" y="395"/>
                  <a:pt x="93" y="421"/>
                </a:cubicBezTo>
                <a:lnTo>
                  <a:pt x="124" y="392"/>
                </a:lnTo>
                <a:cubicBezTo>
                  <a:pt x="110" y="370"/>
                  <a:pt x="96" y="347"/>
                  <a:pt x="87" y="325"/>
                </a:cubicBezTo>
                <a:lnTo>
                  <a:pt x="48" y="339"/>
                </a:lnTo>
                <a:close/>
                <a:moveTo>
                  <a:pt x="48" y="124"/>
                </a:moveTo>
                <a:lnTo>
                  <a:pt x="87" y="138"/>
                </a:lnTo>
                <a:cubicBezTo>
                  <a:pt x="96" y="113"/>
                  <a:pt x="107" y="91"/>
                  <a:pt x="124" y="71"/>
                </a:cubicBezTo>
                <a:lnTo>
                  <a:pt x="93" y="43"/>
                </a:lnTo>
                <a:cubicBezTo>
                  <a:pt x="71" y="65"/>
                  <a:pt x="56" y="93"/>
                  <a:pt x="48" y="1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3"/>
          <p:cNvSpPr/>
          <p:nvPr/>
        </p:nvSpPr>
        <p:spPr>
          <a:xfrm>
            <a:off x="7696080" y="4521240"/>
            <a:ext cx="174600" cy="270000"/>
          </a:xfrm>
          <a:custGeom>
            <a:avLst/>
            <a:gdLst/>
            <a:ahLst/>
            <a:rect l="l" t="t" r="r" b="b"/>
            <a:pathLst>
              <a:path w="256" h="396">
                <a:moveTo>
                  <a:pt x="58" y="395"/>
                </a:moveTo>
                <a:cubicBezTo>
                  <a:pt x="41" y="395"/>
                  <a:pt x="27" y="392"/>
                  <a:pt x="13" y="390"/>
                </a:cubicBezTo>
                <a:cubicBezTo>
                  <a:pt x="4" y="387"/>
                  <a:pt x="2" y="381"/>
                  <a:pt x="2" y="373"/>
                </a:cubicBezTo>
                <a:cubicBezTo>
                  <a:pt x="4" y="364"/>
                  <a:pt x="10" y="361"/>
                  <a:pt x="18" y="361"/>
                </a:cubicBezTo>
                <a:cubicBezTo>
                  <a:pt x="30" y="364"/>
                  <a:pt x="44" y="367"/>
                  <a:pt x="58" y="367"/>
                </a:cubicBezTo>
                <a:cubicBezTo>
                  <a:pt x="151" y="367"/>
                  <a:pt x="227" y="291"/>
                  <a:pt x="227" y="198"/>
                </a:cubicBezTo>
                <a:cubicBezTo>
                  <a:pt x="227" y="104"/>
                  <a:pt x="151" y="28"/>
                  <a:pt x="58" y="28"/>
                </a:cubicBezTo>
                <a:cubicBezTo>
                  <a:pt x="44" y="28"/>
                  <a:pt x="33" y="31"/>
                  <a:pt x="18" y="34"/>
                </a:cubicBezTo>
                <a:cubicBezTo>
                  <a:pt x="10" y="37"/>
                  <a:pt x="5" y="31"/>
                  <a:pt x="2" y="23"/>
                </a:cubicBezTo>
                <a:cubicBezTo>
                  <a:pt x="0" y="14"/>
                  <a:pt x="4" y="9"/>
                  <a:pt x="13" y="6"/>
                </a:cubicBezTo>
                <a:cubicBezTo>
                  <a:pt x="27" y="3"/>
                  <a:pt x="44" y="0"/>
                  <a:pt x="58" y="0"/>
                </a:cubicBezTo>
                <a:cubicBezTo>
                  <a:pt x="168" y="0"/>
                  <a:pt x="255" y="88"/>
                  <a:pt x="255" y="198"/>
                </a:cubicBezTo>
                <a:cubicBezTo>
                  <a:pt x="255" y="308"/>
                  <a:pt x="168" y="395"/>
                  <a:pt x="58" y="3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74"/>
          <p:cNvSpPr/>
          <p:nvPr/>
        </p:nvSpPr>
        <p:spPr>
          <a:xfrm>
            <a:off x="7678800" y="4599000"/>
            <a:ext cx="60120" cy="95400"/>
          </a:xfrm>
          <a:custGeom>
            <a:avLst/>
            <a:gdLst/>
            <a:ahLst/>
            <a:rect l="l" t="t" r="r" b="b"/>
            <a:pathLst>
              <a:path w="86" h="142">
                <a:moveTo>
                  <a:pt x="71" y="141"/>
                </a:moveTo>
                <a:lnTo>
                  <a:pt x="14" y="141"/>
                </a:lnTo>
                <a:cubicBezTo>
                  <a:pt x="6" y="141"/>
                  <a:pt x="0" y="135"/>
                  <a:pt x="0" y="127"/>
                </a:cubicBezTo>
                <a:lnTo>
                  <a:pt x="0" y="99"/>
                </a:lnTo>
                <a:cubicBezTo>
                  <a:pt x="0" y="76"/>
                  <a:pt x="20" y="56"/>
                  <a:pt x="43" y="56"/>
                </a:cubicBezTo>
                <a:cubicBezTo>
                  <a:pt x="51" y="56"/>
                  <a:pt x="57" y="50"/>
                  <a:pt x="57" y="42"/>
                </a:cubicBezTo>
                <a:cubicBezTo>
                  <a:pt x="57" y="33"/>
                  <a:pt x="51" y="28"/>
                  <a:pt x="43" y="28"/>
                </a:cubicBez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43" y="0"/>
                </a:lnTo>
                <a:cubicBezTo>
                  <a:pt x="65" y="0"/>
                  <a:pt x="85" y="19"/>
                  <a:pt x="85" y="42"/>
                </a:cubicBezTo>
                <a:cubicBezTo>
                  <a:pt x="85" y="64"/>
                  <a:pt x="65" y="85"/>
                  <a:pt x="43" y="85"/>
                </a:cubicBezTo>
                <a:cubicBezTo>
                  <a:pt x="34" y="85"/>
                  <a:pt x="29" y="90"/>
                  <a:pt x="29" y="99"/>
                </a:cubicBezTo>
                <a:lnTo>
                  <a:pt x="29" y="113"/>
                </a:lnTo>
                <a:lnTo>
                  <a:pt x="71" y="113"/>
                </a:lnTo>
                <a:cubicBezTo>
                  <a:pt x="79" y="113"/>
                  <a:pt x="85" y="118"/>
                  <a:pt x="85" y="127"/>
                </a:cubicBezTo>
                <a:cubicBezTo>
                  <a:pt x="85" y="135"/>
                  <a:pt x="79" y="141"/>
                  <a:pt x="71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75"/>
          <p:cNvSpPr/>
          <p:nvPr/>
        </p:nvSpPr>
        <p:spPr>
          <a:xfrm>
            <a:off x="7794720" y="4599000"/>
            <a:ext cx="21960" cy="95400"/>
          </a:xfrm>
          <a:custGeom>
            <a:avLst/>
            <a:gdLst/>
            <a:ahLst/>
            <a:rect l="l" t="t" r="r" b="b"/>
            <a:pathLst>
              <a:path w="29" h="142">
                <a:moveTo>
                  <a:pt x="14" y="141"/>
                </a:moveTo>
                <a:cubicBezTo>
                  <a:pt x="5" y="141"/>
                  <a:pt x="0" y="135"/>
                  <a:pt x="0" y="127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127"/>
                </a:lnTo>
                <a:cubicBezTo>
                  <a:pt x="28" y="135"/>
                  <a:pt x="22" y="141"/>
                  <a:pt x="1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76"/>
          <p:cNvSpPr/>
          <p:nvPr/>
        </p:nvSpPr>
        <p:spPr>
          <a:xfrm>
            <a:off x="7756560" y="4599000"/>
            <a:ext cx="60120" cy="60480"/>
          </a:xfrm>
          <a:custGeom>
            <a:avLst/>
            <a:gdLst/>
            <a:ahLst/>
            <a:rect l="l" t="t" r="r" b="b"/>
            <a:pathLst>
              <a:path w="89" h="86">
                <a:moveTo>
                  <a:pt x="71" y="85"/>
                </a:moveTo>
                <a:lnTo>
                  <a:pt x="14" y="85"/>
                </a:lnTo>
                <a:cubicBezTo>
                  <a:pt x="9" y="85"/>
                  <a:pt x="6" y="82"/>
                  <a:pt x="3" y="79"/>
                </a:cubicBezTo>
                <a:cubicBezTo>
                  <a:pt x="0" y="76"/>
                  <a:pt x="0" y="71"/>
                  <a:pt x="0" y="68"/>
                </a:cubicBezTo>
                <a:lnTo>
                  <a:pt x="14" y="11"/>
                </a:lnTo>
                <a:cubicBezTo>
                  <a:pt x="17" y="3"/>
                  <a:pt x="23" y="0"/>
                  <a:pt x="31" y="0"/>
                </a:cubicBezTo>
                <a:cubicBezTo>
                  <a:pt x="40" y="3"/>
                  <a:pt x="42" y="8"/>
                  <a:pt x="42" y="17"/>
                </a:cubicBezTo>
                <a:lnTo>
                  <a:pt x="34" y="56"/>
                </a:lnTo>
                <a:lnTo>
                  <a:pt x="74" y="56"/>
                </a:lnTo>
                <a:cubicBezTo>
                  <a:pt x="82" y="56"/>
                  <a:pt x="88" y="62"/>
                  <a:pt x="88" y="71"/>
                </a:cubicBezTo>
                <a:cubicBezTo>
                  <a:pt x="88" y="79"/>
                  <a:pt x="79" y="85"/>
                  <a:pt x="71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77"/>
          <p:cNvSpPr/>
          <p:nvPr/>
        </p:nvSpPr>
        <p:spPr>
          <a:xfrm>
            <a:off x="6799320" y="4541760"/>
            <a:ext cx="269640" cy="27000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81" y="395"/>
                </a:moveTo>
                <a:cubicBezTo>
                  <a:pt x="172" y="395"/>
                  <a:pt x="0" y="2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6"/>
                  <a:pt x="113" y="14"/>
                </a:cubicBezTo>
                <a:cubicBezTo>
                  <a:pt x="113" y="57"/>
                  <a:pt x="122" y="93"/>
                  <a:pt x="138" y="130"/>
                </a:cubicBezTo>
                <a:cubicBezTo>
                  <a:pt x="141" y="133"/>
                  <a:pt x="141" y="139"/>
                  <a:pt x="138" y="141"/>
                </a:cubicBezTo>
                <a:cubicBezTo>
                  <a:pt x="138" y="144"/>
                  <a:pt x="136" y="147"/>
                  <a:pt x="130" y="150"/>
                </a:cubicBezTo>
                <a:lnTo>
                  <a:pt x="68" y="181"/>
                </a:lnTo>
                <a:cubicBezTo>
                  <a:pt x="102" y="243"/>
                  <a:pt x="153" y="294"/>
                  <a:pt x="215" y="328"/>
                </a:cubicBezTo>
                <a:lnTo>
                  <a:pt x="246" y="266"/>
                </a:lnTo>
                <a:cubicBezTo>
                  <a:pt x="249" y="263"/>
                  <a:pt x="251" y="260"/>
                  <a:pt x="254" y="257"/>
                </a:cubicBezTo>
                <a:cubicBezTo>
                  <a:pt x="257" y="257"/>
                  <a:pt x="263" y="257"/>
                  <a:pt x="265" y="257"/>
                </a:cubicBezTo>
                <a:cubicBezTo>
                  <a:pt x="302" y="274"/>
                  <a:pt x="342" y="282"/>
                  <a:pt x="381" y="282"/>
                </a:cubicBezTo>
                <a:cubicBezTo>
                  <a:pt x="390" y="282"/>
                  <a:pt x="395" y="288"/>
                  <a:pt x="395" y="297"/>
                </a:cubicBezTo>
                <a:lnTo>
                  <a:pt x="395" y="381"/>
                </a:lnTo>
                <a:cubicBezTo>
                  <a:pt x="395" y="390"/>
                  <a:pt x="390" y="395"/>
                  <a:pt x="381" y="395"/>
                </a:cubicBezTo>
                <a:close/>
                <a:moveTo>
                  <a:pt x="240" y="339"/>
                </a:moveTo>
                <a:cubicBezTo>
                  <a:pt x="280" y="356"/>
                  <a:pt x="322" y="367"/>
                  <a:pt x="367" y="367"/>
                </a:cubicBezTo>
                <a:lnTo>
                  <a:pt x="367" y="311"/>
                </a:lnTo>
                <a:cubicBezTo>
                  <a:pt x="330" y="308"/>
                  <a:pt x="296" y="302"/>
                  <a:pt x="265" y="288"/>
                </a:cubicBezTo>
                <a:lnTo>
                  <a:pt x="240" y="339"/>
                </a:lnTo>
                <a:close/>
                <a:moveTo>
                  <a:pt x="28" y="29"/>
                </a:moveTo>
                <a:cubicBezTo>
                  <a:pt x="31" y="74"/>
                  <a:pt x="40" y="116"/>
                  <a:pt x="57" y="156"/>
                </a:cubicBezTo>
                <a:lnTo>
                  <a:pt x="107" y="130"/>
                </a:lnTo>
                <a:cubicBezTo>
                  <a:pt x="93" y="99"/>
                  <a:pt x="85" y="65"/>
                  <a:pt x="85" y="29"/>
                </a:cubicBezTo>
                <a:lnTo>
                  <a:pt x="2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78"/>
          <p:cNvSpPr/>
          <p:nvPr/>
        </p:nvSpPr>
        <p:spPr>
          <a:xfrm>
            <a:off x="6934320" y="4521240"/>
            <a:ext cx="172800" cy="152280"/>
          </a:xfrm>
          <a:custGeom>
            <a:avLst/>
            <a:gdLst/>
            <a:ahLst/>
            <a:rect l="l" t="t" r="r" b="b"/>
            <a:pathLst>
              <a:path w="255" h="227">
                <a:moveTo>
                  <a:pt x="70" y="226"/>
                </a:moveTo>
                <a:cubicBezTo>
                  <a:pt x="67" y="226"/>
                  <a:pt x="67" y="226"/>
                  <a:pt x="65" y="226"/>
                </a:cubicBezTo>
                <a:cubicBezTo>
                  <a:pt x="59" y="223"/>
                  <a:pt x="56" y="217"/>
                  <a:pt x="56" y="212"/>
                </a:cubicBezTo>
                <a:lnTo>
                  <a:pt x="56" y="169"/>
                </a:lnTo>
                <a:lnTo>
                  <a:pt x="28" y="169"/>
                </a:lnTo>
                <a:cubicBezTo>
                  <a:pt x="11" y="169"/>
                  <a:pt x="0" y="158"/>
                  <a:pt x="0" y="141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225" y="0"/>
                </a:lnTo>
                <a:cubicBezTo>
                  <a:pt x="242" y="0"/>
                  <a:pt x="254" y="11"/>
                  <a:pt x="254" y="28"/>
                </a:cubicBezTo>
                <a:lnTo>
                  <a:pt x="254" y="141"/>
                </a:lnTo>
                <a:cubicBezTo>
                  <a:pt x="254" y="158"/>
                  <a:pt x="242" y="169"/>
                  <a:pt x="225" y="169"/>
                </a:cubicBezTo>
                <a:lnTo>
                  <a:pt x="118" y="169"/>
                </a:lnTo>
                <a:lnTo>
                  <a:pt x="82" y="220"/>
                </a:lnTo>
                <a:cubicBezTo>
                  <a:pt x="79" y="223"/>
                  <a:pt x="76" y="226"/>
                  <a:pt x="70" y="226"/>
                </a:cubicBezTo>
                <a:close/>
                <a:moveTo>
                  <a:pt x="28" y="28"/>
                </a:moveTo>
                <a:lnTo>
                  <a:pt x="28" y="141"/>
                </a:lnTo>
                <a:lnTo>
                  <a:pt x="70" y="141"/>
                </a:lnTo>
                <a:cubicBezTo>
                  <a:pt x="79" y="141"/>
                  <a:pt x="84" y="147"/>
                  <a:pt x="84" y="155"/>
                </a:cubicBezTo>
                <a:lnTo>
                  <a:pt x="84" y="169"/>
                </a:lnTo>
                <a:lnTo>
                  <a:pt x="101" y="147"/>
                </a:lnTo>
                <a:cubicBezTo>
                  <a:pt x="104" y="144"/>
                  <a:pt x="107" y="141"/>
                  <a:pt x="113" y="141"/>
                </a:cubicBezTo>
                <a:lnTo>
                  <a:pt x="225" y="141"/>
                </a:lnTo>
                <a:lnTo>
                  <a:pt x="225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79"/>
          <p:cNvSpPr/>
          <p:nvPr/>
        </p:nvSpPr>
        <p:spPr>
          <a:xfrm>
            <a:off x="6033960" y="1496880"/>
            <a:ext cx="308160" cy="212760"/>
          </a:xfrm>
          <a:custGeom>
            <a:avLst/>
            <a:gdLst/>
            <a:ahLst/>
            <a:rect l="l" t="t" r="r" b="b"/>
            <a:pathLst>
              <a:path w="453" h="312">
                <a:moveTo>
                  <a:pt x="424" y="311"/>
                </a:moveTo>
                <a:lnTo>
                  <a:pt x="29" y="311"/>
                </a:lnTo>
                <a:cubicBezTo>
                  <a:pt x="12" y="311"/>
                  <a:pt x="0" y="300"/>
                  <a:pt x="0" y="283"/>
                </a:cubicBezTo>
                <a:lnTo>
                  <a:pt x="0" y="29"/>
                </a:lnTo>
                <a:cubicBezTo>
                  <a:pt x="0" y="12"/>
                  <a:pt x="12" y="0"/>
                  <a:pt x="29" y="0"/>
                </a:cubicBezTo>
                <a:lnTo>
                  <a:pt x="424" y="0"/>
                </a:lnTo>
                <a:cubicBezTo>
                  <a:pt x="441" y="0"/>
                  <a:pt x="452" y="12"/>
                  <a:pt x="452" y="29"/>
                </a:cubicBezTo>
                <a:lnTo>
                  <a:pt x="452" y="283"/>
                </a:lnTo>
                <a:cubicBezTo>
                  <a:pt x="452" y="300"/>
                  <a:pt x="441" y="311"/>
                  <a:pt x="424" y="311"/>
                </a:cubicBezTo>
                <a:close/>
                <a:moveTo>
                  <a:pt x="29" y="29"/>
                </a:moveTo>
                <a:lnTo>
                  <a:pt x="29" y="283"/>
                </a:lnTo>
                <a:lnTo>
                  <a:pt x="424" y="283"/>
                </a:lnTo>
                <a:lnTo>
                  <a:pt x="424" y="29"/>
                </a:lnTo>
                <a:lnTo>
                  <a:pt x="2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80"/>
          <p:cNvSpPr/>
          <p:nvPr/>
        </p:nvSpPr>
        <p:spPr>
          <a:xfrm>
            <a:off x="6146640" y="1565280"/>
            <a:ext cx="7812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6" y="113"/>
                </a:moveTo>
                <a:cubicBezTo>
                  <a:pt x="25" y="113"/>
                  <a:pt x="0" y="88"/>
                  <a:pt x="0" y="57"/>
                </a:cubicBezTo>
                <a:cubicBezTo>
                  <a:pt x="0" y="26"/>
                  <a:pt x="25" y="0"/>
                  <a:pt x="56" y="0"/>
                </a:cubicBezTo>
                <a:cubicBezTo>
                  <a:pt x="87" y="0"/>
                  <a:pt x="113" y="26"/>
                  <a:pt x="113" y="57"/>
                </a:cubicBezTo>
                <a:cubicBezTo>
                  <a:pt x="113" y="88"/>
                  <a:pt x="87" y="113"/>
                  <a:pt x="56" y="113"/>
                </a:cubicBezTo>
                <a:close/>
                <a:moveTo>
                  <a:pt x="56" y="28"/>
                </a:moveTo>
                <a:cubicBezTo>
                  <a:pt x="39" y="28"/>
                  <a:pt x="28" y="40"/>
                  <a:pt x="28" y="57"/>
                </a:cubicBezTo>
                <a:cubicBezTo>
                  <a:pt x="28" y="74"/>
                  <a:pt x="39" y="85"/>
                  <a:pt x="56" y="85"/>
                </a:cubicBezTo>
                <a:cubicBezTo>
                  <a:pt x="73" y="85"/>
                  <a:pt x="84" y="74"/>
                  <a:pt x="84" y="57"/>
                </a:cubicBezTo>
                <a:cubicBezTo>
                  <a:pt x="84" y="40"/>
                  <a:pt x="73" y="28"/>
                  <a:pt x="5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81"/>
          <p:cNvSpPr/>
          <p:nvPr/>
        </p:nvSpPr>
        <p:spPr>
          <a:xfrm>
            <a:off x="6033960" y="1496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5" y="113"/>
                </a:moveTo>
                <a:cubicBezTo>
                  <a:pt x="6" y="113"/>
                  <a:pt x="0" y="107"/>
                  <a:pt x="0" y="99"/>
                </a:cubicBezTo>
                <a:cubicBezTo>
                  <a:pt x="0" y="90"/>
                  <a:pt x="6" y="85"/>
                  <a:pt x="15" y="85"/>
                </a:cubicBezTo>
                <a:cubicBezTo>
                  <a:pt x="54" y="85"/>
                  <a:pt x="85" y="54"/>
                  <a:pt x="85" y="15"/>
                </a:cubicBezTo>
                <a:cubicBezTo>
                  <a:pt x="85" y="6"/>
                  <a:pt x="91" y="0"/>
                  <a:pt x="99" y="0"/>
                </a:cubicBezTo>
                <a:cubicBezTo>
                  <a:pt x="108" y="0"/>
                  <a:pt x="113" y="6"/>
                  <a:pt x="113" y="15"/>
                </a:cubicBezTo>
                <a:cubicBezTo>
                  <a:pt x="113" y="68"/>
                  <a:pt x="68" y="113"/>
                  <a:pt x="15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82"/>
          <p:cNvSpPr/>
          <p:nvPr/>
        </p:nvSpPr>
        <p:spPr>
          <a:xfrm>
            <a:off x="6264360" y="1496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99" y="113"/>
                </a:moveTo>
                <a:cubicBezTo>
                  <a:pt x="45" y="113"/>
                  <a:pt x="0" y="68"/>
                  <a:pt x="0" y="15"/>
                </a:cubicBez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cubicBezTo>
                  <a:pt x="28" y="54"/>
                  <a:pt x="59" y="85"/>
                  <a:pt x="99" y="85"/>
                </a:cubicBezTo>
                <a:cubicBezTo>
                  <a:pt x="107" y="85"/>
                  <a:pt x="113" y="90"/>
                  <a:pt x="113" y="99"/>
                </a:cubicBezTo>
                <a:cubicBezTo>
                  <a:pt x="113" y="107"/>
                  <a:pt x="107" y="113"/>
                  <a:pt x="99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83"/>
          <p:cNvSpPr/>
          <p:nvPr/>
        </p:nvSpPr>
        <p:spPr>
          <a:xfrm>
            <a:off x="6033960" y="1631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99" y="113"/>
                </a:moveTo>
                <a:cubicBezTo>
                  <a:pt x="91" y="113"/>
                  <a:pt x="85" y="107"/>
                  <a:pt x="85" y="99"/>
                </a:cubicBezTo>
                <a:cubicBezTo>
                  <a:pt x="85" y="59"/>
                  <a:pt x="54" y="28"/>
                  <a:pt x="15" y="28"/>
                </a:cubicBez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5" y="0"/>
                </a:cubicBezTo>
                <a:cubicBezTo>
                  <a:pt x="68" y="0"/>
                  <a:pt x="113" y="45"/>
                  <a:pt x="113" y="99"/>
                </a:cubicBezTo>
                <a:cubicBezTo>
                  <a:pt x="113" y="107"/>
                  <a:pt x="108" y="113"/>
                  <a:pt x="99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84"/>
          <p:cNvSpPr/>
          <p:nvPr/>
        </p:nvSpPr>
        <p:spPr>
          <a:xfrm>
            <a:off x="6264360" y="1631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4" y="113"/>
                </a:moveTo>
                <a:cubicBezTo>
                  <a:pt x="6" y="113"/>
                  <a:pt x="0" y="107"/>
                  <a:pt x="0" y="99"/>
                </a:cubicBezTo>
                <a:cubicBezTo>
                  <a:pt x="0" y="45"/>
                  <a:pt x="45" y="0"/>
                  <a:pt x="99" y="0"/>
                </a:cubicBezTo>
                <a:cubicBezTo>
                  <a:pt x="107" y="0"/>
                  <a:pt x="113" y="5"/>
                  <a:pt x="113" y="14"/>
                </a:cubicBezTo>
                <a:cubicBezTo>
                  <a:pt x="113" y="22"/>
                  <a:pt x="107" y="28"/>
                  <a:pt x="99" y="28"/>
                </a:cubicBezTo>
                <a:cubicBezTo>
                  <a:pt x="59" y="28"/>
                  <a:pt x="28" y="59"/>
                  <a:pt x="28" y="99"/>
                </a:cubicBezTo>
                <a:cubicBezTo>
                  <a:pt x="28" y="107"/>
                  <a:pt x="23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5"/>
          <p:cNvSpPr/>
          <p:nvPr/>
        </p:nvSpPr>
        <p:spPr>
          <a:xfrm>
            <a:off x="6837480" y="1459080"/>
            <a:ext cx="231480" cy="20520"/>
          </a:xfrm>
          <a:custGeom>
            <a:avLst/>
            <a:gdLst/>
            <a:ahLst/>
            <a:rect l="l" t="t" r="r" b="b"/>
            <a:pathLst>
              <a:path w="339" h="29">
                <a:moveTo>
                  <a:pt x="324" y="28"/>
                </a:move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324" y="0"/>
                </a:lnTo>
                <a:cubicBezTo>
                  <a:pt x="333" y="0"/>
                  <a:pt x="338" y="5"/>
                  <a:pt x="338" y="14"/>
                </a:cubicBezTo>
                <a:cubicBezTo>
                  <a:pt x="338" y="22"/>
                  <a:pt x="333" y="28"/>
                  <a:pt x="32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86"/>
          <p:cNvSpPr/>
          <p:nvPr/>
        </p:nvSpPr>
        <p:spPr>
          <a:xfrm>
            <a:off x="6799320" y="1496880"/>
            <a:ext cx="307800" cy="212760"/>
          </a:xfrm>
          <a:custGeom>
            <a:avLst/>
            <a:gdLst/>
            <a:ahLst/>
            <a:rect l="l" t="t" r="r" b="b"/>
            <a:pathLst>
              <a:path w="453" h="312">
                <a:moveTo>
                  <a:pt x="423" y="311"/>
                </a:moveTo>
                <a:lnTo>
                  <a:pt x="28" y="311"/>
                </a:lnTo>
                <a:cubicBezTo>
                  <a:pt x="11" y="311"/>
                  <a:pt x="0" y="300"/>
                  <a:pt x="0" y="283"/>
                </a:cubicBezTo>
                <a:lnTo>
                  <a:pt x="0" y="29"/>
                </a:lnTo>
                <a:cubicBezTo>
                  <a:pt x="0" y="12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2" y="12"/>
                  <a:pt x="452" y="29"/>
                </a:cubicBezTo>
                <a:lnTo>
                  <a:pt x="452" y="283"/>
                </a:lnTo>
                <a:cubicBezTo>
                  <a:pt x="452" y="300"/>
                  <a:pt x="440" y="311"/>
                  <a:pt x="423" y="311"/>
                </a:cubicBezTo>
                <a:close/>
                <a:moveTo>
                  <a:pt x="28" y="29"/>
                </a:moveTo>
                <a:lnTo>
                  <a:pt x="28" y="283"/>
                </a:lnTo>
                <a:lnTo>
                  <a:pt x="423" y="283"/>
                </a:lnTo>
                <a:lnTo>
                  <a:pt x="423" y="29"/>
                </a:lnTo>
                <a:lnTo>
                  <a:pt x="2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87"/>
          <p:cNvSpPr/>
          <p:nvPr/>
        </p:nvSpPr>
        <p:spPr>
          <a:xfrm>
            <a:off x="6913440" y="1565280"/>
            <a:ext cx="77760" cy="77760"/>
          </a:xfrm>
          <a:custGeom>
            <a:avLst/>
            <a:gdLst/>
            <a:ahLst/>
            <a:rect l="l" t="t" r="r" b="b"/>
            <a:pathLst>
              <a:path w="113" h="114">
                <a:moveTo>
                  <a:pt x="56" y="113"/>
                </a:moveTo>
                <a:cubicBezTo>
                  <a:pt x="25" y="113"/>
                  <a:pt x="0" y="88"/>
                  <a:pt x="0" y="57"/>
                </a:cubicBezTo>
                <a:cubicBezTo>
                  <a:pt x="0" y="26"/>
                  <a:pt x="25" y="0"/>
                  <a:pt x="56" y="0"/>
                </a:cubicBezTo>
                <a:cubicBezTo>
                  <a:pt x="87" y="0"/>
                  <a:pt x="112" y="26"/>
                  <a:pt x="112" y="57"/>
                </a:cubicBezTo>
                <a:cubicBezTo>
                  <a:pt x="112" y="88"/>
                  <a:pt x="87" y="113"/>
                  <a:pt x="56" y="113"/>
                </a:cubicBezTo>
                <a:close/>
                <a:moveTo>
                  <a:pt x="56" y="28"/>
                </a:moveTo>
                <a:cubicBezTo>
                  <a:pt x="39" y="28"/>
                  <a:pt x="28" y="40"/>
                  <a:pt x="28" y="57"/>
                </a:cubicBezTo>
                <a:cubicBezTo>
                  <a:pt x="28" y="74"/>
                  <a:pt x="39" y="85"/>
                  <a:pt x="56" y="85"/>
                </a:cubicBezTo>
                <a:cubicBezTo>
                  <a:pt x="73" y="85"/>
                  <a:pt x="84" y="74"/>
                  <a:pt x="84" y="57"/>
                </a:cubicBezTo>
                <a:cubicBezTo>
                  <a:pt x="84" y="40"/>
                  <a:pt x="73" y="28"/>
                  <a:pt x="5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88"/>
          <p:cNvSpPr/>
          <p:nvPr/>
        </p:nvSpPr>
        <p:spPr>
          <a:xfrm>
            <a:off x="6799320" y="1496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4" y="113"/>
                </a:moveTo>
                <a:cubicBezTo>
                  <a:pt x="6" y="113"/>
                  <a:pt x="0" y="107"/>
                  <a:pt x="0" y="99"/>
                </a:cubicBezTo>
                <a:cubicBezTo>
                  <a:pt x="0" y="90"/>
                  <a:pt x="6" y="85"/>
                  <a:pt x="14" y="85"/>
                </a:cubicBezTo>
                <a:cubicBezTo>
                  <a:pt x="54" y="85"/>
                  <a:pt x="85" y="54"/>
                  <a:pt x="85" y="15"/>
                </a:cubicBezTo>
                <a:cubicBezTo>
                  <a:pt x="85" y="6"/>
                  <a:pt x="91" y="0"/>
                  <a:pt x="99" y="0"/>
                </a:cubicBezTo>
                <a:cubicBezTo>
                  <a:pt x="108" y="0"/>
                  <a:pt x="113" y="6"/>
                  <a:pt x="113" y="15"/>
                </a:cubicBezTo>
                <a:cubicBezTo>
                  <a:pt x="113" y="68"/>
                  <a:pt x="68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89"/>
          <p:cNvSpPr/>
          <p:nvPr/>
        </p:nvSpPr>
        <p:spPr>
          <a:xfrm>
            <a:off x="7029360" y="1496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99" y="113"/>
                </a:moveTo>
                <a:cubicBezTo>
                  <a:pt x="45" y="113"/>
                  <a:pt x="0" y="68"/>
                  <a:pt x="0" y="15"/>
                </a:cubicBez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cubicBezTo>
                  <a:pt x="28" y="54"/>
                  <a:pt x="59" y="85"/>
                  <a:pt x="99" y="85"/>
                </a:cubicBezTo>
                <a:cubicBezTo>
                  <a:pt x="107" y="85"/>
                  <a:pt x="113" y="90"/>
                  <a:pt x="113" y="99"/>
                </a:cubicBezTo>
                <a:cubicBezTo>
                  <a:pt x="113" y="107"/>
                  <a:pt x="107" y="113"/>
                  <a:pt x="99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90"/>
          <p:cNvSpPr/>
          <p:nvPr/>
        </p:nvSpPr>
        <p:spPr>
          <a:xfrm>
            <a:off x="6799320" y="1631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99" y="113"/>
                </a:moveTo>
                <a:cubicBezTo>
                  <a:pt x="90" y="113"/>
                  <a:pt x="85" y="107"/>
                  <a:pt x="85" y="99"/>
                </a:cubicBezTo>
                <a:cubicBezTo>
                  <a:pt x="85" y="59"/>
                  <a:pt x="54" y="28"/>
                  <a:pt x="14" y="28"/>
                </a:cubicBez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cubicBezTo>
                  <a:pt x="68" y="0"/>
                  <a:pt x="113" y="45"/>
                  <a:pt x="113" y="99"/>
                </a:cubicBezTo>
                <a:cubicBezTo>
                  <a:pt x="113" y="107"/>
                  <a:pt x="107" y="113"/>
                  <a:pt x="99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91"/>
          <p:cNvSpPr/>
          <p:nvPr/>
        </p:nvSpPr>
        <p:spPr>
          <a:xfrm>
            <a:off x="7029360" y="1631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4" y="113"/>
                </a:moveTo>
                <a:cubicBezTo>
                  <a:pt x="5" y="113"/>
                  <a:pt x="0" y="107"/>
                  <a:pt x="0" y="99"/>
                </a:cubicBezTo>
                <a:cubicBezTo>
                  <a:pt x="0" y="45"/>
                  <a:pt x="45" y="0"/>
                  <a:pt x="99" y="0"/>
                </a:cubicBezTo>
                <a:cubicBezTo>
                  <a:pt x="107" y="0"/>
                  <a:pt x="113" y="5"/>
                  <a:pt x="113" y="14"/>
                </a:cubicBezTo>
                <a:cubicBezTo>
                  <a:pt x="113" y="22"/>
                  <a:pt x="107" y="28"/>
                  <a:pt x="99" y="28"/>
                </a:cubicBezTo>
                <a:cubicBezTo>
                  <a:pt x="59" y="28"/>
                  <a:pt x="28" y="59"/>
                  <a:pt x="28" y="99"/>
                </a:cubicBezTo>
                <a:cubicBezTo>
                  <a:pt x="28" y="107"/>
                  <a:pt x="22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2"/>
          <p:cNvSpPr/>
          <p:nvPr/>
        </p:nvSpPr>
        <p:spPr>
          <a:xfrm>
            <a:off x="7564320" y="1496880"/>
            <a:ext cx="308160" cy="212760"/>
          </a:xfrm>
          <a:custGeom>
            <a:avLst/>
            <a:gdLst/>
            <a:ahLst/>
            <a:rect l="l" t="t" r="r" b="b"/>
            <a:pathLst>
              <a:path w="452" h="312">
                <a:moveTo>
                  <a:pt x="423" y="311"/>
                </a:moveTo>
                <a:lnTo>
                  <a:pt x="28" y="311"/>
                </a:lnTo>
                <a:cubicBezTo>
                  <a:pt x="11" y="311"/>
                  <a:pt x="0" y="300"/>
                  <a:pt x="0" y="283"/>
                </a:cubicBezTo>
                <a:lnTo>
                  <a:pt x="0" y="29"/>
                </a:lnTo>
                <a:cubicBezTo>
                  <a:pt x="0" y="12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1" y="12"/>
                  <a:pt x="451" y="29"/>
                </a:cubicBezTo>
                <a:lnTo>
                  <a:pt x="451" y="283"/>
                </a:lnTo>
                <a:cubicBezTo>
                  <a:pt x="451" y="300"/>
                  <a:pt x="440" y="311"/>
                  <a:pt x="423" y="311"/>
                </a:cubicBezTo>
                <a:close/>
                <a:moveTo>
                  <a:pt x="28" y="29"/>
                </a:moveTo>
                <a:lnTo>
                  <a:pt x="28" y="283"/>
                </a:lnTo>
                <a:lnTo>
                  <a:pt x="423" y="283"/>
                </a:lnTo>
                <a:lnTo>
                  <a:pt x="423" y="29"/>
                </a:lnTo>
                <a:lnTo>
                  <a:pt x="2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93"/>
          <p:cNvSpPr/>
          <p:nvPr/>
        </p:nvSpPr>
        <p:spPr>
          <a:xfrm>
            <a:off x="7564320" y="1496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4" y="113"/>
                </a:moveTo>
                <a:cubicBezTo>
                  <a:pt x="6" y="113"/>
                  <a:pt x="0" y="107"/>
                  <a:pt x="0" y="99"/>
                </a:cubicBezTo>
                <a:cubicBezTo>
                  <a:pt x="0" y="90"/>
                  <a:pt x="6" y="85"/>
                  <a:pt x="14" y="85"/>
                </a:cubicBezTo>
                <a:cubicBezTo>
                  <a:pt x="54" y="85"/>
                  <a:pt x="85" y="54"/>
                  <a:pt x="85" y="15"/>
                </a:cubicBezTo>
                <a:cubicBezTo>
                  <a:pt x="85" y="6"/>
                  <a:pt x="91" y="0"/>
                  <a:pt x="99" y="0"/>
                </a:cubicBezTo>
                <a:cubicBezTo>
                  <a:pt x="108" y="0"/>
                  <a:pt x="113" y="6"/>
                  <a:pt x="113" y="15"/>
                </a:cubicBezTo>
                <a:cubicBezTo>
                  <a:pt x="113" y="68"/>
                  <a:pt x="68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4"/>
          <p:cNvSpPr/>
          <p:nvPr/>
        </p:nvSpPr>
        <p:spPr>
          <a:xfrm>
            <a:off x="7794720" y="1496880"/>
            <a:ext cx="77760" cy="77760"/>
          </a:xfrm>
          <a:custGeom>
            <a:avLst/>
            <a:gdLst/>
            <a:ahLst/>
            <a:rect l="l" t="t" r="r" b="b"/>
            <a:pathLst>
              <a:path w="113" h="114">
                <a:moveTo>
                  <a:pt x="98" y="113"/>
                </a:moveTo>
                <a:cubicBezTo>
                  <a:pt x="45" y="113"/>
                  <a:pt x="0" y="68"/>
                  <a:pt x="0" y="15"/>
                </a:cubicBez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cubicBezTo>
                  <a:pt x="28" y="54"/>
                  <a:pt x="59" y="85"/>
                  <a:pt x="98" y="85"/>
                </a:cubicBezTo>
                <a:cubicBezTo>
                  <a:pt x="107" y="85"/>
                  <a:pt x="112" y="90"/>
                  <a:pt x="112" y="99"/>
                </a:cubicBezTo>
                <a:cubicBezTo>
                  <a:pt x="112" y="107"/>
                  <a:pt x="107" y="113"/>
                  <a:pt x="98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95"/>
          <p:cNvSpPr/>
          <p:nvPr/>
        </p:nvSpPr>
        <p:spPr>
          <a:xfrm>
            <a:off x="7564320" y="1631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99" y="113"/>
                </a:moveTo>
                <a:cubicBezTo>
                  <a:pt x="90" y="113"/>
                  <a:pt x="85" y="107"/>
                  <a:pt x="85" y="99"/>
                </a:cubicBezTo>
                <a:cubicBezTo>
                  <a:pt x="85" y="59"/>
                  <a:pt x="54" y="28"/>
                  <a:pt x="14" y="28"/>
                </a:cubicBez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cubicBezTo>
                  <a:pt x="68" y="0"/>
                  <a:pt x="113" y="45"/>
                  <a:pt x="113" y="99"/>
                </a:cubicBezTo>
                <a:cubicBezTo>
                  <a:pt x="113" y="107"/>
                  <a:pt x="107" y="113"/>
                  <a:pt x="99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6"/>
          <p:cNvSpPr/>
          <p:nvPr/>
        </p:nvSpPr>
        <p:spPr>
          <a:xfrm>
            <a:off x="7794720" y="1631880"/>
            <a:ext cx="77760" cy="77760"/>
          </a:xfrm>
          <a:custGeom>
            <a:avLst/>
            <a:gdLst/>
            <a:ahLst/>
            <a:rect l="l" t="t" r="r" b="b"/>
            <a:pathLst>
              <a:path w="113" h="114">
                <a:moveTo>
                  <a:pt x="14" y="113"/>
                </a:moveTo>
                <a:cubicBezTo>
                  <a:pt x="5" y="113"/>
                  <a:pt x="0" y="107"/>
                  <a:pt x="0" y="99"/>
                </a:cubicBezTo>
                <a:cubicBezTo>
                  <a:pt x="0" y="45"/>
                  <a:pt x="45" y="0"/>
                  <a:pt x="98" y="0"/>
                </a:cubicBezTo>
                <a:cubicBezTo>
                  <a:pt x="107" y="0"/>
                  <a:pt x="112" y="5"/>
                  <a:pt x="112" y="14"/>
                </a:cubicBezTo>
                <a:cubicBezTo>
                  <a:pt x="112" y="22"/>
                  <a:pt x="107" y="28"/>
                  <a:pt x="98" y="28"/>
                </a:cubicBezTo>
                <a:cubicBezTo>
                  <a:pt x="59" y="28"/>
                  <a:pt x="28" y="59"/>
                  <a:pt x="28" y="99"/>
                </a:cubicBezTo>
                <a:cubicBezTo>
                  <a:pt x="28" y="107"/>
                  <a:pt x="22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97"/>
          <p:cNvSpPr/>
          <p:nvPr/>
        </p:nvSpPr>
        <p:spPr>
          <a:xfrm>
            <a:off x="7688160" y="1554120"/>
            <a:ext cx="58680" cy="95400"/>
          </a:xfrm>
          <a:custGeom>
            <a:avLst/>
            <a:gdLst/>
            <a:ahLst/>
            <a:rect l="l" t="t" r="r" b="b"/>
            <a:pathLst>
              <a:path w="86" h="142">
                <a:moveTo>
                  <a:pt x="43" y="141"/>
                </a:moveTo>
                <a:lnTo>
                  <a:pt x="15" y="141"/>
                </a:lnTo>
                <a:cubicBezTo>
                  <a:pt x="6" y="141"/>
                  <a:pt x="0" y="135"/>
                  <a:pt x="0" y="127"/>
                </a:cubicBezTo>
                <a:cubicBezTo>
                  <a:pt x="0" y="118"/>
                  <a:pt x="6" y="113"/>
                  <a:pt x="15" y="113"/>
                </a:cubicBezTo>
                <a:lnTo>
                  <a:pt x="43" y="113"/>
                </a:lnTo>
                <a:cubicBezTo>
                  <a:pt x="51" y="113"/>
                  <a:pt x="57" y="107"/>
                  <a:pt x="57" y="99"/>
                </a:cubicBezTo>
                <a:cubicBezTo>
                  <a:pt x="57" y="90"/>
                  <a:pt x="51" y="85"/>
                  <a:pt x="43" y="85"/>
                </a:cubicBezTo>
                <a:cubicBezTo>
                  <a:pt x="20" y="85"/>
                  <a:pt x="0" y="64"/>
                  <a:pt x="0" y="42"/>
                </a:cubicBezTo>
                <a:cubicBezTo>
                  <a:pt x="0" y="19"/>
                  <a:pt x="20" y="0"/>
                  <a:pt x="43" y="0"/>
                </a:cubicBezTo>
                <a:lnTo>
                  <a:pt x="71" y="0"/>
                </a:lnTo>
                <a:cubicBezTo>
                  <a:pt x="79" y="0"/>
                  <a:pt x="85" y="5"/>
                  <a:pt x="85" y="14"/>
                </a:cubicBezTo>
                <a:cubicBezTo>
                  <a:pt x="85" y="22"/>
                  <a:pt x="79" y="28"/>
                  <a:pt x="71" y="28"/>
                </a:cubicBezTo>
                <a:lnTo>
                  <a:pt x="43" y="28"/>
                </a:lnTo>
                <a:cubicBezTo>
                  <a:pt x="34" y="28"/>
                  <a:pt x="29" y="33"/>
                  <a:pt x="29" y="42"/>
                </a:cubicBezTo>
                <a:cubicBezTo>
                  <a:pt x="29" y="50"/>
                  <a:pt x="34" y="56"/>
                  <a:pt x="43" y="56"/>
                </a:cubicBezTo>
                <a:cubicBezTo>
                  <a:pt x="65" y="56"/>
                  <a:pt x="85" y="76"/>
                  <a:pt x="85" y="99"/>
                </a:cubicBezTo>
                <a:cubicBezTo>
                  <a:pt x="85" y="121"/>
                  <a:pt x="65" y="141"/>
                  <a:pt x="43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98"/>
          <p:cNvSpPr/>
          <p:nvPr/>
        </p:nvSpPr>
        <p:spPr>
          <a:xfrm>
            <a:off x="7709040" y="1536840"/>
            <a:ext cx="20520" cy="37800"/>
          </a:xfrm>
          <a:custGeom>
            <a:avLst/>
            <a:gdLst/>
            <a:ahLst/>
            <a:rect l="l" t="t" r="r" b="b"/>
            <a:pathLst>
              <a:path w="29" h="57">
                <a:moveTo>
                  <a:pt x="14" y="56"/>
                </a:moveTo>
                <a:cubicBezTo>
                  <a:pt x="5" y="56"/>
                  <a:pt x="0" y="51"/>
                  <a:pt x="0" y="42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8" y="5"/>
                  <a:pt x="28" y="14"/>
                </a:cubicBezTo>
                <a:lnTo>
                  <a:pt x="28" y="42"/>
                </a:lnTo>
                <a:cubicBezTo>
                  <a:pt x="28" y="51"/>
                  <a:pt x="22" y="56"/>
                  <a:pt x="14" y="5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99"/>
          <p:cNvSpPr/>
          <p:nvPr/>
        </p:nvSpPr>
        <p:spPr>
          <a:xfrm>
            <a:off x="7709040" y="1631880"/>
            <a:ext cx="20520" cy="38160"/>
          </a:xfrm>
          <a:custGeom>
            <a:avLst/>
            <a:gdLst/>
            <a:ahLst/>
            <a:rect l="l" t="t" r="r" b="b"/>
            <a:pathLst>
              <a:path w="29" h="57">
                <a:moveTo>
                  <a:pt x="14" y="56"/>
                </a:moveTo>
                <a:cubicBezTo>
                  <a:pt x="5" y="56"/>
                  <a:pt x="0" y="51"/>
                  <a:pt x="0" y="42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42"/>
                </a:lnTo>
                <a:cubicBezTo>
                  <a:pt x="28" y="51"/>
                  <a:pt x="22" y="56"/>
                  <a:pt x="14" y="5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00"/>
          <p:cNvSpPr/>
          <p:nvPr/>
        </p:nvSpPr>
        <p:spPr>
          <a:xfrm>
            <a:off x="8369280" y="1440000"/>
            <a:ext cx="233280" cy="307800"/>
          </a:xfrm>
          <a:custGeom>
            <a:avLst/>
            <a:gdLst/>
            <a:ahLst/>
            <a:rect l="l" t="t" r="r" b="b"/>
            <a:pathLst>
              <a:path w="345" h="452">
                <a:moveTo>
                  <a:pt x="240" y="451"/>
                </a:moveTo>
                <a:lnTo>
                  <a:pt x="99" y="451"/>
                </a:lnTo>
                <a:cubicBezTo>
                  <a:pt x="45" y="451"/>
                  <a:pt x="0" y="406"/>
                  <a:pt x="0" y="352"/>
                </a:cubicBezTo>
                <a:cubicBezTo>
                  <a:pt x="0" y="333"/>
                  <a:pt x="6" y="310"/>
                  <a:pt x="17" y="293"/>
                </a:cubicBezTo>
                <a:lnTo>
                  <a:pt x="127" y="99"/>
                </a:lnTo>
                <a:lnTo>
                  <a:pt x="76" y="22"/>
                </a:lnTo>
                <a:cubicBezTo>
                  <a:pt x="74" y="17"/>
                  <a:pt x="74" y="11"/>
                  <a:pt x="76" y="8"/>
                </a:cubicBezTo>
                <a:cubicBezTo>
                  <a:pt x="79" y="3"/>
                  <a:pt x="85" y="0"/>
                  <a:pt x="88" y="0"/>
                </a:cubicBezTo>
                <a:lnTo>
                  <a:pt x="257" y="0"/>
                </a:lnTo>
                <a:cubicBezTo>
                  <a:pt x="263" y="0"/>
                  <a:pt x="268" y="3"/>
                  <a:pt x="268" y="8"/>
                </a:cubicBezTo>
                <a:cubicBezTo>
                  <a:pt x="271" y="14"/>
                  <a:pt x="271" y="19"/>
                  <a:pt x="268" y="22"/>
                </a:cubicBezTo>
                <a:lnTo>
                  <a:pt x="217" y="99"/>
                </a:lnTo>
                <a:lnTo>
                  <a:pt x="328" y="293"/>
                </a:lnTo>
                <a:cubicBezTo>
                  <a:pt x="339" y="310"/>
                  <a:pt x="344" y="333"/>
                  <a:pt x="344" y="352"/>
                </a:cubicBezTo>
                <a:cubicBezTo>
                  <a:pt x="339" y="406"/>
                  <a:pt x="294" y="451"/>
                  <a:pt x="240" y="451"/>
                </a:cubicBezTo>
                <a:close/>
                <a:moveTo>
                  <a:pt x="153" y="90"/>
                </a:moveTo>
                <a:cubicBezTo>
                  <a:pt x="155" y="96"/>
                  <a:pt x="155" y="101"/>
                  <a:pt x="153" y="104"/>
                </a:cubicBezTo>
                <a:lnTo>
                  <a:pt x="40" y="305"/>
                </a:lnTo>
                <a:cubicBezTo>
                  <a:pt x="31" y="319"/>
                  <a:pt x="28" y="336"/>
                  <a:pt x="28" y="350"/>
                </a:cubicBezTo>
                <a:cubicBezTo>
                  <a:pt x="28" y="389"/>
                  <a:pt x="59" y="420"/>
                  <a:pt x="99" y="420"/>
                </a:cubicBezTo>
                <a:lnTo>
                  <a:pt x="240" y="420"/>
                </a:lnTo>
                <a:cubicBezTo>
                  <a:pt x="280" y="420"/>
                  <a:pt x="311" y="389"/>
                  <a:pt x="311" y="350"/>
                </a:cubicBezTo>
                <a:cubicBezTo>
                  <a:pt x="311" y="333"/>
                  <a:pt x="308" y="319"/>
                  <a:pt x="299" y="305"/>
                </a:cubicBezTo>
                <a:lnTo>
                  <a:pt x="186" y="104"/>
                </a:lnTo>
                <a:cubicBezTo>
                  <a:pt x="184" y="99"/>
                  <a:pt x="184" y="93"/>
                  <a:pt x="186" y="90"/>
                </a:cubicBezTo>
                <a:lnTo>
                  <a:pt x="229" y="28"/>
                </a:lnTo>
                <a:lnTo>
                  <a:pt x="110" y="28"/>
                </a:lnTo>
                <a:lnTo>
                  <a:pt x="153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01"/>
          <p:cNvSpPr/>
          <p:nvPr/>
        </p:nvSpPr>
        <p:spPr>
          <a:xfrm>
            <a:off x="8435880" y="1496880"/>
            <a:ext cx="95400" cy="20880"/>
          </a:xfrm>
          <a:custGeom>
            <a:avLst/>
            <a:gdLst/>
            <a:ahLst/>
            <a:rect l="l" t="t" r="r" b="b"/>
            <a:pathLst>
              <a:path w="142" h="30">
                <a:moveTo>
                  <a:pt x="127" y="29"/>
                </a:moveTo>
                <a:lnTo>
                  <a:pt x="14" y="29"/>
                </a:lnTo>
                <a:cubicBezTo>
                  <a:pt x="6" y="29"/>
                  <a:pt x="0" y="23"/>
                  <a:pt x="0" y="15"/>
                </a:cubicBezTo>
                <a:cubicBezTo>
                  <a:pt x="0" y="6"/>
                  <a:pt x="6" y="0"/>
                  <a:pt x="14" y="0"/>
                </a:cubicBezTo>
                <a:lnTo>
                  <a:pt x="127" y="0"/>
                </a:lnTo>
                <a:cubicBezTo>
                  <a:pt x="135" y="0"/>
                  <a:pt x="141" y="6"/>
                  <a:pt x="141" y="15"/>
                </a:cubicBezTo>
                <a:cubicBezTo>
                  <a:pt x="141" y="23"/>
                  <a:pt x="135" y="29"/>
                  <a:pt x="127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02"/>
          <p:cNvSpPr/>
          <p:nvPr/>
        </p:nvSpPr>
        <p:spPr>
          <a:xfrm>
            <a:off x="8453520" y="1592280"/>
            <a:ext cx="60120" cy="96840"/>
          </a:xfrm>
          <a:custGeom>
            <a:avLst/>
            <a:gdLst/>
            <a:ahLst/>
            <a:rect l="l" t="t" r="r" b="b"/>
            <a:pathLst>
              <a:path w="86" h="143">
                <a:moveTo>
                  <a:pt x="43" y="142"/>
                </a:moveTo>
                <a:lnTo>
                  <a:pt x="14" y="142"/>
                </a:lnTo>
                <a:cubicBezTo>
                  <a:pt x="6" y="142"/>
                  <a:pt x="0" y="135"/>
                  <a:pt x="0" y="127"/>
                </a:cubicBezTo>
                <a:cubicBezTo>
                  <a:pt x="0" y="118"/>
                  <a:pt x="6" y="113"/>
                  <a:pt x="14" y="113"/>
                </a:cubicBezTo>
                <a:lnTo>
                  <a:pt x="43" y="113"/>
                </a:lnTo>
                <a:cubicBezTo>
                  <a:pt x="51" y="113"/>
                  <a:pt x="57" y="107"/>
                  <a:pt x="57" y="99"/>
                </a:cubicBezTo>
                <a:cubicBezTo>
                  <a:pt x="57" y="90"/>
                  <a:pt x="51" y="85"/>
                  <a:pt x="43" y="85"/>
                </a:cubicBezTo>
                <a:cubicBezTo>
                  <a:pt x="20" y="85"/>
                  <a:pt x="0" y="65"/>
                  <a:pt x="0" y="43"/>
                </a:cubicBezTo>
                <a:cubicBezTo>
                  <a:pt x="0" y="20"/>
                  <a:pt x="20" y="0"/>
                  <a:pt x="43" y="0"/>
                </a:cubicBezTo>
                <a:lnTo>
                  <a:pt x="71" y="0"/>
                </a:lnTo>
                <a:cubicBezTo>
                  <a:pt x="79" y="0"/>
                  <a:pt x="85" y="6"/>
                  <a:pt x="85" y="15"/>
                </a:cubicBezTo>
                <a:cubicBezTo>
                  <a:pt x="85" y="23"/>
                  <a:pt x="79" y="29"/>
                  <a:pt x="71" y="29"/>
                </a:cubicBezTo>
                <a:lnTo>
                  <a:pt x="43" y="29"/>
                </a:lnTo>
                <a:cubicBezTo>
                  <a:pt x="34" y="29"/>
                  <a:pt x="28" y="34"/>
                  <a:pt x="28" y="43"/>
                </a:cubicBezTo>
                <a:cubicBezTo>
                  <a:pt x="28" y="51"/>
                  <a:pt x="34" y="57"/>
                  <a:pt x="43" y="57"/>
                </a:cubicBezTo>
                <a:cubicBezTo>
                  <a:pt x="65" y="57"/>
                  <a:pt x="85" y="76"/>
                  <a:pt x="85" y="99"/>
                </a:cubicBezTo>
                <a:cubicBezTo>
                  <a:pt x="85" y="121"/>
                  <a:pt x="65" y="142"/>
                  <a:pt x="43" y="14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03"/>
          <p:cNvSpPr/>
          <p:nvPr/>
        </p:nvSpPr>
        <p:spPr>
          <a:xfrm>
            <a:off x="8474040" y="1574640"/>
            <a:ext cx="20520" cy="39960"/>
          </a:xfrm>
          <a:custGeom>
            <a:avLst/>
            <a:gdLst/>
            <a:ahLst/>
            <a:rect l="l" t="t" r="r" b="b"/>
            <a:pathLst>
              <a:path w="30" h="58">
                <a:moveTo>
                  <a:pt x="15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7" y="0"/>
                  <a:pt x="15" y="0"/>
                </a:cubicBezTo>
                <a:cubicBezTo>
                  <a:pt x="24" y="0"/>
                  <a:pt x="29" y="6"/>
                  <a:pt x="29" y="14"/>
                </a:cubicBezTo>
                <a:lnTo>
                  <a:pt x="29" y="43"/>
                </a:lnTo>
                <a:cubicBezTo>
                  <a:pt x="29" y="51"/>
                  <a:pt x="23" y="57"/>
                  <a:pt x="15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04"/>
          <p:cNvSpPr/>
          <p:nvPr/>
        </p:nvSpPr>
        <p:spPr>
          <a:xfrm>
            <a:off x="8474040" y="1670040"/>
            <a:ext cx="20520" cy="39600"/>
          </a:xfrm>
          <a:custGeom>
            <a:avLst/>
            <a:gdLst/>
            <a:ahLst/>
            <a:rect l="l" t="t" r="r" b="b"/>
            <a:pathLst>
              <a:path w="30" h="58">
                <a:moveTo>
                  <a:pt x="15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7" y="0"/>
                  <a:pt x="15" y="0"/>
                </a:cubicBezTo>
                <a:cubicBezTo>
                  <a:pt x="24" y="0"/>
                  <a:pt x="29" y="6"/>
                  <a:pt x="29" y="14"/>
                </a:cubicBezTo>
                <a:lnTo>
                  <a:pt x="29" y="43"/>
                </a:lnTo>
                <a:cubicBezTo>
                  <a:pt x="29" y="51"/>
                  <a:pt x="23" y="57"/>
                  <a:pt x="15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05"/>
          <p:cNvSpPr/>
          <p:nvPr/>
        </p:nvSpPr>
        <p:spPr>
          <a:xfrm>
            <a:off x="4519440" y="2206800"/>
            <a:ext cx="287640" cy="307800"/>
          </a:xfrm>
          <a:custGeom>
            <a:avLst/>
            <a:gdLst/>
            <a:ahLst/>
            <a:rect l="l" t="t" r="r" b="b"/>
            <a:pathLst>
              <a:path w="424" h="452">
                <a:moveTo>
                  <a:pt x="395" y="451"/>
                </a:moveTo>
                <a:lnTo>
                  <a:pt x="28" y="451"/>
                </a:lnTo>
                <a:cubicBezTo>
                  <a:pt x="11" y="451"/>
                  <a:pt x="0" y="440"/>
                  <a:pt x="0" y="423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395" y="0"/>
                </a:lnTo>
                <a:cubicBezTo>
                  <a:pt x="412" y="0"/>
                  <a:pt x="423" y="11"/>
                  <a:pt x="423" y="28"/>
                </a:cubicBezTo>
                <a:lnTo>
                  <a:pt x="423" y="423"/>
                </a:lnTo>
                <a:cubicBezTo>
                  <a:pt x="423" y="440"/>
                  <a:pt x="412" y="451"/>
                  <a:pt x="395" y="451"/>
                </a:cubicBezTo>
                <a:close/>
                <a:moveTo>
                  <a:pt x="28" y="28"/>
                </a:moveTo>
                <a:lnTo>
                  <a:pt x="28" y="423"/>
                </a:lnTo>
                <a:lnTo>
                  <a:pt x="395" y="423"/>
                </a:lnTo>
                <a:lnTo>
                  <a:pt x="395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06"/>
          <p:cNvSpPr/>
          <p:nvPr/>
        </p:nvSpPr>
        <p:spPr>
          <a:xfrm>
            <a:off x="4559400" y="2340000"/>
            <a:ext cx="55440" cy="60480"/>
          </a:xfrm>
          <a:custGeom>
            <a:avLst/>
            <a:gdLst/>
            <a:ahLst/>
            <a:rect l="l" t="t" r="r" b="b"/>
            <a:pathLst>
              <a:path w="85" h="86">
                <a:moveTo>
                  <a:pt x="70" y="85"/>
                </a:moveTo>
                <a:lnTo>
                  <a:pt x="14" y="85"/>
                </a:lnTo>
                <a:cubicBezTo>
                  <a:pt x="5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6"/>
                  <a:pt x="84" y="14"/>
                </a:cubicBezTo>
                <a:lnTo>
                  <a:pt x="84" y="71"/>
                </a:lnTo>
                <a:cubicBezTo>
                  <a:pt x="84" y="79"/>
                  <a:pt x="79" y="85"/>
                  <a:pt x="70" y="85"/>
                </a:cubicBezTo>
                <a:close/>
                <a:moveTo>
                  <a:pt x="28" y="56"/>
                </a:moveTo>
                <a:lnTo>
                  <a:pt x="56" y="56"/>
                </a:lnTo>
                <a:lnTo>
                  <a:pt x="56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07"/>
          <p:cNvSpPr/>
          <p:nvPr/>
        </p:nvSpPr>
        <p:spPr>
          <a:xfrm>
            <a:off x="4637160" y="2340000"/>
            <a:ext cx="5868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71" y="85"/>
                </a:moveTo>
                <a:lnTo>
                  <a:pt x="15" y="85"/>
                </a:lnTo>
                <a:cubicBezTo>
                  <a:pt x="6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lnTo>
                  <a:pt x="71" y="0"/>
                </a:lnTo>
                <a:cubicBezTo>
                  <a:pt x="79" y="0"/>
                  <a:pt x="85" y="6"/>
                  <a:pt x="85" y="14"/>
                </a:cubicBezTo>
                <a:lnTo>
                  <a:pt x="85" y="71"/>
                </a:lnTo>
                <a:cubicBezTo>
                  <a:pt x="85" y="79"/>
                  <a:pt x="79" y="85"/>
                  <a:pt x="71" y="85"/>
                </a:cubicBezTo>
                <a:close/>
                <a:moveTo>
                  <a:pt x="29" y="56"/>
                </a:moveTo>
                <a:lnTo>
                  <a:pt x="57" y="56"/>
                </a:lnTo>
                <a:lnTo>
                  <a:pt x="57" y="28"/>
                </a:lnTo>
                <a:lnTo>
                  <a:pt x="29" y="28"/>
                </a:lnTo>
                <a:lnTo>
                  <a:pt x="2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08"/>
          <p:cNvSpPr/>
          <p:nvPr/>
        </p:nvSpPr>
        <p:spPr>
          <a:xfrm>
            <a:off x="4559400" y="2244600"/>
            <a:ext cx="210960" cy="77760"/>
          </a:xfrm>
          <a:custGeom>
            <a:avLst/>
            <a:gdLst/>
            <a:ahLst/>
            <a:rect l="l" t="t" r="r" b="b"/>
            <a:pathLst>
              <a:path w="311" h="114">
                <a:moveTo>
                  <a:pt x="296" y="113"/>
                </a:moveTo>
                <a:lnTo>
                  <a:pt x="14" y="113"/>
                </a:lnTo>
                <a:cubicBezTo>
                  <a:pt x="5" y="113"/>
                  <a:pt x="0" y="107"/>
                  <a:pt x="0" y="99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296" y="0"/>
                </a:lnTo>
                <a:cubicBezTo>
                  <a:pt x="304" y="0"/>
                  <a:pt x="310" y="6"/>
                  <a:pt x="310" y="14"/>
                </a:cubicBezTo>
                <a:lnTo>
                  <a:pt x="310" y="99"/>
                </a:lnTo>
                <a:cubicBezTo>
                  <a:pt x="310" y="107"/>
                  <a:pt x="304" y="113"/>
                  <a:pt x="296" y="113"/>
                </a:cubicBezTo>
                <a:close/>
                <a:moveTo>
                  <a:pt x="28" y="85"/>
                </a:moveTo>
                <a:lnTo>
                  <a:pt x="282" y="85"/>
                </a:lnTo>
                <a:lnTo>
                  <a:pt x="282" y="28"/>
                </a:lnTo>
                <a:lnTo>
                  <a:pt x="28" y="28"/>
                </a:lnTo>
                <a:lnTo>
                  <a:pt x="28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09"/>
          <p:cNvSpPr/>
          <p:nvPr/>
        </p:nvSpPr>
        <p:spPr>
          <a:xfrm>
            <a:off x="4559400" y="2416320"/>
            <a:ext cx="55440" cy="58680"/>
          </a:xfrm>
          <a:custGeom>
            <a:avLst/>
            <a:gdLst/>
            <a:ahLst/>
            <a:rect l="l" t="t" r="r" b="b"/>
            <a:pathLst>
              <a:path w="85" h="86">
                <a:moveTo>
                  <a:pt x="70" y="85"/>
                </a:moveTo>
                <a:lnTo>
                  <a:pt x="14" y="85"/>
                </a:lnTo>
                <a:cubicBezTo>
                  <a:pt x="5" y="85"/>
                  <a:pt x="0" y="79"/>
                  <a:pt x="0" y="70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6"/>
                  <a:pt x="84" y="14"/>
                </a:cubicBezTo>
                <a:lnTo>
                  <a:pt x="84" y="70"/>
                </a:lnTo>
                <a:cubicBezTo>
                  <a:pt x="84" y="79"/>
                  <a:pt x="79" y="85"/>
                  <a:pt x="70" y="85"/>
                </a:cubicBezTo>
                <a:close/>
                <a:moveTo>
                  <a:pt x="28" y="56"/>
                </a:moveTo>
                <a:lnTo>
                  <a:pt x="56" y="56"/>
                </a:lnTo>
                <a:lnTo>
                  <a:pt x="56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0"/>
          <p:cNvSpPr/>
          <p:nvPr/>
        </p:nvSpPr>
        <p:spPr>
          <a:xfrm>
            <a:off x="4637160" y="2416320"/>
            <a:ext cx="58680" cy="58680"/>
          </a:xfrm>
          <a:custGeom>
            <a:avLst/>
            <a:gdLst/>
            <a:ahLst/>
            <a:rect l="l" t="t" r="r" b="b"/>
            <a:pathLst>
              <a:path w="86" h="86">
                <a:moveTo>
                  <a:pt x="71" y="85"/>
                </a:moveTo>
                <a:lnTo>
                  <a:pt x="15" y="85"/>
                </a:lnTo>
                <a:cubicBezTo>
                  <a:pt x="6" y="85"/>
                  <a:pt x="0" y="79"/>
                  <a:pt x="0" y="70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lnTo>
                  <a:pt x="71" y="0"/>
                </a:lnTo>
                <a:cubicBezTo>
                  <a:pt x="79" y="0"/>
                  <a:pt x="85" y="6"/>
                  <a:pt x="85" y="14"/>
                </a:cubicBezTo>
                <a:lnTo>
                  <a:pt x="85" y="70"/>
                </a:lnTo>
                <a:cubicBezTo>
                  <a:pt x="85" y="79"/>
                  <a:pt x="79" y="85"/>
                  <a:pt x="71" y="85"/>
                </a:cubicBezTo>
                <a:close/>
                <a:moveTo>
                  <a:pt x="29" y="56"/>
                </a:moveTo>
                <a:lnTo>
                  <a:pt x="57" y="56"/>
                </a:lnTo>
                <a:lnTo>
                  <a:pt x="57" y="28"/>
                </a:lnTo>
                <a:lnTo>
                  <a:pt x="29" y="28"/>
                </a:lnTo>
                <a:lnTo>
                  <a:pt x="2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1"/>
          <p:cNvSpPr/>
          <p:nvPr/>
        </p:nvSpPr>
        <p:spPr>
          <a:xfrm>
            <a:off x="4711680" y="2340000"/>
            <a:ext cx="58680" cy="135000"/>
          </a:xfrm>
          <a:custGeom>
            <a:avLst/>
            <a:gdLst/>
            <a:ahLst/>
            <a:rect l="l" t="t" r="r" b="b"/>
            <a:pathLst>
              <a:path w="86" h="199">
                <a:moveTo>
                  <a:pt x="71" y="198"/>
                </a:moveTo>
                <a:lnTo>
                  <a:pt x="14" y="198"/>
                </a:lnTo>
                <a:cubicBezTo>
                  <a:pt x="6" y="198"/>
                  <a:pt x="0" y="192"/>
                  <a:pt x="0" y="183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71" y="0"/>
                </a:lnTo>
                <a:cubicBezTo>
                  <a:pt x="79" y="0"/>
                  <a:pt x="85" y="6"/>
                  <a:pt x="85" y="14"/>
                </a:cubicBezTo>
                <a:lnTo>
                  <a:pt x="85" y="183"/>
                </a:lnTo>
                <a:cubicBezTo>
                  <a:pt x="85" y="192"/>
                  <a:pt x="79" y="198"/>
                  <a:pt x="71" y="198"/>
                </a:cubicBezTo>
                <a:close/>
                <a:moveTo>
                  <a:pt x="28" y="169"/>
                </a:moveTo>
                <a:lnTo>
                  <a:pt x="57" y="169"/>
                </a:lnTo>
                <a:lnTo>
                  <a:pt x="57" y="28"/>
                </a:lnTo>
                <a:lnTo>
                  <a:pt x="28" y="28"/>
                </a:lnTo>
                <a:lnTo>
                  <a:pt x="28" y="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12"/>
          <p:cNvSpPr/>
          <p:nvPr/>
        </p:nvSpPr>
        <p:spPr>
          <a:xfrm>
            <a:off x="5477040" y="220680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6" y="112"/>
                </a:moveTo>
                <a:cubicBezTo>
                  <a:pt x="25" y="112"/>
                  <a:pt x="0" y="87"/>
                  <a:pt x="0" y="56"/>
                </a:cubicBezTo>
                <a:cubicBezTo>
                  <a:pt x="0" y="25"/>
                  <a:pt x="25" y="0"/>
                  <a:pt x="56" y="0"/>
                </a:cubicBezTo>
                <a:cubicBezTo>
                  <a:pt x="88" y="0"/>
                  <a:pt x="113" y="25"/>
                  <a:pt x="113" y="56"/>
                </a:cubicBezTo>
                <a:cubicBezTo>
                  <a:pt x="113" y="87"/>
                  <a:pt x="88" y="112"/>
                  <a:pt x="56" y="112"/>
                </a:cubicBezTo>
                <a:close/>
                <a:moveTo>
                  <a:pt x="56" y="28"/>
                </a:moveTo>
                <a:cubicBezTo>
                  <a:pt x="40" y="28"/>
                  <a:pt x="28" y="39"/>
                  <a:pt x="28" y="56"/>
                </a:cubicBezTo>
                <a:cubicBezTo>
                  <a:pt x="28" y="73"/>
                  <a:pt x="40" y="84"/>
                  <a:pt x="56" y="84"/>
                </a:cubicBezTo>
                <a:cubicBezTo>
                  <a:pt x="73" y="84"/>
                  <a:pt x="85" y="73"/>
                  <a:pt x="85" y="56"/>
                </a:cubicBezTo>
                <a:cubicBezTo>
                  <a:pt x="85" y="39"/>
                  <a:pt x="73" y="28"/>
                  <a:pt x="5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13"/>
          <p:cNvSpPr/>
          <p:nvPr/>
        </p:nvSpPr>
        <p:spPr>
          <a:xfrm>
            <a:off x="5479920" y="2298600"/>
            <a:ext cx="90720" cy="195480"/>
          </a:xfrm>
          <a:custGeom>
            <a:avLst/>
            <a:gdLst/>
            <a:ahLst/>
            <a:rect l="l" t="t" r="r" b="b"/>
            <a:pathLst>
              <a:path w="134" h="287">
                <a:moveTo>
                  <a:pt x="68" y="286"/>
                </a:moveTo>
                <a:lnTo>
                  <a:pt x="37" y="286"/>
                </a:lnTo>
                <a:cubicBezTo>
                  <a:pt x="22" y="286"/>
                  <a:pt x="11" y="275"/>
                  <a:pt x="8" y="260"/>
                </a:cubicBezTo>
                <a:lnTo>
                  <a:pt x="0" y="176"/>
                </a:lnTo>
                <a:cubicBezTo>
                  <a:pt x="0" y="167"/>
                  <a:pt x="6" y="162"/>
                  <a:pt x="11" y="162"/>
                </a:cubicBezTo>
                <a:cubicBezTo>
                  <a:pt x="20" y="162"/>
                  <a:pt x="25" y="167"/>
                  <a:pt x="25" y="173"/>
                </a:cubicBezTo>
                <a:lnTo>
                  <a:pt x="34" y="258"/>
                </a:lnTo>
                <a:lnTo>
                  <a:pt x="65" y="258"/>
                </a:lnTo>
                <a:lnTo>
                  <a:pt x="79" y="131"/>
                </a:lnTo>
                <a:cubicBezTo>
                  <a:pt x="79" y="122"/>
                  <a:pt x="85" y="116"/>
                  <a:pt x="93" y="116"/>
                </a:cubicBezTo>
                <a:lnTo>
                  <a:pt x="104" y="116"/>
                </a:lnTo>
                <a:lnTo>
                  <a:pt x="93" y="32"/>
                </a:lnTo>
                <a:lnTo>
                  <a:pt x="85" y="32"/>
                </a:lnTo>
                <a:lnTo>
                  <a:pt x="62" y="54"/>
                </a:lnTo>
                <a:cubicBezTo>
                  <a:pt x="59" y="57"/>
                  <a:pt x="56" y="57"/>
                  <a:pt x="51" y="57"/>
                </a:cubicBezTo>
                <a:lnTo>
                  <a:pt x="51" y="57"/>
                </a:lnTo>
                <a:cubicBezTo>
                  <a:pt x="48" y="57"/>
                  <a:pt x="42" y="54"/>
                  <a:pt x="39" y="54"/>
                </a:cubicBezTo>
                <a:lnTo>
                  <a:pt x="11" y="26"/>
                </a:lnTo>
                <a:cubicBezTo>
                  <a:pt x="6" y="21"/>
                  <a:pt x="6" y="11"/>
                  <a:pt x="11" y="6"/>
                </a:cubicBezTo>
                <a:cubicBezTo>
                  <a:pt x="17" y="0"/>
                  <a:pt x="25" y="1"/>
                  <a:pt x="31" y="6"/>
                </a:cubicBezTo>
                <a:lnTo>
                  <a:pt x="48" y="23"/>
                </a:lnTo>
                <a:lnTo>
                  <a:pt x="65" y="6"/>
                </a:lnTo>
                <a:cubicBezTo>
                  <a:pt x="68" y="4"/>
                  <a:pt x="70" y="4"/>
                  <a:pt x="76" y="4"/>
                </a:cubicBezTo>
                <a:lnTo>
                  <a:pt x="90" y="4"/>
                </a:lnTo>
                <a:cubicBezTo>
                  <a:pt x="104" y="4"/>
                  <a:pt x="116" y="15"/>
                  <a:pt x="118" y="29"/>
                </a:cubicBezTo>
                <a:lnTo>
                  <a:pt x="133" y="128"/>
                </a:lnTo>
                <a:cubicBezTo>
                  <a:pt x="133" y="131"/>
                  <a:pt x="133" y="136"/>
                  <a:pt x="130" y="139"/>
                </a:cubicBezTo>
                <a:cubicBezTo>
                  <a:pt x="127" y="142"/>
                  <a:pt x="124" y="145"/>
                  <a:pt x="118" y="145"/>
                </a:cubicBezTo>
                <a:lnTo>
                  <a:pt x="110" y="145"/>
                </a:lnTo>
                <a:lnTo>
                  <a:pt x="99" y="260"/>
                </a:lnTo>
                <a:cubicBezTo>
                  <a:pt x="96" y="275"/>
                  <a:pt x="85" y="286"/>
                  <a:pt x="68" y="28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4"/>
          <p:cNvSpPr/>
          <p:nvPr/>
        </p:nvSpPr>
        <p:spPr>
          <a:xfrm>
            <a:off x="5286240" y="220680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6" y="112"/>
                </a:moveTo>
                <a:cubicBezTo>
                  <a:pt x="25" y="112"/>
                  <a:pt x="0" y="87"/>
                  <a:pt x="0" y="56"/>
                </a:cubicBezTo>
                <a:cubicBezTo>
                  <a:pt x="0" y="25"/>
                  <a:pt x="25" y="0"/>
                  <a:pt x="56" y="0"/>
                </a:cubicBezTo>
                <a:cubicBezTo>
                  <a:pt x="87" y="0"/>
                  <a:pt x="113" y="25"/>
                  <a:pt x="113" y="56"/>
                </a:cubicBezTo>
                <a:cubicBezTo>
                  <a:pt x="113" y="87"/>
                  <a:pt x="87" y="112"/>
                  <a:pt x="56" y="112"/>
                </a:cubicBezTo>
                <a:close/>
                <a:moveTo>
                  <a:pt x="56" y="28"/>
                </a:moveTo>
                <a:cubicBezTo>
                  <a:pt x="39" y="28"/>
                  <a:pt x="28" y="39"/>
                  <a:pt x="28" y="56"/>
                </a:cubicBezTo>
                <a:cubicBezTo>
                  <a:pt x="28" y="73"/>
                  <a:pt x="39" y="84"/>
                  <a:pt x="56" y="84"/>
                </a:cubicBezTo>
                <a:cubicBezTo>
                  <a:pt x="73" y="84"/>
                  <a:pt x="85" y="73"/>
                  <a:pt x="85" y="56"/>
                </a:cubicBezTo>
                <a:cubicBezTo>
                  <a:pt x="85" y="39"/>
                  <a:pt x="73" y="28"/>
                  <a:pt x="5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5"/>
          <p:cNvSpPr/>
          <p:nvPr/>
        </p:nvSpPr>
        <p:spPr>
          <a:xfrm>
            <a:off x="5267160" y="2298600"/>
            <a:ext cx="90720" cy="195480"/>
          </a:xfrm>
          <a:custGeom>
            <a:avLst/>
            <a:gdLst/>
            <a:ahLst/>
            <a:rect l="l" t="t" r="r" b="b"/>
            <a:pathLst>
              <a:path w="133" h="287">
                <a:moveTo>
                  <a:pt x="98" y="286"/>
                </a:moveTo>
                <a:lnTo>
                  <a:pt x="67" y="286"/>
                </a:lnTo>
                <a:cubicBezTo>
                  <a:pt x="53" y="286"/>
                  <a:pt x="42" y="275"/>
                  <a:pt x="39" y="260"/>
                </a:cubicBezTo>
                <a:lnTo>
                  <a:pt x="28" y="145"/>
                </a:lnTo>
                <a:lnTo>
                  <a:pt x="14" y="145"/>
                </a:lnTo>
                <a:cubicBezTo>
                  <a:pt x="11" y="145"/>
                  <a:pt x="5" y="142"/>
                  <a:pt x="2" y="139"/>
                </a:cubicBezTo>
                <a:cubicBezTo>
                  <a:pt x="0" y="136"/>
                  <a:pt x="0" y="131"/>
                  <a:pt x="0" y="128"/>
                </a:cubicBezTo>
                <a:lnTo>
                  <a:pt x="14" y="29"/>
                </a:lnTo>
                <a:cubicBezTo>
                  <a:pt x="14" y="15"/>
                  <a:pt x="28" y="4"/>
                  <a:pt x="42" y="4"/>
                </a:cubicBezTo>
                <a:lnTo>
                  <a:pt x="56" y="4"/>
                </a:lnTo>
                <a:cubicBezTo>
                  <a:pt x="59" y="4"/>
                  <a:pt x="65" y="6"/>
                  <a:pt x="67" y="6"/>
                </a:cubicBezTo>
                <a:lnTo>
                  <a:pt x="84" y="23"/>
                </a:lnTo>
                <a:lnTo>
                  <a:pt x="101" y="6"/>
                </a:lnTo>
                <a:cubicBezTo>
                  <a:pt x="107" y="1"/>
                  <a:pt x="115" y="0"/>
                  <a:pt x="121" y="6"/>
                </a:cubicBezTo>
                <a:cubicBezTo>
                  <a:pt x="127" y="11"/>
                  <a:pt x="127" y="21"/>
                  <a:pt x="121" y="26"/>
                </a:cubicBezTo>
                <a:lnTo>
                  <a:pt x="93" y="54"/>
                </a:lnTo>
                <a:cubicBezTo>
                  <a:pt x="90" y="57"/>
                  <a:pt x="87" y="57"/>
                  <a:pt x="81" y="57"/>
                </a:cubicBezTo>
                <a:lnTo>
                  <a:pt x="81" y="57"/>
                </a:lnTo>
                <a:cubicBezTo>
                  <a:pt x="79" y="57"/>
                  <a:pt x="73" y="54"/>
                  <a:pt x="70" y="54"/>
                </a:cubicBezTo>
                <a:lnTo>
                  <a:pt x="45" y="29"/>
                </a:lnTo>
                <a:lnTo>
                  <a:pt x="36" y="29"/>
                </a:lnTo>
                <a:lnTo>
                  <a:pt x="25" y="114"/>
                </a:lnTo>
                <a:lnTo>
                  <a:pt x="36" y="114"/>
                </a:lnTo>
                <a:cubicBezTo>
                  <a:pt x="45" y="114"/>
                  <a:pt x="50" y="119"/>
                  <a:pt x="50" y="128"/>
                </a:cubicBezTo>
                <a:lnTo>
                  <a:pt x="65" y="255"/>
                </a:lnTo>
                <a:lnTo>
                  <a:pt x="96" y="255"/>
                </a:lnTo>
                <a:lnTo>
                  <a:pt x="104" y="170"/>
                </a:lnTo>
                <a:cubicBezTo>
                  <a:pt x="104" y="162"/>
                  <a:pt x="113" y="156"/>
                  <a:pt x="118" y="159"/>
                </a:cubicBezTo>
                <a:cubicBezTo>
                  <a:pt x="127" y="159"/>
                  <a:pt x="132" y="167"/>
                  <a:pt x="129" y="173"/>
                </a:cubicBezTo>
                <a:lnTo>
                  <a:pt x="121" y="258"/>
                </a:lnTo>
                <a:cubicBezTo>
                  <a:pt x="127" y="275"/>
                  <a:pt x="115" y="286"/>
                  <a:pt x="98" y="28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6"/>
          <p:cNvSpPr/>
          <p:nvPr/>
        </p:nvSpPr>
        <p:spPr>
          <a:xfrm>
            <a:off x="5381640" y="220680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6" y="112"/>
                </a:moveTo>
                <a:cubicBezTo>
                  <a:pt x="25" y="112"/>
                  <a:pt x="0" y="87"/>
                  <a:pt x="0" y="56"/>
                </a:cubicBezTo>
                <a:cubicBezTo>
                  <a:pt x="0" y="25"/>
                  <a:pt x="25" y="0"/>
                  <a:pt x="56" y="0"/>
                </a:cubicBezTo>
                <a:cubicBezTo>
                  <a:pt x="87" y="0"/>
                  <a:pt x="113" y="25"/>
                  <a:pt x="113" y="56"/>
                </a:cubicBezTo>
                <a:cubicBezTo>
                  <a:pt x="113" y="87"/>
                  <a:pt x="87" y="112"/>
                  <a:pt x="56" y="112"/>
                </a:cubicBezTo>
                <a:close/>
                <a:moveTo>
                  <a:pt x="56" y="28"/>
                </a:moveTo>
                <a:cubicBezTo>
                  <a:pt x="39" y="28"/>
                  <a:pt x="28" y="39"/>
                  <a:pt x="28" y="56"/>
                </a:cubicBezTo>
                <a:cubicBezTo>
                  <a:pt x="28" y="73"/>
                  <a:pt x="39" y="84"/>
                  <a:pt x="56" y="84"/>
                </a:cubicBezTo>
                <a:cubicBezTo>
                  <a:pt x="73" y="84"/>
                  <a:pt x="85" y="73"/>
                  <a:pt x="85" y="56"/>
                </a:cubicBezTo>
                <a:cubicBezTo>
                  <a:pt x="85" y="39"/>
                  <a:pt x="73" y="28"/>
                  <a:pt x="5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17"/>
          <p:cNvSpPr/>
          <p:nvPr/>
        </p:nvSpPr>
        <p:spPr>
          <a:xfrm>
            <a:off x="5364000" y="2301840"/>
            <a:ext cx="115920" cy="212760"/>
          </a:xfrm>
          <a:custGeom>
            <a:avLst/>
            <a:gdLst/>
            <a:ahLst/>
            <a:rect l="l" t="t" r="r" b="b"/>
            <a:pathLst>
              <a:path w="170" h="311">
                <a:moveTo>
                  <a:pt x="98" y="310"/>
                </a:moveTo>
                <a:lnTo>
                  <a:pt x="67" y="310"/>
                </a:lnTo>
                <a:cubicBezTo>
                  <a:pt x="53" y="310"/>
                  <a:pt x="42" y="299"/>
                  <a:pt x="39" y="285"/>
                </a:cubicBezTo>
                <a:lnTo>
                  <a:pt x="28" y="141"/>
                </a:lnTo>
                <a:lnTo>
                  <a:pt x="14" y="141"/>
                </a:lnTo>
                <a:cubicBezTo>
                  <a:pt x="11" y="141"/>
                  <a:pt x="6" y="138"/>
                  <a:pt x="3" y="135"/>
                </a:cubicBezTo>
                <a:cubicBezTo>
                  <a:pt x="1" y="132"/>
                  <a:pt x="0" y="127"/>
                  <a:pt x="0" y="124"/>
                </a:cubicBezTo>
                <a:lnTo>
                  <a:pt x="14" y="25"/>
                </a:lnTo>
                <a:cubicBezTo>
                  <a:pt x="14" y="11"/>
                  <a:pt x="28" y="0"/>
                  <a:pt x="42" y="0"/>
                </a:cubicBezTo>
                <a:lnTo>
                  <a:pt x="56" y="0"/>
                </a:lnTo>
                <a:cubicBezTo>
                  <a:pt x="59" y="0"/>
                  <a:pt x="65" y="2"/>
                  <a:pt x="67" y="2"/>
                </a:cubicBezTo>
                <a:lnTo>
                  <a:pt x="84" y="19"/>
                </a:lnTo>
                <a:lnTo>
                  <a:pt x="101" y="2"/>
                </a:lnTo>
                <a:cubicBezTo>
                  <a:pt x="104" y="0"/>
                  <a:pt x="107" y="0"/>
                  <a:pt x="113" y="0"/>
                </a:cubicBezTo>
                <a:lnTo>
                  <a:pt x="127" y="0"/>
                </a:lnTo>
                <a:cubicBezTo>
                  <a:pt x="141" y="0"/>
                  <a:pt x="152" y="11"/>
                  <a:pt x="155" y="25"/>
                </a:cubicBezTo>
                <a:lnTo>
                  <a:pt x="169" y="124"/>
                </a:lnTo>
                <a:cubicBezTo>
                  <a:pt x="169" y="127"/>
                  <a:pt x="169" y="132"/>
                  <a:pt x="166" y="135"/>
                </a:cubicBezTo>
                <a:cubicBezTo>
                  <a:pt x="163" y="138"/>
                  <a:pt x="161" y="141"/>
                  <a:pt x="155" y="141"/>
                </a:cubicBezTo>
                <a:lnTo>
                  <a:pt x="141" y="141"/>
                </a:lnTo>
                <a:lnTo>
                  <a:pt x="130" y="285"/>
                </a:lnTo>
                <a:cubicBezTo>
                  <a:pt x="127" y="299"/>
                  <a:pt x="115" y="310"/>
                  <a:pt x="98" y="310"/>
                </a:cubicBezTo>
                <a:close/>
                <a:moveTo>
                  <a:pt x="31" y="112"/>
                </a:moveTo>
                <a:lnTo>
                  <a:pt x="42" y="112"/>
                </a:lnTo>
                <a:cubicBezTo>
                  <a:pt x="51" y="112"/>
                  <a:pt x="56" y="118"/>
                  <a:pt x="56" y="127"/>
                </a:cubicBezTo>
                <a:lnTo>
                  <a:pt x="70" y="282"/>
                </a:lnTo>
                <a:lnTo>
                  <a:pt x="101" y="282"/>
                </a:lnTo>
                <a:lnTo>
                  <a:pt x="115" y="127"/>
                </a:lnTo>
                <a:cubicBezTo>
                  <a:pt x="115" y="118"/>
                  <a:pt x="121" y="112"/>
                  <a:pt x="130" y="112"/>
                </a:cubicBezTo>
                <a:lnTo>
                  <a:pt x="141" y="112"/>
                </a:lnTo>
                <a:lnTo>
                  <a:pt x="130" y="28"/>
                </a:lnTo>
                <a:lnTo>
                  <a:pt x="121" y="28"/>
                </a:lnTo>
                <a:lnTo>
                  <a:pt x="98" y="50"/>
                </a:lnTo>
                <a:cubicBezTo>
                  <a:pt x="96" y="53"/>
                  <a:pt x="93" y="53"/>
                  <a:pt x="87" y="53"/>
                </a:cubicBezTo>
                <a:lnTo>
                  <a:pt x="87" y="53"/>
                </a:lnTo>
                <a:cubicBezTo>
                  <a:pt x="84" y="53"/>
                  <a:pt x="79" y="50"/>
                  <a:pt x="76" y="50"/>
                </a:cubicBezTo>
                <a:lnTo>
                  <a:pt x="51" y="25"/>
                </a:lnTo>
                <a:lnTo>
                  <a:pt x="42" y="25"/>
                </a:lnTo>
                <a:lnTo>
                  <a:pt x="31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18"/>
          <p:cNvSpPr/>
          <p:nvPr/>
        </p:nvSpPr>
        <p:spPr>
          <a:xfrm>
            <a:off x="1535040" y="2224080"/>
            <a:ext cx="115920" cy="11592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84" y="169"/>
                </a:moveTo>
                <a:cubicBezTo>
                  <a:pt x="37" y="169"/>
                  <a:pt x="0" y="132"/>
                  <a:pt x="0" y="84"/>
                </a:cubicBezTo>
                <a:cubicBezTo>
                  <a:pt x="0" y="36"/>
                  <a:pt x="36" y="0"/>
                  <a:pt x="84" y="0"/>
                </a:cubicBezTo>
                <a:cubicBezTo>
                  <a:pt x="131" y="0"/>
                  <a:pt x="169" y="36"/>
                  <a:pt x="169" y="84"/>
                </a:cubicBezTo>
                <a:cubicBezTo>
                  <a:pt x="169" y="132"/>
                  <a:pt x="132" y="169"/>
                  <a:pt x="84" y="169"/>
                </a:cubicBezTo>
                <a:close/>
                <a:moveTo>
                  <a:pt x="84" y="28"/>
                </a:moveTo>
                <a:cubicBezTo>
                  <a:pt x="53" y="28"/>
                  <a:pt x="28" y="53"/>
                  <a:pt x="28" y="84"/>
                </a:cubicBezTo>
                <a:cubicBezTo>
                  <a:pt x="28" y="115"/>
                  <a:pt x="52" y="141"/>
                  <a:pt x="84" y="141"/>
                </a:cubicBezTo>
                <a:cubicBezTo>
                  <a:pt x="115" y="141"/>
                  <a:pt x="141" y="115"/>
                  <a:pt x="141" y="84"/>
                </a:cubicBezTo>
                <a:cubicBezTo>
                  <a:pt x="141" y="53"/>
                  <a:pt x="116" y="28"/>
                  <a:pt x="84" y="28"/>
                </a:cubicBezTo>
                <a:close/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19"/>
          <p:cNvSpPr/>
          <p:nvPr/>
        </p:nvSpPr>
        <p:spPr>
          <a:xfrm>
            <a:off x="1477800" y="2397240"/>
            <a:ext cx="230400" cy="77760"/>
          </a:xfrm>
          <a:custGeom>
            <a:avLst/>
            <a:gdLst/>
            <a:ahLst/>
            <a:rect l="l" t="t" r="r" b="b"/>
            <a:pathLst>
              <a:path w="340" h="114">
                <a:moveTo>
                  <a:pt x="311" y="113"/>
                </a:moveTo>
                <a:lnTo>
                  <a:pt x="28" y="113"/>
                </a:lnTo>
                <a:cubicBezTo>
                  <a:pt x="11" y="113"/>
                  <a:pt x="0" y="101"/>
                  <a:pt x="0" y="84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84"/>
                </a:lnTo>
                <a:lnTo>
                  <a:pt x="311" y="84"/>
                </a:lnTo>
                <a:lnTo>
                  <a:pt x="311" y="14"/>
                </a:lnTo>
                <a:cubicBezTo>
                  <a:pt x="311" y="5"/>
                  <a:pt x="316" y="0"/>
                  <a:pt x="325" y="0"/>
                </a:cubicBezTo>
                <a:cubicBezTo>
                  <a:pt x="333" y="0"/>
                  <a:pt x="339" y="5"/>
                  <a:pt x="339" y="14"/>
                </a:cubicBezTo>
                <a:lnTo>
                  <a:pt x="339" y="84"/>
                </a:lnTo>
                <a:cubicBezTo>
                  <a:pt x="339" y="101"/>
                  <a:pt x="328" y="113"/>
                  <a:pt x="311" y="113"/>
                </a:cubicBezTo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20"/>
          <p:cNvSpPr/>
          <p:nvPr/>
        </p:nvSpPr>
        <p:spPr>
          <a:xfrm>
            <a:off x="1474920" y="2346480"/>
            <a:ext cx="233280" cy="71280"/>
          </a:xfrm>
          <a:custGeom>
            <a:avLst/>
            <a:gdLst/>
            <a:ahLst/>
            <a:rect l="l" t="t" r="r" b="b"/>
            <a:pathLst>
              <a:path w="343" h="108">
                <a:moveTo>
                  <a:pt x="328" y="104"/>
                </a:moveTo>
                <a:cubicBezTo>
                  <a:pt x="325" y="104"/>
                  <a:pt x="322" y="104"/>
                  <a:pt x="319" y="101"/>
                </a:cubicBezTo>
                <a:cubicBezTo>
                  <a:pt x="235" y="31"/>
                  <a:pt x="110" y="31"/>
                  <a:pt x="26" y="101"/>
                </a:cubicBezTo>
                <a:cubicBezTo>
                  <a:pt x="20" y="107"/>
                  <a:pt x="12" y="103"/>
                  <a:pt x="6" y="98"/>
                </a:cubicBezTo>
                <a:cubicBezTo>
                  <a:pt x="0" y="92"/>
                  <a:pt x="3" y="84"/>
                  <a:pt x="9" y="79"/>
                </a:cubicBezTo>
                <a:cubicBezTo>
                  <a:pt x="105" y="0"/>
                  <a:pt x="243" y="0"/>
                  <a:pt x="336" y="79"/>
                </a:cubicBezTo>
                <a:cubicBezTo>
                  <a:pt x="342" y="84"/>
                  <a:pt x="342" y="93"/>
                  <a:pt x="339" y="98"/>
                </a:cubicBezTo>
                <a:cubicBezTo>
                  <a:pt x="336" y="101"/>
                  <a:pt x="331" y="104"/>
                  <a:pt x="328" y="104"/>
                </a:cubicBezTo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21"/>
          <p:cNvSpPr/>
          <p:nvPr/>
        </p:nvSpPr>
        <p:spPr>
          <a:xfrm>
            <a:off x="2354400" y="2224080"/>
            <a:ext cx="101520" cy="115920"/>
          </a:xfrm>
          <a:custGeom>
            <a:avLst/>
            <a:gdLst/>
            <a:ahLst/>
            <a:rect l="l" t="t" r="r" b="b"/>
            <a:pathLst>
              <a:path w="148" h="170">
                <a:moveTo>
                  <a:pt x="77" y="169"/>
                </a:moveTo>
                <a:cubicBezTo>
                  <a:pt x="71" y="169"/>
                  <a:pt x="66" y="163"/>
                  <a:pt x="63" y="158"/>
                </a:cubicBezTo>
                <a:cubicBezTo>
                  <a:pt x="60" y="149"/>
                  <a:pt x="66" y="144"/>
                  <a:pt x="74" y="141"/>
                </a:cubicBezTo>
                <a:cubicBezTo>
                  <a:pt x="99" y="135"/>
                  <a:pt x="119" y="113"/>
                  <a:pt x="119" y="84"/>
                </a:cubicBezTo>
                <a:cubicBezTo>
                  <a:pt x="119" y="53"/>
                  <a:pt x="94" y="28"/>
                  <a:pt x="63" y="28"/>
                </a:cubicBezTo>
                <a:cubicBezTo>
                  <a:pt x="49" y="28"/>
                  <a:pt x="34" y="34"/>
                  <a:pt x="26" y="42"/>
                </a:cubicBezTo>
                <a:cubicBezTo>
                  <a:pt x="20" y="48"/>
                  <a:pt x="11" y="48"/>
                  <a:pt x="6" y="42"/>
                </a:cubicBezTo>
                <a:cubicBezTo>
                  <a:pt x="0" y="36"/>
                  <a:pt x="1" y="28"/>
                  <a:pt x="6" y="22"/>
                </a:cubicBezTo>
                <a:cubicBezTo>
                  <a:pt x="23" y="8"/>
                  <a:pt x="43" y="0"/>
                  <a:pt x="63" y="0"/>
                </a:cubicBezTo>
                <a:cubicBezTo>
                  <a:pt x="111" y="0"/>
                  <a:pt x="147" y="36"/>
                  <a:pt x="147" y="84"/>
                </a:cubicBezTo>
                <a:cubicBezTo>
                  <a:pt x="147" y="124"/>
                  <a:pt x="119" y="161"/>
                  <a:pt x="77" y="169"/>
                </a:cubicBezTo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22"/>
          <p:cNvSpPr/>
          <p:nvPr/>
        </p:nvSpPr>
        <p:spPr>
          <a:xfrm>
            <a:off x="2452680" y="2397240"/>
            <a:ext cx="60480" cy="56880"/>
          </a:xfrm>
          <a:custGeom>
            <a:avLst/>
            <a:gdLst/>
            <a:ahLst/>
            <a:rect l="l" t="t" r="r" b="b"/>
            <a:pathLst>
              <a:path w="86" h="85">
                <a:moveTo>
                  <a:pt x="57" y="84"/>
                </a:moveTo>
                <a:lnTo>
                  <a:pt x="14" y="84"/>
                </a:lnTo>
                <a:cubicBezTo>
                  <a:pt x="6" y="84"/>
                  <a:pt x="0" y="78"/>
                  <a:pt x="0" y="70"/>
                </a:cubicBezTo>
                <a:cubicBezTo>
                  <a:pt x="0" y="61"/>
                  <a:pt x="6" y="56"/>
                  <a:pt x="14" y="56"/>
                </a:cubicBezTo>
                <a:lnTo>
                  <a:pt x="57" y="56"/>
                </a:lnTo>
                <a:lnTo>
                  <a:pt x="57" y="14"/>
                </a:lnTo>
                <a:cubicBezTo>
                  <a:pt x="57" y="5"/>
                  <a:pt x="62" y="0"/>
                  <a:pt x="71" y="0"/>
                </a:cubicBezTo>
                <a:cubicBezTo>
                  <a:pt x="79" y="0"/>
                  <a:pt x="85" y="5"/>
                  <a:pt x="85" y="14"/>
                </a:cubicBezTo>
                <a:lnTo>
                  <a:pt x="85" y="56"/>
                </a:lnTo>
                <a:cubicBezTo>
                  <a:pt x="85" y="73"/>
                  <a:pt x="74" y="84"/>
                  <a:pt x="57" y="84"/>
                </a:cubicBezTo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23"/>
          <p:cNvSpPr/>
          <p:nvPr/>
        </p:nvSpPr>
        <p:spPr>
          <a:xfrm>
            <a:off x="2384280" y="2355840"/>
            <a:ext cx="131760" cy="60480"/>
          </a:xfrm>
          <a:custGeom>
            <a:avLst/>
            <a:gdLst/>
            <a:ahLst/>
            <a:rect l="l" t="t" r="r" b="b"/>
            <a:pathLst>
              <a:path w="193" h="89">
                <a:moveTo>
                  <a:pt x="175" y="88"/>
                </a:moveTo>
                <a:cubicBezTo>
                  <a:pt x="172" y="88"/>
                  <a:pt x="169" y="88"/>
                  <a:pt x="166" y="85"/>
                </a:cubicBezTo>
                <a:cubicBezTo>
                  <a:pt x="124" y="48"/>
                  <a:pt x="68" y="29"/>
                  <a:pt x="14" y="31"/>
                </a:cubicBezTo>
                <a:cubicBezTo>
                  <a:pt x="6" y="31"/>
                  <a:pt x="0" y="25"/>
                  <a:pt x="0" y="17"/>
                </a:cubicBezTo>
                <a:cubicBezTo>
                  <a:pt x="0" y="8"/>
                  <a:pt x="6" y="3"/>
                  <a:pt x="14" y="3"/>
                </a:cubicBezTo>
                <a:cubicBezTo>
                  <a:pt x="76" y="0"/>
                  <a:pt x="138" y="23"/>
                  <a:pt x="186" y="63"/>
                </a:cubicBezTo>
                <a:cubicBezTo>
                  <a:pt x="192" y="68"/>
                  <a:pt x="192" y="77"/>
                  <a:pt x="189" y="82"/>
                </a:cubicBezTo>
                <a:cubicBezTo>
                  <a:pt x="183" y="85"/>
                  <a:pt x="178" y="88"/>
                  <a:pt x="175" y="88"/>
                </a:cubicBezTo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24"/>
          <p:cNvSpPr/>
          <p:nvPr/>
        </p:nvSpPr>
        <p:spPr>
          <a:xfrm>
            <a:off x="2262240" y="2262240"/>
            <a:ext cx="115920" cy="11736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85" y="169"/>
                </a:moveTo>
                <a:cubicBezTo>
                  <a:pt x="37" y="169"/>
                  <a:pt x="0" y="133"/>
                  <a:pt x="0" y="85"/>
                </a:cubicBezTo>
                <a:cubicBezTo>
                  <a:pt x="0" y="37"/>
                  <a:pt x="37" y="0"/>
                  <a:pt x="85" y="0"/>
                </a:cubicBezTo>
                <a:cubicBezTo>
                  <a:pt x="133" y="0"/>
                  <a:pt x="169" y="37"/>
                  <a:pt x="169" y="85"/>
                </a:cubicBezTo>
                <a:cubicBezTo>
                  <a:pt x="169" y="133"/>
                  <a:pt x="133" y="169"/>
                  <a:pt x="85" y="169"/>
                </a:cubicBezTo>
                <a:close/>
                <a:moveTo>
                  <a:pt x="85" y="28"/>
                </a:moveTo>
                <a:cubicBezTo>
                  <a:pt x="54" y="28"/>
                  <a:pt x="28" y="54"/>
                  <a:pt x="28" y="85"/>
                </a:cubicBezTo>
                <a:cubicBezTo>
                  <a:pt x="28" y="116"/>
                  <a:pt x="54" y="141"/>
                  <a:pt x="85" y="141"/>
                </a:cubicBezTo>
                <a:cubicBezTo>
                  <a:pt x="116" y="141"/>
                  <a:pt x="141" y="116"/>
                  <a:pt x="141" y="85"/>
                </a:cubicBezTo>
                <a:cubicBezTo>
                  <a:pt x="141" y="54"/>
                  <a:pt x="116" y="28"/>
                  <a:pt x="85" y="28"/>
                </a:cubicBezTo>
                <a:close/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25"/>
          <p:cNvSpPr/>
          <p:nvPr/>
        </p:nvSpPr>
        <p:spPr>
          <a:xfrm>
            <a:off x="2205000" y="2436840"/>
            <a:ext cx="230400" cy="58680"/>
          </a:xfrm>
          <a:custGeom>
            <a:avLst/>
            <a:gdLst/>
            <a:ahLst/>
            <a:rect l="l" t="t" r="r" b="b"/>
            <a:pathLst>
              <a:path w="339" h="86">
                <a:moveTo>
                  <a:pt x="310" y="85"/>
                </a:moveTo>
                <a:lnTo>
                  <a:pt x="28" y="85"/>
                </a:lnTo>
                <a:cubicBezTo>
                  <a:pt x="11" y="85"/>
                  <a:pt x="0" y="74"/>
                  <a:pt x="0" y="57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57"/>
                </a:lnTo>
                <a:lnTo>
                  <a:pt x="310" y="57"/>
                </a:lnTo>
                <a:lnTo>
                  <a:pt x="310" y="14"/>
                </a:lnTo>
                <a:cubicBezTo>
                  <a:pt x="310" y="6"/>
                  <a:pt x="315" y="0"/>
                  <a:pt x="324" y="0"/>
                </a:cubicBezTo>
                <a:cubicBezTo>
                  <a:pt x="332" y="0"/>
                  <a:pt x="338" y="6"/>
                  <a:pt x="338" y="14"/>
                </a:cubicBezTo>
                <a:lnTo>
                  <a:pt x="338" y="57"/>
                </a:lnTo>
                <a:cubicBezTo>
                  <a:pt x="338" y="74"/>
                  <a:pt x="327" y="85"/>
                  <a:pt x="310" y="85"/>
                </a:cubicBezTo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26"/>
          <p:cNvSpPr/>
          <p:nvPr/>
        </p:nvSpPr>
        <p:spPr>
          <a:xfrm>
            <a:off x="2205000" y="2386080"/>
            <a:ext cx="233280" cy="71280"/>
          </a:xfrm>
          <a:custGeom>
            <a:avLst/>
            <a:gdLst/>
            <a:ahLst/>
            <a:rect l="l" t="t" r="r" b="b"/>
            <a:pathLst>
              <a:path w="342" h="108">
                <a:moveTo>
                  <a:pt x="327" y="104"/>
                </a:moveTo>
                <a:cubicBezTo>
                  <a:pt x="324" y="104"/>
                  <a:pt x="321" y="104"/>
                  <a:pt x="319" y="102"/>
                </a:cubicBezTo>
                <a:cubicBezTo>
                  <a:pt x="234" y="31"/>
                  <a:pt x="110" y="31"/>
                  <a:pt x="25" y="102"/>
                </a:cubicBezTo>
                <a:cubicBezTo>
                  <a:pt x="19" y="107"/>
                  <a:pt x="11" y="104"/>
                  <a:pt x="5" y="99"/>
                </a:cubicBezTo>
                <a:cubicBezTo>
                  <a:pt x="0" y="93"/>
                  <a:pt x="3" y="85"/>
                  <a:pt x="8" y="79"/>
                </a:cubicBezTo>
                <a:cubicBezTo>
                  <a:pt x="104" y="0"/>
                  <a:pt x="242" y="0"/>
                  <a:pt x="336" y="79"/>
                </a:cubicBezTo>
                <a:cubicBezTo>
                  <a:pt x="341" y="85"/>
                  <a:pt x="341" y="93"/>
                  <a:pt x="338" y="99"/>
                </a:cubicBezTo>
                <a:cubicBezTo>
                  <a:pt x="336" y="102"/>
                  <a:pt x="330" y="104"/>
                  <a:pt x="327" y="104"/>
                </a:cubicBezTo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27"/>
          <p:cNvSpPr/>
          <p:nvPr/>
        </p:nvSpPr>
        <p:spPr>
          <a:xfrm>
            <a:off x="2970360" y="2206800"/>
            <a:ext cx="260280" cy="307800"/>
          </a:xfrm>
          <a:custGeom>
            <a:avLst/>
            <a:gdLst/>
            <a:ahLst/>
            <a:rect l="l" t="t" r="r" b="b"/>
            <a:pathLst>
              <a:path w="385" h="452">
                <a:moveTo>
                  <a:pt x="240" y="451"/>
                </a:moveTo>
                <a:cubicBezTo>
                  <a:pt x="240" y="451"/>
                  <a:pt x="237" y="451"/>
                  <a:pt x="240" y="451"/>
                </a:cubicBezTo>
                <a:lnTo>
                  <a:pt x="68" y="423"/>
                </a:lnTo>
                <a:cubicBezTo>
                  <a:pt x="62" y="423"/>
                  <a:pt x="57" y="417"/>
                  <a:pt x="57" y="409"/>
                </a:cubicBezTo>
                <a:lnTo>
                  <a:pt x="57" y="321"/>
                </a:lnTo>
                <a:cubicBezTo>
                  <a:pt x="57" y="301"/>
                  <a:pt x="48" y="285"/>
                  <a:pt x="40" y="276"/>
                </a:cubicBezTo>
                <a:cubicBezTo>
                  <a:pt x="14" y="248"/>
                  <a:pt x="0" y="208"/>
                  <a:pt x="0" y="169"/>
                </a:cubicBezTo>
                <a:cubicBezTo>
                  <a:pt x="0" y="76"/>
                  <a:pt x="76" y="0"/>
                  <a:pt x="170" y="0"/>
                </a:cubicBezTo>
                <a:cubicBezTo>
                  <a:pt x="237" y="0"/>
                  <a:pt x="299" y="42"/>
                  <a:pt x="328" y="104"/>
                </a:cubicBezTo>
                <a:cubicBezTo>
                  <a:pt x="330" y="112"/>
                  <a:pt x="328" y="118"/>
                  <a:pt x="319" y="124"/>
                </a:cubicBezTo>
                <a:cubicBezTo>
                  <a:pt x="311" y="127"/>
                  <a:pt x="305" y="124"/>
                  <a:pt x="299" y="115"/>
                </a:cubicBezTo>
                <a:cubicBezTo>
                  <a:pt x="277" y="62"/>
                  <a:pt x="226" y="28"/>
                  <a:pt x="170" y="28"/>
                </a:cubicBezTo>
                <a:cubicBezTo>
                  <a:pt x="91" y="28"/>
                  <a:pt x="29" y="90"/>
                  <a:pt x="29" y="169"/>
                </a:cubicBezTo>
                <a:cubicBezTo>
                  <a:pt x="29" y="203"/>
                  <a:pt x="40" y="234"/>
                  <a:pt x="60" y="259"/>
                </a:cubicBezTo>
                <a:cubicBezTo>
                  <a:pt x="76" y="279"/>
                  <a:pt x="85" y="301"/>
                  <a:pt x="85" y="321"/>
                </a:cubicBezTo>
                <a:lnTo>
                  <a:pt x="85" y="397"/>
                </a:lnTo>
                <a:lnTo>
                  <a:pt x="226" y="420"/>
                </a:lnTo>
                <a:lnTo>
                  <a:pt x="226" y="366"/>
                </a:lnTo>
                <a:cubicBezTo>
                  <a:pt x="226" y="364"/>
                  <a:pt x="229" y="358"/>
                  <a:pt x="232" y="355"/>
                </a:cubicBezTo>
                <a:cubicBezTo>
                  <a:pt x="235" y="352"/>
                  <a:pt x="240" y="352"/>
                  <a:pt x="243" y="352"/>
                </a:cubicBezTo>
                <a:lnTo>
                  <a:pt x="311" y="364"/>
                </a:lnTo>
                <a:lnTo>
                  <a:pt x="311" y="282"/>
                </a:lnTo>
                <a:cubicBezTo>
                  <a:pt x="311" y="273"/>
                  <a:pt x="316" y="268"/>
                  <a:pt x="325" y="268"/>
                </a:cubicBezTo>
                <a:lnTo>
                  <a:pt x="345" y="268"/>
                </a:lnTo>
                <a:lnTo>
                  <a:pt x="330" y="239"/>
                </a:lnTo>
                <a:cubicBezTo>
                  <a:pt x="328" y="234"/>
                  <a:pt x="330" y="225"/>
                  <a:pt x="336" y="220"/>
                </a:cubicBezTo>
                <a:cubicBezTo>
                  <a:pt x="342" y="217"/>
                  <a:pt x="350" y="220"/>
                  <a:pt x="356" y="225"/>
                </a:cubicBezTo>
                <a:lnTo>
                  <a:pt x="381" y="273"/>
                </a:lnTo>
                <a:cubicBezTo>
                  <a:pt x="384" y="279"/>
                  <a:pt x="384" y="282"/>
                  <a:pt x="381" y="287"/>
                </a:cubicBezTo>
                <a:cubicBezTo>
                  <a:pt x="378" y="290"/>
                  <a:pt x="373" y="293"/>
                  <a:pt x="370" y="293"/>
                </a:cubicBezTo>
                <a:lnTo>
                  <a:pt x="342" y="293"/>
                </a:lnTo>
                <a:lnTo>
                  <a:pt x="342" y="361"/>
                </a:lnTo>
                <a:cubicBezTo>
                  <a:pt x="342" y="369"/>
                  <a:pt x="339" y="378"/>
                  <a:pt x="330" y="383"/>
                </a:cubicBezTo>
                <a:cubicBezTo>
                  <a:pt x="325" y="389"/>
                  <a:pt x="316" y="392"/>
                  <a:pt x="308" y="389"/>
                </a:cubicBezTo>
                <a:lnTo>
                  <a:pt x="257" y="380"/>
                </a:lnTo>
                <a:lnTo>
                  <a:pt x="257" y="434"/>
                </a:lnTo>
                <a:cubicBezTo>
                  <a:pt x="257" y="437"/>
                  <a:pt x="254" y="443"/>
                  <a:pt x="251" y="445"/>
                </a:cubicBezTo>
                <a:cubicBezTo>
                  <a:pt x="246" y="451"/>
                  <a:pt x="243" y="451"/>
                  <a:pt x="240" y="45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28"/>
          <p:cNvSpPr/>
          <p:nvPr/>
        </p:nvSpPr>
        <p:spPr>
          <a:xfrm>
            <a:off x="2970360" y="2292480"/>
            <a:ext cx="144360" cy="56880"/>
          </a:xfrm>
          <a:custGeom>
            <a:avLst/>
            <a:gdLst/>
            <a:ahLst/>
            <a:rect l="l" t="t" r="r" b="b"/>
            <a:pathLst>
              <a:path w="213" h="85">
                <a:moveTo>
                  <a:pt x="198" y="84"/>
                </a:moveTo>
                <a:lnTo>
                  <a:pt x="43" y="84"/>
                </a:lnTo>
                <a:cubicBezTo>
                  <a:pt x="20" y="84"/>
                  <a:pt x="0" y="64"/>
                  <a:pt x="0" y="42"/>
                </a:cubicBezTo>
                <a:cubicBezTo>
                  <a:pt x="0" y="19"/>
                  <a:pt x="20" y="0"/>
                  <a:pt x="43" y="0"/>
                </a:cubicBezTo>
                <a:lnTo>
                  <a:pt x="198" y="0"/>
                </a:lnTo>
                <a:cubicBezTo>
                  <a:pt x="206" y="0"/>
                  <a:pt x="212" y="5"/>
                  <a:pt x="212" y="14"/>
                </a:cubicBezTo>
                <a:cubicBezTo>
                  <a:pt x="212" y="22"/>
                  <a:pt x="206" y="28"/>
                  <a:pt x="198" y="28"/>
                </a:cubicBezTo>
                <a:lnTo>
                  <a:pt x="43" y="28"/>
                </a:lnTo>
                <a:cubicBezTo>
                  <a:pt x="34" y="28"/>
                  <a:pt x="29" y="33"/>
                  <a:pt x="29" y="42"/>
                </a:cubicBezTo>
                <a:cubicBezTo>
                  <a:pt x="29" y="50"/>
                  <a:pt x="34" y="56"/>
                  <a:pt x="43" y="56"/>
                </a:cubicBezTo>
                <a:lnTo>
                  <a:pt x="198" y="56"/>
                </a:lnTo>
                <a:cubicBezTo>
                  <a:pt x="206" y="56"/>
                  <a:pt x="212" y="61"/>
                  <a:pt x="212" y="70"/>
                </a:cubicBezTo>
                <a:cubicBezTo>
                  <a:pt x="212" y="78"/>
                  <a:pt x="206" y="84"/>
                  <a:pt x="198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9"/>
          <p:cNvSpPr/>
          <p:nvPr/>
        </p:nvSpPr>
        <p:spPr>
          <a:xfrm>
            <a:off x="3105000" y="2262240"/>
            <a:ext cx="135000" cy="117360"/>
          </a:xfrm>
          <a:custGeom>
            <a:avLst/>
            <a:gdLst/>
            <a:ahLst/>
            <a:rect l="l" t="t" r="r" b="b"/>
            <a:pathLst>
              <a:path w="198" h="170">
                <a:moveTo>
                  <a:pt x="183" y="169"/>
                </a:moveTo>
                <a:cubicBezTo>
                  <a:pt x="183" y="169"/>
                  <a:pt x="180" y="169"/>
                  <a:pt x="183" y="169"/>
                </a:cubicBezTo>
                <a:lnTo>
                  <a:pt x="11" y="141"/>
                </a:lnTo>
                <a:cubicBezTo>
                  <a:pt x="5" y="141"/>
                  <a:pt x="0" y="136"/>
                  <a:pt x="0" y="127"/>
                </a:cubicBezTo>
                <a:lnTo>
                  <a:pt x="0" y="43"/>
                </a:lnTo>
                <a:cubicBezTo>
                  <a:pt x="0" y="37"/>
                  <a:pt x="5" y="28"/>
                  <a:pt x="11" y="28"/>
                </a:cubicBezTo>
                <a:lnTo>
                  <a:pt x="180" y="0"/>
                </a:lnTo>
                <a:cubicBezTo>
                  <a:pt x="183" y="0"/>
                  <a:pt x="189" y="0"/>
                  <a:pt x="192" y="3"/>
                </a:cubicBezTo>
                <a:cubicBezTo>
                  <a:pt x="195" y="6"/>
                  <a:pt x="197" y="9"/>
                  <a:pt x="197" y="14"/>
                </a:cubicBezTo>
                <a:lnTo>
                  <a:pt x="197" y="155"/>
                </a:lnTo>
                <a:cubicBezTo>
                  <a:pt x="197" y="158"/>
                  <a:pt x="195" y="164"/>
                  <a:pt x="192" y="167"/>
                </a:cubicBezTo>
                <a:cubicBezTo>
                  <a:pt x="189" y="169"/>
                  <a:pt x="186" y="169"/>
                  <a:pt x="183" y="169"/>
                </a:cubicBezTo>
                <a:close/>
                <a:moveTo>
                  <a:pt x="28" y="116"/>
                </a:moveTo>
                <a:lnTo>
                  <a:pt x="169" y="138"/>
                </a:lnTo>
                <a:lnTo>
                  <a:pt x="169" y="31"/>
                </a:lnTo>
                <a:lnTo>
                  <a:pt x="28" y="54"/>
                </a:lnTo>
                <a:lnTo>
                  <a:pt x="28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30"/>
          <p:cNvSpPr/>
          <p:nvPr/>
        </p:nvSpPr>
        <p:spPr>
          <a:xfrm>
            <a:off x="3819600" y="2209680"/>
            <a:ext cx="131760" cy="58680"/>
          </a:xfrm>
          <a:custGeom>
            <a:avLst/>
            <a:gdLst/>
            <a:ahLst/>
            <a:rect l="l" t="t" r="r" b="b"/>
            <a:pathLst>
              <a:path w="196" h="86">
                <a:moveTo>
                  <a:pt x="17" y="82"/>
                </a:moveTo>
                <a:cubicBezTo>
                  <a:pt x="14" y="82"/>
                  <a:pt x="14" y="82"/>
                  <a:pt x="12" y="82"/>
                </a:cubicBezTo>
                <a:cubicBezTo>
                  <a:pt x="3" y="79"/>
                  <a:pt x="0" y="71"/>
                  <a:pt x="3" y="65"/>
                </a:cubicBezTo>
                <a:cubicBezTo>
                  <a:pt x="20" y="23"/>
                  <a:pt x="65" y="0"/>
                  <a:pt x="99" y="0"/>
                </a:cubicBezTo>
                <a:cubicBezTo>
                  <a:pt x="116" y="0"/>
                  <a:pt x="133" y="6"/>
                  <a:pt x="147" y="12"/>
                </a:cubicBezTo>
                <a:cubicBezTo>
                  <a:pt x="150" y="12"/>
                  <a:pt x="153" y="14"/>
                  <a:pt x="155" y="14"/>
                </a:cubicBezTo>
                <a:cubicBezTo>
                  <a:pt x="164" y="17"/>
                  <a:pt x="175" y="17"/>
                  <a:pt x="181" y="26"/>
                </a:cubicBezTo>
                <a:cubicBezTo>
                  <a:pt x="192" y="37"/>
                  <a:pt x="195" y="48"/>
                  <a:pt x="195" y="71"/>
                </a:cubicBezTo>
                <a:cubicBezTo>
                  <a:pt x="195" y="79"/>
                  <a:pt x="189" y="85"/>
                  <a:pt x="181" y="85"/>
                </a:cubicBezTo>
                <a:cubicBezTo>
                  <a:pt x="175" y="85"/>
                  <a:pt x="167" y="79"/>
                  <a:pt x="167" y="71"/>
                </a:cubicBezTo>
                <a:cubicBezTo>
                  <a:pt x="167" y="54"/>
                  <a:pt x="164" y="48"/>
                  <a:pt x="158" y="45"/>
                </a:cubicBezTo>
                <a:cubicBezTo>
                  <a:pt x="158" y="45"/>
                  <a:pt x="153" y="43"/>
                  <a:pt x="147" y="43"/>
                </a:cubicBezTo>
                <a:cubicBezTo>
                  <a:pt x="141" y="43"/>
                  <a:pt x="136" y="40"/>
                  <a:pt x="127" y="37"/>
                </a:cubicBezTo>
                <a:cubicBezTo>
                  <a:pt x="116" y="31"/>
                  <a:pt x="105" y="29"/>
                  <a:pt x="93" y="29"/>
                </a:cubicBezTo>
                <a:cubicBezTo>
                  <a:pt x="68" y="29"/>
                  <a:pt x="34" y="45"/>
                  <a:pt x="23" y="77"/>
                </a:cubicBezTo>
                <a:cubicBezTo>
                  <a:pt x="28" y="79"/>
                  <a:pt x="23" y="82"/>
                  <a:pt x="17" y="8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1"/>
          <p:cNvSpPr/>
          <p:nvPr/>
        </p:nvSpPr>
        <p:spPr>
          <a:xfrm>
            <a:off x="3754440" y="2305080"/>
            <a:ext cx="268200" cy="190440"/>
          </a:xfrm>
          <a:custGeom>
            <a:avLst/>
            <a:gdLst/>
            <a:ahLst/>
            <a:rect l="l" t="t" r="r" b="b"/>
            <a:pathLst>
              <a:path w="396" h="281">
                <a:moveTo>
                  <a:pt x="367" y="280"/>
                </a:moveTo>
                <a:lnTo>
                  <a:pt x="29" y="280"/>
                </a:lnTo>
                <a:cubicBezTo>
                  <a:pt x="12" y="280"/>
                  <a:pt x="0" y="269"/>
                  <a:pt x="0" y="252"/>
                </a:cubicBezTo>
                <a:lnTo>
                  <a:pt x="0" y="223"/>
                </a:lnTo>
                <a:cubicBezTo>
                  <a:pt x="0" y="184"/>
                  <a:pt x="29" y="147"/>
                  <a:pt x="68" y="142"/>
                </a:cubicBezTo>
                <a:lnTo>
                  <a:pt x="130" y="130"/>
                </a:lnTo>
                <a:cubicBezTo>
                  <a:pt x="136" y="130"/>
                  <a:pt x="141" y="122"/>
                  <a:pt x="141" y="116"/>
                </a:cubicBezTo>
                <a:lnTo>
                  <a:pt x="141" y="102"/>
                </a:lnTo>
                <a:cubicBezTo>
                  <a:pt x="139" y="96"/>
                  <a:pt x="133" y="87"/>
                  <a:pt x="130" y="82"/>
                </a:cubicBezTo>
                <a:cubicBezTo>
                  <a:pt x="127" y="76"/>
                  <a:pt x="122" y="68"/>
                  <a:pt x="119" y="65"/>
                </a:cubicBezTo>
                <a:cubicBezTo>
                  <a:pt x="105" y="54"/>
                  <a:pt x="93" y="37"/>
                  <a:pt x="91" y="20"/>
                </a:cubicBezTo>
                <a:cubicBezTo>
                  <a:pt x="91" y="17"/>
                  <a:pt x="91" y="17"/>
                  <a:pt x="91" y="15"/>
                </a:cubicBezTo>
                <a:cubicBezTo>
                  <a:pt x="91" y="6"/>
                  <a:pt x="96" y="0"/>
                  <a:pt x="105" y="0"/>
                </a:cubicBezTo>
                <a:cubicBezTo>
                  <a:pt x="113" y="0"/>
                  <a:pt x="119" y="6"/>
                  <a:pt x="119" y="15"/>
                </a:cubicBezTo>
                <a:cubicBezTo>
                  <a:pt x="122" y="26"/>
                  <a:pt x="130" y="37"/>
                  <a:pt x="139" y="46"/>
                </a:cubicBezTo>
                <a:cubicBezTo>
                  <a:pt x="144" y="51"/>
                  <a:pt x="147" y="60"/>
                  <a:pt x="153" y="71"/>
                </a:cubicBezTo>
                <a:cubicBezTo>
                  <a:pt x="156" y="77"/>
                  <a:pt x="161" y="88"/>
                  <a:pt x="164" y="91"/>
                </a:cubicBezTo>
                <a:cubicBezTo>
                  <a:pt x="167" y="94"/>
                  <a:pt x="167" y="96"/>
                  <a:pt x="167" y="102"/>
                </a:cubicBezTo>
                <a:lnTo>
                  <a:pt x="167" y="122"/>
                </a:lnTo>
                <a:cubicBezTo>
                  <a:pt x="167" y="142"/>
                  <a:pt x="153" y="158"/>
                  <a:pt x="133" y="164"/>
                </a:cubicBezTo>
                <a:lnTo>
                  <a:pt x="71" y="175"/>
                </a:lnTo>
                <a:cubicBezTo>
                  <a:pt x="45" y="181"/>
                  <a:pt x="26" y="204"/>
                  <a:pt x="26" y="232"/>
                </a:cubicBezTo>
                <a:lnTo>
                  <a:pt x="26" y="260"/>
                </a:lnTo>
                <a:lnTo>
                  <a:pt x="364" y="260"/>
                </a:lnTo>
                <a:lnTo>
                  <a:pt x="364" y="232"/>
                </a:lnTo>
                <a:cubicBezTo>
                  <a:pt x="364" y="204"/>
                  <a:pt x="345" y="181"/>
                  <a:pt x="319" y="175"/>
                </a:cubicBezTo>
                <a:lnTo>
                  <a:pt x="257" y="164"/>
                </a:lnTo>
                <a:cubicBezTo>
                  <a:pt x="237" y="161"/>
                  <a:pt x="223" y="142"/>
                  <a:pt x="223" y="122"/>
                </a:cubicBezTo>
                <a:lnTo>
                  <a:pt x="223" y="102"/>
                </a:lnTo>
                <a:cubicBezTo>
                  <a:pt x="223" y="99"/>
                  <a:pt x="226" y="94"/>
                  <a:pt x="226" y="91"/>
                </a:cubicBezTo>
                <a:cubicBezTo>
                  <a:pt x="229" y="88"/>
                  <a:pt x="235" y="79"/>
                  <a:pt x="237" y="71"/>
                </a:cubicBezTo>
                <a:cubicBezTo>
                  <a:pt x="243" y="60"/>
                  <a:pt x="249" y="51"/>
                  <a:pt x="251" y="46"/>
                </a:cubicBezTo>
                <a:cubicBezTo>
                  <a:pt x="260" y="37"/>
                  <a:pt x="268" y="26"/>
                  <a:pt x="271" y="15"/>
                </a:cubicBezTo>
                <a:cubicBezTo>
                  <a:pt x="271" y="6"/>
                  <a:pt x="276" y="0"/>
                  <a:pt x="285" y="0"/>
                </a:cubicBezTo>
                <a:cubicBezTo>
                  <a:pt x="293" y="0"/>
                  <a:pt x="299" y="6"/>
                  <a:pt x="299" y="15"/>
                </a:cubicBezTo>
                <a:cubicBezTo>
                  <a:pt x="299" y="17"/>
                  <a:pt x="299" y="20"/>
                  <a:pt x="299" y="20"/>
                </a:cubicBezTo>
                <a:cubicBezTo>
                  <a:pt x="297" y="40"/>
                  <a:pt x="282" y="54"/>
                  <a:pt x="271" y="65"/>
                </a:cubicBezTo>
                <a:cubicBezTo>
                  <a:pt x="268" y="68"/>
                  <a:pt x="266" y="77"/>
                  <a:pt x="260" y="82"/>
                </a:cubicBezTo>
                <a:cubicBezTo>
                  <a:pt x="257" y="91"/>
                  <a:pt x="251" y="96"/>
                  <a:pt x="249" y="102"/>
                </a:cubicBezTo>
                <a:lnTo>
                  <a:pt x="249" y="116"/>
                </a:lnTo>
                <a:cubicBezTo>
                  <a:pt x="249" y="122"/>
                  <a:pt x="254" y="127"/>
                  <a:pt x="260" y="130"/>
                </a:cubicBezTo>
                <a:lnTo>
                  <a:pt x="322" y="142"/>
                </a:lnTo>
                <a:cubicBezTo>
                  <a:pt x="362" y="150"/>
                  <a:pt x="390" y="184"/>
                  <a:pt x="390" y="223"/>
                </a:cubicBezTo>
                <a:lnTo>
                  <a:pt x="390" y="252"/>
                </a:lnTo>
                <a:cubicBezTo>
                  <a:pt x="395" y="269"/>
                  <a:pt x="384" y="280"/>
                  <a:pt x="367" y="28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32"/>
          <p:cNvSpPr/>
          <p:nvPr/>
        </p:nvSpPr>
        <p:spPr>
          <a:xfrm>
            <a:off x="3792600" y="2244600"/>
            <a:ext cx="191880" cy="77760"/>
          </a:xfrm>
          <a:custGeom>
            <a:avLst/>
            <a:gdLst/>
            <a:ahLst/>
            <a:rect l="l" t="t" r="r" b="b"/>
            <a:pathLst>
              <a:path w="283" h="114">
                <a:moveTo>
                  <a:pt x="254" y="113"/>
                </a:moveTo>
                <a:lnTo>
                  <a:pt x="169" y="113"/>
                </a:lnTo>
                <a:cubicBezTo>
                  <a:pt x="166" y="113"/>
                  <a:pt x="163" y="113"/>
                  <a:pt x="163" y="110"/>
                </a:cubicBezTo>
                <a:lnTo>
                  <a:pt x="141" y="99"/>
                </a:lnTo>
                <a:lnTo>
                  <a:pt x="118" y="110"/>
                </a:lnTo>
                <a:cubicBezTo>
                  <a:pt x="115" y="110"/>
                  <a:pt x="115" y="113"/>
                  <a:pt x="113" y="113"/>
                </a:cubicBezTo>
                <a:lnTo>
                  <a:pt x="28" y="113"/>
                </a:lnTo>
                <a:cubicBezTo>
                  <a:pt x="11" y="113"/>
                  <a:pt x="0" y="102"/>
                  <a:pt x="0" y="85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254" y="0"/>
                </a:lnTo>
                <a:cubicBezTo>
                  <a:pt x="271" y="0"/>
                  <a:pt x="282" y="11"/>
                  <a:pt x="282" y="28"/>
                </a:cubicBezTo>
                <a:lnTo>
                  <a:pt x="282" y="85"/>
                </a:lnTo>
                <a:cubicBezTo>
                  <a:pt x="282" y="102"/>
                  <a:pt x="271" y="113"/>
                  <a:pt x="254" y="113"/>
                </a:cubicBezTo>
                <a:close/>
                <a:moveTo>
                  <a:pt x="172" y="85"/>
                </a:moveTo>
                <a:lnTo>
                  <a:pt x="254" y="85"/>
                </a:lnTo>
                <a:lnTo>
                  <a:pt x="254" y="28"/>
                </a:lnTo>
                <a:lnTo>
                  <a:pt x="28" y="28"/>
                </a:lnTo>
                <a:lnTo>
                  <a:pt x="28" y="85"/>
                </a:lnTo>
                <a:lnTo>
                  <a:pt x="110" y="85"/>
                </a:lnTo>
                <a:lnTo>
                  <a:pt x="135" y="73"/>
                </a:lnTo>
                <a:cubicBezTo>
                  <a:pt x="138" y="71"/>
                  <a:pt x="144" y="71"/>
                  <a:pt x="146" y="73"/>
                </a:cubicBezTo>
                <a:lnTo>
                  <a:pt x="172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3"/>
          <p:cNvSpPr/>
          <p:nvPr/>
        </p:nvSpPr>
        <p:spPr>
          <a:xfrm>
            <a:off x="6033960" y="2262240"/>
            <a:ext cx="308160" cy="212760"/>
          </a:xfrm>
          <a:custGeom>
            <a:avLst/>
            <a:gdLst/>
            <a:ahLst/>
            <a:rect l="l" t="t" r="r" b="b"/>
            <a:pathLst>
              <a:path w="453" h="312">
                <a:moveTo>
                  <a:pt x="424" y="311"/>
                </a:moveTo>
                <a:lnTo>
                  <a:pt x="29" y="311"/>
                </a:lnTo>
                <a:cubicBezTo>
                  <a:pt x="12" y="311"/>
                  <a:pt x="0" y="299"/>
                  <a:pt x="0" y="282"/>
                </a:cubicBezTo>
                <a:lnTo>
                  <a:pt x="0" y="28"/>
                </a:lnTo>
                <a:cubicBezTo>
                  <a:pt x="0" y="11"/>
                  <a:pt x="12" y="0"/>
                  <a:pt x="29" y="0"/>
                </a:cubicBezTo>
                <a:lnTo>
                  <a:pt x="127" y="0"/>
                </a:lnTo>
                <a:cubicBezTo>
                  <a:pt x="136" y="0"/>
                  <a:pt x="142" y="5"/>
                  <a:pt x="142" y="14"/>
                </a:cubicBezTo>
                <a:cubicBezTo>
                  <a:pt x="142" y="22"/>
                  <a:pt x="136" y="28"/>
                  <a:pt x="127" y="28"/>
                </a:cubicBezTo>
                <a:lnTo>
                  <a:pt x="29" y="28"/>
                </a:lnTo>
                <a:lnTo>
                  <a:pt x="29" y="282"/>
                </a:lnTo>
                <a:lnTo>
                  <a:pt x="424" y="282"/>
                </a:lnTo>
                <a:lnTo>
                  <a:pt x="424" y="28"/>
                </a:lnTo>
                <a:lnTo>
                  <a:pt x="325" y="28"/>
                </a:lnTo>
                <a:cubicBezTo>
                  <a:pt x="316" y="28"/>
                  <a:pt x="311" y="22"/>
                  <a:pt x="311" y="14"/>
                </a:cubicBezTo>
                <a:cubicBezTo>
                  <a:pt x="311" y="5"/>
                  <a:pt x="316" y="0"/>
                  <a:pt x="325" y="0"/>
                </a:cubicBezTo>
                <a:lnTo>
                  <a:pt x="424" y="0"/>
                </a:lnTo>
                <a:cubicBezTo>
                  <a:pt x="441" y="0"/>
                  <a:pt x="452" y="11"/>
                  <a:pt x="452" y="28"/>
                </a:cubicBezTo>
                <a:lnTo>
                  <a:pt x="452" y="282"/>
                </a:lnTo>
                <a:cubicBezTo>
                  <a:pt x="452" y="299"/>
                  <a:pt x="441" y="311"/>
                  <a:pt x="424" y="31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34"/>
          <p:cNvSpPr/>
          <p:nvPr/>
        </p:nvSpPr>
        <p:spPr>
          <a:xfrm>
            <a:off x="6089760" y="2319480"/>
            <a:ext cx="60120" cy="56880"/>
          </a:xfrm>
          <a:custGeom>
            <a:avLst/>
            <a:gdLst/>
            <a:ahLst/>
            <a:rect l="l" t="t" r="r" b="b"/>
            <a:pathLst>
              <a:path w="86" h="85">
                <a:moveTo>
                  <a:pt x="42" y="84"/>
                </a:moveTo>
                <a:cubicBezTo>
                  <a:pt x="20" y="84"/>
                  <a:pt x="0" y="64"/>
                  <a:pt x="0" y="42"/>
                </a:cubicBezTo>
                <a:cubicBezTo>
                  <a:pt x="0" y="19"/>
                  <a:pt x="20" y="0"/>
                  <a:pt x="42" y="0"/>
                </a:cubicBezTo>
                <a:cubicBezTo>
                  <a:pt x="65" y="0"/>
                  <a:pt x="85" y="19"/>
                  <a:pt x="85" y="42"/>
                </a:cubicBezTo>
                <a:cubicBezTo>
                  <a:pt x="85" y="64"/>
                  <a:pt x="65" y="84"/>
                  <a:pt x="42" y="84"/>
                </a:cubicBezTo>
                <a:close/>
                <a:moveTo>
                  <a:pt x="42" y="28"/>
                </a:moveTo>
                <a:cubicBezTo>
                  <a:pt x="34" y="28"/>
                  <a:pt x="28" y="33"/>
                  <a:pt x="28" y="42"/>
                </a:cubicBezTo>
                <a:cubicBezTo>
                  <a:pt x="28" y="50"/>
                  <a:pt x="34" y="56"/>
                  <a:pt x="42" y="56"/>
                </a:cubicBezTo>
                <a:cubicBezTo>
                  <a:pt x="51" y="56"/>
                  <a:pt x="57" y="50"/>
                  <a:pt x="57" y="42"/>
                </a:cubicBezTo>
                <a:cubicBezTo>
                  <a:pt x="57" y="33"/>
                  <a:pt x="51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5"/>
          <p:cNvSpPr/>
          <p:nvPr/>
        </p:nvSpPr>
        <p:spPr>
          <a:xfrm>
            <a:off x="6072120" y="2386080"/>
            <a:ext cx="98640" cy="50760"/>
          </a:xfrm>
          <a:custGeom>
            <a:avLst/>
            <a:gdLst/>
            <a:ahLst/>
            <a:rect l="l" t="t" r="r" b="b"/>
            <a:pathLst>
              <a:path w="145" h="74">
                <a:moveTo>
                  <a:pt x="127" y="73"/>
                </a:moveTo>
                <a:lnTo>
                  <a:pt x="14" y="73"/>
                </a:lnTo>
                <a:cubicBezTo>
                  <a:pt x="5" y="73"/>
                  <a:pt x="0" y="68"/>
                  <a:pt x="0" y="59"/>
                </a:cubicBezTo>
                <a:lnTo>
                  <a:pt x="0" y="31"/>
                </a:lnTo>
                <a:cubicBezTo>
                  <a:pt x="0" y="25"/>
                  <a:pt x="3" y="20"/>
                  <a:pt x="8" y="20"/>
                </a:cubicBezTo>
                <a:cubicBezTo>
                  <a:pt x="48" y="0"/>
                  <a:pt x="96" y="0"/>
                  <a:pt x="135" y="20"/>
                </a:cubicBezTo>
                <a:cubicBezTo>
                  <a:pt x="141" y="22"/>
                  <a:pt x="144" y="28"/>
                  <a:pt x="144" y="31"/>
                </a:cubicBezTo>
                <a:lnTo>
                  <a:pt x="144" y="59"/>
                </a:lnTo>
                <a:cubicBezTo>
                  <a:pt x="141" y="68"/>
                  <a:pt x="135" y="73"/>
                  <a:pt x="127" y="73"/>
                </a:cubicBezTo>
                <a:close/>
                <a:moveTo>
                  <a:pt x="28" y="45"/>
                </a:moveTo>
                <a:lnTo>
                  <a:pt x="113" y="45"/>
                </a:lnTo>
                <a:lnTo>
                  <a:pt x="113" y="39"/>
                </a:lnTo>
                <a:cubicBezTo>
                  <a:pt x="85" y="28"/>
                  <a:pt x="56" y="28"/>
                  <a:pt x="28" y="39"/>
                </a:cubicBezTo>
                <a:lnTo>
                  <a:pt x="28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36"/>
          <p:cNvSpPr/>
          <p:nvPr/>
        </p:nvSpPr>
        <p:spPr>
          <a:xfrm>
            <a:off x="6186600" y="2359080"/>
            <a:ext cx="95040" cy="2052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5"/>
                  <a:pt x="141" y="14"/>
                </a:cubicBezTo>
                <a:cubicBezTo>
                  <a:pt x="141" y="22"/>
                  <a:pt x="136" y="28"/>
                  <a:pt x="12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37"/>
          <p:cNvSpPr/>
          <p:nvPr/>
        </p:nvSpPr>
        <p:spPr>
          <a:xfrm>
            <a:off x="6186600" y="2397240"/>
            <a:ext cx="95040" cy="2052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5"/>
                  <a:pt x="141" y="14"/>
                </a:cubicBezTo>
                <a:cubicBezTo>
                  <a:pt x="141" y="22"/>
                  <a:pt x="136" y="28"/>
                  <a:pt x="12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38"/>
          <p:cNvSpPr/>
          <p:nvPr/>
        </p:nvSpPr>
        <p:spPr>
          <a:xfrm>
            <a:off x="6146640" y="2224080"/>
            <a:ext cx="7812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98" y="113"/>
                </a:moveTo>
                <a:lnTo>
                  <a:pt x="14" y="113"/>
                </a:lnTo>
                <a:cubicBezTo>
                  <a:pt x="5" y="113"/>
                  <a:pt x="0" y="107"/>
                  <a:pt x="0" y="99"/>
                </a:cubicBezTo>
                <a:lnTo>
                  <a:pt x="0" y="56"/>
                </a:lnTo>
                <a:cubicBezTo>
                  <a:pt x="0" y="25"/>
                  <a:pt x="25" y="0"/>
                  <a:pt x="56" y="0"/>
                </a:cubicBezTo>
                <a:cubicBezTo>
                  <a:pt x="87" y="0"/>
                  <a:pt x="113" y="25"/>
                  <a:pt x="113" y="56"/>
                </a:cubicBezTo>
                <a:lnTo>
                  <a:pt x="113" y="99"/>
                </a:lnTo>
                <a:cubicBezTo>
                  <a:pt x="113" y="107"/>
                  <a:pt x="107" y="113"/>
                  <a:pt x="98" y="113"/>
                </a:cubicBezTo>
                <a:close/>
                <a:moveTo>
                  <a:pt x="28" y="84"/>
                </a:moveTo>
                <a:lnTo>
                  <a:pt x="84" y="84"/>
                </a:lnTo>
                <a:lnTo>
                  <a:pt x="84" y="56"/>
                </a:lnTo>
                <a:cubicBezTo>
                  <a:pt x="84" y="39"/>
                  <a:pt x="73" y="28"/>
                  <a:pt x="56" y="28"/>
                </a:cubicBezTo>
                <a:cubicBezTo>
                  <a:pt x="39" y="28"/>
                  <a:pt x="28" y="39"/>
                  <a:pt x="28" y="56"/>
                </a:cubicBezTo>
                <a:lnTo>
                  <a:pt x="28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39"/>
          <p:cNvSpPr/>
          <p:nvPr/>
        </p:nvSpPr>
        <p:spPr>
          <a:xfrm>
            <a:off x="5264280" y="8367840"/>
            <a:ext cx="311040" cy="252360"/>
          </a:xfrm>
          <a:custGeom>
            <a:avLst/>
            <a:gdLst/>
            <a:ahLst/>
            <a:rect l="l" t="t" r="r" b="b"/>
            <a:pathLst>
              <a:path w="457" h="371">
                <a:moveTo>
                  <a:pt x="148" y="370"/>
                </a:moveTo>
                <a:cubicBezTo>
                  <a:pt x="98" y="370"/>
                  <a:pt x="50" y="356"/>
                  <a:pt x="7" y="328"/>
                </a:cubicBezTo>
                <a:cubicBezTo>
                  <a:pt x="2" y="325"/>
                  <a:pt x="0" y="316"/>
                  <a:pt x="2" y="311"/>
                </a:cubicBezTo>
                <a:cubicBezTo>
                  <a:pt x="5" y="305"/>
                  <a:pt x="10" y="299"/>
                  <a:pt x="16" y="302"/>
                </a:cubicBezTo>
                <a:cubicBezTo>
                  <a:pt x="47" y="305"/>
                  <a:pt x="78" y="299"/>
                  <a:pt x="106" y="288"/>
                </a:cubicBezTo>
                <a:cubicBezTo>
                  <a:pt x="78" y="277"/>
                  <a:pt x="58" y="254"/>
                  <a:pt x="50" y="226"/>
                </a:cubicBezTo>
                <a:cubicBezTo>
                  <a:pt x="47" y="220"/>
                  <a:pt x="50" y="215"/>
                  <a:pt x="52" y="212"/>
                </a:cubicBezTo>
                <a:lnTo>
                  <a:pt x="52" y="212"/>
                </a:lnTo>
                <a:cubicBezTo>
                  <a:pt x="30" y="192"/>
                  <a:pt x="19" y="167"/>
                  <a:pt x="19" y="136"/>
                </a:cubicBezTo>
                <a:cubicBezTo>
                  <a:pt x="19" y="130"/>
                  <a:pt x="21" y="125"/>
                  <a:pt x="24" y="125"/>
                </a:cubicBezTo>
                <a:cubicBezTo>
                  <a:pt x="27" y="125"/>
                  <a:pt x="27" y="122"/>
                  <a:pt x="30" y="122"/>
                </a:cubicBezTo>
                <a:cubicBezTo>
                  <a:pt x="21" y="108"/>
                  <a:pt x="19" y="91"/>
                  <a:pt x="19" y="74"/>
                </a:cubicBezTo>
                <a:cubicBezTo>
                  <a:pt x="19" y="57"/>
                  <a:pt x="24" y="40"/>
                  <a:pt x="33" y="23"/>
                </a:cubicBezTo>
                <a:cubicBezTo>
                  <a:pt x="35" y="20"/>
                  <a:pt x="38" y="17"/>
                  <a:pt x="44" y="17"/>
                </a:cubicBezTo>
                <a:cubicBezTo>
                  <a:pt x="50" y="17"/>
                  <a:pt x="52" y="20"/>
                  <a:pt x="55" y="23"/>
                </a:cubicBezTo>
                <a:cubicBezTo>
                  <a:pt x="92" y="71"/>
                  <a:pt x="148" y="99"/>
                  <a:pt x="208" y="108"/>
                </a:cubicBezTo>
                <a:cubicBezTo>
                  <a:pt x="208" y="108"/>
                  <a:pt x="208" y="105"/>
                  <a:pt x="208" y="102"/>
                </a:cubicBezTo>
                <a:cubicBezTo>
                  <a:pt x="208" y="46"/>
                  <a:pt x="253" y="0"/>
                  <a:pt x="309" y="0"/>
                </a:cubicBezTo>
                <a:cubicBezTo>
                  <a:pt x="335" y="0"/>
                  <a:pt x="357" y="9"/>
                  <a:pt x="377" y="26"/>
                </a:cubicBezTo>
                <a:cubicBezTo>
                  <a:pt x="394" y="23"/>
                  <a:pt x="408" y="17"/>
                  <a:pt x="419" y="9"/>
                </a:cubicBezTo>
                <a:cubicBezTo>
                  <a:pt x="425" y="6"/>
                  <a:pt x="431" y="6"/>
                  <a:pt x="436" y="9"/>
                </a:cubicBezTo>
                <a:cubicBezTo>
                  <a:pt x="442" y="12"/>
                  <a:pt x="442" y="17"/>
                  <a:pt x="442" y="23"/>
                </a:cubicBezTo>
                <a:cubicBezTo>
                  <a:pt x="439" y="29"/>
                  <a:pt x="436" y="34"/>
                  <a:pt x="433" y="40"/>
                </a:cubicBezTo>
                <a:cubicBezTo>
                  <a:pt x="439" y="37"/>
                  <a:pt x="445" y="40"/>
                  <a:pt x="450" y="43"/>
                </a:cubicBezTo>
                <a:cubicBezTo>
                  <a:pt x="453" y="48"/>
                  <a:pt x="456" y="54"/>
                  <a:pt x="450" y="60"/>
                </a:cubicBezTo>
                <a:cubicBezTo>
                  <a:pt x="439" y="77"/>
                  <a:pt x="425" y="91"/>
                  <a:pt x="411" y="105"/>
                </a:cubicBezTo>
                <a:cubicBezTo>
                  <a:pt x="411" y="105"/>
                  <a:pt x="411" y="108"/>
                  <a:pt x="411" y="110"/>
                </a:cubicBezTo>
                <a:cubicBezTo>
                  <a:pt x="411" y="237"/>
                  <a:pt x="312" y="370"/>
                  <a:pt x="148" y="370"/>
                </a:cubicBezTo>
                <a:close/>
                <a:moveTo>
                  <a:pt x="72" y="328"/>
                </a:moveTo>
                <a:cubicBezTo>
                  <a:pt x="98" y="336"/>
                  <a:pt x="123" y="342"/>
                  <a:pt x="148" y="342"/>
                </a:cubicBezTo>
                <a:cubicBezTo>
                  <a:pt x="295" y="342"/>
                  <a:pt x="383" y="223"/>
                  <a:pt x="383" y="110"/>
                </a:cubicBezTo>
                <a:cubicBezTo>
                  <a:pt x="383" y="108"/>
                  <a:pt x="383" y="105"/>
                  <a:pt x="383" y="99"/>
                </a:cubicBezTo>
                <a:cubicBezTo>
                  <a:pt x="383" y="93"/>
                  <a:pt x="385" y="91"/>
                  <a:pt x="388" y="88"/>
                </a:cubicBezTo>
                <a:cubicBezTo>
                  <a:pt x="391" y="85"/>
                  <a:pt x="394" y="82"/>
                  <a:pt x="397" y="82"/>
                </a:cubicBezTo>
                <a:cubicBezTo>
                  <a:pt x="394" y="82"/>
                  <a:pt x="394" y="82"/>
                  <a:pt x="391" y="82"/>
                </a:cubicBezTo>
                <a:cubicBezTo>
                  <a:pt x="385" y="82"/>
                  <a:pt x="377" y="80"/>
                  <a:pt x="377" y="74"/>
                </a:cubicBezTo>
                <a:cubicBezTo>
                  <a:pt x="377" y="69"/>
                  <a:pt x="377" y="60"/>
                  <a:pt x="383" y="57"/>
                </a:cubicBezTo>
                <a:cubicBezTo>
                  <a:pt x="385" y="57"/>
                  <a:pt x="385" y="54"/>
                  <a:pt x="388" y="54"/>
                </a:cubicBezTo>
                <a:cubicBezTo>
                  <a:pt x="383" y="54"/>
                  <a:pt x="380" y="57"/>
                  <a:pt x="374" y="57"/>
                </a:cubicBezTo>
                <a:cubicBezTo>
                  <a:pt x="368" y="57"/>
                  <a:pt x="366" y="57"/>
                  <a:pt x="360" y="54"/>
                </a:cubicBezTo>
                <a:cubicBezTo>
                  <a:pt x="346" y="40"/>
                  <a:pt x="326" y="31"/>
                  <a:pt x="306" y="31"/>
                </a:cubicBezTo>
                <a:cubicBezTo>
                  <a:pt x="267" y="31"/>
                  <a:pt x="233" y="65"/>
                  <a:pt x="233" y="105"/>
                </a:cubicBezTo>
                <a:cubicBezTo>
                  <a:pt x="233" y="110"/>
                  <a:pt x="233" y="116"/>
                  <a:pt x="236" y="122"/>
                </a:cubicBezTo>
                <a:cubicBezTo>
                  <a:pt x="236" y="127"/>
                  <a:pt x="236" y="130"/>
                  <a:pt x="233" y="133"/>
                </a:cubicBezTo>
                <a:cubicBezTo>
                  <a:pt x="230" y="136"/>
                  <a:pt x="227" y="139"/>
                  <a:pt x="222" y="139"/>
                </a:cubicBezTo>
                <a:cubicBezTo>
                  <a:pt x="157" y="136"/>
                  <a:pt x="95" y="108"/>
                  <a:pt x="47" y="60"/>
                </a:cubicBezTo>
                <a:cubicBezTo>
                  <a:pt x="44" y="65"/>
                  <a:pt x="44" y="71"/>
                  <a:pt x="44" y="77"/>
                </a:cubicBezTo>
                <a:cubicBezTo>
                  <a:pt x="44" y="102"/>
                  <a:pt x="55" y="125"/>
                  <a:pt x="75" y="136"/>
                </a:cubicBezTo>
                <a:cubicBezTo>
                  <a:pt x="81" y="139"/>
                  <a:pt x="84" y="147"/>
                  <a:pt x="81" y="153"/>
                </a:cubicBezTo>
                <a:cubicBezTo>
                  <a:pt x="79" y="158"/>
                  <a:pt x="72" y="164"/>
                  <a:pt x="67" y="164"/>
                </a:cubicBezTo>
                <a:cubicBezTo>
                  <a:pt x="58" y="164"/>
                  <a:pt x="52" y="164"/>
                  <a:pt x="44" y="161"/>
                </a:cubicBezTo>
                <a:cubicBezTo>
                  <a:pt x="52" y="187"/>
                  <a:pt x="72" y="206"/>
                  <a:pt x="100" y="212"/>
                </a:cubicBezTo>
                <a:cubicBezTo>
                  <a:pt x="106" y="212"/>
                  <a:pt x="112" y="218"/>
                  <a:pt x="112" y="226"/>
                </a:cubicBezTo>
                <a:cubicBezTo>
                  <a:pt x="112" y="232"/>
                  <a:pt x="109" y="237"/>
                  <a:pt x="100" y="240"/>
                </a:cubicBezTo>
                <a:cubicBezTo>
                  <a:pt x="95" y="243"/>
                  <a:pt x="89" y="243"/>
                  <a:pt x="81" y="243"/>
                </a:cubicBezTo>
                <a:cubicBezTo>
                  <a:pt x="95" y="263"/>
                  <a:pt x="115" y="274"/>
                  <a:pt x="140" y="274"/>
                </a:cubicBezTo>
                <a:cubicBezTo>
                  <a:pt x="146" y="274"/>
                  <a:pt x="151" y="278"/>
                  <a:pt x="154" y="283"/>
                </a:cubicBezTo>
                <a:cubicBezTo>
                  <a:pt x="157" y="289"/>
                  <a:pt x="154" y="294"/>
                  <a:pt x="148" y="299"/>
                </a:cubicBezTo>
                <a:cubicBezTo>
                  <a:pt x="129" y="311"/>
                  <a:pt x="100" y="322"/>
                  <a:pt x="72" y="3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40"/>
          <p:cNvSpPr/>
          <p:nvPr/>
        </p:nvSpPr>
        <p:spPr>
          <a:xfrm>
            <a:off x="6033960" y="8332920"/>
            <a:ext cx="308160" cy="307800"/>
          </a:xfrm>
          <a:custGeom>
            <a:avLst/>
            <a:gdLst/>
            <a:ahLst/>
            <a:rect l="l" t="t" r="r" b="b"/>
            <a:pathLst>
              <a:path w="453" h="452">
                <a:moveTo>
                  <a:pt x="395" y="451"/>
                </a:moveTo>
                <a:lnTo>
                  <a:pt x="297" y="451"/>
                </a:lnTo>
                <a:cubicBezTo>
                  <a:pt x="288" y="451"/>
                  <a:pt x="283" y="446"/>
                  <a:pt x="283" y="437"/>
                </a:cubicBezTo>
                <a:lnTo>
                  <a:pt x="283" y="282"/>
                </a:lnTo>
                <a:cubicBezTo>
                  <a:pt x="283" y="273"/>
                  <a:pt x="288" y="268"/>
                  <a:pt x="297" y="268"/>
                </a:cubicBezTo>
                <a:lnTo>
                  <a:pt x="331" y="268"/>
                </a:lnTo>
                <a:lnTo>
                  <a:pt x="348" y="226"/>
                </a:lnTo>
                <a:lnTo>
                  <a:pt x="297" y="226"/>
                </a:lnTo>
                <a:cubicBezTo>
                  <a:pt x="288" y="226"/>
                  <a:pt x="283" y="220"/>
                  <a:pt x="283" y="211"/>
                </a:cubicBezTo>
                <a:lnTo>
                  <a:pt x="283" y="155"/>
                </a:lnTo>
                <a:cubicBezTo>
                  <a:pt x="283" y="146"/>
                  <a:pt x="285" y="141"/>
                  <a:pt x="291" y="135"/>
                </a:cubicBezTo>
                <a:cubicBezTo>
                  <a:pt x="300" y="127"/>
                  <a:pt x="311" y="127"/>
                  <a:pt x="322" y="127"/>
                </a:cubicBezTo>
                <a:lnTo>
                  <a:pt x="339" y="127"/>
                </a:lnTo>
                <a:lnTo>
                  <a:pt x="339" y="84"/>
                </a:lnTo>
                <a:lnTo>
                  <a:pt x="297" y="84"/>
                </a:lnTo>
                <a:cubicBezTo>
                  <a:pt x="277" y="84"/>
                  <a:pt x="260" y="93"/>
                  <a:pt x="246" y="104"/>
                </a:cubicBezTo>
                <a:cubicBezTo>
                  <a:pt x="232" y="118"/>
                  <a:pt x="226" y="135"/>
                  <a:pt x="226" y="155"/>
                </a:cubicBezTo>
                <a:lnTo>
                  <a:pt x="226" y="211"/>
                </a:lnTo>
                <a:cubicBezTo>
                  <a:pt x="226" y="220"/>
                  <a:pt x="221" y="226"/>
                  <a:pt x="212" y="226"/>
                </a:cubicBezTo>
                <a:lnTo>
                  <a:pt x="170" y="226"/>
                </a:lnTo>
                <a:lnTo>
                  <a:pt x="170" y="268"/>
                </a:lnTo>
                <a:lnTo>
                  <a:pt x="212" y="268"/>
                </a:lnTo>
                <a:cubicBezTo>
                  <a:pt x="221" y="268"/>
                  <a:pt x="226" y="273"/>
                  <a:pt x="226" y="282"/>
                </a:cubicBezTo>
                <a:lnTo>
                  <a:pt x="226" y="437"/>
                </a:lnTo>
                <a:cubicBezTo>
                  <a:pt x="226" y="446"/>
                  <a:pt x="221" y="451"/>
                  <a:pt x="212" y="451"/>
                </a:cubicBezTo>
                <a:lnTo>
                  <a:pt x="57" y="451"/>
                </a:lnTo>
                <a:cubicBezTo>
                  <a:pt x="26" y="451"/>
                  <a:pt x="0" y="426"/>
                  <a:pt x="0" y="395"/>
                </a:cubicBezTo>
                <a:lnTo>
                  <a:pt x="0" y="56"/>
                </a:lnTo>
                <a:cubicBezTo>
                  <a:pt x="0" y="25"/>
                  <a:pt x="26" y="0"/>
                  <a:pt x="57" y="0"/>
                </a:cubicBezTo>
                <a:lnTo>
                  <a:pt x="395" y="0"/>
                </a:lnTo>
                <a:cubicBezTo>
                  <a:pt x="427" y="0"/>
                  <a:pt x="452" y="25"/>
                  <a:pt x="452" y="56"/>
                </a:cubicBezTo>
                <a:lnTo>
                  <a:pt x="452" y="395"/>
                </a:lnTo>
                <a:cubicBezTo>
                  <a:pt x="452" y="426"/>
                  <a:pt x="427" y="451"/>
                  <a:pt x="395" y="451"/>
                </a:cubicBezTo>
                <a:close/>
                <a:moveTo>
                  <a:pt x="311" y="423"/>
                </a:moveTo>
                <a:lnTo>
                  <a:pt x="395" y="423"/>
                </a:lnTo>
                <a:cubicBezTo>
                  <a:pt x="412" y="423"/>
                  <a:pt x="424" y="412"/>
                  <a:pt x="424" y="395"/>
                </a:cubicBezTo>
                <a:lnTo>
                  <a:pt x="424" y="56"/>
                </a:lnTo>
                <a:cubicBezTo>
                  <a:pt x="424" y="39"/>
                  <a:pt x="412" y="28"/>
                  <a:pt x="395" y="28"/>
                </a:cubicBezTo>
                <a:lnTo>
                  <a:pt x="57" y="28"/>
                </a:lnTo>
                <a:cubicBezTo>
                  <a:pt x="40" y="28"/>
                  <a:pt x="29" y="39"/>
                  <a:pt x="29" y="56"/>
                </a:cubicBezTo>
                <a:lnTo>
                  <a:pt x="29" y="395"/>
                </a:lnTo>
                <a:cubicBezTo>
                  <a:pt x="29" y="412"/>
                  <a:pt x="40" y="423"/>
                  <a:pt x="57" y="423"/>
                </a:cubicBezTo>
                <a:lnTo>
                  <a:pt x="198" y="423"/>
                </a:lnTo>
                <a:lnTo>
                  <a:pt x="198" y="296"/>
                </a:lnTo>
                <a:lnTo>
                  <a:pt x="156" y="296"/>
                </a:lnTo>
                <a:cubicBezTo>
                  <a:pt x="147" y="296"/>
                  <a:pt x="142" y="290"/>
                  <a:pt x="142" y="282"/>
                </a:cubicBezTo>
                <a:lnTo>
                  <a:pt x="142" y="211"/>
                </a:lnTo>
                <a:cubicBezTo>
                  <a:pt x="142" y="203"/>
                  <a:pt x="147" y="197"/>
                  <a:pt x="156" y="197"/>
                </a:cubicBezTo>
                <a:lnTo>
                  <a:pt x="198" y="197"/>
                </a:lnTo>
                <a:lnTo>
                  <a:pt x="198" y="155"/>
                </a:lnTo>
                <a:cubicBezTo>
                  <a:pt x="198" y="130"/>
                  <a:pt x="209" y="104"/>
                  <a:pt x="226" y="84"/>
                </a:cubicBezTo>
                <a:cubicBezTo>
                  <a:pt x="243" y="65"/>
                  <a:pt x="268" y="56"/>
                  <a:pt x="297" y="56"/>
                </a:cubicBezTo>
                <a:lnTo>
                  <a:pt x="353" y="56"/>
                </a:lnTo>
                <a:cubicBezTo>
                  <a:pt x="362" y="56"/>
                  <a:pt x="367" y="62"/>
                  <a:pt x="367" y="70"/>
                </a:cubicBezTo>
                <a:lnTo>
                  <a:pt x="367" y="141"/>
                </a:lnTo>
                <a:cubicBezTo>
                  <a:pt x="367" y="149"/>
                  <a:pt x="362" y="155"/>
                  <a:pt x="353" y="155"/>
                </a:cubicBezTo>
                <a:lnTo>
                  <a:pt x="322" y="155"/>
                </a:lnTo>
                <a:cubicBezTo>
                  <a:pt x="319" y="155"/>
                  <a:pt x="314" y="155"/>
                  <a:pt x="311" y="155"/>
                </a:cubicBezTo>
                <a:lnTo>
                  <a:pt x="311" y="197"/>
                </a:lnTo>
                <a:lnTo>
                  <a:pt x="367" y="197"/>
                </a:lnTo>
                <a:cubicBezTo>
                  <a:pt x="373" y="197"/>
                  <a:pt x="377" y="200"/>
                  <a:pt x="379" y="203"/>
                </a:cubicBezTo>
                <a:cubicBezTo>
                  <a:pt x="382" y="206"/>
                  <a:pt x="381" y="211"/>
                  <a:pt x="379" y="217"/>
                </a:cubicBezTo>
                <a:lnTo>
                  <a:pt x="350" y="288"/>
                </a:lnTo>
                <a:cubicBezTo>
                  <a:pt x="348" y="293"/>
                  <a:pt x="342" y="296"/>
                  <a:pt x="336" y="296"/>
                </a:cubicBezTo>
                <a:lnTo>
                  <a:pt x="308" y="296"/>
                </a:lnTo>
                <a:lnTo>
                  <a:pt x="308" y="423"/>
                </a:lnTo>
                <a:lnTo>
                  <a:pt x="311" y="4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41"/>
          <p:cNvSpPr/>
          <p:nvPr/>
        </p:nvSpPr>
        <p:spPr>
          <a:xfrm>
            <a:off x="6799320" y="8388360"/>
            <a:ext cx="304920" cy="212760"/>
          </a:xfrm>
          <a:custGeom>
            <a:avLst/>
            <a:gdLst/>
            <a:ahLst/>
            <a:rect l="l" t="t" r="r" b="b"/>
            <a:pathLst>
              <a:path w="450" h="312">
                <a:moveTo>
                  <a:pt x="226" y="311"/>
                </a:moveTo>
                <a:cubicBezTo>
                  <a:pt x="175" y="311"/>
                  <a:pt x="107" y="311"/>
                  <a:pt x="82" y="308"/>
                </a:cubicBezTo>
                <a:cubicBezTo>
                  <a:pt x="57" y="305"/>
                  <a:pt x="37" y="302"/>
                  <a:pt x="20" y="277"/>
                </a:cubicBezTo>
                <a:cubicBezTo>
                  <a:pt x="6" y="254"/>
                  <a:pt x="0" y="218"/>
                  <a:pt x="0" y="156"/>
                </a:cubicBezTo>
                <a:cubicBezTo>
                  <a:pt x="0" y="94"/>
                  <a:pt x="6" y="57"/>
                  <a:pt x="20" y="34"/>
                </a:cubicBezTo>
                <a:cubicBezTo>
                  <a:pt x="37" y="6"/>
                  <a:pt x="57" y="3"/>
                  <a:pt x="82" y="3"/>
                </a:cubicBezTo>
                <a:cubicBezTo>
                  <a:pt x="107" y="0"/>
                  <a:pt x="175" y="0"/>
                  <a:pt x="226" y="0"/>
                </a:cubicBezTo>
                <a:cubicBezTo>
                  <a:pt x="280" y="0"/>
                  <a:pt x="344" y="0"/>
                  <a:pt x="370" y="3"/>
                </a:cubicBezTo>
                <a:cubicBezTo>
                  <a:pt x="395" y="3"/>
                  <a:pt x="415" y="9"/>
                  <a:pt x="429" y="34"/>
                </a:cubicBezTo>
                <a:cubicBezTo>
                  <a:pt x="443" y="57"/>
                  <a:pt x="449" y="94"/>
                  <a:pt x="449" y="156"/>
                </a:cubicBezTo>
                <a:cubicBezTo>
                  <a:pt x="449" y="218"/>
                  <a:pt x="443" y="254"/>
                  <a:pt x="429" y="277"/>
                </a:cubicBezTo>
                <a:cubicBezTo>
                  <a:pt x="412" y="302"/>
                  <a:pt x="392" y="308"/>
                  <a:pt x="370" y="308"/>
                </a:cubicBezTo>
                <a:cubicBezTo>
                  <a:pt x="344" y="311"/>
                  <a:pt x="277" y="311"/>
                  <a:pt x="226" y="311"/>
                </a:cubicBezTo>
                <a:close/>
                <a:moveTo>
                  <a:pt x="226" y="29"/>
                </a:moveTo>
                <a:cubicBezTo>
                  <a:pt x="175" y="29"/>
                  <a:pt x="107" y="29"/>
                  <a:pt x="82" y="31"/>
                </a:cubicBezTo>
                <a:cubicBezTo>
                  <a:pt x="59" y="31"/>
                  <a:pt x="51" y="37"/>
                  <a:pt x="45" y="48"/>
                </a:cubicBezTo>
                <a:cubicBezTo>
                  <a:pt x="34" y="65"/>
                  <a:pt x="28" y="99"/>
                  <a:pt x="28" y="156"/>
                </a:cubicBezTo>
                <a:cubicBezTo>
                  <a:pt x="28" y="209"/>
                  <a:pt x="34" y="243"/>
                  <a:pt x="45" y="263"/>
                </a:cubicBezTo>
                <a:cubicBezTo>
                  <a:pt x="54" y="277"/>
                  <a:pt x="59" y="280"/>
                  <a:pt x="85" y="280"/>
                </a:cubicBezTo>
                <a:cubicBezTo>
                  <a:pt x="130" y="283"/>
                  <a:pt x="325" y="283"/>
                  <a:pt x="373" y="280"/>
                </a:cubicBezTo>
                <a:cubicBezTo>
                  <a:pt x="395" y="277"/>
                  <a:pt x="404" y="274"/>
                  <a:pt x="409" y="263"/>
                </a:cubicBezTo>
                <a:cubicBezTo>
                  <a:pt x="421" y="246"/>
                  <a:pt x="426" y="212"/>
                  <a:pt x="426" y="156"/>
                </a:cubicBezTo>
                <a:cubicBezTo>
                  <a:pt x="426" y="102"/>
                  <a:pt x="421" y="68"/>
                  <a:pt x="409" y="48"/>
                </a:cubicBezTo>
                <a:lnTo>
                  <a:pt x="409" y="48"/>
                </a:lnTo>
                <a:cubicBezTo>
                  <a:pt x="401" y="34"/>
                  <a:pt x="395" y="31"/>
                  <a:pt x="373" y="31"/>
                </a:cubicBezTo>
                <a:cubicBezTo>
                  <a:pt x="344" y="29"/>
                  <a:pt x="277" y="29"/>
                  <a:pt x="226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42"/>
          <p:cNvSpPr/>
          <p:nvPr/>
        </p:nvSpPr>
        <p:spPr>
          <a:xfrm>
            <a:off x="6913440" y="8437680"/>
            <a:ext cx="95400" cy="115920"/>
          </a:xfrm>
          <a:custGeom>
            <a:avLst/>
            <a:gdLst/>
            <a:ahLst/>
            <a:rect l="l" t="t" r="r" b="b"/>
            <a:pathLst>
              <a:path w="142" h="170">
                <a:moveTo>
                  <a:pt x="14" y="169"/>
                </a:moveTo>
                <a:cubicBezTo>
                  <a:pt x="11" y="169"/>
                  <a:pt x="8" y="169"/>
                  <a:pt x="8" y="166"/>
                </a:cubicBezTo>
                <a:cubicBezTo>
                  <a:pt x="2" y="164"/>
                  <a:pt x="0" y="158"/>
                  <a:pt x="0" y="155"/>
                </a:cubicBezTo>
                <a:lnTo>
                  <a:pt x="0" y="14"/>
                </a:lnTo>
                <a:cubicBezTo>
                  <a:pt x="0" y="8"/>
                  <a:pt x="2" y="6"/>
                  <a:pt x="8" y="3"/>
                </a:cubicBezTo>
                <a:cubicBezTo>
                  <a:pt x="14" y="0"/>
                  <a:pt x="19" y="0"/>
                  <a:pt x="22" y="3"/>
                </a:cubicBezTo>
                <a:lnTo>
                  <a:pt x="135" y="73"/>
                </a:lnTo>
                <a:cubicBezTo>
                  <a:pt x="138" y="76"/>
                  <a:pt x="141" y="83"/>
                  <a:pt x="141" y="85"/>
                </a:cubicBezTo>
                <a:cubicBezTo>
                  <a:pt x="141" y="88"/>
                  <a:pt x="138" y="93"/>
                  <a:pt x="135" y="96"/>
                </a:cubicBezTo>
                <a:lnTo>
                  <a:pt x="22" y="166"/>
                </a:lnTo>
                <a:cubicBezTo>
                  <a:pt x="19" y="169"/>
                  <a:pt x="16" y="169"/>
                  <a:pt x="14" y="169"/>
                </a:cubicBezTo>
                <a:close/>
                <a:moveTo>
                  <a:pt x="28" y="39"/>
                </a:moveTo>
                <a:lnTo>
                  <a:pt x="28" y="130"/>
                </a:lnTo>
                <a:lnTo>
                  <a:pt x="101" y="85"/>
                </a:lnTo>
                <a:lnTo>
                  <a:pt x="28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43"/>
          <p:cNvSpPr/>
          <p:nvPr/>
        </p:nvSpPr>
        <p:spPr>
          <a:xfrm>
            <a:off x="7699320" y="8332920"/>
            <a:ext cx="81000" cy="88920"/>
          </a:xfrm>
          <a:custGeom>
            <a:avLst/>
            <a:gdLst/>
            <a:ahLst/>
            <a:rect l="l" t="t" r="r" b="b"/>
            <a:pathLst>
              <a:path w="120" h="131">
                <a:moveTo>
                  <a:pt x="23" y="130"/>
                </a:moveTo>
                <a:cubicBezTo>
                  <a:pt x="14" y="130"/>
                  <a:pt x="9" y="124"/>
                  <a:pt x="6" y="118"/>
                </a:cubicBezTo>
                <a:cubicBezTo>
                  <a:pt x="0" y="93"/>
                  <a:pt x="12" y="65"/>
                  <a:pt x="29" y="39"/>
                </a:cubicBezTo>
                <a:cubicBezTo>
                  <a:pt x="45" y="17"/>
                  <a:pt x="77" y="0"/>
                  <a:pt x="102" y="0"/>
                </a:cubicBezTo>
                <a:cubicBezTo>
                  <a:pt x="110" y="0"/>
                  <a:pt x="116" y="5"/>
                  <a:pt x="116" y="11"/>
                </a:cubicBezTo>
                <a:cubicBezTo>
                  <a:pt x="119" y="36"/>
                  <a:pt x="110" y="67"/>
                  <a:pt x="93" y="90"/>
                </a:cubicBezTo>
                <a:cubicBezTo>
                  <a:pt x="77" y="115"/>
                  <a:pt x="48" y="130"/>
                  <a:pt x="23" y="130"/>
                </a:cubicBezTo>
                <a:close/>
                <a:moveTo>
                  <a:pt x="91" y="31"/>
                </a:moveTo>
                <a:cubicBezTo>
                  <a:pt x="77" y="36"/>
                  <a:pt x="62" y="45"/>
                  <a:pt x="51" y="56"/>
                </a:cubicBezTo>
                <a:cubicBezTo>
                  <a:pt x="43" y="67"/>
                  <a:pt x="34" y="82"/>
                  <a:pt x="31" y="99"/>
                </a:cubicBezTo>
                <a:cubicBezTo>
                  <a:pt x="45" y="96"/>
                  <a:pt x="60" y="84"/>
                  <a:pt x="71" y="73"/>
                </a:cubicBezTo>
                <a:cubicBezTo>
                  <a:pt x="79" y="67"/>
                  <a:pt x="88" y="51"/>
                  <a:pt x="91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44"/>
          <p:cNvSpPr/>
          <p:nvPr/>
        </p:nvSpPr>
        <p:spPr>
          <a:xfrm>
            <a:off x="7577280" y="8397720"/>
            <a:ext cx="274320" cy="243000"/>
          </a:xfrm>
          <a:custGeom>
            <a:avLst/>
            <a:gdLst/>
            <a:ahLst/>
            <a:rect l="l" t="t" r="r" b="b"/>
            <a:pathLst>
              <a:path w="404" h="356">
                <a:moveTo>
                  <a:pt x="144" y="352"/>
                </a:moveTo>
                <a:lnTo>
                  <a:pt x="144" y="352"/>
                </a:lnTo>
                <a:cubicBezTo>
                  <a:pt x="107" y="352"/>
                  <a:pt x="79" y="318"/>
                  <a:pt x="59" y="287"/>
                </a:cubicBezTo>
                <a:cubicBezTo>
                  <a:pt x="8" y="211"/>
                  <a:pt x="0" y="115"/>
                  <a:pt x="34" y="59"/>
                </a:cubicBezTo>
                <a:cubicBezTo>
                  <a:pt x="56" y="22"/>
                  <a:pt x="96" y="0"/>
                  <a:pt x="133" y="0"/>
                </a:cubicBezTo>
                <a:cubicBezTo>
                  <a:pt x="152" y="0"/>
                  <a:pt x="166" y="5"/>
                  <a:pt x="181" y="11"/>
                </a:cubicBezTo>
                <a:cubicBezTo>
                  <a:pt x="192" y="14"/>
                  <a:pt x="200" y="19"/>
                  <a:pt x="212" y="19"/>
                </a:cubicBezTo>
                <a:cubicBezTo>
                  <a:pt x="220" y="19"/>
                  <a:pt x="228" y="16"/>
                  <a:pt x="240" y="14"/>
                </a:cubicBezTo>
                <a:cubicBezTo>
                  <a:pt x="254" y="8"/>
                  <a:pt x="268" y="2"/>
                  <a:pt x="293" y="2"/>
                </a:cubicBezTo>
                <a:cubicBezTo>
                  <a:pt x="327" y="2"/>
                  <a:pt x="361" y="19"/>
                  <a:pt x="384" y="50"/>
                </a:cubicBezTo>
                <a:cubicBezTo>
                  <a:pt x="387" y="53"/>
                  <a:pt x="387" y="60"/>
                  <a:pt x="387" y="62"/>
                </a:cubicBezTo>
                <a:cubicBezTo>
                  <a:pt x="387" y="65"/>
                  <a:pt x="384" y="70"/>
                  <a:pt x="381" y="70"/>
                </a:cubicBezTo>
                <a:cubicBezTo>
                  <a:pt x="353" y="84"/>
                  <a:pt x="339" y="112"/>
                  <a:pt x="341" y="143"/>
                </a:cubicBezTo>
                <a:cubicBezTo>
                  <a:pt x="344" y="174"/>
                  <a:pt x="364" y="203"/>
                  <a:pt x="392" y="214"/>
                </a:cubicBezTo>
                <a:cubicBezTo>
                  <a:pt x="395" y="214"/>
                  <a:pt x="398" y="217"/>
                  <a:pt x="401" y="222"/>
                </a:cubicBezTo>
                <a:cubicBezTo>
                  <a:pt x="403" y="225"/>
                  <a:pt x="403" y="231"/>
                  <a:pt x="401" y="234"/>
                </a:cubicBezTo>
                <a:cubicBezTo>
                  <a:pt x="389" y="256"/>
                  <a:pt x="387" y="268"/>
                  <a:pt x="372" y="287"/>
                </a:cubicBezTo>
                <a:cubicBezTo>
                  <a:pt x="350" y="321"/>
                  <a:pt x="324" y="355"/>
                  <a:pt x="288" y="355"/>
                </a:cubicBezTo>
                <a:cubicBezTo>
                  <a:pt x="271" y="355"/>
                  <a:pt x="262" y="349"/>
                  <a:pt x="251" y="347"/>
                </a:cubicBezTo>
                <a:cubicBezTo>
                  <a:pt x="243" y="341"/>
                  <a:pt x="231" y="338"/>
                  <a:pt x="214" y="338"/>
                </a:cubicBezTo>
                <a:cubicBezTo>
                  <a:pt x="197" y="338"/>
                  <a:pt x="189" y="344"/>
                  <a:pt x="178" y="347"/>
                </a:cubicBezTo>
                <a:cubicBezTo>
                  <a:pt x="172" y="347"/>
                  <a:pt x="161" y="352"/>
                  <a:pt x="144" y="352"/>
                </a:cubicBezTo>
                <a:close/>
                <a:moveTo>
                  <a:pt x="135" y="28"/>
                </a:moveTo>
                <a:cubicBezTo>
                  <a:pt x="107" y="28"/>
                  <a:pt x="79" y="45"/>
                  <a:pt x="59" y="76"/>
                </a:cubicBezTo>
                <a:cubicBezTo>
                  <a:pt x="34" y="115"/>
                  <a:pt x="34" y="197"/>
                  <a:pt x="82" y="273"/>
                </a:cubicBezTo>
                <a:cubicBezTo>
                  <a:pt x="96" y="296"/>
                  <a:pt x="118" y="324"/>
                  <a:pt x="141" y="324"/>
                </a:cubicBezTo>
                <a:lnTo>
                  <a:pt x="141" y="324"/>
                </a:lnTo>
                <a:cubicBezTo>
                  <a:pt x="149" y="324"/>
                  <a:pt x="155" y="321"/>
                  <a:pt x="164" y="318"/>
                </a:cubicBezTo>
                <a:cubicBezTo>
                  <a:pt x="175" y="313"/>
                  <a:pt x="190" y="307"/>
                  <a:pt x="212" y="307"/>
                </a:cubicBezTo>
                <a:cubicBezTo>
                  <a:pt x="235" y="307"/>
                  <a:pt x="248" y="313"/>
                  <a:pt x="260" y="318"/>
                </a:cubicBezTo>
                <a:cubicBezTo>
                  <a:pt x="268" y="321"/>
                  <a:pt x="274" y="324"/>
                  <a:pt x="282" y="324"/>
                </a:cubicBezTo>
                <a:cubicBezTo>
                  <a:pt x="305" y="324"/>
                  <a:pt x="327" y="296"/>
                  <a:pt x="344" y="270"/>
                </a:cubicBezTo>
                <a:cubicBezTo>
                  <a:pt x="353" y="256"/>
                  <a:pt x="358" y="248"/>
                  <a:pt x="364" y="234"/>
                </a:cubicBezTo>
                <a:cubicBezTo>
                  <a:pt x="333" y="217"/>
                  <a:pt x="313" y="183"/>
                  <a:pt x="310" y="146"/>
                </a:cubicBezTo>
                <a:cubicBezTo>
                  <a:pt x="307" y="110"/>
                  <a:pt x="322" y="76"/>
                  <a:pt x="350" y="56"/>
                </a:cubicBezTo>
                <a:cubicBezTo>
                  <a:pt x="333" y="39"/>
                  <a:pt x="310" y="31"/>
                  <a:pt x="291" y="31"/>
                </a:cubicBezTo>
                <a:cubicBezTo>
                  <a:pt x="274" y="31"/>
                  <a:pt x="260" y="36"/>
                  <a:pt x="248" y="39"/>
                </a:cubicBezTo>
                <a:cubicBezTo>
                  <a:pt x="237" y="45"/>
                  <a:pt x="227" y="47"/>
                  <a:pt x="212" y="47"/>
                </a:cubicBezTo>
                <a:cubicBezTo>
                  <a:pt x="198" y="47"/>
                  <a:pt x="183" y="42"/>
                  <a:pt x="172" y="39"/>
                </a:cubicBezTo>
                <a:cubicBezTo>
                  <a:pt x="161" y="36"/>
                  <a:pt x="149" y="28"/>
                  <a:pt x="135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45"/>
          <p:cNvSpPr/>
          <p:nvPr/>
        </p:nvSpPr>
        <p:spPr>
          <a:xfrm>
            <a:off x="8386920" y="8350200"/>
            <a:ext cx="174600" cy="230400"/>
          </a:xfrm>
          <a:custGeom>
            <a:avLst/>
            <a:gdLst/>
            <a:ahLst/>
            <a:rect l="l" t="t" r="r" b="b"/>
            <a:pathLst>
              <a:path w="255" h="340">
                <a:moveTo>
                  <a:pt x="240" y="339"/>
                </a:moveTo>
                <a:lnTo>
                  <a:pt x="212" y="339"/>
                </a:lnTo>
                <a:cubicBezTo>
                  <a:pt x="204" y="339"/>
                  <a:pt x="198" y="333"/>
                  <a:pt x="198" y="324"/>
                </a:cubicBezTo>
                <a:cubicBezTo>
                  <a:pt x="198" y="316"/>
                  <a:pt x="204" y="310"/>
                  <a:pt x="212" y="310"/>
                </a:cubicBezTo>
                <a:lnTo>
                  <a:pt x="226" y="310"/>
                </a:lnTo>
                <a:lnTo>
                  <a:pt x="226" y="127"/>
                </a:lnTo>
                <a:cubicBezTo>
                  <a:pt x="226" y="102"/>
                  <a:pt x="215" y="76"/>
                  <a:pt x="198" y="56"/>
                </a:cubicBezTo>
                <a:cubicBezTo>
                  <a:pt x="178" y="37"/>
                  <a:pt x="156" y="28"/>
                  <a:pt x="127" y="28"/>
                </a:cubicBezTo>
                <a:cubicBezTo>
                  <a:pt x="74" y="28"/>
                  <a:pt x="29" y="73"/>
                  <a:pt x="29" y="127"/>
                </a:cubicBezTo>
                <a:lnTo>
                  <a:pt x="29" y="310"/>
                </a:lnTo>
                <a:lnTo>
                  <a:pt x="43" y="310"/>
                </a:lnTo>
                <a:cubicBezTo>
                  <a:pt x="51" y="310"/>
                  <a:pt x="57" y="316"/>
                  <a:pt x="57" y="324"/>
                </a:cubicBezTo>
                <a:cubicBezTo>
                  <a:pt x="57" y="333"/>
                  <a:pt x="51" y="339"/>
                  <a:pt x="43" y="339"/>
                </a:cubicBezTo>
                <a:lnTo>
                  <a:pt x="15" y="339"/>
                </a:lnTo>
                <a:cubicBezTo>
                  <a:pt x="6" y="339"/>
                  <a:pt x="0" y="333"/>
                  <a:pt x="0" y="324"/>
                </a:cubicBezTo>
                <a:lnTo>
                  <a:pt x="0" y="127"/>
                </a:lnTo>
                <a:cubicBezTo>
                  <a:pt x="0" y="56"/>
                  <a:pt x="57" y="0"/>
                  <a:pt x="127" y="0"/>
                </a:cubicBezTo>
                <a:cubicBezTo>
                  <a:pt x="161" y="0"/>
                  <a:pt x="192" y="14"/>
                  <a:pt x="218" y="37"/>
                </a:cubicBezTo>
                <a:cubicBezTo>
                  <a:pt x="243" y="62"/>
                  <a:pt x="254" y="93"/>
                  <a:pt x="254" y="127"/>
                </a:cubicBezTo>
                <a:lnTo>
                  <a:pt x="254" y="324"/>
                </a:lnTo>
                <a:cubicBezTo>
                  <a:pt x="254" y="333"/>
                  <a:pt x="249" y="339"/>
                  <a:pt x="240" y="33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46"/>
          <p:cNvSpPr/>
          <p:nvPr/>
        </p:nvSpPr>
        <p:spPr>
          <a:xfrm>
            <a:off x="8443800" y="8559720"/>
            <a:ext cx="60480" cy="20880"/>
          </a:xfrm>
          <a:custGeom>
            <a:avLst/>
            <a:gdLst/>
            <a:ahLst/>
            <a:rect l="l" t="t" r="r" b="b"/>
            <a:pathLst>
              <a:path w="86" h="30">
                <a:moveTo>
                  <a:pt x="71" y="29"/>
                </a:moveTo>
                <a:lnTo>
                  <a:pt x="14" y="29"/>
                </a:lnTo>
                <a:cubicBezTo>
                  <a:pt x="6" y="29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71" y="0"/>
                </a:lnTo>
                <a:cubicBezTo>
                  <a:pt x="79" y="0"/>
                  <a:pt x="85" y="6"/>
                  <a:pt x="85" y="14"/>
                </a:cubicBezTo>
                <a:cubicBezTo>
                  <a:pt x="85" y="23"/>
                  <a:pt x="79" y="29"/>
                  <a:pt x="71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7"/>
          <p:cNvSpPr/>
          <p:nvPr/>
        </p:nvSpPr>
        <p:spPr>
          <a:xfrm>
            <a:off x="8405640" y="8559720"/>
            <a:ext cx="57240" cy="77760"/>
          </a:xfrm>
          <a:custGeom>
            <a:avLst/>
            <a:gdLst/>
            <a:ahLst/>
            <a:rect l="l" t="t" r="r" b="b"/>
            <a:pathLst>
              <a:path w="85" h="114">
                <a:moveTo>
                  <a:pt x="42" y="113"/>
                </a:moveTo>
                <a:cubicBezTo>
                  <a:pt x="19" y="113"/>
                  <a:pt x="0" y="94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71"/>
                </a:lnTo>
                <a:cubicBezTo>
                  <a:pt x="28" y="79"/>
                  <a:pt x="34" y="85"/>
                  <a:pt x="42" y="85"/>
                </a:cubicBezTo>
                <a:cubicBezTo>
                  <a:pt x="51" y="85"/>
                  <a:pt x="56" y="79"/>
                  <a:pt x="56" y="71"/>
                </a:cubicBezTo>
                <a:lnTo>
                  <a:pt x="56" y="14"/>
                </a:lnTo>
                <a:cubicBezTo>
                  <a:pt x="56" y="6"/>
                  <a:pt x="62" y="0"/>
                  <a:pt x="70" y="0"/>
                </a:cubicBezTo>
                <a:cubicBezTo>
                  <a:pt x="79" y="0"/>
                  <a:pt x="84" y="6"/>
                  <a:pt x="84" y="14"/>
                </a:cubicBezTo>
                <a:lnTo>
                  <a:pt x="84" y="71"/>
                </a:lnTo>
                <a:cubicBezTo>
                  <a:pt x="84" y="94"/>
                  <a:pt x="65" y="113"/>
                  <a:pt x="42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48"/>
          <p:cNvSpPr/>
          <p:nvPr/>
        </p:nvSpPr>
        <p:spPr>
          <a:xfrm>
            <a:off x="8483760" y="8559720"/>
            <a:ext cx="56880" cy="77760"/>
          </a:xfrm>
          <a:custGeom>
            <a:avLst/>
            <a:gdLst/>
            <a:ahLst/>
            <a:rect l="l" t="t" r="r" b="b"/>
            <a:pathLst>
              <a:path w="85" h="114">
                <a:moveTo>
                  <a:pt x="42" y="113"/>
                </a:moveTo>
                <a:cubicBezTo>
                  <a:pt x="19" y="113"/>
                  <a:pt x="0" y="94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71"/>
                </a:lnTo>
                <a:cubicBezTo>
                  <a:pt x="28" y="79"/>
                  <a:pt x="34" y="85"/>
                  <a:pt x="42" y="85"/>
                </a:cubicBezTo>
                <a:cubicBezTo>
                  <a:pt x="51" y="85"/>
                  <a:pt x="56" y="79"/>
                  <a:pt x="56" y="71"/>
                </a:cubicBezTo>
                <a:lnTo>
                  <a:pt x="56" y="14"/>
                </a:lnTo>
                <a:cubicBezTo>
                  <a:pt x="56" y="6"/>
                  <a:pt x="62" y="0"/>
                  <a:pt x="70" y="0"/>
                </a:cubicBezTo>
                <a:cubicBezTo>
                  <a:pt x="79" y="0"/>
                  <a:pt x="84" y="6"/>
                  <a:pt x="84" y="14"/>
                </a:cubicBezTo>
                <a:lnTo>
                  <a:pt x="84" y="71"/>
                </a:lnTo>
                <a:cubicBezTo>
                  <a:pt x="84" y="94"/>
                  <a:pt x="64" y="113"/>
                  <a:pt x="42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9"/>
          <p:cNvSpPr/>
          <p:nvPr/>
        </p:nvSpPr>
        <p:spPr>
          <a:xfrm>
            <a:off x="8348760" y="8427960"/>
            <a:ext cx="20520" cy="115920"/>
          </a:xfrm>
          <a:custGeom>
            <a:avLst/>
            <a:gdLst/>
            <a:ahLst/>
            <a:rect l="l" t="t" r="r" b="b"/>
            <a:pathLst>
              <a:path w="29" h="170">
                <a:moveTo>
                  <a:pt x="14" y="169"/>
                </a:moveTo>
                <a:cubicBezTo>
                  <a:pt x="6" y="169"/>
                  <a:pt x="0" y="164"/>
                  <a:pt x="0" y="155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8" y="5"/>
                  <a:pt x="28" y="14"/>
                </a:cubicBezTo>
                <a:lnTo>
                  <a:pt x="28" y="155"/>
                </a:lnTo>
                <a:cubicBezTo>
                  <a:pt x="28" y="164"/>
                  <a:pt x="23" y="169"/>
                  <a:pt x="14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50"/>
          <p:cNvSpPr/>
          <p:nvPr/>
        </p:nvSpPr>
        <p:spPr>
          <a:xfrm>
            <a:off x="8578800" y="8427960"/>
            <a:ext cx="20520" cy="115920"/>
          </a:xfrm>
          <a:custGeom>
            <a:avLst/>
            <a:gdLst/>
            <a:ahLst/>
            <a:rect l="l" t="t" r="r" b="b"/>
            <a:pathLst>
              <a:path w="29" h="170">
                <a:moveTo>
                  <a:pt x="14" y="169"/>
                </a:moveTo>
                <a:cubicBezTo>
                  <a:pt x="5" y="169"/>
                  <a:pt x="0" y="164"/>
                  <a:pt x="0" y="155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8" y="5"/>
                  <a:pt x="28" y="14"/>
                </a:cubicBezTo>
                <a:lnTo>
                  <a:pt x="28" y="155"/>
                </a:lnTo>
                <a:cubicBezTo>
                  <a:pt x="28" y="164"/>
                  <a:pt x="22" y="169"/>
                  <a:pt x="14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51"/>
          <p:cNvSpPr/>
          <p:nvPr/>
        </p:nvSpPr>
        <p:spPr>
          <a:xfrm>
            <a:off x="8386920" y="8427960"/>
            <a:ext cx="174600" cy="20880"/>
          </a:xfrm>
          <a:custGeom>
            <a:avLst/>
            <a:gdLst/>
            <a:ahLst/>
            <a:rect l="l" t="t" r="r" b="b"/>
            <a:pathLst>
              <a:path w="255" h="29">
                <a:moveTo>
                  <a:pt x="240" y="28"/>
                </a:moveTo>
                <a:lnTo>
                  <a:pt x="15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240" y="0"/>
                </a:lnTo>
                <a:cubicBezTo>
                  <a:pt x="249" y="0"/>
                  <a:pt x="254" y="6"/>
                  <a:pt x="254" y="14"/>
                </a:cubicBezTo>
                <a:cubicBezTo>
                  <a:pt x="254" y="23"/>
                  <a:pt x="249" y="28"/>
                  <a:pt x="240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52"/>
          <p:cNvSpPr/>
          <p:nvPr/>
        </p:nvSpPr>
        <p:spPr>
          <a:xfrm>
            <a:off x="8386920" y="8332920"/>
            <a:ext cx="45720" cy="55440"/>
          </a:xfrm>
          <a:custGeom>
            <a:avLst/>
            <a:gdLst/>
            <a:ahLst/>
            <a:rect l="l" t="t" r="r" b="b"/>
            <a:pathLst>
              <a:path w="66" h="85">
                <a:moveTo>
                  <a:pt x="51" y="84"/>
                </a:moveTo>
                <a:cubicBezTo>
                  <a:pt x="46" y="84"/>
                  <a:pt x="43" y="82"/>
                  <a:pt x="40" y="79"/>
                </a:cubicBezTo>
                <a:lnTo>
                  <a:pt x="3" y="22"/>
                </a:lnTo>
                <a:cubicBezTo>
                  <a:pt x="0" y="17"/>
                  <a:pt x="0" y="8"/>
                  <a:pt x="6" y="3"/>
                </a:cubicBezTo>
                <a:cubicBezTo>
                  <a:pt x="12" y="0"/>
                  <a:pt x="20" y="0"/>
                  <a:pt x="26" y="5"/>
                </a:cubicBezTo>
                <a:lnTo>
                  <a:pt x="62" y="62"/>
                </a:lnTo>
                <a:cubicBezTo>
                  <a:pt x="65" y="67"/>
                  <a:pt x="65" y="76"/>
                  <a:pt x="60" y="82"/>
                </a:cubicBezTo>
                <a:cubicBezTo>
                  <a:pt x="57" y="84"/>
                  <a:pt x="54" y="84"/>
                  <a:pt x="51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53"/>
          <p:cNvSpPr/>
          <p:nvPr/>
        </p:nvSpPr>
        <p:spPr>
          <a:xfrm>
            <a:off x="8516880" y="8329680"/>
            <a:ext cx="44640" cy="61920"/>
          </a:xfrm>
          <a:custGeom>
            <a:avLst/>
            <a:gdLst/>
            <a:ahLst/>
            <a:rect l="l" t="t" r="r" b="b"/>
            <a:pathLst>
              <a:path w="66" h="91">
                <a:moveTo>
                  <a:pt x="17" y="90"/>
                </a:moveTo>
                <a:cubicBezTo>
                  <a:pt x="15" y="90"/>
                  <a:pt x="12" y="90"/>
                  <a:pt x="9" y="87"/>
                </a:cubicBezTo>
                <a:cubicBezTo>
                  <a:pt x="3" y="85"/>
                  <a:pt x="0" y="76"/>
                  <a:pt x="3" y="68"/>
                </a:cubicBezTo>
                <a:lnTo>
                  <a:pt x="37" y="8"/>
                </a:lnTo>
                <a:cubicBezTo>
                  <a:pt x="40" y="3"/>
                  <a:pt x="48" y="0"/>
                  <a:pt x="57" y="3"/>
                </a:cubicBezTo>
                <a:cubicBezTo>
                  <a:pt x="63" y="6"/>
                  <a:pt x="65" y="14"/>
                  <a:pt x="63" y="22"/>
                </a:cubicBezTo>
                <a:lnTo>
                  <a:pt x="29" y="82"/>
                </a:lnTo>
                <a:cubicBezTo>
                  <a:pt x="26" y="87"/>
                  <a:pt x="20" y="90"/>
                  <a:pt x="17" y="9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54"/>
          <p:cNvSpPr/>
          <p:nvPr/>
        </p:nvSpPr>
        <p:spPr>
          <a:xfrm>
            <a:off x="8483760" y="8388360"/>
            <a:ext cx="20520" cy="22320"/>
          </a:xfrm>
          <a:custGeom>
            <a:avLst/>
            <a:gdLst/>
            <a:ahLst/>
            <a:rect l="l" t="t" r="r" b="b"/>
            <a:pathLst>
              <a:path w="29" h="30">
                <a:moveTo>
                  <a:pt x="14" y="29"/>
                </a:moveTo>
                <a:cubicBezTo>
                  <a:pt x="5" y="29"/>
                  <a:pt x="0" y="24"/>
                  <a:pt x="0" y="15"/>
                </a:cubicBezTo>
                <a:cubicBezTo>
                  <a:pt x="0" y="7"/>
                  <a:pt x="5" y="0"/>
                  <a:pt x="14" y="0"/>
                </a:cubicBezTo>
                <a:lnTo>
                  <a:pt x="14" y="0"/>
                </a:lnTo>
                <a:cubicBezTo>
                  <a:pt x="22" y="0"/>
                  <a:pt x="28" y="7"/>
                  <a:pt x="28" y="15"/>
                </a:cubicBezTo>
                <a:cubicBezTo>
                  <a:pt x="28" y="24"/>
                  <a:pt x="22" y="29"/>
                  <a:pt x="14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55"/>
          <p:cNvSpPr/>
          <p:nvPr/>
        </p:nvSpPr>
        <p:spPr>
          <a:xfrm>
            <a:off x="8443800" y="8388360"/>
            <a:ext cx="20880" cy="22320"/>
          </a:xfrm>
          <a:custGeom>
            <a:avLst/>
            <a:gdLst/>
            <a:ahLst/>
            <a:rect l="l" t="t" r="r" b="b"/>
            <a:pathLst>
              <a:path w="29" h="30">
                <a:moveTo>
                  <a:pt x="14" y="29"/>
                </a:moveTo>
                <a:cubicBezTo>
                  <a:pt x="6" y="29"/>
                  <a:pt x="0" y="24"/>
                  <a:pt x="0" y="15"/>
                </a:cubicBezTo>
                <a:cubicBezTo>
                  <a:pt x="0" y="7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8" y="7"/>
                  <a:pt x="28" y="15"/>
                </a:cubicBezTo>
                <a:cubicBezTo>
                  <a:pt x="28" y="24"/>
                  <a:pt x="23" y="29"/>
                  <a:pt x="14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56"/>
          <p:cNvSpPr/>
          <p:nvPr/>
        </p:nvSpPr>
        <p:spPr>
          <a:xfrm>
            <a:off x="4519440" y="8332920"/>
            <a:ext cx="260640" cy="307800"/>
          </a:xfrm>
          <a:custGeom>
            <a:avLst/>
            <a:gdLst/>
            <a:ahLst/>
            <a:rect l="l" t="t" r="r" b="b"/>
            <a:pathLst>
              <a:path w="382" h="452">
                <a:moveTo>
                  <a:pt x="240" y="451"/>
                </a:moveTo>
                <a:cubicBezTo>
                  <a:pt x="240" y="451"/>
                  <a:pt x="237" y="451"/>
                  <a:pt x="240" y="451"/>
                </a:cubicBezTo>
                <a:lnTo>
                  <a:pt x="68" y="423"/>
                </a:lnTo>
                <a:cubicBezTo>
                  <a:pt x="62" y="423"/>
                  <a:pt x="57" y="417"/>
                  <a:pt x="57" y="409"/>
                </a:cubicBezTo>
                <a:lnTo>
                  <a:pt x="57" y="321"/>
                </a:lnTo>
                <a:cubicBezTo>
                  <a:pt x="57" y="302"/>
                  <a:pt x="48" y="285"/>
                  <a:pt x="40" y="276"/>
                </a:cubicBezTo>
                <a:cubicBezTo>
                  <a:pt x="14" y="245"/>
                  <a:pt x="0" y="209"/>
                  <a:pt x="0" y="169"/>
                </a:cubicBezTo>
                <a:cubicBezTo>
                  <a:pt x="0" y="76"/>
                  <a:pt x="75" y="0"/>
                  <a:pt x="169" y="0"/>
                </a:cubicBezTo>
                <a:cubicBezTo>
                  <a:pt x="262" y="0"/>
                  <a:pt x="339" y="76"/>
                  <a:pt x="339" y="169"/>
                </a:cubicBezTo>
                <a:lnTo>
                  <a:pt x="339" y="194"/>
                </a:lnTo>
                <a:lnTo>
                  <a:pt x="378" y="276"/>
                </a:lnTo>
                <a:cubicBezTo>
                  <a:pt x="381" y="282"/>
                  <a:pt x="381" y="285"/>
                  <a:pt x="378" y="290"/>
                </a:cubicBezTo>
                <a:cubicBezTo>
                  <a:pt x="375" y="296"/>
                  <a:pt x="370" y="296"/>
                  <a:pt x="367" y="296"/>
                </a:cubicBezTo>
                <a:lnTo>
                  <a:pt x="339" y="296"/>
                </a:lnTo>
                <a:lnTo>
                  <a:pt x="339" y="364"/>
                </a:lnTo>
                <a:cubicBezTo>
                  <a:pt x="339" y="372"/>
                  <a:pt x="336" y="381"/>
                  <a:pt x="327" y="386"/>
                </a:cubicBezTo>
                <a:cubicBezTo>
                  <a:pt x="322" y="392"/>
                  <a:pt x="313" y="395"/>
                  <a:pt x="305" y="392"/>
                </a:cubicBezTo>
                <a:lnTo>
                  <a:pt x="254" y="384"/>
                </a:lnTo>
                <a:lnTo>
                  <a:pt x="254" y="437"/>
                </a:lnTo>
                <a:cubicBezTo>
                  <a:pt x="254" y="440"/>
                  <a:pt x="251" y="446"/>
                  <a:pt x="248" y="448"/>
                </a:cubicBezTo>
                <a:cubicBezTo>
                  <a:pt x="246" y="451"/>
                  <a:pt x="243" y="451"/>
                  <a:pt x="240" y="451"/>
                </a:cubicBezTo>
                <a:close/>
                <a:moveTo>
                  <a:pt x="85" y="398"/>
                </a:moveTo>
                <a:lnTo>
                  <a:pt x="226" y="420"/>
                </a:lnTo>
                <a:lnTo>
                  <a:pt x="226" y="367"/>
                </a:lnTo>
                <a:cubicBezTo>
                  <a:pt x="226" y="364"/>
                  <a:pt x="229" y="358"/>
                  <a:pt x="231" y="355"/>
                </a:cubicBezTo>
                <a:cubicBezTo>
                  <a:pt x="234" y="352"/>
                  <a:pt x="240" y="352"/>
                  <a:pt x="243" y="352"/>
                </a:cubicBezTo>
                <a:lnTo>
                  <a:pt x="310" y="364"/>
                </a:lnTo>
                <a:lnTo>
                  <a:pt x="310" y="282"/>
                </a:lnTo>
                <a:cubicBezTo>
                  <a:pt x="310" y="273"/>
                  <a:pt x="316" y="268"/>
                  <a:pt x="325" y="268"/>
                </a:cubicBezTo>
                <a:lnTo>
                  <a:pt x="344" y="268"/>
                </a:lnTo>
                <a:lnTo>
                  <a:pt x="313" y="203"/>
                </a:lnTo>
                <a:cubicBezTo>
                  <a:pt x="313" y="200"/>
                  <a:pt x="310" y="200"/>
                  <a:pt x="310" y="197"/>
                </a:cubicBezTo>
                <a:lnTo>
                  <a:pt x="310" y="169"/>
                </a:lnTo>
                <a:cubicBezTo>
                  <a:pt x="310" y="90"/>
                  <a:pt x="248" y="28"/>
                  <a:pt x="169" y="28"/>
                </a:cubicBezTo>
                <a:cubicBezTo>
                  <a:pt x="90" y="28"/>
                  <a:pt x="28" y="90"/>
                  <a:pt x="28" y="169"/>
                </a:cubicBezTo>
                <a:cubicBezTo>
                  <a:pt x="28" y="203"/>
                  <a:pt x="40" y="234"/>
                  <a:pt x="59" y="259"/>
                </a:cubicBezTo>
                <a:cubicBezTo>
                  <a:pt x="76" y="279"/>
                  <a:pt x="85" y="302"/>
                  <a:pt x="85" y="321"/>
                </a:cubicBezTo>
                <a:lnTo>
                  <a:pt x="85" y="3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57"/>
          <p:cNvSpPr/>
          <p:nvPr/>
        </p:nvSpPr>
        <p:spPr>
          <a:xfrm>
            <a:off x="4579920" y="8388360"/>
            <a:ext cx="95400" cy="96840"/>
          </a:xfrm>
          <a:custGeom>
            <a:avLst/>
            <a:gdLst/>
            <a:ahLst/>
            <a:rect l="l" t="t" r="r" b="b"/>
            <a:pathLst>
              <a:path w="142" h="143">
                <a:moveTo>
                  <a:pt x="127" y="142"/>
                </a:moveTo>
                <a:lnTo>
                  <a:pt x="14" y="142"/>
                </a:lnTo>
                <a:cubicBezTo>
                  <a:pt x="5" y="142"/>
                  <a:pt x="0" y="136"/>
                  <a:pt x="0" y="127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lnTo>
                  <a:pt x="127" y="0"/>
                </a:lnTo>
                <a:cubicBezTo>
                  <a:pt x="135" y="0"/>
                  <a:pt x="141" y="6"/>
                  <a:pt x="141" y="15"/>
                </a:cubicBezTo>
                <a:lnTo>
                  <a:pt x="141" y="127"/>
                </a:lnTo>
                <a:cubicBezTo>
                  <a:pt x="141" y="136"/>
                  <a:pt x="135" y="142"/>
                  <a:pt x="127" y="142"/>
                </a:cubicBezTo>
                <a:close/>
                <a:moveTo>
                  <a:pt x="28" y="113"/>
                </a:moveTo>
                <a:lnTo>
                  <a:pt x="113" y="113"/>
                </a:lnTo>
                <a:lnTo>
                  <a:pt x="113" y="29"/>
                </a:lnTo>
                <a:lnTo>
                  <a:pt x="28" y="29"/>
                </a:lnTo>
                <a:lnTo>
                  <a:pt x="28" y="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58"/>
          <p:cNvSpPr/>
          <p:nvPr/>
        </p:nvSpPr>
        <p:spPr>
          <a:xfrm>
            <a:off x="4597560" y="8367840"/>
            <a:ext cx="20520" cy="39600"/>
          </a:xfrm>
          <a:custGeom>
            <a:avLst/>
            <a:gdLst/>
            <a:ahLst/>
            <a:rect l="l" t="t" r="r" b="b"/>
            <a:pathLst>
              <a:path w="29" h="58">
                <a:moveTo>
                  <a:pt x="14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43"/>
                </a:lnTo>
                <a:cubicBezTo>
                  <a:pt x="28" y="51"/>
                  <a:pt x="23" y="57"/>
                  <a:pt x="14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59"/>
          <p:cNvSpPr/>
          <p:nvPr/>
        </p:nvSpPr>
        <p:spPr>
          <a:xfrm>
            <a:off x="4637160" y="8367840"/>
            <a:ext cx="20520" cy="39600"/>
          </a:xfrm>
          <a:custGeom>
            <a:avLst/>
            <a:gdLst/>
            <a:ahLst/>
            <a:rect l="l" t="t" r="r" b="b"/>
            <a:pathLst>
              <a:path w="30" h="58">
                <a:moveTo>
                  <a:pt x="15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cubicBezTo>
                  <a:pt x="23" y="0"/>
                  <a:pt x="29" y="6"/>
                  <a:pt x="29" y="14"/>
                </a:cubicBezTo>
                <a:lnTo>
                  <a:pt x="29" y="43"/>
                </a:lnTo>
                <a:cubicBezTo>
                  <a:pt x="29" y="51"/>
                  <a:pt x="23" y="57"/>
                  <a:pt x="15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60"/>
          <p:cNvSpPr/>
          <p:nvPr/>
        </p:nvSpPr>
        <p:spPr>
          <a:xfrm>
            <a:off x="4597560" y="8464680"/>
            <a:ext cx="20520" cy="37800"/>
          </a:xfrm>
          <a:custGeom>
            <a:avLst/>
            <a:gdLst/>
            <a:ahLst/>
            <a:rect l="l" t="t" r="r" b="b"/>
            <a:pathLst>
              <a:path w="29" h="58">
                <a:moveTo>
                  <a:pt x="14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43"/>
                </a:lnTo>
                <a:cubicBezTo>
                  <a:pt x="28" y="51"/>
                  <a:pt x="23" y="57"/>
                  <a:pt x="14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61"/>
          <p:cNvSpPr/>
          <p:nvPr/>
        </p:nvSpPr>
        <p:spPr>
          <a:xfrm>
            <a:off x="4637160" y="8464680"/>
            <a:ext cx="20520" cy="37800"/>
          </a:xfrm>
          <a:custGeom>
            <a:avLst/>
            <a:gdLst/>
            <a:ahLst/>
            <a:rect l="l" t="t" r="r" b="b"/>
            <a:pathLst>
              <a:path w="30" h="58">
                <a:moveTo>
                  <a:pt x="15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cubicBezTo>
                  <a:pt x="23" y="0"/>
                  <a:pt x="29" y="6"/>
                  <a:pt x="29" y="14"/>
                </a:cubicBezTo>
                <a:lnTo>
                  <a:pt x="29" y="43"/>
                </a:lnTo>
                <a:cubicBezTo>
                  <a:pt x="29" y="51"/>
                  <a:pt x="23" y="57"/>
                  <a:pt x="15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62"/>
          <p:cNvSpPr/>
          <p:nvPr/>
        </p:nvSpPr>
        <p:spPr>
          <a:xfrm>
            <a:off x="4559400" y="8445600"/>
            <a:ext cx="3816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2" y="0"/>
                </a:lnTo>
                <a:cubicBezTo>
                  <a:pt x="50" y="0"/>
                  <a:pt x="56" y="6"/>
                  <a:pt x="56" y="14"/>
                </a:cubicBezTo>
                <a:cubicBezTo>
                  <a:pt x="56" y="23"/>
                  <a:pt x="50" y="28"/>
                  <a:pt x="4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63"/>
          <p:cNvSpPr/>
          <p:nvPr/>
        </p:nvSpPr>
        <p:spPr>
          <a:xfrm>
            <a:off x="4559400" y="8407440"/>
            <a:ext cx="3816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2" y="0"/>
                </a:lnTo>
                <a:cubicBezTo>
                  <a:pt x="50" y="0"/>
                  <a:pt x="56" y="6"/>
                  <a:pt x="56" y="14"/>
                </a:cubicBezTo>
                <a:cubicBezTo>
                  <a:pt x="56" y="23"/>
                  <a:pt x="50" y="28"/>
                  <a:pt x="4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64"/>
          <p:cNvSpPr/>
          <p:nvPr/>
        </p:nvSpPr>
        <p:spPr>
          <a:xfrm>
            <a:off x="4654440" y="8445600"/>
            <a:ext cx="3816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2" y="0"/>
                </a:lnTo>
                <a:cubicBezTo>
                  <a:pt x="50" y="0"/>
                  <a:pt x="56" y="6"/>
                  <a:pt x="56" y="14"/>
                </a:cubicBezTo>
                <a:cubicBezTo>
                  <a:pt x="56" y="23"/>
                  <a:pt x="50" y="28"/>
                  <a:pt x="4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65"/>
          <p:cNvSpPr/>
          <p:nvPr/>
        </p:nvSpPr>
        <p:spPr>
          <a:xfrm>
            <a:off x="4654440" y="8407440"/>
            <a:ext cx="3816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2" y="0"/>
                </a:lnTo>
                <a:cubicBezTo>
                  <a:pt x="50" y="0"/>
                  <a:pt x="56" y="6"/>
                  <a:pt x="56" y="14"/>
                </a:cubicBezTo>
                <a:cubicBezTo>
                  <a:pt x="56" y="23"/>
                  <a:pt x="50" y="28"/>
                  <a:pt x="4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66"/>
          <p:cNvSpPr/>
          <p:nvPr/>
        </p:nvSpPr>
        <p:spPr>
          <a:xfrm>
            <a:off x="2300400" y="3946680"/>
            <a:ext cx="77760" cy="60120"/>
          </a:xfrm>
          <a:custGeom>
            <a:avLst/>
            <a:gdLst/>
            <a:ahLst/>
            <a:rect l="l" t="t" r="r" b="b"/>
            <a:pathLst>
              <a:path w="113" h="86">
                <a:moveTo>
                  <a:pt x="56" y="85"/>
                </a:moveTo>
                <a:cubicBezTo>
                  <a:pt x="25" y="85"/>
                  <a:pt x="0" y="65"/>
                  <a:pt x="0" y="43"/>
                </a:cubicBezTo>
                <a:cubicBezTo>
                  <a:pt x="0" y="20"/>
                  <a:pt x="25" y="0"/>
                  <a:pt x="56" y="0"/>
                </a:cubicBezTo>
                <a:cubicBezTo>
                  <a:pt x="87" y="0"/>
                  <a:pt x="112" y="20"/>
                  <a:pt x="112" y="43"/>
                </a:cubicBezTo>
                <a:cubicBezTo>
                  <a:pt x="112" y="65"/>
                  <a:pt x="87" y="85"/>
                  <a:pt x="56" y="85"/>
                </a:cubicBezTo>
                <a:close/>
                <a:moveTo>
                  <a:pt x="56" y="29"/>
                </a:moveTo>
                <a:cubicBezTo>
                  <a:pt x="39" y="29"/>
                  <a:pt x="28" y="37"/>
                  <a:pt x="28" y="43"/>
                </a:cubicBezTo>
                <a:cubicBezTo>
                  <a:pt x="28" y="48"/>
                  <a:pt x="39" y="57"/>
                  <a:pt x="56" y="57"/>
                </a:cubicBezTo>
                <a:cubicBezTo>
                  <a:pt x="73" y="57"/>
                  <a:pt x="84" y="48"/>
                  <a:pt x="84" y="43"/>
                </a:cubicBezTo>
                <a:cubicBezTo>
                  <a:pt x="84" y="37"/>
                  <a:pt x="73" y="29"/>
                  <a:pt x="56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67"/>
          <p:cNvSpPr/>
          <p:nvPr/>
        </p:nvSpPr>
        <p:spPr>
          <a:xfrm>
            <a:off x="2357280" y="3851280"/>
            <a:ext cx="59040" cy="57240"/>
          </a:xfrm>
          <a:custGeom>
            <a:avLst/>
            <a:gdLst/>
            <a:ahLst/>
            <a:rect l="l" t="t" r="r" b="b"/>
            <a:pathLst>
              <a:path w="89" h="83">
                <a:moveTo>
                  <a:pt x="74" y="82"/>
                </a:moveTo>
                <a:cubicBezTo>
                  <a:pt x="65" y="82"/>
                  <a:pt x="60" y="77"/>
                  <a:pt x="60" y="68"/>
                </a:cubicBezTo>
                <a:cubicBezTo>
                  <a:pt x="60" y="37"/>
                  <a:pt x="15" y="29"/>
                  <a:pt x="15" y="29"/>
                </a:cubicBezTo>
                <a:cubicBezTo>
                  <a:pt x="6" y="26"/>
                  <a:pt x="0" y="20"/>
                  <a:pt x="3" y="12"/>
                </a:cubicBezTo>
                <a:cubicBezTo>
                  <a:pt x="6" y="3"/>
                  <a:pt x="12" y="0"/>
                  <a:pt x="20" y="0"/>
                </a:cubicBezTo>
                <a:cubicBezTo>
                  <a:pt x="43" y="6"/>
                  <a:pt x="88" y="26"/>
                  <a:pt x="88" y="68"/>
                </a:cubicBezTo>
                <a:cubicBezTo>
                  <a:pt x="88" y="77"/>
                  <a:pt x="82" y="82"/>
                  <a:pt x="74" y="8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68"/>
          <p:cNvSpPr/>
          <p:nvPr/>
        </p:nvSpPr>
        <p:spPr>
          <a:xfrm>
            <a:off x="2357280" y="3851280"/>
            <a:ext cx="20880" cy="135000"/>
          </a:xfrm>
          <a:custGeom>
            <a:avLst/>
            <a:gdLst/>
            <a:ahLst/>
            <a:rect l="l" t="t" r="r" b="b"/>
            <a:pathLst>
              <a:path w="29" h="199">
                <a:moveTo>
                  <a:pt x="14" y="198"/>
                </a:moveTo>
                <a:lnTo>
                  <a:pt x="14" y="198"/>
                </a:lnTo>
                <a:cubicBezTo>
                  <a:pt x="6" y="198"/>
                  <a:pt x="0" y="192"/>
                  <a:pt x="0" y="184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8" y="6"/>
                  <a:pt x="28" y="15"/>
                </a:cubicBezTo>
                <a:lnTo>
                  <a:pt x="28" y="184"/>
                </a:lnTo>
                <a:cubicBezTo>
                  <a:pt x="28" y="192"/>
                  <a:pt x="23" y="198"/>
                  <a:pt x="14" y="19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69"/>
          <p:cNvSpPr/>
          <p:nvPr/>
        </p:nvSpPr>
        <p:spPr>
          <a:xfrm>
            <a:off x="2205000" y="3814920"/>
            <a:ext cx="308160" cy="230040"/>
          </a:xfrm>
          <a:custGeom>
            <a:avLst/>
            <a:gdLst/>
            <a:ahLst/>
            <a:rect l="l" t="t" r="r" b="b"/>
            <a:pathLst>
              <a:path w="452" h="340">
                <a:moveTo>
                  <a:pt x="437" y="339"/>
                </a:moveTo>
                <a:lnTo>
                  <a:pt x="14" y="339"/>
                </a:lnTo>
                <a:cubicBezTo>
                  <a:pt x="5" y="339"/>
                  <a:pt x="0" y="333"/>
                  <a:pt x="0" y="324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437" y="0"/>
                </a:lnTo>
                <a:cubicBezTo>
                  <a:pt x="445" y="0"/>
                  <a:pt x="451" y="6"/>
                  <a:pt x="451" y="14"/>
                </a:cubicBezTo>
                <a:lnTo>
                  <a:pt x="451" y="324"/>
                </a:lnTo>
                <a:cubicBezTo>
                  <a:pt x="451" y="333"/>
                  <a:pt x="445" y="339"/>
                  <a:pt x="437" y="339"/>
                </a:cubicBezTo>
                <a:close/>
                <a:moveTo>
                  <a:pt x="28" y="310"/>
                </a:moveTo>
                <a:lnTo>
                  <a:pt x="423" y="310"/>
                </a:lnTo>
                <a:lnTo>
                  <a:pt x="423" y="28"/>
                </a:lnTo>
                <a:lnTo>
                  <a:pt x="28" y="28"/>
                </a:lnTo>
                <a:lnTo>
                  <a:pt x="28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70"/>
          <p:cNvSpPr/>
          <p:nvPr/>
        </p:nvSpPr>
        <p:spPr>
          <a:xfrm>
            <a:off x="2243160" y="3776760"/>
            <a:ext cx="230040" cy="47520"/>
          </a:xfrm>
          <a:custGeom>
            <a:avLst/>
            <a:gdLst/>
            <a:ahLst/>
            <a:rect l="l" t="t" r="r" b="b"/>
            <a:pathLst>
              <a:path w="340" h="71">
                <a:moveTo>
                  <a:pt x="339" y="70"/>
                </a:moveTo>
                <a:lnTo>
                  <a:pt x="310" y="70"/>
                </a:lnTo>
                <a:lnTo>
                  <a:pt x="310" y="28"/>
                </a:lnTo>
                <a:lnTo>
                  <a:pt x="28" y="28"/>
                </a:lnTo>
                <a:lnTo>
                  <a:pt x="28" y="70"/>
                </a:lnTo>
                <a:lnTo>
                  <a:pt x="0" y="70"/>
                </a:ln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324" y="0"/>
                </a:lnTo>
                <a:cubicBezTo>
                  <a:pt x="333" y="0"/>
                  <a:pt x="339" y="5"/>
                  <a:pt x="339" y="14"/>
                </a:cubicBezTo>
                <a:lnTo>
                  <a:pt x="339" y="7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71"/>
          <p:cNvSpPr/>
          <p:nvPr/>
        </p:nvSpPr>
        <p:spPr>
          <a:xfrm>
            <a:off x="2282760" y="3736800"/>
            <a:ext cx="152640" cy="49320"/>
          </a:xfrm>
          <a:custGeom>
            <a:avLst/>
            <a:gdLst/>
            <a:ahLst/>
            <a:rect l="l" t="t" r="r" b="b"/>
            <a:pathLst>
              <a:path w="227" h="72">
                <a:moveTo>
                  <a:pt x="226" y="71"/>
                </a:moveTo>
                <a:lnTo>
                  <a:pt x="198" y="71"/>
                </a:lnTo>
                <a:lnTo>
                  <a:pt x="198" y="28"/>
                </a:lnTo>
                <a:lnTo>
                  <a:pt x="29" y="28"/>
                </a:lnTo>
                <a:lnTo>
                  <a:pt x="29" y="71"/>
                </a:lnTo>
                <a:lnTo>
                  <a:pt x="0" y="71"/>
                </a:ln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lnTo>
                  <a:pt x="212" y="0"/>
                </a:lnTo>
                <a:cubicBezTo>
                  <a:pt x="221" y="0"/>
                  <a:pt x="226" y="6"/>
                  <a:pt x="226" y="14"/>
                </a:cubicBezTo>
                <a:lnTo>
                  <a:pt x="226" y="7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72"/>
          <p:cNvSpPr/>
          <p:nvPr/>
        </p:nvSpPr>
        <p:spPr>
          <a:xfrm>
            <a:off x="2970360" y="3755880"/>
            <a:ext cx="191880" cy="268560"/>
          </a:xfrm>
          <a:custGeom>
            <a:avLst/>
            <a:gdLst/>
            <a:ahLst/>
            <a:rect l="l" t="t" r="r" b="b"/>
            <a:pathLst>
              <a:path w="283" h="396">
                <a:moveTo>
                  <a:pt x="254" y="395"/>
                </a:moveTo>
                <a:lnTo>
                  <a:pt x="29" y="395"/>
                </a:lnTo>
                <a:cubicBezTo>
                  <a:pt x="12" y="395"/>
                  <a:pt x="0" y="384"/>
                  <a:pt x="0" y="367"/>
                </a:cubicBezTo>
                <a:lnTo>
                  <a:pt x="0" y="29"/>
                </a:lnTo>
                <a:cubicBezTo>
                  <a:pt x="0" y="12"/>
                  <a:pt x="12" y="0"/>
                  <a:pt x="29" y="0"/>
                </a:cubicBezTo>
                <a:lnTo>
                  <a:pt x="254" y="0"/>
                </a:lnTo>
                <a:cubicBezTo>
                  <a:pt x="271" y="0"/>
                  <a:pt x="282" y="12"/>
                  <a:pt x="282" y="29"/>
                </a:cubicBezTo>
                <a:lnTo>
                  <a:pt x="282" y="367"/>
                </a:lnTo>
                <a:cubicBezTo>
                  <a:pt x="282" y="384"/>
                  <a:pt x="271" y="395"/>
                  <a:pt x="254" y="395"/>
                </a:cubicBezTo>
                <a:close/>
                <a:moveTo>
                  <a:pt x="29" y="29"/>
                </a:moveTo>
                <a:lnTo>
                  <a:pt x="29" y="367"/>
                </a:lnTo>
                <a:lnTo>
                  <a:pt x="254" y="367"/>
                </a:lnTo>
                <a:lnTo>
                  <a:pt x="254" y="29"/>
                </a:lnTo>
                <a:lnTo>
                  <a:pt x="2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73"/>
          <p:cNvSpPr/>
          <p:nvPr/>
        </p:nvSpPr>
        <p:spPr>
          <a:xfrm>
            <a:off x="3179880" y="3780000"/>
            <a:ext cx="98280" cy="223560"/>
          </a:xfrm>
          <a:custGeom>
            <a:avLst/>
            <a:gdLst/>
            <a:ahLst/>
            <a:rect l="l" t="t" r="r" b="b"/>
            <a:pathLst>
              <a:path w="145" h="331">
                <a:moveTo>
                  <a:pt x="17" y="328"/>
                </a:moveTo>
                <a:cubicBezTo>
                  <a:pt x="11" y="328"/>
                  <a:pt x="6" y="324"/>
                  <a:pt x="3" y="316"/>
                </a:cubicBezTo>
                <a:cubicBezTo>
                  <a:pt x="0" y="307"/>
                  <a:pt x="6" y="302"/>
                  <a:pt x="11" y="299"/>
                </a:cubicBezTo>
                <a:cubicBezTo>
                  <a:pt x="70" y="282"/>
                  <a:pt x="113" y="226"/>
                  <a:pt x="113" y="164"/>
                </a:cubicBezTo>
                <a:cubicBezTo>
                  <a:pt x="113" y="102"/>
                  <a:pt x="70" y="45"/>
                  <a:pt x="11" y="28"/>
                </a:cubicBezTo>
                <a:cubicBezTo>
                  <a:pt x="3" y="26"/>
                  <a:pt x="0" y="17"/>
                  <a:pt x="3" y="11"/>
                </a:cubicBezTo>
                <a:cubicBezTo>
                  <a:pt x="6" y="3"/>
                  <a:pt x="14" y="0"/>
                  <a:pt x="20" y="3"/>
                </a:cubicBezTo>
                <a:cubicBezTo>
                  <a:pt x="93" y="23"/>
                  <a:pt x="144" y="90"/>
                  <a:pt x="144" y="167"/>
                </a:cubicBezTo>
                <a:cubicBezTo>
                  <a:pt x="144" y="243"/>
                  <a:pt x="93" y="308"/>
                  <a:pt x="20" y="330"/>
                </a:cubicBezTo>
                <a:cubicBezTo>
                  <a:pt x="20" y="328"/>
                  <a:pt x="17" y="328"/>
                  <a:pt x="17" y="3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74"/>
          <p:cNvSpPr/>
          <p:nvPr/>
        </p:nvSpPr>
        <p:spPr>
          <a:xfrm>
            <a:off x="3179880" y="3857760"/>
            <a:ext cx="38160" cy="74520"/>
          </a:xfrm>
          <a:custGeom>
            <a:avLst/>
            <a:gdLst/>
            <a:ahLst/>
            <a:rect l="l" t="t" r="r" b="b"/>
            <a:pathLst>
              <a:path w="57" h="111">
                <a:moveTo>
                  <a:pt x="17" y="104"/>
                </a:moveTo>
                <a:cubicBezTo>
                  <a:pt x="11" y="104"/>
                  <a:pt x="6" y="102"/>
                  <a:pt x="3" y="96"/>
                </a:cubicBezTo>
                <a:cubicBezTo>
                  <a:pt x="0" y="88"/>
                  <a:pt x="3" y="82"/>
                  <a:pt x="11" y="79"/>
                </a:cubicBezTo>
                <a:cubicBezTo>
                  <a:pt x="22" y="76"/>
                  <a:pt x="31" y="65"/>
                  <a:pt x="31" y="54"/>
                </a:cubicBezTo>
                <a:cubicBezTo>
                  <a:pt x="31" y="42"/>
                  <a:pt x="22" y="31"/>
                  <a:pt x="11" y="28"/>
                </a:cubicBezTo>
                <a:cubicBezTo>
                  <a:pt x="3" y="25"/>
                  <a:pt x="0" y="17"/>
                  <a:pt x="3" y="11"/>
                </a:cubicBezTo>
                <a:cubicBezTo>
                  <a:pt x="6" y="3"/>
                  <a:pt x="14" y="0"/>
                  <a:pt x="20" y="3"/>
                </a:cubicBezTo>
                <a:cubicBezTo>
                  <a:pt x="42" y="11"/>
                  <a:pt x="56" y="30"/>
                  <a:pt x="56" y="56"/>
                </a:cubicBezTo>
                <a:cubicBezTo>
                  <a:pt x="56" y="81"/>
                  <a:pt x="42" y="102"/>
                  <a:pt x="20" y="110"/>
                </a:cubicBezTo>
                <a:cubicBezTo>
                  <a:pt x="20" y="104"/>
                  <a:pt x="20" y="104"/>
                  <a:pt x="17" y="10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75"/>
          <p:cNvSpPr/>
          <p:nvPr/>
        </p:nvSpPr>
        <p:spPr>
          <a:xfrm>
            <a:off x="3009960" y="3911760"/>
            <a:ext cx="77760" cy="58680"/>
          </a:xfrm>
          <a:custGeom>
            <a:avLst/>
            <a:gdLst/>
            <a:ahLst/>
            <a:rect l="l" t="t" r="r" b="b"/>
            <a:pathLst>
              <a:path w="114" h="86">
                <a:moveTo>
                  <a:pt x="56" y="85"/>
                </a:moveTo>
                <a:cubicBezTo>
                  <a:pt x="25" y="85"/>
                  <a:pt x="0" y="64"/>
                  <a:pt x="0" y="42"/>
                </a:cubicBezTo>
                <a:cubicBezTo>
                  <a:pt x="0" y="19"/>
                  <a:pt x="25" y="0"/>
                  <a:pt x="56" y="0"/>
                </a:cubicBezTo>
                <a:cubicBezTo>
                  <a:pt x="87" y="0"/>
                  <a:pt x="113" y="19"/>
                  <a:pt x="113" y="42"/>
                </a:cubicBezTo>
                <a:cubicBezTo>
                  <a:pt x="113" y="64"/>
                  <a:pt x="87" y="85"/>
                  <a:pt x="56" y="85"/>
                </a:cubicBezTo>
                <a:close/>
                <a:moveTo>
                  <a:pt x="56" y="28"/>
                </a:moveTo>
                <a:cubicBezTo>
                  <a:pt x="39" y="28"/>
                  <a:pt x="28" y="36"/>
                  <a:pt x="28" y="42"/>
                </a:cubicBezTo>
                <a:cubicBezTo>
                  <a:pt x="28" y="47"/>
                  <a:pt x="39" y="56"/>
                  <a:pt x="56" y="56"/>
                </a:cubicBezTo>
                <a:cubicBezTo>
                  <a:pt x="73" y="56"/>
                  <a:pt x="84" y="47"/>
                  <a:pt x="84" y="42"/>
                </a:cubicBezTo>
                <a:cubicBezTo>
                  <a:pt x="84" y="36"/>
                  <a:pt x="73" y="28"/>
                  <a:pt x="5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76"/>
          <p:cNvSpPr/>
          <p:nvPr/>
        </p:nvSpPr>
        <p:spPr>
          <a:xfrm>
            <a:off x="3065400" y="3814920"/>
            <a:ext cx="60480" cy="56880"/>
          </a:xfrm>
          <a:custGeom>
            <a:avLst/>
            <a:gdLst/>
            <a:ahLst/>
            <a:rect l="l" t="t" r="r" b="b"/>
            <a:pathLst>
              <a:path w="88" h="83">
                <a:moveTo>
                  <a:pt x="73" y="82"/>
                </a:moveTo>
                <a:cubicBezTo>
                  <a:pt x="64" y="82"/>
                  <a:pt x="59" y="76"/>
                  <a:pt x="59" y="68"/>
                </a:cubicBezTo>
                <a:cubicBezTo>
                  <a:pt x="59" y="37"/>
                  <a:pt x="14" y="28"/>
                  <a:pt x="14" y="28"/>
                </a:cubicBezTo>
                <a:cubicBezTo>
                  <a:pt x="5" y="25"/>
                  <a:pt x="0" y="20"/>
                  <a:pt x="2" y="11"/>
                </a:cubicBezTo>
                <a:cubicBezTo>
                  <a:pt x="5" y="3"/>
                  <a:pt x="11" y="0"/>
                  <a:pt x="19" y="0"/>
                </a:cubicBezTo>
                <a:cubicBezTo>
                  <a:pt x="42" y="6"/>
                  <a:pt x="87" y="25"/>
                  <a:pt x="87" y="68"/>
                </a:cubicBezTo>
                <a:cubicBezTo>
                  <a:pt x="87" y="76"/>
                  <a:pt x="81" y="82"/>
                  <a:pt x="73" y="8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77"/>
          <p:cNvSpPr/>
          <p:nvPr/>
        </p:nvSpPr>
        <p:spPr>
          <a:xfrm>
            <a:off x="3065400" y="3814920"/>
            <a:ext cx="22320" cy="134640"/>
          </a:xfrm>
          <a:custGeom>
            <a:avLst/>
            <a:gdLst/>
            <a:ahLst/>
            <a:rect l="l" t="t" r="r" b="b"/>
            <a:pathLst>
              <a:path w="30" h="198">
                <a:moveTo>
                  <a:pt x="15" y="197"/>
                </a:moveTo>
                <a:lnTo>
                  <a:pt x="15" y="197"/>
                </a:ln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lnTo>
                  <a:pt x="15" y="0"/>
                </a:lnTo>
                <a:cubicBezTo>
                  <a:pt x="23" y="0"/>
                  <a:pt x="29" y="6"/>
                  <a:pt x="29" y="14"/>
                </a:cubicBezTo>
                <a:lnTo>
                  <a:pt x="29" y="183"/>
                </a:lnTo>
                <a:cubicBezTo>
                  <a:pt x="29" y="192"/>
                  <a:pt x="23" y="197"/>
                  <a:pt x="15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78"/>
          <p:cNvSpPr/>
          <p:nvPr/>
        </p:nvSpPr>
        <p:spPr>
          <a:xfrm>
            <a:off x="2205000" y="2992320"/>
            <a:ext cx="289080" cy="117720"/>
          </a:xfrm>
          <a:custGeom>
            <a:avLst/>
            <a:gdLst/>
            <a:ahLst/>
            <a:rect l="l" t="t" r="r" b="b"/>
            <a:pathLst>
              <a:path w="427" h="170">
                <a:moveTo>
                  <a:pt x="409" y="169"/>
                </a:moveTo>
                <a:lnTo>
                  <a:pt x="14" y="169"/>
                </a:lnTo>
                <a:cubicBezTo>
                  <a:pt x="5" y="169"/>
                  <a:pt x="0" y="163"/>
                  <a:pt x="0" y="155"/>
                </a:cubicBezTo>
                <a:lnTo>
                  <a:pt x="0" y="127"/>
                </a:lnTo>
                <a:cubicBezTo>
                  <a:pt x="0" y="121"/>
                  <a:pt x="2" y="118"/>
                  <a:pt x="8" y="115"/>
                </a:cubicBezTo>
                <a:lnTo>
                  <a:pt x="206" y="2"/>
                </a:lnTo>
                <a:cubicBezTo>
                  <a:pt x="211" y="0"/>
                  <a:pt x="214" y="0"/>
                  <a:pt x="220" y="2"/>
                </a:cubicBezTo>
                <a:lnTo>
                  <a:pt x="417" y="115"/>
                </a:lnTo>
                <a:cubicBezTo>
                  <a:pt x="423" y="118"/>
                  <a:pt x="426" y="124"/>
                  <a:pt x="426" y="127"/>
                </a:cubicBezTo>
                <a:lnTo>
                  <a:pt x="426" y="155"/>
                </a:lnTo>
                <a:cubicBezTo>
                  <a:pt x="423" y="163"/>
                  <a:pt x="417" y="169"/>
                  <a:pt x="409" y="169"/>
                </a:cubicBezTo>
                <a:close/>
                <a:moveTo>
                  <a:pt x="28" y="141"/>
                </a:moveTo>
                <a:lnTo>
                  <a:pt x="395" y="141"/>
                </a:lnTo>
                <a:lnTo>
                  <a:pt x="395" y="135"/>
                </a:lnTo>
                <a:lnTo>
                  <a:pt x="211" y="31"/>
                </a:lnTo>
                <a:lnTo>
                  <a:pt x="28" y="135"/>
                </a:lnTo>
                <a:lnTo>
                  <a:pt x="28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79"/>
          <p:cNvSpPr/>
          <p:nvPr/>
        </p:nvSpPr>
        <p:spPr>
          <a:xfrm>
            <a:off x="2205000" y="3201840"/>
            <a:ext cx="287280" cy="60480"/>
          </a:xfrm>
          <a:custGeom>
            <a:avLst/>
            <a:gdLst/>
            <a:ahLst/>
            <a:rect l="l" t="t" r="r" b="b"/>
            <a:pathLst>
              <a:path w="424" h="86">
                <a:moveTo>
                  <a:pt x="409" y="85"/>
                </a:moveTo>
                <a:lnTo>
                  <a:pt x="14" y="85"/>
                </a:lnTo>
                <a:cubicBezTo>
                  <a:pt x="5" y="85"/>
                  <a:pt x="0" y="79"/>
                  <a:pt x="0" y="70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395" y="0"/>
                </a:lnTo>
                <a:cubicBezTo>
                  <a:pt x="412" y="0"/>
                  <a:pt x="423" y="11"/>
                  <a:pt x="423" y="28"/>
                </a:cubicBezTo>
                <a:lnTo>
                  <a:pt x="423" y="70"/>
                </a:lnTo>
                <a:cubicBezTo>
                  <a:pt x="423" y="79"/>
                  <a:pt x="417" y="85"/>
                  <a:pt x="409" y="85"/>
                </a:cubicBezTo>
                <a:close/>
                <a:moveTo>
                  <a:pt x="28" y="56"/>
                </a:moveTo>
                <a:lnTo>
                  <a:pt x="395" y="56"/>
                </a:lnTo>
                <a:lnTo>
                  <a:pt x="395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80"/>
          <p:cNvSpPr/>
          <p:nvPr/>
        </p:nvSpPr>
        <p:spPr>
          <a:xfrm>
            <a:off x="2225520" y="3086280"/>
            <a:ext cx="20880" cy="133200"/>
          </a:xfrm>
          <a:custGeom>
            <a:avLst/>
            <a:gdLst/>
            <a:ahLst/>
            <a:rect l="l" t="t" r="r" b="b"/>
            <a:pathLst>
              <a:path w="29" h="198">
                <a:moveTo>
                  <a:pt x="14" y="197"/>
                </a:moveTo>
                <a:cubicBezTo>
                  <a:pt x="5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183"/>
                </a:lnTo>
                <a:cubicBezTo>
                  <a:pt x="28" y="192"/>
                  <a:pt x="22" y="197"/>
                  <a:pt x="14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81"/>
          <p:cNvSpPr/>
          <p:nvPr/>
        </p:nvSpPr>
        <p:spPr>
          <a:xfrm>
            <a:off x="2262240" y="3086280"/>
            <a:ext cx="20520" cy="133200"/>
          </a:xfrm>
          <a:custGeom>
            <a:avLst/>
            <a:gdLst/>
            <a:ahLst/>
            <a:rect l="l" t="t" r="r" b="b"/>
            <a:pathLst>
              <a:path w="29" h="198">
                <a:moveTo>
                  <a:pt x="14" y="197"/>
                </a:move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183"/>
                </a:lnTo>
                <a:cubicBezTo>
                  <a:pt x="28" y="192"/>
                  <a:pt x="23" y="197"/>
                  <a:pt x="14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82"/>
          <p:cNvSpPr/>
          <p:nvPr/>
        </p:nvSpPr>
        <p:spPr>
          <a:xfrm>
            <a:off x="2320920" y="3086280"/>
            <a:ext cx="20520" cy="133200"/>
          </a:xfrm>
          <a:custGeom>
            <a:avLst/>
            <a:gdLst/>
            <a:ahLst/>
            <a:rect l="l" t="t" r="r" b="b"/>
            <a:pathLst>
              <a:path w="29" h="198">
                <a:moveTo>
                  <a:pt x="14" y="197"/>
                </a:moveTo>
                <a:cubicBezTo>
                  <a:pt x="5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183"/>
                </a:lnTo>
                <a:cubicBezTo>
                  <a:pt x="28" y="192"/>
                  <a:pt x="22" y="197"/>
                  <a:pt x="14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83"/>
          <p:cNvSpPr/>
          <p:nvPr/>
        </p:nvSpPr>
        <p:spPr>
          <a:xfrm>
            <a:off x="2357280" y="3086280"/>
            <a:ext cx="20880" cy="133200"/>
          </a:xfrm>
          <a:custGeom>
            <a:avLst/>
            <a:gdLst/>
            <a:ahLst/>
            <a:rect l="l" t="t" r="r" b="b"/>
            <a:pathLst>
              <a:path w="29" h="198">
                <a:moveTo>
                  <a:pt x="14" y="197"/>
                </a:move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183"/>
                </a:lnTo>
                <a:cubicBezTo>
                  <a:pt x="28" y="192"/>
                  <a:pt x="23" y="197"/>
                  <a:pt x="14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84"/>
          <p:cNvSpPr/>
          <p:nvPr/>
        </p:nvSpPr>
        <p:spPr>
          <a:xfrm>
            <a:off x="2416320" y="3086280"/>
            <a:ext cx="21960" cy="133200"/>
          </a:xfrm>
          <a:custGeom>
            <a:avLst/>
            <a:gdLst/>
            <a:ahLst/>
            <a:rect l="l" t="t" r="r" b="b"/>
            <a:pathLst>
              <a:path w="29" h="198">
                <a:moveTo>
                  <a:pt x="14" y="197"/>
                </a:move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183"/>
                </a:lnTo>
                <a:cubicBezTo>
                  <a:pt x="28" y="192"/>
                  <a:pt x="23" y="197"/>
                  <a:pt x="14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85"/>
          <p:cNvSpPr/>
          <p:nvPr/>
        </p:nvSpPr>
        <p:spPr>
          <a:xfrm>
            <a:off x="2452680" y="3086280"/>
            <a:ext cx="20520" cy="133200"/>
          </a:xfrm>
          <a:custGeom>
            <a:avLst/>
            <a:gdLst/>
            <a:ahLst/>
            <a:rect l="l" t="t" r="r" b="b"/>
            <a:pathLst>
              <a:path w="30" h="198">
                <a:moveTo>
                  <a:pt x="14" y="197"/>
                </a:move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9" y="5"/>
                  <a:pt x="29" y="14"/>
                </a:cubicBezTo>
                <a:lnTo>
                  <a:pt x="29" y="183"/>
                </a:lnTo>
                <a:cubicBezTo>
                  <a:pt x="29" y="192"/>
                  <a:pt x="23" y="197"/>
                  <a:pt x="14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86"/>
          <p:cNvSpPr/>
          <p:nvPr/>
        </p:nvSpPr>
        <p:spPr>
          <a:xfrm>
            <a:off x="1438200" y="5268960"/>
            <a:ext cx="308160" cy="307800"/>
          </a:xfrm>
          <a:custGeom>
            <a:avLst/>
            <a:gdLst/>
            <a:ahLst/>
            <a:rect l="l" t="t" r="r" b="b"/>
            <a:pathLst>
              <a:path w="452" h="452">
                <a:moveTo>
                  <a:pt x="225" y="451"/>
                </a:moveTo>
                <a:cubicBezTo>
                  <a:pt x="101" y="451"/>
                  <a:pt x="0" y="350"/>
                  <a:pt x="0" y="225"/>
                </a:cubicBezTo>
                <a:cubicBezTo>
                  <a:pt x="0" y="101"/>
                  <a:pt x="100" y="0"/>
                  <a:pt x="225" y="0"/>
                </a:cubicBezTo>
                <a:cubicBezTo>
                  <a:pt x="349" y="0"/>
                  <a:pt x="451" y="101"/>
                  <a:pt x="451" y="225"/>
                </a:cubicBezTo>
                <a:cubicBezTo>
                  <a:pt x="451" y="350"/>
                  <a:pt x="350" y="451"/>
                  <a:pt x="225" y="451"/>
                </a:cubicBezTo>
                <a:close/>
                <a:moveTo>
                  <a:pt x="225" y="28"/>
                </a:moveTo>
                <a:cubicBezTo>
                  <a:pt x="115" y="28"/>
                  <a:pt x="28" y="115"/>
                  <a:pt x="28" y="225"/>
                </a:cubicBezTo>
                <a:cubicBezTo>
                  <a:pt x="28" y="335"/>
                  <a:pt x="114" y="423"/>
                  <a:pt x="225" y="423"/>
                </a:cubicBezTo>
                <a:cubicBezTo>
                  <a:pt x="335" y="423"/>
                  <a:pt x="423" y="335"/>
                  <a:pt x="423" y="225"/>
                </a:cubicBezTo>
                <a:cubicBezTo>
                  <a:pt x="423" y="115"/>
                  <a:pt x="336" y="28"/>
                  <a:pt x="225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87"/>
          <p:cNvSpPr/>
          <p:nvPr/>
        </p:nvSpPr>
        <p:spPr>
          <a:xfrm>
            <a:off x="1563840" y="5356080"/>
            <a:ext cx="6012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2" y="84"/>
                </a:moveTo>
                <a:cubicBezTo>
                  <a:pt x="20" y="84"/>
                  <a:pt x="0" y="65"/>
                  <a:pt x="0" y="42"/>
                </a:cubicBezTo>
                <a:cubicBezTo>
                  <a:pt x="0" y="19"/>
                  <a:pt x="19" y="0"/>
                  <a:pt x="42" y="0"/>
                </a:cubicBezTo>
                <a:cubicBezTo>
                  <a:pt x="64" y="0"/>
                  <a:pt x="85" y="19"/>
                  <a:pt x="85" y="42"/>
                </a:cubicBezTo>
                <a:cubicBezTo>
                  <a:pt x="85" y="65"/>
                  <a:pt x="65" y="84"/>
                  <a:pt x="42" y="84"/>
                </a:cubicBezTo>
                <a:close/>
                <a:moveTo>
                  <a:pt x="42" y="28"/>
                </a:moveTo>
                <a:cubicBezTo>
                  <a:pt x="34" y="28"/>
                  <a:pt x="28" y="34"/>
                  <a:pt x="28" y="42"/>
                </a:cubicBezTo>
                <a:cubicBezTo>
                  <a:pt x="28" y="51"/>
                  <a:pt x="33" y="56"/>
                  <a:pt x="42" y="56"/>
                </a:cubicBezTo>
                <a:cubicBezTo>
                  <a:pt x="50" y="56"/>
                  <a:pt x="57" y="51"/>
                  <a:pt x="57" y="42"/>
                </a:cubicBezTo>
                <a:cubicBezTo>
                  <a:pt x="57" y="34"/>
                  <a:pt x="51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88"/>
          <p:cNvSpPr/>
          <p:nvPr/>
        </p:nvSpPr>
        <p:spPr>
          <a:xfrm>
            <a:off x="1515960" y="5305320"/>
            <a:ext cx="152640" cy="15264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12" y="226"/>
                </a:moveTo>
                <a:cubicBezTo>
                  <a:pt x="50" y="226"/>
                  <a:pt x="0" y="175"/>
                  <a:pt x="0" y="113"/>
                </a:cubicBezTo>
                <a:cubicBezTo>
                  <a:pt x="0" y="51"/>
                  <a:pt x="49" y="0"/>
                  <a:pt x="112" y="0"/>
                </a:cubicBezTo>
                <a:cubicBezTo>
                  <a:pt x="174" y="0"/>
                  <a:pt x="225" y="51"/>
                  <a:pt x="225" y="113"/>
                </a:cubicBezTo>
                <a:cubicBezTo>
                  <a:pt x="225" y="175"/>
                  <a:pt x="175" y="226"/>
                  <a:pt x="112" y="226"/>
                </a:cubicBezTo>
                <a:close/>
                <a:moveTo>
                  <a:pt x="112" y="28"/>
                </a:moveTo>
                <a:cubicBezTo>
                  <a:pt x="65" y="28"/>
                  <a:pt x="28" y="65"/>
                  <a:pt x="28" y="113"/>
                </a:cubicBezTo>
                <a:cubicBezTo>
                  <a:pt x="28" y="161"/>
                  <a:pt x="64" y="198"/>
                  <a:pt x="112" y="198"/>
                </a:cubicBezTo>
                <a:cubicBezTo>
                  <a:pt x="159" y="198"/>
                  <a:pt x="197" y="161"/>
                  <a:pt x="197" y="113"/>
                </a:cubicBezTo>
                <a:cubicBezTo>
                  <a:pt x="197" y="65"/>
                  <a:pt x="160" y="28"/>
                  <a:pt x="11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89"/>
          <p:cNvSpPr/>
          <p:nvPr/>
        </p:nvSpPr>
        <p:spPr>
          <a:xfrm>
            <a:off x="1555920" y="5495760"/>
            <a:ext cx="77760" cy="22320"/>
          </a:xfrm>
          <a:custGeom>
            <a:avLst/>
            <a:gdLst/>
            <a:ahLst/>
            <a:rect l="l" t="t" r="r" b="b"/>
            <a:pathLst>
              <a:path w="114" h="29">
                <a:moveTo>
                  <a:pt x="99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6"/>
                  <a:pt x="113" y="14"/>
                </a:cubicBezTo>
                <a:cubicBezTo>
                  <a:pt x="113" y="23"/>
                  <a:pt x="107" y="28"/>
                  <a:pt x="99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90"/>
          <p:cNvSpPr/>
          <p:nvPr/>
        </p:nvSpPr>
        <p:spPr>
          <a:xfrm>
            <a:off x="2249640" y="5268960"/>
            <a:ext cx="218880" cy="60120"/>
          </a:xfrm>
          <a:custGeom>
            <a:avLst/>
            <a:gdLst/>
            <a:ahLst/>
            <a:rect l="l" t="t" r="r" b="b"/>
            <a:pathLst>
              <a:path w="320" h="88">
                <a:moveTo>
                  <a:pt x="305" y="84"/>
                </a:moveTo>
                <a:cubicBezTo>
                  <a:pt x="302" y="84"/>
                  <a:pt x="300" y="84"/>
                  <a:pt x="297" y="81"/>
                </a:cubicBezTo>
                <a:cubicBezTo>
                  <a:pt x="260" y="48"/>
                  <a:pt x="212" y="28"/>
                  <a:pt x="161" y="28"/>
                </a:cubicBezTo>
                <a:cubicBezTo>
                  <a:pt x="110" y="28"/>
                  <a:pt x="63" y="48"/>
                  <a:pt x="26" y="81"/>
                </a:cubicBezTo>
                <a:cubicBezTo>
                  <a:pt x="20" y="87"/>
                  <a:pt x="12" y="87"/>
                  <a:pt x="6" y="81"/>
                </a:cubicBezTo>
                <a:cubicBezTo>
                  <a:pt x="0" y="76"/>
                  <a:pt x="0" y="67"/>
                  <a:pt x="6" y="62"/>
                </a:cubicBezTo>
                <a:cubicBezTo>
                  <a:pt x="48" y="22"/>
                  <a:pt x="104" y="0"/>
                  <a:pt x="161" y="0"/>
                </a:cubicBezTo>
                <a:cubicBezTo>
                  <a:pt x="217" y="0"/>
                  <a:pt x="274" y="22"/>
                  <a:pt x="314" y="62"/>
                </a:cubicBezTo>
                <a:cubicBezTo>
                  <a:pt x="319" y="67"/>
                  <a:pt x="319" y="76"/>
                  <a:pt x="314" y="81"/>
                </a:cubicBezTo>
                <a:cubicBezTo>
                  <a:pt x="314" y="84"/>
                  <a:pt x="308" y="84"/>
                  <a:pt x="305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91"/>
          <p:cNvSpPr/>
          <p:nvPr/>
        </p:nvSpPr>
        <p:spPr>
          <a:xfrm>
            <a:off x="2205000" y="5337000"/>
            <a:ext cx="311040" cy="236880"/>
          </a:xfrm>
          <a:custGeom>
            <a:avLst/>
            <a:gdLst/>
            <a:ahLst/>
            <a:rect l="l" t="t" r="r" b="b"/>
            <a:pathLst>
              <a:path w="458" h="348">
                <a:moveTo>
                  <a:pt x="225" y="347"/>
                </a:moveTo>
                <a:cubicBezTo>
                  <a:pt x="101" y="347"/>
                  <a:pt x="0" y="246"/>
                  <a:pt x="0" y="121"/>
                </a:cubicBezTo>
                <a:cubicBezTo>
                  <a:pt x="0" y="82"/>
                  <a:pt x="11" y="42"/>
                  <a:pt x="31" y="9"/>
                </a:cubicBezTo>
                <a:cubicBezTo>
                  <a:pt x="33" y="3"/>
                  <a:pt x="42" y="0"/>
                  <a:pt x="50" y="3"/>
                </a:cubicBezTo>
                <a:cubicBezTo>
                  <a:pt x="56" y="6"/>
                  <a:pt x="59" y="14"/>
                  <a:pt x="56" y="23"/>
                </a:cubicBezTo>
                <a:cubicBezTo>
                  <a:pt x="39" y="54"/>
                  <a:pt x="31" y="88"/>
                  <a:pt x="31" y="121"/>
                </a:cubicBezTo>
                <a:cubicBezTo>
                  <a:pt x="31" y="231"/>
                  <a:pt x="118" y="319"/>
                  <a:pt x="228" y="319"/>
                </a:cubicBezTo>
                <a:cubicBezTo>
                  <a:pt x="338" y="319"/>
                  <a:pt x="426" y="231"/>
                  <a:pt x="426" y="121"/>
                </a:cubicBezTo>
                <a:cubicBezTo>
                  <a:pt x="426" y="88"/>
                  <a:pt x="417" y="54"/>
                  <a:pt x="400" y="23"/>
                </a:cubicBezTo>
                <a:cubicBezTo>
                  <a:pt x="397" y="17"/>
                  <a:pt x="397" y="9"/>
                  <a:pt x="406" y="3"/>
                </a:cubicBezTo>
                <a:cubicBezTo>
                  <a:pt x="412" y="0"/>
                  <a:pt x="420" y="0"/>
                  <a:pt x="426" y="9"/>
                </a:cubicBezTo>
                <a:cubicBezTo>
                  <a:pt x="445" y="42"/>
                  <a:pt x="457" y="82"/>
                  <a:pt x="457" y="121"/>
                </a:cubicBezTo>
                <a:cubicBezTo>
                  <a:pt x="451" y="246"/>
                  <a:pt x="349" y="347"/>
                  <a:pt x="225" y="34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2"/>
          <p:cNvSpPr/>
          <p:nvPr/>
        </p:nvSpPr>
        <p:spPr>
          <a:xfrm>
            <a:off x="2262240" y="5343480"/>
            <a:ext cx="68040" cy="69840"/>
          </a:xfrm>
          <a:custGeom>
            <a:avLst/>
            <a:gdLst/>
            <a:ahLst/>
            <a:rect l="l" t="t" r="r" b="b"/>
            <a:pathLst>
              <a:path w="103" h="102">
                <a:moveTo>
                  <a:pt x="57" y="101"/>
                </a:moveTo>
                <a:cubicBezTo>
                  <a:pt x="43" y="101"/>
                  <a:pt x="28" y="96"/>
                  <a:pt x="17" y="84"/>
                </a:cubicBezTo>
                <a:cubicBezTo>
                  <a:pt x="6" y="73"/>
                  <a:pt x="0" y="59"/>
                  <a:pt x="0" y="45"/>
                </a:cubicBezTo>
                <a:cubicBezTo>
                  <a:pt x="0" y="31"/>
                  <a:pt x="6" y="17"/>
                  <a:pt x="17" y="5"/>
                </a:cubicBezTo>
                <a:cubicBezTo>
                  <a:pt x="23" y="0"/>
                  <a:pt x="31" y="0"/>
                  <a:pt x="37" y="5"/>
                </a:cubicBezTo>
                <a:lnTo>
                  <a:pt x="96" y="65"/>
                </a:lnTo>
                <a:cubicBezTo>
                  <a:pt x="102" y="70"/>
                  <a:pt x="102" y="79"/>
                  <a:pt x="96" y="84"/>
                </a:cubicBezTo>
                <a:cubicBezTo>
                  <a:pt x="85" y="96"/>
                  <a:pt x="71" y="101"/>
                  <a:pt x="57" y="101"/>
                </a:cubicBezTo>
                <a:close/>
                <a:moveTo>
                  <a:pt x="28" y="36"/>
                </a:moveTo>
                <a:cubicBezTo>
                  <a:pt x="28" y="39"/>
                  <a:pt x="28" y="42"/>
                  <a:pt x="28" y="45"/>
                </a:cubicBezTo>
                <a:cubicBezTo>
                  <a:pt x="28" y="53"/>
                  <a:pt x="31" y="59"/>
                  <a:pt x="37" y="65"/>
                </a:cubicBezTo>
                <a:cubicBezTo>
                  <a:pt x="45" y="73"/>
                  <a:pt x="54" y="73"/>
                  <a:pt x="65" y="73"/>
                </a:cubicBezTo>
                <a:lnTo>
                  <a:pt x="28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93"/>
          <p:cNvSpPr/>
          <p:nvPr/>
        </p:nvSpPr>
        <p:spPr>
          <a:xfrm>
            <a:off x="2384280" y="5343480"/>
            <a:ext cx="68400" cy="6984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45" y="101"/>
                </a:moveTo>
                <a:cubicBezTo>
                  <a:pt x="31" y="101"/>
                  <a:pt x="17" y="96"/>
                  <a:pt x="5" y="84"/>
                </a:cubicBezTo>
                <a:cubicBezTo>
                  <a:pt x="0" y="79"/>
                  <a:pt x="0" y="70"/>
                  <a:pt x="5" y="65"/>
                </a:cubicBezTo>
                <a:lnTo>
                  <a:pt x="65" y="5"/>
                </a:lnTo>
                <a:cubicBezTo>
                  <a:pt x="70" y="0"/>
                  <a:pt x="79" y="0"/>
                  <a:pt x="84" y="5"/>
                </a:cubicBezTo>
                <a:cubicBezTo>
                  <a:pt x="96" y="17"/>
                  <a:pt x="101" y="31"/>
                  <a:pt x="101" y="45"/>
                </a:cubicBezTo>
                <a:cubicBezTo>
                  <a:pt x="101" y="59"/>
                  <a:pt x="96" y="73"/>
                  <a:pt x="84" y="84"/>
                </a:cubicBezTo>
                <a:cubicBezTo>
                  <a:pt x="73" y="96"/>
                  <a:pt x="59" y="101"/>
                  <a:pt x="45" y="101"/>
                </a:cubicBezTo>
                <a:close/>
                <a:moveTo>
                  <a:pt x="36" y="73"/>
                </a:moveTo>
                <a:cubicBezTo>
                  <a:pt x="45" y="76"/>
                  <a:pt x="56" y="73"/>
                  <a:pt x="65" y="65"/>
                </a:cubicBezTo>
                <a:cubicBezTo>
                  <a:pt x="70" y="59"/>
                  <a:pt x="73" y="53"/>
                  <a:pt x="73" y="45"/>
                </a:cubicBezTo>
                <a:cubicBezTo>
                  <a:pt x="73" y="42"/>
                  <a:pt x="73" y="39"/>
                  <a:pt x="73" y="36"/>
                </a:cubicBezTo>
                <a:lnTo>
                  <a:pt x="36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94"/>
          <p:cNvSpPr/>
          <p:nvPr/>
        </p:nvSpPr>
        <p:spPr>
          <a:xfrm>
            <a:off x="2246400" y="5440320"/>
            <a:ext cx="223920" cy="95400"/>
          </a:xfrm>
          <a:custGeom>
            <a:avLst/>
            <a:gdLst/>
            <a:ahLst/>
            <a:rect l="l" t="t" r="r" b="b"/>
            <a:pathLst>
              <a:path w="329" h="142">
                <a:moveTo>
                  <a:pt x="164" y="141"/>
                </a:moveTo>
                <a:cubicBezTo>
                  <a:pt x="88" y="141"/>
                  <a:pt x="23" y="90"/>
                  <a:pt x="1" y="17"/>
                </a:cubicBezTo>
                <a:cubicBezTo>
                  <a:pt x="1" y="11"/>
                  <a:pt x="0" y="8"/>
                  <a:pt x="3" y="5"/>
                </a:cubicBezTo>
                <a:cubicBezTo>
                  <a:pt x="5" y="2"/>
                  <a:pt x="9" y="0"/>
                  <a:pt x="15" y="0"/>
                </a:cubicBezTo>
                <a:lnTo>
                  <a:pt x="314" y="0"/>
                </a:lnTo>
                <a:cubicBezTo>
                  <a:pt x="319" y="0"/>
                  <a:pt x="322" y="2"/>
                  <a:pt x="325" y="5"/>
                </a:cubicBezTo>
                <a:cubicBezTo>
                  <a:pt x="328" y="8"/>
                  <a:pt x="328" y="14"/>
                  <a:pt x="328" y="17"/>
                </a:cubicBezTo>
                <a:cubicBezTo>
                  <a:pt x="305" y="90"/>
                  <a:pt x="240" y="141"/>
                  <a:pt x="164" y="141"/>
                </a:cubicBezTo>
                <a:close/>
                <a:moveTo>
                  <a:pt x="34" y="28"/>
                </a:moveTo>
                <a:cubicBezTo>
                  <a:pt x="57" y="79"/>
                  <a:pt x="107" y="112"/>
                  <a:pt x="164" y="112"/>
                </a:cubicBezTo>
                <a:cubicBezTo>
                  <a:pt x="220" y="112"/>
                  <a:pt x="272" y="79"/>
                  <a:pt x="294" y="28"/>
                </a:cubicBezTo>
                <a:lnTo>
                  <a:pt x="34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95"/>
          <p:cNvSpPr/>
          <p:nvPr/>
        </p:nvSpPr>
        <p:spPr>
          <a:xfrm>
            <a:off x="2205000" y="5268960"/>
            <a:ext cx="71640" cy="95040"/>
          </a:xfrm>
          <a:custGeom>
            <a:avLst/>
            <a:gdLst/>
            <a:ahLst/>
            <a:rect l="l" t="t" r="r" b="b"/>
            <a:pathLst>
              <a:path w="108" h="139">
                <a:moveTo>
                  <a:pt x="45" y="135"/>
                </a:moveTo>
                <a:cubicBezTo>
                  <a:pt x="39" y="135"/>
                  <a:pt x="34" y="132"/>
                  <a:pt x="34" y="127"/>
                </a:cubicBezTo>
                <a:cubicBezTo>
                  <a:pt x="0" y="62"/>
                  <a:pt x="28" y="11"/>
                  <a:pt x="31" y="8"/>
                </a:cubicBezTo>
                <a:cubicBezTo>
                  <a:pt x="34" y="2"/>
                  <a:pt x="39" y="0"/>
                  <a:pt x="48" y="2"/>
                </a:cubicBezTo>
                <a:cubicBezTo>
                  <a:pt x="53" y="5"/>
                  <a:pt x="59" y="11"/>
                  <a:pt x="59" y="17"/>
                </a:cubicBezTo>
                <a:lnTo>
                  <a:pt x="59" y="17"/>
                </a:lnTo>
                <a:cubicBezTo>
                  <a:pt x="59" y="17"/>
                  <a:pt x="62" y="33"/>
                  <a:pt x="98" y="62"/>
                </a:cubicBezTo>
                <a:cubicBezTo>
                  <a:pt x="104" y="67"/>
                  <a:pt x="107" y="76"/>
                  <a:pt x="101" y="81"/>
                </a:cubicBezTo>
                <a:cubicBezTo>
                  <a:pt x="96" y="87"/>
                  <a:pt x="87" y="90"/>
                  <a:pt x="82" y="84"/>
                </a:cubicBezTo>
                <a:cubicBezTo>
                  <a:pt x="67" y="73"/>
                  <a:pt x="59" y="65"/>
                  <a:pt x="50" y="56"/>
                </a:cubicBezTo>
                <a:cubicBezTo>
                  <a:pt x="50" y="73"/>
                  <a:pt x="50" y="93"/>
                  <a:pt x="62" y="118"/>
                </a:cubicBezTo>
                <a:cubicBezTo>
                  <a:pt x="65" y="124"/>
                  <a:pt x="62" y="132"/>
                  <a:pt x="56" y="138"/>
                </a:cubicBezTo>
                <a:cubicBezTo>
                  <a:pt x="50" y="132"/>
                  <a:pt x="48" y="135"/>
                  <a:pt x="45" y="13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6"/>
          <p:cNvSpPr/>
          <p:nvPr/>
        </p:nvSpPr>
        <p:spPr>
          <a:xfrm>
            <a:off x="2443320" y="5262480"/>
            <a:ext cx="72720" cy="100080"/>
          </a:xfrm>
          <a:custGeom>
            <a:avLst/>
            <a:gdLst/>
            <a:ahLst/>
            <a:rect l="l" t="t" r="r" b="b"/>
            <a:pathLst>
              <a:path w="106" h="145">
                <a:moveTo>
                  <a:pt x="57" y="144"/>
                </a:moveTo>
                <a:cubicBezTo>
                  <a:pt x="54" y="144"/>
                  <a:pt x="51" y="144"/>
                  <a:pt x="51" y="141"/>
                </a:cubicBezTo>
                <a:cubicBezTo>
                  <a:pt x="45" y="138"/>
                  <a:pt x="43" y="130"/>
                  <a:pt x="45" y="122"/>
                </a:cubicBezTo>
                <a:cubicBezTo>
                  <a:pt x="57" y="99"/>
                  <a:pt x="60" y="76"/>
                  <a:pt x="57" y="59"/>
                </a:cubicBezTo>
                <a:cubicBezTo>
                  <a:pt x="48" y="68"/>
                  <a:pt x="40" y="79"/>
                  <a:pt x="26" y="88"/>
                </a:cubicBezTo>
                <a:cubicBezTo>
                  <a:pt x="20" y="93"/>
                  <a:pt x="12" y="91"/>
                  <a:pt x="6" y="85"/>
                </a:cubicBezTo>
                <a:cubicBezTo>
                  <a:pt x="0" y="80"/>
                  <a:pt x="3" y="71"/>
                  <a:pt x="9" y="65"/>
                </a:cubicBezTo>
                <a:cubicBezTo>
                  <a:pt x="45" y="37"/>
                  <a:pt x="48" y="20"/>
                  <a:pt x="48" y="17"/>
                </a:cubicBezTo>
                <a:cubicBezTo>
                  <a:pt x="48" y="11"/>
                  <a:pt x="54" y="6"/>
                  <a:pt x="60" y="3"/>
                </a:cubicBezTo>
                <a:cubicBezTo>
                  <a:pt x="65" y="0"/>
                  <a:pt x="74" y="6"/>
                  <a:pt x="76" y="11"/>
                </a:cubicBezTo>
                <a:cubicBezTo>
                  <a:pt x="76" y="14"/>
                  <a:pt x="105" y="65"/>
                  <a:pt x="74" y="130"/>
                </a:cubicBezTo>
                <a:cubicBezTo>
                  <a:pt x="65" y="141"/>
                  <a:pt x="62" y="144"/>
                  <a:pt x="57" y="14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97"/>
          <p:cNvSpPr/>
          <p:nvPr/>
        </p:nvSpPr>
        <p:spPr>
          <a:xfrm>
            <a:off x="3114720" y="5526000"/>
            <a:ext cx="20520" cy="47880"/>
          </a:xfrm>
          <a:custGeom>
            <a:avLst/>
            <a:gdLst/>
            <a:ahLst/>
            <a:rect l="l" t="t" r="r" b="b"/>
            <a:pathLst>
              <a:path w="29" h="71">
                <a:moveTo>
                  <a:pt x="14" y="70"/>
                </a:moveTo>
                <a:cubicBezTo>
                  <a:pt x="6" y="70"/>
                  <a:pt x="0" y="65"/>
                  <a:pt x="0" y="56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56"/>
                </a:lnTo>
                <a:cubicBezTo>
                  <a:pt x="28" y="65"/>
                  <a:pt x="23" y="70"/>
                  <a:pt x="14" y="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98"/>
          <p:cNvSpPr/>
          <p:nvPr/>
        </p:nvSpPr>
        <p:spPr>
          <a:xfrm>
            <a:off x="3075120" y="5526000"/>
            <a:ext cx="20520" cy="47880"/>
          </a:xfrm>
          <a:custGeom>
            <a:avLst/>
            <a:gdLst/>
            <a:ahLst/>
            <a:rect l="l" t="t" r="r" b="b"/>
            <a:pathLst>
              <a:path w="29" h="71">
                <a:moveTo>
                  <a:pt x="14" y="70"/>
                </a:moveTo>
                <a:cubicBezTo>
                  <a:pt x="5" y="70"/>
                  <a:pt x="0" y="65"/>
                  <a:pt x="0" y="56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56"/>
                </a:lnTo>
                <a:cubicBezTo>
                  <a:pt x="28" y="65"/>
                  <a:pt x="22" y="70"/>
                  <a:pt x="14" y="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99"/>
          <p:cNvSpPr/>
          <p:nvPr/>
        </p:nvSpPr>
        <p:spPr>
          <a:xfrm>
            <a:off x="3152880" y="5526000"/>
            <a:ext cx="20520" cy="47880"/>
          </a:xfrm>
          <a:custGeom>
            <a:avLst/>
            <a:gdLst/>
            <a:ahLst/>
            <a:rect l="l" t="t" r="r" b="b"/>
            <a:pathLst>
              <a:path w="30" h="71">
                <a:moveTo>
                  <a:pt x="14" y="70"/>
                </a:moveTo>
                <a:cubicBezTo>
                  <a:pt x="6" y="70"/>
                  <a:pt x="0" y="65"/>
                  <a:pt x="0" y="56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9" y="5"/>
                  <a:pt x="29" y="14"/>
                </a:cubicBezTo>
                <a:lnTo>
                  <a:pt x="29" y="56"/>
                </a:lnTo>
                <a:cubicBezTo>
                  <a:pt x="29" y="65"/>
                  <a:pt x="23" y="70"/>
                  <a:pt x="14" y="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00"/>
          <p:cNvSpPr/>
          <p:nvPr/>
        </p:nvSpPr>
        <p:spPr>
          <a:xfrm>
            <a:off x="2990880" y="5262480"/>
            <a:ext cx="276120" cy="314280"/>
          </a:xfrm>
          <a:custGeom>
            <a:avLst/>
            <a:gdLst/>
            <a:ahLst/>
            <a:rect l="l" t="t" r="r" b="b"/>
            <a:pathLst>
              <a:path w="404" h="461">
                <a:moveTo>
                  <a:pt x="282" y="460"/>
                </a:moveTo>
                <a:lnTo>
                  <a:pt x="112" y="460"/>
                </a:lnTo>
                <a:cubicBezTo>
                  <a:pt x="81" y="460"/>
                  <a:pt x="56" y="435"/>
                  <a:pt x="56" y="404"/>
                </a:cubicBezTo>
                <a:lnTo>
                  <a:pt x="56" y="344"/>
                </a:lnTo>
                <a:cubicBezTo>
                  <a:pt x="19" y="308"/>
                  <a:pt x="0" y="257"/>
                  <a:pt x="0" y="206"/>
                </a:cubicBezTo>
                <a:cubicBezTo>
                  <a:pt x="0" y="147"/>
                  <a:pt x="25" y="93"/>
                  <a:pt x="70" y="54"/>
                </a:cubicBezTo>
                <a:cubicBezTo>
                  <a:pt x="115" y="17"/>
                  <a:pt x="174" y="0"/>
                  <a:pt x="234" y="11"/>
                </a:cubicBezTo>
                <a:cubicBezTo>
                  <a:pt x="313" y="26"/>
                  <a:pt x="375" y="88"/>
                  <a:pt x="389" y="167"/>
                </a:cubicBezTo>
                <a:cubicBezTo>
                  <a:pt x="403" y="232"/>
                  <a:pt x="383" y="299"/>
                  <a:pt x="335" y="344"/>
                </a:cubicBezTo>
                <a:lnTo>
                  <a:pt x="335" y="404"/>
                </a:lnTo>
                <a:cubicBezTo>
                  <a:pt x="338" y="435"/>
                  <a:pt x="313" y="460"/>
                  <a:pt x="282" y="460"/>
                </a:cubicBezTo>
                <a:close/>
                <a:moveTo>
                  <a:pt x="197" y="37"/>
                </a:moveTo>
                <a:cubicBezTo>
                  <a:pt x="158" y="37"/>
                  <a:pt x="118" y="51"/>
                  <a:pt x="87" y="76"/>
                </a:cubicBezTo>
                <a:cubicBezTo>
                  <a:pt x="47" y="107"/>
                  <a:pt x="25" y="155"/>
                  <a:pt x="25" y="206"/>
                </a:cubicBezTo>
                <a:cubicBezTo>
                  <a:pt x="25" y="251"/>
                  <a:pt x="45" y="296"/>
                  <a:pt x="76" y="328"/>
                </a:cubicBezTo>
                <a:cubicBezTo>
                  <a:pt x="79" y="330"/>
                  <a:pt x="81" y="333"/>
                  <a:pt x="81" y="339"/>
                </a:cubicBezTo>
                <a:lnTo>
                  <a:pt x="81" y="404"/>
                </a:lnTo>
                <a:cubicBezTo>
                  <a:pt x="81" y="421"/>
                  <a:pt x="93" y="432"/>
                  <a:pt x="110" y="432"/>
                </a:cubicBezTo>
                <a:lnTo>
                  <a:pt x="279" y="432"/>
                </a:lnTo>
                <a:cubicBezTo>
                  <a:pt x="296" y="432"/>
                  <a:pt x="307" y="421"/>
                  <a:pt x="307" y="404"/>
                </a:cubicBezTo>
                <a:lnTo>
                  <a:pt x="307" y="339"/>
                </a:lnTo>
                <a:cubicBezTo>
                  <a:pt x="307" y="336"/>
                  <a:pt x="310" y="330"/>
                  <a:pt x="313" y="328"/>
                </a:cubicBezTo>
                <a:cubicBezTo>
                  <a:pt x="355" y="288"/>
                  <a:pt x="372" y="229"/>
                  <a:pt x="361" y="172"/>
                </a:cubicBezTo>
                <a:cubicBezTo>
                  <a:pt x="347" y="105"/>
                  <a:pt x="293" y="54"/>
                  <a:pt x="228" y="40"/>
                </a:cubicBezTo>
                <a:cubicBezTo>
                  <a:pt x="220" y="37"/>
                  <a:pt x="208" y="37"/>
                  <a:pt x="197" y="3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01"/>
          <p:cNvSpPr/>
          <p:nvPr/>
        </p:nvSpPr>
        <p:spPr>
          <a:xfrm>
            <a:off x="3075120" y="5440320"/>
            <a:ext cx="56880" cy="77760"/>
          </a:xfrm>
          <a:custGeom>
            <a:avLst/>
            <a:gdLst/>
            <a:ahLst/>
            <a:rect l="l" t="t" r="r" b="b"/>
            <a:pathLst>
              <a:path w="85" h="113">
                <a:moveTo>
                  <a:pt x="42" y="112"/>
                </a:moveTo>
                <a:cubicBezTo>
                  <a:pt x="19" y="112"/>
                  <a:pt x="0" y="93"/>
                  <a:pt x="0" y="70"/>
                </a:cubicBezTo>
                <a:cubicBezTo>
                  <a:pt x="0" y="50"/>
                  <a:pt x="31" y="0"/>
                  <a:pt x="56" y="0"/>
                </a:cubicBezTo>
                <a:cubicBezTo>
                  <a:pt x="62" y="0"/>
                  <a:pt x="67" y="2"/>
                  <a:pt x="73" y="5"/>
                </a:cubicBezTo>
                <a:cubicBezTo>
                  <a:pt x="84" y="17"/>
                  <a:pt x="84" y="39"/>
                  <a:pt x="84" y="65"/>
                </a:cubicBezTo>
                <a:lnTo>
                  <a:pt x="84" y="67"/>
                </a:lnTo>
                <a:cubicBezTo>
                  <a:pt x="84" y="93"/>
                  <a:pt x="64" y="112"/>
                  <a:pt x="42" y="112"/>
                </a:cubicBezTo>
                <a:close/>
                <a:moveTo>
                  <a:pt x="53" y="31"/>
                </a:moveTo>
                <a:cubicBezTo>
                  <a:pt x="45" y="36"/>
                  <a:pt x="28" y="65"/>
                  <a:pt x="28" y="70"/>
                </a:cubicBezTo>
                <a:cubicBezTo>
                  <a:pt x="28" y="79"/>
                  <a:pt x="33" y="84"/>
                  <a:pt x="42" y="84"/>
                </a:cubicBezTo>
                <a:cubicBezTo>
                  <a:pt x="50" y="84"/>
                  <a:pt x="56" y="79"/>
                  <a:pt x="56" y="70"/>
                </a:cubicBezTo>
                <a:lnTo>
                  <a:pt x="56" y="67"/>
                </a:lnTo>
                <a:cubicBezTo>
                  <a:pt x="56" y="45"/>
                  <a:pt x="56" y="33"/>
                  <a:pt x="53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02"/>
          <p:cNvSpPr/>
          <p:nvPr/>
        </p:nvSpPr>
        <p:spPr>
          <a:xfrm>
            <a:off x="3114720" y="5442120"/>
            <a:ext cx="58680" cy="75960"/>
          </a:xfrm>
          <a:custGeom>
            <a:avLst/>
            <a:gdLst/>
            <a:ahLst/>
            <a:rect l="l" t="t" r="r" b="b"/>
            <a:pathLst>
              <a:path w="86" h="111">
                <a:moveTo>
                  <a:pt x="42" y="110"/>
                </a:moveTo>
                <a:cubicBezTo>
                  <a:pt x="20" y="110"/>
                  <a:pt x="0" y="91"/>
                  <a:pt x="0" y="68"/>
                </a:cubicBezTo>
                <a:lnTo>
                  <a:pt x="0" y="65"/>
                </a:lnTo>
                <a:cubicBezTo>
                  <a:pt x="0" y="40"/>
                  <a:pt x="0" y="17"/>
                  <a:pt x="11" y="6"/>
                </a:cubicBezTo>
                <a:cubicBezTo>
                  <a:pt x="17" y="0"/>
                  <a:pt x="23" y="0"/>
                  <a:pt x="28" y="0"/>
                </a:cubicBezTo>
                <a:cubicBezTo>
                  <a:pt x="54" y="0"/>
                  <a:pt x="85" y="51"/>
                  <a:pt x="85" y="71"/>
                </a:cubicBezTo>
                <a:cubicBezTo>
                  <a:pt x="85" y="91"/>
                  <a:pt x="65" y="110"/>
                  <a:pt x="42" y="110"/>
                </a:cubicBezTo>
                <a:close/>
                <a:moveTo>
                  <a:pt x="31" y="29"/>
                </a:moveTo>
                <a:cubicBezTo>
                  <a:pt x="28" y="34"/>
                  <a:pt x="28" y="43"/>
                  <a:pt x="28" y="65"/>
                </a:cubicBezTo>
                <a:lnTo>
                  <a:pt x="28" y="68"/>
                </a:lnTo>
                <a:cubicBezTo>
                  <a:pt x="28" y="77"/>
                  <a:pt x="33" y="82"/>
                  <a:pt x="42" y="82"/>
                </a:cubicBezTo>
                <a:cubicBezTo>
                  <a:pt x="50" y="82"/>
                  <a:pt x="56" y="77"/>
                  <a:pt x="56" y="68"/>
                </a:cubicBezTo>
                <a:cubicBezTo>
                  <a:pt x="56" y="60"/>
                  <a:pt x="39" y="34"/>
                  <a:pt x="31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03"/>
          <p:cNvSpPr/>
          <p:nvPr/>
        </p:nvSpPr>
        <p:spPr>
          <a:xfrm>
            <a:off x="3027240" y="535608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6" y="112"/>
                </a:moveTo>
                <a:cubicBezTo>
                  <a:pt x="25" y="112"/>
                  <a:pt x="0" y="87"/>
                  <a:pt x="0" y="56"/>
                </a:cubicBezTo>
                <a:cubicBezTo>
                  <a:pt x="0" y="36"/>
                  <a:pt x="11" y="17"/>
                  <a:pt x="28" y="8"/>
                </a:cubicBezTo>
                <a:cubicBezTo>
                  <a:pt x="42" y="0"/>
                  <a:pt x="65" y="2"/>
                  <a:pt x="76" y="17"/>
                </a:cubicBezTo>
                <a:lnTo>
                  <a:pt x="96" y="36"/>
                </a:lnTo>
                <a:cubicBezTo>
                  <a:pt x="110" y="50"/>
                  <a:pt x="113" y="70"/>
                  <a:pt x="104" y="84"/>
                </a:cubicBezTo>
                <a:cubicBezTo>
                  <a:pt x="96" y="101"/>
                  <a:pt x="76" y="112"/>
                  <a:pt x="56" y="112"/>
                </a:cubicBezTo>
                <a:close/>
                <a:moveTo>
                  <a:pt x="48" y="31"/>
                </a:moveTo>
                <a:cubicBezTo>
                  <a:pt x="45" y="31"/>
                  <a:pt x="45" y="31"/>
                  <a:pt x="42" y="31"/>
                </a:cubicBezTo>
                <a:cubicBezTo>
                  <a:pt x="34" y="36"/>
                  <a:pt x="28" y="45"/>
                  <a:pt x="28" y="56"/>
                </a:cubicBezTo>
                <a:cubicBezTo>
                  <a:pt x="28" y="73"/>
                  <a:pt x="39" y="84"/>
                  <a:pt x="56" y="84"/>
                </a:cubicBezTo>
                <a:cubicBezTo>
                  <a:pt x="68" y="84"/>
                  <a:pt x="76" y="79"/>
                  <a:pt x="82" y="70"/>
                </a:cubicBezTo>
                <a:cubicBezTo>
                  <a:pt x="85" y="65"/>
                  <a:pt x="82" y="59"/>
                  <a:pt x="79" y="56"/>
                </a:cubicBezTo>
                <a:lnTo>
                  <a:pt x="79" y="56"/>
                </a:lnTo>
                <a:lnTo>
                  <a:pt x="59" y="36"/>
                </a:lnTo>
                <a:cubicBezTo>
                  <a:pt x="54" y="31"/>
                  <a:pt x="51" y="31"/>
                  <a:pt x="48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204"/>
          <p:cNvSpPr/>
          <p:nvPr/>
        </p:nvSpPr>
        <p:spPr>
          <a:xfrm>
            <a:off x="3139920" y="5356080"/>
            <a:ext cx="7812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7" y="112"/>
                </a:moveTo>
                <a:cubicBezTo>
                  <a:pt x="37" y="112"/>
                  <a:pt x="17" y="101"/>
                  <a:pt x="9" y="84"/>
                </a:cubicBezTo>
                <a:cubicBezTo>
                  <a:pt x="0" y="70"/>
                  <a:pt x="3" y="48"/>
                  <a:pt x="17" y="36"/>
                </a:cubicBezTo>
                <a:lnTo>
                  <a:pt x="17" y="36"/>
                </a:lnTo>
                <a:lnTo>
                  <a:pt x="37" y="17"/>
                </a:lnTo>
                <a:cubicBezTo>
                  <a:pt x="51" y="2"/>
                  <a:pt x="71" y="0"/>
                  <a:pt x="85" y="8"/>
                </a:cubicBezTo>
                <a:cubicBezTo>
                  <a:pt x="102" y="19"/>
                  <a:pt x="113" y="36"/>
                  <a:pt x="113" y="56"/>
                </a:cubicBezTo>
                <a:cubicBezTo>
                  <a:pt x="113" y="87"/>
                  <a:pt x="88" y="112"/>
                  <a:pt x="57" y="112"/>
                </a:cubicBezTo>
                <a:close/>
                <a:moveTo>
                  <a:pt x="37" y="56"/>
                </a:moveTo>
                <a:cubicBezTo>
                  <a:pt x="31" y="62"/>
                  <a:pt x="31" y="67"/>
                  <a:pt x="34" y="70"/>
                </a:cubicBezTo>
                <a:cubicBezTo>
                  <a:pt x="40" y="79"/>
                  <a:pt x="48" y="84"/>
                  <a:pt x="60" y="84"/>
                </a:cubicBezTo>
                <a:cubicBezTo>
                  <a:pt x="77" y="84"/>
                  <a:pt x="88" y="73"/>
                  <a:pt x="88" y="56"/>
                </a:cubicBezTo>
                <a:cubicBezTo>
                  <a:pt x="88" y="45"/>
                  <a:pt x="82" y="36"/>
                  <a:pt x="74" y="31"/>
                </a:cubicBezTo>
                <a:cubicBezTo>
                  <a:pt x="68" y="28"/>
                  <a:pt x="63" y="31"/>
                  <a:pt x="60" y="33"/>
                </a:cubicBezTo>
                <a:lnTo>
                  <a:pt x="37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205"/>
          <p:cNvSpPr/>
          <p:nvPr/>
        </p:nvSpPr>
        <p:spPr>
          <a:xfrm>
            <a:off x="3735360" y="3067200"/>
            <a:ext cx="309600" cy="77760"/>
          </a:xfrm>
          <a:custGeom>
            <a:avLst/>
            <a:gdLst/>
            <a:ahLst/>
            <a:rect l="l" t="t" r="r" b="b"/>
            <a:pathLst>
              <a:path w="453" h="114">
                <a:moveTo>
                  <a:pt x="437" y="113"/>
                </a:moveTo>
                <a:lnTo>
                  <a:pt x="14" y="113"/>
                </a:lnTo>
                <a:cubicBezTo>
                  <a:pt x="6" y="113"/>
                  <a:pt x="0" y="108"/>
                  <a:pt x="0" y="99"/>
                </a:cubicBezTo>
                <a:lnTo>
                  <a:pt x="0" y="29"/>
                </a:lnTo>
                <a:cubicBezTo>
                  <a:pt x="0" y="12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2" y="12"/>
                  <a:pt x="452" y="29"/>
                </a:cubicBezTo>
                <a:lnTo>
                  <a:pt x="452" y="99"/>
                </a:lnTo>
                <a:cubicBezTo>
                  <a:pt x="452" y="108"/>
                  <a:pt x="446" y="113"/>
                  <a:pt x="437" y="113"/>
                </a:cubicBezTo>
                <a:close/>
                <a:moveTo>
                  <a:pt x="28" y="85"/>
                </a:moveTo>
                <a:lnTo>
                  <a:pt x="423" y="85"/>
                </a:lnTo>
                <a:lnTo>
                  <a:pt x="423" y="29"/>
                </a:lnTo>
                <a:lnTo>
                  <a:pt x="28" y="29"/>
                </a:lnTo>
                <a:lnTo>
                  <a:pt x="28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06"/>
          <p:cNvSpPr/>
          <p:nvPr/>
        </p:nvSpPr>
        <p:spPr>
          <a:xfrm>
            <a:off x="3754440" y="3133800"/>
            <a:ext cx="268200" cy="142920"/>
          </a:xfrm>
          <a:custGeom>
            <a:avLst/>
            <a:gdLst/>
            <a:ahLst/>
            <a:rect l="l" t="t" r="r" b="b"/>
            <a:pathLst>
              <a:path w="396" h="213">
                <a:moveTo>
                  <a:pt x="367" y="212"/>
                </a:moveTo>
                <a:lnTo>
                  <a:pt x="29" y="212"/>
                </a:lnTo>
                <a:cubicBezTo>
                  <a:pt x="12" y="212"/>
                  <a:pt x="0" y="201"/>
                  <a:pt x="0" y="184"/>
                </a:cubicBezTo>
                <a:lnTo>
                  <a:pt x="0" y="0"/>
                </a:lnTo>
                <a:lnTo>
                  <a:pt x="29" y="0"/>
                </a:lnTo>
                <a:lnTo>
                  <a:pt x="29" y="184"/>
                </a:lnTo>
                <a:lnTo>
                  <a:pt x="367" y="184"/>
                </a:lnTo>
                <a:lnTo>
                  <a:pt x="367" y="0"/>
                </a:lnTo>
                <a:lnTo>
                  <a:pt x="395" y="0"/>
                </a:lnTo>
                <a:lnTo>
                  <a:pt x="395" y="184"/>
                </a:lnTo>
                <a:cubicBezTo>
                  <a:pt x="395" y="201"/>
                  <a:pt x="384" y="212"/>
                  <a:pt x="367" y="21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207"/>
          <p:cNvSpPr/>
          <p:nvPr/>
        </p:nvSpPr>
        <p:spPr>
          <a:xfrm>
            <a:off x="3879720" y="3076560"/>
            <a:ext cx="20880" cy="192240"/>
          </a:xfrm>
          <a:custGeom>
            <a:avLst/>
            <a:gdLst/>
            <a:ahLst/>
            <a:rect l="l" t="t" r="r" b="b"/>
            <a:pathLst>
              <a:path w="29" h="283">
                <a:moveTo>
                  <a:pt x="14" y="282"/>
                </a:moveTo>
                <a:lnTo>
                  <a:pt x="0" y="282"/>
                </a:lnTo>
                <a:lnTo>
                  <a:pt x="0" y="0"/>
                </a:lnTo>
                <a:lnTo>
                  <a:pt x="28" y="0"/>
                </a:lnTo>
                <a:lnTo>
                  <a:pt x="28" y="282"/>
                </a:lnTo>
                <a:lnTo>
                  <a:pt x="14" y="28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208"/>
          <p:cNvSpPr/>
          <p:nvPr/>
        </p:nvSpPr>
        <p:spPr>
          <a:xfrm>
            <a:off x="3786120" y="2989440"/>
            <a:ext cx="198360" cy="99720"/>
          </a:xfrm>
          <a:custGeom>
            <a:avLst/>
            <a:gdLst/>
            <a:ahLst/>
            <a:rect l="l" t="t" r="r" b="b"/>
            <a:pathLst>
              <a:path w="292" h="146">
                <a:moveTo>
                  <a:pt x="184" y="145"/>
                </a:moveTo>
                <a:lnTo>
                  <a:pt x="113" y="145"/>
                </a:lnTo>
                <a:cubicBezTo>
                  <a:pt x="85" y="145"/>
                  <a:pt x="40" y="119"/>
                  <a:pt x="23" y="105"/>
                </a:cubicBezTo>
                <a:cubicBezTo>
                  <a:pt x="0" y="83"/>
                  <a:pt x="0" y="46"/>
                  <a:pt x="23" y="23"/>
                </a:cubicBezTo>
                <a:cubicBezTo>
                  <a:pt x="45" y="1"/>
                  <a:pt x="82" y="1"/>
                  <a:pt x="105" y="23"/>
                </a:cubicBezTo>
                <a:cubicBezTo>
                  <a:pt x="116" y="35"/>
                  <a:pt x="150" y="85"/>
                  <a:pt x="144" y="119"/>
                </a:cubicBezTo>
                <a:lnTo>
                  <a:pt x="147" y="119"/>
                </a:lnTo>
                <a:cubicBezTo>
                  <a:pt x="141" y="85"/>
                  <a:pt x="175" y="35"/>
                  <a:pt x="187" y="23"/>
                </a:cubicBezTo>
                <a:cubicBezTo>
                  <a:pt x="209" y="1"/>
                  <a:pt x="245" y="0"/>
                  <a:pt x="268" y="23"/>
                </a:cubicBezTo>
                <a:cubicBezTo>
                  <a:pt x="290" y="45"/>
                  <a:pt x="291" y="83"/>
                  <a:pt x="268" y="105"/>
                </a:cubicBezTo>
                <a:cubicBezTo>
                  <a:pt x="257" y="119"/>
                  <a:pt x="215" y="145"/>
                  <a:pt x="184" y="145"/>
                </a:cubicBezTo>
                <a:close/>
                <a:moveTo>
                  <a:pt x="184" y="116"/>
                </a:moveTo>
                <a:cubicBezTo>
                  <a:pt x="203" y="116"/>
                  <a:pt x="240" y="97"/>
                  <a:pt x="251" y="83"/>
                </a:cubicBezTo>
                <a:cubicBezTo>
                  <a:pt x="263" y="71"/>
                  <a:pt x="262" y="51"/>
                  <a:pt x="251" y="40"/>
                </a:cubicBezTo>
                <a:cubicBezTo>
                  <a:pt x="239" y="29"/>
                  <a:pt x="220" y="29"/>
                  <a:pt x="209" y="40"/>
                </a:cubicBezTo>
                <a:cubicBezTo>
                  <a:pt x="189" y="60"/>
                  <a:pt x="172" y="108"/>
                  <a:pt x="178" y="116"/>
                </a:cubicBezTo>
                <a:cubicBezTo>
                  <a:pt x="181" y="116"/>
                  <a:pt x="181" y="116"/>
                  <a:pt x="184" y="116"/>
                </a:cubicBezTo>
                <a:close/>
                <a:moveTo>
                  <a:pt x="68" y="32"/>
                </a:moveTo>
                <a:cubicBezTo>
                  <a:pt x="60" y="32"/>
                  <a:pt x="51" y="35"/>
                  <a:pt x="45" y="40"/>
                </a:cubicBezTo>
                <a:cubicBezTo>
                  <a:pt x="34" y="51"/>
                  <a:pt x="33" y="71"/>
                  <a:pt x="45" y="83"/>
                </a:cubicBezTo>
                <a:cubicBezTo>
                  <a:pt x="56" y="94"/>
                  <a:pt x="96" y="116"/>
                  <a:pt x="113" y="116"/>
                </a:cubicBezTo>
                <a:cubicBezTo>
                  <a:pt x="116" y="116"/>
                  <a:pt x="119" y="116"/>
                  <a:pt x="119" y="116"/>
                </a:cubicBezTo>
                <a:cubicBezTo>
                  <a:pt x="124" y="111"/>
                  <a:pt x="108" y="60"/>
                  <a:pt x="88" y="40"/>
                </a:cubicBezTo>
                <a:cubicBezTo>
                  <a:pt x="82" y="35"/>
                  <a:pt x="76" y="32"/>
                  <a:pt x="68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09"/>
          <p:cNvSpPr/>
          <p:nvPr/>
        </p:nvSpPr>
        <p:spPr>
          <a:xfrm>
            <a:off x="7564320" y="2262240"/>
            <a:ext cx="308160" cy="212760"/>
          </a:xfrm>
          <a:custGeom>
            <a:avLst/>
            <a:gdLst/>
            <a:ahLst/>
            <a:rect l="l" t="t" r="r" b="b"/>
            <a:pathLst>
              <a:path w="452" h="312">
                <a:moveTo>
                  <a:pt x="423" y="311"/>
                </a:moveTo>
                <a:lnTo>
                  <a:pt x="28" y="311"/>
                </a:lnTo>
                <a:cubicBezTo>
                  <a:pt x="11" y="311"/>
                  <a:pt x="0" y="299"/>
                  <a:pt x="0" y="282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1" y="11"/>
                  <a:pt x="451" y="28"/>
                </a:cubicBezTo>
                <a:lnTo>
                  <a:pt x="451" y="282"/>
                </a:lnTo>
                <a:cubicBezTo>
                  <a:pt x="451" y="299"/>
                  <a:pt x="440" y="311"/>
                  <a:pt x="423" y="311"/>
                </a:cubicBezTo>
                <a:close/>
                <a:moveTo>
                  <a:pt x="28" y="28"/>
                </a:moveTo>
                <a:lnTo>
                  <a:pt x="28" y="282"/>
                </a:lnTo>
                <a:lnTo>
                  <a:pt x="423" y="282"/>
                </a:lnTo>
                <a:lnTo>
                  <a:pt x="423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10"/>
          <p:cNvSpPr/>
          <p:nvPr/>
        </p:nvSpPr>
        <p:spPr>
          <a:xfrm>
            <a:off x="7574040" y="2359080"/>
            <a:ext cx="287280" cy="20520"/>
          </a:xfrm>
          <a:custGeom>
            <a:avLst/>
            <a:gdLst/>
            <a:ahLst/>
            <a:rect l="l" t="t" r="r" b="b"/>
            <a:pathLst>
              <a:path w="424" h="29">
                <a:moveTo>
                  <a:pt x="409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409" y="0"/>
                </a:lnTo>
                <a:cubicBezTo>
                  <a:pt x="418" y="0"/>
                  <a:pt x="423" y="5"/>
                  <a:pt x="423" y="14"/>
                </a:cubicBezTo>
                <a:cubicBezTo>
                  <a:pt x="423" y="22"/>
                  <a:pt x="418" y="28"/>
                  <a:pt x="409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211"/>
          <p:cNvSpPr/>
          <p:nvPr/>
        </p:nvSpPr>
        <p:spPr>
          <a:xfrm>
            <a:off x="7736040" y="2271600"/>
            <a:ext cx="20520" cy="192240"/>
          </a:xfrm>
          <a:custGeom>
            <a:avLst/>
            <a:gdLst/>
            <a:ahLst/>
            <a:rect l="l" t="t" r="r" b="b"/>
            <a:pathLst>
              <a:path w="29" h="283">
                <a:moveTo>
                  <a:pt x="14" y="282"/>
                </a:moveTo>
                <a:cubicBezTo>
                  <a:pt x="6" y="282"/>
                  <a:pt x="0" y="277"/>
                  <a:pt x="0" y="268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268"/>
                </a:lnTo>
                <a:cubicBezTo>
                  <a:pt x="28" y="277"/>
                  <a:pt x="23" y="282"/>
                  <a:pt x="14" y="28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12"/>
          <p:cNvSpPr/>
          <p:nvPr/>
        </p:nvSpPr>
        <p:spPr>
          <a:xfrm>
            <a:off x="7658280" y="2298600"/>
            <a:ext cx="101520" cy="77760"/>
          </a:xfrm>
          <a:custGeom>
            <a:avLst/>
            <a:gdLst/>
            <a:ahLst/>
            <a:rect l="l" t="t" r="r" b="b"/>
            <a:pathLst>
              <a:path w="148" h="116">
                <a:moveTo>
                  <a:pt x="130" y="115"/>
                </a:moveTo>
                <a:lnTo>
                  <a:pt x="127" y="115"/>
                </a:lnTo>
                <a:cubicBezTo>
                  <a:pt x="91" y="104"/>
                  <a:pt x="28" y="87"/>
                  <a:pt x="17" y="76"/>
                </a:cubicBezTo>
                <a:cubicBezTo>
                  <a:pt x="0" y="59"/>
                  <a:pt x="0" y="34"/>
                  <a:pt x="17" y="17"/>
                </a:cubicBezTo>
                <a:cubicBezTo>
                  <a:pt x="34" y="0"/>
                  <a:pt x="60" y="0"/>
                  <a:pt x="76" y="17"/>
                </a:cubicBezTo>
                <a:lnTo>
                  <a:pt x="76" y="17"/>
                </a:lnTo>
                <a:cubicBezTo>
                  <a:pt x="88" y="28"/>
                  <a:pt x="136" y="87"/>
                  <a:pt x="141" y="93"/>
                </a:cubicBezTo>
                <a:cubicBezTo>
                  <a:pt x="144" y="99"/>
                  <a:pt x="147" y="104"/>
                  <a:pt x="141" y="110"/>
                </a:cubicBezTo>
                <a:cubicBezTo>
                  <a:pt x="139" y="113"/>
                  <a:pt x="136" y="115"/>
                  <a:pt x="130" y="115"/>
                </a:cubicBezTo>
                <a:close/>
                <a:moveTo>
                  <a:pt x="45" y="31"/>
                </a:moveTo>
                <a:cubicBezTo>
                  <a:pt x="43" y="31"/>
                  <a:pt x="37" y="31"/>
                  <a:pt x="34" y="34"/>
                </a:cubicBezTo>
                <a:cubicBezTo>
                  <a:pt x="28" y="39"/>
                  <a:pt x="28" y="48"/>
                  <a:pt x="34" y="53"/>
                </a:cubicBezTo>
                <a:cubicBezTo>
                  <a:pt x="40" y="56"/>
                  <a:pt x="62" y="65"/>
                  <a:pt x="88" y="73"/>
                </a:cubicBezTo>
                <a:cubicBezTo>
                  <a:pt x="74" y="56"/>
                  <a:pt x="60" y="39"/>
                  <a:pt x="54" y="34"/>
                </a:cubicBezTo>
                <a:cubicBezTo>
                  <a:pt x="54" y="34"/>
                  <a:pt x="48" y="31"/>
                  <a:pt x="45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13"/>
          <p:cNvSpPr/>
          <p:nvPr/>
        </p:nvSpPr>
        <p:spPr>
          <a:xfrm>
            <a:off x="7736040" y="2298600"/>
            <a:ext cx="98280" cy="77760"/>
          </a:xfrm>
          <a:custGeom>
            <a:avLst/>
            <a:gdLst/>
            <a:ahLst/>
            <a:rect l="l" t="t" r="r" b="b"/>
            <a:pathLst>
              <a:path w="145" h="116">
                <a:moveTo>
                  <a:pt x="14" y="115"/>
                </a:moveTo>
                <a:cubicBezTo>
                  <a:pt x="8" y="115"/>
                  <a:pt x="6" y="113"/>
                  <a:pt x="3" y="110"/>
                </a:cubicBezTo>
                <a:cubicBezTo>
                  <a:pt x="0" y="104"/>
                  <a:pt x="0" y="99"/>
                  <a:pt x="3" y="93"/>
                </a:cubicBezTo>
                <a:cubicBezTo>
                  <a:pt x="8" y="87"/>
                  <a:pt x="56" y="28"/>
                  <a:pt x="68" y="17"/>
                </a:cubicBezTo>
                <a:lnTo>
                  <a:pt x="68" y="17"/>
                </a:lnTo>
                <a:cubicBezTo>
                  <a:pt x="85" y="0"/>
                  <a:pt x="110" y="0"/>
                  <a:pt x="127" y="17"/>
                </a:cubicBezTo>
                <a:cubicBezTo>
                  <a:pt x="144" y="34"/>
                  <a:pt x="144" y="59"/>
                  <a:pt x="127" y="76"/>
                </a:cubicBezTo>
                <a:cubicBezTo>
                  <a:pt x="116" y="87"/>
                  <a:pt x="54" y="107"/>
                  <a:pt x="17" y="115"/>
                </a:cubicBezTo>
                <a:lnTo>
                  <a:pt x="14" y="115"/>
                </a:lnTo>
                <a:close/>
                <a:moveTo>
                  <a:pt x="87" y="36"/>
                </a:moveTo>
                <a:cubicBezTo>
                  <a:pt x="82" y="42"/>
                  <a:pt x="68" y="59"/>
                  <a:pt x="54" y="76"/>
                </a:cubicBezTo>
                <a:cubicBezTo>
                  <a:pt x="82" y="68"/>
                  <a:pt x="104" y="59"/>
                  <a:pt x="107" y="56"/>
                </a:cubicBezTo>
                <a:cubicBezTo>
                  <a:pt x="113" y="51"/>
                  <a:pt x="113" y="42"/>
                  <a:pt x="107" y="36"/>
                </a:cubicBezTo>
                <a:cubicBezTo>
                  <a:pt x="104" y="31"/>
                  <a:pt x="93" y="31"/>
                  <a:pt x="87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14"/>
          <p:cNvSpPr/>
          <p:nvPr/>
        </p:nvSpPr>
        <p:spPr>
          <a:xfrm>
            <a:off x="7688160" y="2359080"/>
            <a:ext cx="68400" cy="6804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17" y="99"/>
                </a:moveTo>
                <a:cubicBezTo>
                  <a:pt x="14" y="99"/>
                  <a:pt x="8" y="99"/>
                  <a:pt x="5" y="96"/>
                </a:cubicBezTo>
                <a:cubicBezTo>
                  <a:pt x="0" y="91"/>
                  <a:pt x="0" y="82"/>
                  <a:pt x="5" y="76"/>
                </a:cubicBezTo>
                <a:lnTo>
                  <a:pt x="76" y="6"/>
                </a:lnTo>
                <a:cubicBezTo>
                  <a:pt x="81" y="0"/>
                  <a:pt x="91" y="0"/>
                  <a:pt x="96" y="6"/>
                </a:cubicBezTo>
                <a:cubicBezTo>
                  <a:pt x="102" y="12"/>
                  <a:pt x="101" y="20"/>
                  <a:pt x="96" y="26"/>
                </a:cubicBezTo>
                <a:lnTo>
                  <a:pt x="25" y="96"/>
                </a:lnTo>
                <a:cubicBezTo>
                  <a:pt x="25" y="99"/>
                  <a:pt x="19" y="99"/>
                  <a:pt x="17" y="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15"/>
          <p:cNvSpPr/>
          <p:nvPr/>
        </p:nvSpPr>
        <p:spPr>
          <a:xfrm>
            <a:off x="7736040" y="2359080"/>
            <a:ext cx="68040" cy="6804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88" y="99"/>
                </a:moveTo>
                <a:cubicBezTo>
                  <a:pt x="85" y="99"/>
                  <a:pt x="79" y="99"/>
                  <a:pt x="76" y="96"/>
                </a:cubicBezTo>
                <a:lnTo>
                  <a:pt x="6" y="26"/>
                </a:lnTo>
                <a:cubicBezTo>
                  <a:pt x="0" y="20"/>
                  <a:pt x="1" y="12"/>
                  <a:pt x="6" y="6"/>
                </a:cubicBezTo>
                <a:cubicBezTo>
                  <a:pt x="12" y="0"/>
                  <a:pt x="20" y="0"/>
                  <a:pt x="26" y="6"/>
                </a:cubicBezTo>
                <a:lnTo>
                  <a:pt x="96" y="76"/>
                </a:lnTo>
                <a:cubicBezTo>
                  <a:pt x="102" y="82"/>
                  <a:pt x="102" y="91"/>
                  <a:pt x="96" y="96"/>
                </a:cubicBezTo>
                <a:cubicBezTo>
                  <a:pt x="96" y="99"/>
                  <a:pt x="90" y="99"/>
                  <a:pt x="88" y="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16"/>
          <p:cNvSpPr/>
          <p:nvPr/>
        </p:nvSpPr>
        <p:spPr>
          <a:xfrm>
            <a:off x="7601040" y="2416320"/>
            <a:ext cx="77760" cy="20520"/>
          </a:xfrm>
          <a:custGeom>
            <a:avLst/>
            <a:gdLst/>
            <a:ahLst/>
            <a:rect l="l" t="t" r="r" b="b"/>
            <a:pathLst>
              <a:path w="114" h="29">
                <a:moveTo>
                  <a:pt x="99" y="28"/>
                </a:moveTo>
                <a:lnTo>
                  <a:pt x="15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5" y="0"/>
                </a:cubicBezTo>
                <a:lnTo>
                  <a:pt x="99" y="0"/>
                </a:lnTo>
                <a:cubicBezTo>
                  <a:pt x="108" y="0"/>
                  <a:pt x="113" y="5"/>
                  <a:pt x="113" y="14"/>
                </a:cubicBezTo>
                <a:cubicBezTo>
                  <a:pt x="113" y="22"/>
                  <a:pt x="108" y="28"/>
                  <a:pt x="99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17"/>
          <p:cNvSpPr/>
          <p:nvPr/>
        </p:nvSpPr>
        <p:spPr>
          <a:xfrm>
            <a:off x="6856560" y="2454120"/>
            <a:ext cx="5868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42" y="85"/>
                </a:moveTo>
                <a:cubicBezTo>
                  <a:pt x="20" y="85"/>
                  <a:pt x="0" y="65"/>
                  <a:pt x="0" y="43"/>
                </a:cubicBezTo>
                <a:cubicBezTo>
                  <a:pt x="0" y="20"/>
                  <a:pt x="20" y="0"/>
                  <a:pt x="42" y="0"/>
                </a:cubicBezTo>
                <a:cubicBezTo>
                  <a:pt x="65" y="0"/>
                  <a:pt x="85" y="20"/>
                  <a:pt x="85" y="43"/>
                </a:cubicBezTo>
                <a:cubicBezTo>
                  <a:pt x="85" y="65"/>
                  <a:pt x="65" y="85"/>
                  <a:pt x="42" y="85"/>
                </a:cubicBezTo>
                <a:close/>
                <a:moveTo>
                  <a:pt x="42" y="29"/>
                </a:moveTo>
                <a:cubicBezTo>
                  <a:pt x="34" y="29"/>
                  <a:pt x="28" y="34"/>
                  <a:pt x="28" y="43"/>
                </a:cubicBezTo>
                <a:cubicBezTo>
                  <a:pt x="28" y="51"/>
                  <a:pt x="34" y="57"/>
                  <a:pt x="42" y="57"/>
                </a:cubicBezTo>
                <a:cubicBezTo>
                  <a:pt x="51" y="57"/>
                  <a:pt x="56" y="51"/>
                  <a:pt x="56" y="43"/>
                </a:cubicBezTo>
                <a:cubicBezTo>
                  <a:pt x="56" y="34"/>
                  <a:pt x="51" y="29"/>
                  <a:pt x="42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18"/>
          <p:cNvSpPr/>
          <p:nvPr/>
        </p:nvSpPr>
        <p:spPr>
          <a:xfrm>
            <a:off x="6835680" y="2203560"/>
            <a:ext cx="58680" cy="271440"/>
          </a:xfrm>
          <a:custGeom>
            <a:avLst/>
            <a:gdLst/>
            <a:ahLst/>
            <a:rect l="l" t="t" r="r" b="b"/>
            <a:pathLst>
              <a:path w="88" h="400">
                <a:moveTo>
                  <a:pt x="73" y="399"/>
                </a:moveTo>
                <a:cubicBezTo>
                  <a:pt x="65" y="399"/>
                  <a:pt x="59" y="393"/>
                  <a:pt x="59" y="384"/>
                </a:cubicBezTo>
                <a:lnTo>
                  <a:pt x="59" y="80"/>
                </a:lnTo>
                <a:lnTo>
                  <a:pt x="5" y="26"/>
                </a:lnTo>
                <a:cubicBezTo>
                  <a:pt x="0" y="20"/>
                  <a:pt x="0" y="11"/>
                  <a:pt x="5" y="6"/>
                </a:cubicBezTo>
                <a:cubicBezTo>
                  <a:pt x="11" y="0"/>
                  <a:pt x="20" y="1"/>
                  <a:pt x="25" y="6"/>
                </a:cubicBezTo>
                <a:lnTo>
                  <a:pt x="82" y="63"/>
                </a:lnTo>
                <a:cubicBezTo>
                  <a:pt x="84" y="66"/>
                  <a:pt x="84" y="68"/>
                  <a:pt x="84" y="74"/>
                </a:cubicBezTo>
                <a:lnTo>
                  <a:pt x="84" y="384"/>
                </a:lnTo>
                <a:cubicBezTo>
                  <a:pt x="87" y="393"/>
                  <a:pt x="82" y="399"/>
                  <a:pt x="73" y="3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19"/>
          <p:cNvSpPr/>
          <p:nvPr/>
        </p:nvSpPr>
        <p:spPr>
          <a:xfrm>
            <a:off x="6894360" y="2475000"/>
            <a:ext cx="174600" cy="20520"/>
          </a:xfrm>
          <a:custGeom>
            <a:avLst/>
            <a:gdLst/>
            <a:ahLst/>
            <a:rect l="l" t="t" r="r" b="b"/>
            <a:pathLst>
              <a:path w="255" h="29">
                <a:moveTo>
                  <a:pt x="240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240" y="0"/>
                </a:lnTo>
                <a:cubicBezTo>
                  <a:pt x="249" y="0"/>
                  <a:pt x="254" y="5"/>
                  <a:pt x="254" y="14"/>
                </a:cubicBezTo>
                <a:cubicBezTo>
                  <a:pt x="254" y="22"/>
                  <a:pt x="249" y="28"/>
                  <a:pt x="240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20"/>
          <p:cNvSpPr/>
          <p:nvPr/>
        </p:nvSpPr>
        <p:spPr>
          <a:xfrm>
            <a:off x="6873840" y="2359080"/>
            <a:ext cx="173160" cy="135000"/>
          </a:xfrm>
          <a:custGeom>
            <a:avLst/>
            <a:gdLst/>
            <a:ahLst/>
            <a:rect l="l" t="t" r="r" b="b"/>
            <a:pathLst>
              <a:path w="255" h="199">
                <a:moveTo>
                  <a:pt x="240" y="198"/>
                </a:moveTo>
                <a:cubicBezTo>
                  <a:pt x="231" y="198"/>
                  <a:pt x="226" y="192"/>
                  <a:pt x="226" y="184"/>
                </a:cubicBezTo>
                <a:lnTo>
                  <a:pt x="226" y="28"/>
                </a:ln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240" y="0"/>
                </a:lnTo>
                <a:cubicBezTo>
                  <a:pt x="248" y="0"/>
                  <a:pt x="254" y="6"/>
                  <a:pt x="254" y="14"/>
                </a:cubicBezTo>
                <a:lnTo>
                  <a:pt x="254" y="184"/>
                </a:lnTo>
                <a:cubicBezTo>
                  <a:pt x="254" y="192"/>
                  <a:pt x="248" y="198"/>
                  <a:pt x="240" y="19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21"/>
          <p:cNvSpPr/>
          <p:nvPr/>
        </p:nvSpPr>
        <p:spPr>
          <a:xfrm>
            <a:off x="6873840" y="2284560"/>
            <a:ext cx="135000" cy="95040"/>
          </a:xfrm>
          <a:custGeom>
            <a:avLst/>
            <a:gdLst/>
            <a:ahLst/>
            <a:rect l="l" t="t" r="r" b="b"/>
            <a:pathLst>
              <a:path w="199" h="142">
                <a:moveTo>
                  <a:pt x="183" y="141"/>
                </a:moveTo>
                <a:cubicBezTo>
                  <a:pt x="175" y="141"/>
                  <a:pt x="169" y="136"/>
                  <a:pt x="169" y="127"/>
                </a:cubicBezTo>
                <a:lnTo>
                  <a:pt x="169" y="29"/>
                </a:lnTo>
                <a:lnTo>
                  <a:pt x="14" y="29"/>
                </a:lnTo>
                <a:cubicBezTo>
                  <a:pt x="6" y="29"/>
                  <a:pt x="0" y="23"/>
                  <a:pt x="0" y="15"/>
                </a:cubicBezTo>
                <a:cubicBezTo>
                  <a:pt x="0" y="6"/>
                  <a:pt x="6" y="0"/>
                  <a:pt x="14" y="0"/>
                </a:cubicBezTo>
                <a:lnTo>
                  <a:pt x="183" y="0"/>
                </a:lnTo>
                <a:cubicBezTo>
                  <a:pt x="192" y="0"/>
                  <a:pt x="198" y="6"/>
                  <a:pt x="198" y="15"/>
                </a:cubicBezTo>
                <a:lnTo>
                  <a:pt x="198" y="127"/>
                </a:lnTo>
                <a:cubicBezTo>
                  <a:pt x="198" y="136"/>
                  <a:pt x="192" y="141"/>
                  <a:pt x="183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22"/>
          <p:cNvSpPr/>
          <p:nvPr/>
        </p:nvSpPr>
        <p:spPr>
          <a:xfrm>
            <a:off x="6934320" y="2359080"/>
            <a:ext cx="56880" cy="58680"/>
          </a:xfrm>
          <a:custGeom>
            <a:avLst/>
            <a:gdLst/>
            <a:ahLst/>
            <a:rect l="l" t="t" r="r" b="b"/>
            <a:pathLst>
              <a:path w="85" h="86">
                <a:moveTo>
                  <a:pt x="70" y="85"/>
                </a:moveTo>
                <a:lnTo>
                  <a:pt x="14" y="85"/>
                </a:lnTo>
                <a:cubicBezTo>
                  <a:pt x="5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57"/>
                </a:lnTo>
                <a:lnTo>
                  <a:pt x="56" y="57"/>
                </a:lnTo>
                <a:lnTo>
                  <a:pt x="56" y="14"/>
                </a:lnTo>
                <a:cubicBezTo>
                  <a:pt x="56" y="6"/>
                  <a:pt x="62" y="0"/>
                  <a:pt x="70" y="0"/>
                </a:cubicBezTo>
                <a:cubicBezTo>
                  <a:pt x="79" y="0"/>
                  <a:pt x="84" y="6"/>
                  <a:pt x="84" y="14"/>
                </a:cubicBezTo>
                <a:lnTo>
                  <a:pt x="84" y="71"/>
                </a:lnTo>
                <a:cubicBezTo>
                  <a:pt x="84" y="79"/>
                  <a:pt x="79" y="85"/>
                  <a:pt x="70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23"/>
          <p:cNvSpPr/>
          <p:nvPr/>
        </p:nvSpPr>
        <p:spPr>
          <a:xfrm>
            <a:off x="6934320" y="2284560"/>
            <a:ext cx="20520" cy="37800"/>
          </a:xfrm>
          <a:custGeom>
            <a:avLst/>
            <a:gdLst/>
            <a:ahLst/>
            <a:rect l="l" t="t" r="r" b="b"/>
            <a:pathLst>
              <a:path w="29" h="58">
                <a:moveTo>
                  <a:pt x="14" y="57"/>
                </a:moveTo>
                <a:cubicBezTo>
                  <a:pt x="5" y="57"/>
                  <a:pt x="0" y="51"/>
                  <a:pt x="0" y="43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43"/>
                </a:lnTo>
                <a:cubicBezTo>
                  <a:pt x="28" y="51"/>
                  <a:pt x="22" y="57"/>
                  <a:pt x="14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24"/>
          <p:cNvSpPr/>
          <p:nvPr/>
        </p:nvSpPr>
        <p:spPr>
          <a:xfrm>
            <a:off x="4597560" y="3219480"/>
            <a:ext cx="60120" cy="60120"/>
          </a:xfrm>
          <a:custGeom>
            <a:avLst/>
            <a:gdLst/>
            <a:ahLst/>
            <a:rect l="l" t="t" r="r" b="b"/>
            <a:pathLst>
              <a:path w="86" h="86">
                <a:moveTo>
                  <a:pt x="42" y="85"/>
                </a:moveTo>
                <a:cubicBezTo>
                  <a:pt x="20" y="85"/>
                  <a:pt x="0" y="64"/>
                  <a:pt x="0" y="42"/>
                </a:cubicBezTo>
                <a:cubicBezTo>
                  <a:pt x="0" y="19"/>
                  <a:pt x="19" y="0"/>
                  <a:pt x="42" y="0"/>
                </a:cubicBezTo>
                <a:cubicBezTo>
                  <a:pt x="64" y="0"/>
                  <a:pt x="85" y="19"/>
                  <a:pt x="85" y="42"/>
                </a:cubicBezTo>
                <a:cubicBezTo>
                  <a:pt x="85" y="64"/>
                  <a:pt x="65" y="85"/>
                  <a:pt x="42" y="85"/>
                </a:cubicBezTo>
                <a:close/>
                <a:moveTo>
                  <a:pt x="42" y="28"/>
                </a:moveTo>
                <a:cubicBezTo>
                  <a:pt x="34" y="28"/>
                  <a:pt x="28" y="33"/>
                  <a:pt x="28" y="42"/>
                </a:cubicBezTo>
                <a:cubicBezTo>
                  <a:pt x="28" y="50"/>
                  <a:pt x="33" y="57"/>
                  <a:pt x="42" y="57"/>
                </a:cubicBezTo>
                <a:cubicBezTo>
                  <a:pt x="50" y="57"/>
                  <a:pt x="56" y="50"/>
                  <a:pt x="56" y="42"/>
                </a:cubicBezTo>
                <a:cubicBezTo>
                  <a:pt x="56" y="33"/>
                  <a:pt x="51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25"/>
          <p:cNvSpPr/>
          <p:nvPr/>
        </p:nvSpPr>
        <p:spPr>
          <a:xfrm>
            <a:off x="4711680" y="3219480"/>
            <a:ext cx="58680" cy="6012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85"/>
                </a:moveTo>
                <a:cubicBezTo>
                  <a:pt x="20" y="85"/>
                  <a:pt x="0" y="64"/>
                  <a:pt x="0" y="42"/>
                </a:cubicBezTo>
                <a:cubicBezTo>
                  <a:pt x="0" y="19"/>
                  <a:pt x="20" y="0"/>
                  <a:pt x="43" y="0"/>
                </a:cubicBezTo>
                <a:cubicBezTo>
                  <a:pt x="65" y="0"/>
                  <a:pt x="85" y="19"/>
                  <a:pt x="85" y="42"/>
                </a:cubicBezTo>
                <a:cubicBezTo>
                  <a:pt x="85" y="64"/>
                  <a:pt x="65" y="85"/>
                  <a:pt x="43" y="85"/>
                </a:cubicBezTo>
                <a:close/>
                <a:moveTo>
                  <a:pt x="43" y="28"/>
                </a:moveTo>
                <a:cubicBezTo>
                  <a:pt x="34" y="28"/>
                  <a:pt x="28" y="33"/>
                  <a:pt x="28" y="42"/>
                </a:cubicBezTo>
                <a:cubicBezTo>
                  <a:pt x="28" y="50"/>
                  <a:pt x="34" y="57"/>
                  <a:pt x="43" y="57"/>
                </a:cubicBezTo>
                <a:cubicBezTo>
                  <a:pt x="51" y="57"/>
                  <a:pt x="57" y="50"/>
                  <a:pt x="57" y="42"/>
                </a:cubicBezTo>
                <a:cubicBezTo>
                  <a:pt x="57" y="33"/>
                  <a:pt x="51" y="28"/>
                  <a:pt x="43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226"/>
          <p:cNvSpPr/>
          <p:nvPr/>
        </p:nvSpPr>
        <p:spPr>
          <a:xfrm>
            <a:off x="4502160" y="2992320"/>
            <a:ext cx="268200" cy="212760"/>
          </a:xfrm>
          <a:custGeom>
            <a:avLst/>
            <a:gdLst/>
            <a:ahLst/>
            <a:rect l="l" t="t" r="r" b="b"/>
            <a:pathLst>
              <a:path w="396" h="311">
                <a:moveTo>
                  <a:pt x="381" y="310"/>
                </a:moveTo>
                <a:lnTo>
                  <a:pt x="155" y="310"/>
                </a:lnTo>
                <a:cubicBezTo>
                  <a:pt x="149" y="310"/>
                  <a:pt x="144" y="304"/>
                  <a:pt x="141" y="299"/>
                </a:cubicBezTo>
                <a:lnTo>
                  <a:pt x="68" y="28"/>
                </a:ln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79" y="0"/>
                </a:lnTo>
                <a:cubicBezTo>
                  <a:pt x="85" y="0"/>
                  <a:pt x="90" y="5"/>
                  <a:pt x="93" y="11"/>
                </a:cubicBezTo>
                <a:lnTo>
                  <a:pt x="166" y="282"/>
                </a:lnTo>
                <a:lnTo>
                  <a:pt x="381" y="282"/>
                </a:lnTo>
                <a:cubicBezTo>
                  <a:pt x="389" y="282"/>
                  <a:pt x="395" y="287"/>
                  <a:pt x="395" y="296"/>
                </a:cubicBezTo>
                <a:cubicBezTo>
                  <a:pt x="395" y="304"/>
                  <a:pt x="389" y="310"/>
                  <a:pt x="381" y="31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227"/>
          <p:cNvSpPr/>
          <p:nvPr/>
        </p:nvSpPr>
        <p:spPr>
          <a:xfrm>
            <a:off x="4732200" y="3067200"/>
            <a:ext cx="20880" cy="60120"/>
          </a:xfrm>
          <a:custGeom>
            <a:avLst/>
            <a:gdLst/>
            <a:ahLst/>
            <a:rect l="l" t="t" r="r" b="b"/>
            <a:pathLst>
              <a:path w="30" h="86">
                <a:moveTo>
                  <a:pt x="15" y="85"/>
                </a:moveTo>
                <a:cubicBezTo>
                  <a:pt x="6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6" y="0"/>
                  <a:pt x="15" y="0"/>
                </a:cubicBezTo>
                <a:cubicBezTo>
                  <a:pt x="23" y="0"/>
                  <a:pt x="29" y="6"/>
                  <a:pt x="29" y="15"/>
                </a:cubicBezTo>
                <a:lnTo>
                  <a:pt x="29" y="71"/>
                </a:lnTo>
                <a:cubicBezTo>
                  <a:pt x="29" y="79"/>
                  <a:pt x="23" y="85"/>
                  <a:pt x="15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228"/>
          <p:cNvSpPr/>
          <p:nvPr/>
        </p:nvSpPr>
        <p:spPr>
          <a:xfrm>
            <a:off x="4675320" y="3067200"/>
            <a:ext cx="20520" cy="60120"/>
          </a:xfrm>
          <a:custGeom>
            <a:avLst/>
            <a:gdLst/>
            <a:ahLst/>
            <a:rect l="l" t="t" r="r" b="b"/>
            <a:pathLst>
              <a:path w="29" h="86">
                <a:moveTo>
                  <a:pt x="14" y="85"/>
                </a:moveTo>
                <a:cubicBezTo>
                  <a:pt x="5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5"/>
                </a:cubicBezTo>
                <a:lnTo>
                  <a:pt x="28" y="71"/>
                </a:lnTo>
                <a:cubicBezTo>
                  <a:pt x="28" y="79"/>
                  <a:pt x="22" y="85"/>
                  <a:pt x="14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229"/>
          <p:cNvSpPr/>
          <p:nvPr/>
        </p:nvSpPr>
        <p:spPr>
          <a:xfrm>
            <a:off x="4614840" y="3067200"/>
            <a:ext cx="22320" cy="60120"/>
          </a:xfrm>
          <a:custGeom>
            <a:avLst/>
            <a:gdLst/>
            <a:ahLst/>
            <a:rect l="l" t="t" r="r" b="b"/>
            <a:pathLst>
              <a:path w="29" h="86">
                <a:moveTo>
                  <a:pt x="14" y="85"/>
                </a:moveTo>
                <a:cubicBezTo>
                  <a:pt x="6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5"/>
                </a:cubicBezTo>
                <a:lnTo>
                  <a:pt x="28" y="71"/>
                </a:lnTo>
                <a:cubicBezTo>
                  <a:pt x="28" y="79"/>
                  <a:pt x="23" y="85"/>
                  <a:pt x="14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230"/>
          <p:cNvSpPr/>
          <p:nvPr/>
        </p:nvSpPr>
        <p:spPr>
          <a:xfrm>
            <a:off x="4559400" y="3029040"/>
            <a:ext cx="250560" cy="131760"/>
          </a:xfrm>
          <a:custGeom>
            <a:avLst/>
            <a:gdLst/>
            <a:ahLst/>
            <a:rect l="l" t="t" r="r" b="b"/>
            <a:pathLst>
              <a:path w="370" h="196">
                <a:moveTo>
                  <a:pt x="56" y="195"/>
                </a:moveTo>
                <a:cubicBezTo>
                  <a:pt x="48" y="195"/>
                  <a:pt x="42" y="189"/>
                  <a:pt x="42" y="181"/>
                </a:cubicBezTo>
                <a:cubicBezTo>
                  <a:pt x="42" y="172"/>
                  <a:pt x="48" y="166"/>
                  <a:pt x="56" y="166"/>
                </a:cubicBezTo>
                <a:lnTo>
                  <a:pt x="316" y="155"/>
                </a:lnTo>
                <a:lnTo>
                  <a:pt x="338" y="28"/>
                </a:ln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355" y="0"/>
                </a:lnTo>
                <a:cubicBezTo>
                  <a:pt x="358" y="0"/>
                  <a:pt x="364" y="3"/>
                  <a:pt x="367" y="6"/>
                </a:cubicBezTo>
                <a:cubicBezTo>
                  <a:pt x="369" y="8"/>
                  <a:pt x="369" y="14"/>
                  <a:pt x="369" y="17"/>
                </a:cubicBezTo>
                <a:lnTo>
                  <a:pt x="341" y="172"/>
                </a:lnTo>
                <a:cubicBezTo>
                  <a:pt x="341" y="178"/>
                  <a:pt x="336" y="183"/>
                  <a:pt x="327" y="183"/>
                </a:cubicBezTo>
                <a:cubicBezTo>
                  <a:pt x="327" y="183"/>
                  <a:pt x="59" y="195"/>
                  <a:pt x="56" y="1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31"/>
          <p:cNvSpPr/>
          <p:nvPr/>
        </p:nvSpPr>
        <p:spPr>
          <a:xfrm>
            <a:off x="5267160" y="3067200"/>
            <a:ext cx="308160" cy="60120"/>
          </a:xfrm>
          <a:custGeom>
            <a:avLst/>
            <a:gdLst/>
            <a:ahLst/>
            <a:rect l="l" t="t" r="r" b="b"/>
            <a:pathLst>
              <a:path w="452" h="86">
                <a:moveTo>
                  <a:pt x="437" y="85"/>
                </a:moveTo>
                <a:lnTo>
                  <a:pt x="14" y="85"/>
                </a:lnTo>
                <a:cubicBezTo>
                  <a:pt x="5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lnTo>
                  <a:pt x="437" y="0"/>
                </a:lnTo>
                <a:cubicBezTo>
                  <a:pt x="446" y="0"/>
                  <a:pt x="451" y="6"/>
                  <a:pt x="451" y="15"/>
                </a:cubicBezTo>
                <a:lnTo>
                  <a:pt x="451" y="71"/>
                </a:lnTo>
                <a:cubicBezTo>
                  <a:pt x="451" y="79"/>
                  <a:pt x="446" y="85"/>
                  <a:pt x="437" y="85"/>
                </a:cubicBezTo>
                <a:close/>
                <a:moveTo>
                  <a:pt x="28" y="57"/>
                </a:moveTo>
                <a:lnTo>
                  <a:pt x="423" y="57"/>
                </a:lnTo>
                <a:lnTo>
                  <a:pt x="423" y="29"/>
                </a:lnTo>
                <a:lnTo>
                  <a:pt x="28" y="29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32"/>
          <p:cNvSpPr/>
          <p:nvPr/>
        </p:nvSpPr>
        <p:spPr>
          <a:xfrm>
            <a:off x="5286240" y="3103560"/>
            <a:ext cx="268560" cy="176040"/>
          </a:xfrm>
          <a:custGeom>
            <a:avLst/>
            <a:gdLst/>
            <a:ahLst/>
            <a:rect l="l" t="t" r="r" b="b"/>
            <a:pathLst>
              <a:path w="399" h="258">
                <a:moveTo>
                  <a:pt x="327" y="257"/>
                </a:moveTo>
                <a:lnTo>
                  <a:pt x="73" y="257"/>
                </a:lnTo>
                <a:cubicBezTo>
                  <a:pt x="68" y="257"/>
                  <a:pt x="62" y="251"/>
                  <a:pt x="59" y="246"/>
                </a:cubicBezTo>
                <a:lnTo>
                  <a:pt x="3" y="20"/>
                </a:lnTo>
                <a:cubicBezTo>
                  <a:pt x="0" y="11"/>
                  <a:pt x="6" y="6"/>
                  <a:pt x="14" y="3"/>
                </a:cubicBezTo>
                <a:cubicBezTo>
                  <a:pt x="23" y="0"/>
                  <a:pt x="28" y="6"/>
                  <a:pt x="31" y="14"/>
                </a:cubicBezTo>
                <a:lnTo>
                  <a:pt x="85" y="229"/>
                </a:lnTo>
                <a:lnTo>
                  <a:pt x="316" y="229"/>
                </a:lnTo>
                <a:lnTo>
                  <a:pt x="370" y="14"/>
                </a:lnTo>
                <a:cubicBezTo>
                  <a:pt x="373" y="6"/>
                  <a:pt x="378" y="3"/>
                  <a:pt x="387" y="3"/>
                </a:cubicBezTo>
                <a:cubicBezTo>
                  <a:pt x="395" y="6"/>
                  <a:pt x="398" y="11"/>
                  <a:pt x="398" y="20"/>
                </a:cubicBezTo>
                <a:lnTo>
                  <a:pt x="341" y="246"/>
                </a:lnTo>
                <a:cubicBezTo>
                  <a:pt x="339" y="251"/>
                  <a:pt x="333" y="257"/>
                  <a:pt x="327" y="2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233"/>
          <p:cNvSpPr/>
          <p:nvPr/>
        </p:nvSpPr>
        <p:spPr>
          <a:xfrm>
            <a:off x="5324400" y="2989440"/>
            <a:ext cx="60480" cy="99720"/>
          </a:xfrm>
          <a:custGeom>
            <a:avLst/>
            <a:gdLst/>
            <a:ahLst/>
            <a:rect l="l" t="t" r="r" b="b"/>
            <a:pathLst>
              <a:path w="89" h="145">
                <a:moveTo>
                  <a:pt x="14" y="144"/>
                </a:moveTo>
                <a:cubicBezTo>
                  <a:pt x="12" y="144"/>
                  <a:pt x="9" y="144"/>
                  <a:pt x="9" y="141"/>
                </a:cubicBezTo>
                <a:cubicBezTo>
                  <a:pt x="3" y="138"/>
                  <a:pt x="0" y="130"/>
                  <a:pt x="3" y="121"/>
                </a:cubicBezTo>
                <a:lnTo>
                  <a:pt x="60" y="8"/>
                </a:lnTo>
                <a:cubicBezTo>
                  <a:pt x="62" y="3"/>
                  <a:pt x="71" y="0"/>
                  <a:pt x="79" y="3"/>
                </a:cubicBezTo>
                <a:cubicBezTo>
                  <a:pt x="85" y="5"/>
                  <a:pt x="88" y="14"/>
                  <a:pt x="85" y="22"/>
                </a:cubicBezTo>
                <a:lnTo>
                  <a:pt x="29" y="135"/>
                </a:lnTo>
                <a:cubicBezTo>
                  <a:pt x="26" y="141"/>
                  <a:pt x="20" y="144"/>
                  <a:pt x="14" y="14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34"/>
          <p:cNvSpPr/>
          <p:nvPr/>
        </p:nvSpPr>
        <p:spPr>
          <a:xfrm>
            <a:off x="5459400" y="2989440"/>
            <a:ext cx="58680" cy="99720"/>
          </a:xfrm>
          <a:custGeom>
            <a:avLst/>
            <a:gdLst/>
            <a:ahLst/>
            <a:rect l="l" t="t" r="r" b="b"/>
            <a:pathLst>
              <a:path w="88" h="145">
                <a:moveTo>
                  <a:pt x="70" y="144"/>
                </a:moveTo>
                <a:cubicBezTo>
                  <a:pt x="65" y="144"/>
                  <a:pt x="59" y="141"/>
                  <a:pt x="59" y="135"/>
                </a:cubicBezTo>
                <a:lnTo>
                  <a:pt x="3" y="22"/>
                </a:lnTo>
                <a:cubicBezTo>
                  <a:pt x="0" y="17"/>
                  <a:pt x="3" y="8"/>
                  <a:pt x="8" y="3"/>
                </a:cubicBezTo>
                <a:cubicBezTo>
                  <a:pt x="14" y="0"/>
                  <a:pt x="22" y="3"/>
                  <a:pt x="28" y="8"/>
                </a:cubicBezTo>
                <a:lnTo>
                  <a:pt x="84" y="121"/>
                </a:lnTo>
                <a:cubicBezTo>
                  <a:pt x="87" y="127"/>
                  <a:pt x="84" y="135"/>
                  <a:pt x="79" y="141"/>
                </a:cubicBezTo>
                <a:cubicBezTo>
                  <a:pt x="76" y="144"/>
                  <a:pt x="73" y="144"/>
                  <a:pt x="70" y="14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235"/>
          <p:cNvSpPr/>
          <p:nvPr/>
        </p:nvSpPr>
        <p:spPr>
          <a:xfrm>
            <a:off x="541188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6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3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36"/>
          <p:cNvSpPr/>
          <p:nvPr/>
        </p:nvSpPr>
        <p:spPr>
          <a:xfrm>
            <a:off x="5364000" y="3164040"/>
            <a:ext cx="2088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5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2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237"/>
          <p:cNvSpPr/>
          <p:nvPr/>
        </p:nvSpPr>
        <p:spPr>
          <a:xfrm>
            <a:off x="545940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5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2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38"/>
          <p:cNvSpPr/>
          <p:nvPr/>
        </p:nvSpPr>
        <p:spPr>
          <a:xfrm>
            <a:off x="6033960" y="3049560"/>
            <a:ext cx="190800" cy="230040"/>
          </a:xfrm>
          <a:custGeom>
            <a:avLst/>
            <a:gdLst/>
            <a:ahLst/>
            <a:rect l="l" t="t" r="r" b="b"/>
            <a:pathLst>
              <a:path w="284" h="340">
                <a:moveTo>
                  <a:pt x="156" y="339"/>
                </a:moveTo>
                <a:lnTo>
                  <a:pt x="57" y="339"/>
                </a:lnTo>
                <a:cubicBezTo>
                  <a:pt x="26" y="339"/>
                  <a:pt x="0" y="313"/>
                  <a:pt x="0" y="282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lnTo>
                  <a:pt x="268" y="0"/>
                </a:lnTo>
                <a:cubicBezTo>
                  <a:pt x="277" y="0"/>
                  <a:pt x="283" y="6"/>
                  <a:pt x="283" y="14"/>
                </a:cubicBezTo>
                <a:lnTo>
                  <a:pt x="283" y="43"/>
                </a:lnTo>
                <a:cubicBezTo>
                  <a:pt x="283" y="51"/>
                  <a:pt x="277" y="57"/>
                  <a:pt x="268" y="57"/>
                </a:cubicBezTo>
                <a:cubicBezTo>
                  <a:pt x="260" y="57"/>
                  <a:pt x="254" y="51"/>
                  <a:pt x="254" y="43"/>
                </a:cubicBezTo>
                <a:lnTo>
                  <a:pt x="254" y="28"/>
                </a:lnTo>
                <a:lnTo>
                  <a:pt x="29" y="28"/>
                </a:lnTo>
                <a:lnTo>
                  <a:pt x="29" y="282"/>
                </a:lnTo>
                <a:cubicBezTo>
                  <a:pt x="29" y="299"/>
                  <a:pt x="40" y="311"/>
                  <a:pt x="57" y="311"/>
                </a:cubicBezTo>
                <a:lnTo>
                  <a:pt x="156" y="311"/>
                </a:lnTo>
                <a:cubicBezTo>
                  <a:pt x="164" y="311"/>
                  <a:pt x="170" y="316"/>
                  <a:pt x="170" y="325"/>
                </a:cubicBezTo>
                <a:cubicBezTo>
                  <a:pt x="170" y="333"/>
                  <a:pt x="164" y="339"/>
                  <a:pt x="156" y="33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239"/>
          <p:cNvSpPr/>
          <p:nvPr/>
        </p:nvSpPr>
        <p:spPr>
          <a:xfrm>
            <a:off x="6167520" y="3124080"/>
            <a:ext cx="174600" cy="152640"/>
          </a:xfrm>
          <a:custGeom>
            <a:avLst/>
            <a:gdLst/>
            <a:ahLst/>
            <a:rect l="l" t="t" r="r" b="b"/>
            <a:pathLst>
              <a:path w="255" h="227">
                <a:moveTo>
                  <a:pt x="197" y="226"/>
                </a:moveTo>
                <a:lnTo>
                  <a:pt x="56" y="226"/>
                </a:lnTo>
                <a:cubicBezTo>
                  <a:pt x="25" y="226"/>
                  <a:pt x="0" y="200"/>
                  <a:pt x="0" y="169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240" y="0"/>
                </a:lnTo>
                <a:cubicBezTo>
                  <a:pt x="248" y="0"/>
                  <a:pt x="254" y="6"/>
                  <a:pt x="254" y="14"/>
                </a:cubicBezTo>
                <a:lnTo>
                  <a:pt x="254" y="169"/>
                </a:lnTo>
                <a:cubicBezTo>
                  <a:pt x="254" y="200"/>
                  <a:pt x="229" y="226"/>
                  <a:pt x="197" y="226"/>
                </a:cubicBezTo>
                <a:close/>
                <a:moveTo>
                  <a:pt x="28" y="28"/>
                </a:moveTo>
                <a:lnTo>
                  <a:pt x="28" y="169"/>
                </a:lnTo>
                <a:cubicBezTo>
                  <a:pt x="28" y="186"/>
                  <a:pt x="39" y="198"/>
                  <a:pt x="56" y="198"/>
                </a:cubicBezTo>
                <a:lnTo>
                  <a:pt x="197" y="198"/>
                </a:lnTo>
                <a:cubicBezTo>
                  <a:pt x="214" y="198"/>
                  <a:pt x="226" y="186"/>
                  <a:pt x="226" y="169"/>
                </a:cubicBezTo>
                <a:lnTo>
                  <a:pt x="226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240"/>
          <p:cNvSpPr/>
          <p:nvPr/>
        </p:nvSpPr>
        <p:spPr>
          <a:xfrm>
            <a:off x="6072120" y="2971800"/>
            <a:ext cx="117720" cy="11736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155" y="170"/>
                </a:moveTo>
                <a:cubicBezTo>
                  <a:pt x="147" y="170"/>
                  <a:pt x="141" y="164"/>
                  <a:pt x="141" y="156"/>
                </a:cubicBezTo>
                <a:lnTo>
                  <a:pt x="141" y="85"/>
                </a:lnTo>
                <a:cubicBezTo>
                  <a:pt x="141" y="54"/>
                  <a:pt x="117" y="29"/>
                  <a:pt x="85" y="29"/>
                </a:cubicBezTo>
                <a:cubicBezTo>
                  <a:pt x="54" y="29"/>
                  <a:pt x="28" y="54"/>
                  <a:pt x="28" y="85"/>
                </a:cubicBezTo>
                <a:lnTo>
                  <a:pt x="28" y="156"/>
                </a:lnTo>
                <a:cubicBezTo>
                  <a:pt x="28" y="164"/>
                  <a:pt x="23" y="170"/>
                  <a:pt x="14" y="170"/>
                </a:cubicBezTo>
                <a:cubicBezTo>
                  <a:pt x="6" y="170"/>
                  <a:pt x="0" y="164"/>
                  <a:pt x="0" y="156"/>
                </a:cubicBezTo>
                <a:lnTo>
                  <a:pt x="0" y="85"/>
                </a:lnTo>
                <a:cubicBezTo>
                  <a:pt x="0" y="37"/>
                  <a:pt x="38" y="0"/>
                  <a:pt x="85" y="0"/>
                </a:cubicBezTo>
                <a:cubicBezTo>
                  <a:pt x="133" y="0"/>
                  <a:pt x="169" y="37"/>
                  <a:pt x="169" y="85"/>
                </a:cubicBezTo>
                <a:lnTo>
                  <a:pt x="169" y="156"/>
                </a:lnTo>
                <a:cubicBezTo>
                  <a:pt x="169" y="164"/>
                  <a:pt x="164" y="170"/>
                  <a:pt x="155" y="1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241"/>
          <p:cNvSpPr/>
          <p:nvPr/>
        </p:nvSpPr>
        <p:spPr>
          <a:xfrm>
            <a:off x="6203880" y="3086280"/>
            <a:ext cx="95400" cy="77760"/>
          </a:xfrm>
          <a:custGeom>
            <a:avLst/>
            <a:gdLst/>
            <a:ahLst/>
            <a:rect l="l" t="t" r="r" b="b"/>
            <a:pathLst>
              <a:path w="142" h="113">
                <a:moveTo>
                  <a:pt x="127" y="112"/>
                </a:moveTo>
                <a:cubicBezTo>
                  <a:pt x="119" y="112"/>
                  <a:pt x="113" y="107"/>
                  <a:pt x="113" y="98"/>
                </a:cubicBezTo>
                <a:lnTo>
                  <a:pt x="113" y="70"/>
                </a:lnTo>
                <a:cubicBezTo>
                  <a:pt x="113" y="48"/>
                  <a:pt x="94" y="28"/>
                  <a:pt x="71" y="28"/>
                </a:cubicBezTo>
                <a:cubicBezTo>
                  <a:pt x="48" y="28"/>
                  <a:pt x="29" y="48"/>
                  <a:pt x="29" y="70"/>
                </a:cubicBezTo>
                <a:lnTo>
                  <a:pt x="29" y="98"/>
                </a:lnTo>
                <a:cubicBezTo>
                  <a:pt x="29" y="107"/>
                  <a:pt x="23" y="112"/>
                  <a:pt x="14" y="112"/>
                </a:cubicBezTo>
                <a:cubicBezTo>
                  <a:pt x="6" y="112"/>
                  <a:pt x="0" y="107"/>
                  <a:pt x="0" y="98"/>
                </a:cubicBezTo>
                <a:lnTo>
                  <a:pt x="0" y="70"/>
                </a:lnTo>
                <a:cubicBezTo>
                  <a:pt x="0" y="31"/>
                  <a:pt x="32" y="0"/>
                  <a:pt x="71" y="0"/>
                </a:cubicBezTo>
                <a:cubicBezTo>
                  <a:pt x="111" y="0"/>
                  <a:pt x="141" y="31"/>
                  <a:pt x="141" y="70"/>
                </a:cubicBezTo>
                <a:lnTo>
                  <a:pt x="141" y="98"/>
                </a:lnTo>
                <a:cubicBezTo>
                  <a:pt x="141" y="107"/>
                  <a:pt x="136" y="112"/>
                  <a:pt x="127" y="11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242"/>
          <p:cNvSpPr/>
          <p:nvPr/>
        </p:nvSpPr>
        <p:spPr>
          <a:xfrm>
            <a:off x="3733920" y="3794040"/>
            <a:ext cx="307800" cy="249480"/>
          </a:xfrm>
          <a:custGeom>
            <a:avLst/>
            <a:gdLst/>
            <a:ahLst/>
            <a:rect l="l" t="t" r="r" b="b"/>
            <a:pathLst>
              <a:path w="456" h="368">
                <a:moveTo>
                  <a:pt x="356" y="367"/>
                </a:moveTo>
                <a:cubicBezTo>
                  <a:pt x="353" y="367"/>
                  <a:pt x="353" y="367"/>
                  <a:pt x="350" y="367"/>
                </a:cubicBezTo>
                <a:cubicBezTo>
                  <a:pt x="345" y="364"/>
                  <a:pt x="342" y="358"/>
                  <a:pt x="342" y="352"/>
                </a:cubicBezTo>
                <a:lnTo>
                  <a:pt x="342" y="310"/>
                </a:lnTo>
                <a:lnTo>
                  <a:pt x="302" y="310"/>
                </a:lnTo>
                <a:cubicBezTo>
                  <a:pt x="257" y="310"/>
                  <a:pt x="218" y="285"/>
                  <a:pt x="198" y="242"/>
                </a:cubicBezTo>
                <a:lnTo>
                  <a:pt x="136" y="101"/>
                </a:lnTo>
                <a:cubicBezTo>
                  <a:pt x="130" y="90"/>
                  <a:pt x="122" y="84"/>
                  <a:pt x="110" y="84"/>
                </a:cubicBezTo>
                <a:lnTo>
                  <a:pt x="14" y="84"/>
                </a:lnTo>
                <a:cubicBezTo>
                  <a:pt x="6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110" y="0"/>
                </a:lnTo>
                <a:cubicBezTo>
                  <a:pt x="155" y="0"/>
                  <a:pt x="195" y="25"/>
                  <a:pt x="215" y="67"/>
                </a:cubicBezTo>
                <a:lnTo>
                  <a:pt x="277" y="209"/>
                </a:lnTo>
                <a:cubicBezTo>
                  <a:pt x="282" y="220"/>
                  <a:pt x="291" y="225"/>
                  <a:pt x="302" y="225"/>
                </a:cubicBezTo>
                <a:lnTo>
                  <a:pt x="342" y="225"/>
                </a:lnTo>
                <a:lnTo>
                  <a:pt x="342" y="183"/>
                </a:lnTo>
                <a:cubicBezTo>
                  <a:pt x="342" y="178"/>
                  <a:pt x="345" y="172"/>
                  <a:pt x="350" y="169"/>
                </a:cubicBezTo>
                <a:cubicBezTo>
                  <a:pt x="356" y="166"/>
                  <a:pt x="361" y="169"/>
                  <a:pt x="364" y="172"/>
                </a:cubicBezTo>
                <a:lnTo>
                  <a:pt x="449" y="257"/>
                </a:lnTo>
                <a:cubicBezTo>
                  <a:pt x="455" y="262"/>
                  <a:pt x="455" y="271"/>
                  <a:pt x="449" y="276"/>
                </a:cubicBezTo>
                <a:lnTo>
                  <a:pt x="364" y="361"/>
                </a:lnTo>
                <a:cubicBezTo>
                  <a:pt x="364" y="367"/>
                  <a:pt x="359" y="367"/>
                  <a:pt x="356" y="367"/>
                </a:cubicBezTo>
                <a:close/>
                <a:moveTo>
                  <a:pt x="31" y="56"/>
                </a:moveTo>
                <a:lnTo>
                  <a:pt x="113" y="56"/>
                </a:lnTo>
                <a:cubicBezTo>
                  <a:pt x="136" y="56"/>
                  <a:pt x="155" y="70"/>
                  <a:pt x="164" y="90"/>
                </a:cubicBezTo>
                <a:lnTo>
                  <a:pt x="226" y="231"/>
                </a:lnTo>
                <a:cubicBezTo>
                  <a:pt x="240" y="262"/>
                  <a:pt x="271" y="282"/>
                  <a:pt x="302" y="282"/>
                </a:cubicBezTo>
                <a:lnTo>
                  <a:pt x="356" y="282"/>
                </a:lnTo>
                <a:cubicBezTo>
                  <a:pt x="364" y="282"/>
                  <a:pt x="370" y="288"/>
                  <a:pt x="370" y="296"/>
                </a:cubicBezTo>
                <a:lnTo>
                  <a:pt x="370" y="319"/>
                </a:lnTo>
                <a:lnTo>
                  <a:pt x="421" y="268"/>
                </a:lnTo>
                <a:lnTo>
                  <a:pt x="370" y="217"/>
                </a:lnTo>
                <a:lnTo>
                  <a:pt x="370" y="240"/>
                </a:lnTo>
                <a:cubicBezTo>
                  <a:pt x="370" y="248"/>
                  <a:pt x="364" y="254"/>
                  <a:pt x="356" y="254"/>
                </a:cubicBezTo>
                <a:lnTo>
                  <a:pt x="302" y="254"/>
                </a:lnTo>
                <a:cubicBezTo>
                  <a:pt x="280" y="254"/>
                  <a:pt x="260" y="240"/>
                  <a:pt x="251" y="220"/>
                </a:cubicBezTo>
                <a:lnTo>
                  <a:pt x="189" y="79"/>
                </a:lnTo>
                <a:cubicBezTo>
                  <a:pt x="175" y="48"/>
                  <a:pt x="144" y="28"/>
                  <a:pt x="110" y="28"/>
                </a:cubicBezTo>
                <a:lnTo>
                  <a:pt x="31" y="28"/>
                </a:lnTo>
                <a:lnTo>
                  <a:pt x="31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43"/>
          <p:cNvSpPr/>
          <p:nvPr/>
        </p:nvSpPr>
        <p:spPr>
          <a:xfrm>
            <a:off x="3867120" y="3755880"/>
            <a:ext cx="179280" cy="149400"/>
          </a:xfrm>
          <a:custGeom>
            <a:avLst/>
            <a:gdLst/>
            <a:ahLst/>
            <a:rect l="l" t="t" r="r" b="b"/>
            <a:pathLst>
              <a:path w="263" h="222">
                <a:moveTo>
                  <a:pt x="56" y="221"/>
                </a:moveTo>
                <a:lnTo>
                  <a:pt x="31" y="209"/>
                </a:lnTo>
                <a:lnTo>
                  <a:pt x="56" y="150"/>
                </a:lnTo>
                <a:cubicBezTo>
                  <a:pt x="65" y="130"/>
                  <a:pt x="85" y="116"/>
                  <a:pt x="107" y="116"/>
                </a:cubicBezTo>
                <a:lnTo>
                  <a:pt x="161" y="116"/>
                </a:lnTo>
                <a:cubicBezTo>
                  <a:pt x="169" y="116"/>
                  <a:pt x="175" y="122"/>
                  <a:pt x="175" y="130"/>
                </a:cubicBezTo>
                <a:lnTo>
                  <a:pt x="175" y="153"/>
                </a:lnTo>
                <a:lnTo>
                  <a:pt x="226" y="102"/>
                </a:lnTo>
                <a:lnTo>
                  <a:pt x="175" y="51"/>
                </a:lnTo>
                <a:lnTo>
                  <a:pt x="175" y="74"/>
                </a:lnTo>
                <a:cubicBezTo>
                  <a:pt x="175" y="82"/>
                  <a:pt x="169" y="88"/>
                  <a:pt x="161" y="88"/>
                </a:cubicBezTo>
                <a:lnTo>
                  <a:pt x="107" y="88"/>
                </a:lnTo>
                <a:cubicBezTo>
                  <a:pt x="73" y="88"/>
                  <a:pt x="42" y="108"/>
                  <a:pt x="31" y="139"/>
                </a:cubicBezTo>
                <a:lnTo>
                  <a:pt x="25" y="150"/>
                </a:lnTo>
                <a:lnTo>
                  <a:pt x="0" y="139"/>
                </a:lnTo>
                <a:lnTo>
                  <a:pt x="6" y="127"/>
                </a:lnTo>
                <a:cubicBezTo>
                  <a:pt x="23" y="85"/>
                  <a:pt x="65" y="60"/>
                  <a:pt x="110" y="60"/>
                </a:cubicBezTo>
                <a:lnTo>
                  <a:pt x="150" y="60"/>
                </a:lnTo>
                <a:lnTo>
                  <a:pt x="150" y="17"/>
                </a:lnTo>
                <a:cubicBezTo>
                  <a:pt x="150" y="12"/>
                  <a:pt x="152" y="6"/>
                  <a:pt x="158" y="3"/>
                </a:cubicBezTo>
                <a:cubicBezTo>
                  <a:pt x="164" y="0"/>
                  <a:pt x="169" y="3"/>
                  <a:pt x="172" y="6"/>
                </a:cubicBezTo>
                <a:lnTo>
                  <a:pt x="257" y="91"/>
                </a:lnTo>
                <a:cubicBezTo>
                  <a:pt x="262" y="96"/>
                  <a:pt x="262" y="105"/>
                  <a:pt x="257" y="111"/>
                </a:cubicBezTo>
                <a:lnTo>
                  <a:pt x="172" y="195"/>
                </a:lnTo>
                <a:cubicBezTo>
                  <a:pt x="169" y="198"/>
                  <a:pt x="161" y="201"/>
                  <a:pt x="158" y="198"/>
                </a:cubicBezTo>
                <a:cubicBezTo>
                  <a:pt x="152" y="195"/>
                  <a:pt x="150" y="190"/>
                  <a:pt x="150" y="184"/>
                </a:cubicBezTo>
                <a:lnTo>
                  <a:pt x="150" y="144"/>
                </a:lnTo>
                <a:lnTo>
                  <a:pt x="110" y="144"/>
                </a:lnTo>
                <a:cubicBezTo>
                  <a:pt x="99" y="144"/>
                  <a:pt x="87" y="150"/>
                  <a:pt x="85" y="161"/>
                </a:cubicBezTo>
                <a:lnTo>
                  <a:pt x="56" y="22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44"/>
          <p:cNvSpPr/>
          <p:nvPr/>
        </p:nvSpPr>
        <p:spPr>
          <a:xfrm>
            <a:off x="3735360" y="3895560"/>
            <a:ext cx="150840" cy="111240"/>
          </a:xfrm>
          <a:custGeom>
            <a:avLst/>
            <a:gdLst/>
            <a:ahLst/>
            <a:rect l="l" t="t" r="r" b="b"/>
            <a:pathLst>
              <a:path w="221" h="162">
                <a:moveTo>
                  <a:pt x="110" y="161"/>
                </a:moveTo>
                <a:lnTo>
                  <a:pt x="14" y="161"/>
                </a:lnTo>
                <a:cubicBezTo>
                  <a:pt x="6" y="161"/>
                  <a:pt x="0" y="156"/>
                  <a:pt x="0" y="147"/>
                </a:cubicBezTo>
                <a:lnTo>
                  <a:pt x="0" y="91"/>
                </a:lnTo>
                <a:cubicBezTo>
                  <a:pt x="0" y="82"/>
                  <a:pt x="6" y="76"/>
                  <a:pt x="14" y="76"/>
                </a:cubicBezTo>
                <a:lnTo>
                  <a:pt x="110" y="76"/>
                </a:lnTo>
                <a:cubicBezTo>
                  <a:pt x="121" y="76"/>
                  <a:pt x="133" y="71"/>
                  <a:pt x="136" y="60"/>
                </a:cubicBezTo>
                <a:lnTo>
                  <a:pt x="161" y="0"/>
                </a:lnTo>
                <a:lnTo>
                  <a:pt x="186" y="12"/>
                </a:lnTo>
                <a:lnTo>
                  <a:pt x="161" y="71"/>
                </a:lnTo>
                <a:cubicBezTo>
                  <a:pt x="152" y="91"/>
                  <a:pt x="133" y="105"/>
                  <a:pt x="110" y="105"/>
                </a:cubicBezTo>
                <a:lnTo>
                  <a:pt x="28" y="105"/>
                </a:lnTo>
                <a:lnTo>
                  <a:pt x="28" y="133"/>
                </a:lnTo>
                <a:lnTo>
                  <a:pt x="110" y="133"/>
                </a:lnTo>
                <a:cubicBezTo>
                  <a:pt x="144" y="133"/>
                  <a:pt x="175" y="113"/>
                  <a:pt x="189" y="82"/>
                </a:cubicBezTo>
                <a:lnTo>
                  <a:pt x="195" y="71"/>
                </a:lnTo>
                <a:lnTo>
                  <a:pt x="220" y="82"/>
                </a:lnTo>
                <a:lnTo>
                  <a:pt x="215" y="93"/>
                </a:lnTo>
                <a:cubicBezTo>
                  <a:pt x="195" y="136"/>
                  <a:pt x="152" y="161"/>
                  <a:pt x="110" y="16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45"/>
          <p:cNvSpPr/>
          <p:nvPr/>
        </p:nvSpPr>
        <p:spPr>
          <a:xfrm>
            <a:off x="4654440" y="3736800"/>
            <a:ext cx="158760" cy="308160"/>
          </a:xfrm>
          <a:custGeom>
            <a:avLst/>
            <a:gdLst/>
            <a:ahLst/>
            <a:rect l="l" t="t" r="r" b="b"/>
            <a:pathLst>
              <a:path w="232" h="453">
                <a:moveTo>
                  <a:pt x="17" y="452"/>
                </a:moveTo>
                <a:cubicBezTo>
                  <a:pt x="11" y="452"/>
                  <a:pt x="8" y="449"/>
                  <a:pt x="5" y="446"/>
                </a:cubicBezTo>
                <a:cubicBezTo>
                  <a:pt x="3" y="440"/>
                  <a:pt x="3" y="435"/>
                  <a:pt x="5" y="429"/>
                </a:cubicBezTo>
                <a:lnTo>
                  <a:pt x="22" y="406"/>
                </a:lnTo>
                <a:cubicBezTo>
                  <a:pt x="45" y="378"/>
                  <a:pt x="59" y="342"/>
                  <a:pt x="59" y="305"/>
                </a:cubicBezTo>
                <a:lnTo>
                  <a:pt x="59" y="141"/>
                </a:lnTo>
                <a:lnTo>
                  <a:pt x="17" y="141"/>
                </a:lnTo>
                <a:cubicBezTo>
                  <a:pt x="11" y="141"/>
                  <a:pt x="5" y="138"/>
                  <a:pt x="3" y="133"/>
                </a:cubicBezTo>
                <a:cubicBezTo>
                  <a:pt x="0" y="127"/>
                  <a:pt x="0" y="121"/>
                  <a:pt x="5" y="119"/>
                </a:cubicBezTo>
                <a:lnTo>
                  <a:pt x="104" y="6"/>
                </a:lnTo>
                <a:cubicBezTo>
                  <a:pt x="110" y="0"/>
                  <a:pt x="121" y="0"/>
                  <a:pt x="127" y="6"/>
                </a:cubicBezTo>
                <a:lnTo>
                  <a:pt x="226" y="119"/>
                </a:lnTo>
                <a:cubicBezTo>
                  <a:pt x="228" y="121"/>
                  <a:pt x="231" y="130"/>
                  <a:pt x="228" y="133"/>
                </a:cubicBezTo>
                <a:cubicBezTo>
                  <a:pt x="226" y="138"/>
                  <a:pt x="220" y="141"/>
                  <a:pt x="214" y="141"/>
                </a:cubicBezTo>
                <a:lnTo>
                  <a:pt x="172" y="141"/>
                </a:lnTo>
                <a:lnTo>
                  <a:pt x="172" y="265"/>
                </a:lnTo>
                <a:cubicBezTo>
                  <a:pt x="172" y="356"/>
                  <a:pt x="107" y="435"/>
                  <a:pt x="17" y="452"/>
                </a:cubicBezTo>
                <a:close/>
                <a:moveTo>
                  <a:pt x="48" y="113"/>
                </a:moveTo>
                <a:lnTo>
                  <a:pt x="73" y="113"/>
                </a:lnTo>
                <a:cubicBezTo>
                  <a:pt x="82" y="113"/>
                  <a:pt x="87" y="119"/>
                  <a:pt x="87" y="127"/>
                </a:cubicBezTo>
                <a:lnTo>
                  <a:pt x="87" y="305"/>
                </a:lnTo>
                <a:cubicBezTo>
                  <a:pt x="87" y="342"/>
                  <a:pt x="76" y="378"/>
                  <a:pt x="56" y="409"/>
                </a:cubicBezTo>
                <a:cubicBezTo>
                  <a:pt x="110" y="381"/>
                  <a:pt x="144" y="327"/>
                  <a:pt x="144" y="265"/>
                </a:cubicBezTo>
                <a:lnTo>
                  <a:pt x="144" y="127"/>
                </a:lnTo>
                <a:cubicBezTo>
                  <a:pt x="144" y="119"/>
                  <a:pt x="149" y="113"/>
                  <a:pt x="158" y="113"/>
                </a:cubicBezTo>
                <a:lnTo>
                  <a:pt x="183" y="113"/>
                </a:lnTo>
                <a:lnTo>
                  <a:pt x="115" y="37"/>
                </a:lnTo>
                <a:lnTo>
                  <a:pt x="48" y="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46"/>
          <p:cNvSpPr/>
          <p:nvPr/>
        </p:nvSpPr>
        <p:spPr>
          <a:xfrm>
            <a:off x="4498920" y="3736800"/>
            <a:ext cx="158760" cy="308160"/>
          </a:xfrm>
          <a:custGeom>
            <a:avLst/>
            <a:gdLst/>
            <a:ahLst/>
            <a:rect l="l" t="t" r="r" b="b"/>
            <a:pathLst>
              <a:path w="232" h="453">
                <a:moveTo>
                  <a:pt x="116" y="452"/>
                </a:moveTo>
                <a:cubicBezTo>
                  <a:pt x="113" y="452"/>
                  <a:pt x="107" y="449"/>
                  <a:pt x="104" y="446"/>
                </a:cubicBezTo>
                <a:lnTo>
                  <a:pt x="6" y="333"/>
                </a:lnTo>
                <a:cubicBezTo>
                  <a:pt x="3" y="330"/>
                  <a:pt x="0" y="322"/>
                  <a:pt x="3" y="319"/>
                </a:cubicBezTo>
                <a:cubicBezTo>
                  <a:pt x="6" y="313"/>
                  <a:pt x="11" y="310"/>
                  <a:pt x="17" y="310"/>
                </a:cubicBezTo>
                <a:lnTo>
                  <a:pt x="59" y="310"/>
                </a:lnTo>
                <a:lnTo>
                  <a:pt x="59" y="186"/>
                </a:lnTo>
                <a:cubicBezTo>
                  <a:pt x="59" y="96"/>
                  <a:pt x="124" y="17"/>
                  <a:pt x="212" y="0"/>
                </a:cubicBezTo>
                <a:cubicBezTo>
                  <a:pt x="217" y="0"/>
                  <a:pt x="223" y="3"/>
                  <a:pt x="226" y="6"/>
                </a:cubicBezTo>
                <a:cubicBezTo>
                  <a:pt x="229" y="11"/>
                  <a:pt x="229" y="17"/>
                  <a:pt x="226" y="23"/>
                </a:cubicBezTo>
                <a:lnTo>
                  <a:pt x="209" y="45"/>
                </a:lnTo>
                <a:cubicBezTo>
                  <a:pt x="186" y="73"/>
                  <a:pt x="172" y="110"/>
                  <a:pt x="172" y="147"/>
                </a:cubicBezTo>
                <a:lnTo>
                  <a:pt x="172" y="310"/>
                </a:lnTo>
                <a:lnTo>
                  <a:pt x="215" y="310"/>
                </a:lnTo>
                <a:cubicBezTo>
                  <a:pt x="220" y="310"/>
                  <a:pt x="226" y="313"/>
                  <a:pt x="229" y="319"/>
                </a:cubicBezTo>
                <a:cubicBezTo>
                  <a:pt x="231" y="325"/>
                  <a:pt x="231" y="330"/>
                  <a:pt x="226" y="333"/>
                </a:cubicBezTo>
                <a:lnTo>
                  <a:pt x="127" y="446"/>
                </a:lnTo>
                <a:cubicBezTo>
                  <a:pt x="124" y="449"/>
                  <a:pt x="119" y="452"/>
                  <a:pt x="116" y="452"/>
                </a:cubicBezTo>
                <a:close/>
                <a:moveTo>
                  <a:pt x="48" y="339"/>
                </a:moveTo>
                <a:lnTo>
                  <a:pt x="116" y="415"/>
                </a:lnTo>
                <a:lnTo>
                  <a:pt x="183" y="339"/>
                </a:lnTo>
                <a:lnTo>
                  <a:pt x="158" y="339"/>
                </a:lnTo>
                <a:cubicBezTo>
                  <a:pt x="150" y="339"/>
                  <a:pt x="144" y="333"/>
                  <a:pt x="144" y="325"/>
                </a:cubicBezTo>
                <a:lnTo>
                  <a:pt x="144" y="147"/>
                </a:lnTo>
                <a:cubicBezTo>
                  <a:pt x="144" y="110"/>
                  <a:pt x="155" y="73"/>
                  <a:pt x="175" y="42"/>
                </a:cubicBezTo>
                <a:cubicBezTo>
                  <a:pt x="121" y="71"/>
                  <a:pt x="88" y="124"/>
                  <a:pt x="88" y="186"/>
                </a:cubicBezTo>
                <a:lnTo>
                  <a:pt x="88" y="325"/>
                </a:lnTo>
                <a:cubicBezTo>
                  <a:pt x="88" y="333"/>
                  <a:pt x="82" y="339"/>
                  <a:pt x="73" y="339"/>
                </a:cubicBezTo>
                <a:lnTo>
                  <a:pt x="48" y="3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47"/>
          <p:cNvSpPr/>
          <p:nvPr/>
        </p:nvSpPr>
        <p:spPr>
          <a:xfrm>
            <a:off x="3735360" y="5268960"/>
            <a:ext cx="309600" cy="307800"/>
          </a:xfrm>
          <a:custGeom>
            <a:avLst/>
            <a:gdLst/>
            <a:ahLst/>
            <a:rect l="l" t="t" r="r" b="b"/>
            <a:pathLst>
              <a:path w="453" h="452">
                <a:moveTo>
                  <a:pt x="226" y="451"/>
                </a:moveTo>
                <a:cubicBezTo>
                  <a:pt x="102" y="451"/>
                  <a:pt x="0" y="350"/>
                  <a:pt x="0" y="225"/>
                </a:cubicBezTo>
                <a:cubicBezTo>
                  <a:pt x="0" y="101"/>
                  <a:pt x="102" y="0"/>
                  <a:pt x="226" y="0"/>
                </a:cubicBezTo>
                <a:cubicBezTo>
                  <a:pt x="350" y="0"/>
                  <a:pt x="452" y="101"/>
                  <a:pt x="452" y="225"/>
                </a:cubicBezTo>
                <a:cubicBezTo>
                  <a:pt x="452" y="350"/>
                  <a:pt x="350" y="451"/>
                  <a:pt x="226" y="451"/>
                </a:cubicBezTo>
                <a:close/>
                <a:moveTo>
                  <a:pt x="226" y="28"/>
                </a:moveTo>
                <a:cubicBezTo>
                  <a:pt x="116" y="28"/>
                  <a:pt x="28" y="115"/>
                  <a:pt x="28" y="225"/>
                </a:cubicBezTo>
                <a:cubicBezTo>
                  <a:pt x="28" y="335"/>
                  <a:pt x="116" y="423"/>
                  <a:pt x="226" y="423"/>
                </a:cubicBezTo>
                <a:cubicBezTo>
                  <a:pt x="336" y="423"/>
                  <a:pt x="423" y="335"/>
                  <a:pt x="423" y="225"/>
                </a:cubicBezTo>
                <a:cubicBezTo>
                  <a:pt x="423" y="115"/>
                  <a:pt x="336" y="28"/>
                  <a:pt x="22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48"/>
          <p:cNvSpPr/>
          <p:nvPr/>
        </p:nvSpPr>
        <p:spPr>
          <a:xfrm>
            <a:off x="3813120" y="5349960"/>
            <a:ext cx="150840" cy="137880"/>
          </a:xfrm>
          <a:custGeom>
            <a:avLst/>
            <a:gdLst/>
            <a:ahLst/>
            <a:rect l="l" t="t" r="r" b="b"/>
            <a:pathLst>
              <a:path w="221" h="204">
                <a:moveTo>
                  <a:pt x="166" y="203"/>
                </a:moveTo>
                <a:lnTo>
                  <a:pt x="53" y="203"/>
                </a:lnTo>
                <a:cubicBezTo>
                  <a:pt x="48" y="203"/>
                  <a:pt x="42" y="200"/>
                  <a:pt x="39" y="195"/>
                </a:cubicBezTo>
                <a:lnTo>
                  <a:pt x="3" y="87"/>
                </a:lnTo>
                <a:cubicBezTo>
                  <a:pt x="0" y="82"/>
                  <a:pt x="3" y="76"/>
                  <a:pt x="8" y="71"/>
                </a:cubicBezTo>
                <a:lnTo>
                  <a:pt x="101" y="3"/>
                </a:lnTo>
                <a:cubicBezTo>
                  <a:pt x="107" y="0"/>
                  <a:pt x="113" y="0"/>
                  <a:pt x="118" y="3"/>
                </a:cubicBezTo>
                <a:lnTo>
                  <a:pt x="211" y="71"/>
                </a:lnTo>
                <a:cubicBezTo>
                  <a:pt x="217" y="73"/>
                  <a:pt x="220" y="82"/>
                  <a:pt x="217" y="87"/>
                </a:cubicBezTo>
                <a:lnTo>
                  <a:pt x="180" y="195"/>
                </a:lnTo>
                <a:cubicBezTo>
                  <a:pt x="178" y="200"/>
                  <a:pt x="172" y="203"/>
                  <a:pt x="166" y="203"/>
                </a:cubicBezTo>
                <a:close/>
                <a:moveTo>
                  <a:pt x="65" y="175"/>
                </a:moveTo>
                <a:lnTo>
                  <a:pt x="158" y="175"/>
                </a:lnTo>
                <a:lnTo>
                  <a:pt x="189" y="87"/>
                </a:lnTo>
                <a:lnTo>
                  <a:pt x="113" y="31"/>
                </a:lnTo>
                <a:lnTo>
                  <a:pt x="36" y="87"/>
                </a:lnTo>
                <a:lnTo>
                  <a:pt x="65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49"/>
          <p:cNvSpPr/>
          <p:nvPr/>
        </p:nvSpPr>
        <p:spPr>
          <a:xfrm>
            <a:off x="3832200" y="5272200"/>
            <a:ext cx="115920" cy="50760"/>
          </a:xfrm>
          <a:custGeom>
            <a:avLst/>
            <a:gdLst/>
            <a:ahLst/>
            <a:rect l="l" t="t" r="r" b="b"/>
            <a:pathLst>
              <a:path w="173" h="75">
                <a:moveTo>
                  <a:pt x="85" y="74"/>
                </a:moveTo>
                <a:cubicBezTo>
                  <a:pt x="82" y="74"/>
                  <a:pt x="79" y="74"/>
                  <a:pt x="79" y="71"/>
                </a:cubicBezTo>
                <a:lnTo>
                  <a:pt x="9" y="31"/>
                </a:lnTo>
                <a:cubicBezTo>
                  <a:pt x="3" y="28"/>
                  <a:pt x="0" y="21"/>
                  <a:pt x="3" y="12"/>
                </a:cubicBezTo>
                <a:cubicBezTo>
                  <a:pt x="6" y="4"/>
                  <a:pt x="14" y="3"/>
                  <a:pt x="23" y="6"/>
                </a:cubicBezTo>
                <a:lnTo>
                  <a:pt x="88" y="40"/>
                </a:lnTo>
                <a:lnTo>
                  <a:pt x="153" y="6"/>
                </a:lnTo>
                <a:cubicBezTo>
                  <a:pt x="161" y="0"/>
                  <a:pt x="172" y="9"/>
                  <a:pt x="172" y="17"/>
                </a:cubicBezTo>
                <a:cubicBezTo>
                  <a:pt x="172" y="23"/>
                  <a:pt x="169" y="28"/>
                  <a:pt x="164" y="31"/>
                </a:cubicBezTo>
                <a:lnTo>
                  <a:pt x="93" y="68"/>
                </a:lnTo>
                <a:cubicBezTo>
                  <a:pt x="90" y="74"/>
                  <a:pt x="88" y="74"/>
                  <a:pt x="85" y="7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50"/>
          <p:cNvSpPr/>
          <p:nvPr/>
        </p:nvSpPr>
        <p:spPr>
          <a:xfrm>
            <a:off x="3735360" y="5322960"/>
            <a:ext cx="63360" cy="117360"/>
          </a:xfrm>
          <a:custGeom>
            <a:avLst/>
            <a:gdLst/>
            <a:ahLst/>
            <a:rect l="l" t="t" r="r" b="b"/>
            <a:pathLst>
              <a:path w="91" h="174">
                <a:moveTo>
                  <a:pt x="14" y="173"/>
                </a:moveTo>
                <a:cubicBezTo>
                  <a:pt x="11" y="173"/>
                  <a:pt x="9" y="173"/>
                  <a:pt x="6" y="170"/>
                </a:cubicBezTo>
                <a:cubicBezTo>
                  <a:pt x="0" y="164"/>
                  <a:pt x="0" y="156"/>
                  <a:pt x="6" y="150"/>
                </a:cubicBezTo>
                <a:lnTo>
                  <a:pt x="59" y="91"/>
                </a:lnTo>
                <a:lnTo>
                  <a:pt x="45" y="20"/>
                </a:lnTo>
                <a:cubicBezTo>
                  <a:pt x="42" y="12"/>
                  <a:pt x="48" y="6"/>
                  <a:pt x="57" y="3"/>
                </a:cubicBezTo>
                <a:cubicBezTo>
                  <a:pt x="65" y="0"/>
                  <a:pt x="71" y="6"/>
                  <a:pt x="73" y="15"/>
                </a:cubicBezTo>
                <a:lnTo>
                  <a:pt x="90" y="91"/>
                </a:lnTo>
                <a:cubicBezTo>
                  <a:pt x="90" y="96"/>
                  <a:pt x="90" y="99"/>
                  <a:pt x="88" y="102"/>
                </a:cubicBezTo>
                <a:lnTo>
                  <a:pt x="28" y="167"/>
                </a:lnTo>
                <a:cubicBezTo>
                  <a:pt x="23" y="170"/>
                  <a:pt x="20" y="173"/>
                  <a:pt x="14" y="17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51"/>
          <p:cNvSpPr/>
          <p:nvPr/>
        </p:nvSpPr>
        <p:spPr>
          <a:xfrm>
            <a:off x="3762360" y="5499000"/>
            <a:ext cx="87480" cy="69840"/>
          </a:xfrm>
          <a:custGeom>
            <a:avLst/>
            <a:gdLst/>
            <a:ahLst/>
            <a:rect l="l" t="t" r="r" b="b"/>
            <a:pathLst>
              <a:path w="128" h="100">
                <a:moveTo>
                  <a:pt x="115" y="99"/>
                </a:moveTo>
                <a:cubicBezTo>
                  <a:pt x="110" y="99"/>
                  <a:pt x="104" y="96"/>
                  <a:pt x="101" y="90"/>
                </a:cubicBezTo>
                <a:lnTo>
                  <a:pt x="81" y="31"/>
                </a:lnTo>
                <a:lnTo>
                  <a:pt x="14" y="28"/>
                </a:lnTo>
                <a:cubicBezTo>
                  <a:pt x="5" y="28"/>
                  <a:pt x="0" y="20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90" y="3"/>
                </a:lnTo>
                <a:cubicBezTo>
                  <a:pt x="96" y="3"/>
                  <a:pt x="101" y="6"/>
                  <a:pt x="101" y="11"/>
                </a:cubicBezTo>
                <a:lnTo>
                  <a:pt x="124" y="82"/>
                </a:lnTo>
                <a:cubicBezTo>
                  <a:pt x="127" y="90"/>
                  <a:pt x="121" y="96"/>
                  <a:pt x="115" y="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252"/>
          <p:cNvSpPr/>
          <p:nvPr/>
        </p:nvSpPr>
        <p:spPr>
          <a:xfrm>
            <a:off x="3917880" y="5487840"/>
            <a:ext cx="104760" cy="82800"/>
          </a:xfrm>
          <a:custGeom>
            <a:avLst/>
            <a:gdLst/>
            <a:ahLst/>
            <a:rect l="l" t="t" r="r" b="b"/>
            <a:pathLst>
              <a:path w="156" h="123">
                <a:moveTo>
                  <a:pt x="17" y="122"/>
                </a:moveTo>
                <a:cubicBezTo>
                  <a:pt x="14" y="122"/>
                  <a:pt x="14" y="122"/>
                  <a:pt x="11" y="122"/>
                </a:cubicBezTo>
                <a:cubicBezTo>
                  <a:pt x="3" y="119"/>
                  <a:pt x="0" y="110"/>
                  <a:pt x="6" y="102"/>
                </a:cubicBezTo>
                <a:lnTo>
                  <a:pt x="40" y="29"/>
                </a:lnTo>
                <a:cubicBezTo>
                  <a:pt x="42" y="26"/>
                  <a:pt x="45" y="23"/>
                  <a:pt x="51" y="20"/>
                </a:cubicBezTo>
                <a:lnTo>
                  <a:pt x="136" y="3"/>
                </a:lnTo>
                <a:cubicBezTo>
                  <a:pt x="144" y="0"/>
                  <a:pt x="150" y="6"/>
                  <a:pt x="153" y="14"/>
                </a:cubicBezTo>
                <a:cubicBezTo>
                  <a:pt x="155" y="23"/>
                  <a:pt x="150" y="29"/>
                  <a:pt x="141" y="31"/>
                </a:cubicBezTo>
                <a:lnTo>
                  <a:pt x="65" y="45"/>
                </a:lnTo>
                <a:lnTo>
                  <a:pt x="34" y="113"/>
                </a:lnTo>
                <a:cubicBezTo>
                  <a:pt x="28" y="119"/>
                  <a:pt x="23" y="122"/>
                  <a:pt x="17" y="12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253"/>
          <p:cNvSpPr/>
          <p:nvPr/>
        </p:nvSpPr>
        <p:spPr>
          <a:xfrm>
            <a:off x="3981600" y="5326200"/>
            <a:ext cx="63360" cy="115920"/>
          </a:xfrm>
          <a:custGeom>
            <a:avLst/>
            <a:gdLst/>
            <a:ahLst/>
            <a:rect l="l" t="t" r="r" b="b"/>
            <a:pathLst>
              <a:path w="94" h="171">
                <a:moveTo>
                  <a:pt x="76" y="170"/>
                </a:moveTo>
                <a:cubicBezTo>
                  <a:pt x="74" y="170"/>
                  <a:pt x="68" y="167"/>
                  <a:pt x="65" y="164"/>
                </a:cubicBezTo>
                <a:lnTo>
                  <a:pt x="6" y="99"/>
                </a:lnTo>
                <a:cubicBezTo>
                  <a:pt x="3" y="96"/>
                  <a:pt x="0" y="91"/>
                  <a:pt x="3" y="88"/>
                </a:cubicBezTo>
                <a:lnTo>
                  <a:pt x="20" y="12"/>
                </a:lnTo>
                <a:cubicBezTo>
                  <a:pt x="23" y="3"/>
                  <a:pt x="29" y="0"/>
                  <a:pt x="37" y="0"/>
                </a:cubicBezTo>
                <a:cubicBezTo>
                  <a:pt x="45" y="3"/>
                  <a:pt x="48" y="9"/>
                  <a:pt x="48" y="17"/>
                </a:cubicBezTo>
                <a:lnTo>
                  <a:pt x="34" y="88"/>
                </a:lnTo>
                <a:lnTo>
                  <a:pt x="88" y="147"/>
                </a:lnTo>
                <a:cubicBezTo>
                  <a:pt x="93" y="153"/>
                  <a:pt x="93" y="161"/>
                  <a:pt x="88" y="167"/>
                </a:cubicBezTo>
                <a:cubicBezTo>
                  <a:pt x="82" y="170"/>
                  <a:pt x="79" y="170"/>
                  <a:pt x="76" y="1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254"/>
          <p:cNvSpPr/>
          <p:nvPr/>
        </p:nvSpPr>
        <p:spPr>
          <a:xfrm>
            <a:off x="3879720" y="5302080"/>
            <a:ext cx="20880" cy="68400"/>
          </a:xfrm>
          <a:custGeom>
            <a:avLst/>
            <a:gdLst/>
            <a:ahLst/>
            <a:rect l="l" t="t" r="r" b="b"/>
            <a:pathLst>
              <a:path w="29" h="100">
                <a:moveTo>
                  <a:pt x="14" y="99"/>
                </a:moveTo>
                <a:cubicBezTo>
                  <a:pt x="5" y="99"/>
                  <a:pt x="0" y="94"/>
                  <a:pt x="0" y="85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5"/>
                </a:cubicBezTo>
                <a:lnTo>
                  <a:pt x="28" y="85"/>
                </a:lnTo>
                <a:cubicBezTo>
                  <a:pt x="28" y="94"/>
                  <a:pt x="22" y="99"/>
                  <a:pt x="14" y="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55"/>
          <p:cNvSpPr/>
          <p:nvPr/>
        </p:nvSpPr>
        <p:spPr>
          <a:xfrm>
            <a:off x="3816360" y="5468760"/>
            <a:ext cx="46080" cy="51120"/>
          </a:xfrm>
          <a:custGeom>
            <a:avLst/>
            <a:gdLst/>
            <a:ahLst/>
            <a:rect l="l" t="t" r="r" b="b"/>
            <a:pathLst>
              <a:path w="66" h="74">
                <a:moveTo>
                  <a:pt x="14" y="73"/>
                </a:moveTo>
                <a:cubicBezTo>
                  <a:pt x="11" y="73"/>
                  <a:pt x="8" y="73"/>
                  <a:pt x="5" y="70"/>
                </a:cubicBezTo>
                <a:cubicBezTo>
                  <a:pt x="0" y="65"/>
                  <a:pt x="0" y="56"/>
                  <a:pt x="2" y="51"/>
                </a:cubicBezTo>
                <a:lnTo>
                  <a:pt x="39" y="6"/>
                </a:lnTo>
                <a:cubicBezTo>
                  <a:pt x="45" y="0"/>
                  <a:pt x="53" y="0"/>
                  <a:pt x="59" y="3"/>
                </a:cubicBezTo>
                <a:cubicBezTo>
                  <a:pt x="65" y="8"/>
                  <a:pt x="65" y="17"/>
                  <a:pt x="62" y="23"/>
                </a:cubicBezTo>
                <a:lnTo>
                  <a:pt x="25" y="68"/>
                </a:lnTo>
                <a:cubicBezTo>
                  <a:pt x="22" y="70"/>
                  <a:pt x="17" y="73"/>
                  <a:pt x="14" y="7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56"/>
          <p:cNvSpPr/>
          <p:nvPr/>
        </p:nvSpPr>
        <p:spPr>
          <a:xfrm>
            <a:off x="3916440" y="5467320"/>
            <a:ext cx="47520" cy="50760"/>
          </a:xfrm>
          <a:custGeom>
            <a:avLst/>
            <a:gdLst/>
            <a:ahLst/>
            <a:rect l="l" t="t" r="r" b="b"/>
            <a:pathLst>
              <a:path w="72" h="77">
                <a:moveTo>
                  <a:pt x="54" y="76"/>
                </a:moveTo>
                <a:cubicBezTo>
                  <a:pt x="51" y="76"/>
                  <a:pt x="45" y="73"/>
                  <a:pt x="43" y="71"/>
                </a:cubicBezTo>
                <a:lnTo>
                  <a:pt x="6" y="26"/>
                </a:lnTo>
                <a:cubicBezTo>
                  <a:pt x="0" y="20"/>
                  <a:pt x="0" y="11"/>
                  <a:pt x="9" y="6"/>
                </a:cubicBezTo>
                <a:cubicBezTo>
                  <a:pt x="14" y="0"/>
                  <a:pt x="23" y="0"/>
                  <a:pt x="29" y="9"/>
                </a:cubicBezTo>
                <a:lnTo>
                  <a:pt x="65" y="54"/>
                </a:lnTo>
                <a:cubicBezTo>
                  <a:pt x="71" y="59"/>
                  <a:pt x="71" y="68"/>
                  <a:pt x="62" y="73"/>
                </a:cubicBezTo>
                <a:cubicBezTo>
                  <a:pt x="62" y="76"/>
                  <a:pt x="60" y="76"/>
                  <a:pt x="54" y="7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257"/>
          <p:cNvSpPr/>
          <p:nvPr/>
        </p:nvSpPr>
        <p:spPr>
          <a:xfrm>
            <a:off x="3941640" y="5376960"/>
            <a:ext cx="63720" cy="41040"/>
          </a:xfrm>
          <a:custGeom>
            <a:avLst/>
            <a:gdLst/>
            <a:ahLst/>
            <a:rect l="l" t="t" r="r" b="b"/>
            <a:pathLst>
              <a:path w="93" h="60">
                <a:moveTo>
                  <a:pt x="14" y="59"/>
                </a:moveTo>
                <a:cubicBezTo>
                  <a:pt x="8" y="59"/>
                  <a:pt x="3" y="56"/>
                  <a:pt x="3" y="50"/>
                </a:cubicBezTo>
                <a:cubicBezTo>
                  <a:pt x="0" y="45"/>
                  <a:pt x="3" y="36"/>
                  <a:pt x="8" y="31"/>
                </a:cubicBezTo>
                <a:lnTo>
                  <a:pt x="68" y="2"/>
                </a:lnTo>
                <a:cubicBezTo>
                  <a:pt x="73" y="0"/>
                  <a:pt x="81" y="2"/>
                  <a:pt x="87" y="8"/>
                </a:cubicBezTo>
                <a:cubicBezTo>
                  <a:pt x="92" y="14"/>
                  <a:pt x="87" y="22"/>
                  <a:pt x="82" y="28"/>
                </a:cubicBezTo>
                <a:lnTo>
                  <a:pt x="22" y="56"/>
                </a:lnTo>
                <a:cubicBezTo>
                  <a:pt x="20" y="59"/>
                  <a:pt x="17" y="59"/>
                  <a:pt x="14" y="5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58"/>
          <p:cNvSpPr/>
          <p:nvPr/>
        </p:nvSpPr>
        <p:spPr>
          <a:xfrm>
            <a:off x="3774960" y="5376960"/>
            <a:ext cx="65160" cy="41040"/>
          </a:xfrm>
          <a:custGeom>
            <a:avLst/>
            <a:gdLst/>
            <a:ahLst/>
            <a:rect l="l" t="t" r="r" b="b"/>
            <a:pathLst>
              <a:path w="96" h="60">
                <a:moveTo>
                  <a:pt x="76" y="59"/>
                </a:moveTo>
                <a:cubicBezTo>
                  <a:pt x="73" y="59"/>
                  <a:pt x="73" y="59"/>
                  <a:pt x="70" y="56"/>
                </a:cubicBezTo>
                <a:lnTo>
                  <a:pt x="11" y="28"/>
                </a:lnTo>
                <a:cubicBezTo>
                  <a:pt x="5" y="25"/>
                  <a:pt x="0" y="17"/>
                  <a:pt x="5" y="8"/>
                </a:cubicBezTo>
                <a:cubicBezTo>
                  <a:pt x="8" y="2"/>
                  <a:pt x="16" y="0"/>
                  <a:pt x="25" y="2"/>
                </a:cubicBezTo>
                <a:lnTo>
                  <a:pt x="84" y="31"/>
                </a:lnTo>
                <a:cubicBezTo>
                  <a:pt x="90" y="34"/>
                  <a:pt x="95" y="42"/>
                  <a:pt x="90" y="50"/>
                </a:cubicBezTo>
                <a:cubicBezTo>
                  <a:pt x="84" y="56"/>
                  <a:pt x="81" y="59"/>
                  <a:pt x="76" y="5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259"/>
          <p:cNvSpPr/>
          <p:nvPr/>
        </p:nvSpPr>
        <p:spPr>
          <a:xfrm>
            <a:off x="4502160" y="5268960"/>
            <a:ext cx="322200" cy="307800"/>
          </a:xfrm>
          <a:custGeom>
            <a:avLst/>
            <a:gdLst/>
            <a:ahLst/>
            <a:rect l="l" t="t" r="r" b="b"/>
            <a:pathLst>
              <a:path w="475" h="452">
                <a:moveTo>
                  <a:pt x="226" y="451"/>
                </a:moveTo>
                <a:cubicBezTo>
                  <a:pt x="169" y="451"/>
                  <a:pt x="110" y="429"/>
                  <a:pt x="65" y="386"/>
                </a:cubicBezTo>
                <a:cubicBezTo>
                  <a:pt x="22" y="344"/>
                  <a:pt x="0" y="287"/>
                  <a:pt x="0" y="225"/>
                </a:cubicBezTo>
                <a:cubicBezTo>
                  <a:pt x="0" y="166"/>
                  <a:pt x="22" y="110"/>
                  <a:pt x="65" y="65"/>
                </a:cubicBezTo>
                <a:cubicBezTo>
                  <a:pt x="107" y="22"/>
                  <a:pt x="164" y="0"/>
                  <a:pt x="226" y="0"/>
                </a:cubicBezTo>
                <a:cubicBezTo>
                  <a:pt x="285" y="0"/>
                  <a:pt x="341" y="22"/>
                  <a:pt x="386" y="65"/>
                </a:cubicBezTo>
                <a:cubicBezTo>
                  <a:pt x="474" y="152"/>
                  <a:pt x="474" y="296"/>
                  <a:pt x="386" y="383"/>
                </a:cubicBezTo>
                <a:cubicBezTo>
                  <a:pt x="341" y="429"/>
                  <a:pt x="282" y="451"/>
                  <a:pt x="226" y="451"/>
                </a:cubicBezTo>
                <a:close/>
                <a:moveTo>
                  <a:pt x="226" y="28"/>
                </a:moveTo>
                <a:cubicBezTo>
                  <a:pt x="172" y="28"/>
                  <a:pt x="123" y="48"/>
                  <a:pt x="87" y="87"/>
                </a:cubicBezTo>
                <a:cubicBezTo>
                  <a:pt x="50" y="127"/>
                  <a:pt x="28" y="175"/>
                  <a:pt x="28" y="228"/>
                </a:cubicBezTo>
                <a:cubicBezTo>
                  <a:pt x="28" y="282"/>
                  <a:pt x="48" y="330"/>
                  <a:pt x="87" y="366"/>
                </a:cubicBezTo>
                <a:cubicBezTo>
                  <a:pt x="164" y="443"/>
                  <a:pt x="291" y="443"/>
                  <a:pt x="367" y="366"/>
                </a:cubicBezTo>
                <a:cubicBezTo>
                  <a:pt x="443" y="290"/>
                  <a:pt x="443" y="163"/>
                  <a:pt x="367" y="87"/>
                </a:cubicBezTo>
                <a:cubicBezTo>
                  <a:pt x="327" y="48"/>
                  <a:pt x="279" y="28"/>
                  <a:pt x="22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260"/>
          <p:cNvSpPr/>
          <p:nvPr/>
        </p:nvSpPr>
        <p:spPr>
          <a:xfrm>
            <a:off x="4543560" y="5311800"/>
            <a:ext cx="225360" cy="220680"/>
          </a:xfrm>
          <a:custGeom>
            <a:avLst/>
            <a:gdLst/>
            <a:ahLst/>
            <a:rect l="l" t="t" r="r" b="b"/>
            <a:pathLst>
              <a:path w="331" h="328">
                <a:moveTo>
                  <a:pt x="316" y="327"/>
                </a:moveTo>
                <a:cubicBezTo>
                  <a:pt x="313" y="327"/>
                  <a:pt x="308" y="327"/>
                  <a:pt x="305" y="324"/>
                </a:cubicBezTo>
                <a:lnTo>
                  <a:pt x="6" y="25"/>
                </a:lnTo>
                <a:cubicBezTo>
                  <a:pt x="0" y="19"/>
                  <a:pt x="0" y="11"/>
                  <a:pt x="6" y="5"/>
                </a:cubicBezTo>
                <a:cubicBezTo>
                  <a:pt x="11" y="0"/>
                  <a:pt x="20" y="0"/>
                  <a:pt x="26" y="5"/>
                </a:cubicBezTo>
                <a:lnTo>
                  <a:pt x="325" y="304"/>
                </a:lnTo>
                <a:cubicBezTo>
                  <a:pt x="330" y="310"/>
                  <a:pt x="330" y="319"/>
                  <a:pt x="325" y="324"/>
                </a:cubicBezTo>
                <a:cubicBezTo>
                  <a:pt x="325" y="327"/>
                  <a:pt x="319" y="327"/>
                  <a:pt x="316" y="32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61"/>
          <p:cNvSpPr/>
          <p:nvPr/>
        </p:nvSpPr>
        <p:spPr>
          <a:xfrm>
            <a:off x="4543560" y="5311800"/>
            <a:ext cx="225360" cy="220680"/>
          </a:xfrm>
          <a:custGeom>
            <a:avLst/>
            <a:gdLst/>
            <a:ahLst/>
            <a:rect l="l" t="t" r="r" b="b"/>
            <a:pathLst>
              <a:path w="331" h="328">
                <a:moveTo>
                  <a:pt x="17" y="327"/>
                </a:moveTo>
                <a:cubicBezTo>
                  <a:pt x="14" y="327"/>
                  <a:pt x="9" y="327"/>
                  <a:pt x="6" y="324"/>
                </a:cubicBezTo>
                <a:cubicBezTo>
                  <a:pt x="0" y="319"/>
                  <a:pt x="0" y="310"/>
                  <a:pt x="6" y="304"/>
                </a:cubicBezTo>
                <a:lnTo>
                  <a:pt x="305" y="5"/>
                </a:lnTo>
                <a:cubicBezTo>
                  <a:pt x="311" y="0"/>
                  <a:pt x="319" y="0"/>
                  <a:pt x="325" y="5"/>
                </a:cubicBezTo>
                <a:cubicBezTo>
                  <a:pt x="330" y="11"/>
                  <a:pt x="330" y="19"/>
                  <a:pt x="325" y="25"/>
                </a:cubicBezTo>
                <a:lnTo>
                  <a:pt x="26" y="324"/>
                </a:lnTo>
                <a:cubicBezTo>
                  <a:pt x="26" y="327"/>
                  <a:pt x="20" y="327"/>
                  <a:pt x="17" y="32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262"/>
          <p:cNvSpPr/>
          <p:nvPr/>
        </p:nvSpPr>
        <p:spPr>
          <a:xfrm>
            <a:off x="4645080" y="5268960"/>
            <a:ext cx="168120" cy="164880"/>
          </a:xfrm>
          <a:custGeom>
            <a:avLst/>
            <a:gdLst/>
            <a:ahLst/>
            <a:rect l="l" t="t" r="r" b="b"/>
            <a:pathLst>
              <a:path w="246" h="243">
                <a:moveTo>
                  <a:pt x="228" y="242"/>
                </a:moveTo>
                <a:cubicBezTo>
                  <a:pt x="228" y="242"/>
                  <a:pt x="225" y="242"/>
                  <a:pt x="228" y="242"/>
                </a:cubicBezTo>
                <a:cubicBezTo>
                  <a:pt x="169" y="234"/>
                  <a:pt x="118" y="206"/>
                  <a:pt x="76" y="166"/>
                </a:cubicBezTo>
                <a:cubicBezTo>
                  <a:pt x="36" y="127"/>
                  <a:pt x="8" y="73"/>
                  <a:pt x="0" y="17"/>
                </a:cubicBezTo>
                <a:cubicBezTo>
                  <a:pt x="0" y="8"/>
                  <a:pt x="3" y="2"/>
                  <a:pt x="11" y="0"/>
                </a:cubicBezTo>
                <a:cubicBezTo>
                  <a:pt x="19" y="0"/>
                  <a:pt x="25" y="2"/>
                  <a:pt x="28" y="11"/>
                </a:cubicBezTo>
                <a:cubicBezTo>
                  <a:pt x="36" y="62"/>
                  <a:pt x="62" y="107"/>
                  <a:pt x="98" y="144"/>
                </a:cubicBezTo>
                <a:cubicBezTo>
                  <a:pt x="135" y="180"/>
                  <a:pt x="180" y="206"/>
                  <a:pt x="231" y="214"/>
                </a:cubicBezTo>
                <a:cubicBezTo>
                  <a:pt x="240" y="214"/>
                  <a:pt x="245" y="223"/>
                  <a:pt x="242" y="231"/>
                </a:cubicBezTo>
                <a:cubicBezTo>
                  <a:pt x="240" y="239"/>
                  <a:pt x="234" y="242"/>
                  <a:pt x="228" y="24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263"/>
          <p:cNvSpPr/>
          <p:nvPr/>
        </p:nvSpPr>
        <p:spPr>
          <a:xfrm>
            <a:off x="4498920" y="5407200"/>
            <a:ext cx="166680" cy="166680"/>
          </a:xfrm>
          <a:custGeom>
            <a:avLst/>
            <a:gdLst/>
            <a:ahLst/>
            <a:rect l="l" t="t" r="r" b="b"/>
            <a:pathLst>
              <a:path w="249" h="246">
                <a:moveTo>
                  <a:pt x="231" y="245"/>
                </a:moveTo>
                <a:cubicBezTo>
                  <a:pt x="226" y="245"/>
                  <a:pt x="217" y="240"/>
                  <a:pt x="217" y="234"/>
                </a:cubicBezTo>
                <a:cubicBezTo>
                  <a:pt x="209" y="183"/>
                  <a:pt x="183" y="138"/>
                  <a:pt x="147" y="101"/>
                </a:cubicBezTo>
                <a:cubicBezTo>
                  <a:pt x="110" y="65"/>
                  <a:pt x="65" y="39"/>
                  <a:pt x="14" y="31"/>
                </a:cubicBezTo>
                <a:cubicBezTo>
                  <a:pt x="6" y="31"/>
                  <a:pt x="0" y="22"/>
                  <a:pt x="3" y="14"/>
                </a:cubicBezTo>
                <a:cubicBezTo>
                  <a:pt x="3" y="5"/>
                  <a:pt x="11" y="0"/>
                  <a:pt x="20" y="2"/>
                </a:cubicBezTo>
                <a:cubicBezTo>
                  <a:pt x="76" y="11"/>
                  <a:pt x="127" y="39"/>
                  <a:pt x="169" y="79"/>
                </a:cubicBezTo>
                <a:cubicBezTo>
                  <a:pt x="209" y="118"/>
                  <a:pt x="237" y="172"/>
                  <a:pt x="246" y="228"/>
                </a:cubicBezTo>
                <a:cubicBezTo>
                  <a:pt x="248" y="237"/>
                  <a:pt x="243" y="242"/>
                  <a:pt x="231" y="24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64"/>
          <p:cNvSpPr/>
          <p:nvPr/>
        </p:nvSpPr>
        <p:spPr>
          <a:xfrm>
            <a:off x="5307120" y="5305320"/>
            <a:ext cx="230040" cy="268560"/>
          </a:xfrm>
          <a:custGeom>
            <a:avLst/>
            <a:gdLst/>
            <a:ahLst/>
            <a:rect l="l" t="t" r="r" b="b"/>
            <a:pathLst>
              <a:path w="340" h="396">
                <a:moveTo>
                  <a:pt x="310" y="395"/>
                </a:moveTo>
                <a:lnTo>
                  <a:pt x="28" y="395"/>
                </a:lnTo>
                <a:cubicBezTo>
                  <a:pt x="11" y="395"/>
                  <a:pt x="0" y="384"/>
                  <a:pt x="0" y="367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99" y="0"/>
                </a:lnTo>
                <a:lnTo>
                  <a:pt x="99" y="28"/>
                </a:lnTo>
                <a:lnTo>
                  <a:pt x="28" y="28"/>
                </a:lnTo>
                <a:lnTo>
                  <a:pt x="28" y="367"/>
                </a:lnTo>
                <a:lnTo>
                  <a:pt x="310" y="367"/>
                </a:lnTo>
                <a:lnTo>
                  <a:pt x="310" y="28"/>
                </a:lnTo>
                <a:lnTo>
                  <a:pt x="240" y="28"/>
                </a:lnTo>
                <a:lnTo>
                  <a:pt x="240" y="0"/>
                </a:lnTo>
                <a:lnTo>
                  <a:pt x="310" y="0"/>
                </a:lnTo>
                <a:cubicBezTo>
                  <a:pt x="327" y="0"/>
                  <a:pt x="339" y="11"/>
                  <a:pt x="339" y="28"/>
                </a:cubicBezTo>
                <a:lnTo>
                  <a:pt x="339" y="367"/>
                </a:lnTo>
                <a:cubicBezTo>
                  <a:pt x="339" y="384"/>
                  <a:pt x="327" y="395"/>
                  <a:pt x="310" y="3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65"/>
          <p:cNvSpPr/>
          <p:nvPr/>
        </p:nvSpPr>
        <p:spPr>
          <a:xfrm>
            <a:off x="5364000" y="5268960"/>
            <a:ext cx="115920" cy="77760"/>
          </a:xfrm>
          <a:custGeom>
            <a:avLst/>
            <a:gdLst/>
            <a:ahLst/>
            <a:rect l="l" t="t" r="r" b="b"/>
            <a:pathLst>
              <a:path w="170" h="114">
                <a:moveTo>
                  <a:pt x="155" y="113"/>
                </a:moveTo>
                <a:lnTo>
                  <a:pt x="14" y="113"/>
                </a:lnTo>
                <a:cubicBezTo>
                  <a:pt x="5" y="113"/>
                  <a:pt x="0" y="107"/>
                  <a:pt x="0" y="98"/>
                </a:cubicBezTo>
                <a:lnTo>
                  <a:pt x="0" y="42"/>
                </a:lnTo>
                <a:cubicBezTo>
                  <a:pt x="0" y="33"/>
                  <a:pt x="5" y="28"/>
                  <a:pt x="14" y="28"/>
                </a:cubicBezTo>
                <a:lnTo>
                  <a:pt x="45" y="28"/>
                </a:lnTo>
                <a:cubicBezTo>
                  <a:pt x="51" y="11"/>
                  <a:pt x="67" y="0"/>
                  <a:pt x="84" y="0"/>
                </a:cubicBezTo>
                <a:cubicBezTo>
                  <a:pt x="101" y="0"/>
                  <a:pt x="118" y="11"/>
                  <a:pt x="124" y="28"/>
                </a:cubicBezTo>
                <a:lnTo>
                  <a:pt x="155" y="28"/>
                </a:lnTo>
                <a:cubicBezTo>
                  <a:pt x="163" y="28"/>
                  <a:pt x="169" y="33"/>
                  <a:pt x="169" y="42"/>
                </a:cubicBezTo>
                <a:lnTo>
                  <a:pt x="169" y="98"/>
                </a:lnTo>
                <a:cubicBezTo>
                  <a:pt x="169" y="107"/>
                  <a:pt x="163" y="113"/>
                  <a:pt x="155" y="113"/>
                </a:cubicBezTo>
                <a:close/>
                <a:moveTo>
                  <a:pt x="28" y="84"/>
                </a:moveTo>
                <a:lnTo>
                  <a:pt x="141" y="84"/>
                </a:lnTo>
                <a:lnTo>
                  <a:pt x="141" y="56"/>
                </a:lnTo>
                <a:lnTo>
                  <a:pt x="113" y="56"/>
                </a:lnTo>
                <a:cubicBezTo>
                  <a:pt x="104" y="56"/>
                  <a:pt x="98" y="51"/>
                  <a:pt x="98" y="42"/>
                </a:cubicBezTo>
                <a:cubicBezTo>
                  <a:pt x="98" y="34"/>
                  <a:pt x="93" y="28"/>
                  <a:pt x="84" y="28"/>
                </a:cubicBezTo>
                <a:cubicBezTo>
                  <a:pt x="76" y="28"/>
                  <a:pt x="70" y="34"/>
                  <a:pt x="70" y="42"/>
                </a:cubicBezTo>
                <a:cubicBezTo>
                  <a:pt x="70" y="51"/>
                  <a:pt x="65" y="56"/>
                  <a:pt x="56" y="56"/>
                </a:cubicBezTo>
                <a:lnTo>
                  <a:pt x="28" y="56"/>
                </a:lnTo>
                <a:lnTo>
                  <a:pt x="28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66"/>
          <p:cNvSpPr/>
          <p:nvPr/>
        </p:nvSpPr>
        <p:spPr>
          <a:xfrm>
            <a:off x="5303880" y="5362560"/>
            <a:ext cx="233280" cy="155520"/>
          </a:xfrm>
          <a:custGeom>
            <a:avLst/>
            <a:gdLst/>
            <a:ahLst/>
            <a:rect l="l" t="t" r="r" b="b"/>
            <a:pathLst>
              <a:path w="346" h="229">
                <a:moveTo>
                  <a:pt x="229" y="228"/>
                </a:moveTo>
                <a:lnTo>
                  <a:pt x="229" y="228"/>
                </a:lnTo>
                <a:cubicBezTo>
                  <a:pt x="223" y="228"/>
                  <a:pt x="218" y="223"/>
                  <a:pt x="215" y="217"/>
                </a:cubicBezTo>
                <a:lnTo>
                  <a:pt x="170" y="59"/>
                </a:lnTo>
                <a:lnTo>
                  <a:pt x="127" y="161"/>
                </a:lnTo>
                <a:cubicBezTo>
                  <a:pt x="124" y="166"/>
                  <a:pt x="122" y="169"/>
                  <a:pt x="116" y="169"/>
                </a:cubicBezTo>
                <a:cubicBezTo>
                  <a:pt x="110" y="169"/>
                  <a:pt x="105" y="166"/>
                  <a:pt x="102" y="164"/>
                </a:cubicBezTo>
                <a:lnTo>
                  <a:pt x="65" y="113"/>
                </a:lnTo>
                <a:lnTo>
                  <a:pt x="14" y="113"/>
                </a:lnTo>
                <a:cubicBezTo>
                  <a:pt x="6" y="113"/>
                  <a:pt x="0" y="108"/>
                  <a:pt x="0" y="99"/>
                </a:cubicBezTo>
                <a:cubicBezTo>
                  <a:pt x="0" y="91"/>
                  <a:pt x="6" y="85"/>
                  <a:pt x="14" y="85"/>
                </a:cubicBezTo>
                <a:lnTo>
                  <a:pt x="71" y="85"/>
                </a:lnTo>
                <a:cubicBezTo>
                  <a:pt x="76" y="85"/>
                  <a:pt x="79" y="87"/>
                  <a:pt x="82" y="90"/>
                </a:cubicBezTo>
                <a:lnTo>
                  <a:pt x="110" y="127"/>
                </a:lnTo>
                <a:lnTo>
                  <a:pt x="158" y="8"/>
                </a:lnTo>
                <a:cubicBezTo>
                  <a:pt x="161" y="3"/>
                  <a:pt x="167" y="0"/>
                  <a:pt x="172" y="0"/>
                </a:cubicBezTo>
                <a:cubicBezTo>
                  <a:pt x="178" y="0"/>
                  <a:pt x="184" y="6"/>
                  <a:pt x="186" y="11"/>
                </a:cubicBezTo>
                <a:lnTo>
                  <a:pt x="232" y="166"/>
                </a:lnTo>
                <a:lnTo>
                  <a:pt x="260" y="93"/>
                </a:lnTo>
                <a:cubicBezTo>
                  <a:pt x="263" y="87"/>
                  <a:pt x="268" y="85"/>
                  <a:pt x="274" y="85"/>
                </a:cubicBezTo>
                <a:lnTo>
                  <a:pt x="330" y="85"/>
                </a:lnTo>
                <a:cubicBezTo>
                  <a:pt x="339" y="85"/>
                  <a:pt x="345" y="91"/>
                  <a:pt x="345" y="99"/>
                </a:cubicBezTo>
                <a:cubicBezTo>
                  <a:pt x="345" y="108"/>
                  <a:pt x="339" y="113"/>
                  <a:pt x="330" y="113"/>
                </a:cubicBezTo>
                <a:lnTo>
                  <a:pt x="282" y="113"/>
                </a:lnTo>
                <a:lnTo>
                  <a:pt x="243" y="217"/>
                </a:lnTo>
                <a:cubicBezTo>
                  <a:pt x="240" y="226"/>
                  <a:pt x="234" y="228"/>
                  <a:pt x="229" y="2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267"/>
          <p:cNvSpPr/>
          <p:nvPr/>
        </p:nvSpPr>
        <p:spPr>
          <a:xfrm>
            <a:off x="5267160" y="3736800"/>
            <a:ext cx="308160" cy="308160"/>
          </a:xfrm>
          <a:custGeom>
            <a:avLst/>
            <a:gdLst/>
            <a:ahLst/>
            <a:rect l="l" t="t" r="r" b="b"/>
            <a:pathLst>
              <a:path w="452" h="453">
                <a:moveTo>
                  <a:pt x="225" y="452"/>
                </a:moveTo>
                <a:cubicBezTo>
                  <a:pt x="101" y="452"/>
                  <a:pt x="0" y="350"/>
                  <a:pt x="0" y="226"/>
                </a:cubicBezTo>
                <a:cubicBezTo>
                  <a:pt x="0" y="102"/>
                  <a:pt x="101" y="0"/>
                  <a:pt x="225" y="0"/>
                </a:cubicBezTo>
                <a:cubicBezTo>
                  <a:pt x="350" y="0"/>
                  <a:pt x="451" y="102"/>
                  <a:pt x="451" y="226"/>
                </a:cubicBezTo>
                <a:cubicBezTo>
                  <a:pt x="451" y="350"/>
                  <a:pt x="350" y="452"/>
                  <a:pt x="225" y="452"/>
                </a:cubicBezTo>
                <a:close/>
                <a:moveTo>
                  <a:pt x="225" y="28"/>
                </a:moveTo>
                <a:cubicBezTo>
                  <a:pt x="115" y="28"/>
                  <a:pt x="28" y="116"/>
                  <a:pt x="28" y="226"/>
                </a:cubicBezTo>
                <a:cubicBezTo>
                  <a:pt x="28" y="336"/>
                  <a:pt x="115" y="423"/>
                  <a:pt x="225" y="423"/>
                </a:cubicBezTo>
                <a:cubicBezTo>
                  <a:pt x="335" y="423"/>
                  <a:pt x="423" y="336"/>
                  <a:pt x="423" y="226"/>
                </a:cubicBezTo>
                <a:cubicBezTo>
                  <a:pt x="423" y="116"/>
                  <a:pt x="335" y="28"/>
                  <a:pt x="225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268"/>
          <p:cNvSpPr/>
          <p:nvPr/>
        </p:nvSpPr>
        <p:spPr>
          <a:xfrm>
            <a:off x="5411880" y="3736800"/>
            <a:ext cx="163440" cy="165240"/>
          </a:xfrm>
          <a:custGeom>
            <a:avLst/>
            <a:gdLst/>
            <a:ahLst/>
            <a:rect l="l" t="t" r="r" b="b"/>
            <a:pathLst>
              <a:path w="241" h="241">
                <a:moveTo>
                  <a:pt x="226" y="240"/>
                </a:moveTo>
                <a:lnTo>
                  <a:pt x="14" y="240"/>
                </a:lnTo>
                <a:cubicBezTo>
                  <a:pt x="6" y="240"/>
                  <a:pt x="0" y="234"/>
                  <a:pt x="0" y="226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212"/>
                </a:lnTo>
                <a:lnTo>
                  <a:pt x="226" y="212"/>
                </a:lnTo>
                <a:cubicBezTo>
                  <a:pt x="235" y="212"/>
                  <a:pt x="240" y="217"/>
                  <a:pt x="240" y="226"/>
                </a:cubicBezTo>
                <a:cubicBezTo>
                  <a:pt x="240" y="234"/>
                  <a:pt x="235" y="240"/>
                  <a:pt x="226" y="24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269"/>
          <p:cNvSpPr/>
          <p:nvPr/>
        </p:nvSpPr>
        <p:spPr>
          <a:xfrm>
            <a:off x="6033960" y="3736800"/>
            <a:ext cx="308160" cy="308160"/>
          </a:xfrm>
          <a:custGeom>
            <a:avLst/>
            <a:gdLst/>
            <a:ahLst/>
            <a:rect l="l" t="t" r="r" b="b"/>
            <a:pathLst>
              <a:path w="453" h="453">
                <a:moveTo>
                  <a:pt x="226" y="452"/>
                </a:moveTo>
                <a:cubicBezTo>
                  <a:pt x="102" y="452"/>
                  <a:pt x="0" y="350"/>
                  <a:pt x="0" y="226"/>
                </a:cubicBezTo>
                <a:cubicBezTo>
                  <a:pt x="0" y="102"/>
                  <a:pt x="102" y="0"/>
                  <a:pt x="226" y="0"/>
                </a:cubicBezTo>
                <a:cubicBezTo>
                  <a:pt x="350" y="0"/>
                  <a:pt x="452" y="102"/>
                  <a:pt x="452" y="226"/>
                </a:cubicBezTo>
                <a:cubicBezTo>
                  <a:pt x="452" y="350"/>
                  <a:pt x="350" y="452"/>
                  <a:pt x="226" y="452"/>
                </a:cubicBezTo>
                <a:close/>
                <a:moveTo>
                  <a:pt x="226" y="28"/>
                </a:moveTo>
                <a:cubicBezTo>
                  <a:pt x="116" y="28"/>
                  <a:pt x="29" y="116"/>
                  <a:pt x="29" y="226"/>
                </a:cubicBezTo>
                <a:cubicBezTo>
                  <a:pt x="29" y="336"/>
                  <a:pt x="116" y="423"/>
                  <a:pt x="226" y="423"/>
                </a:cubicBezTo>
                <a:cubicBezTo>
                  <a:pt x="336" y="423"/>
                  <a:pt x="424" y="336"/>
                  <a:pt x="424" y="226"/>
                </a:cubicBezTo>
                <a:cubicBezTo>
                  <a:pt x="424" y="116"/>
                  <a:pt x="336" y="28"/>
                  <a:pt x="22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270"/>
          <p:cNvSpPr/>
          <p:nvPr/>
        </p:nvSpPr>
        <p:spPr>
          <a:xfrm>
            <a:off x="6072120" y="3736800"/>
            <a:ext cx="122400" cy="266760"/>
          </a:xfrm>
          <a:custGeom>
            <a:avLst/>
            <a:gdLst/>
            <a:ahLst/>
            <a:rect l="l" t="t" r="r" b="b"/>
            <a:pathLst>
              <a:path w="181" h="391">
                <a:moveTo>
                  <a:pt x="17" y="390"/>
                </a:moveTo>
                <a:cubicBezTo>
                  <a:pt x="14" y="390"/>
                  <a:pt x="8" y="390"/>
                  <a:pt x="5" y="387"/>
                </a:cubicBezTo>
                <a:cubicBezTo>
                  <a:pt x="0" y="381"/>
                  <a:pt x="0" y="373"/>
                  <a:pt x="5" y="367"/>
                </a:cubicBezTo>
                <a:lnTo>
                  <a:pt x="152" y="220"/>
                </a:lnTo>
                <a:lnTo>
                  <a:pt x="152" y="14"/>
                </a:lnTo>
                <a:cubicBezTo>
                  <a:pt x="152" y="6"/>
                  <a:pt x="158" y="0"/>
                  <a:pt x="166" y="0"/>
                </a:cubicBezTo>
                <a:cubicBezTo>
                  <a:pt x="175" y="0"/>
                  <a:pt x="180" y="6"/>
                  <a:pt x="180" y="14"/>
                </a:cubicBezTo>
                <a:lnTo>
                  <a:pt x="180" y="226"/>
                </a:lnTo>
                <a:cubicBezTo>
                  <a:pt x="180" y="229"/>
                  <a:pt x="177" y="234"/>
                  <a:pt x="177" y="237"/>
                </a:cubicBezTo>
                <a:lnTo>
                  <a:pt x="28" y="387"/>
                </a:lnTo>
                <a:cubicBezTo>
                  <a:pt x="25" y="390"/>
                  <a:pt x="19" y="390"/>
                  <a:pt x="17" y="39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271"/>
          <p:cNvSpPr/>
          <p:nvPr/>
        </p:nvSpPr>
        <p:spPr>
          <a:xfrm>
            <a:off x="6176880" y="3881520"/>
            <a:ext cx="165240" cy="20520"/>
          </a:xfrm>
          <a:custGeom>
            <a:avLst/>
            <a:gdLst/>
            <a:ahLst/>
            <a:rect l="l" t="t" r="r" b="b"/>
            <a:pathLst>
              <a:path w="241" h="29">
                <a:moveTo>
                  <a:pt x="226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226" y="0"/>
                </a:lnTo>
                <a:cubicBezTo>
                  <a:pt x="234" y="0"/>
                  <a:pt x="240" y="5"/>
                  <a:pt x="240" y="14"/>
                </a:cubicBezTo>
                <a:cubicBezTo>
                  <a:pt x="240" y="22"/>
                  <a:pt x="234" y="28"/>
                  <a:pt x="226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272"/>
          <p:cNvSpPr/>
          <p:nvPr/>
        </p:nvSpPr>
        <p:spPr>
          <a:xfrm>
            <a:off x="6799320" y="3736800"/>
            <a:ext cx="307800" cy="308160"/>
          </a:xfrm>
          <a:custGeom>
            <a:avLst/>
            <a:gdLst/>
            <a:ahLst/>
            <a:rect l="l" t="t" r="r" b="b"/>
            <a:pathLst>
              <a:path w="453" h="453">
                <a:moveTo>
                  <a:pt x="226" y="452"/>
                </a:moveTo>
                <a:cubicBezTo>
                  <a:pt x="102" y="452"/>
                  <a:pt x="0" y="350"/>
                  <a:pt x="0" y="226"/>
                </a:cubicBezTo>
                <a:cubicBezTo>
                  <a:pt x="0" y="102"/>
                  <a:pt x="102" y="0"/>
                  <a:pt x="226" y="0"/>
                </a:cubicBezTo>
                <a:cubicBezTo>
                  <a:pt x="350" y="0"/>
                  <a:pt x="452" y="102"/>
                  <a:pt x="452" y="226"/>
                </a:cubicBezTo>
                <a:cubicBezTo>
                  <a:pt x="452" y="350"/>
                  <a:pt x="350" y="452"/>
                  <a:pt x="226" y="452"/>
                </a:cubicBezTo>
                <a:close/>
                <a:moveTo>
                  <a:pt x="226" y="28"/>
                </a:moveTo>
                <a:cubicBezTo>
                  <a:pt x="116" y="28"/>
                  <a:pt x="28" y="116"/>
                  <a:pt x="28" y="226"/>
                </a:cubicBezTo>
                <a:cubicBezTo>
                  <a:pt x="28" y="336"/>
                  <a:pt x="116" y="423"/>
                  <a:pt x="226" y="423"/>
                </a:cubicBezTo>
                <a:cubicBezTo>
                  <a:pt x="336" y="423"/>
                  <a:pt x="423" y="336"/>
                  <a:pt x="423" y="226"/>
                </a:cubicBezTo>
                <a:cubicBezTo>
                  <a:pt x="423" y="116"/>
                  <a:pt x="336" y="28"/>
                  <a:pt x="22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273"/>
          <p:cNvSpPr/>
          <p:nvPr/>
        </p:nvSpPr>
        <p:spPr>
          <a:xfrm>
            <a:off x="6846840" y="3833640"/>
            <a:ext cx="212760" cy="211320"/>
          </a:xfrm>
          <a:custGeom>
            <a:avLst/>
            <a:gdLst/>
            <a:ahLst/>
            <a:rect l="l" t="t" r="r" b="b"/>
            <a:pathLst>
              <a:path w="311" h="312">
                <a:moveTo>
                  <a:pt x="155" y="311"/>
                </a:moveTo>
                <a:cubicBezTo>
                  <a:pt x="70" y="311"/>
                  <a:pt x="0" y="239"/>
                  <a:pt x="0" y="155"/>
                </a:cubicBezTo>
                <a:cubicBezTo>
                  <a:pt x="0" y="70"/>
                  <a:pt x="70" y="0"/>
                  <a:pt x="155" y="0"/>
                </a:cubicBezTo>
                <a:cubicBezTo>
                  <a:pt x="240" y="0"/>
                  <a:pt x="310" y="70"/>
                  <a:pt x="310" y="155"/>
                </a:cubicBezTo>
                <a:cubicBezTo>
                  <a:pt x="310" y="239"/>
                  <a:pt x="240" y="311"/>
                  <a:pt x="155" y="311"/>
                </a:cubicBezTo>
                <a:close/>
                <a:moveTo>
                  <a:pt x="155" y="28"/>
                </a:moveTo>
                <a:cubicBezTo>
                  <a:pt x="84" y="28"/>
                  <a:pt x="28" y="84"/>
                  <a:pt x="28" y="155"/>
                </a:cubicBezTo>
                <a:cubicBezTo>
                  <a:pt x="28" y="225"/>
                  <a:pt x="85" y="282"/>
                  <a:pt x="155" y="282"/>
                </a:cubicBezTo>
                <a:cubicBezTo>
                  <a:pt x="226" y="282"/>
                  <a:pt x="282" y="225"/>
                  <a:pt x="282" y="155"/>
                </a:cubicBezTo>
                <a:cubicBezTo>
                  <a:pt x="282" y="84"/>
                  <a:pt x="225" y="28"/>
                  <a:pt x="155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274"/>
          <p:cNvSpPr/>
          <p:nvPr/>
        </p:nvSpPr>
        <p:spPr>
          <a:xfrm>
            <a:off x="6894360" y="3929040"/>
            <a:ext cx="117720" cy="11592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85" y="170"/>
                </a:moveTo>
                <a:cubicBezTo>
                  <a:pt x="37" y="170"/>
                  <a:pt x="0" y="133"/>
                  <a:pt x="0" y="85"/>
                </a:cubicBezTo>
                <a:cubicBezTo>
                  <a:pt x="0" y="37"/>
                  <a:pt x="37" y="0"/>
                  <a:pt x="85" y="0"/>
                </a:cubicBezTo>
                <a:cubicBezTo>
                  <a:pt x="133" y="0"/>
                  <a:pt x="170" y="37"/>
                  <a:pt x="170" y="85"/>
                </a:cubicBezTo>
                <a:cubicBezTo>
                  <a:pt x="170" y="133"/>
                  <a:pt x="133" y="170"/>
                  <a:pt x="85" y="170"/>
                </a:cubicBezTo>
                <a:close/>
                <a:moveTo>
                  <a:pt x="85" y="28"/>
                </a:moveTo>
                <a:cubicBezTo>
                  <a:pt x="54" y="28"/>
                  <a:pt x="29" y="54"/>
                  <a:pt x="29" y="85"/>
                </a:cubicBezTo>
                <a:cubicBezTo>
                  <a:pt x="29" y="116"/>
                  <a:pt x="54" y="141"/>
                  <a:pt x="85" y="141"/>
                </a:cubicBezTo>
                <a:cubicBezTo>
                  <a:pt x="116" y="141"/>
                  <a:pt x="141" y="116"/>
                  <a:pt x="141" y="85"/>
                </a:cubicBezTo>
                <a:cubicBezTo>
                  <a:pt x="141" y="54"/>
                  <a:pt x="116" y="28"/>
                  <a:pt x="85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275"/>
          <p:cNvSpPr/>
          <p:nvPr/>
        </p:nvSpPr>
        <p:spPr>
          <a:xfrm>
            <a:off x="7561440" y="3740040"/>
            <a:ext cx="137880" cy="57240"/>
          </a:xfrm>
          <a:custGeom>
            <a:avLst/>
            <a:gdLst/>
            <a:ahLst/>
            <a:rect l="l" t="t" r="r" b="b"/>
            <a:pathLst>
              <a:path w="205" h="83">
                <a:moveTo>
                  <a:pt x="130" y="82"/>
                </a:moveTo>
                <a:lnTo>
                  <a:pt x="17" y="82"/>
                </a:lnTo>
                <a:cubicBezTo>
                  <a:pt x="11" y="82"/>
                  <a:pt x="6" y="78"/>
                  <a:pt x="3" y="73"/>
                </a:cubicBezTo>
                <a:cubicBezTo>
                  <a:pt x="0" y="67"/>
                  <a:pt x="3" y="62"/>
                  <a:pt x="6" y="59"/>
                </a:cubicBezTo>
                <a:lnTo>
                  <a:pt x="62" y="3"/>
                </a:lnTo>
                <a:cubicBezTo>
                  <a:pt x="65" y="0"/>
                  <a:pt x="68" y="0"/>
                  <a:pt x="74" y="0"/>
                </a:cubicBezTo>
                <a:lnTo>
                  <a:pt x="186" y="0"/>
                </a:lnTo>
                <a:cubicBezTo>
                  <a:pt x="192" y="0"/>
                  <a:pt x="199" y="2"/>
                  <a:pt x="201" y="8"/>
                </a:cubicBezTo>
                <a:cubicBezTo>
                  <a:pt x="204" y="13"/>
                  <a:pt x="201" y="20"/>
                  <a:pt x="198" y="22"/>
                </a:cubicBezTo>
                <a:lnTo>
                  <a:pt x="141" y="79"/>
                </a:lnTo>
                <a:cubicBezTo>
                  <a:pt x="138" y="82"/>
                  <a:pt x="133" y="82"/>
                  <a:pt x="130" y="82"/>
                </a:cubicBezTo>
                <a:close/>
                <a:moveTo>
                  <a:pt x="51" y="54"/>
                </a:moveTo>
                <a:lnTo>
                  <a:pt x="124" y="54"/>
                </a:lnTo>
                <a:lnTo>
                  <a:pt x="153" y="25"/>
                </a:lnTo>
                <a:lnTo>
                  <a:pt x="79" y="25"/>
                </a:lnTo>
                <a:lnTo>
                  <a:pt x="51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76"/>
          <p:cNvSpPr/>
          <p:nvPr/>
        </p:nvSpPr>
        <p:spPr>
          <a:xfrm>
            <a:off x="7639200" y="3814920"/>
            <a:ext cx="137880" cy="56880"/>
          </a:xfrm>
          <a:custGeom>
            <a:avLst/>
            <a:gdLst/>
            <a:ahLst/>
            <a:rect l="l" t="t" r="r" b="b"/>
            <a:pathLst>
              <a:path w="204" h="83">
                <a:moveTo>
                  <a:pt x="130" y="82"/>
                </a:moveTo>
                <a:lnTo>
                  <a:pt x="17" y="82"/>
                </a:lnTo>
                <a:cubicBezTo>
                  <a:pt x="11" y="82"/>
                  <a:pt x="6" y="78"/>
                  <a:pt x="3" y="73"/>
                </a:cubicBezTo>
                <a:cubicBezTo>
                  <a:pt x="0" y="67"/>
                  <a:pt x="3" y="62"/>
                  <a:pt x="6" y="59"/>
                </a:cubicBezTo>
                <a:lnTo>
                  <a:pt x="62" y="3"/>
                </a:lnTo>
                <a:cubicBezTo>
                  <a:pt x="65" y="0"/>
                  <a:pt x="68" y="0"/>
                  <a:pt x="73" y="0"/>
                </a:cubicBezTo>
                <a:lnTo>
                  <a:pt x="186" y="0"/>
                </a:lnTo>
                <a:cubicBezTo>
                  <a:pt x="192" y="0"/>
                  <a:pt x="198" y="2"/>
                  <a:pt x="200" y="8"/>
                </a:cubicBezTo>
                <a:cubicBezTo>
                  <a:pt x="203" y="13"/>
                  <a:pt x="200" y="20"/>
                  <a:pt x="198" y="22"/>
                </a:cubicBezTo>
                <a:lnTo>
                  <a:pt x="141" y="79"/>
                </a:lnTo>
                <a:cubicBezTo>
                  <a:pt x="138" y="82"/>
                  <a:pt x="133" y="82"/>
                  <a:pt x="130" y="82"/>
                </a:cubicBezTo>
                <a:close/>
                <a:moveTo>
                  <a:pt x="51" y="53"/>
                </a:moveTo>
                <a:lnTo>
                  <a:pt x="124" y="53"/>
                </a:lnTo>
                <a:lnTo>
                  <a:pt x="152" y="25"/>
                </a:lnTo>
                <a:lnTo>
                  <a:pt x="79" y="25"/>
                </a:lnTo>
                <a:lnTo>
                  <a:pt x="51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77"/>
          <p:cNvSpPr/>
          <p:nvPr/>
        </p:nvSpPr>
        <p:spPr>
          <a:xfrm>
            <a:off x="7715160" y="3892680"/>
            <a:ext cx="136440" cy="56880"/>
          </a:xfrm>
          <a:custGeom>
            <a:avLst/>
            <a:gdLst/>
            <a:ahLst/>
            <a:rect l="l" t="t" r="r" b="b"/>
            <a:pathLst>
              <a:path w="204" h="82">
                <a:moveTo>
                  <a:pt x="130" y="81"/>
                </a:moveTo>
                <a:lnTo>
                  <a:pt x="17" y="81"/>
                </a:lnTo>
                <a:cubicBezTo>
                  <a:pt x="11" y="81"/>
                  <a:pt x="6" y="79"/>
                  <a:pt x="3" y="73"/>
                </a:cubicBezTo>
                <a:cubicBezTo>
                  <a:pt x="0" y="67"/>
                  <a:pt x="3" y="62"/>
                  <a:pt x="6" y="59"/>
                </a:cubicBezTo>
                <a:lnTo>
                  <a:pt x="62" y="2"/>
                </a:lnTo>
                <a:cubicBezTo>
                  <a:pt x="65" y="0"/>
                  <a:pt x="68" y="0"/>
                  <a:pt x="73" y="0"/>
                </a:cubicBezTo>
                <a:lnTo>
                  <a:pt x="186" y="0"/>
                </a:lnTo>
                <a:cubicBezTo>
                  <a:pt x="192" y="0"/>
                  <a:pt x="197" y="2"/>
                  <a:pt x="200" y="8"/>
                </a:cubicBezTo>
                <a:cubicBezTo>
                  <a:pt x="203" y="14"/>
                  <a:pt x="200" y="19"/>
                  <a:pt x="197" y="22"/>
                </a:cubicBezTo>
                <a:lnTo>
                  <a:pt x="141" y="79"/>
                </a:lnTo>
                <a:cubicBezTo>
                  <a:pt x="138" y="81"/>
                  <a:pt x="133" y="81"/>
                  <a:pt x="130" y="81"/>
                </a:cubicBezTo>
                <a:close/>
                <a:moveTo>
                  <a:pt x="51" y="53"/>
                </a:moveTo>
                <a:lnTo>
                  <a:pt x="124" y="53"/>
                </a:lnTo>
                <a:lnTo>
                  <a:pt x="152" y="25"/>
                </a:lnTo>
                <a:lnTo>
                  <a:pt x="79" y="25"/>
                </a:lnTo>
                <a:lnTo>
                  <a:pt x="51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78"/>
          <p:cNvSpPr/>
          <p:nvPr/>
        </p:nvSpPr>
        <p:spPr>
          <a:xfrm>
            <a:off x="7564320" y="3983040"/>
            <a:ext cx="290520" cy="60480"/>
          </a:xfrm>
          <a:custGeom>
            <a:avLst/>
            <a:gdLst/>
            <a:ahLst/>
            <a:rect l="l" t="t" r="r" b="b"/>
            <a:pathLst>
              <a:path w="427" h="89">
                <a:moveTo>
                  <a:pt x="353" y="88"/>
                </a:moveTo>
                <a:lnTo>
                  <a:pt x="14" y="88"/>
                </a:lnTo>
                <a:cubicBezTo>
                  <a:pt x="6" y="88"/>
                  <a:pt x="0" y="81"/>
                  <a:pt x="0" y="73"/>
                </a:cubicBezTo>
                <a:cubicBezTo>
                  <a:pt x="0" y="64"/>
                  <a:pt x="6" y="59"/>
                  <a:pt x="14" y="59"/>
                </a:cubicBezTo>
                <a:lnTo>
                  <a:pt x="347" y="59"/>
                </a:lnTo>
                <a:lnTo>
                  <a:pt x="401" y="6"/>
                </a:lnTo>
                <a:cubicBezTo>
                  <a:pt x="406" y="0"/>
                  <a:pt x="415" y="0"/>
                  <a:pt x="420" y="6"/>
                </a:cubicBezTo>
                <a:cubicBezTo>
                  <a:pt x="426" y="11"/>
                  <a:pt x="426" y="20"/>
                  <a:pt x="420" y="26"/>
                </a:cubicBezTo>
                <a:lnTo>
                  <a:pt x="364" y="82"/>
                </a:lnTo>
                <a:cubicBezTo>
                  <a:pt x="361" y="88"/>
                  <a:pt x="356" y="88"/>
                  <a:pt x="353" y="8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79"/>
          <p:cNvSpPr/>
          <p:nvPr/>
        </p:nvSpPr>
        <p:spPr>
          <a:xfrm>
            <a:off x="7564320" y="3776760"/>
            <a:ext cx="22320" cy="268200"/>
          </a:xfrm>
          <a:custGeom>
            <a:avLst/>
            <a:gdLst/>
            <a:ahLst/>
            <a:rect l="l" t="t" r="r" b="b"/>
            <a:pathLst>
              <a:path w="29" h="396">
                <a:moveTo>
                  <a:pt x="14" y="395"/>
                </a:moveTo>
                <a:cubicBezTo>
                  <a:pt x="6" y="395"/>
                  <a:pt x="0" y="389"/>
                  <a:pt x="0" y="380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8" y="5"/>
                  <a:pt x="28" y="14"/>
                </a:cubicBezTo>
                <a:lnTo>
                  <a:pt x="28" y="380"/>
                </a:lnTo>
                <a:cubicBezTo>
                  <a:pt x="28" y="389"/>
                  <a:pt x="23" y="395"/>
                  <a:pt x="14" y="3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80"/>
          <p:cNvSpPr/>
          <p:nvPr/>
        </p:nvSpPr>
        <p:spPr>
          <a:xfrm>
            <a:off x="7639200" y="3776760"/>
            <a:ext cx="21960" cy="268200"/>
          </a:xfrm>
          <a:custGeom>
            <a:avLst/>
            <a:gdLst/>
            <a:ahLst/>
            <a:rect l="l" t="t" r="r" b="b"/>
            <a:pathLst>
              <a:path w="29" h="396">
                <a:moveTo>
                  <a:pt x="14" y="395"/>
                </a:moveTo>
                <a:cubicBezTo>
                  <a:pt x="5" y="395"/>
                  <a:pt x="0" y="389"/>
                  <a:pt x="0" y="380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8" y="5"/>
                  <a:pt x="28" y="14"/>
                </a:cubicBezTo>
                <a:lnTo>
                  <a:pt x="28" y="380"/>
                </a:lnTo>
                <a:cubicBezTo>
                  <a:pt x="28" y="389"/>
                  <a:pt x="22" y="395"/>
                  <a:pt x="14" y="3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81"/>
          <p:cNvSpPr/>
          <p:nvPr/>
        </p:nvSpPr>
        <p:spPr>
          <a:xfrm>
            <a:off x="7716960" y="3851280"/>
            <a:ext cx="21960" cy="192240"/>
          </a:xfrm>
          <a:custGeom>
            <a:avLst/>
            <a:gdLst/>
            <a:ahLst/>
            <a:rect l="l" t="t" r="r" b="b"/>
            <a:pathLst>
              <a:path w="29" h="284">
                <a:moveTo>
                  <a:pt x="14" y="283"/>
                </a:moveTo>
                <a:cubicBezTo>
                  <a:pt x="5" y="283"/>
                  <a:pt x="0" y="277"/>
                  <a:pt x="0" y="268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268"/>
                </a:lnTo>
                <a:cubicBezTo>
                  <a:pt x="28" y="277"/>
                  <a:pt x="22" y="283"/>
                  <a:pt x="14" y="28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82"/>
          <p:cNvSpPr/>
          <p:nvPr/>
        </p:nvSpPr>
        <p:spPr>
          <a:xfrm>
            <a:off x="7794720" y="3929040"/>
            <a:ext cx="21960" cy="115920"/>
          </a:xfrm>
          <a:custGeom>
            <a:avLst/>
            <a:gdLst/>
            <a:ahLst/>
            <a:rect l="l" t="t" r="r" b="b"/>
            <a:pathLst>
              <a:path w="29" h="171">
                <a:moveTo>
                  <a:pt x="14" y="170"/>
                </a:moveTo>
                <a:cubicBezTo>
                  <a:pt x="5" y="170"/>
                  <a:pt x="0" y="164"/>
                  <a:pt x="0" y="155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155"/>
                </a:lnTo>
                <a:cubicBezTo>
                  <a:pt x="28" y="164"/>
                  <a:pt x="22" y="170"/>
                  <a:pt x="14" y="1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83"/>
          <p:cNvSpPr/>
          <p:nvPr/>
        </p:nvSpPr>
        <p:spPr>
          <a:xfrm>
            <a:off x="7831080" y="3889440"/>
            <a:ext cx="20520" cy="117360"/>
          </a:xfrm>
          <a:custGeom>
            <a:avLst/>
            <a:gdLst/>
            <a:ahLst/>
            <a:rect l="l" t="t" r="r" b="b"/>
            <a:pathLst>
              <a:path w="29" h="170">
                <a:moveTo>
                  <a:pt x="14" y="169"/>
                </a:moveTo>
                <a:cubicBezTo>
                  <a:pt x="6" y="169"/>
                  <a:pt x="0" y="164"/>
                  <a:pt x="0" y="155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8" y="5"/>
                  <a:pt x="28" y="14"/>
                </a:cubicBezTo>
                <a:lnTo>
                  <a:pt x="28" y="155"/>
                </a:lnTo>
                <a:cubicBezTo>
                  <a:pt x="28" y="164"/>
                  <a:pt x="23" y="169"/>
                  <a:pt x="14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84"/>
          <p:cNvSpPr/>
          <p:nvPr/>
        </p:nvSpPr>
        <p:spPr>
          <a:xfrm>
            <a:off x="7756560" y="3814920"/>
            <a:ext cx="20520" cy="96840"/>
          </a:xfrm>
          <a:custGeom>
            <a:avLst/>
            <a:gdLst/>
            <a:ahLst/>
            <a:rect l="l" t="t" r="r" b="b"/>
            <a:pathLst>
              <a:path w="29" h="142">
                <a:moveTo>
                  <a:pt x="14" y="141"/>
                </a:moveTo>
                <a:cubicBezTo>
                  <a:pt x="6" y="141"/>
                  <a:pt x="0" y="135"/>
                  <a:pt x="0" y="127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127"/>
                </a:lnTo>
                <a:cubicBezTo>
                  <a:pt x="28" y="135"/>
                  <a:pt x="23" y="141"/>
                  <a:pt x="1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85"/>
          <p:cNvSpPr/>
          <p:nvPr/>
        </p:nvSpPr>
        <p:spPr>
          <a:xfrm>
            <a:off x="7678800" y="3736800"/>
            <a:ext cx="20520" cy="96840"/>
          </a:xfrm>
          <a:custGeom>
            <a:avLst/>
            <a:gdLst/>
            <a:ahLst/>
            <a:rect l="l" t="t" r="r" b="b"/>
            <a:pathLst>
              <a:path w="30" h="142">
                <a:moveTo>
                  <a:pt x="14" y="141"/>
                </a:moveTo>
                <a:cubicBezTo>
                  <a:pt x="6" y="141"/>
                  <a:pt x="0" y="136"/>
                  <a:pt x="0" y="127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9" y="6"/>
                  <a:pt x="29" y="14"/>
                </a:cubicBezTo>
                <a:lnTo>
                  <a:pt x="29" y="127"/>
                </a:lnTo>
                <a:cubicBezTo>
                  <a:pt x="29" y="136"/>
                  <a:pt x="23" y="141"/>
                  <a:pt x="1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86"/>
          <p:cNvSpPr/>
          <p:nvPr/>
        </p:nvSpPr>
        <p:spPr>
          <a:xfrm>
            <a:off x="6031080" y="5495760"/>
            <a:ext cx="307800" cy="78120"/>
          </a:xfrm>
          <a:custGeom>
            <a:avLst/>
            <a:gdLst/>
            <a:ahLst/>
            <a:rect l="l" t="t" r="r" b="b"/>
            <a:pathLst>
              <a:path w="455" h="114">
                <a:moveTo>
                  <a:pt x="350" y="113"/>
                </a:moveTo>
                <a:lnTo>
                  <a:pt x="104" y="113"/>
                </a:lnTo>
                <a:cubicBezTo>
                  <a:pt x="62" y="113"/>
                  <a:pt x="25" y="85"/>
                  <a:pt x="11" y="45"/>
                </a:cubicBezTo>
                <a:lnTo>
                  <a:pt x="2" y="20"/>
                </a:lnTo>
                <a:cubicBezTo>
                  <a:pt x="0" y="14"/>
                  <a:pt x="2" y="12"/>
                  <a:pt x="5" y="6"/>
                </a:cubicBezTo>
                <a:cubicBezTo>
                  <a:pt x="8" y="3"/>
                  <a:pt x="11" y="0"/>
                  <a:pt x="17" y="0"/>
                </a:cubicBezTo>
                <a:lnTo>
                  <a:pt x="440" y="0"/>
                </a:lnTo>
                <a:cubicBezTo>
                  <a:pt x="445" y="0"/>
                  <a:pt x="448" y="3"/>
                  <a:pt x="451" y="6"/>
                </a:cubicBezTo>
                <a:cubicBezTo>
                  <a:pt x="454" y="9"/>
                  <a:pt x="454" y="14"/>
                  <a:pt x="454" y="20"/>
                </a:cubicBezTo>
                <a:lnTo>
                  <a:pt x="445" y="45"/>
                </a:lnTo>
                <a:cubicBezTo>
                  <a:pt x="431" y="85"/>
                  <a:pt x="392" y="113"/>
                  <a:pt x="350" y="113"/>
                </a:cubicBezTo>
                <a:close/>
                <a:moveTo>
                  <a:pt x="36" y="28"/>
                </a:moveTo>
                <a:lnTo>
                  <a:pt x="39" y="37"/>
                </a:lnTo>
                <a:cubicBezTo>
                  <a:pt x="48" y="65"/>
                  <a:pt x="76" y="85"/>
                  <a:pt x="107" y="85"/>
                </a:cubicBezTo>
                <a:lnTo>
                  <a:pt x="352" y="85"/>
                </a:lnTo>
                <a:cubicBezTo>
                  <a:pt x="383" y="85"/>
                  <a:pt x="409" y="65"/>
                  <a:pt x="420" y="37"/>
                </a:cubicBezTo>
                <a:lnTo>
                  <a:pt x="423" y="28"/>
                </a:lnTo>
                <a:lnTo>
                  <a:pt x="36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87"/>
          <p:cNvSpPr/>
          <p:nvPr/>
        </p:nvSpPr>
        <p:spPr>
          <a:xfrm>
            <a:off x="6033960" y="5413320"/>
            <a:ext cx="311400" cy="50760"/>
          </a:xfrm>
          <a:custGeom>
            <a:avLst/>
            <a:gdLst/>
            <a:ahLst/>
            <a:rect l="l" t="t" r="r" b="b"/>
            <a:pathLst>
              <a:path w="459" h="77">
                <a:moveTo>
                  <a:pt x="395" y="71"/>
                </a:moveTo>
                <a:cubicBezTo>
                  <a:pt x="379" y="71"/>
                  <a:pt x="364" y="62"/>
                  <a:pt x="353" y="51"/>
                </a:cubicBezTo>
                <a:cubicBezTo>
                  <a:pt x="342" y="62"/>
                  <a:pt x="328" y="71"/>
                  <a:pt x="311" y="71"/>
                </a:cubicBezTo>
                <a:cubicBezTo>
                  <a:pt x="294" y="71"/>
                  <a:pt x="280" y="62"/>
                  <a:pt x="268" y="51"/>
                </a:cubicBezTo>
                <a:cubicBezTo>
                  <a:pt x="257" y="62"/>
                  <a:pt x="243" y="71"/>
                  <a:pt x="226" y="71"/>
                </a:cubicBezTo>
                <a:cubicBezTo>
                  <a:pt x="209" y="71"/>
                  <a:pt x="195" y="62"/>
                  <a:pt x="184" y="51"/>
                </a:cubicBezTo>
                <a:cubicBezTo>
                  <a:pt x="173" y="62"/>
                  <a:pt x="159" y="71"/>
                  <a:pt x="142" y="71"/>
                </a:cubicBezTo>
                <a:cubicBezTo>
                  <a:pt x="126" y="71"/>
                  <a:pt x="110" y="62"/>
                  <a:pt x="99" y="51"/>
                </a:cubicBezTo>
                <a:cubicBezTo>
                  <a:pt x="79" y="74"/>
                  <a:pt x="43" y="76"/>
                  <a:pt x="20" y="57"/>
                </a:cubicBezTo>
                <a:cubicBezTo>
                  <a:pt x="9" y="45"/>
                  <a:pt x="0" y="31"/>
                  <a:pt x="0" y="14"/>
                </a:cubicBezTo>
                <a:cubicBezTo>
                  <a:pt x="0" y="6"/>
                  <a:pt x="7" y="0"/>
                  <a:pt x="15" y="0"/>
                </a:cubicBezTo>
                <a:cubicBezTo>
                  <a:pt x="24" y="0"/>
                  <a:pt x="29" y="6"/>
                  <a:pt x="29" y="14"/>
                </a:cubicBezTo>
                <a:cubicBezTo>
                  <a:pt x="29" y="23"/>
                  <a:pt x="31" y="31"/>
                  <a:pt x="40" y="37"/>
                </a:cubicBezTo>
                <a:cubicBezTo>
                  <a:pt x="54" y="51"/>
                  <a:pt x="79" y="43"/>
                  <a:pt x="85" y="26"/>
                </a:cubicBezTo>
                <a:cubicBezTo>
                  <a:pt x="85" y="23"/>
                  <a:pt x="88" y="20"/>
                  <a:pt x="88" y="17"/>
                </a:cubicBezTo>
                <a:cubicBezTo>
                  <a:pt x="88" y="9"/>
                  <a:pt x="94" y="3"/>
                  <a:pt x="102" y="3"/>
                </a:cubicBezTo>
                <a:cubicBezTo>
                  <a:pt x="110" y="3"/>
                  <a:pt x="116" y="9"/>
                  <a:pt x="116" y="17"/>
                </a:cubicBezTo>
                <a:cubicBezTo>
                  <a:pt x="116" y="20"/>
                  <a:pt x="116" y="23"/>
                  <a:pt x="119" y="26"/>
                </a:cubicBezTo>
                <a:cubicBezTo>
                  <a:pt x="122" y="37"/>
                  <a:pt x="133" y="45"/>
                  <a:pt x="144" y="45"/>
                </a:cubicBezTo>
                <a:cubicBezTo>
                  <a:pt x="156" y="45"/>
                  <a:pt x="167" y="37"/>
                  <a:pt x="170" y="26"/>
                </a:cubicBezTo>
                <a:cubicBezTo>
                  <a:pt x="170" y="23"/>
                  <a:pt x="173" y="20"/>
                  <a:pt x="173" y="17"/>
                </a:cubicBezTo>
                <a:cubicBezTo>
                  <a:pt x="173" y="9"/>
                  <a:pt x="179" y="3"/>
                  <a:pt x="187" y="3"/>
                </a:cubicBezTo>
                <a:cubicBezTo>
                  <a:pt x="196" y="3"/>
                  <a:pt x="201" y="9"/>
                  <a:pt x="201" y="17"/>
                </a:cubicBezTo>
                <a:cubicBezTo>
                  <a:pt x="201" y="20"/>
                  <a:pt x="201" y="23"/>
                  <a:pt x="204" y="26"/>
                </a:cubicBezTo>
                <a:cubicBezTo>
                  <a:pt x="206" y="37"/>
                  <a:pt x="218" y="45"/>
                  <a:pt x="229" y="45"/>
                </a:cubicBezTo>
                <a:cubicBezTo>
                  <a:pt x="240" y="45"/>
                  <a:pt x="252" y="37"/>
                  <a:pt x="254" y="26"/>
                </a:cubicBezTo>
                <a:cubicBezTo>
                  <a:pt x="254" y="23"/>
                  <a:pt x="257" y="20"/>
                  <a:pt x="257" y="17"/>
                </a:cubicBezTo>
                <a:cubicBezTo>
                  <a:pt x="257" y="9"/>
                  <a:pt x="263" y="3"/>
                  <a:pt x="271" y="3"/>
                </a:cubicBezTo>
                <a:cubicBezTo>
                  <a:pt x="280" y="3"/>
                  <a:pt x="285" y="9"/>
                  <a:pt x="285" y="17"/>
                </a:cubicBezTo>
                <a:cubicBezTo>
                  <a:pt x="285" y="20"/>
                  <a:pt x="285" y="23"/>
                  <a:pt x="288" y="26"/>
                </a:cubicBezTo>
                <a:cubicBezTo>
                  <a:pt x="291" y="37"/>
                  <a:pt x="303" y="45"/>
                  <a:pt x="314" y="45"/>
                </a:cubicBezTo>
                <a:cubicBezTo>
                  <a:pt x="326" y="45"/>
                  <a:pt x="336" y="37"/>
                  <a:pt x="339" y="26"/>
                </a:cubicBezTo>
                <a:cubicBezTo>
                  <a:pt x="339" y="23"/>
                  <a:pt x="342" y="20"/>
                  <a:pt x="342" y="17"/>
                </a:cubicBezTo>
                <a:cubicBezTo>
                  <a:pt x="342" y="9"/>
                  <a:pt x="348" y="3"/>
                  <a:pt x="356" y="3"/>
                </a:cubicBezTo>
                <a:cubicBezTo>
                  <a:pt x="364" y="3"/>
                  <a:pt x="370" y="9"/>
                  <a:pt x="370" y="17"/>
                </a:cubicBezTo>
                <a:cubicBezTo>
                  <a:pt x="370" y="20"/>
                  <a:pt x="370" y="23"/>
                  <a:pt x="373" y="26"/>
                </a:cubicBezTo>
                <a:cubicBezTo>
                  <a:pt x="379" y="43"/>
                  <a:pt x="404" y="51"/>
                  <a:pt x="418" y="37"/>
                </a:cubicBezTo>
                <a:cubicBezTo>
                  <a:pt x="424" y="31"/>
                  <a:pt x="429" y="23"/>
                  <a:pt x="429" y="14"/>
                </a:cubicBezTo>
                <a:cubicBezTo>
                  <a:pt x="429" y="6"/>
                  <a:pt x="435" y="0"/>
                  <a:pt x="443" y="0"/>
                </a:cubicBezTo>
                <a:cubicBezTo>
                  <a:pt x="452" y="0"/>
                  <a:pt x="458" y="6"/>
                  <a:pt x="458" y="14"/>
                </a:cubicBezTo>
                <a:cubicBezTo>
                  <a:pt x="458" y="31"/>
                  <a:pt x="449" y="48"/>
                  <a:pt x="438" y="57"/>
                </a:cubicBezTo>
                <a:cubicBezTo>
                  <a:pt x="421" y="65"/>
                  <a:pt x="410" y="71"/>
                  <a:pt x="395" y="7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88"/>
          <p:cNvSpPr/>
          <p:nvPr/>
        </p:nvSpPr>
        <p:spPr>
          <a:xfrm>
            <a:off x="6031080" y="5383080"/>
            <a:ext cx="311040" cy="50760"/>
          </a:xfrm>
          <a:custGeom>
            <a:avLst/>
            <a:gdLst/>
            <a:ahLst/>
            <a:rect l="l" t="t" r="r" b="b"/>
            <a:pathLst>
              <a:path w="458" h="74">
                <a:moveTo>
                  <a:pt x="443" y="70"/>
                </a:moveTo>
                <a:cubicBezTo>
                  <a:pt x="437" y="70"/>
                  <a:pt x="434" y="68"/>
                  <a:pt x="432" y="65"/>
                </a:cubicBezTo>
                <a:lnTo>
                  <a:pt x="406" y="28"/>
                </a:lnTo>
                <a:lnTo>
                  <a:pt x="53" y="28"/>
                </a:lnTo>
                <a:lnTo>
                  <a:pt x="28" y="65"/>
                </a:lnTo>
                <a:cubicBezTo>
                  <a:pt x="22" y="70"/>
                  <a:pt x="14" y="73"/>
                  <a:pt x="8" y="68"/>
                </a:cubicBezTo>
                <a:cubicBezTo>
                  <a:pt x="3" y="62"/>
                  <a:pt x="0" y="54"/>
                  <a:pt x="5" y="48"/>
                </a:cubicBezTo>
                <a:lnTo>
                  <a:pt x="34" y="6"/>
                </a:lnTo>
                <a:cubicBezTo>
                  <a:pt x="36" y="3"/>
                  <a:pt x="39" y="0"/>
                  <a:pt x="45" y="0"/>
                </a:cubicBezTo>
                <a:lnTo>
                  <a:pt x="412" y="0"/>
                </a:lnTo>
                <a:cubicBezTo>
                  <a:pt x="417" y="0"/>
                  <a:pt x="420" y="3"/>
                  <a:pt x="423" y="6"/>
                </a:cubicBezTo>
                <a:lnTo>
                  <a:pt x="451" y="48"/>
                </a:lnTo>
                <a:cubicBezTo>
                  <a:pt x="457" y="54"/>
                  <a:pt x="454" y="62"/>
                  <a:pt x="448" y="68"/>
                </a:cubicBezTo>
                <a:cubicBezTo>
                  <a:pt x="448" y="70"/>
                  <a:pt x="446" y="70"/>
                  <a:pt x="443" y="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89"/>
          <p:cNvSpPr/>
          <p:nvPr/>
        </p:nvSpPr>
        <p:spPr>
          <a:xfrm>
            <a:off x="6086520" y="5495760"/>
            <a:ext cx="103320" cy="51120"/>
          </a:xfrm>
          <a:custGeom>
            <a:avLst/>
            <a:gdLst/>
            <a:ahLst/>
            <a:rect l="l" t="t" r="r" b="b"/>
            <a:pathLst>
              <a:path w="148" h="75">
                <a:moveTo>
                  <a:pt x="74" y="74"/>
                </a:moveTo>
                <a:cubicBezTo>
                  <a:pt x="71" y="74"/>
                  <a:pt x="68" y="74"/>
                  <a:pt x="65" y="71"/>
                </a:cubicBezTo>
                <a:lnTo>
                  <a:pt x="9" y="29"/>
                </a:lnTo>
                <a:cubicBezTo>
                  <a:pt x="3" y="23"/>
                  <a:pt x="0" y="15"/>
                  <a:pt x="6" y="9"/>
                </a:cubicBezTo>
                <a:cubicBezTo>
                  <a:pt x="12" y="3"/>
                  <a:pt x="20" y="0"/>
                  <a:pt x="26" y="6"/>
                </a:cubicBezTo>
                <a:lnTo>
                  <a:pt x="74" y="43"/>
                </a:lnTo>
                <a:lnTo>
                  <a:pt x="122" y="6"/>
                </a:lnTo>
                <a:cubicBezTo>
                  <a:pt x="127" y="0"/>
                  <a:pt x="136" y="3"/>
                  <a:pt x="141" y="9"/>
                </a:cubicBezTo>
                <a:cubicBezTo>
                  <a:pt x="147" y="15"/>
                  <a:pt x="144" y="23"/>
                  <a:pt x="139" y="29"/>
                </a:cubicBezTo>
                <a:lnTo>
                  <a:pt x="82" y="71"/>
                </a:lnTo>
                <a:cubicBezTo>
                  <a:pt x="79" y="74"/>
                  <a:pt x="76" y="74"/>
                  <a:pt x="74" y="7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90"/>
          <p:cNvSpPr/>
          <p:nvPr/>
        </p:nvSpPr>
        <p:spPr>
          <a:xfrm>
            <a:off x="6033960" y="5383080"/>
            <a:ext cx="308160" cy="20880"/>
          </a:xfrm>
          <a:custGeom>
            <a:avLst/>
            <a:gdLst/>
            <a:ahLst/>
            <a:rect l="l" t="t" r="r" b="b"/>
            <a:pathLst>
              <a:path w="453" h="29">
                <a:moveTo>
                  <a:pt x="438" y="28"/>
                </a:moveTo>
                <a:lnTo>
                  <a:pt x="15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438" y="0"/>
                </a:lnTo>
                <a:cubicBezTo>
                  <a:pt x="446" y="0"/>
                  <a:pt x="452" y="6"/>
                  <a:pt x="452" y="14"/>
                </a:cubicBezTo>
                <a:cubicBezTo>
                  <a:pt x="452" y="23"/>
                  <a:pt x="446" y="28"/>
                  <a:pt x="438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91"/>
          <p:cNvSpPr/>
          <p:nvPr/>
        </p:nvSpPr>
        <p:spPr>
          <a:xfrm>
            <a:off x="6031080" y="5286240"/>
            <a:ext cx="311040" cy="117720"/>
          </a:xfrm>
          <a:custGeom>
            <a:avLst/>
            <a:gdLst/>
            <a:ahLst/>
            <a:rect l="l" t="t" r="r" b="b"/>
            <a:pathLst>
              <a:path w="458" h="173">
                <a:moveTo>
                  <a:pt x="440" y="169"/>
                </a:moveTo>
                <a:cubicBezTo>
                  <a:pt x="434" y="169"/>
                  <a:pt x="429" y="166"/>
                  <a:pt x="426" y="161"/>
                </a:cubicBezTo>
                <a:cubicBezTo>
                  <a:pt x="392" y="82"/>
                  <a:pt x="313" y="28"/>
                  <a:pt x="228" y="28"/>
                </a:cubicBezTo>
                <a:cubicBezTo>
                  <a:pt x="144" y="28"/>
                  <a:pt x="62" y="79"/>
                  <a:pt x="31" y="161"/>
                </a:cubicBezTo>
                <a:cubicBezTo>
                  <a:pt x="28" y="169"/>
                  <a:pt x="19" y="172"/>
                  <a:pt x="11" y="169"/>
                </a:cubicBezTo>
                <a:cubicBezTo>
                  <a:pt x="2" y="166"/>
                  <a:pt x="0" y="158"/>
                  <a:pt x="2" y="149"/>
                </a:cubicBezTo>
                <a:cubicBezTo>
                  <a:pt x="39" y="59"/>
                  <a:pt x="129" y="0"/>
                  <a:pt x="228" y="0"/>
                </a:cubicBezTo>
                <a:cubicBezTo>
                  <a:pt x="327" y="0"/>
                  <a:pt x="414" y="59"/>
                  <a:pt x="454" y="149"/>
                </a:cubicBezTo>
                <a:cubicBezTo>
                  <a:pt x="457" y="158"/>
                  <a:pt x="454" y="164"/>
                  <a:pt x="445" y="169"/>
                </a:cubicBezTo>
                <a:cubicBezTo>
                  <a:pt x="443" y="169"/>
                  <a:pt x="443" y="169"/>
                  <a:pt x="440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92"/>
          <p:cNvSpPr/>
          <p:nvPr/>
        </p:nvSpPr>
        <p:spPr>
          <a:xfrm>
            <a:off x="6033960" y="5433840"/>
            <a:ext cx="308160" cy="84240"/>
          </a:xfrm>
          <a:custGeom>
            <a:avLst/>
            <a:gdLst/>
            <a:ahLst/>
            <a:rect l="l" t="t" r="r" b="b"/>
            <a:pathLst>
              <a:path w="453" h="125">
                <a:moveTo>
                  <a:pt x="381" y="124"/>
                </a:moveTo>
                <a:lnTo>
                  <a:pt x="71" y="124"/>
                </a:lnTo>
                <a:cubicBezTo>
                  <a:pt x="31" y="124"/>
                  <a:pt x="0" y="93"/>
                  <a:pt x="0" y="54"/>
                </a:cubicBezTo>
                <a:cubicBezTo>
                  <a:pt x="0" y="37"/>
                  <a:pt x="6" y="17"/>
                  <a:pt x="20" y="6"/>
                </a:cubicBezTo>
                <a:cubicBezTo>
                  <a:pt x="26" y="0"/>
                  <a:pt x="34" y="0"/>
                  <a:pt x="40" y="6"/>
                </a:cubicBezTo>
                <a:cubicBezTo>
                  <a:pt x="46" y="12"/>
                  <a:pt x="47" y="21"/>
                  <a:pt x="40" y="26"/>
                </a:cubicBezTo>
                <a:cubicBezTo>
                  <a:pt x="32" y="35"/>
                  <a:pt x="29" y="43"/>
                  <a:pt x="29" y="54"/>
                </a:cubicBezTo>
                <a:cubicBezTo>
                  <a:pt x="29" y="77"/>
                  <a:pt x="48" y="96"/>
                  <a:pt x="71" y="96"/>
                </a:cubicBezTo>
                <a:lnTo>
                  <a:pt x="381" y="96"/>
                </a:lnTo>
                <a:cubicBezTo>
                  <a:pt x="393" y="96"/>
                  <a:pt x="404" y="91"/>
                  <a:pt x="412" y="85"/>
                </a:cubicBezTo>
                <a:cubicBezTo>
                  <a:pt x="421" y="77"/>
                  <a:pt x="424" y="65"/>
                  <a:pt x="424" y="54"/>
                </a:cubicBezTo>
                <a:cubicBezTo>
                  <a:pt x="424" y="43"/>
                  <a:pt x="421" y="34"/>
                  <a:pt x="412" y="26"/>
                </a:cubicBezTo>
                <a:cubicBezTo>
                  <a:pt x="407" y="20"/>
                  <a:pt x="407" y="12"/>
                  <a:pt x="412" y="6"/>
                </a:cubicBezTo>
                <a:cubicBezTo>
                  <a:pt x="418" y="0"/>
                  <a:pt x="427" y="0"/>
                  <a:pt x="432" y="6"/>
                </a:cubicBezTo>
                <a:cubicBezTo>
                  <a:pt x="443" y="20"/>
                  <a:pt x="452" y="37"/>
                  <a:pt x="452" y="54"/>
                </a:cubicBezTo>
                <a:cubicBezTo>
                  <a:pt x="452" y="74"/>
                  <a:pt x="443" y="91"/>
                  <a:pt x="432" y="105"/>
                </a:cubicBezTo>
                <a:cubicBezTo>
                  <a:pt x="418" y="116"/>
                  <a:pt x="401" y="124"/>
                  <a:pt x="381" y="12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93"/>
          <p:cNvSpPr/>
          <p:nvPr/>
        </p:nvSpPr>
        <p:spPr>
          <a:xfrm>
            <a:off x="6816600" y="5362560"/>
            <a:ext cx="120600" cy="136440"/>
          </a:xfrm>
          <a:custGeom>
            <a:avLst/>
            <a:gdLst/>
            <a:ahLst/>
            <a:rect l="l" t="t" r="r" b="b"/>
            <a:pathLst>
              <a:path w="176" h="201">
                <a:moveTo>
                  <a:pt x="158" y="200"/>
                </a:moveTo>
                <a:cubicBezTo>
                  <a:pt x="155" y="200"/>
                  <a:pt x="149" y="197"/>
                  <a:pt x="146" y="195"/>
                </a:cubicBezTo>
                <a:lnTo>
                  <a:pt x="5" y="25"/>
                </a:lnTo>
                <a:cubicBezTo>
                  <a:pt x="0" y="20"/>
                  <a:pt x="2" y="11"/>
                  <a:pt x="8" y="6"/>
                </a:cubicBezTo>
                <a:cubicBezTo>
                  <a:pt x="14" y="0"/>
                  <a:pt x="22" y="3"/>
                  <a:pt x="28" y="8"/>
                </a:cubicBezTo>
                <a:lnTo>
                  <a:pt x="169" y="178"/>
                </a:lnTo>
                <a:cubicBezTo>
                  <a:pt x="175" y="183"/>
                  <a:pt x="172" y="192"/>
                  <a:pt x="166" y="197"/>
                </a:cubicBezTo>
                <a:cubicBezTo>
                  <a:pt x="163" y="200"/>
                  <a:pt x="160" y="200"/>
                  <a:pt x="158" y="2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94"/>
          <p:cNvSpPr/>
          <p:nvPr/>
        </p:nvSpPr>
        <p:spPr>
          <a:xfrm>
            <a:off x="6969240" y="5364000"/>
            <a:ext cx="117360" cy="135000"/>
          </a:xfrm>
          <a:custGeom>
            <a:avLst/>
            <a:gdLst/>
            <a:ahLst/>
            <a:rect l="l" t="t" r="r" b="b"/>
            <a:pathLst>
              <a:path w="170" h="198">
                <a:moveTo>
                  <a:pt x="14" y="197"/>
                </a:moveTo>
                <a:cubicBezTo>
                  <a:pt x="11" y="197"/>
                  <a:pt x="9" y="197"/>
                  <a:pt x="6" y="194"/>
                </a:cubicBezTo>
                <a:cubicBezTo>
                  <a:pt x="0" y="189"/>
                  <a:pt x="0" y="180"/>
                  <a:pt x="3" y="175"/>
                </a:cubicBezTo>
                <a:lnTo>
                  <a:pt x="144" y="5"/>
                </a:lnTo>
                <a:cubicBezTo>
                  <a:pt x="150" y="0"/>
                  <a:pt x="158" y="0"/>
                  <a:pt x="164" y="3"/>
                </a:cubicBezTo>
                <a:cubicBezTo>
                  <a:pt x="169" y="8"/>
                  <a:pt x="169" y="17"/>
                  <a:pt x="167" y="22"/>
                </a:cubicBezTo>
                <a:lnTo>
                  <a:pt x="26" y="192"/>
                </a:lnTo>
                <a:cubicBezTo>
                  <a:pt x="23" y="194"/>
                  <a:pt x="17" y="197"/>
                  <a:pt x="14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95"/>
          <p:cNvSpPr/>
          <p:nvPr/>
        </p:nvSpPr>
        <p:spPr>
          <a:xfrm>
            <a:off x="6816600" y="5305320"/>
            <a:ext cx="270000" cy="77760"/>
          </a:xfrm>
          <a:custGeom>
            <a:avLst/>
            <a:gdLst/>
            <a:ahLst/>
            <a:rect l="l" t="t" r="r" b="b"/>
            <a:pathLst>
              <a:path w="399" h="114">
                <a:moveTo>
                  <a:pt x="381" y="113"/>
                </a:moveTo>
                <a:cubicBezTo>
                  <a:pt x="379" y="113"/>
                  <a:pt x="373" y="110"/>
                  <a:pt x="370" y="107"/>
                </a:cubicBezTo>
                <a:cubicBezTo>
                  <a:pt x="328" y="57"/>
                  <a:pt x="263" y="28"/>
                  <a:pt x="198" y="28"/>
                </a:cubicBezTo>
                <a:cubicBezTo>
                  <a:pt x="130" y="28"/>
                  <a:pt x="68" y="57"/>
                  <a:pt x="26" y="107"/>
                </a:cubicBezTo>
                <a:cubicBezTo>
                  <a:pt x="20" y="113"/>
                  <a:pt x="12" y="113"/>
                  <a:pt x="6" y="110"/>
                </a:cubicBezTo>
                <a:cubicBezTo>
                  <a:pt x="0" y="104"/>
                  <a:pt x="0" y="96"/>
                  <a:pt x="3" y="90"/>
                </a:cubicBezTo>
                <a:cubicBezTo>
                  <a:pt x="51" y="34"/>
                  <a:pt x="122" y="0"/>
                  <a:pt x="198" y="0"/>
                </a:cubicBezTo>
                <a:cubicBezTo>
                  <a:pt x="274" y="0"/>
                  <a:pt x="345" y="34"/>
                  <a:pt x="393" y="90"/>
                </a:cubicBezTo>
                <a:cubicBezTo>
                  <a:pt x="398" y="96"/>
                  <a:pt x="398" y="104"/>
                  <a:pt x="390" y="110"/>
                </a:cubicBezTo>
                <a:cubicBezTo>
                  <a:pt x="387" y="113"/>
                  <a:pt x="384" y="113"/>
                  <a:pt x="381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96"/>
          <p:cNvSpPr/>
          <p:nvPr/>
        </p:nvSpPr>
        <p:spPr>
          <a:xfrm>
            <a:off x="6913440" y="5467320"/>
            <a:ext cx="79560" cy="34920"/>
          </a:xfrm>
          <a:custGeom>
            <a:avLst/>
            <a:gdLst/>
            <a:ahLst/>
            <a:rect l="l" t="t" r="r" b="b"/>
            <a:pathLst>
              <a:path w="120" h="52">
                <a:moveTo>
                  <a:pt x="17" y="48"/>
                </a:moveTo>
                <a:cubicBezTo>
                  <a:pt x="11" y="48"/>
                  <a:pt x="8" y="45"/>
                  <a:pt x="5" y="43"/>
                </a:cubicBezTo>
                <a:cubicBezTo>
                  <a:pt x="0" y="37"/>
                  <a:pt x="3" y="29"/>
                  <a:pt x="8" y="23"/>
                </a:cubicBezTo>
                <a:cubicBezTo>
                  <a:pt x="39" y="0"/>
                  <a:pt x="79" y="0"/>
                  <a:pt x="110" y="23"/>
                </a:cubicBezTo>
                <a:cubicBezTo>
                  <a:pt x="115" y="29"/>
                  <a:pt x="119" y="38"/>
                  <a:pt x="113" y="43"/>
                </a:cubicBezTo>
                <a:cubicBezTo>
                  <a:pt x="108" y="49"/>
                  <a:pt x="98" y="51"/>
                  <a:pt x="93" y="45"/>
                </a:cubicBezTo>
                <a:cubicBezTo>
                  <a:pt x="73" y="31"/>
                  <a:pt x="45" y="31"/>
                  <a:pt x="25" y="45"/>
                </a:cubicBezTo>
                <a:cubicBezTo>
                  <a:pt x="22" y="48"/>
                  <a:pt x="19" y="48"/>
                  <a:pt x="17" y="4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97"/>
          <p:cNvSpPr/>
          <p:nvPr/>
        </p:nvSpPr>
        <p:spPr>
          <a:xfrm>
            <a:off x="6799320" y="5380200"/>
            <a:ext cx="128520" cy="131760"/>
          </a:xfrm>
          <a:custGeom>
            <a:avLst/>
            <a:gdLst/>
            <a:ahLst/>
            <a:rect l="l" t="t" r="r" b="b"/>
            <a:pathLst>
              <a:path w="188" h="196">
                <a:moveTo>
                  <a:pt x="113" y="195"/>
                </a:moveTo>
                <a:cubicBezTo>
                  <a:pt x="102" y="195"/>
                  <a:pt x="90" y="192"/>
                  <a:pt x="82" y="184"/>
                </a:cubicBezTo>
                <a:lnTo>
                  <a:pt x="17" y="119"/>
                </a:lnTo>
                <a:cubicBezTo>
                  <a:pt x="3" y="105"/>
                  <a:pt x="0" y="85"/>
                  <a:pt x="11" y="68"/>
                </a:cubicBezTo>
                <a:lnTo>
                  <a:pt x="45" y="9"/>
                </a:lnTo>
                <a:cubicBezTo>
                  <a:pt x="48" y="3"/>
                  <a:pt x="56" y="0"/>
                  <a:pt x="65" y="3"/>
                </a:cubicBezTo>
                <a:cubicBezTo>
                  <a:pt x="71" y="6"/>
                  <a:pt x="73" y="14"/>
                  <a:pt x="71" y="23"/>
                </a:cubicBezTo>
                <a:lnTo>
                  <a:pt x="37" y="82"/>
                </a:lnTo>
                <a:cubicBezTo>
                  <a:pt x="34" y="88"/>
                  <a:pt x="34" y="93"/>
                  <a:pt x="40" y="99"/>
                </a:cubicBezTo>
                <a:lnTo>
                  <a:pt x="104" y="164"/>
                </a:lnTo>
                <a:cubicBezTo>
                  <a:pt x="110" y="170"/>
                  <a:pt x="119" y="170"/>
                  <a:pt x="124" y="164"/>
                </a:cubicBezTo>
                <a:lnTo>
                  <a:pt x="161" y="133"/>
                </a:lnTo>
                <a:cubicBezTo>
                  <a:pt x="167" y="127"/>
                  <a:pt x="176" y="131"/>
                  <a:pt x="181" y="136"/>
                </a:cubicBezTo>
                <a:cubicBezTo>
                  <a:pt x="187" y="142"/>
                  <a:pt x="183" y="150"/>
                  <a:pt x="178" y="156"/>
                </a:cubicBezTo>
                <a:lnTo>
                  <a:pt x="141" y="187"/>
                </a:lnTo>
                <a:cubicBezTo>
                  <a:pt x="130" y="189"/>
                  <a:pt x="121" y="195"/>
                  <a:pt x="113" y="1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98"/>
          <p:cNvSpPr/>
          <p:nvPr/>
        </p:nvSpPr>
        <p:spPr>
          <a:xfrm>
            <a:off x="6978600" y="5380200"/>
            <a:ext cx="122400" cy="131760"/>
          </a:xfrm>
          <a:custGeom>
            <a:avLst/>
            <a:gdLst/>
            <a:ahLst/>
            <a:rect l="l" t="t" r="r" b="b"/>
            <a:pathLst>
              <a:path w="182" h="196">
                <a:moveTo>
                  <a:pt x="71" y="195"/>
                </a:moveTo>
                <a:cubicBezTo>
                  <a:pt x="63" y="195"/>
                  <a:pt x="51" y="192"/>
                  <a:pt x="43" y="187"/>
                </a:cubicBezTo>
                <a:lnTo>
                  <a:pt x="6" y="156"/>
                </a:lnTo>
                <a:cubicBezTo>
                  <a:pt x="0" y="150"/>
                  <a:pt x="0" y="141"/>
                  <a:pt x="3" y="136"/>
                </a:cubicBezTo>
                <a:cubicBezTo>
                  <a:pt x="9" y="130"/>
                  <a:pt x="17" y="130"/>
                  <a:pt x="23" y="133"/>
                </a:cubicBezTo>
                <a:lnTo>
                  <a:pt x="60" y="164"/>
                </a:lnTo>
                <a:cubicBezTo>
                  <a:pt x="65" y="170"/>
                  <a:pt x="74" y="167"/>
                  <a:pt x="79" y="164"/>
                </a:cubicBezTo>
                <a:lnTo>
                  <a:pt x="144" y="99"/>
                </a:lnTo>
                <a:cubicBezTo>
                  <a:pt x="150" y="93"/>
                  <a:pt x="150" y="88"/>
                  <a:pt x="147" y="82"/>
                </a:cubicBezTo>
                <a:lnTo>
                  <a:pt x="113" y="23"/>
                </a:lnTo>
                <a:cubicBezTo>
                  <a:pt x="111" y="17"/>
                  <a:pt x="111" y="9"/>
                  <a:pt x="119" y="3"/>
                </a:cubicBezTo>
                <a:cubicBezTo>
                  <a:pt x="125" y="0"/>
                  <a:pt x="133" y="0"/>
                  <a:pt x="139" y="9"/>
                </a:cubicBezTo>
                <a:lnTo>
                  <a:pt x="173" y="68"/>
                </a:lnTo>
                <a:cubicBezTo>
                  <a:pt x="181" y="85"/>
                  <a:pt x="178" y="105"/>
                  <a:pt x="167" y="119"/>
                </a:cubicBezTo>
                <a:lnTo>
                  <a:pt x="102" y="184"/>
                </a:lnTo>
                <a:cubicBezTo>
                  <a:pt x="94" y="189"/>
                  <a:pt x="82" y="195"/>
                  <a:pt x="71" y="1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99"/>
          <p:cNvSpPr/>
          <p:nvPr/>
        </p:nvSpPr>
        <p:spPr>
          <a:xfrm>
            <a:off x="6805440" y="5451480"/>
            <a:ext cx="68400" cy="87480"/>
          </a:xfrm>
          <a:custGeom>
            <a:avLst/>
            <a:gdLst/>
            <a:ahLst/>
            <a:rect l="l" t="t" r="r" b="b"/>
            <a:pathLst>
              <a:path w="102" h="128">
                <a:moveTo>
                  <a:pt x="28" y="127"/>
                </a:moveTo>
                <a:cubicBezTo>
                  <a:pt x="25" y="127"/>
                  <a:pt x="25" y="127"/>
                  <a:pt x="22" y="127"/>
                </a:cubicBezTo>
                <a:cubicBezTo>
                  <a:pt x="19" y="124"/>
                  <a:pt x="17" y="121"/>
                  <a:pt x="14" y="118"/>
                </a:cubicBezTo>
                <a:cubicBezTo>
                  <a:pt x="0" y="79"/>
                  <a:pt x="2" y="42"/>
                  <a:pt x="22" y="8"/>
                </a:cubicBezTo>
                <a:cubicBezTo>
                  <a:pt x="25" y="3"/>
                  <a:pt x="34" y="0"/>
                  <a:pt x="42" y="3"/>
                </a:cubicBezTo>
                <a:cubicBezTo>
                  <a:pt x="48" y="5"/>
                  <a:pt x="50" y="14"/>
                  <a:pt x="48" y="22"/>
                </a:cubicBezTo>
                <a:cubicBezTo>
                  <a:pt x="36" y="45"/>
                  <a:pt x="34" y="67"/>
                  <a:pt x="36" y="93"/>
                </a:cubicBezTo>
                <a:cubicBezTo>
                  <a:pt x="48" y="84"/>
                  <a:pt x="59" y="73"/>
                  <a:pt x="73" y="56"/>
                </a:cubicBezTo>
                <a:cubicBezTo>
                  <a:pt x="79" y="51"/>
                  <a:pt x="87" y="48"/>
                  <a:pt x="93" y="53"/>
                </a:cubicBezTo>
                <a:cubicBezTo>
                  <a:pt x="98" y="59"/>
                  <a:pt x="101" y="67"/>
                  <a:pt x="96" y="73"/>
                </a:cubicBezTo>
                <a:cubicBezTo>
                  <a:pt x="76" y="101"/>
                  <a:pt x="53" y="118"/>
                  <a:pt x="34" y="127"/>
                </a:cubicBezTo>
                <a:cubicBezTo>
                  <a:pt x="31" y="127"/>
                  <a:pt x="28" y="127"/>
                  <a:pt x="28" y="12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00"/>
          <p:cNvSpPr/>
          <p:nvPr/>
        </p:nvSpPr>
        <p:spPr>
          <a:xfrm>
            <a:off x="7029360" y="5451480"/>
            <a:ext cx="68400" cy="87480"/>
          </a:xfrm>
          <a:custGeom>
            <a:avLst/>
            <a:gdLst/>
            <a:ahLst/>
            <a:rect l="l" t="t" r="r" b="b"/>
            <a:pathLst>
              <a:path w="102" h="128">
                <a:moveTo>
                  <a:pt x="73" y="127"/>
                </a:moveTo>
                <a:cubicBezTo>
                  <a:pt x="70" y="127"/>
                  <a:pt x="70" y="127"/>
                  <a:pt x="67" y="127"/>
                </a:cubicBezTo>
                <a:cubicBezTo>
                  <a:pt x="45" y="118"/>
                  <a:pt x="25" y="101"/>
                  <a:pt x="5" y="73"/>
                </a:cubicBezTo>
                <a:cubicBezTo>
                  <a:pt x="0" y="67"/>
                  <a:pt x="2" y="59"/>
                  <a:pt x="8" y="53"/>
                </a:cubicBezTo>
                <a:cubicBezTo>
                  <a:pt x="14" y="48"/>
                  <a:pt x="22" y="51"/>
                  <a:pt x="28" y="56"/>
                </a:cubicBezTo>
                <a:cubicBezTo>
                  <a:pt x="39" y="73"/>
                  <a:pt x="50" y="84"/>
                  <a:pt x="65" y="93"/>
                </a:cubicBezTo>
                <a:cubicBezTo>
                  <a:pt x="70" y="67"/>
                  <a:pt x="67" y="45"/>
                  <a:pt x="53" y="22"/>
                </a:cubicBezTo>
                <a:cubicBezTo>
                  <a:pt x="50" y="17"/>
                  <a:pt x="53" y="8"/>
                  <a:pt x="59" y="3"/>
                </a:cubicBezTo>
                <a:cubicBezTo>
                  <a:pt x="65" y="0"/>
                  <a:pt x="73" y="3"/>
                  <a:pt x="79" y="8"/>
                </a:cubicBezTo>
                <a:cubicBezTo>
                  <a:pt x="90" y="31"/>
                  <a:pt x="101" y="70"/>
                  <a:pt x="87" y="118"/>
                </a:cubicBezTo>
                <a:cubicBezTo>
                  <a:pt x="87" y="121"/>
                  <a:pt x="84" y="124"/>
                  <a:pt x="79" y="127"/>
                </a:cubicBezTo>
                <a:cubicBezTo>
                  <a:pt x="79" y="127"/>
                  <a:pt x="76" y="127"/>
                  <a:pt x="73" y="12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01"/>
          <p:cNvSpPr/>
          <p:nvPr/>
        </p:nvSpPr>
        <p:spPr>
          <a:xfrm>
            <a:off x="7564320" y="5478480"/>
            <a:ext cx="230400" cy="60480"/>
          </a:xfrm>
          <a:custGeom>
            <a:avLst/>
            <a:gdLst/>
            <a:ahLst/>
            <a:rect l="l" t="t" r="r" b="b"/>
            <a:pathLst>
              <a:path w="340" h="86">
                <a:moveTo>
                  <a:pt x="296" y="85"/>
                </a:moveTo>
                <a:lnTo>
                  <a:pt x="42" y="85"/>
                </a:lnTo>
                <a:cubicBezTo>
                  <a:pt x="20" y="85"/>
                  <a:pt x="0" y="65"/>
                  <a:pt x="0" y="42"/>
                </a:cubicBezTo>
                <a:cubicBezTo>
                  <a:pt x="0" y="20"/>
                  <a:pt x="20" y="0"/>
                  <a:pt x="42" y="0"/>
                </a:cubicBezTo>
                <a:lnTo>
                  <a:pt x="296" y="0"/>
                </a:lnTo>
                <a:cubicBezTo>
                  <a:pt x="319" y="0"/>
                  <a:pt x="339" y="20"/>
                  <a:pt x="339" y="42"/>
                </a:cubicBezTo>
                <a:cubicBezTo>
                  <a:pt x="339" y="65"/>
                  <a:pt x="319" y="85"/>
                  <a:pt x="296" y="85"/>
                </a:cubicBezTo>
                <a:close/>
                <a:moveTo>
                  <a:pt x="42" y="28"/>
                </a:moveTo>
                <a:cubicBezTo>
                  <a:pt x="34" y="28"/>
                  <a:pt x="28" y="34"/>
                  <a:pt x="28" y="42"/>
                </a:cubicBezTo>
                <a:cubicBezTo>
                  <a:pt x="28" y="51"/>
                  <a:pt x="34" y="56"/>
                  <a:pt x="42" y="56"/>
                </a:cubicBezTo>
                <a:lnTo>
                  <a:pt x="296" y="56"/>
                </a:lnTo>
                <a:cubicBezTo>
                  <a:pt x="305" y="56"/>
                  <a:pt x="310" y="51"/>
                  <a:pt x="310" y="42"/>
                </a:cubicBezTo>
                <a:cubicBezTo>
                  <a:pt x="310" y="34"/>
                  <a:pt x="305" y="28"/>
                  <a:pt x="296" y="28"/>
                </a:cubicBezTo>
                <a:lnTo>
                  <a:pt x="42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02"/>
          <p:cNvSpPr/>
          <p:nvPr/>
        </p:nvSpPr>
        <p:spPr>
          <a:xfrm>
            <a:off x="7583400" y="5518080"/>
            <a:ext cx="190440" cy="58680"/>
          </a:xfrm>
          <a:custGeom>
            <a:avLst/>
            <a:gdLst/>
            <a:ahLst/>
            <a:rect l="l" t="t" r="r" b="b"/>
            <a:pathLst>
              <a:path w="283" h="86">
                <a:moveTo>
                  <a:pt x="212" y="85"/>
                </a:moveTo>
                <a:lnTo>
                  <a:pt x="71" y="85"/>
                </a:lnTo>
                <a:cubicBezTo>
                  <a:pt x="31" y="85"/>
                  <a:pt x="0" y="54"/>
                  <a:pt x="0" y="15"/>
                </a:cubicBez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cubicBezTo>
                  <a:pt x="28" y="37"/>
                  <a:pt x="48" y="57"/>
                  <a:pt x="71" y="57"/>
                </a:cubicBezTo>
                <a:lnTo>
                  <a:pt x="212" y="57"/>
                </a:lnTo>
                <a:cubicBezTo>
                  <a:pt x="234" y="57"/>
                  <a:pt x="254" y="37"/>
                  <a:pt x="254" y="15"/>
                </a:cubicBezTo>
                <a:cubicBezTo>
                  <a:pt x="254" y="6"/>
                  <a:pt x="260" y="0"/>
                  <a:pt x="268" y="0"/>
                </a:cubicBezTo>
                <a:cubicBezTo>
                  <a:pt x="277" y="0"/>
                  <a:pt x="282" y="6"/>
                  <a:pt x="282" y="15"/>
                </a:cubicBezTo>
                <a:cubicBezTo>
                  <a:pt x="282" y="54"/>
                  <a:pt x="251" y="85"/>
                  <a:pt x="212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03"/>
          <p:cNvSpPr/>
          <p:nvPr/>
        </p:nvSpPr>
        <p:spPr>
          <a:xfrm>
            <a:off x="7583400" y="5440320"/>
            <a:ext cx="190440" cy="55440"/>
          </a:xfrm>
          <a:custGeom>
            <a:avLst/>
            <a:gdLst/>
            <a:ahLst/>
            <a:rect l="l" t="t" r="r" b="b"/>
            <a:pathLst>
              <a:path w="283" h="85">
                <a:moveTo>
                  <a:pt x="268" y="84"/>
                </a:moveTo>
                <a:cubicBezTo>
                  <a:pt x="260" y="84"/>
                  <a:pt x="254" y="79"/>
                  <a:pt x="254" y="70"/>
                </a:cubicBezTo>
                <a:cubicBezTo>
                  <a:pt x="254" y="48"/>
                  <a:pt x="234" y="28"/>
                  <a:pt x="212" y="28"/>
                </a:cubicBezTo>
                <a:lnTo>
                  <a:pt x="71" y="28"/>
                </a:lnTo>
                <a:cubicBezTo>
                  <a:pt x="48" y="28"/>
                  <a:pt x="28" y="48"/>
                  <a:pt x="28" y="70"/>
                </a:cubicBezTo>
                <a:cubicBezTo>
                  <a:pt x="28" y="79"/>
                  <a:pt x="23" y="84"/>
                  <a:pt x="14" y="84"/>
                </a:cubicBezTo>
                <a:cubicBezTo>
                  <a:pt x="6" y="84"/>
                  <a:pt x="0" y="79"/>
                  <a:pt x="0" y="70"/>
                </a:cubicBezTo>
                <a:cubicBezTo>
                  <a:pt x="0" y="31"/>
                  <a:pt x="31" y="0"/>
                  <a:pt x="71" y="0"/>
                </a:cubicBezTo>
                <a:lnTo>
                  <a:pt x="212" y="0"/>
                </a:lnTo>
                <a:cubicBezTo>
                  <a:pt x="251" y="0"/>
                  <a:pt x="282" y="31"/>
                  <a:pt x="282" y="70"/>
                </a:cubicBezTo>
                <a:cubicBezTo>
                  <a:pt x="282" y="79"/>
                  <a:pt x="277" y="84"/>
                  <a:pt x="268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304"/>
          <p:cNvSpPr/>
          <p:nvPr/>
        </p:nvSpPr>
        <p:spPr>
          <a:xfrm>
            <a:off x="7715160" y="5340240"/>
            <a:ext cx="152640" cy="233640"/>
          </a:xfrm>
          <a:custGeom>
            <a:avLst/>
            <a:gdLst/>
            <a:ahLst/>
            <a:rect l="l" t="t" r="r" b="b"/>
            <a:pathLst>
              <a:path w="227" h="345">
                <a:moveTo>
                  <a:pt x="186" y="344"/>
                </a:moveTo>
                <a:lnTo>
                  <a:pt x="116" y="344"/>
                </a:lnTo>
                <a:cubicBezTo>
                  <a:pt x="107" y="344"/>
                  <a:pt x="101" y="339"/>
                  <a:pt x="101" y="330"/>
                </a:cubicBezTo>
                <a:cubicBezTo>
                  <a:pt x="101" y="322"/>
                  <a:pt x="107" y="316"/>
                  <a:pt x="116" y="316"/>
                </a:cubicBezTo>
                <a:lnTo>
                  <a:pt x="172" y="316"/>
                </a:lnTo>
                <a:lnTo>
                  <a:pt x="197" y="34"/>
                </a:lnTo>
                <a:lnTo>
                  <a:pt x="31" y="34"/>
                </a:lnTo>
                <a:lnTo>
                  <a:pt x="37" y="104"/>
                </a:lnTo>
                <a:cubicBezTo>
                  <a:pt x="37" y="113"/>
                  <a:pt x="31" y="118"/>
                  <a:pt x="22" y="118"/>
                </a:cubicBezTo>
                <a:cubicBezTo>
                  <a:pt x="17" y="118"/>
                  <a:pt x="8" y="113"/>
                  <a:pt x="8" y="104"/>
                </a:cubicBezTo>
                <a:lnTo>
                  <a:pt x="0" y="17"/>
                </a:lnTo>
                <a:cubicBezTo>
                  <a:pt x="0" y="14"/>
                  <a:pt x="0" y="9"/>
                  <a:pt x="3" y="6"/>
                </a:cubicBezTo>
                <a:cubicBezTo>
                  <a:pt x="6" y="4"/>
                  <a:pt x="8" y="0"/>
                  <a:pt x="14" y="0"/>
                </a:cubicBezTo>
                <a:lnTo>
                  <a:pt x="212" y="0"/>
                </a:lnTo>
                <a:cubicBezTo>
                  <a:pt x="214" y="0"/>
                  <a:pt x="220" y="4"/>
                  <a:pt x="223" y="6"/>
                </a:cubicBezTo>
                <a:cubicBezTo>
                  <a:pt x="226" y="9"/>
                  <a:pt x="226" y="11"/>
                  <a:pt x="226" y="17"/>
                </a:cubicBezTo>
                <a:lnTo>
                  <a:pt x="197" y="327"/>
                </a:lnTo>
                <a:cubicBezTo>
                  <a:pt x="200" y="339"/>
                  <a:pt x="195" y="344"/>
                  <a:pt x="186" y="34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305"/>
          <p:cNvSpPr/>
          <p:nvPr/>
        </p:nvSpPr>
        <p:spPr>
          <a:xfrm>
            <a:off x="7783560" y="5286240"/>
            <a:ext cx="87120" cy="77760"/>
          </a:xfrm>
          <a:custGeom>
            <a:avLst/>
            <a:gdLst/>
            <a:ahLst/>
            <a:rect l="l" t="t" r="r" b="b"/>
            <a:pathLst>
              <a:path w="128" h="114">
                <a:moveTo>
                  <a:pt x="15" y="113"/>
                </a:moveTo>
                <a:cubicBezTo>
                  <a:pt x="15" y="113"/>
                  <a:pt x="12" y="113"/>
                  <a:pt x="15" y="113"/>
                </a:cubicBezTo>
                <a:cubicBezTo>
                  <a:pt x="3" y="110"/>
                  <a:pt x="0" y="104"/>
                  <a:pt x="0" y="96"/>
                </a:cubicBezTo>
                <a:lnTo>
                  <a:pt x="15" y="11"/>
                </a:lnTo>
                <a:cubicBezTo>
                  <a:pt x="15" y="5"/>
                  <a:pt x="20" y="0"/>
                  <a:pt x="29" y="0"/>
                </a:cubicBezTo>
                <a:lnTo>
                  <a:pt x="113" y="0"/>
                </a:lnTo>
                <a:cubicBezTo>
                  <a:pt x="122" y="0"/>
                  <a:pt x="127" y="6"/>
                  <a:pt x="127" y="14"/>
                </a:cubicBezTo>
                <a:cubicBezTo>
                  <a:pt x="127" y="23"/>
                  <a:pt x="122" y="28"/>
                  <a:pt x="113" y="28"/>
                </a:cubicBezTo>
                <a:lnTo>
                  <a:pt x="40" y="28"/>
                </a:lnTo>
                <a:lnTo>
                  <a:pt x="29" y="101"/>
                </a:lnTo>
                <a:cubicBezTo>
                  <a:pt x="29" y="107"/>
                  <a:pt x="20" y="113"/>
                  <a:pt x="15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306"/>
          <p:cNvSpPr/>
          <p:nvPr/>
        </p:nvSpPr>
        <p:spPr>
          <a:xfrm>
            <a:off x="8325000" y="5262480"/>
            <a:ext cx="311040" cy="314280"/>
          </a:xfrm>
          <a:custGeom>
            <a:avLst/>
            <a:gdLst/>
            <a:ahLst/>
            <a:rect l="l" t="t" r="r" b="b"/>
            <a:pathLst>
              <a:path w="458" h="461">
                <a:moveTo>
                  <a:pt x="235" y="460"/>
                </a:moveTo>
                <a:cubicBezTo>
                  <a:pt x="167" y="460"/>
                  <a:pt x="105" y="429"/>
                  <a:pt x="60" y="378"/>
                </a:cubicBezTo>
                <a:cubicBezTo>
                  <a:pt x="17" y="325"/>
                  <a:pt x="0" y="257"/>
                  <a:pt x="12" y="189"/>
                </a:cubicBezTo>
                <a:cubicBezTo>
                  <a:pt x="28" y="102"/>
                  <a:pt x="99" y="31"/>
                  <a:pt x="187" y="14"/>
                </a:cubicBezTo>
                <a:cubicBezTo>
                  <a:pt x="254" y="0"/>
                  <a:pt x="322" y="17"/>
                  <a:pt x="376" y="62"/>
                </a:cubicBezTo>
                <a:cubicBezTo>
                  <a:pt x="429" y="105"/>
                  <a:pt x="457" y="169"/>
                  <a:pt x="457" y="237"/>
                </a:cubicBezTo>
                <a:cubicBezTo>
                  <a:pt x="457" y="277"/>
                  <a:pt x="429" y="311"/>
                  <a:pt x="390" y="313"/>
                </a:cubicBezTo>
                <a:lnTo>
                  <a:pt x="356" y="316"/>
                </a:lnTo>
                <a:cubicBezTo>
                  <a:pt x="333" y="319"/>
                  <a:pt x="314" y="336"/>
                  <a:pt x="314" y="359"/>
                </a:cubicBezTo>
                <a:lnTo>
                  <a:pt x="311" y="392"/>
                </a:lnTo>
                <a:cubicBezTo>
                  <a:pt x="308" y="432"/>
                  <a:pt x="274" y="460"/>
                  <a:pt x="235" y="460"/>
                </a:cubicBezTo>
                <a:close/>
                <a:moveTo>
                  <a:pt x="235" y="37"/>
                </a:moveTo>
                <a:cubicBezTo>
                  <a:pt x="220" y="37"/>
                  <a:pt x="209" y="37"/>
                  <a:pt x="195" y="40"/>
                </a:cubicBezTo>
                <a:cubicBezTo>
                  <a:pt x="119" y="54"/>
                  <a:pt x="57" y="116"/>
                  <a:pt x="40" y="195"/>
                </a:cubicBezTo>
                <a:cubicBezTo>
                  <a:pt x="28" y="254"/>
                  <a:pt x="43" y="313"/>
                  <a:pt x="82" y="361"/>
                </a:cubicBezTo>
                <a:cubicBezTo>
                  <a:pt x="119" y="407"/>
                  <a:pt x="175" y="432"/>
                  <a:pt x="235" y="432"/>
                </a:cubicBezTo>
                <a:cubicBezTo>
                  <a:pt x="260" y="432"/>
                  <a:pt x="280" y="412"/>
                  <a:pt x="282" y="390"/>
                </a:cubicBezTo>
                <a:lnTo>
                  <a:pt x="285" y="356"/>
                </a:lnTo>
                <a:cubicBezTo>
                  <a:pt x="288" y="319"/>
                  <a:pt x="316" y="291"/>
                  <a:pt x="353" y="288"/>
                </a:cubicBezTo>
                <a:lnTo>
                  <a:pt x="387" y="285"/>
                </a:lnTo>
                <a:cubicBezTo>
                  <a:pt x="412" y="282"/>
                  <a:pt x="429" y="263"/>
                  <a:pt x="429" y="237"/>
                </a:cubicBezTo>
                <a:cubicBezTo>
                  <a:pt x="429" y="178"/>
                  <a:pt x="404" y="122"/>
                  <a:pt x="359" y="85"/>
                </a:cubicBezTo>
                <a:cubicBezTo>
                  <a:pt x="325" y="54"/>
                  <a:pt x="280" y="37"/>
                  <a:pt x="235" y="3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307"/>
          <p:cNvSpPr/>
          <p:nvPr/>
        </p:nvSpPr>
        <p:spPr>
          <a:xfrm>
            <a:off x="8369280" y="5383080"/>
            <a:ext cx="95400" cy="9540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71" y="141"/>
                </a:moveTo>
                <a:cubicBezTo>
                  <a:pt x="31" y="141"/>
                  <a:pt x="0" y="110"/>
                  <a:pt x="0" y="70"/>
                </a:cubicBezTo>
                <a:cubicBezTo>
                  <a:pt x="0" y="31"/>
                  <a:pt x="32" y="0"/>
                  <a:pt x="71" y="0"/>
                </a:cubicBezTo>
                <a:cubicBezTo>
                  <a:pt x="111" y="0"/>
                  <a:pt x="141" y="31"/>
                  <a:pt x="141" y="70"/>
                </a:cubicBezTo>
                <a:cubicBezTo>
                  <a:pt x="141" y="110"/>
                  <a:pt x="110" y="141"/>
                  <a:pt x="71" y="141"/>
                </a:cubicBezTo>
                <a:close/>
                <a:moveTo>
                  <a:pt x="71" y="28"/>
                </a:moveTo>
                <a:cubicBezTo>
                  <a:pt x="48" y="28"/>
                  <a:pt x="28" y="48"/>
                  <a:pt x="28" y="70"/>
                </a:cubicBezTo>
                <a:cubicBezTo>
                  <a:pt x="28" y="93"/>
                  <a:pt x="49" y="113"/>
                  <a:pt x="71" y="113"/>
                </a:cubicBezTo>
                <a:cubicBezTo>
                  <a:pt x="94" y="113"/>
                  <a:pt x="113" y="93"/>
                  <a:pt x="113" y="70"/>
                </a:cubicBezTo>
                <a:cubicBezTo>
                  <a:pt x="113" y="48"/>
                  <a:pt x="93" y="28"/>
                  <a:pt x="71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308"/>
          <p:cNvSpPr/>
          <p:nvPr/>
        </p:nvSpPr>
        <p:spPr>
          <a:xfrm>
            <a:off x="8483760" y="5326200"/>
            <a:ext cx="95040" cy="9504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70" y="141"/>
                </a:moveTo>
                <a:cubicBezTo>
                  <a:pt x="31" y="141"/>
                  <a:pt x="0" y="111"/>
                  <a:pt x="0" y="71"/>
                </a:cubicBezTo>
                <a:cubicBezTo>
                  <a:pt x="0" y="32"/>
                  <a:pt x="31" y="0"/>
                  <a:pt x="70" y="0"/>
                </a:cubicBezTo>
                <a:cubicBezTo>
                  <a:pt x="110" y="0"/>
                  <a:pt x="141" y="32"/>
                  <a:pt x="141" y="71"/>
                </a:cubicBezTo>
                <a:cubicBezTo>
                  <a:pt x="141" y="111"/>
                  <a:pt x="110" y="141"/>
                  <a:pt x="70" y="141"/>
                </a:cubicBezTo>
                <a:close/>
                <a:moveTo>
                  <a:pt x="70" y="29"/>
                </a:moveTo>
                <a:cubicBezTo>
                  <a:pt x="47" y="29"/>
                  <a:pt x="28" y="49"/>
                  <a:pt x="28" y="71"/>
                </a:cubicBezTo>
                <a:cubicBezTo>
                  <a:pt x="28" y="94"/>
                  <a:pt x="47" y="113"/>
                  <a:pt x="70" y="113"/>
                </a:cubicBezTo>
                <a:cubicBezTo>
                  <a:pt x="93" y="113"/>
                  <a:pt x="112" y="94"/>
                  <a:pt x="112" y="71"/>
                </a:cubicBezTo>
                <a:cubicBezTo>
                  <a:pt x="112" y="49"/>
                  <a:pt x="93" y="29"/>
                  <a:pt x="70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09"/>
          <p:cNvSpPr/>
          <p:nvPr/>
        </p:nvSpPr>
        <p:spPr>
          <a:xfrm>
            <a:off x="8396280" y="5413320"/>
            <a:ext cx="30240" cy="28800"/>
          </a:xfrm>
          <a:custGeom>
            <a:avLst/>
            <a:gdLst/>
            <a:ahLst/>
            <a:rect l="l" t="t" r="r" b="b"/>
            <a:pathLst>
              <a:path w="43" h="44">
                <a:moveTo>
                  <a:pt x="14" y="43"/>
                </a:moveTo>
                <a:cubicBezTo>
                  <a:pt x="5" y="43"/>
                  <a:pt x="0" y="37"/>
                  <a:pt x="0" y="28"/>
                </a:cubicBezTo>
                <a:cubicBezTo>
                  <a:pt x="0" y="12"/>
                  <a:pt x="11" y="0"/>
                  <a:pt x="28" y="0"/>
                </a:cubicBezTo>
                <a:cubicBezTo>
                  <a:pt x="36" y="0"/>
                  <a:pt x="42" y="6"/>
                  <a:pt x="42" y="14"/>
                </a:cubicBezTo>
                <a:cubicBezTo>
                  <a:pt x="42" y="23"/>
                  <a:pt x="36" y="28"/>
                  <a:pt x="28" y="28"/>
                </a:cubicBezTo>
                <a:cubicBezTo>
                  <a:pt x="28" y="37"/>
                  <a:pt x="22" y="43"/>
                  <a:pt x="14" y="4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310"/>
          <p:cNvSpPr/>
          <p:nvPr/>
        </p:nvSpPr>
        <p:spPr>
          <a:xfrm>
            <a:off x="8513640" y="5356080"/>
            <a:ext cx="28800" cy="30240"/>
          </a:xfrm>
          <a:custGeom>
            <a:avLst/>
            <a:gdLst/>
            <a:ahLst/>
            <a:rect l="l" t="t" r="r" b="b"/>
            <a:pathLst>
              <a:path w="43" h="43">
                <a:moveTo>
                  <a:pt x="14" y="42"/>
                </a:moveTo>
                <a:cubicBezTo>
                  <a:pt x="5" y="42"/>
                  <a:pt x="0" y="36"/>
                  <a:pt x="0" y="28"/>
                </a:cubicBezTo>
                <a:cubicBezTo>
                  <a:pt x="0" y="11"/>
                  <a:pt x="11" y="0"/>
                  <a:pt x="28" y="0"/>
                </a:cubicBezTo>
                <a:cubicBezTo>
                  <a:pt x="37" y="0"/>
                  <a:pt x="42" y="6"/>
                  <a:pt x="42" y="14"/>
                </a:cubicBezTo>
                <a:cubicBezTo>
                  <a:pt x="42" y="23"/>
                  <a:pt x="37" y="28"/>
                  <a:pt x="28" y="28"/>
                </a:cubicBezTo>
                <a:cubicBezTo>
                  <a:pt x="28" y="36"/>
                  <a:pt x="22" y="42"/>
                  <a:pt x="14" y="4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11"/>
          <p:cNvSpPr/>
          <p:nvPr/>
        </p:nvSpPr>
        <p:spPr>
          <a:xfrm>
            <a:off x="1438200" y="6165720"/>
            <a:ext cx="308160" cy="174600"/>
          </a:xfrm>
          <a:custGeom>
            <a:avLst/>
            <a:gdLst/>
            <a:ahLst/>
            <a:rect l="l" t="t" r="r" b="b"/>
            <a:pathLst>
              <a:path w="452" h="255">
                <a:moveTo>
                  <a:pt x="296" y="254"/>
                </a:moveTo>
                <a:lnTo>
                  <a:pt x="155" y="254"/>
                </a:lnTo>
                <a:cubicBezTo>
                  <a:pt x="146" y="254"/>
                  <a:pt x="141" y="248"/>
                  <a:pt x="141" y="240"/>
                </a:cubicBezTo>
                <a:lnTo>
                  <a:pt x="141" y="212"/>
                </a:lnTo>
                <a:cubicBezTo>
                  <a:pt x="56" y="181"/>
                  <a:pt x="0" y="102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37" y="0"/>
                </a:lnTo>
                <a:cubicBezTo>
                  <a:pt x="446" y="0"/>
                  <a:pt x="451" y="6"/>
                  <a:pt x="451" y="14"/>
                </a:cubicBezTo>
                <a:cubicBezTo>
                  <a:pt x="451" y="102"/>
                  <a:pt x="395" y="178"/>
                  <a:pt x="310" y="212"/>
                </a:cubicBezTo>
                <a:lnTo>
                  <a:pt x="310" y="240"/>
                </a:lnTo>
                <a:cubicBezTo>
                  <a:pt x="310" y="248"/>
                  <a:pt x="305" y="254"/>
                  <a:pt x="296" y="254"/>
                </a:cubicBezTo>
                <a:close/>
                <a:moveTo>
                  <a:pt x="169" y="226"/>
                </a:moveTo>
                <a:lnTo>
                  <a:pt x="282" y="226"/>
                </a:lnTo>
                <a:lnTo>
                  <a:pt x="282" y="200"/>
                </a:lnTo>
                <a:cubicBezTo>
                  <a:pt x="282" y="195"/>
                  <a:pt x="285" y="189"/>
                  <a:pt x="290" y="186"/>
                </a:cubicBezTo>
                <a:cubicBezTo>
                  <a:pt x="364" y="161"/>
                  <a:pt x="415" y="99"/>
                  <a:pt x="420" y="28"/>
                </a:cubicBezTo>
                <a:lnTo>
                  <a:pt x="28" y="28"/>
                </a:lnTo>
                <a:cubicBezTo>
                  <a:pt x="34" y="99"/>
                  <a:pt x="84" y="164"/>
                  <a:pt x="158" y="186"/>
                </a:cubicBezTo>
                <a:cubicBezTo>
                  <a:pt x="163" y="189"/>
                  <a:pt x="166" y="195"/>
                  <a:pt x="166" y="200"/>
                </a:cubicBezTo>
                <a:lnTo>
                  <a:pt x="166" y="226"/>
                </a:lnTo>
                <a:lnTo>
                  <a:pt x="169" y="2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12"/>
          <p:cNvSpPr/>
          <p:nvPr/>
        </p:nvSpPr>
        <p:spPr>
          <a:xfrm>
            <a:off x="1535040" y="6073920"/>
            <a:ext cx="190440" cy="117360"/>
          </a:xfrm>
          <a:custGeom>
            <a:avLst/>
            <a:gdLst/>
            <a:ahLst/>
            <a:rect l="l" t="t" r="r" b="b"/>
            <a:pathLst>
              <a:path w="283" h="173">
                <a:moveTo>
                  <a:pt x="254" y="169"/>
                </a:moveTo>
                <a:cubicBezTo>
                  <a:pt x="251" y="169"/>
                  <a:pt x="248" y="169"/>
                  <a:pt x="245" y="166"/>
                </a:cubicBezTo>
                <a:cubicBezTo>
                  <a:pt x="240" y="161"/>
                  <a:pt x="237" y="152"/>
                  <a:pt x="243" y="147"/>
                </a:cubicBezTo>
                <a:cubicBezTo>
                  <a:pt x="251" y="138"/>
                  <a:pt x="254" y="124"/>
                  <a:pt x="254" y="113"/>
                </a:cubicBezTo>
                <a:cubicBezTo>
                  <a:pt x="254" y="82"/>
                  <a:pt x="228" y="56"/>
                  <a:pt x="197" y="56"/>
                </a:cubicBezTo>
                <a:cubicBezTo>
                  <a:pt x="192" y="56"/>
                  <a:pt x="189" y="53"/>
                  <a:pt x="186" y="51"/>
                </a:cubicBezTo>
                <a:cubicBezTo>
                  <a:pt x="164" y="22"/>
                  <a:pt x="118" y="22"/>
                  <a:pt x="96" y="51"/>
                </a:cubicBezTo>
                <a:cubicBezTo>
                  <a:pt x="93" y="53"/>
                  <a:pt x="90" y="56"/>
                  <a:pt x="84" y="56"/>
                </a:cubicBezTo>
                <a:cubicBezTo>
                  <a:pt x="53" y="56"/>
                  <a:pt x="28" y="82"/>
                  <a:pt x="28" y="113"/>
                </a:cubicBezTo>
                <a:cubicBezTo>
                  <a:pt x="28" y="124"/>
                  <a:pt x="31" y="138"/>
                  <a:pt x="39" y="147"/>
                </a:cubicBezTo>
                <a:cubicBezTo>
                  <a:pt x="45" y="152"/>
                  <a:pt x="42" y="161"/>
                  <a:pt x="37" y="166"/>
                </a:cubicBezTo>
                <a:cubicBezTo>
                  <a:pt x="31" y="172"/>
                  <a:pt x="22" y="169"/>
                  <a:pt x="17" y="164"/>
                </a:cubicBezTo>
                <a:cubicBezTo>
                  <a:pt x="5" y="149"/>
                  <a:pt x="0" y="130"/>
                  <a:pt x="0" y="113"/>
                </a:cubicBezTo>
                <a:cubicBezTo>
                  <a:pt x="0" y="68"/>
                  <a:pt x="34" y="31"/>
                  <a:pt x="79" y="28"/>
                </a:cubicBezTo>
                <a:cubicBezTo>
                  <a:pt x="96" y="11"/>
                  <a:pt x="118" y="0"/>
                  <a:pt x="141" y="0"/>
                </a:cubicBezTo>
                <a:cubicBezTo>
                  <a:pt x="164" y="0"/>
                  <a:pt x="189" y="11"/>
                  <a:pt x="203" y="28"/>
                </a:cubicBezTo>
                <a:cubicBezTo>
                  <a:pt x="245" y="31"/>
                  <a:pt x="282" y="68"/>
                  <a:pt x="282" y="113"/>
                </a:cubicBezTo>
                <a:cubicBezTo>
                  <a:pt x="282" y="130"/>
                  <a:pt x="276" y="149"/>
                  <a:pt x="265" y="164"/>
                </a:cubicBezTo>
                <a:cubicBezTo>
                  <a:pt x="262" y="166"/>
                  <a:pt x="259" y="169"/>
                  <a:pt x="254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13"/>
          <p:cNvSpPr/>
          <p:nvPr/>
        </p:nvSpPr>
        <p:spPr>
          <a:xfrm>
            <a:off x="1454040" y="6097680"/>
            <a:ext cx="109800" cy="93600"/>
          </a:xfrm>
          <a:custGeom>
            <a:avLst/>
            <a:gdLst/>
            <a:ahLst/>
            <a:rect l="l" t="t" r="r" b="b"/>
            <a:pathLst>
              <a:path w="162" h="136">
                <a:moveTo>
                  <a:pt x="136" y="132"/>
                </a:moveTo>
                <a:cubicBezTo>
                  <a:pt x="133" y="132"/>
                  <a:pt x="127" y="129"/>
                  <a:pt x="125" y="127"/>
                </a:cubicBezTo>
                <a:cubicBezTo>
                  <a:pt x="122" y="121"/>
                  <a:pt x="122" y="115"/>
                  <a:pt x="125" y="112"/>
                </a:cubicBezTo>
                <a:lnTo>
                  <a:pt x="46" y="33"/>
                </a:lnTo>
                <a:cubicBezTo>
                  <a:pt x="34" y="56"/>
                  <a:pt x="37" y="84"/>
                  <a:pt x="54" y="101"/>
                </a:cubicBezTo>
                <a:cubicBezTo>
                  <a:pt x="57" y="104"/>
                  <a:pt x="57" y="104"/>
                  <a:pt x="60" y="107"/>
                </a:cubicBezTo>
                <a:cubicBezTo>
                  <a:pt x="65" y="112"/>
                  <a:pt x="68" y="121"/>
                  <a:pt x="63" y="127"/>
                </a:cubicBezTo>
                <a:cubicBezTo>
                  <a:pt x="57" y="132"/>
                  <a:pt x="48" y="135"/>
                  <a:pt x="43" y="129"/>
                </a:cubicBezTo>
                <a:cubicBezTo>
                  <a:pt x="40" y="127"/>
                  <a:pt x="37" y="124"/>
                  <a:pt x="34" y="121"/>
                </a:cubicBezTo>
                <a:cubicBezTo>
                  <a:pt x="0" y="87"/>
                  <a:pt x="0" y="33"/>
                  <a:pt x="34" y="2"/>
                </a:cubicBezTo>
                <a:cubicBezTo>
                  <a:pt x="37" y="0"/>
                  <a:pt x="40" y="0"/>
                  <a:pt x="46" y="0"/>
                </a:cubicBezTo>
                <a:lnTo>
                  <a:pt x="46" y="0"/>
                </a:lnTo>
                <a:cubicBezTo>
                  <a:pt x="48" y="0"/>
                  <a:pt x="54" y="2"/>
                  <a:pt x="57" y="2"/>
                </a:cubicBezTo>
                <a:lnTo>
                  <a:pt x="156" y="101"/>
                </a:lnTo>
                <a:cubicBezTo>
                  <a:pt x="161" y="107"/>
                  <a:pt x="161" y="115"/>
                  <a:pt x="156" y="121"/>
                </a:cubicBezTo>
                <a:cubicBezTo>
                  <a:pt x="153" y="124"/>
                  <a:pt x="150" y="127"/>
                  <a:pt x="147" y="129"/>
                </a:cubicBezTo>
                <a:cubicBezTo>
                  <a:pt x="142" y="132"/>
                  <a:pt x="139" y="132"/>
                  <a:pt x="136" y="13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14"/>
          <p:cNvSpPr/>
          <p:nvPr/>
        </p:nvSpPr>
        <p:spPr>
          <a:xfrm>
            <a:off x="1474920" y="6053040"/>
            <a:ext cx="81000" cy="135000"/>
          </a:xfrm>
          <a:custGeom>
            <a:avLst/>
            <a:gdLst/>
            <a:ahLst/>
            <a:rect l="l" t="t" r="r" b="b"/>
            <a:pathLst>
              <a:path w="117" h="198">
                <a:moveTo>
                  <a:pt x="102" y="197"/>
                </a:moveTo>
                <a:cubicBezTo>
                  <a:pt x="93" y="197"/>
                  <a:pt x="88" y="192"/>
                  <a:pt x="88" y="183"/>
                </a:cubicBezTo>
                <a:lnTo>
                  <a:pt x="88" y="31"/>
                </a:lnTo>
                <a:cubicBezTo>
                  <a:pt x="60" y="36"/>
                  <a:pt x="37" y="59"/>
                  <a:pt x="31" y="90"/>
                </a:cubicBezTo>
                <a:cubicBezTo>
                  <a:pt x="31" y="98"/>
                  <a:pt x="23" y="104"/>
                  <a:pt x="14" y="101"/>
                </a:cubicBezTo>
                <a:cubicBezTo>
                  <a:pt x="6" y="101"/>
                  <a:pt x="0" y="93"/>
                  <a:pt x="3" y="84"/>
                </a:cubicBezTo>
                <a:cubicBezTo>
                  <a:pt x="9" y="36"/>
                  <a:pt x="51" y="0"/>
                  <a:pt x="102" y="0"/>
                </a:cubicBezTo>
                <a:cubicBezTo>
                  <a:pt x="110" y="0"/>
                  <a:pt x="116" y="5"/>
                  <a:pt x="116" y="14"/>
                </a:cubicBezTo>
                <a:lnTo>
                  <a:pt x="116" y="183"/>
                </a:lnTo>
                <a:cubicBezTo>
                  <a:pt x="116" y="192"/>
                  <a:pt x="110" y="197"/>
                  <a:pt x="102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15"/>
          <p:cNvSpPr/>
          <p:nvPr/>
        </p:nvSpPr>
        <p:spPr>
          <a:xfrm>
            <a:off x="1620720" y="6130800"/>
            <a:ext cx="20880" cy="57240"/>
          </a:xfrm>
          <a:custGeom>
            <a:avLst/>
            <a:gdLst/>
            <a:ahLst/>
            <a:rect l="l" t="t" r="r" b="b"/>
            <a:pathLst>
              <a:path w="29" h="85">
                <a:moveTo>
                  <a:pt x="14" y="84"/>
                </a:move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70"/>
                </a:lnTo>
                <a:cubicBezTo>
                  <a:pt x="28" y="79"/>
                  <a:pt x="22" y="84"/>
                  <a:pt x="14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16"/>
          <p:cNvSpPr/>
          <p:nvPr/>
        </p:nvSpPr>
        <p:spPr>
          <a:xfrm>
            <a:off x="1579680" y="6137280"/>
            <a:ext cx="61920" cy="50760"/>
          </a:xfrm>
          <a:custGeom>
            <a:avLst/>
            <a:gdLst/>
            <a:ahLst/>
            <a:rect l="l" t="t" r="r" b="b"/>
            <a:pathLst>
              <a:path w="92" h="74">
                <a:moveTo>
                  <a:pt x="74" y="73"/>
                </a:moveTo>
                <a:cubicBezTo>
                  <a:pt x="71" y="73"/>
                  <a:pt x="68" y="73"/>
                  <a:pt x="65" y="70"/>
                </a:cubicBezTo>
                <a:lnTo>
                  <a:pt x="9" y="28"/>
                </a:lnTo>
                <a:cubicBezTo>
                  <a:pt x="3" y="22"/>
                  <a:pt x="0" y="14"/>
                  <a:pt x="6" y="8"/>
                </a:cubicBezTo>
                <a:cubicBezTo>
                  <a:pt x="11" y="3"/>
                  <a:pt x="20" y="0"/>
                  <a:pt x="26" y="5"/>
                </a:cubicBezTo>
                <a:lnTo>
                  <a:pt x="82" y="48"/>
                </a:lnTo>
                <a:cubicBezTo>
                  <a:pt x="88" y="53"/>
                  <a:pt x="91" y="62"/>
                  <a:pt x="85" y="68"/>
                </a:cubicBezTo>
                <a:cubicBezTo>
                  <a:pt x="82" y="70"/>
                  <a:pt x="80" y="73"/>
                  <a:pt x="74" y="7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17"/>
          <p:cNvSpPr/>
          <p:nvPr/>
        </p:nvSpPr>
        <p:spPr>
          <a:xfrm>
            <a:off x="1617840" y="6137280"/>
            <a:ext cx="63360" cy="50760"/>
          </a:xfrm>
          <a:custGeom>
            <a:avLst/>
            <a:gdLst/>
            <a:ahLst/>
            <a:rect l="l" t="t" r="r" b="b"/>
            <a:pathLst>
              <a:path w="91" h="74">
                <a:moveTo>
                  <a:pt x="17" y="73"/>
                </a:moveTo>
                <a:cubicBezTo>
                  <a:pt x="11" y="73"/>
                  <a:pt x="8" y="70"/>
                  <a:pt x="6" y="68"/>
                </a:cubicBezTo>
                <a:cubicBezTo>
                  <a:pt x="0" y="62"/>
                  <a:pt x="3" y="53"/>
                  <a:pt x="8" y="48"/>
                </a:cubicBezTo>
                <a:lnTo>
                  <a:pt x="65" y="5"/>
                </a:lnTo>
                <a:cubicBezTo>
                  <a:pt x="71" y="0"/>
                  <a:pt x="79" y="3"/>
                  <a:pt x="85" y="8"/>
                </a:cubicBezTo>
                <a:cubicBezTo>
                  <a:pt x="90" y="14"/>
                  <a:pt x="87" y="22"/>
                  <a:pt x="82" y="28"/>
                </a:cubicBezTo>
                <a:lnTo>
                  <a:pt x="25" y="70"/>
                </a:lnTo>
                <a:cubicBezTo>
                  <a:pt x="23" y="73"/>
                  <a:pt x="20" y="73"/>
                  <a:pt x="17" y="7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18"/>
          <p:cNvSpPr/>
          <p:nvPr/>
        </p:nvSpPr>
        <p:spPr>
          <a:xfrm>
            <a:off x="2282760" y="6035760"/>
            <a:ext cx="152640" cy="58680"/>
          </a:xfrm>
          <a:custGeom>
            <a:avLst/>
            <a:gdLst/>
            <a:ahLst/>
            <a:rect l="l" t="t" r="r" b="b"/>
            <a:pathLst>
              <a:path w="227" h="86">
                <a:moveTo>
                  <a:pt x="212" y="85"/>
                </a:moveTo>
                <a:cubicBezTo>
                  <a:pt x="204" y="85"/>
                  <a:pt x="198" y="79"/>
                  <a:pt x="198" y="71"/>
                </a:cubicBezTo>
                <a:lnTo>
                  <a:pt x="198" y="29"/>
                </a:lnTo>
                <a:lnTo>
                  <a:pt x="29" y="29"/>
                </a:lnTo>
                <a:lnTo>
                  <a:pt x="29" y="71"/>
                </a:lnTo>
                <a:cubicBezTo>
                  <a:pt x="29" y="79"/>
                  <a:pt x="23" y="85"/>
                  <a:pt x="15" y="85"/>
                </a:cubicBezTo>
                <a:cubicBezTo>
                  <a:pt x="6" y="85"/>
                  <a:pt x="0" y="79"/>
                  <a:pt x="0" y="71"/>
                </a:cubicBezTo>
                <a:lnTo>
                  <a:pt x="0" y="29"/>
                </a:lnTo>
                <a:cubicBezTo>
                  <a:pt x="0" y="12"/>
                  <a:pt x="12" y="0"/>
                  <a:pt x="29" y="0"/>
                </a:cubicBezTo>
                <a:lnTo>
                  <a:pt x="198" y="0"/>
                </a:lnTo>
                <a:cubicBezTo>
                  <a:pt x="215" y="0"/>
                  <a:pt x="226" y="12"/>
                  <a:pt x="226" y="29"/>
                </a:cubicBezTo>
                <a:lnTo>
                  <a:pt x="226" y="71"/>
                </a:lnTo>
                <a:cubicBezTo>
                  <a:pt x="226" y="79"/>
                  <a:pt x="221" y="85"/>
                  <a:pt x="212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19"/>
          <p:cNvSpPr/>
          <p:nvPr/>
        </p:nvSpPr>
        <p:spPr>
          <a:xfrm>
            <a:off x="2243160" y="6073920"/>
            <a:ext cx="230040" cy="60120"/>
          </a:xfrm>
          <a:custGeom>
            <a:avLst/>
            <a:gdLst/>
            <a:ahLst/>
            <a:rect l="l" t="t" r="r" b="b"/>
            <a:pathLst>
              <a:path w="340" h="86">
                <a:moveTo>
                  <a:pt x="310" y="85"/>
                </a:moveTo>
                <a:lnTo>
                  <a:pt x="28" y="85"/>
                </a:lnTo>
                <a:cubicBezTo>
                  <a:pt x="11" y="85"/>
                  <a:pt x="0" y="73"/>
                  <a:pt x="0" y="56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310" y="0"/>
                </a:lnTo>
                <a:cubicBezTo>
                  <a:pt x="327" y="0"/>
                  <a:pt x="339" y="11"/>
                  <a:pt x="339" y="28"/>
                </a:cubicBezTo>
                <a:lnTo>
                  <a:pt x="339" y="56"/>
                </a:lnTo>
                <a:cubicBezTo>
                  <a:pt x="339" y="73"/>
                  <a:pt x="327" y="85"/>
                  <a:pt x="310" y="85"/>
                </a:cubicBezTo>
                <a:close/>
                <a:moveTo>
                  <a:pt x="28" y="56"/>
                </a:moveTo>
                <a:lnTo>
                  <a:pt x="310" y="56"/>
                </a:lnTo>
                <a:lnTo>
                  <a:pt x="310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20"/>
          <p:cNvSpPr/>
          <p:nvPr/>
        </p:nvSpPr>
        <p:spPr>
          <a:xfrm>
            <a:off x="2262240" y="6110280"/>
            <a:ext cx="190440" cy="233280"/>
          </a:xfrm>
          <a:custGeom>
            <a:avLst/>
            <a:gdLst/>
            <a:ahLst/>
            <a:rect l="l" t="t" r="r" b="b"/>
            <a:pathLst>
              <a:path w="283" h="343">
                <a:moveTo>
                  <a:pt x="226" y="342"/>
                </a:moveTo>
                <a:lnTo>
                  <a:pt x="57" y="342"/>
                </a:lnTo>
                <a:cubicBezTo>
                  <a:pt x="51" y="342"/>
                  <a:pt x="43" y="336"/>
                  <a:pt x="43" y="331"/>
                </a:cubicBezTo>
                <a:lnTo>
                  <a:pt x="0" y="20"/>
                </a:lnTo>
                <a:cubicBezTo>
                  <a:pt x="0" y="12"/>
                  <a:pt x="6" y="6"/>
                  <a:pt x="11" y="3"/>
                </a:cubicBezTo>
                <a:cubicBezTo>
                  <a:pt x="20" y="0"/>
                  <a:pt x="26" y="9"/>
                  <a:pt x="28" y="15"/>
                </a:cubicBezTo>
                <a:lnTo>
                  <a:pt x="68" y="314"/>
                </a:lnTo>
                <a:lnTo>
                  <a:pt x="212" y="314"/>
                </a:lnTo>
                <a:lnTo>
                  <a:pt x="251" y="15"/>
                </a:lnTo>
                <a:cubicBezTo>
                  <a:pt x="251" y="6"/>
                  <a:pt x="260" y="0"/>
                  <a:pt x="268" y="3"/>
                </a:cubicBezTo>
                <a:cubicBezTo>
                  <a:pt x="277" y="3"/>
                  <a:pt x="282" y="12"/>
                  <a:pt x="280" y="20"/>
                </a:cubicBezTo>
                <a:lnTo>
                  <a:pt x="237" y="331"/>
                </a:lnTo>
                <a:cubicBezTo>
                  <a:pt x="240" y="336"/>
                  <a:pt x="232" y="342"/>
                  <a:pt x="226" y="34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321"/>
          <p:cNvSpPr/>
          <p:nvPr/>
        </p:nvSpPr>
        <p:spPr>
          <a:xfrm>
            <a:off x="2270160" y="6165720"/>
            <a:ext cx="176040" cy="22320"/>
          </a:xfrm>
          <a:custGeom>
            <a:avLst/>
            <a:gdLst/>
            <a:ahLst/>
            <a:rect l="l" t="t" r="r" b="b"/>
            <a:pathLst>
              <a:path w="261" h="29">
                <a:moveTo>
                  <a:pt x="246" y="28"/>
                </a:moveTo>
                <a:lnTo>
                  <a:pt x="15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246" y="0"/>
                </a:lnTo>
                <a:cubicBezTo>
                  <a:pt x="254" y="0"/>
                  <a:pt x="260" y="6"/>
                  <a:pt x="260" y="14"/>
                </a:cubicBezTo>
                <a:cubicBezTo>
                  <a:pt x="260" y="23"/>
                  <a:pt x="254" y="28"/>
                  <a:pt x="246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22"/>
          <p:cNvSpPr/>
          <p:nvPr/>
        </p:nvSpPr>
        <p:spPr>
          <a:xfrm>
            <a:off x="2282760" y="6262560"/>
            <a:ext cx="149400" cy="20880"/>
          </a:xfrm>
          <a:custGeom>
            <a:avLst/>
            <a:gdLst/>
            <a:ahLst/>
            <a:rect l="l" t="t" r="r" b="b"/>
            <a:pathLst>
              <a:path w="221" h="29">
                <a:moveTo>
                  <a:pt x="206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206" y="0"/>
                </a:lnTo>
                <a:cubicBezTo>
                  <a:pt x="215" y="0"/>
                  <a:pt x="220" y="6"/>
                  <a:pt x="220" y="14"/>
                </a:cubicBezTo>
                <a:cubicBezTo>
                  <a:pt x="220" y="23"/>
                  <a:pt x="215" y="28"/>
                  <a:pt x="206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23"/>
          <p:cNvSpPr/>
          <p:nvPr/>
        </p:nvSpPr>
        <p:spPr>
          <a:xfrm>
            <a:off x="2330280" y="6195960"/>
            <a:ext cx="6048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42" y="85"/>
                </a:moveTo>
                <a:cubicBezTo>
                  <a:pt x="20" y="85"/>
                  <a:pt x="0" y="66"/>
                  <a:pt x="0" y="43"/>
                </a:cubicBezTo>
                <a:cubicBezTo>
                  <a:pt x="0" y="21"/>
                  <a:pt x="19" y="0"/>
                  <a:pt x="42" y="0"/>
                </a:cubicBezTo>
                <a:cubicBezTo>
                  <a:pt x="64" y="0"/>
                  <a:pt x="85" y="21"/>
                  <a:pt x="85" y="43"/>
                </a:cubicBezTo>
                <a:cubicBezTo>
                  <a:pt x="85" y="66"/>
                  <a:pt x="65" y="85"/>
                  <a:pt x="42" y="85"/>
                </a:cubicBezTo>
                <a:close/>
                <a:moveTo>
                  <a:pt x="42" y="28"/>
                </a:moveTo>
                <a:cubicBezTo>
                  <a:pt x="34" y="28"/>
                  <a:pt x="28" y="35"/>
                  <a:pt x="28" y="43"/>
                </a:cubicBezTo>
                <a:cubicBezTo>
                  <a:pt x="28" y="52"/>
                  <a:pt x="33" y="57"/>
                  <a:pt x="42" y="57"/>
                </a:cubicBezTo>
                <a:cubicBezTo>
                  <a:pt x="50" y="57"/>
                  <a:pt x="56" y="52"/>
                  <a:pt x="56" y="43"/>
                </a:cubicBezTo>
                <a:cubicBezTo>
                  <a:pt x="56" y="35"/>
                  <a:pt x="51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24"/>
          <p:cNvSpPr/>
          <p:nvPr/>
        </p:nvSpPr>
        <p:spPr>
          <a:xfrm>
            <a:off x="2970360" y="6148440"/>
            <a:ext cx="212400" cy="191880"/>
          </a:xfrm>
          <a:custGeom>
            <a:avLst/>
            <a:gdLst/>
            <a:ahLst/>
            <a:rect l="l" t="t" r="r" b="b"/>
            <a:pathLst>
              <a:path w="312" h="283">
                <a:moveTo>
                  <a:pt x="282" y="282"/>
                </a:moveTo>
                <a:lnTo>
                  <a:pt x="85" y="282"/>
                </a:lnTo>
                <a:cubicBezTo>
                  <a:pt x="68" y="282"/>
                  <a:pt x="57" y="271"/>
                  <a:pt x="57" y="254"/>
                </a:cubicBezTo>
                <a:lnTo>
                  <a:pt x="57" y="62"/>
                </a:lnTo>
                <a:lnTo>
                  <a:pt x="6" y="25"/>
                </a:lnTo>
                <a:cubicBezTo>
                  <a:pt x="0" y="22"/>
                  <a:pt x="0" y="14"/>
                  <a:pt x="0" y="8"/>
                </a:cubicBezTo>
                <a:cubicBezTo>
                  <a:pt x="3" y="3"/>
                  <a:pt x="9" y="0"/>
                  <a:pt x="14" y="0"/>
                </a:cubicBezTo>
                <a:lnTo>
                  <a:pt x="297" y="0"/>
                </a:lnTo>
                <a:cubicBezTo>
                  <a:pt x="305" y="0"/>
                  <a:pt x="311" y="5"/>
                  <a:pt x="311" y="14"/>
                </a:cubicBezTo>
                <a:lnTo>
                  <a:pt x="311" y="254"/>
                </a:lnTo>
                <a:cubicBezTo>
                  <a:pt x="311" y="271"/>
                  <a:pt x="299" y="282"/>
                  <a:pt x="282" y="282"/>
                </a:cubicBezTo>
                <a:close/>
                <a:moveTo>
                  <a:pt x="57" y="28"/>
                </a:moveTo>
                <a:lnTo>
                  <a:pt x="79" y="45"/>
                </a:lnTo>
                <a:cubicBezTo>
                  <a:pt x="82" y="48"/>
                  <a:pt x="85" y="51"/>
                  <a:pt x="85" y="56"/>
                </a:cubicBezTo>
                <a:lnTo>
                  <a:pt x="85" y="254"/>
                </a:lnTo>
                <a:lnTo>
                  <a:pt x="282" y="254"/>
                </a:lnTo>
                <a:lnTo>
                  <a:pt x="282" y="28"/>
                </a:lnTo>
                <a:lnTo>
                  <a:pt x="5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325"/>
          <p:cNvSpPr/>
          <p:nvPr/>
        </p:nvSpPr>
        <p:spPr>
          <a:xfrm>
            <a:off x="3065400" y="6035760"/>
            <a:ext cx="60480" cy="5868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85"/>
                </a:moveTo>
                <a:cubicBezTo>
                  <a:pt x="20" y="85"/>
                  <a:pt x="0" y="66"/>
                  <a:pt x="0" y="43"/>
                </a:cubicBezTo>
                <a:cubicBezTo>
                  <a:pt x="0" y="21"/>
                  <a:pt x="20" y="0"/>
                  <a:pt x="43" y="0"/>
                </a:cubicBezTo>
                <a:cubicBezTo>
                  <a:pt x="65" y="0"/>
                  <a:pt x="85" y="21"/>
                  <a:pt x="85" y="43"/>
                </a:cubicBezTo>
                <a:cubicBezTo>
                  <a:pt x="85" y="66"/>
                  <a:pt x="65" y="85"/>
                  <a:pt x="43" y="85"/>
                </a:cubicBezTo>
                <a:close/>
                <a:moveTo>
                  <a:pt x="43" y="29"/>
                </a:moveTo>
                <a:cubicBezTo>
                  <a:pt x="34" y="29"/>
                  <a:pt x="29" y="35"/>
                  <a:pt x="29" y="43"/>
                </a:cubicBezTo>
                <a:cubicBezTo>
                  <a:pt x="29" y="52"/>
                  <a:pt x="34" y="57"/>
                  <a:pt x="43" y="57"/>
                </a:cubicBezTo>
                <a:cubicBezTo>
                  <a:pt x="51" y="57"/>
                  <a:pt x="57" y="52"/>
                  <a:pt x="57" y="43"/>
                </a:cubicBezTo>
                <a:cubicBezTo>
                  <a:pt x="57" y="35"/>
                  <a:pt x="51" y="29"/>
                  <a:pt x="43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26"/>
          <p:cNvSpPr/>
          <p:nvPr/>
        </p:nvSpPr>
        <p:spPr>
          <a:xfrm>
            <a:off x="3009960" y="6073920"/>
            <a:ext cx="172800" cy="60120"/>
          </a:xfrm>
          <a:custGeom>
            <a:avLst/>
            <a:gdLst/>
            <a:ahLst/>
            <a:rect l="l" t="t" r="r" b="b"/>
            <a:pathLst>
              <a:path w="255" h="86">
                <a:moveTo>
                  <a:pt x="240" y="85"/>
                </a:moveTo>
                <a:lnTo>
                  <a:pt x="14" y="85"/>
                </a:lnTo>
                <a:cubicBezTo>
                  <a:pt x="5" y="85"/>
                  <a:pt x="0" y="79"/>
                  <a:pt x="0" y="70"/>
                </a:cubicBezTo>
                <a:cubicBezTo>
                  <a:pt x="0" y="31"/>
                  <a:pt x="31" y="0"/>
                  <a:pt x="70" y="0"/>
                </a:cubicBezTo>
                <a:lnTo>
                  <a:pt x="183" y="0"/>
                </a:lnTo>
                <a:cubicBezTo>
                  <a:pt x="223" y="0"/>
                  <a:pt x="254" y="31"/>
                  <a:pt x="254" y="70"/>
                </a:cubicBezTo>
                <a:cubicBezTo>
                  <a:pt x="254" y="79"/>
                  <a:pt x="248" y="85"/>
                  <a:pt x="240" y="85"/>
                </a:cubicBezTo>
                <a:close/>
                <a:moveTo>
                  <a:pt x="31" y="56"/>
                </a:moveTo>
                <a:lnTo>
                  <a:pt x="223" y="56"/>
                </a:lnTo>
                <a:cubicBezTo>
                  <a:pt x="217" y="39"/>
                  <a:pt x="200" y="28"/>
                  <a:pt x="183" y="28"/>
                </a:cubicBezTo>
                <a:lnTo>
                  <a:pt x="70" y="28"/>
                </a:lnTo>
                <a:cubicBezTo>
                  <a:pt x="51" y="28"/>
                  <a:pt x="36" y="39"/>
                  <a:pt x="31" y="5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327"/>
          <p:cNvSpPr/>
          <p:nvPr/>
        </p:nvSpPr>
        <p:spPr>
          <a:xfrm>
            <a:off x="3087720" y="6110280"/>
            <a:ext cx="20520" cy="173160"/>
          </a:xfrm>
          <a:custGeom>
            <a:avLst/>
            <a:gdLst/>
            <a:ahLst/>
            <a:rect l="l" t="t" r="r" b="b"/>
            <a:pathLst>
              <a:path w="29" h="255">
                <a:moveTo>
                  <a:pt x="14" y="254"/>
                </a:moveTo>
                <a:cubicBezTo>
                  <a:pt x="5" y="254"/>
                  <a:pt x="0" y="249"/>
                  <a:pt x="0" y="240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240"/>
                </a:lnTo>
                <a:cubicBezTo>
                  <a:pt x="28" y="249"/>
                  <a:pt x="22" y="254"/>
                  <a:pt x="14" y="25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28"/>
          <p:cNvSpPr/>
          <p:nvPr/>
        </p:nvSpPr>
        <p:spPr>
          <a:xfrm>
            <a:off x="3048120" y="6262560"/>
            <a:ext cx="95040" cy="2088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6"/>
                  <a:pt x="141" y="14"/>
                </a:cubicBezTo>
                <a:cubicBezTo>
                  <a:pt x="141" y="23"/>
                  <a:pt x="136" y="28"/>
                  <a:pt x="12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329"/>
          <p:cNvSpPr/>
          <p:nvPr/>
        </p:nvSpPr>
        <p:spPr>
          <a:xfrm>
            <a:off x="3162240" y="6148440"/>
            <a:ext cx="95400" cy="135000"/>
          </a:xfrm>
          <a:custGeom>
            <a:avLst/>
            <a:gdLst/>
            <a:ahLst/>
            <a:rect l="l" t="t" r="r" b="b"/>
            <a:pathLst>
              <a:path w="143" h="198">
                <a:moveTo>
                  <a:pt x="71" y="197"/>
                </a:moveTo>
                <a:lnTo>
                  <a:pt x="15" y="197"/>
                </a:ln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6" y="0"/>
                  <a:pt x="15" y="0"/>
                </a:cubicBezTo>
                <a:lnTo>
                  <a:pt x="71" y="0"/>
                </a:lnTo>
                <a:cubicBezTo>
                  <a:pt x="111" y="0"/>
                  <a:pt x="142" y="31"/>
                  <a:pt x="142" y="70"/>
                </a:cubicBezTo>
                <a:lnTo>
                  <a:pt x="142" y="127"/>
                </a:lnTo>
                <a:cubicBezTo>
                  <a:pt x="142" y="166"/>
                  <a:pt x="111" y="197"/>
                  <a:pt x="71" y="197"/>
                </a:cubicBezTo>
                <a:close/>
                <a:moveTo>
                  <a:pt x="29" y="169"/>
                </a:moveTo>
                <a:lnTo>
                  <a:pt x="71" y="169"/>
                </a:lnTo>
                <a:cubicBezTo>
                  <a:pt x="94" y="169"/>
                  <a:pt x="113" y="149"/>
                  <a:pt x="113" y="127"/>
                </a:cubicBezTo>
                <a:lnTo>
                  <a:pt x="113" y="70"/>
                </a:lnTo>
                <a:cubicBezTo>
                  <a:pt x="113" y="48"/>
                  <a:pt x="94" y="28"/>
                  <a:pt x="71" y="28"/>
                </a:cubicBezTo>
                <a:lnTo>
                  <a:pt x="29" y="28"/>
                </a:lnTo>
                <a:lnTo>
                  <a:pt x="29" y="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330"/>
          <p:cNvSpPr/>
          <p:nvPr/>
        </p:nvSpPr>
        <p:spPr>
          <a:xfrm>
            <a:off x="3754440" y="6124680"/>
            <a:ext cx="212760" cy="215640"/>
          </a:xfrm>
          <a:custGeom>
            <a:avLst/>
            <a:gdLst/>
            <a:ahLst/>
            <a:rect l="l" t="t" r="r" b="b"/>
            <a:pathLst>
              <a:path w="312" h="317">
                <a:moveTo>
                  <a:pt x="254" y="316"/>
                </a:moveTo>
                <a:lnTo>
                  <a:pt x="57" y="316"/>
                </a:lnTo>
                <a:cubicBezTo>
                  <a:pt x="26" y="316"/>
                  <a:pt x="0" y="291"/>
                  <a:pt x="0" y="259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9" y="6"/>
                  <a:pt x="29" y="14"/>
                </a:cubicBezTo>
                <a:lnTo>
                  <a:pt x="29" y="259"/>
                </a:lnTo>
                <a:cubicBezTo>
                  <a:pt x="29" y="276"/>
                  <a:pt x="40" y="288"/>
                  <a:pt x="57" y="288"/>
                </a:cubicBezTo>
                <a:lnTo>
                  <a:pt x="254" y="288"/>
                </a:lnTo>
                <a:cubicBezTo>
                  <a:pt x="271" y="288"/>
                  <a:pt x="282" y="276"/>
                  <a:pt x="282" y="259"/>
                </a:cubicBezTo>
                <a:lnTo>
                  <a:pt x="282" y="14"/>
                </a:lnTo>
                <a:cubicBezTo>
                  <a:pt x="282" y="6"/>
                  <a:pt x="288" y="0"/>
                  <a:pt x="297" y="0"/>
                </a:cubicBezTo>
                <a:cubicBezTo>
                  <a:pt x="305" y="0"/>
                  <a:pt x="311" y="6"/>
                  <a:pt x="311" y="14"/>
                </a:cubicBezTo>
                <a:lnTo>
                  <a:pt x="311" y="259"/>
                </a:lnTo>
                <a:cubicBezTo>
                  <a:pt x="311" y="291"/>
                  <a:pt x="285" y="316"/>
                  <a:pt x="254" y="31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31"/>
          <p:cNvSpPr/>
          <p:nvPr/>
        </p:nvSpPr>
        <p:spPr>
          <a:xfrm>
            <a:off x="3944880" y="6148440"/>
            <a:ext cx="77760" cy="135000"/>
          </a:xfrm>
          <a:custGeom>
            <a:avLst/>
            <a:gdLst/>
            <a:ahLst/>
            <a:rect l="l" t="t" r="r" b="b"/>
            <a:pathLst>
              <a:path w="114" h="198">
                <a:moveTo>
                  <a:pt x="71" y="197"/>
                </a:moveTo>
                <a:lnTo>
                  <a:pt x="15" y="197"/>
                </a:lnTo>
                <a:cubicBezTo>
                  <a:pt x="6" y="197"/>
                  <a:pt x="0" y="192"/>
                  <a:pt x="0" y="183"/>
                </a:cubicBezTo>
                <a:cubicBezTo>
                  <a:pt x="0" y="175"/>
                  <a:pt x="6" y="169"/>
                  <a:pt x="15" y="169"/>
                </a:cubicBezTo>
                <a:lnTo>
                  <a:pt x="71" y="169"/>
                </a:lnTo>
                <a:cubicBezTo>
                  <a:pt x="80" y="169"/>
                  <a:pt x="85" y="163"/>
                  <a:pt x="85" y="155"/>
                </a:cubicBezTo>
                <a:lnTo>
                  <a:pt x="85" y="42"/>
                </a:lnTo>
                <a:cubicBezTo>
                  <a:pt x="85" y="34"/>
                  <a:pt x="80" y="28"/>
                  <a:pt x="71" y="28"/>
                </a:cubicBezTo>
                <a:lnTo>
                  <a:pt x="15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71" y="0"/>
                </a:lnTo>
                <a:cubicBezTo>
                  <a:pt x="94" y="0"/>
                  <a:pt x="113" y="19"/>
                  <a:pt x="113" y="42"/>
                </a:cubicBezTo>
                <a:lnTo>
                  <a:pt x="113" y="155"/>
                </a:lnTo>
                <a:cubicBezTo>
                  <a:pt x="113" y="178"/>
                  <a:pt x="94" y="197"/>
                  <a:pt x="71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32"/>
          <p:cNvSpPr/>
          <p:nvPr/>
        </p:nvSpPr>
        <p:spPr>
          <a:xfrm>
            <a:off x="3745080" y="6035760"/>
            <a:ext cx="230040" cy="172800"/>
          </a:xfrm>
          <a:custGeom>
            <a:avLst/>
            <a:gdLst/>
            <a:ahLst/>
            <a:rect l="l" t="t" r="r" b="b"/>
            <a:pathLst>
              <a:path w="340" h="255">
                <a:moveTo>
                  <a:pt x="113" y="254"/>
                </a:moveTo>
                <a:cubicBezTo>
                  <a:pt x="90" y="254"/>
                  <a:pt x="71" y="235"/>
                  <a:pt x="71" y="212"/>
                </a:cubicBezTo>
                <a:lnTo>
                  <a:pt x="71" y="184"/>
                </a:lnTo>
                <a:cubicBezTo>
                  <a:pt x="31" y="184"/>
                  <a:pt x="0" y="153"/>
                  <a:pt x="0" y="113"/>
                </a:cubicBezTo>
                <a:cubicBezTo>
                  <a:pt x="0" y="74"/>
                  <a:pt x="31" y="43"/>
                  <a:pt x="71" y="43"/>
                </a:cubicBezTo>
                <a:cubicBezTo>
                  <a:pt x="82" y="43"/>
                  <a:pt x="93" y="46"/>
                  <a:pt x="102" y="51"/>
                </a:cubicBezTo>
                <a:cubicBezTo>
                  <a:pt x="110" y="23"/>
                  <a:pt x="138" y="0"/>
                  <a:pt x="170" y="0"/>
                </a:cubicBezTo>
                <a:cubicBezTo>
                  <a:pt x="201" y="0"/>
                  <a:pt x="229" y="20"/>
                  <a:pt x="237" y="51"/>
                </a:cubicBezTo>
                <a:cubicBezTo>
                  <a:pt x="246" y="46"/>
                  <a:pt x="257" y="43"/>
                  <a:pt x="268" y="43"/>
                </a:cubicBezTo>
                <a:cubicBezTo>
                  <a:pt x="308" y="43"/>
                  <a:pt x="339" y="74"/>
                  <a:pt x="339" y="113"/>
                </a:cubicBezTo>
                <a:cubicBezTo>
                  <a:pt x="339" y="153"/>
                  <a:pt x="308" y="184"/>
                  <a:pt x="268" y="184"/>
                </a:cubicBezTo>
                <a:cubicBezTo>
                  <a:pt x="257" y="184"/>
                  <a:pt x="246" y="181"/>
                  <a:pt x="234" y="175"/>
                </a:cubicBezTo>
                <a:cubicBezTo>
                  <a:pt x="215" y="198"/>
                  <a:pt x="181" y="204"/>
                  <a:pt x="155" y="192"/>
                </a:cubicBezTo>
                <a:lnTo>
                  <a:pt x="155" y="212"/>
                </a:lnTo>
                <a:cubicBezTo>
                  <a:pt x="155" y="235"/>
                  <a:pt x="136" y="254"/>
                  <a:pt x="113" y="254"/>
                </a:cubicBezTo>
                <a:close/>
                <a:moveTo>
                  <a:pt x="85" y="153"/>
                </a:moveTo>
                <a:cubicBezTo>
                  <a:pt x="88" y="153"/>
                  <a:pt x="90" y="153"/>
                  <a:pt x="93" y="156"/>
                </a:cubicBezTo>
                <a:cubicBezTo>
                  <a:pt x="96" y="158"/>
                  <a:pt x="99" y="161"/>
                  <a:pt x="99" y="167"/>
                </a:cubicBezTo>
                <a:lnTo>
                  <a:pt x="99" y="212"/>
                </a:lnTo>
                <a:cubicBezTo>
                  <a:pt x="99" y="221"/>
                  <a:pt x="104" y="226"/>
                  <a:pt x="113" y="226"/>
                </a:cubicBezTo>
                <a:cubicBezTo>
                  <a:pt x="121" y="226"/>
                  <a:pt x="127" y="221"/>
                  <a:pt x="127" y="212"/>
                </a:cubicBezTo>
                <a:lnTo>
                  <a:pt x="127" y="164"/>
                </a:lnTo>
                <a:cubicBezTo>
                  <a:pt x="127" y="158"/>
                  <a:pt x="130" y="153"/>
                  <a:pt x="136" y="150"/>
                </a:cubicBezTo>
                <a:cubicBezTo>
                  <a:pt x="141" y="147"/>
                  <a:pt x="147" y="150"/>
                  <a:pt x="153" y="153"/>
                </a:cubicBezTo>
                <a:cubicBezTo>
                  <a:pt x="170" y="173"/>
                  <a:pt x="206" y="170"/>
                  <a:pt x="220" y="147"/>
                </a:cubicBezTo>
                <a:cubicBezTo>
                  <a:pt x="223" y="144"/>
                  <a:pt x="226" y="142"/>
                  <a:pt x="229" y="142"/>
                </a:cubicBezTo>
                <a:cubicBezTo>
                  <a:pt x="232" y="142"/>
                  <a:pt x="237" y="142"/>
                  <a:pt x="240" y="144"/>
                </a:cubicBezTo>
                <a:cubicBezTo>
                  <a:pt x="249" y="150"/>
                  <a:pt x="257" y="153"/>
                  <a:pt x="268" y="153"/>
                </a:cubicBezTo>
                <a:cubicBezTo>
                  <a:pt x="291" y="153"/>
                  <a:pt x="311" y="133"/>
                  <a:pt x="311" y="110"/>
                </a:cubicBezTo>
                <a:cubicBezTo>
                  <a:pt x="311" y="88"/>
                  <a:pt x="291" y="68"/>
                  <a:pt x="268" y="68"/>
                </a:cubicBezTo>
                <a:cubicBezTo>
                  <a:pt x="257" y="68"/>
                  <a:pt x="246" y="74"/>
                  <a:pt x="237" y="82"/>
                </a:cubicBezTo>
                <a:cubicBezTo>
                  <a:pt x="234" y="88"/>
                  <a:pt x="225" y="88"/>
                  <a:pt x="220" y="85"/>
                </a:cubicBezTo>
                <a:cubicBezTo>
                  <a:pt x="214" y="82"/>
                  <a:pt x="212" y="77"/>
                  <a:pt x="212" y="71"/>
                </a:cubicBezTo>
                <a:lnTo>
                  <a:pt x="212" y="68"/>
                </a:lnTo>
                <a:cubicBezTo>
                  <a:pt x="212" y="46"/>
                  <a:pt x="192" y="26"/>
                  <a:pt x="170" y="26"/>
                </a:cubicBezTo>
                <a:cubicBezTo>
                  <a:pt x="147" y="26"/>
                  <a:pt x="127" y="46"/>
                  <a:pt x="127" y="68"/>
                </a:cubicBezTo>
                <a:lnTo>
                  <a:pt x="127" y="71"/>
                </a:lnTo>
                <a:cubicBezTo>
                  <a:pt x="127" y="77"/>
                  <a:pt x="124" y="82"/>
                  <a:pt x="119" y="85"/>
                </a:cubicBezTo>
                <a:cubicBezTo>
                  <a:pt x="113" y="88"/>
                  <a:pt x="107" y="85"/>
                  <a:pt x="102" y="82"/>
                </a:cubicBezTo>
                <a:cubicBezTo>
                  <a:pt x="93" y="74"/>
                  <a:pt x="82" y="68"/>
                  <a:pt x="71" y="68"/>
                </a:cubicBezTo>
                <a:cubicBezTo>
                  <a:pt x="48" y="68"/>
                  <a:pt x="28" y="88"/>
                  <a:pt x="28" y="110"/>
                </a:cubicBezTo>
                <a:cubicBezTo>
                  <a:pt x="28" y="133"/>
                  <a:pt x="48" y="153"/>
                  <a:pt x="71" y="153"/>
                </a:cubicBezTo>
                <a:cubicBezTo>
                  <a:pt x="74" y="153"/>
                  <a:pt x="79" y="153"/>
                  <a:pt x="82" y="153"/>
                </a:cubicBezTo>
                <a:cubicBezTo>
                  <a:pt x="82" y="153"/>
                  <a:pt x="82" y="153"/>
                  <a:pt x="85" y="1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33"/>
          <p:cNvSpPr/>
          <p:nvPr/>
        </p:nvSpPr>
        <p:spPr>
          <a:xfrm>
            <a:off x="3889440" y="6188040"/>
            <a:ext cx="20520" cy="95400"/>
          </a:xfrm>
          <a:custGeom>
            <a:avLst/>
            <a:gdLst/>
            <a:ahLst/>
            <a:rect l="l" t="t" r="r" b="b"/>
            <a:pathLst>
              <a:path w="29" h="142">
                <a:moveTo>
                  <a:pt x="14" y="141"/>
                </a:moveTo>
                <a:cubicBezTo>
                  <a:pt x="5" y="141"/>
                  <a:pt x="0" y="136"/>
                  <a:pt x="0" y="127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127"/>
                </a:lnTo>
                <a:cubicBezTo>
                  <a:pt x="28" y="136"/>
                  <a:pt x="22" y="141"/>
                  <a:pt x="1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34"/>
          <p:cNvSpPr/>
          <p:nvPr/>
        </p:nvSpPr>
        <p:spPr>
          <a:xfrm>
            <a:off x="3813120" y="6188040"/>
            <a:ext cx="22320" cy="95400"/>
          </a:xfrm>
          <a:custGeom>
            <a:avLst/>
            <a:gdLst/>
            <a:ahLst/>
            <a:rect l="l" t="t" r="r" b="b"/>
            <a:pathLst>
              <a:path w="29" h="142">
                <a:moveTo>
                  <a:pt x="14" y="141"/>
                </a:moveTo>
                <a:cubicBezTo>
                  <a:pt x="6" y="141"/>
                  <a:pt x="0" y="136"/>
                  <a:pt x="0" y="127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127"/>
                </a:lnTo>
                <a:cubicBezTo>
                  <a:pt x="28" y="136"/>
                  <a:pt x="23" y="141"/>
                  <a:pt x="1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35"/>
          <p:cNvSpPr/>
          <p:nvPr/>
        </p:nvSpPr>
        <p:spPr>
          <a:xfrm>
            <a:off x="4519440" y="6148440"/>
            <a:ext cx="212760" cy="173160"/>
          </a:xfrm>
          <a:custGeom>
            <a:avLst/>
            <a:gdLst/>
            <a:ahLst/>
            <a:rect l="l" t="t" r="r" b="b"/>
            <a:pathLst>
              <a:path w="311" h="255">
                <a:moveTo>
                  <a:pt x="184" y="254"/>
                </a:moveTo>
                <a:lnTo>
                  <a:pt x="127" y="254"/>
                </a:lnTo>
                <a:cubicBezTo>
                  <a:pt x="57" y="254"/>
                  <a:pt x="0" y="197"/>
                  <a:pt x="0" y="127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296" y="0"/>
                </a:lnTo>
                <a:cubicBezTo>
                  <a:pt x="305" y="0"/>
                  <a:pt x="310" y="5"/>
                  <a:pt x="310" y="14"/>
                </a:cubicBezTo>
                <a:lnTo>
                  <a:pt x="310" y="127"/>
                </a:lnTo>
                <a:cubicBezTo>
                  <a:pt x="310" y="197"/>
                  <a:pt x="254" y="254"/>
                  <a:pt x="184" y="254"/>
                </a:cubicBezTo>
                <a:close/>
                <a:moveTo>
                  <a:pt x="28" y="28"/>
                </a:moveTo>
                <a:lnTo>
                  <a:pt x="28" y="127"/>
                </a:lnTo>
                <a:cubicBezTo>
                  <a:pt x="28" y="180"/>
                  <a:pt x="73" y="225"/>
                  <a:pt x="127" y="225"/>
                </a:cubicBezTo>
                <a:lnTo>
                  <a:pt x="184" y="225"/>
                </a:lnTo>
                <a:cubicBezTo>
                  <a:pt x="237" y="225"/>
                  <a:pt x="282" y="180"/>
                  <a:pt x="282" y="127"/>
                </a:cubicBezTo>
                <a:lnTo>
                  <a:pt x="282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36"/>
          <p:cNvSpPr/>
          <p:nvPr/>
        </p:nvSpPr>
        <p:spPr>
          <a:xfrm>
            <a:off x="4711680" y="6165720"/>
            <a:ext cx="98280" cy="96840"/>
          </a:xfrm>
          <a:custGeom>
            <a:avLst/>
            <a:gdLst/>
            <a:ahLst/>
            <a:rect l="l" t="t" r="r" b="b"/>
            <a:pathLst>
              <a:path w="145" h="142">
                <a:moveTo>
                  <a:pt x="74" y="141"/>
                </a:moveTo>
                <a:lnTo>
                  <a:pt x="15" y="141"/>
                </a:lnTo>
                <a:cubicBezTo>
                  <a:pt x="6" y="141"/>
                  <a:pt x="0" y="136"/>
                  <a:pt x="0" y="127"/>
                </a:cubicBezTo>
                <a:cubicBezTo>
                  <a:pt x="0" y="119"/>
                  <a:pt x="6" y="113"/>
                  <a:pt x="15" y="113"/>
                </a:cubicBezTo>
                <a:lnTo>
                  <a:pt x="74" y="113"/>
                </a:lnTo>
                <a:cubicBezTo>
                  <a:pt x="85" y="113"/>
                  <a:pt x="96" y="107"/>
                  <a:pt x="105" y="102"/>
                </a:cubicBezTo>
                <a:cubicBezTo>
                  <a:pt x="113" y="93"/>
                  <a:pt x="116" y="82"/>
                  <a:pt x="116" y="70"/>
                </a:cubicBezTo>
                <a:cubicBezTo>
                  <a:pt x="116" y="48"/>
                  <a:pt x="96" y="28"/>
                  <a:pt x="74" y="28"/>
                </a:cubicBezTo>
                <a:lnTo>
                  <a:pt x="17" y="28"/>
                </a:lnTo>
                <a:cubicBezTo>
                  <a:pt x="9" y="28"/>
                  <a:pt x="3" y="23"/>
                  <a:pt x="3" y="14"/>
                </a:cubicBezTo>
                <a:cubicBezTo>
                  <a:pt x="3" y="6"/>
                  <a:pt x="9" y="0"/>
                  <a:pt x="17" y="0"/>
                </a:cubicBezTo>
                <a:lnTo>
                  <a:pt x="74" y="0"/>
                </a:lnTo>
                <a:cubicBezTo>
                  <a:pt x="113" y="0"/>
                  <a:pt x="144" y="31"/>
                  <a:pt x="144" y="70"/>
                </a:cubicBezTo>
                <a:cubicBezTo>
                  <a:pt x="144" y="90"/>
                  <a:pt x="136" y="107"/>
                  <a:pt x="125" y="121"/>
                </a:cubicBezTo>
                <a:cubicBezTo>
                  <a:pt x="111" y="133"/>
                  <a:pt x="94" y="141"/>
                  <a:pt x="7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37"/>
          <p:cNvSpPr/>
          <p:nvPr/>
        </p:nvSpPr>
        <p:spPr>
          <a:xfrm>
            <a:off x="4540320" y="6049800"/>
            <a:ext cx="174600" cy="115920"/>
          </a:xfrm>
          <a:custGeom>
            <a:avLst/>
            <a:gdLst/>
            <a:ahLst/>
            <a:rect l="l" t="t" r="r" b="b"/>
            <a:pathLst>
              <a:path w="255" h="173">
                <a:moveTo>
                  <a:pt x="240" y="172"/>
                </a:moveTo>
                <a:lnTo>
                  <a:pt x="14" y="172"/>
                </a:lnTo>
                <a:cubicBezTo>
                  <a:pt x="6" y="172"/>
                  <a:pt x="0" y="166"/>
                  <a:pt x="0" y="158"/>
                </a:cubicBezTo>
                <a:lnTo>
                  <a:pt x="0" y="144"/>
                </a:lnTo>
                <a:cubicBezTo>
                  <a:pt x="0" y="113"/>
                  <a:pt x="26" y="87"/>
                  <a:pt x="57" y="87"/>
                </a:cubicBezTo>
                <a:cubicBezTo>
                  <a:pt x="57" y="65"/>
                  <a:pt x="71" y="45"/>
                  <a:pt x="91" y="36"/>
                </a:cubicBezTo>
                <a:cubicBezTo>
                  <a:pt x="88" y="28"/>
                  <a:pt x="88" y="22"/>
                  <a:pt x="88" y="22"/>
                </a:cubicBezTo>
                <a:cubicBezTo>
                  <a:pt x="85" y="17"/>
                  <a:pt x="88" y="11"/>
                  <a:pt x="91" y="5"/>
                </a:cubicBezTo>
                <a:cubicBezTo>
                  <a:pt x="96" y="3"/>
                  <a:pt x="102" y="0"/>
                  <a:pt x="108" y="5"/>
                </a:cubicBezTo>
                <a:cubicBezTo>
                  <a:pt x="108" y="5"/>
                  <a:pt x="124" y="17"/>
                  <a:pt x="139" y="31"/>
                </a:cubicBezTo>
                <a:lnTo>
                  <a:pt x="141" y="31"/>
                </a:lnTo>
                <a:cubicBezTo>
                  <a:pt x="172" y="31"/>
                  <a:pt x="198" y="56"/>
                  <a:pt x="198" y="87"/>
                </a:cubicBezTo>
                <a:cubicBezTo>
                  <a:pt x="229" y="87"/>
                  <a:pt x="254" y="113"/>
                  <a:pt x="254" y="144"/>
                </a:cubicBezTo>
                <a:lnTo>
                  <a:pt x="254" y="158"/>
                </a:lnTo>
                <a:cubicBezTo>
                  <a:pt x="254" y="166"/>
                  <a:pt x="249" y="172"/>
                  <a:pt x="240" y="172"/>
                </a:cubicBezTo>
                <a:close/>
                <a:moveTo>
                  <a:pt x="29" y="144"/>
                </a:moveTo>
                <a:lnTo>
                  <a:pt x="226" y="144"/>
                </a:lnTo>
                <a:cubicBezTo>
                  <a:pt x="226" y="127"/>
                  <a:pt x="215" y="116"/>
                  <a:pt x="198" y="116"/>
                </a:cubicBezTo>
                <a:lnTo>
                  <a:pt x="184" y="116"/>
                </a:lnTo>
                <a:cubicBezTo>
                  <a:pt x="175" y="116"/>
                  <a:pt x="170" y="110"/>
                  <a:pt x="170" y="101"/>
                </a:cubicBezTo>
                <a:lnTo>
                  <a:pt x="170" y="87"/>
                </a:lnTo>
                <a:cubicBezTo>
                  <a:pt x="170" y="70"/>
                  <a:pt x="158" y="59"/>
                  <a:pt x="141" y="59"/>
                </a:cubicBezTo>
                <a:lnTo>
                  <a:pt x="133" y="59"/>
                </a:lnTo>
                <a:cubicBezTo>
                  <a:pt x="130" y="59"/>
                  <a:pt x="124" y="56"/>
                  <a:pt x="122" y="53"/>
                </a:cubicBezTo>
                <a:lnTo>
                  <a:pt x="119" y="51"/>
                </a:lnTo>
                <a:cubicBezTo>
                  <a:pt x="116" y="56"/>
                  <a:pt x="113" y="59"/>
                  <a:pt x="108" y="59"/>
                </a:cubicBezTo>
                <a:cubicBezTo>
                  <a:pt x="93" y="62"/>
                  <a:pt x="85" y="73"/>
                  <a:pt x="85" y="87"/>
                </a:cubicBezTo>
                <a:lnTo>
                  <a:pt x="85" y="101"/>
                </a:lnTo>
                <a:cubicBezTo>
                  <a:pt x="85" y="110"/>
                  <a:pt x="79" y="116"/>
                  <a:pt x="71" y="116"/>
                </a:cubicBezTo>
                <a:lnTo>
                  <a:pt x="57" y="116"/>
                </a:lnTo>
                <a:cubicBezTo>
                  <a:pt x="40" y="116"/>
                  <a:pt x="29" y="130"/>
                  <a:pt x="29" y="1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38"/>
          <p:cNvSpPr/>
          <p:nvPr/>
        </p:nvSpPr>
        <p:spPr>
          <a:xfrm>
            <a:off x="5267160" y="6091200"/>
            <a:ext cx="308160" cy="192240"/>
          </a:xfrm>
          <a:custGeom>
            <a:avLst/>
            <a:gdLst/>
            <a:ahLst/>
            <a:rect l="l" t="t" r="r" b="b"/>
            <a:pathLst>
              <a:path w="452" h="283">
                <a:moveTo>
                  <a:pt x="366" y="282"/>
                </a:moveTo>
                <a:lnTo>
                  <a:pt x="98" y="282"/>
                </a:lnTo>
                <a:cubicBezTo>
                  <a:pt x="45" y="282"/>
                  <a:pt x="0" y="237"/>
                  <a:pt x="0" y="183"/>
                </a:cubicBezTo>
                <a:cubicBezTo>
                  <a:pt x="0" y="130"/>
                  <a:pt x="42" y="85"/>
                  <a:pt x="96" y="85"/>
                </a:cubicBezTo>
                <a:cubicBezTo>
                  <a:pt x="118" y="34"/>
                  <a:pt x="169" y="0"/>
                  <a:pt x="225" y="0"/>
                </a:cubicBezTo>
                <a:cubicBezTo>
                  <a:pt x="293" y="0"/>
                  <a:pt x="350" y="48"/>
                  <a:pt x="364" y="113"/>
                </a:cubicBezTo>
                <a:cubicBezTo>
                  <a:pt x="412" y="113"/>
                  <a:pt x="451" y="150"/>
                  <a:pt x="451" y="198"/>
                </a:cubicBezTo>
                <a:cubicBezTo>
                  <a:pt x="451" y="246"/>
                  <a:pt x="414" y="282"/>
                  <a:pt x="366" y="282"/>
                </a:cubicBezTo>
                <a:close/>
                <a:moveTo>
                  <a:pt x="98" y="113"/>
                </a:moveTo>
                <a:cubicBezTo>
                  <a:pt x="59" y="113"/>
                  <a:pt x="28" y="144"/>
                  <a:pt x="28" y="183"/>
                </a:cubicBezTo>
                <a:cubicBezTo>
                  <a:pt x="28" y="223"/>
                  <a:pt x="59" y="254"/>
                  <a:pt x="98" y="254"/>
                </a:cubicBezTo>
                <a:lnTo>
                  <a:pt x="366" y="254"/>
                </a:lnTo>
                <a:cubicBezTo>
                  <a:pt x="398" y="254"/>
                  <a:pt x="423" y="229"/>
                  <a:pt x="423" y="198"/>
                </a:cubicBezTo>
                <a:cubicBezTo>
                  <a:pt x="423" y="167"/>
                  <a:pt x="398" y="141"/>
                  <a:pt x="366" y="141"/>
                </a:cubicBezTo>
                <a:cubicBezTo>
                  <a:pt x="364" y="141"/>
                  <a:pt x="358" y="141"/>
                  <a:pt x="355" y="141"/>
                </a:cubicBezTo>
                <a:cubicBezTo>
                  <a:pt x="352" y="141"/>
                  <a:pt x="347" y="141"/>
                  <a:pt x="344" y="138"/>
                </a:cubicBezTo>
                <a:cubicBezTo>
                  <a:pt x="341" y="136"/>
                  <a:pt x="338" y="133"/>
                  <a:pt x="338" y="130"/>
                </a:cubicBezTo>
                <a:cubicBezTo>
                  <a:pt x="333" y="71"/>
                  <a:pt x="285" y="28"/>
                  <a:pt x="225" y="28"/>
                </a:cubicBezTo>
                <a:cubicBezTo>
                  <a:pt x="177" y="28"/>
                  <a:pt x="135" y="59"/>
                  <a:pt x="118" y="104"/>
                </a:cubicBezTo>
                <a:cubicBezTo>
                  <a:pt x="115" y="110"/>
                  <a:pt x="110" y="116"/>
                  <a:pt x="101" y="113"/>
                </a:cubicBezTo>
                <a:lnTo>
                  <a:pt x="98" y="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39"/>
          <p:cNvSpPr/>
          <p:nvPr/>
        </p:nvSpPr>
        <p:spPr>
          <a:xfrm>
            <a:off x="5459400" y="6070680"/>
            <a:ext cx="115920" cy="117360"/>
          </a:xfrm>
          <a:custGeom>
            <a:avLst/>
            <a:gdLst/>
            <a:ahLst/>
            <a:rect l="l" t="t" r="r" b="b"/>
            <a:pathLst>
              <a:path w="170" h="173">
                <a:moveTo>
                  <a:pt x="84" y="172"/>
                </a:moveTo>
                <a:cubicBezTo>
                  <a:pt x="79" y="172"/>
                  <a:pt x="73" y="172"/>
                  <a:pt x="65" y="169"/>
                </a:cubicBezTo>
                <a:cubicBezTo>
                  <a:pt x="56" y="167"/>
                  <a:pt x="53" y="161"/>
                  <a:pt x="53" y="152"/>
                </a:cubicBezTo>
                <a:cubicBezTo>
                  <a:pt x="56" y="144"/>
                  <a:pt x="62" y="141"/>
                  <a:pt x="70" y="141"/>
                </a:cubicBezTo>
                <a:cubicBezTo>
                  <a:pt x="73" y="141"/>
                  <a:pt x="79" y="141"/>
                  <a:pt x="82" y="141"/>
                </a:cubicBezTo>
                <a:cubicBezTo>
                  <a:pt x="113" y="141"/>
                  <a:pt x="138" y="116"/>
                  <a:pt x="138" y="85"/>
                </a:cubicBezTo>
                <a:cubicBezTo>
                  <a:pt x="138" y="54"/>
                  <a:pt x="113" y="28"/>
                  <a:pt x="82" y="28"/>
                </a:cubicBezTo>
                <a:cubicBezTo>
                  <a:pt x="56" y="28"/>
                  <a:pt x="34" y="45"/>
                  <a:pt x="28" y="71"/>
                </a:cubicBezTo>
                <a:cubicBezTo>
                  <a:pt x="25" y="79"/>
                  <a:pt x="17" y="82"/>
                  <a:pt x="11" y="79"/>
                </a:cubicBezTo>
                <a:cubicBezTo>
                  <a:pt x="3" y="76"/>
                  <a:pt x="0" y="68"/>
                  <a:pt x="3" y="62"/>
                </a:cubicBezTo>
                <a:cubicBezTo>
                  <a:pt x="14" y="25"/>
                  <a:pt x="48" y="0"/>
                  <a:pt x="84" y="0"/>
                </a:cubicBezTo>
                <a:cubicBezTo>
                  <a:pt x="132" y="0"/>
                  <a:pt x="169" y="37"/>
                  <a:pt x="169" y="85"/>
                </a:cubicBezTo>
                <a:cubicBezTo>
                  <a:pt x="169" y="133"/>
                  <a:pt x="132" y="172"/>
                  <a:pt x="84" y="17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40"/>
          <p:cNvSpPr/>
          <p:nvPr/>
        </p:nvSpPr>
        <p:spPr>
          <a:xfrm>
            <a:off x="6033960" y="6053040"/>
            <a:ext cx="308160" cy="190440"/>
          </a:xfrm>
          <a:custGeom>
            <a:avLst/>
            <a:gdLst/>
            <a:ahLst/>
            <a:rect l="l" t="t" r="r" b="b"/>
            <a:pathLst>
              <a:path w="453" h="283">
                <a:moveTo>
                  <a:pt x="367" y="282"/>
                </a:moveTo>
                <a:lnTo>
                  <a:pt x="99" y="282"/>
                </a:lnTo>
                <a:cubicBezTo>
                  <a:pt x="46" y="282"/>
                  <a:pt x="0" y="237"/>
                  <a:pt x="0" y="183"/>
                </a:cubicBezTo>
                <a:cubicBezTo>
                  <a:pt x="0" y="129"/>
                  <a:pt x="43" y="84"/>
                  <a:pt x="96" y="84"/>
                </a:cubicBezTo>
                <a:cubicBezTo>
                  <a:pt x="119" y="33"/>
                  <a:pt x="170" y="0"/>
                  <a:pt x="226" y="0"/>
                </a:cubicBezTo>
                <a:cubicBezTo>
                  <a:pt x="294" y="0"/>
                  <a:pt x="350" y="48"/>
                  <a:pt x="364" y="113"/>
                </a:cubicBezTo>
                <a:lnTo>
                  <a:pt x="367" y="113"/>
                </a:lnTo>
                <a:cubicBezTo>
                  <a:pt x="415" y="113"/>
                  <a:pt x="452" y="149"/>
                  <a:pt x="452" y="197"/>
                </a:cubicBezTo>
                <a:cubicBezTo>
                  <a:pt x="452" y="245"/>
                  <a:pt x="415" y="282"/>
                  <a:pt x="367" y="282"/>
                </a:cubicBezTo>
                <a:close/>
                <a:moveTo>
                  <a:pt x="99" y="113"/>
                </a:moveTo>
                <a:cubicBezTo>
                  <a:pt x="60" y="113"/>
                  <a:pt x="29" y="144"/>
                  <a:pt x="29" y="183"/>
                </a:cubicBezTo>
                <a:cubicBezTo>
                  <a:pt x="29" y="223"/>
                  <a:pt x="60" y="254"/>
                  <a:pt x="99" y="254"/>
                </a:cubicBezTo>
                <a:lnTo>
                  <a:pt x="367" y="254"/>
                </a:lnTo>
                <a:cubicBezTo>
                  <a:pt x="398" y="254"/>
                  <a:pt x="424" y="228"/>
                  <a:pt x="424" y="197"/>
                </a:cubicBezTo>
                <a:cubicBezTo>
                  <a:pt x="424" y="166"/>
                  <a:pt x="398" y="141"/>
                  <a:pt x="367" y="141"/>
                </a:cubicBezTo>
                <a:cubicBezTo>
                  <a:pt x="364" y="141"/>
                  <a:pt x="359" y="141"/>
                  <a:pt x="356" y="141"/>
                </a:cubicBezTo>
                <a:cubicBezTo>
                  <a:pt x="353" y="141"/>
                  <a:pt x="348" y="141"/>
                  <a:pt x="345" y="138"/>
                </a:cubicBezTo>
                <a:cubicBezTo>
                  <a:pt x="342" y="135"/>
                  <a:pt x="339" y="132"/>
                  <a:pt x="339" y="129"/>
                </a:cubicBezTo>
                <a:cubicBezTo>
                  <a:pt x="333" y="70"/>
                  <a:pt x="285" y="28"/>
                  <a:pt x="226" y="28"/>
                </a:cubicBezTo>
                <a:cubicBezTo>
                  <a:pt x="178" y="28"/>
                  <a:pt x="136" y="59"/>
                  <a:pt x="119" y="104"/>
                </a:cubicBezTo>
                <a:cubicBezTo>
                  <a:pt x="116" y="110"/>
                  <a:pt x="110" y="115"/>
                  <a:pt x="102" y="113"/>
                </a:cubicBezTo>
                <a:lnTo>
                  <a:pt x="99" y="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41"/>
          <p:cNvSpPr/>
          <p:nvPr/>
        </p:nvSpPr>
        <p:spPr>
          <a:xfrm>
            <a:off x="6242040" y="6262560"/>
            <a:ext cx="57240" cy="81000"/>
          </a:xfrm>
          <a:custGeom>
            <a:avLst/>
            <a:gdLst/>
            <a:ahLst/>
            <a:rect l="l" t="t" r="r" b="b"/>
            <a:pathLst>
              <a:path w="85" h="117">
                <a:moveTo>
                  <a:pt x="42" y="116"/>
                </a:moveTo>
                <a:cubicBezTo>
                  <a:pt x="20" y="116"/>
                  <a:pt x="0" y="96"/>
                  <a:pt x="0" y="74"/>
                </a:cubicBezTo>
                <a:cubicBezTo>
                  <a:pt x="0" y="57"/>
                  <a:pt x="22" y="23"/>
                  <a:pt x="31" y="9"/>
                </a:cubicBezTo>
                <a:cubicBezTo>
                  <a:pt x="37" y="0"/>
                  <a:pt x="48" y="0"/>
                  <a:pt x="53" y="9"/>
                </a:cubicBezTo>
                <a:cubicBezTo>
                  <a:pt x="62" y="23"/>
                  <a:pt x="84" y="54"/>
                  <a:pt x="84" y="74"/>
                </a:cubicBezTo>
                <a:cubicBezTo>
                  <a:pt x="84" y="96"/>
                  <a:pt x="65" y="116"/>
                  <a:pt x="42" y="116"/>
                </a:cubicBezTo>
                <a:close/>
                <a:moveTo>
                  <a:pt x="42" y="43"/>
                </a:moveTo>
                <a:cubicBezTo>
                  <a:pt x="34" y="57"/>
                  <a:pt x="28" y="68"/>
                  <a:pt x="28" y="74"/>
                </a:cubicBezTo>
                <a:cubicBezTo>
                  <a:pt x="28" y="82"/>
                  <a:pt x="34" y="88"/>
                  <a:pt x="42" y="88"/>
                </a:cubicBezTo>
                <a:cubicBezTo>
                  <a:pt x="51" y="88"/>
                  <a:pt x="56" y="82"/>
                  <a:pt x="56" y="74"/>
                </a:cubicBezTo>
                <a:cubicBezTo>
                  <a:pt x="56" y="71"/>
                  <a:pt x="51" y="57"/>
                  <a:pt x="42" y="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42"/>
          <p:cNvSpPr/>
          <p:nvPr/>
        </p:nvSpPr>
        <p:spPr>
          <a:xfrm>
            <a:off x="6156360" y="6262560"/>
            <a:ext cx="57240" cy="81000"/>
          </a:xfrm>
          <a:custGeom>
            <a:avLst/>
            <a:gdLst/>
            <a:ahLst/>
            <a:rect l="l" t="t" r="r" b="b"/>
            <a:pathLst>
              <a:path w="85" h="117">
                <a:moveTo>
                  <a:pt x="42" y="116"/>
                </a:moveTo>
                <a:cubicBezTo>
                  <a:pt x="20" y="116"/>
                  <a:pt x="0" y="96"/>
                  <a:pt x="0" y="74"/>
                </a:cubicBezTo>
                <a:cubicBezTo>
                  <a:pt x="0" y="57"/>
                  <a:pt x="22" y="23"/>
                  <a:pt x="31" y="9"/>
                </a:cubicBezTo>
                <a:cubicBezTo>
                  <a:pt x="37" y="0"/>
                  <a:pt x="48" y="0"/>
                  <a:pt x="53" y="9"/>
                </a:cubicBezTo>
                <a:cubicBezTo>
                  <a:pt x="62" y="23"/>
                  <a:pt x="84" y="54"/>
                  <a:pt x="84" y="74"/>
                </a:cubicBezTo>
                <a:cubicBezTo>
                  <a:pt x="84" y="96"/>
                  <a:pt x="65" y="116"/>
                  <a:pt x="42" y="116"/>
                </a:cubicBezTo>
                <a:close/>
                <a:moveTo>
                  <a:pt x="42" y="43"/>
                </a:moveTo>
                <a:cubicBezTo>
                  <a:pt x="34" y="57"/>
                  <a:pt x="28" y="68"/>
                  <a:pt x="28" y="74"/>
                </a:cubicBezTo>
                <a:cubicBezTo>
                  <a:pt x="28" y="82"/>
                  <a:pt x="34" y="88"/>
                  <a:pt x="42" y="88"/>
                </a:cubicBezTo>
                <a:cubicBezTo>
                  <a:pt x="51" y="88"/>
                  <a:pt x="56" y="82"/>
                  <a:pt x="56" y="74"/>
                </a:cubicBezTo>
                <a:cubicBezTo>
                  <a:pt x="56" y="71"/>
                  <a:pt x="51" y="57"/>
                  <a:pt x="42" y="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43"/>
          <p:cNvSpPr/>
          <p:nvPr/>
        </p:nvSpPr>
        <p:spPr>
          <a:xfrm>
            <a:off x="6072120" y="6262560"/>
            <a:ext cx="60480" cy="81000"/>
          </a:xfrm>
          <a:custGeom>
            <a:avLst/>
            <a:gdLst/>
            <a:ahLst/>
            <a:rect l="l" t="t" r="r" b="b"/>
            <a:pathLst>
              <a:path w="86" h="117">
                <a:moveTo>
                  <a:pt x="42" y="116"/>
                </a:moveTo>
                <a:cubicBezTo>
                  <a:pt x="20" y="116"/>
                  <a:pt x="0" y="96"/>
                  <a:pt x="0" y="74"/>
                </a:cubicBezTo>
                <a:cubicBezTo>
                  <a:pt x="0" y="57"/>
                  <a:pt x="22" y="23"/>
                  <a:pt x="31" y="9"/>
                </a:cubicBezTo>
                <a:cubicBezTo>
                  <a:pt x="37" y="0"/>
                  <a:pt x="48" y="0"/>
                  <a:pt x="53" y="9"/>
                </a:cubicBezTo>
                <a:cubicBezTo>
                  <a:pt x="62" y="23"/>
                  <a:pt x="85" y="54"/>
                  <a:pt x="85" y="74"/>
                </a:cubicBezTo>
                <a:cubicBezTo>
                  <a:pt x="85" y="96"/>
                  <a:pt x="65" y="116"/>
                  <a:pt x="42" y="116"/>
                </a:cubicBezTo>
                <a:close/>
                <a:moveTo>
                  <a:pt x="42" y="43"/>
                </a:moveTo>
                <a:cubicBezTo>
                  <a:pt x="34" y="57"/>
                  <a:pt x="28" y="68"/>
                  <a:pt x="28" y="74"/>
                </a:cubicBezTo>
                <a:cubicBezTo>
                  <a:pt x="28" y="82"/>
                  <a:pt x="34" y="88"/>
                  <a:pt x="42" y="88"/>
                </a:cubicBezTo>
                <a:cubicBezTo>
                  <a:pt x="51" y="88"/>
                  <a:pt x="56" y="82"/>
                  <a:pt x="56" y="74"/>
                </a:cubicBezTo>
                <a:cubicBezTo>
                  <a:pt x="56" y="71"/>
                  <a:pt x="51" y="57"/>
                  <a:pt x="42" y="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44"/>
          <p:cNvSpPr/>
          <p:nvPr/>
        </p:nvSpPr>
        <p:spPr>
          <a:xfrm>
            <a:off x="6799320" y="6053040"/>
            <a:ext cx="307800" cy="190440"/>
          </a:xfrm>
          <a:custGeom>
            <a:avLst/>
            <a:gdLst/>
            <a:ahLst/>
            <a:rect l="l" t="t" r="r" b="b"/>
            <a:pathLst>
              <a:path w="453" h="283">
                <a:moveTo>
                  <a:pt x="367" y="282"/>
                </a:moveTo>
                <a:lnTo>
                  <a:pt x="212" y="282"/>
                </a:lnTo>
                <a:cubicBezTo>
                  <a:pt x="203" y="282"/>
                  <a:pt x="198" y="277"/>
                  <a:pt x="198" y="268"/>
                </a:cubicBezTo>
                <a:cubicBezTo>
                  <a:pt x="198" y="260"/>
                  <a:pt x="203" y="254"/>
                  <a:pt x="212" y="254"/>
                </a:cubicBezTo>
                <a:lnTo>
                  <a:pt x="367" y="254"/>
                </a:lnTo>
                <a:cubicBezTo>
                  <a:pt x="398" y="254"/>
                  <a:pt x="423" y="228"/>
                  <a:pt x="423" y="197"/>
                </a:cubicBezTo>
                <a:cubicBezTo>
                  <a:pt x="423" y="166"/>
                  <a:pt x="398" y="141"/>
                  <a:pt x="367" y="141"/>
                </a:cubicBezTo>
                <a:cubicBezTo>
                  <a:pt x="364" y="141"/>
                  <a:pt x="359" y="141"/>
                  <a:pt x="356" y="141"/>
                </a:cubicBezTo>
                <a:cubicBezTo>
                  <a:pt x="353" y="141"/>
                  <a:pt x="347" y="141"/>
                  <a:pt x="344" y="138"/>
                </a:cubicBezTo>
                <a:cubicBezTo>
                  <a:pt x="342" y="135"/>
                  <a:pt x="339" y="132"/>
                  <a:pt x="339" y="129"/>
                </a:cubicBezTo>
                <a:cubicBezTo>
                  <a:pt x="333" y="70"/>
                  <a:pt x="285" y="28"/>
                  <a:pt x="226" y="28"/>
                </a:cubicBezTo>
                <a:cubicBezTo>
                  <a:pt x="178" y="28"/>
                  <a:pt x="136" y="59"/>
                  <a:pt x="119" y="104"/>
                </a:cubicBezTo>
                <a:cubicBezTo>
                  <a:pt x="116" y="110"/>
                  <a:pt x="107" y="115"/>
                  <a:pt x="102" y="113"/>
                </a:cubicBezTo>
                <a:lnTo>
                  <a:pt x="99" y="113"/>
                </a:lnTo>
                <a:cubicBezTo>
                  <a:pt x="59" y="113"/>
                  <a:pt x="28" y="144"/>
                  <a:pt x="28" y="183"/>
                </a:cubicBezTo>
                <a:cubicBezTo>
                  <a:pt x="28" y="194"/>
                  <a:pt x="31" y="206"/>
                  <a:pt x="37" y="214"/>
                </a:cubicBezTo>
                <a:cubicBezTo>
                  <a:pt x="40" y="220"/>
                  <a:pt x="37" y="228"/>
                  <a:pt x="31" y="234"/>
                </a:cubicBezTo>
                <a:cubicBezTo>
                  <a:pt x="26" y="237"/>
                  <a:pt x="17" y="234"/>
                  <a:pt x="11" y="228"/>
                </a:cubicBezTo>
                <a:cubicBezTo>
                  <a:pt x="6" y="214"/>
                  <a:pt x="0" y="200"/>
                  <a:pt x="0" y="183"/>
                </a:cubicBezTo>
                <a:cubicBezTo>
                  <a:pt x="0" y="129"/>
                  <a:pt x="43" y="84"/>
                  <a:pt x="96" y="84"/>
                </a:cubicBezTo>
                <a:cubicBezTo>
                  <a:pt x="119" y="33"/>
                  <a:pt x="170" y="0"/>
                  <a:pt x="226" y="0"/>
                </a:cubicBezTo>
                <a:cubicBezTo>
                  <a:pt x="294" y="0"/>
                  <a:pt x="350" y="48"/>
                  <a:pt x="364" y="113"/>
                </a:cubicBezTo>
                <a:cubicBezTo>
                  <a:pt x="412" y="113"/>
                  <a:pt x="452" y="149"/>
                  <a:pt x="452" y="197"/>
                </a:cubicBezTo>
                <a:cubicBezTo>
                  <a:pt x="452" y="245"/>
                  <a:pt x="415" y="282"/>
                  <a:pt x="367" y="28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45"/>
          <p:cNvSpPr/>
          <p:nvPr/>
        </p:nvSpPr>
        <p:spPr>
          <a:xfrm>
            <a:off x="6816600" y="6165720"/>
            <a:ext cx="98640" cy="177840"/>
          </a:xfrm>
          <a:custGeom>
            <a:avLst/>
            <a:gdLst/>
            <a:ahLst/>
            <a:rect l="l" t="t" r="r" b="b"/>
            <a:pathLst>
              <a:path w="146" h="258">
                <a:moveTo>
                  <a:pt x="71" y="257"/>
                </a:moveTo>
                <a:cubicBezTo>
                  <a:pt x="71" y="257"/>
                  <a:pt x="68" y="257"/>
                  <a:pt x="71" y="257"/>
                </a:cubicBezTo>
                <a:cubicBezTo>
                  <a:pt x="62" y="254"/>
                  <a:pt x="57" y="248"/>
                  <a:pt x="57" y="243"/>
                </a:cubicBezTo>
                <a:lnTo>
                  <a:pt x="57" y="172"/>
                </a:lnTo>
                <a:lnTo>
                  <a:pt x="15" y="172"/>
                </a:lnTo>
                <a:cubicBezTo>
                  <a:pt x="9" y="172"/>
                  <a:pt x="6" y="170"/>
                  <a:pt x="3" y="167"/>
                </a:cubicBezTo>
                <a:cubicBezTo>
                  <a:pt x="0" y="165"/>
                  <a:pt x="0" y="158"/>
                  <a:pt x="3" y="153"/>
                </a:cubicBezTo>
                <a:lnTo>
                  <a:pt x="60" y="11"/>
                </a:lnTo>
                <a:cubicBezTo>
                  <a:pt x="62" y="6"/>
                  <a:pt x="68" y="0"/>
                  <a:pt x="77" y="3"/>
                </a:cubicBezTo>
                <a:cubicBezTo>
                  <a:pt x="82" y="3"/>
                  <a:pt x="88" y="11"/>
                  <a:pt x="88" y="17"/>
                </a:cubicBezTo>
                <a:lnTo>
                  <a:pt x="88" y="88"/>
                </a:lnTo>
                <a:lnTo>
                  <a:pt x="130" y="88"/>
                </a:lnTo>
                <a:cubicBezTo>
                  <a:pt x="136" y="88"/>
                  <a:pt x="140" y="90"/>
                  <a:pt x="142" y="93"/>
                </a:cubicBezTo>
                <a:cubicBezTo>
                  <a:pt x="145" y="96"/>
                  <a:pt x="144" y="102"/>
                  <a:pt x="142" y="107"/>
                </a:cubicBezTo>
                <a:lnTo>
                  <a:pt x="85" y="248"/>
                </a:lnTo>
                <a:cubicBezTo>
                  <a:pt x="82" y="254"/>
                  <a:pt x="77" y="257"/>
                  <a:pt x="71" y="257"/>
                </a:cubicBezTo>
                <a:close/>
                <a:moveTo>
                  <a:pt x="34" y="144"/>
                </a:moveTo>
                <a:lnTo>
                  <a:pt x="71" y="144"/>
                </a:lnTo>
                <a:cubicBezTo>
                  <a:pt x="79" y="144"/>
                  <a:pt x="85" y="150"/>
                  <a:pt x="85" y="158"/>
                </a:cubicBezTo>
                <a:lnTo>
                  <a:pt x="85" y="169"/>
                </a:lnTo>
                <a:lnTo>
                  <a:pt x="108" y="116"/>
                </a:lnTo>
                <a:lnTo>
                  <a:pt x="71" y="116"/>
                </a:lnTo>
                <a:cubicBezTo>
                  <a:pt x="62" y="116"/>
                  <a:pt x="57" y="110"/>
                  <a:pt x="57" y="102"/>
                </a:cubicBezTo>
                <a:lnTo>
                  <a:pt x="57" y="90"/>
                </a:lnTo>
                <a:lnTo>
                  <a:pt x="34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46"/>
          <p:cNvSpPr/>
          <p:nvPr/>
        </p:nvSpPr>
        <p:spPr>
          <a:xfrm>
            <a:off x="7029360" y="6262560"/>
            <a:ext cx="57240" cy="81000"/>
          </a:xfrm>
          <a:custGeom>
            <a:avLst/>
            <a:gdLst/>
            <a:ahLst/>
            <a:rect l="l" t="t" r="r" b="b"/>
            <a:pathLst>
              <a:path w="85" h="117">
                <a:moveTo>
                  <a:pt x="42" y="116"/>
                </a:moveTo>
                <a:cubicBezTo>
                  <a:pt x="20" y="116"/>
                  <a:pt x="0" y="96"/>
                  <a:pt x="0" y="74"/>
                </a:cubicBezTo>
                <a:cubicBezTo>
                  <a:pt x="0" y="57"/>
                  <a:pt x="22" y="23"/>
                  <a:pt x="31" y="9"/>
                </a:cubicBezTo>
                <a:cubicBezTo>
                  <a:pt x="37" y="0"/>
                  <a:pt x="48" y="0"/>
                  <a:pt x="53" y="9"/>
                </a:cubicBezTo>
                <a:cubicBezTo>
                  <a:pt x="62" y="23"/>
                  <a:pt x="84" y="54"/>
                  <a:pt x="84" y="74"/>
                </a:cubicBezTo>
                <a:cubicBezTo>
                  <a:pt x="84" y="96"/>
                  <a:pt x="65" y="116"/>
                  <a:pt x="42" y="116"/>
                </a:cubicBezTo>
                <a:close/>
                <a:moveTo>
                  <a:pt x="42" y="43"/>
                </a:moveTo>
                <a:cubicBezTo>
                  <a:pt x="34" y="57"/>
                  <a:pt x="28" y="68"/>
                  <a:pt x="28" y="74"/>
                </a:cubicBezTo>
                <a:cubicBezTo>
                  <a:pt x="28" y="82"/>
                  <a:pt x="34" y="88"/>
                  <a:pt x="42" y="88"/>
                </a:cubicBezTo>
                <a:cubicBezTo>
                  <a:pt x="51" y="88"/>
                  <a:pt x="56" y="82"/>
                  <a:pt x="56" y="74"/>
                </a:cubicBezTo>
                <a:cubicBezTo>
                  <a:pt x="56" y="71"/>
                  <a:pt x="51" y="57"/>
                  <a:pt x="42" y="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47"/>
          <p:cNvSpPr/>
          <p:nvPr/>
        </p:nvSpPr>
        <p:spPr>
          <a:xfrm>
            <a:off x="6951600" y="6262560"/>
            <a:ext cx="60480" cy="81000"/>
          </a:xfrm>
          <a:custGeom>
            <a:avLst/>
            <a:gdLst/>
            <a:ahLst/>
            <a:rect l="l" t="t" r="r" b="b"/>
            <a:pathLst>
              <a:path w="86" h="117">
                <a:moveTo>
                  <a:pt x="42" y="116"/>
                </a:moveTo>
                <a:cubicBezTo>
                  <a:pt x="20" y="116"/>
                  <a:pt x="0" y="96"/>
                  <a:pt x="0" y="74"/>
                </a:cubicBezTo>
                <a:cubicBezTo>
                  <a:pt x="0" y="57"/>
                  <a:pt x="23" y="23"/>
                  <a:pt x="31" y="9"/>
                </a:cubicBezTo>
                <a:cubicBezTo>
                  <a:pt x="37" y="0"/>
                  <a:pt x="48" y="0"/>
                  <a:pt x="54" y="9"/>
                </a:cubicBezTo>
                <a:cubicBezTo>
                  <a:pt x="62" y="23"/>
                  <a:pt x="85" y="54"/>
                  <a:pt x="85" y="74"/>
                </a:cubicBezTo>
                <a:cubicBezTo>
                  <a:pt x="85" y="96"/>
                  <a:pt x="65" y="116"/>
                  <a:pt x="42" y="116"/>
                </a:cubicBezTo>
                <a:close/>
                <a:moveTo>
                  <a:pt x="42" y="43"/>
                </a:moveTo>
                <a:cubicBezTo>
                  <a:pt x="34" y="57"/>
                  <a:pt x="28" y="68"/>
                  <a:pt x="28" y="74"/>
                </a:cubicBezTo>
                <a:cubicBezTo>
                  <a:pt x="28" y="82"/>
                  <a:pt x="34" y="88"/>
                  <a:pt x="42" y="88"/>
                </a:cubicBezTo>
                <a:cubicBezTo>
                  <a:pt x="51" y="88"/>
                  <a:pt x="56" y="82"/>
                  <a:pt x="56" y="74"/>
                </a:cubicBezTo>
                <a:cubicBezTo>
                  <a:pt x="56" y="71"/>
                  <a:pt x="51" y="57"/>
                  <a:pt x="42" y="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48"/>
          <p:cNvSpPr/>
          <p:nvPr/>
        </p:nvSpPr>
        <p:spPr>
          <a:xfrm>
            <a:off x="7621560" y="6091200"/>
            <a:ext cx="173160" cy="192240"/>
          </a:xfrm>
          <a:custGeom>
            <a:avLst/>
            <a:gdLst/>
            <a:ahLst/>
            <a:rect l="l" t="t" r="r" b="b"/>
            <a:pathLst>
              <a:path w="255" h="283">
                <a:moveTo>
                  <a:pt x="197" y="282"/>
                </a:moveTo>
                <a:lnTo>
                  <a:pt x="56" y="282"/>
                </a:lnTo>
                <a:cubicBezTo>
                  <a:pt x="25" y="282"/>
                  <a:pt x="0" y="257"/>
                  <a:pt x="0" y="226"/>
                </a:cubicBezTo>
                <a:lnTo>
                  <a:pt x="0" y="57"/>
                </a:lnTo>
                <a:cubicBezTo>
                  <a:pt x="0" y="25"/>
                  <a:pt x="25" y="0"/>
                  <a:pt x="56" y="0"/>
                </a:cubicBezTo>
                <a:lnTo>
                  <a:pt x="197" y="0"/>
                </a:lnTo>
                <a:cubicBezTo>
                  <a:pt x="228" y="0"/>
                  <a:pt x="254" y="25"/>
                  <a:pt x="254" y="57"/>
                </a:cubicBezTo>
                <a:lnTo>
                  <a:pt x="254" y="226"/>
                </a:lnTo>
                <a:cubicBezTo>
                  <a:pt x="254" y="257"/>
                  <a:pt x="228" y="282"/>
                  <a:pt x="197" y="282"/>
                </a:cubicBezTo>
                <a:close/>
                <a:moveTo>
                  <a:pt x="56" y="28"/>
                </a:moveTo>
                <a:cubicBezTo>
                  <a:pt x="39" y="28"/>
                  <a:pt x="28" y="40"/>
                  <a:pt x="28" y="57"/>
                </a:cubicBezTo>
                <a:lnTo>
                  <a:pt x="28" y="226"/>
                </a:lnTo>
                <a:cubicBezTo>
                  <a:pt x="28" y="243"/>
                  <a:pt x="39" y="254"/>
                  <a:pt x="56" y="254"/>
                </a:cubicBezTo>
                <a:lnTo>
                  <a:pt x="197" y="254"/>
                </a:lnTo>
                <a:cubicBezTo>
                  <a:pt x="214" y="254"/>
                  <a:pt x="225" y="243"/>
                  <a:pt x="225" y="226"/>
                </a:cubicBezTo>
                <a:lnTo>
                  <a:pt x="225" y="57"/>
                </a:lnTo>
                <a:cubicBezTo>
                  <a:pt x="225" y="40"/>
                  <a:pt x="214" y="28"/>
                  <a:pt x="197" y="28"/>
                </a:cubicBezTo>
                <a:lnTo>
                  <a:pt x="56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49"/>
          <p:cNvSpPr/>
          <p:nvPr/>
        </p:nvSpPr>
        <p:spPr>
          <a:xfrm>
            <a:off x="7794720" y="6130800"/>
            <a:ext cx="21960" cy="38160"/>
          </a:xfrm>
          <a:custGeom>
            <a:avLst/>
            <a:gdLst/>
            <a:ahLst/>
            <a:rect l="l" t="t" r="r" b="b"/>
            <a:pathLst>
              <a:path w="29" h="57">
                <a:moveTo>
                  <a:pt x="14" y="56"/>
                </a:moveTo>
                <a:cubicBezTo>
                  <a:pt x="5" y="56"/>
                  <a:pt x="0" y="50"/>
                  <a:pt x="0" y="42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8" y="5"/>
                  <a:pt x="28" y="14"/>
                </a:cubicBezTo>
                <a:lnTo>
                  <a:pt x="28" y="42"/>
                </a:lnTo>
                <a:cubicBezTo>
                  <a:pt x="28" y="50"/>
                  <a:pt x="22" y="56"/>
                  <a:pt x="14" y="5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50"/>
          <p:cNvSpPr/>
          <p:nvPr/>
        </p:nvSpPr>
        <p:spPr>
          <a:xfrm>
            <a:off x="7637400" y="6032520"/>
            <a:ext cx="146160" cy="82440"/>
          </a:xfrm>
          <a:custGeom>
            <a:avLst/>
            <a:gdLst/>
            <a:ahLst/>
            <a:rect l="l" t="t" r="r" b="b"/>
            <a:pathLst>
              <a:path w="216" h="122">
                <a:moveTo>
                  <a:pt x="198" y="121"/>
                </a:moveTo>
                <a:cubicBezTo>
                  <a:pt x="192" y="121"/>
                  <a:pt x="186" y="118"/>
                  <a:pt x="186" y="112"/>
                </a:cubicBezTo>
                <a:cubicBezTo>
                  <a:pt x="172" y="87"/>
                  <a:pt x="167" y="59"/>
                  <a:pt x="164" y="31"/>
                </a:cubicBezTo>
                <a:lnTo>
                  <a:pt x="51" y="31"/>
                </a:lnTo>
                <a:cubicBezTo>
                  <a:pt x="48" y="59"/>
                  <a:pt x="43" y="87"/>
                  <a:pt x="28" y="112"/>
                </a:cubicBezTo>
                <a:cubicBezTo>
                  <a:pt x="26" y="118"/>
                  <a:pt x="17" y="121"/>
                  <a:pt x="9" y="118"/>
                </a:cubicBezTo>
                <a:cubicBezTo>
                  <a:pt x="3" y="115"/>
                  <a:pt x="0" y="107"/>
                  <a:pt x="3" y="98"/>
                </a:cubicBezTo>
                <a:cubicBezTo>
                  <a:pt x="17" y="73"/>
                  <a:pt x="23" y="42"/>
                  <a:pt x="23" y="14"/>
                </a:cubicBezTo>
                <a:cubicBezTo>
                  <a:pt x="23" y="5"/>
                  <a:pt x="28" y="0"/>
                  <a:pt x="37" y="0"/>
                </a:cubicBezTo>
                <a:lnTo>
                  <a:pt x="178" y="0"/>
                </a:lnTo>
                <a:cubicBezTo>
                  <a:pt x="186" y="0"/>
                  <a:pt x="192" y="5"/>
                  <a:pt x="192" y="14"/>
                </a:cubicBezTo>
                <a:cubicBezTo>
                  <a:pt x="192" y="42"/>
                  <a:pt x="198" y="73"/>
                  <a:pt x="212" y="98"/>
                </a:cubicBezTo>
                <a:cubicBezTo>
                  <a:pt x="215" y="104"/>
                  <a:pt x="212" y="112"/>
                  <a:pt x="206" y="118"/>
                </a:cubicBezTo>
                <a:cubicBezTo>
                  <a:pt x="201" y="121"/>
                  <a:pt x="198" y="121"/>
                  <a:pt x="198" y="12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51"/>
          <p:cNvSpPr/>
          <p:nvPr/>
        </p:nvSpPr>
        <p:spPr>
          <a:xfrm>
            <a:off x="7634160" y="6259680"/>
            <a:ext cx="146160" cy="83880"/>
          </a:xfrm>
          <a:custGeom>
            <a:avLst/>
            <a:gdLst/>
            <a:ahLst/>
            <a:rect l="l" t="t" r="r" b="b"/>
            <a:pathLst>
              <a:path w="216" h="122">
                <a:moveTo>
                  <a:pt x="178" y="121"/>
                </a:moveTo>
                <a:lnTo>
                  <a:pt x="37" y="121"/>
                </a:lnTo>
                <a:cubicBezTo>
                  <a:pt x="29" y="121"/>
                  <a:pt x="23" y="115"/>
                  <a:pt x="23" y="107"/>
                </a:cubicBezTo>
                <a:cubicBezTo>
                  <a:pt x="23" y="79"/>
                  <a:pt x="17" y="48"/>
                  <a:pt x="3" y="22"/>
                </a:cubicBezTo>
                <a:cubicBezTo>
                  <a:pt x="0" y="17"/>
                  <a:pt x="3" y="8"/>
                  <a:pt x="9" y="2"/>
                </a:cubicBezTo>
                <a:cubicBezTo>
                  <a:pt x="14" y="0"/>
                  <a:pt x="23" y="2"/>
                  <a:pt x="29" y="8"/>
                </a:cubicBezTo>
                <a:cubicBezTo>
                  <a:pt x="43" y="33"/>
                  <a:pt x="48" y="62"/>
                  <a:pt x="51" y="90"/>
                </a:cubicBezTo>
                <a:lnTo>
                  <a:pt x="164" y="90"/>
                </a:lnTo>
                <a:cubicBezTo>
                  <a:pt x="167" y="62"/>
                  <a:pt x="173" y="33"/>
                  <a:pt x="187" y="8"/>
                </a:cubicBezTo>
                <a:cubicBezTo>
                  <a:pt x="189" y="2"/>
                  <a:pt x="198" y="0"/>
                  <a:pt x="206" y="2"/>
                </a:cubicBezTo>
                <a:cubicBezTo>
                  <a:pt x="215" y="5"/>
                  <a:pt x="215" y="14"/>
                  <a:pt x="212" y="22"/>
                </a:cubicBezTo>
                <a:cubicBezTo>
                  <a:pt x="198" y="48"/>
                  <a:pt x="192" y="79"/>
                  <a:pt x="192" y="107"/>
                </a:cubicBezTo>
                <a:cubicBezTo>
                  <a:pt x="192" y="115"/>
                  <a:pt x="187" y="121"/>
                  <a:pt x="178" y="12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52"/>
          <p:cNvSpPr/>
          <p:nvPr/>
        </p:nvSpPr>
        <p:spPr>
          <a:xfrm>
            <a:off x="7661160" y="6138720"/>
            <a:ext cx="98640" cy="96840"/>
          </a:xfrm>
          <a:custGeom>
            <a:avLst/>
            <a:gdLst/>
            <a:ahLst/>
            <a:rect l="l" t="t" r="r" b="b"/>
            <a:pathLst>
              <a:path w="145" h="142">
                <a:moveTo>
                  <a:pt x="127" y="141"/>
                </a:moveTo>
                <a:cubicBezTo>
                  <a:pt x="57" y="141"/>
                  <a:pt x="0" y="84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40" y="0"/>
                </a:lnTo>
                <a:cubicBezTo>
                  <a:pt x="48" y="0"/>
                  <a:pt x="54" y="5"/>
                  <a:pt x="54" y="14"/>
                </a:cubicBezTo>
                <a:cubicBezTo>
                  <a:pt x="54" y="25"/>
                  <a:pt x="57" y="36"/>
                  <a:pt x="62" y="45"/>
                </a:cubicBezTo>
                <a:cubicBezTo>
                  <a:pt x="65" y="48"/>
                  <a:pt x="65" y="53"/>
                  <a:pt x="62" y="56"/>
                </a:cubicBezTo>
                <a:cubicBezTo>
                  <a:pt x="62" y="59"/>
                  <a:pt x="59" y="62"/>
                  <a:pt x="54" y="65"/>
                </a:cubicBezTo>
                <a:lnTo>
                  <a:pt x="45" y="70"/>
                </a:lnTo>
                <a:cubicBezTo>
                  <a:pt x="54" y="81"/>
                  <a:pt x="62" y="90"/>
                  <a:pt x="73" y="98"/>
                </a:cubicBezTo>
                <a:lnTo>
                  <a:pt x="79" y="90"/>
                </a:lnTo>
                <a:cubicBezTo>
                  <a:pt x="82" y="87"/>
                  <a:pt x="85" y="84"/>
                  <a:pt x="88" y="81"/>
                </a:cubicBezTo>
                <a:cubicBezTo>
                  <a:pt x="90" y="81"/>
                  <a:pt x="96" y="81"/>
                  <a:pt x="99" y="81"/>
                </a:cubicBezTo>
                <a:cubicBezTo>
                  <a:pt x="107" y="87"/>
                  <a:pt x="119" y="90"/>
                  <a:pt x="130" y="90"/>
                </a:cubicBezTo>
                <a:cubicBezTo>
                  <a:pt x="138" y="90"/>
                  <a:pt x="144" y="96"/>
                  <a:pt x="144" y="104"/>
                </a:cubicBezTo>
                <a:lnTo>
                  <a:pt x="144" y="129"/>
                </a:lnTo>
                <a:cubicBezTo>
                  <a:pt x="141" y="135"/>
                  <a:pt x="136" y="141"/>
                  <a:pt x="127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53"/>
          <p:cNvSpPr/>
          <p:nvPr/>
        </p:nvSpPr>
        <p:spPr>
          <a:xfrm>
            <a:off x="8386920" y="6091200"/>
            <a:ext cx="174600" cy="192240"/>
          </a:xfrm>
          <a:custGeom>
            <a:avLst/>
            <a:gdLst/>
            <a:ahLst/>
            <a:rect l="l" t="t" r="r" b="b"/>
            <a:pathLst>
              <a:path w="255" h="283">
                <a:moveTo>
                  <a:pt x="198" y="282"/>
                </a:moveTo>
                <a:lnTo>
                  <a:pt x="57" y="282"/>
                </a:lnTo>
                <a:cubicBezTo>
                  <a:pt x="26" y="282"/>
                  <a:pt x="0" y="257"/>
                  <a:pt x="0" y="226"/>
                </a:cubicBezTo>
                <a:lnTo>
                  <a:pt x="0" y="57"/>
                </a:lnTo>
                <a:cubicBezTo>
                  <a:pt x="0" y="25"/>
                  <a:pt x="26" y="0"/>
                  <a:pt x="57" y="0"/>
                </a:cubicBezTo>
                <a:lnTo>
                  <a:pt x="198" y="0"/>
                </a:lnTo>
                <a:cubicBezTo>
                  <a:pt x="229" y="0"/>
                  <a:pt x="254" y="25"/>
                  <a:pt x="254" y="57"/>
                </a:cubicBezTo>
                <a:lnTo>
                  <a:pt x="254" y="226"/>
                </a:lnTo>
                <a:cubicBezTo>
                  <a:pt x="254" y="257"/>
                  <a:pt x="229" y="282"/>
                  <a:pt x="198" y="282"/>
                </a:cubicBezTo>
                <a:close/>
                <a:moveTo>
                  <a:pt x="57" y="28"/>
                </a:moveTo>
                <a:cubicBezTo>
                  <a:pt x="40" y="28"/>
                  <a:pt x="29" y="40"/>
                  <a:pt x="29" y="57"/>
                </a:cubicBezTo>
                <a:lnTo>
                  <a:pt x="29" y="226"/>
                </a:lnTo>
                <a:cubicBezTo>
                  <a:pt x="29" y="243"/>
                  <a:pt x="40" y="254"/>
                  <a:pt x="57" y="254"/>
                </a:cubicBezTo>
                <a:lnTo>
                  <a:pt x="198" y="254"/>
                </a:lnTo>
                <a:cubicBezTo>
                  <a:pt x="215" y="254"/>
                  <a:pt x="226" y="243"/>
                  <a:pt x="226" y="226"/>
                </a:cubicBezTo>
                <a:lnTo>
                  <a:pt x="226" y="57"/>
                </a:lnTo>
                <a:cubicBezTo>
                  <a:pt x="226" y="40"/>
                  <a:pt x="215" y="28"/>
                  <a:pt x="198" y="28"/>
                </a:cubicBezTo>
                <a:lnTo>
                  <a:pt x="5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54"/>
          <p:cNvSpPr/>
          <p:nvPr/>
        </p:nvSpPr>
        <p:spPr>
          <a:xfrm>
            <a:off x="8558280" y="6130800"/>
            <a:ext cx="20520" cy="38160"/>
          </a:xfrm>
          <a:custGeom>
            <a:avLst/>
            <a:gdLst/>
            <a:ahLst/>
            <a:rect l="l" t="t" r="r" b="b"/>
            <a:pathLst>
              <a:path w="30" h="57">
                <a:moveTo>
                  <a:pt x="14" y="56"/>
                </a:moveTo>
                <a:cubicBezTo>
                  <a:pt x="6" y="56"/>
                  <a:pt x="0" y="50"/>
                  <a:pt x="0" y="42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9" y="5"/>
                  <a:pt x="29" y="14"/>
                </a:cubicBezTo>
                <a:lnTo>
                  <a:pt x="29" y="42"/>
                </a:lnTo>
                <a:cubicBezTo>
                  <a:pt x="29" y="50"/>
                  <a:pt x="23" y="56"/>
                  <a:pt x="14" y="5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355"/>
          <p:cNvSpPr/>
          <p:nvPr/>
        </p:nvSpPr>
        <p:spPr>
          <a:xfrm>
            <a:off x="8402760" y="6032520"/>
            <a:ext cx="145800" cy="82440"/>
          </a:xfrm>
          <a:custGeom>
            <a:avLst/>
            <a:gdLst/>
            <a:ahLst/>
            <a:rect l="l" t="t" r="r" b="b"/>
            <a:pathLst>
              <a:path w="215" h="122">
                <a:moveTo>
                  <a:pt x="198" y="121"/>
                </a:moveTo>
                <a:cubicBezTo>
                  <a:pt x="192" y="121"/>
                  <a:pt x="186" y="118"/>
                  <a:pt x="186" y="112"/>
                </a:cubicBezTo>
                <a:cubicBezTo>
                  <a:pt x="172" y="87"/>
                  <a:pt x="166" y="59"/>
                  <a:pt x="164" y="31"/>
                </a:cubicBezTo>
                <a:lnTo>
                  <a:pt x="51" y="31"/>
                </a:lnTo>
                <a:cubicBezTo>
                  <a:pt x="48" y="59"/>
                  <a:pt x="42" y="87"/>
                  <a:pt x="28" y="112"/>
                </a:cubicBezTo>
                <a:cubicBezTo>
                  <a:pt x="25" y="118"/>
                  <a:pt x="17" y="121"/>
                  <a:pt x="8" y="118"/>
                </a:cubicBezTo>
                <a:cubicBezTo>
                  <a:pt x="3" y="115"/>
                  <a:pt x="0" y="107"/>
                  <a:pt x="3" y="98"/>
                </a:cubicBezTo>
                <a:cubicBezTo>
                  <a:pt x="17" y="73"/>
                  <a:pt x="23" y="42"/>
                  <a:pt x="23" y="14"/>
                </a:cubicBezTo>
                <a:cubicBezTo>
                  <a:pt x="23" y="5"/>
                  <a:pt x="28" y="0"/>
                  <a:pt x="37" y="0"/>
                </a:cubicBezTo>
                <a:lnTo>
                  <a:pt x="178" y="0"/>
                </a:lnTo>
                <a:cubicBezTo>
                  <a:pt x="186" y="0"/>
                  <a:pt x="192" y="5"/>
                  <a:pt x="192" y="14"/>
                </a:cubicBezTo>
                <a:cubicBezTo>
                  <a:pt x="192" y="42"/>
                  <a:pt x="198" y="73"/>
                  <a:pt x="212" y="98"/>
                </a:cubicBezTo>
                <a:cubicBezTo>
                  <a:pt x="214" y="104"/>
                  <a:pt x="212" y="112"/>
                  <a:pt x="206" y="118"/>
                </a:cubicBezTo>
                <a:cubicBezTo>
                  <a:pt x="200" y="121"/>
                  <a:pt x="198" y="121"/>
                  <a:pt x="198" y="12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56"/>
          <p:cNvSpPr/>
          <p:nvPr/>
        </p:nvSpPr>
        <p:spPr>
          <a:xfrm>
            <a:off x="8399520" y="6259680"/>
            <a:ext cx="146160" cy="83880"/>
          </a:xfrm>
          <a:custGeom>
            <a:avLst/>
            <a:gdLst/>
            <a:ahLst/>
            <a:rect l="l" t="t" r="r" b="b"/>
            <a:pathLst>
              <a:path w="216" h="122">
                <a:moveTo>
                  <a:pt x="178" y="121"/>
                </a:moveTo>
                <a:lnTo>
                  <a:pt x="37" y="121"/>
                </a:lnTo>
                <a:cubicBezTo>
                  <a:pt x="28" y="121"/>
                  <a:pt x="23" y="115"/>
                  <a:pt x="23" y="107"/>
                </a:cubicBezTo>
                <a:cubicBezTo>
                  <a:pt x="23" y="79"/>
                  <a:pt x="17" y="48"/>
                  <a:pt x="3" y="22"/>
                </a:cubicBezTo>
                <a:cubicBezTo>
                  <a:pt x="0" y="17"/>
                  <a:pt x="3" y="8"/>
                  <a:pt x="9" y="2"/>
                </a:cubicBezTo>
                <a:cubicBezTo>
                  <a:pt x="14" y="0"/>
                  <a:pt x="23" y="2"/>
                  <a:pt x="28" y="8"/>
                </a:cubicBezTo>
                <a:cubicBezTo>
                  <a:pt x="42" y="33"/>
                  <a:pt x="48" y="62"/>
                  <a:pt x="51" y="90"/>
                </a:cubicBezTo>
                <a:lnTo>
                  <a:pt x="164" y="90"/>
                </a:lnTo>
                <a:cubicBezTo>
                  <a:pt x="167" y="62"/>
                  <a:pt x="172" y="33"/>
                  <a:pt x="186" y="8"/>
                </a:cubicBezTo>
                <a:cubicBezTo>
                  <a:pt x="189" y="2"/>
                  <a:pt x="198" y="0"/>
                  <a:pt x="206" y="2"/>
                </a:cubicBezTo>
                <a:cubicBezTo>
                  <a:pt x="212" y="5"/>
                  <a:pt x="215" y="14"/>
                  <a:pt x="212" y="22"/>
                </a:cubicBezTo>
                <a:cubicBezTo>
                  <a:pt x="198" y="48"/>
                  <a:pt x="192" y="79"/>
                  <a:pt x="192" y="107"/>
                </a:cubicBezTo>
                <a:cubicBezTo>
                  <a:pt x="192" y="115"/>
                  <a:pt x="186" y="121"/>
                  <a:pt x="178" y="12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57"/>
          <p:cNvSpPr/>
          <p:nvPr/>
        </p:nvSpPr>
        <p:spPr>
          <a:xfrm>
            <a:off x="8426520" y="6138720"/>
            <a:ext cx="6012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2" y="84"/>
                </a:moveTo>
                <a:cubicBezTo>
                  <a:pt x="20" y="84"/>
                  <a:pt x="0" y="65"/>
                  <a:pt x="0" y="42"/>
                </a:cubicBezTo>
                <a:cubicBezTo>
                  <a:pt x="0" y="19"/>
                  <a:pt x="20" y="0"/>
                  <a:pt x="42" y="0"/>
                </a:cubicBezTo>
                <a:cubicBezTo>
                  <a:pt x="65" y="0"/>
                  <a:pt x="85" y="19"/>
                  <a:pt x="85" y="42"/>
                </a:cubicBezTo>
                <a:cubicBezTo>
                  <a:pt x="85" y="65"/>
                  <a:pt x="65" y="84"/>
                  <a:pt x="42" y="84"/>
                </a:cubicBezTo>
                <a:close/>
                <a:moveTo>
                  <a:pt x="42" y="28"/>
                </a:moveTo>
                <a:cubicBezTo>
                  <a:pt x="34" y="28"/>
                  <a:pt x="28" y="34"/>
                  <a:pt x="28" y="42"/>
                </a:cubicBezTo>
                <a:cubicBezTo>
                  <a:pt x="28" y="51"/>
                  <a:pt x="34" y="56"/>
                  <a:pt x="42" y="56"/>
                </a:cubicBezTo>
                <a:cubicBezTo>
                  <a:pt x="51" y="56"/>
                  <a:pt x="56" y="51"/>
                  <a:pt x="56" y="42"/>
                </a:cubicBezTo>
                <a:cubicBezTo>
                  <a:pt x="56" y="34"/>
                  <a:pt x="51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58"/>
          <p:cNvSpPr/>
          <p:nvPr/>
        </p:nvSpPr>
        <p:spPr>
          <a:xfrm>
            <a:off x="8470800" y="6148440"/>
            <a:ext cx="81000" cy="95040"/>
          </a:xfrm>
          <a:custGeom>
            <a:avLst/>
            <a:gdLst/>
            <a:ahLst/>
            <a:rect l="l" t="t" r="r" b="b"/>
            <a:pathLst>
              <a:path w="119" h="142">
                <a:moveTo>
                  <a:pt x="118" y="141"/>
                </a:moveTo>
                <a:cubicBezTo>
                  <a:pt x="73" y="141"/>
                  <a:pt x="59" y="104"/>
                  <a:pt x="48" y="76"/>
                </a:cubicBezTo>
                <a:cubicBezTo>
                  <a:pt x="36" y="45"/>
                  <a:pt x="28" y="28"/>
                  <a:pt x="5" y="28"/>
                </a:cubicBezTo>
                <a:lnTo>
                  <a:pt x="0" y="0"/>
                </a:lnTo>
                <a:cubicBezTo>
                  <a:pt x="3" y="0"/>
                  <a:pt x="5" y="0"/>
                  <a:pt x="5" y="0"/>
                </a:cubicBezTo>
                <a:cubicBezTo>
                  <a:pt x="51" y="0"/>
                  <a:pt x="65" y="36"/>
                  <a:pt x="76" y="65"/>
                </a:cubicBezTo>
                <a:cubicBezTo>
                  <a:pt x="87" y="96"/>
                  <a:pt x="96" y="113"/>
                  <a:pt x="118" y="113"/>
                </a:cubicBezTo>
                <a:lnTo>
                  <a:pt x="118" y="1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359"/>
          <p:cNvSpPr/>
          <p:nvPr/>
        </p:nvSpPr>
        <p:spPr>
          <a:xfrm>
            <a:off x="8396280" y="6172200"/>
            <a:ext cx="50760" cy="71280"/>
          </a:xfrm>
          <a:custGeom>
            <a:avLst/>
            <a:gdLst/>
            <a:ahLst/>
            <a:rect l="l" t="t" r="r" b="b"/>
            <a:pathLst>
              <a:path w="77" h="106">
                <a:moveTo>
                  <a:pt x="0" y="105"/>
                </a:moveTo>
                <a:lnTo>
                  <a:pt x="0" y="77"/>
                </a:lnTo>
                <a:cubicBezTo>
                  <a:pt x="8" y="77"/>
                  <a:pt x="19" y="58"/>
                  <a:pt x="28" y="40"/>
                </a:cubicBezTo>
                <a:cubicBezTo>
                  <a:pt x="33" y="30"/>
                  <a:pt x="42" y="15"/>
                  <a:pt x="50" y="0"/>
                </a:cubicBezTo>
                <a:lnTo>
                  <a:pt x="62" y="9"/>
                </a:lnTo>
                <a:lnTo>
                  <a:pt x="76" y="9"/>
                </a:lnTo>
                <a:lnTo>
                  <a:pt x="76" y="9"/>
                </a:lnTo>
                <a:cubicBezTo>
                  <a:pt x="76" y="12"/>
                  <a:pt x="76" y="15"/>
                  <a:pt x="73" y="17"/>
                </a:cubicBezTo>
                <a:cubicBezTo>
                  <a:pt x="64" y="29"/>
                  <a:pt x="59" y="40"/>
                  <a:pt x="53" y="51"/>
                </a:cubicBezTo>
                <a:cubicBezTo>
                  <a:pt x="39" y="77"/>
                  <a:pt x="28" y="105"/>
                  <a:pt x="0" y="10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360"/>
          <p:cNvSpPr/>
          <p:nvPr/>
        </p:nvSpPr>
        <p:spPr>
          <a:xfrm>
            <a:off x="1438200" y="6935760"/>
            <a:ext cx="308160" cy="115920"/>
          </a:xfrm>
          <a:custGeom>
            <a:avLst/>
            <a:gdLst/>
            <a:ahLst/>
            <a:rect l="l" t="t" r="r" b="b"/>
            <a:pathLst>
              <a:path w="452" h="170">
                <a:moveTo>
                  <a:pt x="437" y="169"/>
                </a:moveTo>
                <a:lnTo>
                  <a:pt x="14" y="169"/>
                </a:lnTo>
                <a:cubicBezTo>
                  <a:pt x="5" y="169"/>
                  <a:pt x="0" y="163"/>
                  <a:pt x="0" y="155"/>
                </a:cubicBezTo>
                <a:lnTo>
                  <a:pt x="0" y="42"/>
                </a:lnTo>
                <a:cubicBezTo>
                  <a:pt x="0" y="19"/>
                  <a:pt x="19" y="0"/>
                  <a:pt x="42" y="0"/>
                </a:cubicBezTo>
                <a:lnTo>
                  <a:pt x="409" y="0"/>
                </a:lnTo>
                <a:cubicBezTo>
                  <a:pt x="432" y="0"/>
                  <a:pt x="451" y="19"/>
                  <a:pt x="451" y="42"/>
                </a:cubicBezTo>
                <a:lnTo>
                  <a:pt x="451" y="155"/>
                </a:lnTo>
                <a:cubicBezTo>
                  <a:pt x="451" y="163"/>
                  <a:pt x="446" y="169"/>
                  <a:pt x="437" y="169"/>
                </a:cubicBezTo>
                <a:close/>
                <a:moveTo>
                  <a:pt x="28" y="141"/>
                </a:moveTo>
                <a:lnTo>
                  <a:pt x="423" y="141"/>
                </a:lnTo>
                <a:lnTo>
                  <a:pt x="423" y="42"/>
                </a:lnTo>
                <a:cubicBezTo>
                  <a:pt x="423" y="34"/>
                  <a:pt x="417" y="28"/>
                  <a:pt x="409" y="28"/>
                </a:cubicBezTo>
                <a:lnTo>
                  <a:pt x="42" y="28"/>
                </a:lnTo>
                <a:cubicBezTo>
                  <a:pt x="34" y="28"/>
                  <a:pt x="28" y="34"/>
                  <a:pt x="28" y="42"/>
                </a:cubicBezTo>
                <a:lnTo>
                  <a:pt x="28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361"/>
          <p:cNvSpPr/>
          <p:nvPr/>
        </p:nvSpPr>
        <p:spPr>
          <a:xfrm>
            <a:off x="1460520" y="6838920"/>
            <a:ext cx="268200" cy="117360"/>
          </a:xfrm>
          <a:custGeom>
            <a:avLst/>
            <a:gdLst/>
            <a:ahLst/>
            <a:rect l="l" t="t" r="r" b="b"/>
            <a:pathLst>
              <a:path w="396" h="171">
                <a:moveTo>
                  <a:pt x="381" y="167"/>
                </a:moveTo>
                <a:cubicBezTo>
                  <a:pt x="375" y="167"/>
                  <a:pt x="370" y="164"/>
                  <a:pt x="367" y="158"/>
                </a:cubicBezTo>
                <a:lnTo>
                  <a:pt x="319" y="34"/>
                </a:lnTo>
                <a:cubicBezTo>
                  <a:pt x="316" y="29"/>
                  <a:pt x="310" y="26"/>
                  <a:pt x="305" y="26"/>
                </a:cubicBezTo>
                <a:lnTo>
                  <a:pt x="90" y="26"/>
                </a:lnTo>
                <a:cubicBezTo>
                  <a:pt x="85" y="26"/>
                  <a:pt x="79" y="29"/>
                  <a:pt x="76" y="34"/>
                </a:cubicBezTo>
                <a:lnTo>
                  <a:pt x="28" y="158"/>
                </a:lnTo>
                <a:cubicBezTo>
                  <a:pt x="25" y="167"/>
                  <a:pt x="17" y="170"/>
                  <a:pt x="11" y="167"/>
                </a:cubicBezTo>
                <a:cubicBezTo>
                  <a:pt x="3" y="164"/>
                  <a:pt x="0" y="156"/>
                  <a:pt x="3" y="150"/>
                </a:cubicBezTo>
                <a:lnTo>
                  <a:pt x="51" y="26"/>
                </a:lnTo>
                <a:cubicBezTo>
                  <a:pt x="56" y="9"/>
                  <a:pt x="73" y="0"/>
                  <a:pt x="90" y="0"/>
                </a:cubicBezTo>
                <a:lnTo>
                  <a:pt x="305" y="0"/>
                </a:lnTo>
                <a:cubicBezTo>
                  <a:pt x="322" y="0"/>
                  <a:pt x="339" y="12"/>
                  <a:pt x="344" y="26"/>
                </a:cubicBezTo>
                <a:lnTo>
                  <a:pt x="392" y="150"/>
                </a:lnTo>
                <a:cubicBezTo>
                  <a:pt x="395" y="158"/>
                  <a:pt x="392" y="164"/>
                  <a:pt x="384" y="167"/>
                </a:cubicBezTo>
                <a:cubicBezTo>
                  <a:pt x="384" y="167"/>
                  <a:pt x="384" y="167"/>
                  <a:pt x="381" y="16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362"/>
          <p:cNvSpPr/>
          <p:nvPr/>
        </p:nvSpPr>
        <p:spPr>
          <a:xfrm>
            <a:off x="1555920" y="6800760"/>
            <a:ext cx="77760" cy="60480"/>
          </a:xfrm>
          <a:custGeom>
            <a:avLst/>
            <a:gdLst/>
            <a:ahLst/>
            <a:rect l="l" t="t" r="r" b="b"/>
            <a:pathLst>
              <a:path w="114" h="86">
                <a:moveTo>
                  <a:pt x="99" y="85"/>
                </a:moveTo>
                <a:cubicBezTo>
                  <a:pt x="90" y="85"/>
                  <a:pt x="85" y="79"/>
                  <a:pt x="85" y="71"/>
                </a:cubicBezTo>
                <a:lnTo>
                  <a:pt x="85" y="28"/>
                </a:lnTo>
                <a:lnTo>
                  <a:pt x="28" y="28"/>
                </a:lnTo>
                <a:lnTo>
                  <a:pt x="28" y="71"/>
                </a:lnTo>
                <a:cubicBezTo>
                  <a:pt x="28" y="79"/>
                  <a:pt x="22" y="85"/>
                  <a:pt x="14" y="85"/>
                </a:cubicBezTo>
                <a:cubicBezTo>
                  <a:pt x="5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6"/>
                  <a:pt x="113" y="14"/>
                </a:cubicBezTo>
                <a:lnTo>
                  <a:pt x="113" y="71"/>
                </a:lnTo>
                <a:cubicBezTo>
                  <a:pt x="113" y="79"/>
                  <a:pt x="107" y="85"/>
                  <a:pt x="99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363"/>
          <p:cNvSpPr/>
          <p:nvPr/>
        </p:nvSpPr>
        <p:spPr>
          <a:xfrm>
            <a:off x="1477800" y="6962760"/>
            <a:ext cx="60480" cy="5868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85"/>
                </a:moveTo>
                <a:cubicBezTo>
                  <a:pt x="20" y="85"/>
                  <a:pt x="0" y="65"/>
                  <a:pt x="0" y="42"/>
                </a:cubicBezTo>
                <a:cubicBezTo>
                  <a:pt x="0" y="20"/>
                  <a:pt x="20" y="0"/>
                  <a:pt x="43" y="0"/>
                </a:cubicBezTo>
                <a:cubicBezTo>
                  <a:pt x="65" y="0"/>
                  <a:pt x="85" y="20"/>
                  <a:pt x="85" y="42"/>
                </a:cubicBezTo>
                <a:cubicBezTo>
                  <a:pt x="85" y="65"/>
                  <a:pt x="65" y="85"/>
                  <a:pt x="43" y="85"/>
                </a:cubicBezTo>
                <a:close/>
                <a:moveTo>
                  <a:pt x="43" y="28"/>
                </a:moveTo>
                <a:cubicBezTo>
                  <a:pt x="34" y="28"/>
                  <a:pt x="28" y="34"/>
                  <a:pt x="28" y="42"/>
                </a:cubicBezTo>
                <a:cubicBezTo>
                  <a:pt x="28" y="51"/>
                  <a:pt x="34" y="56"/>
                  <a:pt x="43" y="56"/>
                </a:cubicBezTo>
                <a:cubicBezTo>
                  <a:pt x="51" y="56"/>
                  <a:pt x="57" y="51"/>
                  <a:pt x="57" y="42"/>
                </a:cubicBezTo>
                <a:cubicBezTo>
                  <a:pt x="57" y="34"/>
                  <a:pt x="51" y="28"/>
                  <a:pt x="43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364"/>
          <p:cNvSpPr/>
          <p:nvPr/>
        </p:nvSpPr>
        <p:spPr>
          <a:xfrm>
            <a:off x="1650960" y="6962760"/>
            <a:ext cx="60480" cy="58680"/>
          </a:xfrm>
          <a:custGeom>
            <a:avLst/>
            <a:gdLst/>
            <a:ahLst/>
            <a:rect l="l" t="t" r="r" b="b"/>
            <a:pathLst>
              <a:path w="86" h="86">
                <a:moveTo>
                  <a:pt x="42" y="85"/>
                </a:moveTo>
                <a:cubicBezTo>
                  <a:pt x="20" y="85"/>
                  <a:pt x="0" y="65"/>
                  <a:pt x="0" y="42"/>
                </a:cubicBezTo>
                <a:cubicBezTo>
                  <a:pt x="0" y="20"/>
                  <a:pt x="19" y="0"/>
                  <a:pt x="42" y="0"/>
                </a:cubicBezTo>
                <a:cubicBezTo>
                  <a:pt x="64" y="0"/>
                  <a:pt x="85" y="20"/>
                  <a:pt x="85" y="42"/>
                </a:cubicBezTo>
                <a:cubicBezTo>
                  <a:pt x="85" y="65"/>
                  <a:pt x="65" y="85"/>
                  <a:pt x="42" y="85"/>
                </a:cubicBezTo>
                <a:close/>
                <a:moveTo>
                  <a:pt x="42" y="28"/>
                </a:moveTo>
                <a:cubicBezTo>
                  <a:pt x="34" y="28"/>
                  <a:pt x="28" y="34"/>
                  <a:pt x="28" y="42"/>
                </a:cubicBezTo>
                <a:cubicBezTo>
                  <a:pt x="28" y="51"/>
                  <a:pt x="33" y="56"/>
                  <a:pt x="42" y="56"/>
                </a:cubicBezTo>
                <a:cubicBezTo>
                  <a:pt x="50" y="56"/>
                  <a:pt x="57" y="51"/>
                  <a:pt x="57" y="42"/>
                </a:cubicBezTo>
                <a:cubicBezTo>
                  <a:pt x="57" y="34"/>
                  <a:pt x="51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365"/>
          <p:cNvSpPr/>
          <p:nvPr/>
        </p:nvSpPr>
        <p:spPr>
          <a:xfrm>
            <a:off x="1460520" y="7027920"/>
            <a:ext cx="5868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71" y="84"/>
                </a:moveTo>
                <a:lnTo>
                  <a:pt x="14" y="84"/>
                </a:lnTo>
                <a:cubicBezTo>
                  <a:pt x="6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56"/>
                </a:lnTo>
                <a:lnTo>
                  <a:pt x="56" y="56"/>
                </a:lnTo>
                <a:lnTo>
                  <a:pt x="56" y="14"/>
                </a:lnTo>
                <a:cubicBezTo>
                  <a:pt x="56" y="5"/>
                  <a:pt x="62" y="0"/>
                  <a:pt x="71" y="0"/>
                </a:cubicBezTo>
                <a:cubicBezTo>
                  <a:pt x="79" y="0"/>
                  <a:pt x="85" y="5"/>
                  <a:pt x="85" y="14"/>
                </a:cubicBezTo>
                <a:lnTo>
                  <a:pt x="85" y="70"/>
                </a:lnTo>
                <a:cubicBezTo>
                  <a:pt x="85" y="79"/>
                  <a:pt x="79" y="84"/>
                  <a:pt x="71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366"/>
          <p:cNvSpPr/>
          <p:nvPr/>
        </p:nvSpPr>
        <p:spPr>
          <a:xfrm>
            <a:off x="1668600" y="7027920"/>
            <a:ext cx="6012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71" y="84"/>
                </a:moveTo>
                <a:lnTo>
                  <a:pt x="14" y="84"/>
                </a:lnTo>
                <a:cubicBezTo>
                  <a:pt x="6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9" y="5"/>
                  <a:pt x="29" y="14"/>
                </a:cubicBezTo>
                <a:lnTo>
                  <a:pt x="29" y="56"/>
                </a:lnTo>
                <a:lnTo>
                  <a:pt x="57" y="56"/>
                </a:lnTo>
                <a:lnTo>
                  <a:pt x="57" y="14"/>
                </a:lnTo>
                <a:cubicBezTo>
                  <a:pt x="57" y="5"/>
                  <a:pt x="62" y="0"/>
                  <a:pt x="71" y="0"/>
                </a:cubicBezTo>
                <a:cubicBezTo>
                  <a:pt x="79" y="0"/>
                  <a:pt x="85" y="5"/>
                  <a:pt x="85" y="14"/>
                </a:cubicBezTo>
                <a:lnTo>
                  <a:pt x="85" y="70"/>
                </a:lnTo>
                <a:cubicBezTo>
                  <a:pt x="85" y="79"/>
                  <a:pt x="79" y="84"/>
                  <a:pt x="71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67"/>
          <p:cNvSpPr/>
          <p:nvPr/>
        </p:nvSpPr>
        <p:spPr>
          <a:xfrm>
            <a:off x="1542960" y="6962760"/>
            <a:ext cx="96840" cy="58680"/>
          </a:xfrm>
          <a:custGeom>
            <a:avLst/>
            <a:gdLst/>
            <a:ahLst/>
            <a:rect l="l" t="t" r="r" b="b"/>
            <a:pathLst>
              <a:path w="142" h="86">
                <a:moveTo>
                  <a:pt x="99" y="85"/>
                </a:moveTo>
                <a:lnTo>
                  <a:pt x="42" y="85"/>
                </a:lnTo>
                <a:cubicBezTo>
                  <a:pt x="37" y="85"/>
                  <a:pt x="31" y="82"/>
                  <a:pt x="31" y="76"/>
                </a:cubicBezTo>
                <a:lnTo>
                  <a:pt x="3" y="20"/>
                </a:lnTo>
                <a:cubicBezTo>
                  <a:pt x="0" y="14"/>
                  <a:pt x="0" y="12"/>
                  <a:pt x="3" y="6"/>
                </a:cubicBezTo>
                <a:cubicBezTo>
                  <a:pt x="6" y="1"/>
                  <a:pt x="11" y="0"/>
                  <a:pt x="14" y="0"/>
                </a:cubicBezTo>
                <a:lnTo>
                  <a:pt x="127" y="0"/>
                </a:lnTo>
                <a:cubicBezTo>
                  <a:pt x="133" y="0"/>
                  <a:pt x="135" y="3"/>
                  <a:pt x="138" y="6"/>
                </a:cubicBezTo>
                <a:cubicBezTo>
                  <a:pt x="141" y="9"/>
                  <a:pt x="141" y="14"/>
                  <a:pt x="138" y="20"/>
                </a:cubicBezTo>
                <a:lnTo>
                  <a:pt x="110" y="76"/>
                </a:lnTo>
                <a:cubicBezTo>
                  <a:pt x="110" y="82"/>
                  <a:pt x="104" y="85"/>
                  <a:pt x="99" y="85"/>
                </a:cubicBezTo>
                <a:close/>
                <a:moveTo>
                  <a:pt x="51" y="56"/>
                </a:moveTo>
                <a:lnTo>
                  <a:pt x="90" y="56"/>
                </a:lnTo>
                <a:lnTo>
                  <a:pt x="104" y="28"/>
                </a:lnTo>
                <a:lnTo>
                  <a:pt x="37" y="28"/>
                </a:lnTo>
                <a:lnTo>
                  <a:pt x="51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368"/>
          <p:cNvSpPr/>
          <p:nvPr/>
        </p:nvSpPr>
        <p:spPr>
          <a:xfrm>
            <a:off x="2205000" y="6818400"/>
            <a:ext cx="109440" cy="269640"/>
          </a:xfrm>
          <a:custGeom>
            <a:avLst/>
            <a:gdLst/>
            <a:ahLst/>
            <a:rect l="l" t="t" r="r" b="b"/>
            <a:pathLst>
              <a:path w="161" h="396">
                <a:moveTo>
                  <a:pt x="98" y="395"/>
                </a:moveTo>
                <a:cubicBezTo>
                  <a:pt x="42" y="395"/>
                  <a:pt x="0" y="308"/>
                  <a:pt x="0" y="198"/>
                </a:cubicBezTo>
                <a:cubicBezTo>
                  <a:pt x="0" y="88"/>
                  <a:pt x="42" y="0"/>
                  <a:pt x="98" y="0"/>
                </a:cubicBezTo>
                <a:cubicBezTo>
                  <a:pt x="118" y="0"/>
                  <a:pt x="138" y="12"/>
                  <a:pt x="155" y="34"/>
                </a:cubicBezTo>
                <a:cubicBezTo>
                  <a:pt x="160" y="40"/>
                  <a:pt x="158" y="48"/>
                  <a:pt x="152" y="54"/>
                </a:cubicBezTo>
                <a:cubicBezTo>
                  <a:pt x="146" y="60"/>
                  <a:pt x="138" y="57"/>
                  <a:pt x="132" y="51"/>
                </a:cubicBezTo>
                <a:cubicBezTo>
                  <a:pt x="124" y="40"/>
                  <a:pt x="112" y="29"/>
                  <a:pt x="98" y="29"/>
                </a:cubicBezTo>
                <a:cubicBezTo>
                  <a:pt x="64" y="29"/>
                  <a:pt x="28" y="99"/>
                  <a:pt x="28" y="198"/>
                </a:cubicBezTo>
                <a:cubicBezTo>
                  <a:pt x="28" y="297"/>
                  <a:pt x="64" y="367"/>
                  <a:pt x="98" y="367"/>
                </a:cubicBezTo>
                <a:cubicBezTo>
                  <a:pt x="112" y="367"/>
                  <a:pt x="124" y="356"/>
                  <a:pt x="132" y="345"/>
                </a:cubicBezTo>
                <a:cubicBezTo>
                  <a:pt x="138" y="339"/>
                  <a:pt x="146" y="336"/>
                  <a:pt x="152" y="342"/>
                </a:cubicBezTo>
                <a:cubicBezTo>
                  <a:pt x="158" y="348"/>
                  <a:pt x="160" y="356"/>
                  <a:pt x="155" y="362"/>
                </a:cubicBezTo>
                <a:cubicBezTo>
                  <a:pt x="138" y="384"/>
                  <a:pt x="118" y="395"/>
                  <a:pt x="98" y="3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369"/>
          <p:cNvSpPr/>
          <p:nvPr/>
        </p:nvSpPr>
        <p:spPr>
          <a:xfrm>
            <a:off x="2252520" y="7010280"/>
            <a:ext cx="68400" cy="20880"/>
          </a:xfrm>
          <a:custGeom>
            <a:avLst/>
            <a:gdLst/>
            <a:ahLst/>
            <a:rect l="l" t="t" r="r" b="b"/>
            <a:pathLst>
              <a:path w="100" h="29">
                <a:moveTo>
                  <a:pt x="85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85" y="0"/>
                </a:lnTo>
                <a:cubicBezTo>
                  <a:pt x="93" y="0"/>
                  <a:pt x="99" y="6"/>
                  <a:pt x="99" y="14"/>
                </a:cubicBezTo>
                <a:cubicBezTo>
                  <a:pt x="99" y="23"/>
                  <a:pt x="93" y="28"/>
                  <a:pt x="85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370"/>
          <p:cNvSpPr/>
          <p:nvPr/>
        </p:nvSpPr>
        <p:spPr>
          <a:xfrm>
            <a:off x="2262240" y="6875640"/>
            <a:ext cx="247680" cy="152280"/>
          </a:xfrm>
          <a:custGeom>
            <a:avLst/>
            <a:gdLst/>
            <a:ahLst/>
            <a:rect l="l" t="t" r="r" b="b"/>
            <a:pathLst>
              <a:path w="368" h="227">
                <a:moveTo>
                  <a:pt x="311" y="226"/>
                </a:moveTo>
                <a:lnTo>
                  <a:pt x="127" y="226"/>
                </a:lnTo>
                <a:cubicBezTo>
                  <a:pt x="119" y="226"/>
                  <a:pt x="113" y="221"/>
                  <a:pt x="113" y="212"/>
                </a:cubicBezTo>
                <a:cubicBezTo>
                  <a:pt x="113" y="204"/>
                  <a:pt x="119" y="198"/>
                  <a:pt x="127" y="198"/>
                </a:cubicBezTo>
                <a:lnTo>
                  <a:pt x="311" y="198"/>
                </a:lnTo>
                <a:cubicBezTo>
                  <a:pt x="328" y="198"/>
                  <a:pt x="339" y="186"/>
                  <a:pt x="339" y="169"/>
                </a:cubicBezTo>
                <a:cubicBezTo>
                  <a:pt x="339" y="161"/>
                  <a:pt x="336" y="155"/>
                  <a:pt x="330" y="150"/>
                </a:cubicBezTo>
                <a:lnTo>
                  <a:pt x="212" y="40"/>
                </a:lnTo>
                <a:cubicBezTo>
                  <a:pt x="203" y="31"/>
                  <a:pt x="195" y="28"/>
                  <a:pt x="184" y="28"/>
                </a:cubicBez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84" y="0"/>
                </a:lnTo>
                <a:cubicBezTo>
                  <a:pt x="201" y="0"/>
                  <a:pt x="217" y="6"/>
                  <a:pt x="232" y="20"/>
                </a:cubicBezTo>
                <a:lnTo>
                  <a:pt x="350" y="130"/>
                </a:lnTo>
                <a:cubicBezTo>
                  <a:pt x="361" y="141"/>
                  <a:pt x="367" y="155"/>
                  <a:pt x="367" y="172"/>
                </a:cubicBezTo>
                <a:cubicBezTo>
                  <a:pt x="367" y="200"/>
                  <a:pt x="342" y="226"/>
                  <a:pt x="311" y="22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71"/>
          <p:cNvSpPr/>
          <p:nvPr/>
        </p:nvSpPr>
        <p:spPr>
          <a:xfrm>
            <a:off x="2300400" y="6875640"/>
            <a:ext cx="193680" cy="95040"/>
          </a:xfrm>
          <a:custGeom>
            <a:avLst/>
            <a:gdLst/>
            <a:ahLst/>
            <a:rect l="l" t="t" r="r" b="b"/>
            <a:pathLst>
              <a:path w="286" h="142">
                <a:moveTo>
                  <a:pt x="271" y="141"/>
                </a:moveTo>
                <a:lnTo>
                  <a:pt x="197" y="141"/>
                </a:lnTo>
                <a:cubicBezTo>
                  <a:pt x="31" y="141"/>
                  <a:pt x="2" y="54"/>
                  <a:pt x="0" y="14"/>
                </a:cubicBez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cubicBezTo>
                  <a:pt x="31" y="45"/>
                  <a:pt x="53" y="113"/>
                  <a:pt x="197" y="113"/>
                </a:cubicBezTo>
                <a:lnTo>
                  <a:pt x="271" y="113"/>
                </a:lnTo>
                <a:cubicBezTo>
                  <a:pt x="279" y="113"/>
                  <a:pt x="285" y="119"/>
                  <a:pt x="285" y="127"/>
                </a:cubicBezTo>
                <a:cubicBezTo>
                  <a:pt x="285" y="136"/>
                  <a:pt x="279" y="141"/>
                  <a:pt x="271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72"/>
          <p:cNvSpPr/>
          <p:nvPr/>
        </p:nvSpPr>
        <p:spPr>
          <a:xfrm>
            <a:off x="2243160" y="6970680"/>
            <a:ext cx="60480" cy="20520"/>
          </a:xfrm>
          <a:custGeom>
            <a:avLst/>
            <a:gdLst/>
            <a:ahLst/>
            <a:rect l="l" t="t" r="r" b="b"/>
            <a:pathLst>
              <a:path w="86" h="29">
                <a:moveTo>
                  <a:pt x="71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71" y="0"/>
                </a:lnTo>
                <a:cubicBezTo>
                  <a:pt x="79" y="0"/>
                  <a:pt x="85" y="6"/>
                  <a:pt x="85" y="14"/>
                </a:cubicBezTo>
                <a:cubicBezTo>
                  <a:pt x="85" y="23"/>
                  <a:pt x="79" y="28"/>
                  <a:pt x="71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73"/>
          <p:cNvSpPr/>
          <p:nvPr/>
        </p:nvSpPr>
        <p:spPr>
          <a:xfrm>
            <a:off x="2243160" y="6935760"/>
            <a:ext cx="3960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42" y="0"/>
                </a:lnTo>
                <a:cubicBezTo>
                  <a:pt x="51" y="0"/>
                  <a:pt x="56" y="6"/>
                  <a:pt x="56" y="14"/>
                </a:cubicBezTo>
                <a:cubicBezTo>
                  <a:pt x="56" y="23"/>
                  <a:pt x="51" y="28"/>
                  <a:pt x="4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374"/>
          <p:cNvSpPr/>
          <p:nvPr/>
        </p:nvSpPr>
        <p:spPr>
          <a:xfrm>
            <a:off x="2970360" y="6991200"/>
            <a:ext cx="60120" cy="117720"/>
          </a:xfrm>
          <a:custGeom>
            <a:avLst/>
            <a:gdLst/>
            <a:ahLst/>
            <a:rect l="l" t="t" r="r" b="b"/>
            <a:pathLst>
              <a:path w="86" h="171">
                <a:moveTo>
                  <a:pt x="71" y="170"/>
                </a:moveTo>
                <a:lnTo>
                  <a:pt x="14" y="170"/>
                </a:lnTo>
                <a:cubicBezTo>
                  <a:pt x="6" y="170"/>
                  <a:pt x="0" y="164"/>
                  <a:pt x="0" y="156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71" y="0"/>
                </a:lnTo>
                <a:cubicBezTo>
                  <a:pt x="79" y="0"/>
                  <a:pt x="85" y="6"/>
                  <a:pt x="85" y="14"/>
                </a:cubicBezTo>
                <a:lnTo>
                  <a:pt x="85" y="156"/>
                </a:lnTo>
                <a:cubicBezTo>
                  <a:pt x="85" y="164"/>
                  <a:pt x="79" y="170"/>
                  <a:pt x="71" y="170"/>
                </a:cubicBezTo>
                <a:close/>
                <a:moveTo>
                  <a:pt x="29" y="141"/>
                </a:moveTo>
                <a:lnTo>
                  <a:pt x="57" y="141"/>
                </a:lnTo>
                <a:lnTo>
                  <a:pt x="57" y="29"/>
                </a:lnTo>
                <a:lnTo>
                  <a:pt x="29" y="29"/>
                </a:lnTo>
                <a:lnTo>
                  <a:pt x="29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375"/>
          <p:cNvSpPr/>
          <p:nvPr/>
        </p:nvSpPr>
        <p:spPr>
          <a:xfrm>
            <a:off x="3200400" y="6991200"/>
            <a:ext cx="60480" cy="117720"/>
          </a:xfrm>
          <a:custGeom>
            <a:avLst/>
            <a:gdLst/>
            <a:ahLst/>
            <a:rect l="l" t="t" r="r" b="b"/>
            <a:pathLst>
              <a:path w="86" h="171">
                <a:moveTo>
                  <a:pt x="70" y="170"/>
                </a:moveTo>
                <a:lnTo>
                  <a:pt x="14" y="170"/>
                </a:lnTo>
                <a:cubicBezTo>
                  <a:pt x="6" y="170"/>
                  <a:pt x="0" y="164"/>
                  <a:pt x="0" y="156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70" y="0"/>
                </a:lnTo>
                <a:cubicBezTo>
                  <a:pt x="79" y="0"/>
                  <a:pt x="85" y="6"/>
                  <a:pt x="85" y="14"/>
                </a:cubicBezTo>
                <a:lnTo>
                  <a:pt x="85" y="156"/>
                </a:lnTo>
                <a:cubicBezTo>
                  <a:pt x="85" y="164"/>
                  <a:pt x="79" y="170"/>
                  <a:pt x="70" y="170"/>
                </a:cubicBezTo>
                <a:close/>
                <a:moveTo>
                  <a:pt x="28" y="141"/>
                </a:moveTo>
                <a:lnTo>
                  <a:pt x="56" y="141"/>
                </a:lnTo>
                <a:lnTo>
                  <a:pt x="56" y="29"/>
                </a:lnTo>
                <a:lnTo>
                  <a:pt x="28" y="29"/>
                </a:lnTo>
                <a:lnTo>
                  <a:pt x="28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376"/>
          <p:cNvSpPr/>
          <p:nvPr/>
        </p:nvSpPr>
        <p:spPr>
          <a:xfrm>
            <a:off x="3009960" y="7067520"/>
            <a:ext cx="210960" cy="20520"/>
          </a:xfrm>
          <a:custGeom>
            <a:avLst/>
            <a:gdLst/>
            <a:ahLst/>
            <a:rect l="l" t="t" r="r" b="b"/>
            <a:pathLst>
              <a:path w="311" h="29">
                <a:moveTo>
                  <a:pt x="296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296" y="0"/>
                </a:lnTo>
                <a:cubicBezTo>
                  <a:pt x="305" y="0"/>
                  <a:pt x="310" y="6"/>
                  <a:pt x="310" y="14"/>
                </a:cubicBezTo>
                <a:cubicBezTo>
                  <a:pt x="310" y="23"/>
                  <a:pt x="305" y="28"/>
                  <a:pt x="296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77"/>
          <p:cNvSpPr/>
          <p:nvPr/>
        </p:nvSpPr>
        <p:spPr>
          <a:xfrm>
            <a:off x="3006720" y="6991200"/>
            <a:ext cx="211320" cy="60480"/>
          </a:xfrm>
          <a:custGeom>
            <a:avLst/>
            <a:gdLst/>
            <a:ahLst/>
            <a:rect l="l" t="t" r="r" b="b"/>
            <a:pathLst>
              <a:path w="314" h="86">
                <a:moveTo>
                  <a:pt x="299" y="85"/>
                </a:moveTo>
                <a:lnTo>
                  <a:pt x="214" y="85"/>
                </a:lnTo>
                <a:cubicBezTo>
                  <a:pt x="209" y="85"/>
                  <a:pt x="206" y="82"/>
                  <a:pt x="203" y="79"/>
                </a:cubicBezTo>
                <a:lnTo>
                  <a:pt x="164" y="29"/>
                </a:lnTo>
                <a:lnTo>
                  <a:pt x="149" y="29"/>
                </a:lnTo>
                <a:lnTo>
                  <a:pt x="110" y="79"/>
                </a:lnTo>
                <a:cubicBezTo>
                  <a:pt x="107" y="82"/>
                  <a:pt x="104" y="85"/>
                  <a:pt x="99" y="85"/>
                </a:cubicBezTo>
                <a:lnTo>
                  <a:pt x="14" y="85"/>
                </a:lnTo>
                <a:cubicBezTo>
                  <a:pt x="6" y="85"/>
                  <a:pt x="0" y="80"/>
                  <a:pt x="0" y="71"/>
                </a:cubicBezTo>
                <a:cubicBezTo>
                  <a:pt x="0" y="63"/>
                  <a:pt x="6" y="57"/>
                  <a:pt x="14" y="57"/>
                </a:cubicBezTo>
                <a:lnTo>
                  <a:pt x="93" y="57"/>
                </a:lnTo>
                <a:lnTo>
                  <a:pt x="133" y="6"/>
                </a:lnTo>
                <a:cubicBezTo>
                  <a:pt x="135" y="3"/>
                  <a:pt x="138" y="0"/>
                  <a:pt x="144" y="0"/>
                </a:cubicBezTo>
                <a:lnTo>
                  <a:pt x="172" y="0"/>
                </a:lnTo>
                <a:cubicBezTo>
                  <a:pt x="178" y="0"/>
                  <a:pt x="181" y="3"/>
                  <a:pt x="183" y="6"/>
                </a:cubicBezTo>
                <a:lnTo>
                  <a:pt x="223" y="57"/>
                </a:lnTo>
                <a:lnTo>
                  <a:pt x="299" y="57"/>
                </a:lnTo>
                <a:cubicBezTo>
                  <a:pt x="308" y="57"/>
                  <a:pt x="313" y="63"/>
                  <a:pt x="313" y="71"/>
                </a:cubicBezTo>
                <a:cubicBezTo>
                  <a:pt x="313" y="80"/>
                  <a:pt x="308" y="85"/>
                  <a:pt x="299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378"/>
          <p:cNvSpPr/>
          <p:nvPr/>
        </p:nvSpPr>
        <p:spPr>
          <a:xfrm>
            <a:off x="3105000" y="6838920"/>
            <a:ext cx="20880" cy="174600"/>
          </a:xfrm>
          <a:custGeom>
            <a:avLst/>
            <a:gdLst/>
            <a:ahLst/>
            <a:rect l="l" t="t" r="r" b="b"/>
            <a:pathLst>
              <a:path w="29" h="255">
                <a:moveTo>
                  <a:pt x="14" y="254"/>
                </a:moveTo>
                <a:cubicBezTo>
                  <a:pt x="5" y="254"/>
                  <a:pt x="0" y="248"/>
                  <a:pt x="0" y="239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239"/>
                </a:lnTo>
                <a:cubicBezTo>
                  <a:pt x="28" y="248"/>
                  <a:pt x="22" y="254"/>
                  <a:pt x="14" y="25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379"/>
          <p:cNvSpPr/>
          <p:nvPr/>
        </p:nvSpPr>
        <p:spPr>
          <a:xfrm>
            <a:off x="3087720" y="6800760"/>
            <a:ext cx="55440" cy="60480"/>
          </a:xfrm>
          <a:custGeom>
            <a:avLst/>
            <a:gdLst/>
            <a:ahLst/>
            <a:rect l="l" t="t" r="r" b="b"/>
            <a:pathLst>
              <a:path w="85" h="86">
                <a:moveTo>
                  <a:pt x="70" y="85"/>
                </a:moveTo>
                <a:lnTo>
                  <a:pt x="14" y="85"/>
                </a:lnTo>
                <a:cubicBezTo>
                  <a:pt x="5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6"/>
                  <a:pt x="84" y="14"/>
                </a:cubicBezTo>
                <a:lnTo>
                  <a:pt x="84" y="71"/>
                </a:lnTo>
                <a:cubicBezTo>
                  <a:pt x="84" y="79"/>
                  <a:pt x="79" y="85"/>
                  <a:pt x="70" y="85"/>
                </a:cubicBezTo>
                <a:close/>
                <a:moveTo>
                  <a:pt x="28" y="57"/>
                </a:moveTo>
                <a:lnTo>
                  <a:pt x="56" y="57"/>
                </a:lnTo>
                <a:lnTo>
                  <a:pt x="56" y="28"/>
                </a:lnTo>
                <a:lnTo>
                  <a:pt x="28" y="28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80"/>
          <p:cNvSpPr/>
          <p:nvPr/>
        </p:nvSpPr>
        <p:spPr>
          <a:xfrm>
            <a:off x="3027240" y="6818400"/>
            <a:ext cx="77760" cy="20520"/>
          </a:xfrm>
          <a:custGeom>
            <a:avLst/>
            <a:gdLst/>
            <a:ahLst/>
            <a:rect l="l" t="t" r="r" b="b"/>
            <a:pathLst>
              <a:path w="114" h="30">
                <a:moveTo>
                  <a:pt x="99" y="29"/>
                </a:moveTo>
                <a:lnTo>
                  <a:pt x="14" y="29"/>
                </a:lnTo>
                <a:cubicBezTo>
                  <a:pt x="6" y="29"/>
                  <a:pt x="0" y="24"/>
                  <a:pt x="0" y="15"/>
                </a:cubicBezTo>
                <a:cubicBezTo>
                  <a:pt x="0" y="7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7"/>
                  <a:pt x="113" y="15"/>
                </a:cubicBezTo>
                <a:cubicBezTo>
                  <a:pt x="113" y="24"/>
                  <a:pt x="107" y="29"/>
                  <a:pt x="99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381"/>
          <p:cNvSpPr/>
          <p:nvPr/>
        </p:nvSpPr>
        <p:spPr>
          <a:xfrm>
            <a:off x="3122640" y="6818400"/>
            <a:ext cx="77760" cy="20520"/>
          </a:xfrm>
          <a:custGeom>
            <a:avLst/>
            <a:gdLst/>
            <a:ahLst/>
            <a:rect l="l" t="t" r="r" b="b"/>
            <a:pathLst>
              <a:path w="114" h="30">
                <a:moveTo>
                  <a:pt x="99" y="29"/>
                </a:moveTo>
                <a:lnTo>
                  <a:pt x="14" y="29"/>
                </a:lnTo>
                <a:cubicBezTo>
                  <a:pt x="6" y="29"/>
                  <a:pt x="0" y="24"/>
                  <a:pt x="0" y="15"/>
                </a:cubicBezTo>
                <a:cubicBezTo>
                  <a:pt x="0" y="7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7"/>
                  <a:pt x="113" y="15"/>
                </a:cubicBezTo>
                <a:cubicBezTo>
                  <a:pt x="113" y="24"/>
                  <a:pt x="107" y="29"/>
                  <a:pt x="99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382"/>
          <p:cNvSpPr/>
          <p:nvPr/>
        </p:nvSpPr>
        <p:spPr>
          <a:xfrm>
            <a:off x="3774960" y="7027920"/>
            <a:ext cx="57240" cy="57240"/>
          </a:xfrm>
          <a:custGeom>
            <a:avLst/>
            <a:gdLst/>
            <a:ahLst/>
            <a:rect l="l" t="t" r="r" b="b"/>
            <a:pathLst>
              <a:path w="85" h="85">
                <a:moveTo>
                  <a:pt x="70" y="84"/>
                </a:moveTo>
                <a:lnTo>
                  <a:pt x="14" y="84"/>
                </a:ln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5"/>
                  <a:pt x="84" y="14"/>
                </a:cubicBezTo>
                <a:lnTo>
                  <a:pt x="84" y="70"/>
                </a:lnTo>
                <a:cubicBezTo>
                  <a:pt x="84" y="79"/>
                  <a:pt x="79" y="84"/>
                  <a:pt x="70" y="84"/>
                </a:cubicBezTo>
                <a:close/>
                <a:moveTo>
                  <a:pt x="28" y="56"/>
                </a:moveTo>
                <a:lnTo>
                  <a:pt x="56" y="56"/>
                </a:lnTo>
                <a:lnTo>
                  <a:pt x="56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383"/>
          <p:cNvSpPr/>
          <p:nvPr/>
        </p:nvSpPr>
        <p:spPr>
          <a:xfrm>
            <a:off x="3944880" y="7027920"/>
            <a:ext cx="6048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71" y="84"/>
                </a:moveTo>
                <a:lnTo>
                  <a:pt x="15" y="84"/>
                </a:lnTo>
                <a:cubicBezTo>
                  <a:pt x="6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6" y="0"/>
                  <a:pt x="15" y="0"/>
                </a:cubicBezTo>
                <a:lnTo>
                  <a:pt x="71" y="0"/>
                </a:lnTo>
                <a:cubicBezTo>
                  <a:pt x="80" y="0"/>
                  <a:pt x="85" y="5"/>
                  <a:pt x="85" y="14"/>
                </a:cubicBezTo>
                <a:lnTo>
                  <a:pt x="85" y="70"/>
                </a:lnTo>
                <a:cubicBezTo>
                  <a:pt x="85" y="79"/>
                  <a:pt x="80" y="84"/>
                  <a:pt x="71" y="84"/>
                </a:cubicBezTo>
                <a:close/>
                <a:moveTo>
                  <a:pt x="29" y="56"/>
                </a:moveTo>
                <a:lnTo>
                  <a:pt x="57" y="56"/>
                </a:lnTo>
                <a:lnTo>
                  <a:pt x="57" y="28"/>
                </a:lnTo>
                <a:lnTo>
                  <a:pt x="29" y="28"/>
                </a:lnTo>
                <a:lnTo>
                  <a:pt x="2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84"/>
          <p:cNvSpPr/>
          <p:nvPr/>
        </p:nvSpPr>
        <p:spPr>
          <a:xfrm>
            <a:off x="3735360" y="7027920"/>
            <a:ext cx="309600" cy="20520"/>
          </a:xfrm>
          <a:custGeom>
            <a:avLst/>
            <a:gdLst/>
            <a:ahLst/>
            <a:rect l="l" t="t" r="r" b="b"/>
            <a:pathLst>
              <a:path w="453" h="29">
                <a:moveTo>
                  <a:pt x="437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437" y="0"/>
                </a:lnTo>
                <a:cubicBezTo>
                  <a:pt x="446" y="0"/>
                  <a:pt x="452" y="6"/>
                  <a:pt x="452" y="14"/>
                </a:cubicBezTo>
                <a:cubicBezTo>
                  <a:pt x="452" y="23"/>
                  <a:pt x="446" y="28"/>
                  <a:pt x="43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385"/>
          <p:cNvSpPr/>
          <p:nvPr/>
        </p:nvSpPr>
        <p:spPr>
          <a:xfrm>
            <a:off x="3754440" y="6939000"/>
            <a:ext cx="268200" cy="109440"/>
          </a:xfrm>
          <a:custGeom>
            <a:avLst/>
            <a:gdLst/>
            <a:ahLst/>
            <a:rect l="l" t="t" r="r" b="b"/>
            <a:pathLst>
              <a:path w="396" h="165">
                <a:moveTo>
                  <a:pt x="381" y="164"/>
                </a:moveTo>
                <a:lnTo>
                  <a:pt x="14" y="164"/>
                </a:lnTo>
                <a:cubicBezTo>
                  <a:pt x="6" y="164"/>
                  <a:pt x="0" y="158"/>
                  <a:pt x="0" y="150"/>
                </a:cubicBezTo>
                <a:lnTo>
                  <a:pt x="0" y="65"/>
                </a:lnTo>
                <a:cubicBezTo>
                  <a:pt x="0" y="40"/>
                  <a:pt x="14" y="17"/>
                  <a:pt x="34" y="3"/>
                </a:cubicBezTo>
                <a:cubicBezTo>
                  <a:pt x="40" y="0"/>
                  <a:pt x="48" y="0"/>
                  <a:pt x="54" y="9"/>
                </a:cubicBezTo>
                <a:cubicBezTo>
                  <a:pt x="57" y="14"/>
                  <a:pt x="57" y="23"/>
                  <a:pt x="48" y="29"/>
                </a:cubicBezTo>
                <a:cubicBezTo>
                  <a:pt x="34" y="37"/>
                  <a:pt x="26" y="51"/>
                  <a:pt x="26" y="65"/>
                </a:cubicBezTo>
                <a:lnTo>
                  <a:pt x="26" y="136"/>
                </a:lnTo>
                <a:lnTo>
                  <a:pt x="364" y="136"/>
                </a:lnTo>
                <a:lnTo>
                  <a:pt x="364" y="65"/>
                </a:lnTo>
                <a:cubicBezTo>
                  <a:pt x="364" y="51"/>
                  <a:pt x="356" y="37"/>
                  <a:pt x="342" y="29"/>
                </a:cubicBezTo>
                <a:cubicBezTo>
                  <a:pt x="336" y="26"/>
                  <a:pt x="333" y="17"/>
                  <a:pt x="336" y="9"/>
                </a:cubicBezTo>
                <a:cubicBezTo>
                  <a:pt x="339" y="3"/>
                  <a:pt x="347" y="0"/>
                  <a:pt x="356" y="3"/>
                </a:cubicBezTo>
                <a:cubicBezTo>
                  <a:pt x="378" y="17"/>
                  <a:pt x="390" y="40"/>
                  <a:pt x="390" y="65"/>
                </a:cubicBezTo>
                <a:lnTo>
                  <a:pt x="390" y="150"/>
                </a:lnTo>
                <a:cubicBezTo>
                  <a:pt x="395" y="158"/>
                  <a:pt x="390" y="164"/>
                  <a:pt x="381" y="16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386"/>
          <p:cNvSpPr/>
          <p:nvPr/>
        </p:nvSpPr>
        <p:spPr>
          <a:xfrm>
            <a:off x="3774960" y="6838920"/>
            <a:ext cx="230400" cy="120600"/>
          </a:xfrm>
          <a:custGeom>
            <a:avLst/>
            <a:gdLst/>
            <a:ahLst/>
            <a:rect l="l" t="t" r="r" b="b"/>
            <a:pathLst>
              <a:path w="339" h="178">
                <a:moveTo>
                  <a:pt x="324" y="177"/>
                </a:moveTo>
                <a:cubicBezTo>
                  <a:pt x="316" y="177"/>
                  <a:pt x="310" y="172"/>
                  <a:pt x="310" y="163"/>
                </a:cubicBezTo>
                <a:lnTo>
                  <a:pt x="310" y="98"/>
                </a:lnTo>
                <a:cubicBezTo>
                  <a:pt x="310" y="59"/>
                  <a:pt x="279" y="28"/>
                  <a:pt x="239" y="28"/>
                </a:cubicBezTo>
                <a:lnTo>
                  <a:pt x="98" y="28"/>
                </a:lnTo>
                <a:cubicBezTo>
                  <a:pt x="59" y="28"/>
                  <a:pt x="28" y="59"/>
                  <a:pt x="28" y="98"/>
                </a:cubicBezTo>
                <a:lnTo>
                  <a:pt x="28" y="163"/>
                </a:lnTo>
                <a:cubicBezTo>
                  <a:pt x="28" y="172"/>
                  <a:pt x="22" y="177"/>
                  <a:pt x="14" y="177"/>
                </a:cubicBezTo>
                <a:cubicBezTo>
                  <a:pt x="5" y="177"/>
                  <a:pt x="0" y="172"/>
                  <a:pt x="0" y="163"/>
                </a:cubicBezTo>
                <a:lnTo>
                  <a:pt x="0" y="98"/>
                </a:lnTo>
                <a:cubicBezTo>
                  <a:pt x="0" y="45"/>
                  <a:pt x="45" y="0"/>
                  <a:pt x="98" y="0"/>
                </a:cubicBezTo>
                <a:lnTo>
                  <a:pt x="239" y="0"/>
                </a:lnTo>
                <a:cubicBezTo>
                  <a:pt x="293" y="0"/>
                  <a:pt x="338" y="45"/>
                  <a:pt x="338" y="98"/>
                </a:cubicBezTo>
                <a:lnTo>
                  <a:pt x="338" y="163"/>
                </a:lnTo>
                <a:cubicBezTo>
                  <a:pt x="338" y="172"/>
                  <a:pt x="333" y="177"/>
                  <a:pt x="324" y="17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387"/>
          <p:cNvSpPr/>
          <p:nvPr/>
        </p:nvSpPr>
        <p:spPr>
          <a:xfrm>
            <a:off x="3792600" y="6970680"/>
            <a:ext cx="39600" cy="39600"/>
          </a:xfrm>
          <a:custGeom>
            <a:avLst/>
            <a:gdLst/>
            <a:ahLst/>
            <a:rect l="l" t="t" r="r" b="b"/>
            <a:pathLst>
              <a:path w="57" h="58">
                <a:moveTo>
                  <a:pt x="28" y="57"/>
                </a:moveTo>
                <a:cubicBezTo>
                  <a:pt x="11" y="57"/>
                  <a:pt x="0" y="45"/>
                  <a:pt x="0" y="28"/>
                </a:cubicBezTo>
                <a:cubicBezTo>
                  <a:pt x="0" y="11"/>
                  <a:pt x="11" y="0"/>
                  <a:pt x="28" y="0"/>
                </a:cubicBezTo>
                <a:cubicBezTo>
                  <a:pt x="45" y="0"/>
                  <a:pt x="56" y="11"/>
                  <a:pt x="56" y="28"/>
                </a:cubicBezTo>
                <a:cubicBezTo>
                  <a:pt x="56" y="45"/>
                  <a:pt x="45" y="57"/>
                  <a:pt x="28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88"/>
          <p:cNvSpPr/>
          <p:nvPr/>
        </p:nvSpPr>
        <p:spPr>
          <a:xfrm>
            <a:off x="3944880" y="6970680"/>
            <a:ext cx="39600" cy="396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7"/>
                </a:moveTo>
                <a:cubicBezTo>
                  <a:pt x="12" y="57"/>
                  <a:pt x="0" y="45"/>
                  <a:pt x="0" y="28"/>
                </a:cubicBezTo>
                <a:cubicBezTo>
                  <a:pt x="0" y="11"/>
                  <a:pt x="12" y="0"/>
                  <a:pt x="29" y="0"/>
                </a:cubicBezTo>
                <a:cubicBezTo>
                  <a:pt x="46" y="0"/>
                  <a:pt x="57" y="11"/>
                  <a:pt x="57" y="28"/>
                </a:cubicBezTo>
                <a:cubicBezTo>
                  <a:pt x="57" y="45"/>
                  <a:pt x="46" y="57"/>
                  <a:pt x="29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389"/>
          <p:cNvSpPr/>
          <p:nvPr/>
        </p:nvSpPr>
        <p:spPr>
          <a:xfrm>
            <a:off x="3774960" y="6935760"/>
            <a:ext cx="230400" cy="77760"/>
          </a:xfrm>
          <a:custGeom>
            <a:avLst/>
            <a:gdLst/>
            <a:ahLst/>
            <a:rect l="l" t="t" r="r" b="b"/>
            <a:pathLst>
              <a:path w="340" h="114">
                <a:moveTo>
                  <a:pt x="167" y="113"/>
                </a:moveTo>
                <a:cubicBezTo>
                  <a:pt x="136" y="113"/>
                  <a:pt x="108" y="93"/>
                  <a:pt x="99" y="62"/>
                </a:cubicBezTo>
                <a:cubicBezTo>
                  <a:pt x="93" y="42"/>
                  <a:pt x="74" y="28"/>
                  <a:pt x="51" y="28"/>
                </a:cubicBez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51" y="0"/>
                </a:lnTo>
                <a:cubicBezTo>
                  <a:pt x="85" y="0"/>
                  <a:pt x="116" y="22"/>
                  <a:pt x="127" y="53"/>
                </a:cubicBezTo>
                <a:cubicBezTo>
                  <a:pt x="133" y="70"/>
                  <a:pt x="150" y="84"/>
                  <a:pt x="170" y="84"/>
                </a:cubicBezTo>
                <a:cubicBezTo>
                  <a:pt x="189" y="84"/>
                  <a:pt x="206" y="73"/>
                  <a:pt x="212" y="53"/>
                </a:cubicBezTo>
                <a:cubicBezTo>
                  <a:pt x="223" y="22"/>
                  <a:pt x="254" y="0"/>
                  <a:pt x="288" y="0"/>
                </a:cubicBezTo>
                <a:lnTo>
                  <a:pt x="325" y="0"/>
                </a:lnTo>
                <a:cubicBezTo>
                  <a:pt x="333" y="0"/>
                  <a:pt x="339" y="6"/>
                  <a:pt x="339" y="14"/>
                </a:cubicBezTo>
                <a:cubicBezTo>
                  <a:pt x="339" y="23"/>
                  <a:pt x="333" y="28"/>
                  <a:pt x="325" y="28"/>
                </a:cubicBezTo>
                <a:lnTo>
                  <a:pt x="288" y="28"/>
                </a:lnTo>
                <a:cubicBezTo>
                  <a:pt x="266" y="28"/>
                  <a:pt x="246" y="42"/>
                  <a:pt x="240" y="62"/>
                </a:cubicBezTo>
                <a:cubicBezTo>
                  <a:pt x="226" y="93"/>
                  <a:pt x="198" y="113"/>
                  <a:pt x="167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390"/>
          <p:cNvSpPr/>
          <p:nvPr/>
        </p:nvSpPr>
        <p:spPr>
          <a:xfrm>
            <a:off x="3774960" y="6908760"/>
            <a:ext cx="233640" cy="47520"/>
          </a:xfrm>
          <a:custGeom>
            <a:avLst/>
            <a:gdLst/>
            <a:ahLst/>
            <a:rect l="l" t="t" r="r" b="b"/>
            <a:pathLst>
              <a:path w="346" h="69">
                <a:moveTo>
                  <a:pt x="325" y="65"/>
                </a:moveTo>
                <a:cubicBezTo>
                  <a:pt x="322" y="65"/>
                  <a:pt x="322" y="65"/>
                  <a:pt x="319" y="65"/>
                </a:cubicBezTo>
                <a:cubicBezTo>
                  <a:pt x="223" y="28"/>
                  <a:pt x="116" y="28"/>
                  <a:pt x="20" y="65"/>
                </a:cubicBezTo>
                <a:cubicBezTo>
                  <a:pt x="12" y="68"/>
                  <a:pt x="5" y="65"/>
                  <a:pt x="3" y="56"/>
                </a:cubicBezTo>
                <a:cubicBezTo>
                  <a:pt x="0" y="48"/>
                  <a:pt x="3" y="42"/>
                  <a:pt x="12" y="40"/>
                </a:cubicBezTo>
                <a:cubicBezTo>
                  <a:pt x="116" y="0"/>
                  <a:pt x="229" y="0"/>
                  <a:pt x="334" y="40"/>
                </a:cubicBezTo>
                <a:cubicBezTo>
                  <a:pt x="342" y="42"/>
                  <a:pt x="345" y="51"/>
                  <a:pt x="342" y="56"/>
                </a:cubicBezTo>
                <a:cubicBezTo>
                  <a:pt x="336" y="62"/>
                  <a:pt x="331" y="65"/>
                  <a:pt x="325" y="6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391"/>
          <p:cNvSpPr/>
          <p:nvPr/>
        </p:nvSpPr>
        <p:spPr>
          <a:xfrm>
            <a:off x="3879720" y="6913440"/>
            <a:ext cx="20880" cy="96840"/>
          </a:xfrm>
          <a:custGeom>
            <a:avLst/>
            <a:gdLst/>
            <a:ahLst/>
            <a:rect l="l" t="t" r="r" b="b"/>
            <a:pathLst>
              <a:path w="29" h="142">
                <a:moveTo>
                  <a:pt x="14" y="141"/>
                </a:moveTo>
                <a:cubicBezTo>
                  <a:pt x="5" y="141"/>
                  <a:pt x="0" y="135"/>
                  <a:pt x="0" y="126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126"/>
                </a:lnTo>
                <a:cubicBezTo>
                  <a:pt x="28" y="135"/>
                  <a:pt x="22" y="141"/>
                  <a:pt x="1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392"/>
          <p:cNvSpPr/>
          <p:nvPr/>
        </p:nvSpPr>
        <p:spPr>
          <a:xfrm>
            <a:off x="4614840" y="692316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7" y="112"/>
                </a:moveTo>
                <a:cubicBezTo>
                  <a:pt x="26" y="112"/>
                  <a:pt x="0" y="87"/>
                  <a:pt x="0" y="56"/>
                </a:cubicBezTo>
                <a:cubicBezTo>
                  <a:pt x="0" y="25"/>
                  <a:pt x="26" y="0"/>
                  <a:pt x="57" y="0"/>
                </a:cubicBezTo>
                <a:cubicBezTo>
                  <a:pt x="88" y="0"/>
                  <a:pt x="113" y="25"/>
                  <a:pt x="113" y="56"/>
                </a:cubicBezTo>
                <a:cubicBezTo>
                  <a:pt x="113" y="87"/>
                  <a:pt x="88" y="112"/>
                  <a:pt x="57" y="112"/>
                </a:cubicBezTo>
                <a:close/>
                <a:moveTo>
                  <a:pt x="57" y="28"/>
                </a:moveTo>
                <a:cubicBezTo>
                  <a:pt x="40" y="28"/>
                  <a:pt x="28" y="39"/>
                  <a:pt x="28" y="56"/>
                </a:cubicBezTo>
                <a:cubicBezTo>
                  <a:pt x="28" y="73"/>
                  <a:pt x="40" y="84"/>
                  <a:pt x="57" y="84"/>
                </a:cubicBezTo>
                <a:cubicBezTo>
                  <a:pt x="74" y="84"/>
                  <a:pt x="85" y="73"/>
                  <a:pt x="85" y="56"/>
                </a:cubicBezTo>
                <a:cubicBezTo>
                  <a:pt x="85" y="39"/>
                  <a:pt x="74" y="28"/>
                  <a:pt x="57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393"/>
          <p:cNvSpPr/>
          <p:nvPr/>
        </p:nvSpPr>
        <p:spPr>
          <a:xfrm>
            <a:off x="4627440" y="6827760"/>
            <a:ext cx="6048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3" y="84"/>
                </a:moveTo>
                <a:cubicBezTo>
                  <a:pt x="20" y="84"/>
                  <a:pt x="0" y="65"/>
                  <a:pt x="0" y="42"/>
                </a:cubicBezTo>
                <a:cubicBezTo>
                  <a:pt x="0" y="20"/>
                  <a:pt x="20" y="0"/>
                  <a:pt x="43" y="0"/>
                </a:cubicBezTo>
                <a:cubicBezTo>
                  <a:pt x="65" y="0"/>
                  <a:pt x="85" y="20"/>
                  <a:pt x="85" y="42"/>
                </a:cubicBezTo>
                <a:cubicBezTo>
                  <a:pt x="85" y="65"/>
                  <a:pt x="65" y="84"/>
                  <a:pt x="43" y="84"/>
                </a:cubicBezTo>
                <a:close/>
                <a:moveTo>
                  <a:pt x="43" y="28"/>
                </a:moveTo>
                <a:cubicBezTo>
                  <a:pt x="34" y="28"/>
                  <a:pt x="29" y="34"/>
                  <a:pt x="29" y="42"/>
                </a:cubicBezTo>
                <a:cubicBezTo>
                  <a:pt x="29" y="51"/>
                  <a:pt x="34" y="56"/>
                  <a:pt x="43" y="56"/>
                </a:cubicBezTo>
                <a:cubicBezTo>
                  <a:pt x="51" y="56"/>
                  <a:pt x="57" y="51"/>
                  <a:pt x="57" y="42"/>
                </a:cubicBezTo>
                <a:cubicBezTo>
                  <a:pt x="57" y="34"/>
                  <a:pt x="51" y="28"/>
                  <a:pt x="43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94"/>
          <p:cNvSpPr/>
          <p:nvPr/>
        </p:nvSpPr>
        <p:spPr>
          <a:xfrm>
            <a:off x="4532400" y="6983280"/>
            <a:ext cx="61920" cy="61920"/>
          </a:xfrm>
          <a:custGeom>
            <a:avLst/>
            <a:gdLst/>
            <a:ahLst/>
            <a:rect l="l" t="t" r="r" b="b"/>
            <a:pathLst>
              <a:path w="94" h="91">
                <a:moveTo>
                  <a:pt x="45" y="90"/>
                </a:moveTo>
                <a:cubicBezTo>
                  <a:pt x="31" y="90"/>
                  <a:pt x="17" y="82"/>
                  <a:pt x="8" y="68"/>
                </a:cubicBezTo>
                <a:cubicBezTo>
                  <a:pt x="3" y="59"/>
                  <a:pt x="0" y="45"/>
                  <a:pt x="6" y="37"/>
                </a:cubicBezTo>
                <a:cubicBezTo>
                  <a:pt x="8" y="25"/>
                  <a:pt x="17" y="17"/>
                  <a:pt x="25" y="11"/>
                </a:cubicBezTo>
                <a:lnTo>
                  <a:pt x="25" y="11"/>
                </a:lnTo>
                <a:cubicBezTo>
                  <a:pt x="45" y="0"/>
                  <a:pt x="71" y="6"/>
                  <a:pt x="82" y="25"/>
                </a:cubicBezTo>
                <a:cubicBezTo>
                  <a:pt x="93" y="45"/>
                  <a:pt x="87" y="71"/>
                  <a:pt x="68" y="82"/>
                </a:cubicBezTo>
                <a:cubicBezTo>
                  <a:pt x="62" y="88"/>
                  <a:pt x="54" y="90"/>
                  <a:pt x="45" y="90"/>
                </a:cubicBezTo>
                <a:close/>
                <a:moveTo>
                  <a:pt x="40" y="34"/>
                </a:moveTo>
                <a:cubicBezTo>
                  <a:pt x="37" y="37"/>
                  <a:pt x="34" y="40"/>
                  <a:pt x="34" y="42"/>
                </a:cubicBezTo>
                <a:cubicBezTo>
                  <a:pt x="34" y="45"/>
                  <a:pt x="34" y="51"/>
                  <a:pt x="34" y="54"/>
                </a:cubicBezTo>
                <a:cubicBezTo>
                  <a:pt x="37" y="59"/>
                  <a:pt x="45" y="62"/>
                  <a:pt x="54" y="59"/>
                </a:cubicBezTo>
                <a:cubicBezTo>
                  <a:pt x="59" y="57"/>
                  <a:pt x="62" y="48"/>
                  <a:pt x="59" y="40"/>
                </a:cubicBezTo>
                <a:cubicBezTo>
                  <a:pt x="54" y="34"/>
                  <a:pt x="45" y="31"/>
                  <a:pt x="40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395"/>
          <p:cNvSpPr/>
          <p:nvPr/>
        </p:nvSpPr>
        <p:spPr>
          <a:xfrm>
            <a:off x="4498920" y="6800760"/>
            <a:ext cx="314280" cy="277920"/>
          </a:xfrm>
          <a:custGeom>
            <a:avLst/>
            <a:gdLst/>
            <a:ahLst/>
            <a:rect l="l" t="t" r="r" b="b"/>
            <a:pathLst>
              <a:path w="464" h="408">
                <a:moveTo>
                  <a:pt x="96" y="404"/>
                </a:moveTo>
                <a:cubicBezTo>
                  <a:pt x="88" y="404"/>
                  <a:pt x="82" y="404"/>
                  <a:pt x="74" y="401"/>
                </a:cubicBezTo>
                <a:cubicBezTo>
                  <a:pt x="51" y="395"/>
                  <a:pt x="34" y="381"/>
                  <a:pt x="23" y="361"/>
                </a:cubicBezTo>
                <a:cubicBezTo>
                  <a:pt x="0" y="322"/>
                  <a:pt x="14" y="268"/>
                  <a:pt x="54" y="246"/>
                </a:cubicBezTo>
                <a:cubicBezTo>
                  <a:pt x="59" y="243"/>
                  <a:pt x="68" y="240"/>
                  <a:pt x="74" y="237"/>
                </a:cubicBezTo>
                <a:cubicBezTo>
                  <a:pt x="74" y="237"/>
                  <a:pt x="74" y="237"/>
                  <a:pt x="76" y="237"/>
                </a:cubicBezTo>
                <a:cubicBezTo>
                  <a:pt x="136" y="220"/>
                  <a:pt x="164" y="170"/>
                  <a:pt x="150" y="107"/>
                </a:cubicBezTo>
                <a:lnTo>
                  <a:pt x="150" y="105"/>
                </a:lnTo>
                <a:cubicBezTo>
                  <a:pt x="147" y="99"/>
                  <a:pt x="147" y="93"/>
                  <a:pt x="147" y="85"/>
                </a:cubicBezTo>
                <a:cubicBezTo>
                  <a:pt x="147" y="37"/>
                  <a:pt x="184" y="0"/>
                  <a:pt x="232" y="0"/>
                </a:cubicBezTo>
                <a:cubicBezTo>
                  <a:pt x="280" y="0"/>
                  <a:pt x="316" y="37"/>
                  <a:pt x="316" y="85"/>
                </a:cubicBezTo>
                <a:cubicBezTo>
                  <a:pt x="316" y="90"/>
                  <a:pt x="316" y="99"/>
                  <a:pt x="313" y="105"/>
                </a:cubicBezTo>
                <a:cubicBezTo>
                  <a:pt x="313" y="105"/>
                  <a:pt x="313" y="105"/>
                  <a:pt x="313" y="107"/>
                </a:cubicBezTo>
                <a:lnTo>
                  <a:pt x="313" y="107"/>
                </a:lnTo>
                <a:cubicBezTo>
                  <a:pt x="297" y="167"/>
                  <a:pt x="328" y="220"/>
                  <a:pt x="387" y="237"/>
                </a:cubicBezTo>
                <a:cubicBezTo>
                  <a:pt x="387" y="237"/>
                  <a:pt x="387" y="237"/>
                  <a:pt x="390" y="237"/>
                </a:cubicBezTo>
                <a:cubicBezTo>
                  <a:pt x="398" y="240"/>
                  <a:pt x="404" y="243"/>
                  <a:pt x="409" y="246"/>
                </a:cubicBezTo>
                <a:cubicBezTo>
                  <a:pt x="449" y="268"/>
                  <a:pt x="463" y="322"/>
                  <a:pt x="440" y="361"/>
                </a:cubicBezTo>
                <a:cubicBezTo>
                  <a:pt x="429" y="381"/>
                  <a:pt x="412" y="395"/>
                  <a:pt x="390" y="401"/>
                </a:cubicBezTo>
                <a:cubicBezTo>
                  <a:pt x="367" y="407"/>
                  <a:pt x="344" y="404"/>
                  <a:pt x="325" y="392"/>
                </a:cubicBezTo>
                <a:cubicBezTo>
                  <a:pt x="319" y="390"/>
                  <a:pt x="313" y="384"/>
                  <a:pt x="308" y="381"/>
                </a:cubicBezTo>
                <a:lnTo>
                  <a:pt x="308" y="381"/>
                </a:lnTo>
                <a:cubicBezTo>
                  <a:pt x="265" y="339"/>
                  <a:pt x="203" y="339"/>
                  <a:pt x="158" y="381"/>
                </a:cubicBezTo>
                <a:lnTo>
                  <a:pt x="158" y="381"/>
                </a:lnTo>
                <a:cubicBezTo>
                  <a:pt x="153" y="387"/>
                  <a:pt x="147" y="390"/>
                  <a:pt x="141" y="392"/>
                </a:cubicBezTo>
                <a:cubicBezTo>
                  <a:pt x="127" y="398"/>
                  <a:pt x="113" y="404"/>
                  <a:pt x="96" y="404"/>
                </a:cubicBezTo>
                <a:close/>
                <a:moveTo>
                  <a:pt x="82" y="263"/>
                </a:moveTo>
                <a:cubicBezTo>
                  <a:pt x="76" y="263"/>
                  <a:pt x="74" y="265"/>
                  <a:pt x="71" y="268"/>
                </a:cubicBezTo>
                <a:cubicBezTo>
                  <a:pt x="43" y="285"/>
                  <a:pt x="34" y="319"/>
                  <a:pt x="51" y="344"/>
                </a:cubicBezTo>
                <a:cubicBezTo>
                  <a:pt x="59" y="359"/>
                  <a:pt x="71" y="367"/>
                  <a:pt x="85" y="370"/>
                </a:cubicBezTo>
                <a:cubicBezTo>
                  <a:pt x="99" y="373"/>
                  <a:pt x="116" y="373"/>
                  <a:pt x="127" y="364"/>
                </a:cubicBezTo>
                <a:cubicBezTo>
                  <a:pt x="130" y="361"/>
                  <a:pt x="136" y="359"/>
                  <a:pt x="138" y="356"/>
                </a:cubicBezTo>
                <a:lnTo>
                  <a:pt x="138" y="356"/>
                </a:lnTo>
                <a:cubicBezTo>
                  <a:pt x="192" y="302"/>
                  <a:pt x="271" y="302"/>
                  <a:pt x="325" y="356"/>
                </a:cubicBezTo>
                <a:cubicBezTo>
                  <a:pt x="325" y="356"/>
                  <a:pt x="325" y="356"/>
                  <a:pt x="328" y="359"/>
                </a:cubicBezTo>
                <a:lnTo>
                  <a:pt x="328" y="359"/>
                </a:lnTo>
                <a:cubicBezTo>
                  <a:pt x="330" y="361"/>
                  <a:pt x="336" y="364"/>
                  <a:pt x="339" y="367"/>
                </a:cubicBezTo>
                <a:cubicBezTo>
                  <a:pt x="353" y="376"/>
                  <a:pt x="367" y="376"/>
                  <a:pt x="381" y="373"/>
                </a:cubicBezTo>
                <a:cubicBezTo>
                  <a:pt x="395" y="370"/>
                  <a:pt x="407" y="359"/>
                  <a:pt x="415" y="347"/>
                </a:cubicBezTo>
                <a:cubicBezTo>
                  <a:pt x="432" y="319"/>
                  <a:pt x="421" y="285"/>
                  <a:pt x="395" y="271"/>
                </a:cubicBezTo>
                <a:cubicBezTo>
                  <a:pt x="392" y="268"/>
                  <a:pt x="387" y="268"/>
                  <a:pt x="384" y="265"/>
                </a:cubicBezTo>
                <a:cubicBezTo>
                  <a:pt x="384" y="265"/>
                  <a:pt x="384" y="265"/>
                  <a:pt x="381" y="265"/>
                </a:cubicBezTo>
                <a:cubicBezTo>
                  <a:pt x="305" y="246"/>
                  <a:pt x="268" y="178"/>
                  <a:pt x="285" y="105"/>
                </a:cubicBezTo>
                <a:lnTo>
                  <a:pt x="285" y="105"/>
                </a:lnTo>
                <a:lnTo>
                  <a:pt x="285" y="105"/>
                </a:lnTo>
                <a:lnTo>
                  <a:pt x="285" y="102"/>
                </a:lnTo>
                <a:cubicBezTo>
                  <a:pt x="285" y="99"/>
                  <a:pt x="288" y="93"/>
                  <a:pt x="288" y="88"/>
                </a:cubicBezTo>
                <a:cubicBezTo>
                  <a:pt x="288" y="57"/>
                  <a:pt x="263" y="31"/>
                  <a:pt x="232" y="31"/>
                </a:cubicBezTo>
                <a:cubicBezTo>
                  <a:pt x="201" y="31"/>
                  <a:pt x="175" y="57"/>
                  <a:pt x="175" y="88"/>
                </a:cubicBezTo>
                <a:cubicBezTo>
                  <a:pt x="175" y="93"/>
                  <a:pt x="175" y="96"/>
                  <a:pt x="178" y="102"/>
                </a:cubicBezTo>
                <a:lnTo>
                  <a:pt x="178" y="105"/>
                </a:lnTo>
                <a:cubicBezTo>
                  <a:pt x="198" y="178"/>
                  <a:pt x="158" y="243"/>
                  <a:pt x="82" y="26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396"/>
          <p:cNvSpPr/>
          <p:nvPr/>
        </p:nvSpPr>
        <p:spPr>
          <a:xfrm>
            <a:off x="4714920" y="6983280"/>
            <a:ext cx="61920" cy="61920"/>
          </a:xfrm>
          <a:custGeom>
            <a:avLst/>
            <a:gdLst/>
            <a:ahLst/>
            <a:rect l="l" t="t" r="r" b="b"/>
            <a:pathLst>
              <a:path w="94" h="91">
                <a:moveTo>
                  <a:pt x="48" y="90"/>
                </a:moveTo>
                <a:cubicBezTo>
                  <a:pt x="40" y="90"/>
                  <a:pt x="34" y="88"/>
                  <a:pt x="28" y="85"/>
                </a:cubicBezTo>
                <a:lnTo>
                  <a:pt x="28" y="85"/>
                </a:lnTo>
                <a:cubicBezTo>
                  <a:pt x="9" y="73"/>
                  <a:pt x="0" y="48"/>
                  <a:pt x="14" y="28"/>
                </a:cubicBezTo>
                <a:cubicBezTo>
                  <a:pt x="25" y="9"/>
                  <a:pt x="51" y="0"/>
                  <a:pt x="71" y="14"/>
                </a:cubicBezTo>
                <a:cubicBezTo>
                  <a:pt x="79" y="20"/>
                  <a:pt x="87" y="29"/>
                  <a:pt x="90" y="40"/>
                </a:cubicBezTo>
                <a:cubicBezTo>
                  <a:pt x="92" y="52"/>
                  <a:pt x="93" y="62"/>
                  <a:pt x="85" y="71"/>
                </a:cubicBezTo>
                <a:cubicBezTo>
                  <a:pt x="79" y="79"/>
                  <a:pt x="71" y="88"/>
                  <a:pt x="59" y="90"/>
                </a:cubicBezTo>
                <a:cubicBezTo>
                  <a:pt x="54" y="88"/>
                  <a:pt x="51" y="90"/>
                  <a:pt x="48" y="90"/>
                </a:cubicBezTo>
                <a:close/>
                <a:moveTo>
                  <a:pt x="48" y="34"/>
                </a:moveTo>
                <a:cubicBezTo>
                  <a:pt x="42" y="34"/>
                  <a:pt x="40" y="37"/>
                  <a:pt x="37" y="40"/>
                </a:cubicBezTo>
                <a:cubicBezTo>
                  <a:pt x="34" y="45"/>
                  <a:pt x="34" y="54"/>
                  <a:pt x="42" y="59"/>
                </a:cubicBezTo>
                <a:lnTo>
                  <a:pt x="42" y="59"/>
                </a:lnTo>
                <a:cubicBezTo>
                  <a:pt x="45" y="62"/>
                  <a:pt x="51" y="62"/>
                  <a:pt x="54" y="59"/>
                </a:cubicBezTo>
                <a:cubicBezTo>
                  <a:pt x="57" y="59"/>
                  <a:pt x="59" y="57"/>
                  <a:pt x="62" y="54"/>
                </a:cubicBezTo>
                <a:cubicBezTo>
                  <a:pt x="65" y="51"/>
                  <a:pt x="65" y="48"/>
                  <a:pt x="65" y="42"/>
                </a:cubicBezTo>
                <a:cubicBezTo>
                  <a:pt x="65" y="40"/>
                  <a:pt x="62" y="37"/>
                  <a:pt x="59" y="34"/>
                </a:cubicBezTo>
                <a:cubicBezTo>
                  <a:pt x="51" y="34"/>
                  <a:pt x="48" y="34"/>
                  <a:pt x="48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397"/>
          <p:cNvSpPr/>
          <p:nvPr/>
        </p:nvSpPr>
        <p:spPr>
          <a:xfrm>
            <a:off x="4746600" y="6842160"/>
            <a:ext cx="57240" cy="81000"/>
          </a:xfrm>
          <a:custGeom>
            <a:avLst/>
            <a:gdLst/>
            <a:ahLst/>
            <a:rect l="l" t="t" r="r" b="b"/>
            <a:pathLst>
              <a:path w="83" h="120">
                <a:moveTo>
                  <a:pt x="68" y="119"/>
                </a:moveTo>
                <a:cubicBezTo>
                  <a:pt x="62" y="119"/>
                  <a:pt x="57" y="116"/>
                  <a:pt x="54" y="108"/>
                </a:cubicBezTo>
                <a:cubicBezTo>
                  <a:pt x="45" y="76"/>
                  <a:pt x="28" y="48"/>
                  <a:pt x="6" y="26"/>
                </a:cubicBezTo>
                <a:cubicBezTo>
                  <a:pt x="0" y="20"/>
                  <a:pt x="0" y="12"/>
                  <a:pt x="6" y="6"/>
                </a:cubicBezTo>
                <a:cubicBezTo>
                  <a:pt x="11" y="0"/>
                  <a:pt x="20" y="0"/>
                  <a:pt x="25" y="6"/>
                </a:cubicBezTo>
                <a:cubicBezTo>
                  <a:pt x="51" y="31"/>
                  <a:pt x="71" y="65"/>
                  <a:pt x="79" y="102"/>
                </a:cubicBezTo>
                <a:cubicBezTo>
                  <a:pt x="82" y="110"/>
                  <a:pt x="76" y="116"/>
                  <a:pt x="71" y="119"/>
                </a:cubicBezTo>
                <a:lnTo>
                  <a:pt x="68" y="11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398"/>
          <p:cNvSpPr/>
          <p:nvPr/>
        </p:nvSpPr>
        <p:spPr>
          <a:xfrm>
            <a:off x="4508640" y="6842160"/>
            <a:ext cx="55440" cy="81000"/>
          </a:xfrm>
          <a:custGeom>
            <a:avLst/>
            <a:gdLst/>
            <a:ahLst/>
            <a:rect l="l" t="t" r="r" b="b"/>
            <a:pathLst>
              <a:path w="83" h="120">
                <a:moveTo>
                  <a:pt x="14" y="119"/>
                </a:moveTo>
                <a:lnTo>
                  <a:pt x="12" y="119"/>
                </a:lnTo>
                <a:cubicBezTo>
                  <a:pt x="3" y="116"/>
                  <a:pt x="0" y="110"/>
                  <a:pt x="3" y="102"/>
                </a:cubicBezTo>
                <a:cubicBezTo>
                  <a:pt x="12" y="65"/>
                  <a:pt x="31" y="34"/>
                  <a:pt x="57" y="6"/>
                </a:cubicBezTo>
                <a:cubicBezTo>
                  <a:pt x="62" y="0"/>
                  <a:pt x="71" y="0"/>
                  <a:pt x="77" y="6"/>
                </a:cubicBezTo>
                <a:cubicBezTo>
                  <a:pt x="82" y="12"/>
                  <a:pt x="82" y="21"/>
                  <a:pt x="77" y="26"/>
                </a:cubicBezTo>
                <a:cubicBezTo>
                  <a:pt x="54" y="49"/>
                  <a:pt x="37" y="76"/>
                  <a:pt x="29" y="108"/>
                </a:cubicBezTo>
                <a:cubicBezTo>
                  <a:pt x="26" y="116"/>
                  <a:pt x="20" y="119"/>
                  <a:pt x="14" y="11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399"/>
          <p:cNvSpPr/>
          <p:nvPr/>
        </p:nvSpPr>
        <p:spPr>
          <a:xfrm>
            <a:off x="4613400" y="7081920"/>
            <a:ext cx="88920" cy="27000"/>
          </a:xfrm>
          <a:custGeom>
            <a:avLst/>
            <a:gdLst/>
            <a:ahLst/>
            <a:rect l="l" t="t" r="r" b="b"/>
            <a:pathLst>
              <a:path w="133" h="38">
                <a:moveTo>
                  <a:pt x="65" y="37"/>
                </a:moveTo>
                <a:cubicBezTo>
                  <a:pt x="45" y="37"/>
                  <a:pt x="28" y="34"/>
                  <a:pt x="11" y="31"/>
                </a:cubicBezTo>
                <a:cubicBezTo>
                  <a:pt x="3" y="28"/>
                  <a:pt x="0" y="23"/>
                  <a:pt x="0" y="14"/>
                </a:cubicBezTo>
                <a:cubicBezTo>
                  <a:pt x="0" y="6"/>
                  <a:pt x="8" y="3"/>
                  <a:pt x="17" y="3"/>
                </a:cubicBezTo>
                <a:cubicBezTo>
                  <a:pt x="48" y="11"/>
                  <a:pt x="82" y="11"/>
                  <a:pt x="113" y="3"/>
                </a:cubicBezTo>
                <a:cubicBezTo>
                  <a:pt x="121" y="0"/>
                  <a:pt x="127" y="6"/>
                  <a:pt x="130" y="14"/>
                </a:cubicBezTo>
                <a:cubicBezTo>
                  <a:pt x="132" y="23"/>
                  <a:pt x="127" y="28"/>
                  <a:pt x="118" y="31"/>
                </a:cubicBezTo>
                <a:cubicBezTo>
                  <a:pt x="101" y="34"/>
                  <a:pt x="84" y="37"/>
                  <a:pt x="65" y="3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400"/>
          <p:cNvSpPr/>
          <p:nvPr/>
        </p:nvSpPr>
        <p:spPr>
          <a:xfrm>
            <a:off x="4719600" y="6869160"/>
            <a:ext cx="49320" cy="66600"/>
          </a:xfrm>
          <a:custGeom>
            <a:avLst/>
            <a:gdLst/>
            <a:ahLst/>
            <a:rect l="l" t="t" r="r" b="b"/>
            <a:pathLst>
              <a:path w="72" h="97">
                <a:moveTo>
                  <a:pt x="54" y="96"/>
                </a:moveTo>
                <a:cubicBezTo>
                  <a:pt x="49" y="96"/>
                  <a:pt x="43" y="93"/>
                  <a:pt x="40" y="84"/>
                </a:cubicBezTo>
                <a:cubicBezTo>
                  <a:pt x="34" y="62"/>
                  <a:pt x="23" y="42"/>
                  <a:pt x="6" y="25"/>
                </a:cubicBezTo>
                <a:cubicBezTo>
                  <a:pt x="1" y="20"/>
                  <a:pt x="0" y="11"/>
                  <a:pt x="6" y="5"/>
                </a:cubicBezTo>
                <a:cubicBezTo>
                  <a:pt x="11" y="0"/>
                  <a:pt x="20" y="0"/>
                  <a:pt x="26" y="5"/>
                </a:cubicBezTo>
                <a:cubicBezTo>
                  <a:pt x="46" y="25"/>
                  <a:pt x="60" y="51"/>
                  <a:pt x="68" y="76"/>
                </a:cubicBezTo>
                <a:cubicBezTo>
                  <a:pt x="71" y="84"/>
                  <a:pt x="65" y="90"/>
                  <a:pt x="57" y="93"/>
                </a:cubicBezTo>
                <a:cubicBezTo>
                  <a:pt x="57" y="96"/>
                  <a:pt x="54" y="96"/>
                  <a:pt x="54" y="9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401"/>
          <p:cNvSpPr/>
          <p:nvPr/>
        </p:nvSpPr>
        <p:spPr>
          <a:xfrm>
            <a:off x="4543560" y="6869160"/>
            <a:ext cx="47520" cy="63360"/>
          </a:xfrm>
          <a:custGeom>
            <a:avLst/>
            <a:gdLst/>
            <a:ahLst/>
            <a:rect l="l" t="t" r="r" b="b"/>
            <a:pathLst>
              <a:path w="69" h="94">
                <a:moveTo>
                  <a:pt x="14" y="93"/>
                </a:moveTo>
                <a:lnTo>
                  <a:pt x="11" y="93"/>
                </a:lnTo>
                <a:cubicBezTo>
                  <a:pt x="3" y="90"/>
                  <a:pt x="0" y="84"/>
                  <a:pt x="0" y="76"/>
                </a:cubicBezTo>
                <a:cubicBezTo>
                  <a:pt x="8" y="50"/>
                  <a:pt x="22" y="25"/>
                  <a:pt x="42" y="5"/>
                </a:cubicBezTo>
                <a:cubicBezTo>
                  <a:pt x="47" y="0"/>
                  <a:pt x="56" y="0"/>
                  <a:pt x="62" y="5"/>
                </a:cubicBezTo>
                <a:cubicBezTo>
                  <a:pt x="68" y="11"/>
                  <a:pt x="68" y="19"/>
                  <a:pt x="62" y="25"/>
                </a:cubicBezTo>
                <a:cubicBezTo>
                  <a:pt x="45" y="42"/>
                  <a:pt x="34" y="62"/>
                  <a:pt x="28" y="84"/>
                </a:cubicBezTo>
                <a:cubicBezTo>
                  <a:pt x="25" y="87"/>
                  <a:pt x="20" y="93"/>
                  <a:pt x="14" y="9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402"/>
          <p:cNvSpPr/>
          <p:nvPr/>
        </p:nvSpPr>
        <p:spPr>
          <a:xfrm>
            <a:off x="4618080" y="7043760"/>
            <a:ext cx="73080" cy="23760"/>
          </a:xfrm>
          <a:custGeom>
            <a:avLst/>
            <a:gdLst/>
            <a:ahLst/>
            <a:rect l="l" t="t" r="r" b="b"/>
            <a:pathLst>
              <a:path w="105" h="37">
                <a:moveTo>
                  <a:pt x="54" y="36"/>
                </a:moveTo>
                <a:cubicBezTo>
                  <a:pt x="40" y="36"/>
                  <a:pt x="25" y="33"/>
                  <a:pt x="11" y="31"/>
                </a:cubicBezTo>
                <a:cubicBezTo>
                  <a:pt x="3" y="28"/>
                  <a:pt x="0" y="22"/>
                  <a:pt x="0" y="14"/>
                </a:cubicBezTo>
                <a:cubicBezTo>
                  <a:pt x="3" y="5"/>
                  <a:pt x="8" y="2"/>
                  <a:pt x="17" y="2"/>
                </a:cubicBezTo>
                <a:cubicBezTo>
                  <a:pt x="40" y="8"/>
                  <a:pt x="62" y="8"/>
                  <a:pt x="85" y="2"/>
                </a:cubicBezTo>
                <a:cubicBezTo>
                  <a:pt x="93" y="0"/>
                  <a:pt x="99" y="5"/>
                  <a:pt x="102" y="14"/>
                </a:cubicBezTo>
                <a:cubicBezTo>
                  <a:pt x="104" y="22"/>
                  <a:pt x="99" y="28"/>
                  <a:pt x="90" y="31"/>
                </a:cubicBezTo>
                <a:cubicBezTo>
                  <a:pt x="82" y="33"/>
                  <a:pt x="68" y="36"/>
                  <a:pt x="54" y="3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403"/>
          <p:cNvSpPr/>
          <p:nvPr/>
        </p:nvSpPr>
        <p:spPr>
          <a:xfrm>
            <a:off x="5286240" y="6818400"/>
            <a:ext cx="230400" cy="135000"/>
          </a:xfrm>
          <a:custGeom>
            <a:avLst/>
            <a:gdLst/>
            <a:ahLst/>
            <a:rect l="l" t="t" r="r" b="b"/>
            <a:pathLst>
              <a:path w="339" h="199">
                <a:moveTo>
                  <a:pt x="310" y="198"/>
                </a:moveTo>
                <a:lnTo>
                  <a:pt x="28" y="198"/>
                </a:lnTo>
                <a:cubicBezTo>
                  <a:pt x="11" y="198"/>
                  <a:pt x="0" y="187"/>
                  <a:pt x="0" y="170"/>
                </a:cubicBezTo>
                <a:lnTo>
                  <a:pt x="0" y="29"/>
                </a:lnTo>
                <a:cubicBezTo>
                  <a:pt x="0" y="12"/>
                  <a:pt x="11" y="0"/>
                  <a:pt x="28" y="0"/>
                </a:cubicBezTo>
                <a:lnTo>
                  <a:pt x="310" y="0"/>
                </a:lnTo>
                <a:cubicBezTo>
                  <a:pt x="327" y="0"/>
                  <a:pt x="338" y="12"/>
                  <a:pt x="338" y="29"/>
                </a:cubicBezTo>
                <a:lnTo>
                  <a:pt x="338" y="170"/>
                </a:lnTo>
                <a:cubicBezTo>
                  <a:pt x="338" y="187"/>
                  <a:pt x="327" y="198"/>
                  <a:pt x="310" y="198"/>
                </a:cubicBezTo>
                <a:close/>
                <a:moveTo>
                  <a:pt x="28" y="29"/>
                </a:moveTo>
                <a:lnTo>
                  <a:pt x="28" y="170"/>
                </a:lnTo>
                <a:lnTo>
                  <a:pt x="310" y="170"/>
                </a:lnTo>
                <a:lnTo>
                  <a:pt x="310" y="29"/>
                </a:lnTo>
                <a:lnTo>
                  <a:pt x="2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404"/>
          <p:cNvSpPr/>
          <p:nvPr/>
        </p:nvSpPr>
        <p:spPr>
          <a:xfrm>
            <a:off x="5364000" y="6935760"/>
            <a:ext cx="95400" cy="55440"/>
          </a:xfrm>
          <a:custGeom>
            <a:avLst/>
            <a:gdLst/>
            <a:ahLst/>
            <a:rect l="l" t="t" r="r" b="b"/>
            <a:pathLst>
              <a:path w="142" h="85">
                <a:moveTo>
                  <a:pt x="127" y="84"/>
                </a:moveTo>
                <a:lnTo>
                  <a:pt x="14" y="84"/>
                </a:ln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127" y="0"/>
                </a:lnTo>
                <a:cubicBezTo>
                  <a:pt x="135" y="0"/>
                  <a:pt x="141" y="5"/>
                  <a:pt x="141" y="14"/>
                </a:cubicBezTo>
                <a:lnTo>
                  <a:pt x="141" y="70"/>
                </a:lnTo>
                <a:cubicBezTo>
                  <a:pt x="141" y="79"/>
                  <a:pt x="135" y="84"/>
                  <a:pt x="127" y="84"/>
                </a:cubicBezTo>
                <a:close/>
                <a:moveTo>
                  <a:pt x="28" y="56"/>
                </a:moveTo>
                <a:lnTo>
                  <a:pt x="113" y="56"/>
                </a:lnTo>
                <a:lnTo>
                  <a:pt x="113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405"/>
          <p:cNvSpPr/>
          <p:nvPr/>
        </p:nvSpPr>
        <p:spPr>
          <a:xfrm>
            <a:off x="5459400" y="6818400"/>
            <a:ext cx="20520" cy="135000"/>
          </a:xfrm>
          <a:custGeom>
            <a:avLst/>
            <a:gdLst/>
            <a:ahLst/>
            <a:rect l="l" t="t" r="r" b="b"/>
            <a:pathLst>
              <a:path w="29" h="199">
                <a:moveTo>
                  <a:pt x="14" y="198"/>
                </a:moveTo>
                <a:cubicBezTo>
                  <a:pt x="5" y="198"/>
                  <a:pt x="0" y="192"/>
                  <a:pt x="0" y="184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184"/>
                </a:lnTo>
                <a:cubicBezTo>
                  <a:pt x="28" y="192"/>
                  <a:pt x="22" y="198"/>
                  <a:pt x="14" y="19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406"/>
          <p:cNvSpPr/>
          <p:nvPr/>
        </p:nvSpPr>
        <p:spPr>
          <a:xfrm>
            <a:off x="5402160" y="6800760"/>
            <a:ext cx="20880" cy="38160"/>
          </a:xfrm>
          <a:custGeom>
            <a:avLst/>
            <a:gdLst/>
            <a:ahLst/>
            <a:rect l="l" t="t" r="r" b="b"/>
            <a:pathLst>
              <a:path w="29" h="58">
                <a:moveTo>
                  <a:pt x="14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43"/>
                </a:lnTo>
                <a:cubicBezTo>
                  <a:pt x="28" y="51"/>
                  <a:pt x="23" y="57"/>
                  <a:pt x="14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407"/>
          <p:cNvSpPr/>
          <p:nvPr/>
        </p:nvSpPr>
        <p:spPr>
          <a:xfrm>
            <a:off x="5398920" y="6970680"/>
            <a:ext cx="68400" cy="6984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88" y="99"/>
                </a:moveTo>
                <a:cubicBezTo>
                  <a:pt x="85" y="99"/>
                  <a:pt x="79" y="99"/>
                  <a:pt x="77" y="96"/>
                </a:cubicBezTo>
                <a:lnTo>
                  <a:pt x="6" y="26"/>
                </a:lnTo>
                <a:cubicBezTo>
                  <a:pt x="0" y="20"/>
                  <a:pt x="0" y="12"/>
                  <a:pt x="6" y="6"/>
                </a:cubicBezTo>
                <a:cubicBezTo>
                  <a:pt x="12" y="1"/>
                  <a:pt x="20" y="0"/>
                  <a:pt x="26" y="6"/>
                </a:cubicBezTo>
                <a:lnTo>
                  <a:pt x="96" y="76"/>
                </a:lnTo>
                <a:cubicBezTo>
                  <a:pt x="102" y="82"/>
                  <a:pt x="102" y="90"/>
                  <a:pt x="96" y="96"/>
                </a:cubicBezTo>
                <a:cubicBezTo>
                  <a:pt x="96" y="99"/>
                  <a:pt x="91" y="99"/>
                  <a:pt x="88" y="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408"/>
          <p:cNvSpPr/>
          <p:nvPr/>
        </p:nvSpPr>
        <p:spPr>
          <a:xfrm>
            <a:off x="5432400" y="7007400"/>
            <a:ext cx="112680" cy="98280"/>
          </a:xfrm>
          <a:custGeom>
            <a:avLst/>
            <a:gdLst/>
            <a:ahLst/>
            <a:rect l="l" t="t" r="r" b="b"/>
            <a:pathLst>
              <a:path w="168" h="145">
                <a:moveTo>
                  <a:pt x="110" y="144"/>
                </a:moveTo>
                <a:cubicBezTo>
                  <a:pt x="108" y="144"/>
                  <a:pt x="105" y="144"/>
                  <a:pt x="102" y="141"/>
                </a:cubicBezTo>
                <a:lnTo>
                  <a:pt x="6" y="65"/>
                </a:lnTo>
                <a:cubicBezTo>
                  <a:pt x="3" y="62"/>
                  <a:pt x="0" y="59"/>
                  <a:pt x="0" y="53"/>
                </a:cubicBezTo>
                <a:cubicBezTo>
                  <a:pt x="0" y="51"/>
                  <a:pt x="3" y="45"/>
                  <a:pt x="6" y="42"/>
                </a:cubicBezTo>
                <a:lnTo>
                  <a:pt x="48" y="5"/>
                </a:lnTo>
                <a:cubicBezTo>
                  <a:pt x="54" y="0"/>
                  <a:pt x="62" y="0"/>
                  <a:pt x="65" y="5"/>
                </a:cubicBezTo>
                <a:lnTo>
                  <a:pt x="161" y="82"/>
                </a:lnTo>
                <a:cubicBezTo>
                  <a:pt x="164" y="84"/>
                  <a:pt x="167" y="87"/>
                  <a:pt x="167" y="93"/>
                </a:cubicBezTo>
                <a:cubicBezTo>
                  <a:pt x="167" y="96"/>
                  <a:pt x="164" y="101"/>
                  <a:pt x="161" y="104"/>
                </a:cubicBezTo>
                <a:lnTo>
                  <a:pt x="119" y="141"/>
                </a:lnTo>
                <a:cubicBezTo>
                  <a:pt x="119" y="144"/>
                  <a:pt x="113" y="144"/>
                  <a:pt x="110" y="144"/>
                </a:cubicBezTo>
                <a:close/>
                <a:moveTo>
                  <a:pt x="37" y="53"/>
                </a:moveTo>
                <a:lnTo>
                  <a:pt x="110" y="113"/>
                </a:lnTo>
                <a:lnTo>
                  <a:pt x="130" y="93"/>
                </a:lnTo>
                <a:lnTo>
                  <a:pt x="57" y="34"/>
                </a:lnTo>
                <a:lnTo>
                  <a:pt x="37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409"/>
          <p:cNvSpPr/>
          <p:nvPr/>
        </p:nvSpPr>
        <p:spPr>
          <a:xfrm>
            <a:off x="5354640" y="6848640"/>
            <a:ext cx="77760" cy="77760"/>
          </a:xfrm>
          <a:custGeom>
            <a:avLst/>
            <a:gdLst/>
            <a:ahLst/>
            <a:rect l="l" t="t" r="r" b="b"/>
            <a:pathLst>
              <a:path w="113" h="114">
                <a:moveTo>
                  <a:pt x="14" y="113"/>
                </a:moveTo>
                <a:cubicBezTo>
                  <a:pt x="11" y="113"/>
                  <a:pt x="8" y="113"/>
                  <a:pt x="5" y="110"/>
                </a:cubicBezTo>
                <a:cubicBezTo>
                  <a:pt x="2" y="107"/>
                  <a:pt x="0" y="101"/>
                  <a:pt x="0" y="99"/>
                </a:cubicBezTo>
                <a:lnTo>
                  <a:pt x="0" y="14"/>
                </a:lnTo>
                <a:cubicBezTo>
                  <a:pt x="0" y="8"/>
                  <a:pt x="2" y="5"/>
                  <a:pt x="5" y="3"/>
                </a:cubicBezTo>
                <a:cubicBezTo>
                  <a:pt x="8" y="0"/>
                  <a:pt x="14" y="0"/>
                  <a:pt x="19" y="3"/>
                </a:cubicBezTo>
                <a:lnTo>
                  <a:pt x="104" y="45"/>
                </a:lnTo>
                <a:cubicBezTo>
                  <a:pt x="110" y="48"/>
                  <a:pt x="112" y="53"/>
                  <a:pt x="112" y="56"/>
                </a:cubicBezTo>
                <a:cubicBezTo>
                  <a:pt x="112" y="59"/>
                  <a:pt x="110" y="67"/>
                  <a:pt x="104" y="67"/>
                </a:cubicBezTo>
                <a:lnTo>
                  <a:pt x="19" y="110"/>
                </a:lnTo>
                <a:cubicBezTo>
                  <a:pt x="19" y="113"/>
                  <a:pt x="17" y="113"/>
                  <a:pt x="14" y="113"/>
                </a:cubicBezTo>
                <a:close/>
                <a:moveTo>
                  <a:pt x="28" y="36"/>
                </a:moveTo>
                <a:lnTo>
                  <a:pt x="28" y="76"/>
                </a:lnTo>
                <a:lnTo>
                  <a:pt x="67" y="56"/>
                </a:lnTo>
                <a:lnTo>
                  <a:pt x="28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410"/>
          <p:cNvSpPr/>
          <p:nvPr/>
        </p:nvSpPr>
        <p:spPr>
          <a:xfrm>
            <a:off x="6033960" y="6875640"/>
            <a:ext cx="308160" cy="191880"/>
          </a:xfrm>
          <a:custGeom>
            <a:avLst/>
            <a:gdLst/>
            <a:ahLst/>
            <a:rect l="l" t="t" r="r" b="b"/>
            <a:pathLst>
              <a:path w="453" h="283">
                <a:moveTo>
                  <a:pt x="424" y="282"/>
                </a:moveTo>
                <a:lnTo>
                  <a:pt x="325" y="282"/>
                </a:lnTo>
                <a:cubicBezTo>
                  <a:pt x="302" y="282"/>
                  <a:pt x="283" y="268"/>
                  <a:pt x="274" y="248"/>
                </a:cubicBezTo>
                <a:lnTo>
                  <a:pt x="240" y="175"/>
                </a:lnTo>
                <a:cubicBezTo>
                  <a:pt x="237" y="167"/>
                  <a:pt x="229" y="167"/>
                  <a:pt x="226" y="167"/>
                </a:cubicBezTo>
                <a:cubicBezTo>
                  <a:pt x="223" y="167"/>
                  <a:pt x="218" y="167"/>
                  <a:pt x="212" y="175"/>
                </a:cubicBezTo>
                <a:lnTo>
                  <a:pt x="178" y="248"/>
                </a:lnTo>
                <a:cubicBezTo>
                  <a:pt x="170" y="268"/>
                  <a:pt x="150" y="282"/>
                  <a:pt x="127" y="282"/>
                </a:cubicBezTo>
                <a:lnTo>
                  <a:pt x="29" y="282"/>
                </a:lnTo>
                <a:cubicBezTo>
                  <a:pt x="12" y="282"/>
                  <a:pt x="0" y="271"/>
                  <a:pt x="0" y="254"/>
                </a:cubicBezTo>
                <a:lnTo>
                  <a:pt x="0" y="28"/>
                </a:lnTo>
                <a:cubicBezTo>
                  <a:pt x="0" y="11"/>
                  <a:pt x="12" y="0"/>
                  <a:pt x="29" y="0"/>
                </a:cubicBezTo>
                <a:lnTo>
                  <a:pt x="424" y="0"/>
                </a:lnTo>
                <a:cubicBezTo>
                  <a:pt x="441" y="0"/>
                  <a:pt x="452" y="11"/>
                  <a:pt x="452" y="28"/>
                </a:cubicBezTo>
                <a:lnTo>
                  <a:pt x="452" y="254"/>
                </a:lnTo>
                <a:cubicBezTo>
                  <a:pt x="452" y="271"/>
                  <a:pt x="441" y="282"/>
                  <a:pt x="424" y="282"/>
                </a:cubicBezTo>
                <a:close/>
                <a:moveTo>
                  <a:pt x="226" y="138"/>
                </a:moveTo>
                <a:cubicBezTo>
                  <a:pt x="243" y="138"/>
                  <a:pt x="257" y="147"/>
                  <a:pt x="266" y="164"/>
                </a:cubicBezTo>
                <a:lnTo>
                  <a:pt x="300" y="237"/>
                </a:lnTo>
                <a:cubicBezTo>
                  <a:pt x="305" y="248"/>
                  <a:pt x="314" y="254"/>
                  <a:pt x="325" y="254"/>
                </a:cubicBezTo>
                <a:lnTo>
                  <a:pt x="424" y="254"/>
                </a:lnTo>
                <a:lnTo>
                  <a:pt x="424" y="28"/>
                </a:lnTo>
                <a:lnTo>
                  <a:pt x="29" y="28"/>
                </a:lnTo>
                <a:lnTo>
                  <a:pt x="29" y="254"/>
                </a:lnTo>
                <a:lnTo>
                  <a:pt x="127" y="254"/>
                </a:lnTo>
                <a:cubicBezTo>
                  <a:pt x="139" y="254"/>
                  <a:pt x="147" y="248"/>
                  <a:pt x="153" y="237"/>
                </a:cubicBezTo>
                <a:lnTo>
                  <a:pt x="187" y="164"/>
                </a:lnTo>
                <a:cubicBezTo>
                  <a:pt x="195" y="150"/>
                  <a:pt x="209" y="138"/>
                  <a:pt x="226" y="1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411"/>
          <p:cNvSpPr/>
          <p:nvPr/>
        </p:nvSpPr>
        <p:spPr>
          <a:xfrm>
            <a:off x="6072120" y="691344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6" y="112"/>
                </a:moveTo>
                <a:cubicBezTo>
                  <a:pt x="25" y="112"/>
                  <a:pt x="0" y="87"/>
                  <a:pt x="0" y="56"/>
                </a:cubicBezTo>
                <a:cubicBezTo>
                  <a:pt x="0" y="25"/>
                  <a:pt x="25" y="0"/>
                  <a:pt x="56" y="0"/>
                </a:cubicBezTo>
                <a:cubicBezTo>
                  <a:pt x="87" y="0"/>
                  <a:pt x="113" y="25"/>
                  <a:pt x="113" y="56"/>
                </a:cubicBezTo>
                <a:cubicBezTo>
                  <a:pt x="113" y="87"/>
                  <a:pt x="87" y="112"/>
                  <a:pt x="56" y="112"/>
                </a:cubicBezTo>
                <a:close/>
                <a:moveTo>
                  <a:pt x="56" y="28"/>
                </a:moveTo>
                <a:cubicBezTo>
                  <a:pt x="39" y="28"/>
                  <a:pt x="28" y="39"/>
                  <a:pt x="28" y="56"/>
                </a:cubicBezTo>
                <a:cubicBezTo>
                  <a:pt x="28" y="73"/>
                  <a:pt x="39" y="84"/>
                  <a:pt x="56" y="84"/>
                </a:cubicBezTo>
                <a:cubicBezTo>
                  <a:pt x="73" y="84"/>
                  <a:pt x="85" y="73"/>
                  <a:pt x="85" y="56"/>
                </a:cubicBezTo>
                <a:cubicBezTo>
                  <a:pt x="85" y="39"/>
                  <a:pt x="73" y="28"/>
                  <a:pt x="5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412"/>
          <p:cNvSpPr/>
          <p:nvPr/>
        </p:nvSpPr>
        <p:spPr>
          <a:xfrm>
            <a:off x="6224760" y="6913440"/>
            <a:ext cx="77760" cy="7776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56" y="112"/>
                </a:moveTo>
                <a:cubicBezTo>
                  <a:pt x="25" y="112"/>
                  <a:pt x="0" y="87"/>
                  <a:pt x="0" y="56"/>
                </a:cubicBezTo>
                <a:cubicBezTo>
                  <a:pt x="0" y="25"/>
                  <a:pt x="25" y="0"/>
                  <a:pt x="56" y="0"/>
                </a:cubicBezTo>
                <a:cubicBezTo>
                  <a:pt x="87" y="0"/>
                  <a:pt x="112" y="25"/>
                  <a:pt x="112" y="56"/>
                </a:cubicBezTo>
                <a:cubicBezTo>
                  <a:pt x="112" y="87"/>
                  <a:pt x="87" y="112"/>
                  <a:pt x="56" y="112"/>
                </a:cubicBezTo>
                <a:close/>
                <a:moveTo>
                  <a:pt x="56" y="28"/>
                </a:moveTo>
                <a:cubicBezTo>
                  <a:pt x="39" y="28"/>
                  <a:pt x="28" y="39"/>
                  <a:pt x="28" y="56"/>
                </a:cubicBezTo>
                <a:cubicBezTo>
                  <a:pt x="28" y="73"/>
                  <a:pt x="39" y="84"/>
                  <a:pt x="56" y="84"/>
                </a:cubicBezTo>
                <a:cubicBezTo>
                  <a:pt x="73" y="84"/>
                  <a:pt x="84" y="73"/>
                  <a:pt x="84" y="56"/>
                </a:cubicBezTo>
                <a:cubicBezTo>
                  <a:pt x="84" y="39"/>
                  <a:pt x="73" y="28"/>
                  <a:pt x="5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413"/>
          <p:cNvSpPr/>
          <p:nvPr/>
        </p:nvSpPr>
        <p:spPr>
          <a:xfrm>
            <a:off x="6135840" y="7027920"/>
            <a:ext cx="98280" cy="20520"/>
          </a:xfrm>
          <a:custGeom>
            <a:avLst/>
            <a:gdLst/>
            <a:ahLst/>
            <a:rect l="l" t="t" r="r" b="b"/>
            <a:pathLst>
              <a:path w="145" h="29">
                <a:moveTo>
                  <a:pt x="130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130" y="0"/>
                </a:lnTo>
                <a:cubicBezTo>
                  <a:pt x="138" y="0"/>
                  <a:pt x="144" y="6"/>
                  <a:pt x="144" y="14"/>
                </a:cubicBezTo>
                <a:cubicBezTo>
                  <a:pt x="144" y="23"/>
                  <a:pt x="138" y="28"/>
                  <a:pt x="130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414"/>
          <p:cNvSpPr/>
          <p:nvPr/>
        </p:nvSpPr>
        <p:spPr>
          <a:xfrm>
            <a:off x="6072120" y="6838920"/>
            <a:ext cx="230400" cy="57240"/>
          </a:xfrm>
          <a:custGeom>
            <a:avLst/>
            <a:gdLst/>
            <a:ahLst/>
            <a:rect l="l" t="t" r="r" b="b"/>
            <a:pathLst>
              <a:path w="339" h="85">
                <a:moveTo>
                  <a:pt x="324" y="84"/>
                </a:moveTo>
                <a:cubicBezTo>
                  <a:pt x="316" y="84"/>
                  <a:pt x="310" y="79"/>
                  <a:pt x="310" y="70"/>
                </a:cubicBezTo>
                <a:lnTo>
                  <a:pt x="310" y="28"/>
                </a:lnTo>
                <a:lnTo>
                  <a:pt x="28" y="28"/>
                </a:lnTo>
                <a:lnTo>
                  <a:pt x="28" y="70"/>
                </a:lnTo>
                <a:cubicBezTo>
                  <a:pt x="28" y="79"/>
                  <a:pt x="23" y="84"/>
                  <a:pt x="14" y="84"/>
                </a:cubicBezTo>
                <a:cubicBezTo>
                  <a:pt x="6" y="84"/>
                  <a:pt x="0" y="79"/>
                  <a:pt x="0" y="70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310" y="0"/>
                </a:lnTo>
                <a:cubicBezTo>
                  <a:pt x="327" y="0"/>
                  <a:pt x="338" y="11"/>
                  <a:pt x="338" y="28"/>
                </a:cubicBezTo>
                <a:lnTo>
                  <a:pt x="338" y="70"/>
                </a:lnTo>
                <a:cubicBezTo>
                  <a:pt x="338" y="79"/>
                  <a:pt x="333" y="84"/>
                  <a:pt x="324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415"/>
          <p:cNvSpPr/>
          <p:nvPr/>
        </p:nvSpPr>
        <p:spPr>
          <a:xfrm>
            <a:off x="6816600" y="6838920"/>
            <a:ext cx="6048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3" y="84"/>
                </a:moveTo>
                <a:cubicBezTo>
                  <a:pt x="20" y="84"/>
                  <a:pt x="0" y="65"/>
                  <a:pt x="0" y="42"/>
                </a:cubicBezTo>
                <a:lnTo>
                  <a:pt x="0" y="14"/>
                </a:lnTo>
                <a:cubicBezTo>
                  <a:pt x="0" y="5"/>
                  <a:pt x="6" y="0"/>
                  <a:pt x="15" y="0"/>
                </a:cubicBezTo>
                <a:lnTo>
                  <a:pt x="71" y="0"/>
                </a:lnTo>
                <a:cubicBezTo>
                  <a:pt x="79" y="0"/>
                  <a:pt x="85" y="5"/>
                  <a:pt x="85" y="14"/>
                </a:cubicBezTo>
                <a:lnTo>
                  <a:pt x="85" y="42"/>
                </a:lnTo>
                <a:cubicBezTo>
                  <a:pt x="85" y="65"/>
                  <a:pt x="65" y="84"/>
                  <a:pt x="43" y="84"/>
                </a:cubicBezTo>
                <a:close/>
                <a:moveTo>
                  <a:pt x="29" y="28"/>
                </a:moveTo>
                <a:lnTo>
                  <a:pt x="29" y="42"/>
                </a:lnTo>
                <a:cubicBezTo>
                  <a:pt x="29" y="50"/>
                  <a:pt x="35" y="56"/>
                  <a:pt x="43" y="56"/>
                </a:cubicBezTo>
                <a:cubicBezTo>
                  <a:pt x="52" y="56"/>
                  <a:pt x="57" y="50"/>
                  <a:pt x="57" y="42"/>
                </a:cubicBezTo>
                <a:lnTo>
                  <a:pt x="57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416"/>
          <p:cNvSpPr/>
          <p:nvPr/>
        </p:nvSpPr>
        <p:spPr>
          <a:xfrm>
            <a:off x="6837480" y="6800760"/>
            <a:ext cx="21960" cy="60480"/>
          </a:xfrm>
          <a:custGeom>
            <a:avLst/>
            <a:gdLst/>
            <a:ahLst/>
            <a:rect l="l" t="t" r="r" b="b"/>
            <a:pathLst>
              <a:path w="29" h="86">
                <a:moveTo>
                  <a:pt x="14" y="85"/>
                </a:moveTo>
                <a:cubicBezTo>
                  <a:pt x="5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71"/>
                </a:lnTo>
                <a:cubicBezTo>
                  <a:pt x="28" y="79"/>
                  <a:pt x="22" y="85"/>
                  <a:pt x="14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417"/>
          <p:cNvSpPr/>
          <p:nvPr/>
        </p:nvSpPr>
        <p:spPr>
          <a:xfrm>
            <a:off x="6799320" y="6800760"/>
            <a:ext cx="95040" cy="2088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6"/>
                  <a:pt x="141" y="14"/>
                </a:cubicBezTo>
                <a:cubicBezTo>
                  <a:pt x="141" y="23"/>
                  <a:pt x="136" y="28"/>
                  <a:pt x="12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418"/>
          <p:cNvSpPr/>
          <p:nvPr/>
        </p:nvSpPr>
        <p:spPr>
          <a:xfrm>
            <a:off x="7029360" y="6838920"/>
            <a:ext cx="57240" cy="57240"/>
          </a:xfrm>
          <a:custGeom>
            <a:avLst/>
            <a:gdLst/>
            <a:ahLst/>
            <a:rect l="l" t="t" r="r" b="b"/>
            <a:pathLst>
              <a:path w="85" h="85">
                <a:moveTo>
                  <a:pt x="42" y="84"/>
                </a:moveTo>
                <a:cubicBezTo>
                  <a:pt x="20" y="84"/>
                  <a:pt x="0" y="65"/>
                  <a:pt x="0" y="42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5"/>
                  <a:pt x="84" y="14"/>
                </a:cubicBezTo>
                <a:lnTo>
                  <a:pt x="84" y="42"/>
                </a:lnTo>
                <a:cubicBezTo>
                  <a:pt x="84" y="65"/>
                  <a:pt x="65" y="84"/>
                  <a:pt x="42" y="84"/>
                </a:cubicBezTo>
                <a:close/>
                <a:moveTo>
                  <a:pt x="28" y="28"/>
                </a:moveTo>
                <a:lnTo>
                  <a:pt x="28" y="42"/>
                </a:lnTo>
                <a:cubicBezTo>
                  <a:pt x="28" y="50"/>
                  <a:pt x="34" y="56"/>
                  <a:pt x="42" y="56"/>
                </a:cubicBezTo>
                <a:cubicBezTo>
                  <a:pt x="51" y="56"/>
                  <a:pt x="56" y="50"/>
                  <a:pt x="56" y="42"/>
                </a:cubicBezTo>
                <a:lnTo>
                  <a:pt x="56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419"/>
          <p:cNvSpPr/>
          <p:nvPr/>
        </p:nvSpPr>
        <p:spPr>
          <a:xfrm>
            <a:off x="7047000" y="6800760"/>
            <a:ext cx="21960" cy="60480"/>
          </a:xfrm>
          <a:custGeom>
            <a:avLst/>
            <a:gdLst/>
            <a:ahLst/>
            <a:rect l="l" t="t" r="r" b="b"/>
            <a:pathLst>
              <a:path w="29" h="86">
                <a:moveTo>
                  <a:pt x="14" y="85"/>
                </a:moveTo>
                <a:cubicBezTo>
                  <a:pt x="6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71"/>
                </a:lnTo>
                <a:cubicBezTo>
                  <a:pt x="28" y="79"/>
                  <a:pt x="23" y="85"/>
                  <a:pt x="14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420"/>
          <p:cNvSpPr/>
          <p:nvPr/>
        </p:nvSpPr>
        <p:spPr>
          <a:xfrm>
            <a:off x="7008840" y="6800760"/>
            <a:ext cx="95400" cy="2088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127" y="0"/>
                </a:lnTo>
                <a:cubicBezTo>
                  <a:pt x="135" y="0"/>
                  <a:pt x="141" y="6"/>
                  <a:pt x="141" y="14"/>
                </a:cubicBezTo>
                <a:cubicBezTo>
                  <a:pt x="141" y="23"/>
                  <a:pt x="135" y="28"/>
                  <a:pt x="12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421"/>
          <p:cNvSpPr/>
          <p:nvPr/>
        </p:nvSpPr>
        <p:spPr>
          <a:xfrm>
            <a:off x="6837480" y="6875640"/>
            <a:ext cx="231480" cy="20520"/>
          </a:xfrm>
          <a:custGeom>
            <a:avLst/>
            <a:gdLst/>
            <a:ahLst/>
            <a:rect l="l" t="t" r="r" b="b"/>
            <a:pathLst>
              <a:path w="339" h="29">
                <a:moveTo>
                  <a:pt x="324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324" y="0"/>
                </a:lnTo>
                <a:cubicBezTo>
                  <a:pt x="333" y="0"/>
                  <a:pt x="338" y="6"/>
                  <a:pt x="338" y="14"/>
                </a:cubicBezTo>
                <a:cubicBezTo>
                  <a:pt x="338" y="23"/>
                  <a:pt x="333" y="28"/>
                  <a:pt x="32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422"/>
          <p:cNvSpPr/>
          <p:nvPr/>
        </p:nvSpPr>
        <p:spPr>
          <a:xfrm>
            <a:off x="6873840" y="6875640"/>
            <a:ext cx="155520" cy="95040"/>
          </a:xfrm>
          <a:custGeom>
            <a:avLst/>
            <a:gdLst/>
            <a:ahLst/>
            <a:rect l="l" t="t" r="r" b="b"/>
            <a:pathLst>
              <a:path w="230" h="142">
                <a:moveTo>
                  <a:pt x="164" y="141"/>
                </a:moveTo>
                <a:lnTo>
                  <a:pt x="68" y="141"/>
                </a:lnTo>
                <a:cubicBezTo>
                  <a:pt x="48" y="141"/>
                  <a:pt x="31" y="127"/>
                  <a:pt x="26" y="110"/>
                </a:cubicBezTo>
                <a:lnTo>
                  <a:pt x="3" y="20"/>
                </a:lnTo>
                <a:cubicBezTo>
                  <a:pt x="0" y="11"/>
                  <a:pt x="6" y="6"/>
                  <a:pt x="14" y="3"/>
                </a:cubicBezTo>
                <a:cubicBezTo>
                  <a:pt x="23" y="0"/>
                  <a:pt x="28" y="6"/>
                  <a:pt x="31" y="14"/>
                </a:cubicBezTo>
                <a:lnTo>
                  <a:pt x="54" y="104"/>
                </a:lnTo>
                <a:cubicBezTo>
                  <a:pt x="57" y="110"/>
                  <a:pt x="62" y="116"/>
                  <a:pt x="68" y="116"/>
                </a:cubicBezTo>
                <a:lnTo>
                  <a:pt x="164" y="116"/>
                </a:lnTo>
                <a:cubicBezTo>
                  <a:pt x="170" y="116"/>
                  <a:pt x="175" y="110"/>
                  <a:pt x="178" y="104"/>
                </a:cubicBezTo>
                <a:lnTo>
                  <a:pt x="201" y="14"/>
                </a:lnTo>
                <a:cubicBezTo>
                  <a:pt x="203" y="6"/>
                  <a:pt x="209" y="3"/>
                  <a:pt x="218" y="3"/>
                </a:cubicBezTo>
                <a:cubicBezTo>
                  <a:pt x="226" y="6"/>
                  <a:pt x="229" y="11"/>
                  <a:pt x="229" y="20"/>
                </a:cubicBezTo>
                <a:lnTo>
                  <a:pt x="206" y="110"/>
                </a:lnTo>
                <a:cubicBezTo>
                  <a:pt x="201" y="127"/>
                  <a:pt x="184" y="141"/>
                  <a:pt x="16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423"/>
          <p:cNvSpPr/>
          <p:nvPr/>
        </p:nvSpPr>
        <p:spPr>
          <a:xfrm>
            <a:off x="6993000" y="6935760"/>
            <a:ext cx="93600" cy="115920"/>
          </a:xfrm>
          <a:custGeom>
            <a:avLst/>
            <a:gdLst/>
            <a:ahLst/>
            <a:rect l="l" t="t" r="r" b="b"/>
            <a:pathLst>
              <a:path w="136" h="170">
                <a:moveTo>
                  <a:pt x="121" y="169"/>
                </a:moveTo>
                <a:cubicBezTo>
                  <a:pt x="116" y="169"/>
                  <a:pt x="110" y="163"/>
                  <a:pt x="107" y="158"/>
                </a:cubicBezTo>
                <a:lnTo>
                  <a:pt x="93" y="84"/>
                </a:lnTo>
                <a:cubicBezTo>
                  <a:pt x="88" y="51"/>
                  <a:pt x="56" y="28"/>
                  <a:pt x="23" y="28"/>
                </a:cubicBez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23" y="0"/>
                </a:lnTo>
                <a:cubicBezTo>
                  <a:pt x="71" y="0"/>
                  <a:pt x="110" y="34"/>
                  <a:pt x="119" y="79"/>
                </a:cubicBezTo>
                <a:lnTo>
                  <a:pt x="133" y="152"/>
                </a:lnTo>
                <a:cubicBezTo>
                  <a:pt x="135" y="161"/>
                  <a:pt x="133" y="166"/>
                  <a:pt x="121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424"/>
          <p:cNvSpPr/>
          <p:nvPr/>
        </p:nvSpPr>
        <p:spPr>
          <a:xfrm>
            <a:off x="6816600" y="6935760"/>
            <a:ext cx="90720" cy="115920"/>
          </a:xfrm>
          <a:custGeom>
            <a:avLst/>
            <a:gdLst/>
            <a:ahLst/>
            <a:rect l="l" t="t" r="r" b="b"/>
            <a:pathLst>
              <a:path w="134" h="170">
                <a:moveTo>
                  <a:pt x="15" y="169"/>
                </a:moveTo>
                <a:cubicBezTo>
                  <a:pt x="15" y="169"/>
                  <a:pt x="12" y="169"/>
                  <a:pt x="15" y="169"/>
                </a:cubicBezTo>
                <a:cubicBezTo>
                  <a:pt x="3" y="166"/>
                  <a:pt x="0" y="161"/>
                  <a:pt x="0" y="152"/>
                </a:cubicBezTo>
                <a:lnTo>
                  <a:pt x="15" y="79"/>
                </a:lnTo>
                <a:cubicBezTo>
                  <a:pt x="23" y="34"/>
                  <a:pt x="65" y="0"/>
                  <a:pt x="110" y="0"/>
                </a:cubicBezTo>
                <a:lnTo>
                  <a:pt x="119" y="0"/>
                </a:lnTo>
                <a:cubicBezTo>
                  <a:pt x="127" y="0"/>
                  <a:pt x="133" y="6"/>
                  <a:pt x="133" y="14"/>
                </a:cubicBezTo>
                <a:cubicBezTo>
                  <a:pt x="133" y="23"/>
                  <a:pt x="127" y="28"/>
                  <a:pt x="119" y="28"/>
                </a:cubicBezTo>
                <a:lnTo>
                  <a:pt x="113" y="28"/>
                </a:lnTo>
                <a:cubicBezTo>
                  <a:pt x="79" y="28"/>
                  <a:pt x="51" y="51"/>
                  <a:pt x="46" y="84"/>
                </a:cubicBezTo>
                <a:lnTo>
                  <a:pt x="31" y="158"/>
                </a:lnTo>
                <a:cubicBezTo>
                  <a:pt x="26" y="163"/>
                  <a:pt x="20" y="169"/>
                  <a:pt x="15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425"/>
          <p:cNvSpPr/>
          <p:nvPr/>
        </p:nvSpPr>
        <p:spPr>
          <a:xfrm>
            <a:off x="6894360" y="6991200"/>
            <a:ext cx="117720" cy="11772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85" y="170"/>
                </a:moveTo>
                <a:cubicBezTo>
                  <a:pt x="37" y="170"/>
                  <a:pt x="0" y="133"/>
                  <a:pt x="0" y="85"/>
                </a:cubicBezTo>
                <a:cubicBezTo>
                  <a:pt x="0" y="37"/>
                  <a:pt x="37" y="0"/>
                  <a:pt x="85" y="0"/>
                </a:cubicBezTo>
                <a:cubicBezTo>
                  <a:pt x="133" y="0"/>
                  <a:pt x="170" y="37"/>
                  <a:pt x="170" y="85"/>
                </a:cubicBezTo>
                <a:cubicBezTo>
                  <a:pt x="170" y="133"/>
                  <a:pt x="133" y="170"/>
                  <a:pt x="85" y="170"/>
                </a:cubicBezTo>
                <a:close/>
                <a:moveTo>
                  <a:pt x="85" y="29"/>
                </a:moveTo>
                <a:cubicBezTo>
                  <a:pt x="54" y="29"/>
                  <a:pt x="29" y="54"/>
                  <a:pt x="29" y="85"/>
                </a:cubicBezTo>
                <a:cubicBezTo>
                  <a:pt x="29" y="116"/>
                  <a:pt x="54" y="141"/>
                  <a:pt x="85" y="141"/>
                </a:cubicBezTo>
                <a:cubicBezTo>
                  <a:pt x="116" y="141"/>
                  <a:pt x="141" y="116"/>
                  <a:pt x="141" y="85"/>
                </a:cubicBezTo>
                <a:cubicBezTo>
                  <a:pt x="141" y="54"/>
                  <a:pt x="116" y="29"/>
                  <a:pt x="85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426"/>
          <p:cNvSpPr/>
          <p:nvPr/>
        </p:nvSpPr>
        <p:spPr>
          <a:xfrm>
            <a:off x="6921360" y="7027920"/>
            <a:ext cx="57240" cy="57240"/>
          </a:xfrm>
          <a:custGeom>
            <a:avLst/>
            <a:gdLst/>
            <a:ahLst/>
            <a:rect l="l" t="t" r="r" b="b"/>
            <a:pathLst>
              <a:path w="85" h="85">
                <a:moveTo>
                  <a:pt x="42" y="84"/>
                </a:moveTo>
                <a:cubicBezTo>
                  <a:pt x="19" y="84"/>
                  <a:pt x="0" y="65"/>
                  <a:pt x="0" y="42"/>
                </a:cubicBezTo>
                <a:cubicBezTo>
                  <a:pt x="0" y="20"/>
                  <a:pt x="19" y="0"/>
                  <a:pt x="42" y="0"/>
                </a:cubicBezTo>
                <a:cubicBezTo>
                  <a:pt x="65" y="0"/>
                  <a:pt x="84" y="20"/>
                  <a:pt x="84" y="42"/>
                </a:cubicBezTo>
                <a:cubicBezTo>
                  <a:pt x="84" y="65"/>
                  <a:pt x="65" y="84"/>
                  <a:pt x="42" y="84"/>
                </a:cubicBezTo>
                <a:close/>
                <a:moveTo>
                  <a:pt x="42" y="28"/>
                </a:moveTo>
                <a:cubicBezTo>
                  <a:pt x="33" y="28"/>
                  <a:pt x="28" y="34"/>
                  <a:pt x="28" y="42"/>
                </a:cubicBezTo>
                <a:cubicBezTo>
                  <a:pt x="28" y="51"/>
                  <a:pt x="34" y="56"/>
                  <a:pt x="42" y="56"/>
                </a:cubicBezTo>
                <a:cubicBezTo>
                  <a:pt x="51" y="56"/>
                  <a:pt x="56" y="51"/>
                  <a:pt x="56" y="42"/>
                </a:cubicBezTo>
                <a:cubicBezTo>
                  <a:pt x="56" y="34"/>
                  <a:pt x="50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427"/>
          <p:cNvSpPr/>
          <p:nvPr/>
        </p:nvSpPr>
        <p:spPr>
          <a:xfrm>
            <a:off x="6921360" y="6953400"/>
            <a:ext cx="57240" cy="63360"/>
          </a:xfrm>
          <a:custGeom>
            <a:avLst/>
            <a:gdLst/>
            <a:ahLst/>
            <a:rect l="l" t="t" r="r" b="b"/>
            <a:pathLst>
              <a:path w="85" h="91">
                <a:moveTo>
                  <a:pt x="70" y="90"/>
                </a:moveTo>
                <a:cubicBezTo>
                  <a:pt x="62" y="90"/>
                  <a:pt x="56" y="85"/>
                  <a:pt x="56" y="76"/>
                </a:cubicBezTo>
                <a:lnTo>
                  <a:pt x="56" y="28"/>
                </a:lnTo>
                <a:lnTo>
                  <a:pt x="28" y="28"/>
                </a:lnTo>
                <a:lnTo>
                  <a:pt x="28" y="76"/>
                </a:lnTo>
                <a:cubicBezTo>
                  <a:pt x="28" y="85"/>
                  <a:pt x="23" y="90"/>
                  <a:pt x="14" y="90"/>
                </a:cubicBezTo>
                <a:cubicBezTo>
                  <a:pt x="6" y="90"/>
                  <a:pt x="0" y="85"/>
                  <a:pt x="0" y="76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6"/>
                  <a:pt x="84" y="14"/>
                </a:cubicBezTo>
                <a:lnTo>
                  <a:pt x="84" y="76"/>
                </a:lnTo>
                <a:cubicBezTo>
                  <a:pt x="84" y="85"/>
                  <a:pt x="79" y="90"/>
                  <a:pt x="70" y="9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428"/>
          <p:cNvSpPr/>
          <p:nvPr/>
        </p:nvSpPr>
        <p:spPr>
          <a:xfrm>
            <a:off x="7564320" y="6953400"/>
            <a:ext cx="308160" cy="134640"/>
          </a:xfrm>
          <a:custGeom>
            <a:avLst/>
            <a:gdLst/>
            <a:ahLst/>
            <a:rect l="l" t="t" r="r" b="b"/>
            <a:pathLst>
              <a:path w="452" h="198">
                <a:moveTo>
                  <a:pt x="437" y="197"/>
                </a:moveTo>
                <a:lnTo>
                  <a:pt x="282" y="197"/>
                </a:lnTo>
                <a:cubicBezTo>
                  <a:pt x="277" y="197"/>
                  <a:pt x="271" y="192"/>
                  <a:pt x="268" y="186"/>
                </a:cubicBezTo>
                <a:lnTo>
                  <a:pt x="243" y="85"/>
                </a:lnTo>
                <a:lnTo>
                  <a:pt x="209" y="85"/>
                </a:lnTo>
                <a:lnTo>
                  <a:pt x="183" y="186"/>
                </a:lnTo>
                <a:cubicBezTo>
                  <a:pt x="181" y="192"/>
                  <a:pt x="175" y="197"/>
                  <a:pt x="169" y="197"/>
                </a:cubicBezTo>
                <a:lnTo>
                  <a:pt x="14" y="197"/>
                </a:ln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437" y="0"/>
                </a:lnTo>
                <a:cubicBezTo>
                  <a:pt x="446" y="0"/>
                  <a:pt x="451" y="6"/>
                  <a:pt x="451" y="14"/>
                </a:cubicBezTo>
                <a:lnTo>
                  <a:pt x="451" y="183"/>
                </a:lnTo>
                <a:cubicBezTo>
                  <a:pt x="451" y="192"/>
                  <a:pt x="446" y="197"/>
                  <a:pt x="437" y="197"/>
                </a:cubicBezTo>
                <a:close/>
                <a:moveTo>
                  <a:pt x="293" y="169"/>
                </a:moveTo>
                <a:lnTo>
                  <a:pt x="423" y="169"/>
                </a:lnTo>
                <a:lnTo>
                  <a:pt x="423" y="28"/>
                </a:lnTo>
                <a:lnTo>
                  <a:pt x="28" y="28"/>
                </a:lnTo>
                <a:lnTo>
                  <a:pt x="28" y="169"/>
                </a:lnTo>
                <a:lnTo>
                  <a:pt x="158" y="169"/>
                </a:lnTo>
                <a:lnTo>
                  <a:pt x="183" y="68"/>
                </a:lnTo>
                <a:cubicBezTo>
                  <a:pt x="186" y="62"/>
                  <a:pt x="192" y="56"/>
                  <a:pt x="198" y="56"/>
                </a:cubicBezTo>
                <a:lnTo>
                  <a:pt x="254" y="56"/>
                </a:lnTo>
                <a:cubicBezTo>
                  <a:pt x="260" y="56"/>
                  <a:pt x="265" y="62"/>
                  <a:pt x="268" y="68"/>
                </a:cubicBezTo>
                <a:lnTo>
                  <a:pt x="293" y="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429"/>
          <p:cNvSpPr/>
          <p:nvPr/>
        </p:nvSpPr>
        <p:spPr>
          <a:xfrm>
            <a:off x="7564320" y="6818400"/>
            <a:ext cx="77760" cy="152280"/>
          </a:xfrm>
          <a:custGeom>
            <a:avLst/>
            <a:gdLst/>
            <a:ahLst/>
            <a:rect l="l" t="t" r="r" b="b"/>
            <a:pathLst>
              <a:path w="114" h="227">
                <a:moveTo>
                  <a:pt x="14" y="226"/>
                </a:moveTo>
                <a:cubicBezTo>
                  <a:pt x="6" y="226"/>
                  <a:pt x="0" y="221"/>
                  <a:pt x="0" y="212"/>
                </a:cubicBezTo>
                <a:lnTo>
                  <a:pt x="0" y="71"/>
                </a:lnTo>
                <a:cubicBezTo>
                  <a:pt x="0" y="31"/>
                  <a:pt x="31" y="0"/>
                  <a:pt x="71" y="0"/>
                </a:cubicBezTo>
                <a:lnTo>
                  <a:pt x="99" y="0"/>
                </a:lnTo>
                <a:cubicBezTo>
                  <a:pt x="107" y="0"/>
                  <a:pt x="113" y="7"/>
                  <a:pt x="113" y="15"/>
                </a:cubicBezTo>
                <a:cubicBezTo>
                  <a:pt x="113" y="24"/>
                  <a:pt x="107" y="29"/>
                  <a:pt x="99" y="29"/>
                </a:cubicBezTo>
                <a:lnTo>
                  <a:pt x="71" y="29"/>
                </a:lnTo>
                <a:cubicBezTo>
                  <a:pt x="48" y="29"/>
                  <a:pt x="28" y="48"/>
                  <a:pt x="28" y="71"/>
                </a:cubicBezTo>
                <a:lnTo>
                  <a:pt x="28" y="212"/>
                </a:lnTo>
                <a:cubicBezTo>
                  <a:pt x="28" y="221"/>
                  <a:pt x="23" y="226"/>
                  <a:pt x="14" y="22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430"/>
          <p:cNvSpPr/>
          <p:nvPr/>
        </p:nvSpPr>
        <p:spPr>
          <a:xfrm>
            <a:off x="7794720" y="6818400"/>
            <a:ext cx="77760" cy="152280"/>
          </a:xfrm>
          <a:custGeom>
            <a:avLst/>
            <a:gdLst/>
            <a:ahLst/>
            <a:rect l="l" t="t" r="r" b="b"/>
            <a:pathLst>
              <a:path w="113" h="227">
                <a:moveTo>
                  <a:pt x="98" y="226"/>
                </a:moveTo>
                <a:cubicBezTo>
                  <a:pt x="90" y="226"/>
                  <a:pt x="84" y="221"/>
                  <a:pt x="84" y="212"/>
                </a:cubicBezTo>
                <a:lnTo>
                  <a:pt x="84" y="71"/>
                </a:lnTo>
                <a:cubicBezTo>
                  <a:pt x="84" y="48"/>
                  <a:pt x="65" y="29"/>
                  <a:pt x="42" y="29"/>
                </a:cubicBezTo>
                <a:lnTo>
                  <a:pt x="14" y="29"/>
                </a:lnTo>
                <a:cubicBezTo>
                  <a:pt x="5" y="29"/>
                  <a:pt x="0" y="24"/>
                  <a:pt x="0" y="15"/>
                </a:cubicBezTo>
                <a:cubicBezTo>
                  <a:pt x="0" y="7"/>
                  <a:pt x="5" y="0"/>
                  <a:pt x="14" y="0"/>
                </a:cubicBezTo>
                <a:lnTo>
                  <a:pt x="42" y="0"/>
                </a:lnTo>
                <a:cubicBezTo>
                  <a:pt x="81" y="0"/>
                  <a:pt x="112" y="31"/>
                  <a:pt x="112" y="71"/>
                </a:cubicBezTo>
                <a:lnTo>
                  <a:pt x="112" y="212"/>
                </a:lnTo>
                <a:cubicBezTo>
                  <a:pt x="112" y="221"/>
                  <a:pt x="107" y="226"/>
                  <a:pt x="98" y="22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431"/>
          <p:cNvSpPr/>
          <p:nvPr/>
        </p:nvSpPr>
        <p:spPr>
          <a:xfrm>
            <a:off x="7601040" y="6991200"/>
            <a:ext cx="68040" cy="60480"/>
          </a:xfrm>
          <a:custGeom>
            <a:avLst/>
            <a:gdLst/>
            <a:ahLst/>
            <a:rect l="l" t="t" r="r" b="b"/>
            <a:pathLst>
              <a:path w="100" h="86">
                <a:moveTo>
                  <a:pt x="71" y="85"/>
                </a:moveTo>
                <a:lnTo>
                  <a:pt x="15" y="85"/>
                </a:lnTo>
                <a:cubicBezTo>
                  <a:pt x="6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lnTo>
                  <a:pt x="85" y="0"/>
                </a:lnTo>
                <a:cubicBezTo>
                  <a:pt x="91" y="0"/>
                  <a:pt x="94" y="3"/>
                  <a:pt x="96" y="6"/>
                </a:cubicBezTo>
                <a:cubicBezTo>
                  <a:pt x="99" y="9"/>
                  <a:pt x="99" y="14"/>
                  <a:pt x="99" y="17"/>
                </a:cubicBezTo>
                <a:lnTo>
                  <a:pt x="85" y="74"/>
                </a:lnTo>
                <a:cubicBezTo>
                  <a:pt x="82" y="79"/>
                  <a:pt x="77" y="85"/>
                  <a:pt x="71" y="85"/>
                </a:cubicBezTo>
                <a:close/>
                <a:moveTo>
                  <a:pt x="29" y="57"/>
                </a:moveTo>
                <a:lnTo>
                  <a:pt x="60" y="57"/>
                </a:lnTo>
                <a:lnTo>
                  <a:pt x="65" y="29"/>
                </a:lnTo>
                <a:lnTo>
                  <a:pt x="29" y="29"/>
                </a:lnTo>
                <a:lnTo>
                  <a:pt x="29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432"/>
          <p:cNvSpPr/>
          <p:nvPr/>
        </p:nvSpPr>
        <p:spPr>
          <a:xfrm>
            <a:off x="7765920" y="6991200"/>
            <a:ext cx="68400" cy="60480"/>
          </a:xfrm>
          <a:custGeom>
            <a:avLst/>
            <a:gdLst/>
            <a:ahLst/>
            <a:rect l="l" t="t" r="r" b="b"/>
            <a:pathLst>
              <a:path w="100" h="86">
                <a:moveTo>
                  <a:pt x="85" y="85"/>
                </a:moveTo>
                <a:lnTo>
                  <a:pt x="28" y="85"/>
                </a:lnTo>
                <a:cubicBezTo>
                  <a:pt x="23" y="85"/>
                  <a:pt x="17" y="79"/>
                  <a:pt x="14" y="74"/>
                </a:cubicBezTo>
                <a:lnTo>
                  <a:pt x="0" y="17"/>
                </a:lnTo>
                <a:cubicBezTo>
                  <a:pt x="0" y="14"/>
                  <a:pt x="0" y="9"/>
                  <a:pt x="3" y="6"/>
                </a:cubicBezTo>
                <a:cubicBezTo>
                  <a:pt x="6" y="3"/>
                  <a:pt x="9" y="0"/>
                  <a:pt x="14" y="0"/>
                </a:cubicBezTo>
                <a:lnTo>
                  <a:pt x="85" y="0"/>
                </a:lnTo>
                <a:cubicBezTo>
                  <a:pt x="93" y="0"/>
                  <a:pt x="99" y="6"/>
                  <a:pt x="99" y="14"/>
                </a:cubicBezTo>
                <a:lnTo>
                  <a:pt x="99" y="71"/>
                </a:lnTo>
                <a:cubicBezTo>
                  <a:pt x="99" y="79"/>
                  <a:pt x="93" y="85"/>
                  <a:pt x="85" y="85"/>
                </a:cubicBezTo>
                <a:close/>
                <a:moveTo>
                  <a:pt x="40" y="57"/>
                </a:moveTo>
                <a:lnTo>
                  <a:pt x="71" y="57"/>
                </a:lnTo>
                <a:lnTo>
                  <a:pt x="71" y="29"/>
                </a:lnTo>
                <a:lnTo>
                  <a:pt x="31" y="29"/>
                </a:lnTo>
                <a:lnTo>
                  <a:pt x="40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433"/>
          <p:cNvSpPr/>
          <p:nvPr/>
        </p:nvSpPr>
        <p:spPr>
          <a:xfrm>
            <a:off x="8331120" y="6838920"/>
            <a:ext cx="308160" cy="230040"/>
          </a:xfrm>
          <a:custGeom>
            <a:avLst/>
            <a:gdLst/>
            <a:ahLst/>
            <a:rect l="l" t="t" r="r" b="b"/>
            <a:pathLst>
              <a:path w="452" h="339">
                <a:moveTo>
                  <a:pt x="423" y="338"/>
                </a:moveTo>
                <a:lnTo>
                  <a:pt x="28" y="338"/>
                </a:lnTo>
                <a:cubicBezTo>
                  <a:pt x="11" y="338"/>
                  <a:pt x="0" y="327"/>
                  <a:pt x="0" y="310"/>
                </a:cubicBezTo>
                <a:lnTo>
                  <a:pt x="0" y="56"/>
                </a:lnTo>
                <a:cubicBezTo>
                  <a:pt x="0" y="39"/>
                  <a:pt x="11" y="28"/>
                  <a:pt x="28" y="28"/>
                </a:cubicBezTo>
                <a:lnTo>
                  <a:pt x="169" y="28"/>
                </a:lnTo>
                <a:cubicBezTo>
                  <a:pt x="169" y="11"/>
                  <a:pt x="180" y="0"/>
                  <a:pt x="197" y="0"/>
                </a:cubicBezTo>
                <a:lnTo>
                  <a:pt x="423" y="0"/>
                </a:lnTo>
                <a:cubicBezTo>
                  <a:pt x="440" y="0"/>
                  <a:pt x="451" y="11"/>
                  <a:pt x="451" y="28"/>
                </a:cubicBezTo>
                <a:lnTo>
                  <a:pt x="451" y="310"/>
                </a:lnTo>
                <a:cubicBezTo>
                  <a:pt x="451" y="327"/>
                  <a:pt x="440" y="338"/>
                  <a:pt x="423" y="338"/>
                </a:cubicBezTo>
                <a:close/>
                <a:moveTo>
                  <a:pt x="28" y="56"/>
                </a:moveTo>
                <a:lnTo>
                  <a:pt x="28" y="310"/>
                </a:lnTo>
                <a:lnTo>
                  <a:pt x="423" y="310"/>
                </a:lnTo>
                <a:lnTo>
                  <a:pt x="423" y="28"/>
                </a:lnTo>
                <a:lnTo>
                  <a:pt x="197" y="28"/>
                </a:lnTo>
                <a:lnTo>
                  <a:pt x="197" y="42"/>
                </a:lnTo>
                <a:cubicBezTo>
                  <a:pt x="197" y="50"/>
                  <a:pt x="192" y="56"/>
                  <a:pt x="183" y="56"/>
                </a:cubicBez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434"/>
          <p:cNvSpPr/>
          <p:nvPr/>
        </p:nvSpPr>
        <p:spPr>
          <a:xfrm>
            <a:off x="8416800" y="6896160"/>
            <a:ext cx="135000" cy="135000"/>
          </a:xfrm>
          <a:custGeom>
            <a:avLst/>
            <a:gdLst/>
            <a:ahLst/>
            <a:rect l="l" t="t" r="r" b="b"/>
            <a:pathLst>
              <a:path w="198" h="199">
                <a:moveTo>
                  <a:pt x="99" y="198"/>
                </a:moveTo>
                <a:cubicBezTo>
                  <a:pt x="45" y="198"/>
                  <a:pt x="0" y="153"/>
                  <a:pt x="0" y="99"/>
                </a:cubicBezTo>
                <a:cubicBezTo>
                  <a:pt x="0" y="45"/>
                  <a:pt x="46" y="0"/>
                  <a:pt x="99" y="0"/>
                </a:cubicBezTo>
                <a:cubicBezTo>
                  <a:pt x="153" y="0"/>
                  <a:pt x="197" y="45"/>
                  <a:pt x="197" y="99"/>
                </a:cubicBezTo>
                <a:cubicBezTo>
                  <a:pt x="197" y="153"/>
                  <a:pt x="152" y="198"/>
                  <a:pt x="99" y="198"/>
                </a:cubicBezTo>
                <a:close/>
                <a:moveTo>
                  <a:pt x="99" y="29"/>
                </a:moveTo>
                <a:cubicBezTo>
                  <a:pt x="59" y="29"/>
                  <a:pt x="28" y="60"/>
                  <a:pt x="28" y="99"/>
                </a:cubicBezTo>
                <a:cubicBezTo>
                  <a:pt x="28" y="139"/>
                  <a:pt x="60" y="170"/>
                  <a:pt x="99" y="170"/>
                </a:cubicBezTo>
                <a:cubicBezTo>
                  <a:pt x="139" y="170"/>
                  <a:pt x="169" y="139"/>
                  <a:pt x="169" y="99"/>
                </a:cubicBezTo>
                <a:cubicBezTo>
                  <a:pt x="169" y="60"/>
                  <a:pt x="138" y="29"/>
                  <a:pt x="99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435"/>
          <p:cNvSpPr/>
          <p:nvPr/>
        </p:nvSpPr>
        <p:spPr>
          <a:xfrm>
            <a:off x="8369280" y="6818400"/>
            <a:ext cx="60480" cy="60120"/>
          </a:xfrm>
          <a:custGeom>
            <a:avLst/>
            <a:gdLst/>
            <a:ahLst/>
            <a:rect l="l" t="t" r="r" b="b"/>
            <a:pathLst>
              <a:path w="86" h="86">
                <a:moveTo>
                  <a:pt x="71" y="85"/>
                </a:moveTo>
                <a:lnTo>
                  <a:pt x="14" y="85"/>
                </a:lnTo>
                <a:cubicBezTo>
                  <a:pt x="6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lnTo>
                  <a:pt x="71" y="0"/>
                </a:lnTo>
                <a:cubicBezTo>
                  <a:pt x="79" y="0"/>
                  <a:pt x="85" y="6"/>
                  <a:pt x="85" y="15"/>
                </a:cubicBezTo>
                <a:lnTo>
                  <a:pt x="85" y="71"/>
                </a:lnTo>
                <a:cubicBezTo>
                  <a:pt x="85" y="79"/>
                  <a:pt x="79" y="85"/>
                  <a:pt x="71" y="85"/>
                </a:cubicBezTo>
                <a:close/>
                <a:moveTo>
                  <a:pt x="28" y="57"/>
                </a:moveTo>
                <a:lnTo>
                  <a:pt x="57" y="57"/>
                </a:lnTo>
                <a:lnTo>
                  <a:pt x="57" y="29"/>
                </a:lnTo>
                <a:lnTo>
                  <a:pt x="28" y="29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436"/>
          <p:cNvSpPr/>
          <p:nvPr/>
        </p:nvSpPr>
        <p:spPr>
          <a:xfrm>
            <a:off x="8528040" y="6935760"/>
            <a:ext cx="111240" cy="20520"/>
          </a:xfrm>
          <a:custGeom>
            <a:avLst/>
            <a:gdLst/>
            <a:ahLst/>
            <a:rect l="l" t="t" r="r" b="b"/>
            <a:pathLst>
              <a:path w="162" h="29">
                <a:moveTo>
                  <a:pt x="147" y="28"/>
                </a:moveTo>
                <a:lnTo>
                  <a:pt x="15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147" y="0"/>
                </a:lnTo>
                <a:cubicBezTo>
                  <a:pt x="156" y="0"/>
                  <a:pt x="161" y="6"/>
                  <a:pt x="161" y="14"/>
                </a:cubicBezTo>
                <a:cubicBezTo>
                  <a:pt x="161" y="23"/>
                  <a:pt x="156" y="28"/>
                  <a:pt x="14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437"/>
          <p:cNvSpPr/>
          <p:nvPr/>
        </p:nvSpPr>
        <p:spPr>
          <a:xfrm>
            <a:off x="8331120" y="6935760"/>
            <a:ext cx="109440" cy="20520"/>
          </a:xfrm>
          <a:custGeom>
            <a:avLst/>
            <a:gdLst/>
            <a:ahLst/>
            <a:rect l="l" t="t" r="r" b="b"/>
            <a:pathLst>
              <a:path w="162" h="29">
                <a:moveTo>
                  <a:pt x="146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146" y="0"/>
                </a:lnTo>
                <a:cubicBezTo>
                  <a:pt x="155" y="0"/>
                  <a:pt x="161" y="6"/>
                  <a:pt x="161" y="14"/>
                </a:cubicBezTo>
                <a:cubicBezTo>
                  <a:pt x="161" y="23"/>
                  <a:pt x="155" y="28"/>
                  <a:pt x="146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438"/>
          <p:cNvSpPr/>
          <p:nvPr/>
        </p:nvSpPr>
        <p:spPr>
          <a:xfrm>
            <a:off x="8528040" y="6970680"/>
            <a:ext cx="111240" cy="20520"/>
          </a:xfrm>
          <a:custGeom>
            <a:avLst/>
            <a:gdLst/>
            <a:ahLst/>
            <a:rect l="l" t="t" r="r" b="b"/>
            <a:pathLst>
              <a:path w="162" h="29">
                <a:moveTo>
                  <a:pt x="147" y="28"/>
                </a:moveTo>
                <a:lnTo>
                  <a:pt x="15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147" y="0"/>
                </a:lnTo>
                <a:cubicBezTo>
                  <a:pt x="156" y="0"/>
                  <a:pt x="161" y="6"/>
                  <a:pt x="161" y="14"/>
                </a:cubicBezTo>
                <a:cubicBezTo>
                  <a:pt x="161" y="23"/>
                  <a:pt x="156" y="28"/>
                  <a:pt x="14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439"/>
          <p:cNvSpPr/>
          <p:nvPr/>
        </p:nvSpPr>
        <p:spPr>
          <a:xfrm>
            <a:off x="8331120" y="6970680"/>
            <a:ext cx="109440" cy="20520"/>
          </a:xfrm>
          <a:custGeom>
            <a:avLst/>
            <a:gdLst/>
            <a:ahLst/>
            <a:rect l="l" t="t" r="r" b="b"/>
            <a:pathLst>
              <a:path w="162" h="29">
                <a:moveTo>
                  <a:pt x="146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146" y="0"/>
                </a:lnTo>
                <a:cubicBezTo>
                  <a:pt x="155" y="0"/>
                  <a:pt x="161" y="6"/>
                  <a:pt x="161" y="14"/>
                </a:cubicBezTo>
                <a:cubicBezTo>
                  <a:pt x="161" y="23"/>
                  <a:pt x="155" y="28"/>
                  <a:pt x="146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440"/>
          <p:cNvSpPr/>
          <p:nvPr/>
        </p:nvSpPr>
        <p:spPr>
          <a:xfrm>
            <a:off x="8443800" y="7000920"/>
            <a:ext cx="20880" cy="66600"/>
          </a:xfrm>
          <a:custGeom>
            <a:avLst/>
            <a:gdLst/>
            <a:ahLst/>
            <a:rect l="l" t="t" r="r" b="b"/>
            <a:pathLst>
              <a:path w="29" h="97">
                <a:moveTo>
                  <a:pt x="14" y="96"/>
                </a:moveTo>
                <a:cubicBezTo>
                  <a:pt x="6" y="96"/>
                  <a:pt x="0" y="91"/>
                  <a:pt x="0" y="82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82"/>
                </a:lnTo>
                <a:cubicBezTo>
                  <a:pt x="28" y="91"/>
                  <a:pt x="23" y="96"/>
                  <a:pt x="14" y="9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441"/>
          <p:cNvSpPr/>
          <p:nvPr/>
        </p:nvSpPr>
        <p:spPr>
          <a:xfrm>
            <a:off x="8501040" y="7000920"/>
            <a:ext cx="20520" cy="66600"/>
          </a:xfrm>
          <a:custGeom>
            <a:avLst/>
            <a:gdLst/>
            <a:ahLst/>
            <a:rect l="l" t="t" r="r" b="b"/>
            <a:pathLst>
              <a:path w="29" h="97">
                <a:moveTo>
                  <a:pt x="14" y="96"/>
                </a:moveTo>
                <a:cubicBezTo>
                  <a:pt x="5" y="96"/>
                  <a:pt x="0" y="91"/>
                  <a:pt x="0" y="82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82"/>
                </a:lnTo>
                <a:cubicBezTo>
                  <a:pt x="28" y="91"/>
                  <a:pt x="22" y="96"/>
                  <a:pt x="14" y="9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442"/>
          <p:cNvSpPr/>
          <p:nvPr/>
        </p:nvSpPr>
        <p:spPr>
          <a:xfrm>
            <a:off x="1438200" y="7566120"/>
            <a:ext cx="308160" cy="307800"/>
          </a:xfrm>
          <a:custGeom>
            <a:avLst/>
            <a:gdLst/>
            <a:ahLst/>
            <a:rect l="l" t="t" r="r" b="b"/>
            <a:pathLst>
              <a:path w="452" h="452">
                <a:moveTo>
                  <a:pt x="225" y="451"/>
                </a:moveTo>
                <a:cubicBezTo>
                  <a:pt x="101" y="451"/>
                  <a:pt x="0" y="350"/>
                  <a:pt x="0" y="226"/>
                </a:cubicBezTo>
                <a:cubicBezTo>
                  <a:pt x="0" y="102"/>
                  <a:pt x="100" y="0"/>
                  <a:pt x="225" y="0"/>
                </a:cubicBezTo>
                <a:cubicBezTo>
                  <a:pt x="349" y="0"/>
                  <a:pt x="451" y="102"/>
                  <a:pt x="451" y="226"/>
                </a:cubicBezTo>
                <a:cubicBezTo>
                  <a:pt x="451" y="350"/>
                  <a:pt x="350" y="451"/>
                  <a:pt x="225" y="451"/>
                </a:cubicBezTo>
                <a:close/>
                <a:moveTo>
                  <a:pt x="225" y="28"/>
                </a:moveTo>
                <a:cubicBezTo>
                  <a:pt x="115" y="28"/>
                  <a:pt x="28" y="116"/>
                  <a:pt x="28" y="226"/>
                </a:cubicBezTo>
                <a:cubicBezTo>
                  <a:pt x="28" y="336"/>
                  <a:pt x="114" y="423"/>
                  <a:pt x="225" y="423"/>
                </a:cubicBezTo>
                <a:cubicBezTo>
                  <a:pt x="335" y="423"/>
                  <a:pt x="423" y="336"/>
                  <a:pt x="423" y="226"/>
                </a:cubicBezTo>
                <a:cubicBezTo>
                  <a:pt x="423" y="116"/>
                  <a:pt x="336" y="28"/>
                  <a:pt x="225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443"/>
          <p:cNvSpPr/>
          <p:nvPr/>
        </p:nvSpPr>
        <p:spPr>
          <a:xfrm>
            <a:off x="1528920" y="7659720"/>
            <a:ext cx="128520" cy="115920"/>
          </a:xfrm>
          <a:custGeom>
            <a:avLst/>
            <a:gdLst/>
            <a:ahLst/>
            <a:rect l="l" t="t" r="r" b="b"/>
            <a:pathLst>
              <a:path w="188" h="173">
                <a:moveTo>
                  <a:pt x="133" y="172"/>
                </a:moveTo>
                <a:lnTo>
                  <a:pt x="54" y="172"/>
                </a:lnTo>
                <a:cubicBezTo>
                  <a:pt x="48" y="172"/>
                  <a:pt x="43" y="170"/>
                  <a:pt x="43" y="164"/>
                </a:cubicBezTo>
                <a:lnTo>
                  <a:pt x="3" y="93"/>
                </a:lnTo>
                <a:cubicBezTo>
                  <a:pt x="0" y="88"/>
                  <a:pt x="0" y="85"/>
                  <a:pt x="3" y="79"/>
                </a:cubicBezTo>
                <a:lnTo>
                  <a:pt x="43" y="9"/>
                </a:lnTo>
                <a:cubicBezTo>
                  <a:pt x="46" y="3"/>
                  <a:pt x="51" y="0"/>
                  <a:pt x="54" y="0"/>
                </a:cubicBezTo>
                <a:lnTo>
                  <a:pt x="133" y="0"/>
                </a:lnTo>
                <a:cubicBezTo>
                  <a:pt x="139" y="0"/>
                  <a:pt x="144" y="3"/>
                  <a:pt x="144" y="9"/>
                </a:cubicBezTo>
                <a:lnTo>
                  <a:pt x="184" y="79"/>
                </a:lnTo>
                <a:cubicBezTo>
                  <a:pt x="187" y="85"/>
                  <a:pt x="187" y="88"/>
                  <a:pt x="184" y="93"/>
                </a:cubicBezTo>
                <a:lnTo>
                  <a:pt x="144" y="164"/>
                </a:lnTo>
                <a:cubicBezTo>
                  <a:pt x="141" y="170"/>
                  <a:pt x="139" y="172"/>
                  <a:pt x="133" y="172"/>
                </a:cubicBezTo>
                <a:close/>
                <a:moveTo>
                  <a:pt x="62" y="144"/>
                </a:moveTo>
                <a:lnTo>
                  <a:pt x="125" y="144"/>
                </a:lnTo>
                <a:lnTo>
                  <a:pt x="156" y="88"/>
                </a:lnTo>
                <a:lnTo>
                  <a:pt x="125" y="31"/>
                </a:lnTo>
                <a:lnTo>
                  <a:pt x="62" y="31"/>
                </a:lnTo>
                <a:lnTo>
                  <a:pt x="31" y="88"/>
                </a:lnTo>
                <a:lnTo>
                  <a:pt x="62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444"/>
          <p:cNvSpPr/>
          <p:nvPr/>
        </p:nvSpPr>
        <p:spPr>
          <a:xfrm>
            <a:off x="1447920" y="7758000"/>
            <a:ext cx="128520" cy="20880"/>
          </a:xfrm>
          <a:custGeom>
            <a:avLst/>
            <a:gdLst/>
            <a:ahLst/>
            <a:rect l="l" t="t" r="r" b="b"/>
            <a:pathLst>
              <a:path w="190" h="29">
                <a:moveTo>
                  <a:pt x="175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75" y="0"/>
                </a:lnTo>
                <a:cubicBezTo>
                  <a:pt x="183" y="0"/>
                  <a:pt x="189" y="6"/>
                  <a:pt x="189" y="14"/>
                </a:cubicBezTo>
                <a:cubicBezTo>
                  <a:pt x="189" y="23"/>
                  <a:pt x="183" y="28"/>
                  <a:pt x="175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445"/>
          <p:cNvSpPr/>
          <p:nvPr/>
        </p:nvSpPr>
        <p:spPr>
          <a:xfrm>
            <a:off x="1558800" y="7754760"/>
            <a:ext cx="71640" cy="115920"/>
          </a:xfrm>
          <a:custGeom>
            <a:avLst/>
            <a:gdLst/>
            <a:ahLst/>
            <a:rect l="l" t="t" r="r" b="b"/>
            <a:pathLst>
              <a:path w="108" h="171">
                <a:moveTo>
                  <a:pt x="14" y="170"/>
                </a:moveTo>
                <a:cubicBezTo>
                  <a:pt x="11" y="170"/>
                  <a:pt x="8" y="170"/>
                  <a:pt x="8" y="167"/>
                </a:cubicBezTo>
                <a:cubicBezTo>
                  <a:pt x="3" y="164"/>
                  <a:pt x="0" y="156"/>
                  <a:pt x="3" y="147"/>
                </a:cubicBezTo>
                <a:lnTo>
                  <a:pt x="79" y="9"/>
                </a:lnTo>
                <a:cubicBezTo>
                  <a:pt x="82" y="3"/>
                  <a:pt x="90" y="0"/>
                  <a:pt x="98" y="3"/>
                </a:cubicBezTo>
                <a:cubicBezTo>
                  <a:pt x="104" y="6"/>
                  <a:pt x="107" y="14"/>
                  <a:pt x="104" y="23"/>
                </a:cubicBezTo>
                <a:lnTo>
                  <a:pt x="28" y="161"/>
                </a:lnTo>
                <a:cubicBezTo>
                  <a:pt x="22" y="167"/>
                  <a:pt x="19" y="170"/>
                  <a:pt x="14" y="1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446"/>
          <p:cNvSpPr/>
          <p:nvPr/>
        </p:nvSpPr>
        <p:spPr>
          <a:xfrm>
            <a:off x="1636560" y="7710480"/>
            <a:ext cx="74880" cy="115920"/>
          </a:xfrm>
          <a:custGeom>
            <a:avLst/>
            <a:gdLst/>
            <a:ahLst/>
            <a:rect l="l" t="t" r="r" b="b"/>
            <a:pathLst>
              <a:path w="111" h="173">
                <a:moveTo>
                  <a:pt x="93" y="172"/>
                </a:moveTo>
                <a:cubicBezTo>
                  <a:pt x="87" y="172"/>
                  <a:pt x="84" y="169"/>
                  <a:pt x="81" y="163"/>
                </a:cubicBezTo>
                <a:lnTo>
                  <a:pt x="2" y="22"/>
                </a:lnTo>
                <a:cubicBezTo>
                  <a:pt x="0" y="17"/>
                  <a:pt x="2" y="8"/>
                  <a:pt x="8" y="2"/>
                </a:cubicBezTo>
                <a:cubicBezTo>
                  <a:pt x="14" y="0"/>
                  <a:pt x="22" y="2"/>
                  <a:pt x="28" y="8"/>
                </a:cubicBezTo>
                <a:lnTo>
                  <a:pt x="107" y="149"/>
                </a:lnTo>
                <a:cubicBezTo>
                  <a:pt x="110" y="155"/>
                  <a:pt x="107" y="163"/>
                  <a:pt x="101" y="169"/>
                </a:cubicBezTo>
                <a:cubicBezTo>
                  <a:pt x="98" y="169"/>
                  <a:pt x="96" y="172"/>
                  <a:pt x="93" y="17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447"/>
          <p:cNvSpPr/>
          <p:nvPr/>
        </p:nvSpPr>
        <p:spPr>
          <a:xfrm>
            <a:off x="1474920" y="7612200"/>
            <a:ext cx="74520" cy="115920"/>
          </a:xfrm>
          <a:custGeom>
            <a:avLst/>
            <a:gdLst/>
            <a:ahLst/>
            <a:rect l="l" t="t" r="r" b="b"/>
            <a:pathLst>
              <a:path w="111" h="173">
                <a:moveTo>
                  <a:pt x="93" y="172"/>
                </a:moveTo>
                <a:cubicBezTo>
                  <a:pt x="88" y="172"/>
                  <a:pt x="85" y="169"/>
                  <a:pt x="82" y="163"/>
                </a:cubicBezTo>
                <a:lnTo>
                  <a:pt x="3" y="22"/>
                </a:lnTo>
                <a:cubicBezTo>
                  <a:pt x="0" y="17"/>
                  <a:pt x="3" y="8"/>
                  <a:pt x="9" y="3"/>
                </a:cubicBezTo>
                <a:cubicBezTo>
                  <a:pt x="14" y="0"/>
                  <a:pt x="23" y="3"/>
                  <a:pt x="29" y="8"/>
                </a:cubicBezTo>
                <a:lnTo>
                  <a:pt x="108" y="149"/>
                </a:lnTo>
                <a:cubicBezTo>
                  <a:pt x="110" y="155"/>
                  <a:pt x="108" y="163"/>
                  <a:pt x="102" y="169"/>
                </a:cubicBezTo>
                <a:cubicBezTo>
                  <a:pt x="99" y="172"/>
                  <a:pt x="96" y="172"/>
                  <a:pt x="93" y="17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448"/>
          <p:cNvSpPr/>
          <p:nvPr/>
        </p:nvSpPr>
        <p:spPr>
          <a:xfrm>
            <a:off x="1555920" y="7566120"/>
            <a:ext cx="71280" cy="117360"/>
          </a:xfrm>
          <a:custGeom>
            <a:avLst/>
            <a:gdLst/>
            <a:ahLst/>
            <a:rect l="l" t="t" r="r" b="b"/>
            <a:pathLst>
              <a:path w="108" h="170">
                <a:moveTo>
                  <a:pt x="14" y="169"/>
                </a:moveTo>
                <a:cubicBezTo>
                  <a:pt x="11" y="169"/>
                  <a:pt x="8" y="169"/>
                  <a:pt x="8" y="166"/>
                </a:cubicBezTo>
                <a:cubicBezTo>
                  <a:pt x="3" y="164"/>
                  <a:pt x="0" y="155"/>
                  <a:pt x="3" y="147"/>
                </a:cubicBezTo>
                <a:lnTo>
                  <a:pt x="79" y="8"/>
                </a:lnTo>
                <a:cubicBezTo>
                  <a:pt x="82" y="3"/>
                  <a:pt x="90" y="0"/>
                  <a:pt x="99" y="3"/>
                </a:cubicBezTo>
                <a:cubicBezTo>
                  <a:pt x="104" y="6"/>
                  <a:pt x="107" y="14"/>
                  <a:pt x="104" y="23"/>
                </a:cubicBezTo>
                <a:lnTo>
                  <a:pt x="28" y="161"/>
                </a:lnTo>
                <a:cubicBezTo>
                  <a:pt x="25" y="166"/>
                  <a:pt x="20" y="169"/>
                  <a:pt x="14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449"/>
          <p:cNvSpPr/>
          <p:nvPr/>
        </p:nvSpPr>
        <p:spPr>
          <a:xfrm>
            <a:off x="1609560" y="7662960"/>
            <a:ext cx="128880" cy="20520"/>
          </a:xfrm>
          <a:custGeom>
            <a:avLst/>
            <a:gdLst/>
            <a:ahLst/>
            <a:rect l="l" t="t" r="r" b="b"/>
            <a:pathLst>
              <a:path w="190" h="29">
                <a:moveTo>
                  <a:pt x="175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75" y="0"/>
                </a:lnTo>
                <a:cubicBezTo>
                  <a:pt x="183" y="0"/>
                  <a:pt x="189" y="6"/>
                  <a:pt x="189" y="14"/>
                </a:cubicBezTo>
                <a:cubicBezTo>
                  <a:pt x="189" y="23"/>
                  <a:pt x="181" y="28"/>
                  <a:pt x="175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450"/>
          <p:cNvSpPr/>
          <p:nvPr/>
        </p:nvSpPr>
        <p:spPr>
          <a:xfrm>
            <a:off x="2205000" y="7718400"/>
            <a:ext cx="173160" cy="117360"/>
          </a:xfrm>
          <a:custGeom>
            <a:avLst/>
            <a:gdLst/>
            <a:ahLst/>
            <a:rect l="l" t="t" r="r" b="b"/>
            <a:pathLst>
              <a:path w="257" h="170">
                <a:moveTo>
                  <a:pt x="242" y="169"/>
                </a:moveTo>
                <a:lnTo>
                  <a:pt x="17" y="169"/>
                </a:lnTo>
                <a:cubicBezTo>
                  <a:pt x="11" y="169"/>
                  <a:pt x="5" y="167"/>
                  <a:pt x="3" y="161"/>
                </a:cubicBezTo>
                <a:cubicBezTo>
                  <a:pt x="0" y="156"/>
                  <a:pt x="0" y="149"/>
                  <a:pt x="5" y="146"/>
                </a:cubicBezTo>
                <a:lnTo>
                  <a:pt x="118" y="5"/>
                </a:lnTo>
                <a:cubicBezTo>
                  <a:pt x="124" y="0"/>
                  <a:pt x="135" y="0"/>
                  <a:pt x="141" y="5"/>
                </a:cubicBezTo>
                <a:lnTo>
                  <a:pt x="254" y="146"/>
                </a:lnTo>
                <a:cubicBezTo>
                  <a:pt x="256" y="152"/>
                  <a:pt x="256" y="158"/>
                  <a:pt x="256" y="161"/>
                </a:cubicBezTo>
                <a:cubicBezTo>
                  <a:pt x="254" y="166"/>
                  <a:pt x="248" y="169"/>
                  <a:pt x="242" y="169"/>
                </a:cubicBezTo>
                <a:close/>
                <a:moveTo>
                  <a:pt x="45" y="141"/>
                </a:moveTo>
                <a:lnTo>
                  <a:pt x="211" y="141"/>
                </a:lnTo>
                <a:lnTo>
                  <a:pt x="127" y="36"/>
                </a:lnTo>
                <a:lnTo>
                  <a:pt x="45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451"/>
          <p:cNvSpPr/>
          <p:nvPr/>
        </p:nvSpPr>
        <p:spPr>
          <a:xfrm>
            <a:off x="2327400" y="7697880"/>
            <a:ext cx="185760" cy="137880"/>
          </a:xfrm>
          <a:custGeom>
            <a:avLst/>
            <a:gdLst/>
            <a:ahLst/>
            <a:rect l="l" t="t" r="r" b="b"/>
            <a:pathLst>
              <a:path w="275" h="201">
                <a:moveTo>
                  <a:pt x="257" y="200"/>
                </a:moveTo>
                <a:lnTo>
                  <a:pt x="59" y="200"/>
                </a:lnTo>
                <a:cubicBezTo>
                  <a:pt x="54" y="200"/>
                  <a:pt x="51" y="197"/>
                  <a:pt x="48" y="194"/>
                </a:cubicBezTo>
                <a:lnTo>
                  <a:pt x="6" y="141"/>
                </a:lnTo>
                <a:cubicBezTo>
                  <a:pt x="0" y="135"/>
                  <a:pt x="3" y="127"/>
                  <a:pt x="9" y="121"/>
                </a:cubicBezTo>
                <a:lnTo>
                  <a:pt x="136" y="5"/>
                </a:lnTo>
                <a:cubicBezTo>
                  <a:pt x="141" y="0"/>
                  <a:pt x="150" y="0"/>
                  <a:pt x="155" y="5"/>
                </a:cubicBezTo>
                <a:lnTo>
                  <a:pt x="268" y="110"/>
                </a:lnTo>
                <a:cubicBezTo>
                  <a:pt x="271" y="113"/>
                  <a:pt x="274" y="115"/>
                  <a:pt x="274" y="121"/>
                </a:cubicBezTo>
                <a:lnTo>
                  <a:pt x="274" y="186"/>
                </a:lnTo>
                <a:cubicBezTo>
                  <a:pt x="271" y="194"/>
                  <a:pt x="265" y="200"/>
                  <a:pt x="257" y="200"/>
                </a:cubicBezTo>
                <a:close/>
                <a:moveTo>
                  <a:pt x="65" y="172"/>
                </a:moveTo>
                <a:lnTo>
                  <a:pt x="243" y="172"/>
                </a:lnTo>
                <a:lnTo>
                  <a:pt x="243" y="127"/>
                </a:lnTo>
                <a:lnTo>
                  <a:pt x="144" y="36"/>
                </a:lnTo>
                <a:lnTo>
                  <a:pt x="37" y="135"/>
                </a:lnTo>
                <a:lnTo>
                  <a:pt x="65" y="1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452"/>
          <p:cNvSpPr/>
          <p:nvPr/>
        </p:nvSpPr>
        <p:spPr>
          <a:xfrm>
            <a:off x="2205000" y="7662960"/>
            <a:ext cx="308160" cy="210960"/>
          </a:xfrm>
          <a:custGeom>
            <a:avLst/>
            <a:gdLst/>
            <a:ahLst/>
            <a:rect l="l" t="t" r="r" b="b"/>
            <a:pathLst>
              <a:path w="452" h="311">
                <a:moveTo>
                  <a:pt x="423" y="310"/>
                </a:moveTo>
                <a:lnTo>
                  <a:pt x="28" y="310"/>
                </a:lnTo>
                <a:cubicBezTo>
                  <a:pt x="11" y="310"/>
                  <a:pt x="0" y="299"/>
                  <a:pt x="0" y="282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1" y="11"/>
                  <a:pt x="451" y="28"/>
                </a:cubicBezTo>
                <a:lnTo>
                  <a:pt x="451" y="282"/>
                </a:lnTo>
                <a:cubicBezTo>
                  <a:pt x="451" y="299"/>
                  <a:pt x="440" y="310"/>
                  <a:pt x="423" y="310"/>
                </a:cubicBezTo>
                <a:close/>
                <a:moveTo>
                  <a:pt x="423" y="28"/>
                </a:moveTo>
                <a:lnTo>
                  <a:pt x="28" y="28"/>
                </a:lnTo>
                <a:lnTo>
                  <a:pt x="28" y="282"/>
                </a:lnTo>
                <a:lnTo>
                  <a:pt x="423" y="282"/>
                </a:lnTo>
                <a:lnTo>
                  <a:pt x="423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453"/>
          <p:cNvSpPr/>
          <p:nvPr/>
        </p:nvSpPr>
        <p:spPr>
          <a:xfrm>
            <a:off x="2363760" y="7593120"/>
            <a:ext cx="122400" cy="87120"/>
          </a:xfrm>
          <a:custGeom>
            <a:avLst/>
            <a:gdLst/>
            <a:ahLst/>
            <a:rect l="l" t="t" r="r" b="b"/>
            <a:pathLst>
              <a:path w="182" h="128">
                <a:moveTo>
                  <a:pt x="164" y="127"/>
                </a:moveTo>
                <a:cubicBezTo>
                  <a:pt x="161" y="127"/>
                  <a:pt x="158" y="127"/>
                  <a:pt x="155" y="124"/>
                </a:cubicBezTo>
                <a:lnTo>
                  <a:pt x="8" y="29"/>
                </a:lnTo>
                <a:cubicBezTo>
                  <a:pt x="3" y="23"/>
                  <a:pt x="0" y="15"/>
                  <a:pt x="6" y="9"/>
                </a:cubicBezTo>
                <a:cubicBezTo>
                  <a:pt x="11" y="4"/>
                  <a:pt x="20" y="0"/>
                  <a:pt x="25" y="6"/>
                </a:cubicBezTo>
                <a:lnTo>
                  <a:pt x="172" y="102"/>
                </a:lnTo>
                <a:cubicBezTo>
                  <a:pt x="178" y="108"/>
                  <a:pt x="181" y="116"/>
                  <a:pt x="175" y="122"/>
                </a:cubicBezTo>
                <a:cubicBezTo>
                  <a:pt x="172" y="124"/>
                  <a:pt x="169" y="127"/>
                  <a:pt x="164" y="12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454"/>
          <p:cNvSpPr/>
          <p:nvPr/>
        </p:nvSpPr>
        <p:spPr>
          <a:xfrm>
            <a:off x="2232000" y="7593120"/>
            <a:ext cx="122400" cy="87120"/>
          </a:xfrm>
          <a:custGeom>
            <a:avLst/>
            <a:gdLst/>
            <a:ahLst/>
            <a:rect l="l" t="t" r="r" b="b"/>
            <a:pathLst>
              <a:path w="182" h="128">
                <a:moveTo>
                  <a:pt x="17" y="127"/>
                </a:moveTo>
                <a:cubicBezTo>
                  <a:pt x="11" y="127"/>
                  <a:pt x="8" y="124"/>
                  <a:pt x="6" y="122"/>
                </a:cubicBezTo>
                <a:cubicBezTo>
                  <a:pt x="0" y="116"/>
                  <a:pt x="3" y="108"/>
                  <a:pt x="8" y="102"/>
                </a:cubicBezTo>
                <a:lnTo>
                  <a:pt x="155" y="6"/>
                </a:lnTo>
                <a:cubicBezTo>
                  <a:pt x="161" y="0"/>
                  <a:pt x="169" y="3"/>
                  <a:pt x="175" y="9"/>
                </a:cubicBezTo>
                <a:cubicBezTo>
                  <a:pt x="181" y="14"/>
                  <a:pt x="178" y="23"/>
                  <a:pt x="172" y="29"/>
                </a:cubicBezTo>
                <a:lnTo>
                  <a:pt x="25" y="124"/>
                </a:lnTo>
                <a:cubicBezTo>
                  <a:pt x="23" y="127"/>
                  <a:pt x="20" y="127"/>
                  <a:pt x="17" y="12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455"/>
          <p:cNvSpPr/>
          <p:nvPr/>
        </p:nvSpPr>
        <p:spPr>
          <a:xfrm>
            <a:off x="2330280" y="7566120"/>
            <a:ext cx="60480" cy="60120"/>
          </a:xfrm>
          <a:custGeom>
            <a:avLst/>
            <a:gdLst/>
            <a:ahLst/>
            <a:rect l="l" t="t" r="r" b="b"/>
            <a:pathLst>
              <a:path w="86" h="86">
                <a:moveTo>
                  <a:pt x="42" y="85"/>
                </a:moveTo>
                <a:cubicBezTo>
                  <a:pt x="20" y="85"/>
                  <a:pt x="0" y="65"/>
                  <a:pt x="0" y="42"/>
                </a:cubicBezTo>
                <a:cubicBezTo>
                  <a:pt x="0" y="20"/>
                  <a:pt x="19" y="0"/>
                  <a:pt x="42" y="0"/>
                </a:cubicBezTo>
                <a:cubicBezTo>
                  <a:pt x="64" y="0"/>
                  <a:pt x="85" y="20"/>
                  <a:pt x="85" y="42"/>
                </a:cubicBezTo>
                <a:cubicBezTo>
                  <a:pt x="85" y="65"/>
                  <a:pt x="65" y="85"/>
                  <a:pt x="42" y="85"/>
                </a:cubicBezTo>
                <a:close/>
                <a:moveTo>
                  <a:pt x="42" y="28"/>
                </a:moveTo>
                <a:cubicBezTo>
                  <a:pt x="34" y="28"/>
                  <a:pt x="28" y="34"/>
                  <a:pt x="28" y="42"/>
                </a:cubicBezTo>
                <a:cubicBezTo>
                  <a:pt x="28" y="51"/>
                  <a:pt x="33" y="56"/>
                  <a:pt x="42" y="56"/>
                </a:cubicBezTo>
                <a:cubicBezTo>
                  <a:pt x="50" y="56"/>
                  <a:pt x="56" y="51"/>
                  <a:pt x="56" y="42"/>
                </a:cubicBezTo>
                <a:cubicBezTo>
                  <a:pt x="56" y="34"/>
                  <a:pt x="51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456"/>
          <p:cNvSpPr/>
          <p:nvPr/>
        </p:nvSpPr>
        <p:spPr>
          <a:xfrm>
            <a:off x="3009960" y="7566120"/>
            <a:ext cx="230040" cy="307800"/>
          </a:xfrm>
          <a:custGeom>
            <a:avLst/>
            <a:gdLst/>
            <a:ahLst/>
            <a:rect l="l" t="t" r="r" b="b"/>
            <a:pathLst>
              <a:path w="339" h="452">
                <a:moveTo>
                  <a:pt x="310" y="451"/>
                </a:moveTo>
                <a:lnTo>
                  <a:pt x="28" y="451"/>
                </a:lnTo>
                <a:cubicBezTo>
                  <a:pt x="11" y="451"/>
                  <a:pt x="0" y="440"/>
                  <a:pt x="0" y="423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211" y="0"/>
                </a:lnTo>
                <a:cubicBezTo>
                  <a:pt x="214" y="0"/>
                  <a:pt x="220" y="3"/>
                  <a:pt x="223" y="3"/>
                </a:cubicBezTo>
                <a:lnTo>
                  <a:pt x="336" y="116"/>
                </a:lnTo>
                <a:cubicBezTo>
                  <a:pt x="338" y="118"/>
                  <a:pt x="338" y="121"/>
                  <a:pt x="338" y="127"/>
                </a:cubicBezTo>
                <a:lnTo>
                  <a:pt x="338" y="423"/>
                </a:lnTo>
                <a:cubicBezTo>
                  <a:pt x="338" y="440"/>
                  <a:pt x="327" y="451"/>
                  <a:pt x="310" y="451"/>
                </a:cubicBezTo>
                <a:close/>
                <a:moveTo>
                  <a:pt x="28" y="28"/>
                </a:moveTo>
                <a:lnTo>
                  <a:pt x="28" y="423"/>
                </a:lnTo>
                <a:lnTo>
                  <a:pt x="310" y="423"/>
                </a:lnTo>
                <a:lnTo>
                  <a:pt x="310" y="133"/>
                </a:lnTo>
                <a:lnTo>
                  <a:pt x="206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457"/>
          <p:cNvSpPr/>
          <p:nvPr/>
        </p:nvSpPr>
        <p:spPr>
          <a:xfrm>
            <a:off x="3143160" y="7566120"/>
            <a:ext cx="96840" cy="9684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27" y="141"/>
                </a:moveTo>
                <a:lnTo>
                  <a:pt x="28" y="141"/>
                </a:lnTo>
                <a:cubicBezTo>
                  <a:pt x="12" y="141"/>
                  <a:pt x="0" y="130"/>
                  <a:pt x="0" y="113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113"/>
                </a:lnTo>
                <a:lnTo>
                  <a:pt x="127" y="113"/>
                </a:lnTo>
                <a:cubicBezTo>
                  <a:pt x="136" y="113"/>
                  <a:pt x="141" y="119"/>
                  <a:pt x="141" y="127"/>
                </a:cubicBezTo>
                <a:cubicBezTo>
                  <a:pt x="141" y="136"/>
                  <a:pt x="136" y="141"/>
                  <a:pt x="127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458"/>
          <p:cNvSpPr/>
          <p:nvPr/>
        </p:nvSpPr>
        <p:spPr>
          <a:xfrm>
            <a:off x="3048120" y="7566120"/>
            <a:ext cx="104760" cy="137880"/>
          </a:xfrm>
          <a:custGeom>
            <a:avLst/>
            <a:gdLst/>
            <a:ahLst/>
            <a:rect l="l" t="t" r="r" b="b"/>
            <a:pathLst>
              <a:path w="156" h="201">
                <a:moveTo>
                  <a:pt x="96" y="198"/>
                </a:moveTo>
                <a:cubicBezTo>
                  <a:pt x="93" y="198"/>
                  <a:pt x="87" y="195"/>
                  <a:pt x="85" y="195"/>
                </a:cubicBezTo>
                <a:lnTo>
                  <a:pt x="54" y="164"/>
                </a:lnTo>
                <a:lnTo>
                  <a:pt x="23" y="195"/>
                </a:lnTo>
                <a:cubicBezTo>
                  <a:pt x="20" y="198"/>
                  <a:pt x="11" y="200"/>
                  <a:pt x="8" y="198"/>
                </a:cubicBezTo>
                <a:cubicBezTo>
                  <a:pt x="3" y="195"/>
                  <a:pt x="0" y="189"/>
                  <a:pt x="0" y="183"/>
                </a:cubicBezTo>
                <a:lnTo>
                  <a:pt x="0" y="42"/>
                </a:lnTo>
                <a:cubicBezTo>
                  <a:pt x="0" y="20"/>
                  <a:pt x="20" y="0"/>
                  <a:pt x="42" y="0"/>
                </a:cubicBezTo>
                <a:lnTo>
                  <a:pt x="141" y="0"/>
                </a:lnTo>
                <a:cubicBezTo>
                  <a:pt x="150" y="0"/>
                  <a:pt x="155" y="6"/>
                  <a:pt x="155" y="14"/>
                </a:cubicBezTo>
                <a:cubicBezTo>
                  <a:pt x="155" y="23"/>
                  <a:pt x="150" y="28"/>
                  <a:pt x="141" y="28"/>
                </a:cubicBezTo>
                <a:lnTo>
                  <a:pt x="127" y="28"/>
                </a:lnTo>
                <a:cubicBezTo>
                  <a:pt x="119" y="28"/>
                  <a:pt x="113" y="34"/>
                  <a:pt x="113" y="42"/>
                </a:cubicBezTo>
                <a:lnTo>
                  <a:pt x="113" y="183"/>
                </a:lnTo>
                <a:cubicBezTo>
                  <a:pt x="113" y="189"/>
                  <a:pt x="110" y="195"/>
                  <a:pt x="104" y="198"/>
                </a:cubicBezTo>
                <a:cubicBezTo>
                  <a:pt x="99" y="198"/>
                  <a:pt x="99" y="198"/>
                  <a:pt x="96" y="198"/>
                </a:cubicBezTo>
                <a:close/>
                <a:moveTo>
                  <a:pt x="54" y="127"/>
                </a:moveTo>
                <a:cubicBezTo>
                  <a:pt x="56" y="127"/>
                  <a:pt x="62" y="127"/>
                  <a:pt x="65" y="130"/>
                </a:cubicBezTo>
                <a:lnTo>
                  <a:pt x="82" y="147"/>
                </a:lnTo>
                <a:lnTo>
                  <a:pt x="82" y="39"/>
                </a:lnTo>
                <a:cubicBezTo>
                  <a:pt x="82" y="34"/>
                  <a:pt x="82" y="31"/>
                  <a:pt x="85" y="25"/>
                </a:cubicBezTo>
                <a:lnTo>
                  <a:pt x="40" y="25"/>
                </a:lnTo>
                <a:cubicBezTo>
                  <a:pt x="31" y="25"/>
                  <a:pt x="25" y="31"/>
                  <a:pt x="25" y="39"/>
                </a:cubicBezTo>
                <a:lnTo>
                  <a:pt x="25" y="147"/>
                </a:lnTo>
                <a:lnTo>
                  <a:pt x="42" y="130"/>
                </a:lnTo>
                <a:cubicBezTo>
                  <a:pt x="45" y="130"/>
                  <a:pt x="51" y="127"/>
                  <a:pt x="54" y="1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459"/>
          <p:cNvSpPr/>
          <p:nvPr/>
        </p:nvSpPr>
        <p:spPr>
          <a:xfrm>
            <a:off x="3048120" y="7737480"/>
            <a:ext cx="152280" cy="20520"/>
          </a:xfrm>
          <a:custGeom>
            <a:avLst/>
            <a:gdLst/>
            <a:ahLst/>
            <a:rect l="l" t="t" r="r" b="b"/>
            <a:pathLst>
              <a:path w="227" h="29">
                <a:moveTo>
                  <a:pt x="212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212" y="0"/>
                </a:lnTo>
                <a:cubicBezTo>
                  <a:pt x="220" y="0"/>
                  <a:pt x="226" y="6"/>
                  <a:pt x="226" y="14"/>
                </a:cubicBezTo>
                <a:cubicBezTo>
                  <a:pt x="226" y="23"/>
                  <a:pt x="220" y="28"/>
                  <a:pt x="21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460"/>
          <p:cNvSpPr/>
          <p:nvPr/>
        </p:nvSpPr>
        <p:spPr>
          <a:xfrm>
            <a:off x="3048120" y="7775640"/>
            <a:ext cx="95040" cy="20520"/>
          </a:xfrm>
          <a:custGeom>
            <a:avLst/>
            <a:gdLst/>
            <a:ahLst/>
            <a:rect l="l" t="t" r="r" b="b"/>
            <a:pathLst>
              <a:path w="142" h="30">
                <a:moveTo>
                  <a:pt x="127" y="29"/>
                </a:moveTo>
                <a:lnTo>
                  <a:pt x="14" y="29"/>
                </a:lnTo>
                <a:cubicBezTo>
                  <a:pt x="6" y="29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6"/>
                  <a:pt x="141" y="14"/>
                </a:cubicBezTo>
                <a:cubicBezTo>
                  <a:pt x="141" y="23"/>
                  <a:pt x="136" y="29"/>
                  <a:pt x="127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461"/>
          <p:cNvSpPr/>
          <p:nvPr/>
        </p:nvSpPr>
        <p:spPr>
          <a:xfrm>
            <a:off x="3735360" y="7566120"/>
            <a:ext cx="309600" cy="307800"/>
          </a:xfrm>
          <a:custGeom>
            <a:avLst/>
            <a:gdLst/>
            <a:ahLst/>
            <a:rect l="l" t="t" r="r" b="b"/>
            <a:pathLst>
              <a:path w="453" h="452">
                <a:moveTo>
                  <a:pt x="423" y="451"/>
                </a:moveTo>
                <a:lnTo>
                  <a:pt x="28" y="451"/>
                </a:lnTo>
                <a:cubicBezTo>
                  <a:pt x="11" y="451"/>
                  <a:pt x="0" y="440"/>
                  <a:pt x="0" y="423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2" y="11"/>
                  <a:pt x="452" y="28"/>
                </a:cubicBezTo>
                <a:lnTo>
                  <a:pt x="452" y="423"/>
                </a:lnTo>
                <a:cubicBezTo>
                  <a:pt x="452" y="440"/>
                  <a:pt x="440" y="451"/>
                  <a:pt x="423" y="451"/>
                </a:cubicBezTo>
                <a:close/>
                <a:moveTo>
                  <a:pt x="28" y="28"/>
                </a:moveTo>
                <a:lnTo>
                  <a:pt x="28" y="423"/>
                </a:lnTo>
                <a:lnTo>
                  <a:pt x="423" y="423"/>
                </a:lnTo>
                <a:lnTo>
                  <a:pt x="423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462"/>
          <p:cNvSpPr/>
          <p:nvPr/>
        </p:nvSpPr>
        <p:spPr>
          <a:xfrm>
            <a:off x="3745080" y="7623000"/>
            <a:ext cx="287280" cy="20880"/>
          </a:xfrm>
          <a:custGeom>
            <a:avLst/>
            <a:gdLst/>
            <a:ahLst/>
            <a:rect l="l" t="t" r="r" b="b"/>
            <a:pathLst>
              <a:path w="424" h="29">
                <a:moveTo>
                  <a:pt x="212" y="28"/>
                </a:moveTo>
                <a:lnTo>
                  <a:pt x="0" y="28"/>
                </a:lnTo>
                <a:lnTo>
                  <a:pt x="0" y="0"/>
                </a:lnTo>
                <a:lnTo>
                  <a:pt x="423" y="0"/>
                </a:lnTo>
                <a:lnTo>
                  <a:pt x="423" y="28"/>
                </a:lnTo>
                <a:lnTo>
                  <a:pt x="212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463"/>
          <p:cNvSpPr/>
          <p:nvPr/>
        </p:nvSpPr>
        <p:spPr>
          <a:xfrm>
            <a:off x="3984480" y="7593120"/>
            <a:ext cx="20880" cy="20520"/>
          </a:xfrm>
          <a:custGeom>
            <a:avLst/>
            <a:gdLst/>
            <a:ahLst/>
            <a:rect l="l" t="t" r="r" b="b"/>
            <a:pathLst>
              <a:path w="29" h="30">
                <a:moveTo>
                  <a:pt x="14" y="29"/>
                </a:moveTo>
                <a:cubicBezTo>
                  <a:pt x="6" y="29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8" y="6"/>
                  <a:pt x="28" y="14"/>
                </a:cubicBezTo>
                <a:cubicBezTo>
                  <a:pt x="28" y="23"/>
                  <a:pt x="23" y="29"/>
                  <a:pt x="14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464"/>
          <p:cNvSpPr/>
          <p:nvPr/>
        </p:nvSpPr>
        <p:spPr>
          <a:xfrm>
            <a:off x="3944880" y="7593120"/>
            <a:ext cx="22320" cy="20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15" y="29"/>
                </a:moveTo>
                <a:cubicBezTo>
                  <a:pt x="6" y="29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15" y="0"/>
                </a:lnTo>
                <a:cubicBezTo>
                  <a:pt x="23" y="0"/>
                  <a:pt x="29" y="6"/>
                  <a:pt x="29" y="14"/>
                </a:cubicBezTo>
                <a:cubicBezTo>
                  <a:pt x="29" y="23"/>
                  <a:pt x="23" y="29"/>
                  <a:pt x="15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465"/>
          <p:cNvSpPr/>
          <p:nvPr/>
        </p:nvSpPr>
        <p:spPr>
          <a:xfrm>
            <a:off x="3832200" y="7677000"/>
            <a:ext cx="122400" cy="115920"/>
          </a:xfrm>
          <a:custGeom>
            <a:avLst/>
            <a:gdLst/>
            <a:ahLst/>
            <a:rect l="l" t="t" r="r" b="b"/>
            <a:pathLst>
              <a:path w="179" h="174">
                <a:moveTo>
                  <a:pt x="127" y="173"/>
                </a:moveTo>
                <a:cubicBezTo>
                  <a:pt x="124" y="173"/>
                  <a:pt x="122" y="173"/>
                  <a:pt x="122" y="170"/>
                </a:cubicBezTo>
                <a:lnTo>
                  <a:pt x="85" y="150"/>
                </a:lnTo>
                <a:lnTo>
                  <a:pt x="48" y="170"/>
                </a:lnTo>
                <a:cubicBezTo>
                  <a:pt x="43" y="173"/>
                  <a:pt x="37" y="173"/>
                  <a:pt x="34" y="170"/>
                </a:cubicBezTo>
                <a:cubicBezTo>
                  <a:pt x="28" y="167"/>
                  <a:pt x="28" y="161"/>
                  <a:pt x="28" y="156"/>
                </a:cubicBezTo>
                <a:lnTo>
                  <a:pt x="37" y="111"/>
                </a:lnTo>
                <a:lnTo>
                  <a:pt x="6" y="79"/>
                </a:lnTo>
                <a:cubicBezTo>
                  <a:pt x="3" y="77"/>
                  <a:pt x="0" y="71"/>
                  <a:pt x="3" y="65"/>
                </a:cubicBezTo>
                <a:cubicBezTo>
                  <a:pt x="6" y="60"/>
                  <a:pt x="9" y="57"/>
                  <a:pt x="14" y="57"/>
                </a:cubicBezTo>
                <a:lnTo>
                  <a:pt x="57" y="51"/>
                </a:lnTo>
                <a:lnTo>
                  <a:pt x="76" y="12"/>
                </a:lnTo>
                <a:cubicBezTo>
                  <a:pt x="82" y="0"/>
                  <a:pt x="96" y="0"/>
                  <a:pt x="102" y="12"/>
                </a:cubicBezTo>
                <a:lnTo>
                  <a:pt x="122" y="51"/>
                </a:lnTo>
                <a:lnTo>
                  <a:pt x="164" y="57"/>
                </a:lnTo>
                <a:cubicBezTo>
                  <a:pt x="169" y="57"/>
                  <a:pt x="172" y="63"/>
                  <a:pt x="175" y="65"/>
                </a:cubicBezTo>
                <a:cubicBezTo>
                  <a:pt x="178" y="68"/>
                  <a:pt x="175" y="77"/>
                  <a:pt x="172" y="79"/>
                </a:cubicBezTo>
                <a:lnTo>
                  <a:pt x="141" y="111"/>
                </a:lnTo>
                <a:lnTo>
                  <a:pt x="150" y="156"/>
                </a:lnTo>
                <a:cubicBezTo>
                  <a:pt x="150" y="161"/>
                  <a:pt x="150" y="167"/>
                  <a:pt x="144" y="170"/>
                </a:cubicBezTo>
                <a:cubicBezTo>
                  <a:pt x="133" y="173"/>
                  <a:pt x="130" y="173"/>
                  <a:pt x="127" y="173"/>
                </a:cubicBezTo>
                <a:close/>
                <a:moveTo>
                  <a:pt x="85" y="122"/>
                </a:moveTo>
                <a:cubicBezTo>
                  <a:pt x="88" y="122"/>
                  <a:pt x="90" y="122"/>
                  <a:pt x="90" y="125"/>
                </a:cubicBezTo>
                <a:lnTo>
                  <a:pt x="107" y="136"/>
                </a:lnTo>
                <a:lnTo>
                  <a:pt x="105" y="113"/>
                </a:lnTo>
                <a:cubicBezTo>
                  <a:pt x="105" y="108"/>
                  <a:pt x="105" y="105"/>
                  <a:pt x="107" y="102"/>
                </a:cubicBezTo>
                <a:lnTo>
                  <a:pt x="124" y="85"/>
                </a:lnTo>
                <a:lnTo>
                  <a:pt x="102" y="82"/>
                </a:lnTo>
                <a:cubicBezTo>
                  <a:pt x="96" y="82"/>
                  <a:pt x="93" y="79"/>
                  <a:pt x="90" y="74"/>
                </a:cubicBezTo>
                <a:lnTo>
                  <a:pt x="82" y="54"/>
                </a:lnTo>
                <a:lnTo>
                  <a:pt x="74" y="74"/>
                </a:lnTo>
                <a:cubicBezTo>
                  <a:pt x="71" y="79"/>
                  <a:pt x="68" y="82"/>
                  <a:pt x="62" y="82"/>
                </a:cubicBezTo>
                <a:lnTo>
                  <a:pt x="40" y="85"/>
                </a:lnTo>
                <a:lnTo>
                  <a:pt x="57" y="102"/>
                </a:lnTo>
                <a:cubicBezTo>
                  <a:pt x="59" y="105"/>
                  <a:pt x="62" y="111"/>
                  <a:pt x="59" y="113"/>
                </a:cubicBezTo>
                <a:lnTo>
                  <a:pt x="57" y="136"/>
                </a:lnTo>
                <a:lnTo>
                  <a:pt x="74" y="125"/>
                </a:lnTo>
                <a:cubicBezTo>
                  <a:pt x="79" y="122"/>
                  <a:pt x="82" y="122"/>
                  <a:pt x="85" y="1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466"/>
          <p:cNvSpPr/>
          <p:nvPr/>
        </p:nvSpPr>
        <p:spPr>
          <a:xfrm>
            <a:off x="8369280" y="4506840"/>
            <a:ext cx="250920" cy="158760"/>
          </a:xfrm>
          <a:custGeom>
            <a:avLst/>
            <a:gdLst/>
            <a:ahLst/>
            <a:rect l="l" t="t" r="r" b="b"/>
            <a:pathLst>
              <a:path w="371" h="232">
                <a:moveTo>
                  <a:pt x="333" y="231"/>
                </a:moveTo>
                <a:cubicBezTo>
                  <a:pt x="330" y="231"/>
                  <a:pt x="328" y="231"/>
                  <a:pt x="325" y="228"/>
                </a:cubicBezTo>
                <a:cubicBezTo>
                  <a:pt x="319" y="223"/>
                  <a:pt x="319" y="214"/>
                  <a:pt x="325" y="209"/>
                </a:cubicBezTo>
                <a:lnTo>
                  <a:pt x="336" y="197"/>
                </a:lnTo>
                <a:lnTo>
                  <a:pt x="167" y="28"/>
                </a:lnTo>
                <a:lnTo>
                  <a:pt x="28" y="28"/>
                </a:lnTo>
                <a:lnTo>
                  <a:pt x="28" y="42"/>
                </a:lnTo>
                <a:cubicBezTo>
                  <a:pt x="28" y="50"/>
                  <a:pt x="23" y="56"/>
                  <a:pt x="14" y="56"/>
                </a:cubicBezTo>
                <a:cubicBezTo>
                  <a:pt x="6" y="56"/>
                  <a:pt x="0" y="50"/>
                  <a:pt x="0" y="42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170" y="0"/>
                </a:lnTo>
                <a:cubicBezTo>
                  <a:pt x="172" y="0"/>
                  <a:pt x="178" y="2"/>
                  <a:pt x="181" y="2"/>
                </a:cubicBezTo>
                <a:lnTo>
                  <a:pt x="364" y="186"/>
                </a:lnTo>
                <a:cubicBezTo>
                  <a:pt x="370" y="192"/>
                  <a:pt x="370" y="200"/>
                  <a:pt x="364" y="206"/>
                </a:cubicBezTo>
                <a:lnTo>
                  <a:pt x="344" y="228"/>
                </a:lnTo>
                <a:cubicBezTo>
                  <a:pt x="342" y="228"/>
                  <a:pt x="336" y="231"/>
                  <a:pt x="333" y="23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467"/>
          <p:cNvSpPr/>
          <p:nvPr/>
        </p:nvSpPr>
        <p:spPr>
          <a:xfrm>
            <a:off x="8331120" y="4560840"/>
            <a:ext cx="250920" cy="247680"/>
          </a:xfrm>
          <a:custGeom>
            <a:avLst/>
            <a:gdLst/>
            <a:ahLst/>
            <a:rect l="l" t="t" r="r" b="b"/>
            <a:pathLst>
              <a:path w="370" h="368">
                <a:moveTo>
                  <a:pt x="211" y="367"/>
                </a:moveTo>
                <a:cubicBezTo>
                  <a:pt x="209" y="367"/>
                  <a:pt x="206" y="367"/>
                  <a:pt x="203" y="365"/>
                </a:cubicBezTo>
                <a:lnTo>
                  <a:pt x="5" y="181"/>
                </a:lnTo>
                <a:cubicBezTo>
                  <a:pt x="3" y="178"/>
                  <a:pt x="0" y="175"/>
                  <a:pt x="0" y="170"/>
                </a:cubicBezTo>
                <a:lnTo>
                  <a:pt x="0" y="15"/>
                </a:lnTo>
                <a:cubicBezTo>
                  <a:pt x="0" y="12"/>
                  <a:pt x="3" y="5"/>
                  <a:pt x="3" y="3"/>
                </a:cubicBezTo>
                <a:cubicBezTo>
                  <a:pt x="3" y="0"/>
                  <a:pt x="8" y="1"/>
                  <a:pt x="14" y="1"/>
                </a:cubicBezTo>
                <a:lnTo>
                  <a:pt x="14" y="1"/>
                </a:lnTo>
                <a:lnTo>
                  <a:pt x="169" y="1"/>
                </a:lnTo>
                <a:cubicBezTo>
                  <a:pt x="172" y="1"/>
                  <a:pt x="178" y="3"/>
                  <a:pt x="180" y="3"/>
                </a:cubicBezTo>
                <a:lnTo>
                  <a:pt x="364" y="187"/>
                </a:lnTo>
                <a:cubicBezTo>
                  <a:pt x="369" y="192"/>
                  <a:pt x="369" y="201"/>
                  <a:pt x="364" y="207"/>
                </a:cubicBezTo>
                <a:lnTo>
                  <a:pt x="223" y="362"/>
                </a:lnTo>
                <a:cubicBezTo>
                  <a:pt x="220" y="365"/>
                  <a:pt x="217" y="367"/>
                  <a:pt x="211" y="367"/>
                </a:cubicBezTo>
                <a:close/>
                <a:moveTo>
                  <a:pt x="28" y="164"/>
                </a:moveTo>
                <a:lnTo>
                  <a:pt x="211" y="334"/>
                </a:lnTo>
                <a:lnTo>
                  <a:pt x="333" y="198"/>
                </a:lnTo>
                <a:lnTo>
                  <a:pt x="163" y="29"/>
                </a:lnTo>
                <a:lnTo>
                  <a:pt x="28" y="29"/>
                </a:lnTo>
                <a:lnTo>
                  <a:pt x="28" y="1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468"/>
          <p:cNvSpPr/>
          <p:nvPr/>
        </p:nvSpPr>
        <p:spPr>
          <a:xfrm>
            <a:off x="8369280" y="4599000"/>
            <a:ext cx="6048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85"/>
                </a:moveTo>
                <a:cubicBezTo>
                  <a:pt x="20" y="85"/>
                  <a:pt x="0" y="64"/>
                  <a:pt x="0" y="42"/>
                </a:cubicBezTo>
                <a:cubicBezTo>
                  <a:pt x="0" y="19"/>
                  <a:pt x="21" y="0"/>
                  <a:pt x="43" y="0"/>
                </a:cubicBezTo>
                <a:cubicBezTo>
                  <a:pt x="66" y="0"/>
                  <a:pt x="85" y="19"/>
                  <a:pt x="85" y="42"/>
                </a:cubicBezTo>
                <a:cubicBezTo>
                  <a:pt x="85" y="64"/>
                  <a:pt x="65" y="85"/>
                  <a:pt x="43" y="85"/>
                </a:cubicBezTo>
                <a:close/>
                <a:moveTo>
                  <a:pt x="43" y="28"/>
                </a:moveTo>
                <a:cubicBezTo>
                  <a:pt x="34" y="28"/>
                  <a:pt x="28" y="33"/>
                  <a:pt x="28" y="42"/>
                </a:cubicBezTo>
                <a:cubicBezTo>
                  <a:pt x="28" y="50"/>
                  <a:pt x="35" y="56"/>
                  <a:pt x="43" y="56"/>
                </a:cubicBezTo>
                <a:cubicBezTo>
                  <a:pt x="52" y="56"/>
                  <a:pt x="57" y="50"/>
                  <a:pt x="57" y="42"/>
                </a:cubicBezTo>
                <a:cubicBezTo>
                  <a:pt x="57" y="33"/>
                  <a:pt x="51" y="28"/>
                  <a:pt x="43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469"/>
          <p:cNvSpPr/>
          <p:nvPr/>
        </p:nvSpPr>
        <p:spPr>
          <a:xfrm>
            <a:off x="5264280" y="7581960"/>
            <a:ext cx="307800" cy="288720"/>
          </a:xfrm>
          <a:custGeom>
            <a:avLst/>
            <a:gdLst/>
            <a:ahLst/>
            <a:rect l="l" t="t" r="r" b="b"/>
            <a:pathLst>
              <a:path w="452" h="427">
                <a:moveTo>
                  <a:pt x="355" y="426"/>
                </a:moveTo>
                <a:lnTo>
                  <a:pt x="101" y="426"/>
                </a:lnTo>
                <a:cubicBezTo>
                  <a:pt x="93" y="426"/>
                  <a:pt x="87" y="421"/>
                  <a:pt x="87" y="412"/>
                </a:cubicBezTo>
                <a:lnTo>
                  <a:pt x="87" y="175"/>
                </a:lnTo>
                <a:lnTo>
                  <a:pt x="48" y="184"/>
                </a:lnTo>
                <a:cubicBezTo>
                  <a:pt x="39" y="187"/>
                  <a:pt x="34" y="181"/>
                  <a:pt x="31" y="175"/>
                </a:cubicBezTo>
                <a:lnTo>
                  <a:pt x="3" y="77"/>
                </a:lnTo>
                <a:cubicBezTo>
                  <a:pt x="0" y="71"/>
                  <a:pt x="3" y="62"/>
                  <a:pt x="8" y="60"/>
                </a:cubicBezTo>
                <a:lnTo>
                  <a:pt x="107" y="3"/>
                </a:lnTo>
                <a:cubicBezTo>
                  <a:pt x="110" y="3"/>
                  <a:pt x="113" y="0"/>
                  <a:pt x="113" y="0"/>
                </a:cubicBezTo>
                <a:lnTo>
                  <a:pt x="155" y="0"/>
                </a:lnTo>
                <a:cubicBezTo>
                  <a:pt x="163" y="0"/>
                  <a:pt x="169" y="6"/>
                  <a:pt x="169" y="14"/>
                </a:cubicBezTo>
                <a:cubicBezTo>
                  <a:pt x="169" y="23"/>
                  <a:pt x="163" y="29"/>
                  <a:pt x="155" y="29"/>
                </a:cubicBezTo>
                <a:lnTo>
                  <a:pt x="116" y="29"/>
                </a:lnTo>
                <a:lnTo>
                  <a:pt x="31" y="77"/>
                </a:lnTo>
                <a:lnTo>
                  <a:pt x="53" y="153"/>
                </a:lnTo>
                <a:lnTo>
                  <a:pt x="96" y="141"/>
                </a:lnTo>
                <a:cubicBezTo>
                  <a:pt x="101" y="141"/>
                  <a:pt x="104" y="141"/>
                  <a:pt x="107" y="144"/>
                </a:cubicBezTo>
                <a:cubicBezTo>
                  <a:pt x="110" y="147"/>
                  <a:pt x="113" y="150"/>
                  <a:pt x="113" y="156"/>
                </a:cubicBezTo>
                <a:lnTo>
                  <a:pt x="113" y="395"/>
                </a:lnTo>
                <a:lnTo>
                  <a:pt x="338" y="395"/>
                </a:lnTo>
                <a:lnTo>
                  <a:pt x="338" y="156"/>
                </a:lnTo>
                <a:cubicBezTo>
                  <a:pt x="338" y="150"/>
                  <a:pt x="341" y="147"/>
                  <a:pt x="344" y="144"/>
                </a:cubicBezTo>
                <a:cubicBezTo>
                  <a:pt x="347" y="141"/>
                  <a:pt x="353" y="141"/>
                  <a:pt x="355" y="141"/>
                </a:cubicBezTo>
                <a:lnTo>
                  <a:pt x="398" y="153"/>
                </a:lnTo>
                <a:lnTo>
                  <a:pt x="420" y="77"/>
                </a:lnTo>
                <a:lnTo>
                  <a:pt x="336" y="29"/>
                </a:lnTo>
                <a:lnTo>
                  <a:pt x="296" y="29"/>
                </a:lnTo>
                <a:cubicBezTo>
                  <a:pt x="288" y="29"/>
                  <a:pt x="282" y="23"/>
                  <a:pt x="282" y="14"/>
                </a:cubicBezTo>
                <a:cubicBezTo>
                  <a:pt x="282" y="6"/>
                  <a:pt x="288" y="0"/>
                  <a:pt x="296" y="0"/>
                </a:cubicBezTo>
                <a:lnTo>
                  <a:pt x="338" y="0"/>
                </a:lnTo>
                <a:cubicBezTo>
                  <a:pt x="341" y="0"/>
                  <a:pt x="344" y="0"/>
                  <a:pt x="344" y="3"/>
                </a:cubicBezTo>
                <a:lnTo>
                  <a:pt x="443" y="60"/>
                </a:lnTo>
                <a:cubicBezTo>
                  <a:pt x="449" y="62"/>
                  <a:pt x="451" y="71"/>
                  <a:pt x="449" y="77"/>
                </a:cubicBezTo>
                <a:lnTo>
                  <a:pt x="420" y="175"/>
                </a:lnTo>
                <a:cubicBezTo>
                  <a:pt x="417" y="184"/>
                  <a:pt x="412" y="187"/>
                  <a:pt x="403" y="184"/>
                </a:cubicBezTo>
                <a:lnTo>
                  <a:pt x="364" y="175"/>
                </a:lnTo>
                <a:lnTo>
                  <a:pt x="364" y="412"/>
                </a:lnTo>
                <a:cubicBezTo>
                  <a:pt x="369" y="421"/>
                  <a:pt x="364" y="426"/>
                  <a:pt x="355" y="42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470"/>
          <p:cNvSpPr/>
          <p:nvPr/>
        </p:nvSpPr>
        <p:spPr>
          <a:xfrm>
            <a:off x="5361120" y="7566120"/>
            <a:ext cx="118800" cy="77760"/>
          </a:xfrm>
          <a:custGeom>
            <a:avLst/>
            <a:gdLst/>
            <a:ahLst/>
            <a:rect l="l" t="t" r="r" b="b"/>
            <a:pathLst>
              <a:path w="176" h="114">
                <a:moveTo>
                  <a:pt x="87" y="113"/>
                </a:moveTo>
                <a:cubicBezTo>
                  <a:pt x="85" y="113"/>
                  <a:pt x="79" y="110"/>
                  <a:pt x="76" y="107"/>
                </a:cubicBezTo>
                <a:lnTo>
                  <a:pt x="6" y="23"/>
                </a:lnTo>
                <a:cubicBezTo>
                  <a:pt x="3" y="20"/>
                  <a:pt x="0" y="11"/>
                  <a:pt x="3" y="8"/>
                </a:cubicBezTo>
                <a:cubicBezTo>
                  <a:pt x="6" y="3"/>
                  <a:pt x="11" y="0"/>
                  <a:pt x="17" y="0"/>
                </a:cubicBezTo>
                <a:lnTo>
                  <a:pt x="158" y="0"/>
                </a:lnTo>
                <a:cubicBezTo>
                  <a:pt x="164" y="0"/>
                  <a:pt x="169" y="3"/>
                  <a:pt x="172" y="8"/>
                </a:cubicBezTo>
                <a:cubicBezTo>
                  <a:pt x="175" y="14"/>
                  <a:pt x="175" y="20"/>
                  <a:pt x="169" y="23"/>
                </a:cubicBezTo>
                <a:lnTo>
                  <a:pt x="99" y="107"/>
                </a:lnTo>
                <a:cubicBezTo>
                  <a:pt x="96" y="110"/>
                  <a:pt x="90" y="113"/>
                  <a:pt x="87" y="113"/>
                </a:cubicBezTo>
                <a:close/>
                <a:moveTo>
                  <a:pt x="48" y="28"/>
                </a:moveTo>
                <a:lnTo>
                  <a:pt x="87" y="76"/>
                </a:lnTo>
                <a:lnTo>
                  <a:pt x="127" y="28"/>
                </a:lnTo>
                <a:lnTo>
                  <a:pt x="4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471"/>
          <p:cNvSpPr/>
          <p:nvPr/>
        </p:nvSpPr>
        <p:spPr>
          <a:xfrm>
            <a:off x="5364000" y="7566120"/>
            <a:ext cx="68400" cy="96840"/>
          </a:xfrm>
          <a:custGeom>
            <a:avLst/>
            <a:gdLst/>
            <a:ahLst/>
            <a:rect l="l" t="t" r="r" b="b"/>
            <a:pathLst>
              <a:path w="100" h="142">
                <a:moveTo>
                  <a:pt x="14" y="141"/>
                </a:moveTo>
                <a:cubicBezTo>
                  <a:pt x="11" y="141"/>
                  <a:pt x="8" y="141"/>
                  <a:pt x="5" y="138"/>
                </a:cubicBezTo>
                <a:cubicBezTo>
                  <a:pt x="3" y="135"/>
                  <a:pt x="0" y="133"/>
                  <a:pt x="0" y="127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107"/>
                </a:lnTo>
                <a:lnTo>
                  <a:pt x="79" y="87"/>
                </a:lnTo>
                <a:cubicBezTo>
                  <a:pt x="87" y="85"/>
                  <a:pt x="94" y="88"/>
                  <a:pt x="96" y="96"/>
                </a:cubicBezTo>
                <a:cubicBezTo>
                  <a:pt x="99" y="105"/>
                  <a:pt x="96" y="110"/>
                  <a:pt x="87" y="113"/>
                </a:cubicBezTo>
                <a:lnTo>
                  <a:pt x="17" y="141"/>
                </a:lnTo>
                <a:cubicBezTo>
                  <a:pt x="17" y="141"/>
                  <a:pt x="17" y="141"/>
                  <a:pt x="1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472"/>
          <p:cNvSpPr/>
          <p:nvPr/>
        </p:nvSpPr>
        <p:spPr>
          <a:xfrm>
            <a:off x="5408640" y="7566120"/>
            <a:ext cx="68400" cy="96840"/>
          </a:xfrm>
          <a:custGeom>
            <a:avLst/>
            <a:gdLst/>
            <a:ahLst/>
            <a:rect l="l" t="t" r="r" b="b"/>
            <a:pathLst>
              <a:path w="100" h="142">
                <a:moveTo>
                  <a:pt x="88" y="141"/>
                </a:moveTo>
                <a:cubicBezTo>
                  <a:pt x="85" y="141"/>
                  <a:pt x="85" y="141"/>
                  <a:pt x="82" y="141"/>
                </a:cubicBezTo>
                <a:lnTo>
                  <a:pt x="12" y="113"/>
                </a:lnTo>
                <a:cubicBezTo>
                  <a:pt x="3" y="110"/>
                  <a:pt x="0" y="102"/>
                  <a:pt x="3" y="96"/>
                </a:cubicBezTo>
                <a:cubicBezTo>
                  <a:pt x="6" y="90"/>
                  <a:pt x="15" y="85"/>
                  <a:pt x="20" y="87"/>
                </a:cubicBezTo>
                <a:lnTo>
                  <a:pt x="71" y="107"/>
                </a:lnTo>
                <a:lnTo>
                  <a:pt x="71" y="14"/>
                </a:lnTo>
                <a:cubicBezTo>
                  <a:pt x="71" y="6"/>
                  <a:pt x="77" y="0"/>
                  <a:pt x="85" y="0"/>
                </a:cubicBezTo>
                <a:cubicBezTo>
                  <a:pt x="94" y="0"/>
                  <a:pt x="99" y="6"/>
                  <a:pt x="99" y="14"/>
                </a:cubicBezTo>
                <a:lnTo>
                  <a:pt x="99" y="127"/>
                </a:lnTo>
                <a:cubicBezTo>
                  <a:pt x="99" y="133"/>
                  <a:pt x="96" y="135"/>
                  <a:pt x="94" y="138"/>
                </a:cubicBezTo>
                <a:cubicBezTo>
                  <a:pt x="94" y="141"/>
                  <a:pt x="91" y="141"/>
                  <a:pt x="88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473"/>
          <p:cNvSpPr/>
          <p:nvPr/>
        </p:nvSpPr>
        <p:spPr>
          <a:xfrm>
            <a:off x="5411880" y="7623000"/>
            <a:ext cx="20520" cy="7812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6" y="113"/>
                  <a:pt x="0" y="107"/>
                  <a:pt x="0" y="98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8" y="5"/>
                  <a:pt x="28" y="14"/>
                </a:cubicBezTo>
                <a:lnTo>
                  <a:pt x="28" y="98"/>
                </a:lnTo>
                <a:cubicBezTo>
                  <a:pt x="28" y="107"/>
                  <a:pt x="23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474"/>
          <p:cNvSpPr/>
          <p:nvPr/>
        </p:nvSpPr>
        <p:spPr>
          <a:xfrm>
            <a:off x="4498920" y="7581960"/>
            <a:ext cx="308160" cy="288720"/>
          </a:xfrm>
          <a:custGeom>
            <a:avLst/>
            <a:gdLst/>
            <a:ahLst/>
            <a:rect l="l" t="t" r="r" b="b"/>
            <a:pathLst>
              <a:path w="453" h="427">
                <a:moveTo>
                  <a:pt x="356" y="426"/>
                </a:moveTo>
                <a:lnTo>
                  <a:pt x="102" y="426"/>
                </a:lnTo>
                <a:cubicBezTo>
                  <a:pt x="93" y="426"/>
                  <a:pt x="88" y="421"/>
                  <a:pt x="88" y="412"/>
                </a:cubicBezTo>
                <a:lnTo>
                  <a:pt x="88" y="175"/>
                </a:lnTo>
                <a:lnTo>
                  <a:pt x="48" y="184"/>
                </a:lnTo>
                <a:cubicBezTo>
                  <a:pt x="40" y="187"/>
                  <a:pt x="34" y="181"/>
                  <a:pt x="31" y="175"/>
                </a:cubicBezTo>
                <a:lnTo>
                  <a:pt x="3" y="77"/>
                </a:lnTo>
                <a:cubicBezTo>
                  <a:pt x="0" y="71"/>
                  <a:pt x="3" y="62"/>
                  <a:pt x="8" y="60"/>
                </a:cubicBezTo>
                <a:lnTo>
                  <a:pt x="107" y="3"/>
                </a:lnTo>
                <a:cubicBezTo>
                  <a:pt x="110" y="3"/>
                  <a:pt x="113" y="0"/>
                  <a:pt x="113" y="0"/>
                </a:cubicBezTo>
                <a:lnTo>
                  <a:pt x="339" y="0"/>
                </a:lnTo>
                <a:cubicBezTo>
                  <a:pt x="341" y="0"/>
                  <a:pt x="344" y="0"/>
                  <a:pt x="344" y="3"/>
                </a:cubicBezTo>
                <a:lnTo>
                  <a:pt x="443" y="60"/>
                </a:lnTo>
                <a:cubicBezTo>
                  <a:pt x="449" y="62"/>
                  <a:pt x="452" y="71"/>
                  <a:pt x="449" y="77"/>
                </a:cubicBezTo>
                <a:lnTo>
                  <a:pt x="421" y="175"/>
                </a:lnTo>
                <a:cubicBezTo>
                  <a:pt x="418" y="184"/>
                  <a:pt x="412" y="187"/>
                  <a:pt x="404" y="184"/>
                </a:cubicBezTo>
                <a:lnTo>
                  <a:pt x="364" y="175"/>
                </a:lnTo>
                <a:lnTo>
                  <a:pt x="364" y="412"/>
                </a:lnTo>
                <a:cubicBezTo>
                  <a:pt x="370" y="421"/>
                  <a:pt x="364" y="426"/>
                  <a:pt x="356" y="426"/>
                </a:cubicBezTo>
                <a:close/>
                <a:moveTo>
                  <a:pt x="341" y="398"/>
                </a:moveTo>
                <a:lnTo>
                  <a:pt x="341" y="158"/>
                </a:lnTo>
                <a:cubicBezTo>
                  <a:pt x="341" y="153"/>
                  <a:pt x="344" y="150"/>
                  <a:pt x="347" y="147"/>
                </a:cubicBezTo>
                <a:cubicBezTo>
                  <a:pt x="350" y="144"/>
                  <a:pt x="356" y="144"/>
                  <a:pt x="358" y="144"/>
                </a:cubicBezTo>
                <a:lnTo>
                  <a:pt x="401" y="156"/>
                </a:lnTo>
                <a:lnTo>
                  <a:pt x="423" y="79"/>
                </a:lnTo>
                <a:lnTo>
                  <a:pt x="339" y="31"/>
                </a:lnTo>
                <a:lnTo>
                  <a:pt x="121" y="31"/>
                </a:lnTo>
                <a:lnTo>
                  <a:pt x="37" y="79"/>
                </a:lnTo>
                <a:lnTo>
                  <a:pt x="59" y="156"/>
                </a:lnTo>
                <a:lnTo>
                  <a:pt x="102" y="144"/>
                </a:lnTo>
                <a:cubicBezTo>
                  <a:pt x="104" y="144"/>
                  <a:pt x="110" y="144"/>
                  <a:pt x="113" y="147"/>
                </a:cubicBezTo>
                <a:cubicBezTo>
                  <a:pt x="116" y="150"/>
                  <a:pt x="119" y="153"/>
                  <a:pt x="119" y="158"/>
                </a:cubicBezTo>
                <a:lnTo>
                  <a:pt x="119" y="398"/>
                </a:lnTo>
                <a:lnTo>
                  <a:pt x="341" y="3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475"/>
          <p:cNvSpPr/>
          <p:nvPr/>
        </p:nvSpPr>
        <p:spPr>
          <a:xfrm>
            <a:off x="4606920" y="7585200"/>
            <a:ext cx="95400" cy="58680"/>
          </a:xfrm>
          <a:custGeom>
            <a:avLst/>
            <a:gdLst/>
            <a:ahLst/>
            <a:rect l="l" t="t" r="r" b="b"/>
            <a:pathLst>
              <a:path w="142" h="86">
                <a:moveTo>
                  <a:pt x="71" y="85"/>
                </a:moveTo>
                <a:cubicBezTo>
                  <a:pt x="31" y="85"/>
                  <a:pt x="0" y="54"/>
                  <a:pt x="0" y="14"/>
                </a:cubicBez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cubicBezTo>
                  <a:pt x="28" y="37"/>
                  <a:pt x="48" y="57"/>
                  <a:pt x="71" y="57"/>
                </a:cubicBezTo>
                <a:cubicBezTo>
                  <a:pt x="93" y="57"/>
                  <a:pt x="113" y="37"/>
                  <a:pt x="113" y="14"/>
                </a:cubicBezTo>
                <a:cubicBezTo>
                  <a:pt x="113" y="6"/>
                  <a:pt x="118" y="0"/>
                  <a:pt x="127" y="0"/>
                </a:cubicBezTo>
                <a:cubicBezTo>
                  <a:pt x="135" y="0"/>
                  <a:pt x="141" y="6"/>
                  <a:pt x="141" y="14"/>
                </a:cubicBezTo>
                <a:cubicBezTo>
                  <a:pt x="141" y="54"/>
                  <a:pt x="110" y="85"/>
                  <a:pt x="71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476"/>
          <p:cNvSpPr/>
          <p:nvPr/>
        </p:nvSpPr>
        <p:spPr>
          <a:xfrm>
            <a:off x="6051600" y="7566120"/>
            <a:ext cx="253800" cy="307800"/>
          </a:xfrm>
          <a:custGeom>
            <a:avLst/>
            <a:gdLst/>
            <a:ahLst/>
            <a:rect l="l" t="t" r="r" b="b"/>
            <a:pathLst>
              <a:path w="373" h="452">
                <a:moveTo>
                  <a:pt x="352" y="451"/>
                </a:moveTo>
                <a:lnTo>
                  <a:pt x="14" y="451"/>
                </a:lnTo>
                <a:cubicBezTo>
                  <a:pt x="8" y="451"/>
                  <a:pt x="5" y="449"/>
                  <a:pt x="2" y="446"/>
                </a:cubicBezTo>
                <a:cubicBezTo>
                  <a:pt x="0" y="443"/>
                  <a:pt x="0" y="437"/>
                  <a:pt x="2" y="432"/>
                </a:cubicBezTo>
                <a:lnTo>
                  <a:pt x="113" y="183"/>
                </a:lnTo>
                <a:lnTo>
                  <a:pt x="59" y="20"/>
                </a:lnTo>
                <a:cubicBezTo>
                  <a:pt x="56" y="14"/>
                  <a:pt x="59" y="11"/>
                  <a:pt x="62" y="6"/>
                </a:cubicBezTo>
                <a:cubicBezTo>
                  <a:pt x="65" y="3"/>
                  <a:pt x="67" y="0"/>
                  <a:pt x="73" y="0"/>
                </a:cubicBezTo>
                <a:lnTo>
                  <a:pt x="299" y="0"/>
                </a:lnTo>
                <a:cubicBezTo>
                  <a:pt x="304" y="0"/>
                  <a:pt x="307" y="3"/>
                  <a:pt x="310" y="6"/>
                </a:cubicBezTo>
                <a:cubicBezTo>
                  <a:pt x="313" y="8"/>
                  <a:pt x="313" y="14"/>
                  <a:pt x="313" y="20"/>
                </a:cubicBezTo>
                <a:lnTo>
                  <a:pt x="259" y="183"/>
                </a:lnTo>
                <a:lnTo>
                  <a:pt x="369" y="432"/>
                </a:lnTo>
                <a:cubicBezTo>
                  <a:pt x="372" y="437"/>
                  <a:pt x="372" y="440"/>
                  <a:pt x="369" y="446"/>
                </a:cubicBezTo>
                <a:cubicBezTo>
                  <a:pt x="361" y="449"/>
                  <a:pt x="358" y="451"/>
                  <a:pt x="352" y="451"/>
                </a:cubicBezTo>
                <a:close/>
                <a:moveTo>
                  <a:pt x="36" y="423"/>
                </a:moveTo>
                <a:lnTo>
                  <a:pt x="333" y="423"/>
                </a:lnTo>
                <a:lnTo>
                  <a:pt x="228" y="189"/>
                </a:lnTo>
                <a:cubicBezTo>
                  <a:pt x="225" y="186"/>
                  <a:pt x="225" y="183"/>
                  <a:pt x="228" y="178"/>
                </a:cubicBezTo>
                <a:lnTo>
                  <a:pt x="279" y="28"/>
                </a:lnTo>
                <a:lnTo>
                  <a:pt x="93" y="28"/>
                </a:lnTo>
                <a:lnTo>
                  <a:pt x="144" y="178"/>
                </a:lnTo>
                <a:cubicBezTo>
                  <a:pt x="144" y="181"/>
                  <a:pt x="144" y="183"/>
                  <a:pt x="144" y="189"/>
                </a:cubicBezTo>
                <a:lnTo>
                  <a:pt x="36" y="4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477"/>
          <p:cNvSpPr/>
          <p:nvPr/>
        </p:nvSpPr>
        <p:spPr>
          <a:xfrm>
            <a:off x="6129360" y="7680240"/>
            <a:ext cx="95400" cy="20880"/>
          </a:xfrm>
          <a:custGeom>
            <a:avLst/>
            <a:gdLst/>
            <a:ahLst/>
            <a:rect l="l" t="t" r="r" b="b"/>
            <a:pathLst>
              <a:path w="142" h="30">
                <a:moveTo>
                  <a:pt x="126" y="29"/>
                </a:moveTo>
                <a:lnTo>
                  <a:pt x="14" y="29"/>
                </a:lnTo>
                <a:cubicBezTo>
                  <a:pt x="5" y="29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126" y="0"/>
                </a:lnTo>
                <a:cubicBezTo>
                  <a:pt x="135" y="0"/>
                  <a:pt x="141" y="6"/>
                  <a:pt x="141" y="14"/>
                </a:cubicBezTo>
                <a:cubicBezTo>
                  <a:pt x="141" y="23"/>
                  <a:pt x="135" y="29"/>
                  <a:pt x="126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478"/>
          <p:cNvSpPr/>
          <p:nvPr/>
        </p:nvSpPr>
        <p:spPr>
          <a:xfrm>
            <a:off x="6129360" y="7566120"/>
            <a:ext cx="95400" cy="60120"/>
          </a:xfrm>
          <a:custGeom>
            <a:avLst/>
            <a:gdLst/>
            <a:ahLst/>
            <a:rect l="l" t="t" r="r" b="b"/>
            <a:pathLst>
              <a:path w="142" h="86">
                <a:moveTo>
                  <a:pt x="70" y="85"/>
                </a:moveTo>
                <a:cubicBezTo>
                  <a:pt x="31" y="85"/>
                  <a:pt x="0" y="5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cubicBezTo>
                  <a:pt x="28" y="37"/>
                  <a:pt x="47" y="56"/>
                  <a:pt x="70" y="56"/>
                </a:cubicBezTo>
                <a:cubicBezTo>
                  <a:pt x="93" y="56"/>
                  <a:pt x="112" y="37"/>
                  <a:pt x="112" y="14"/>
                </a:cubicBezTo>
                <a:cubicBezTo>
                  <a:pt x="112" y="6"/>
                  <a:pt x="118" y="0"/>
                  <a:pt x="126" y="0"/>
                </a:cubicBezTo>
                <a:cubicBezTo>
                  <a:pt x="135" y="0"/>
                  <a:pt x="141" y="6"/>
                  <a:pt x="141" y="14"/>
                </a:cubicBezTo>
                <a:cubicBezTo>
                  <a:pt x="141" y="54"/>
                  <a:pt x="110" y="85"/>
                  <a:pt x="70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479"/>
          <p:cNvSpPr/>
          <p:nvPr/>
        </p:nvSpPr>
        <p:spPr>
          <a:xfrm>
            <a:off x="6856560" y="7585200"/>
            <a:ext cx="190440" cy="206280"/>
          </a:xfrm>
          <a:custGeom>
            <a:avLst/>
            <a:gdLst/>
            <a:ahLst/>
            <a:rect l="l" t="t" r="r" b="b"/>
            <a:pathLst>
              <a:path w="283" h="306">
                <a:moveTo>
                  <a:pt x="141" y="305"/>
                </a:moveTo>
                <a:cubicBezTo>
                  <a:pt x="132" y="305"/>
                  <a:pt x="121" y="302"/>
                  <a:pt x="113" y="299"/>
                </a:cubicBezTo>
                <a:cubicBezTo>
                  <a:pt x="45" y="268"/>
                  <a:pt x="0" y="201"/>
                  <a:pt x="0" y="127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268" y="0"/>
                </a:lnTo>
                <a:cubicBezTo>
                  <a:pt x="276" y="0"/>
                  <a:pt x="282" y="6"/>
                  <a:pt x="282" y="14"/>
                </a:cubicBezTo>
                <a:lnTo>
                  <a:pt x="282" y="127"/>
                </a:lnTo>
                <a:cubicBezTo>
                  <a:pt x="282" y="201"/>
                  <a:pt x="237" y="271"/>
                  <a:pt x="169" y="299"/>
                </a:cubicBezTo>
                <a:lnTo>
                  <a:pt x="169" y="299"/>
                </a:lnTo>
                <a:cubicBezTo>
                  <a:pt x="161" y="302"/>
                  <a:pt x="149" y="305"/>
                  <a:pt x="141" y="305"/>
                </a:cubicBezTo>
                <a:close/>
                <a:moveTo>
                  <a:pt x="28" y="28"/>
                </a:moveTo>
                <a:lnTo>
                  <a:pt x="28" y="127"/>
                </a:lnTo>
                <a:cubicBezTo>
                  <a:pt x="28" y="192"/>
                  <a:pt x="65" y="249"/>
                  <a:pt x="124" y="274"/>
                </a:cubicBezTo>
                <a:cubicBezTo>
                  <a:pt x="135" y="280"/>
                  <a:pt x="147" y="280"/>
                  <a:pt x="158" y="274"/>
                </a:cubicBezTo>
                <a:lnTo>
                  <a:pt x="158" y="274"/>
                </a:lnTo>
                <a:cubicBezTo>
                  <a:pt x="217" y="249"/>
                  <a:pt x="254" y="189"/>
                  <a:pt x="254" y="127"/>
                </a:cubicBezTo>
                <a:lnTo>
                  <a:pt x="254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480"/>
          <p:cNvSpPr/>
          <p:nvPr/>
        </p:nvSpPr>
        <p:spPr>
          <a:xfrm>
            <a:off x="6894360" y="7815240"/>
            <a:ext cx="117720" cy="55440"/>
          </a:xfrm>
          <a:custGeom>
            <a:avLst/>
            <a:gdLst/>
            <a:ahLst/>
            <a:rect l="l" t="t" r="r" b="b"/>
            <a:pathLst>
              <a:path w="171" h="85">
                <a:moveTo>
                  <a:pt x="155" y="84"/>
                </a:moveTo>
                <a:lnTo>
                  <a:pt x="14" y="84"/>
                </a:lnTo>
                <a:cubicBezTo>
                  <a:pt x="6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155" y="0"/>
                </a:lnTo>
                <a:cubicBezTo>
                  <a:pt x="164" y="0"/>
                  <a:pt x="170" y="5"/>
                  <a:pt x="170" y="14"/>
                </a:cubicBezTo>
                <a:lnTo>
                  <a:pt x="170" y="70"/>
                </a:lnTo>
                <a:cubicBezTo>
                  <a:pt x="170" y="79"/>
                  <a:pt x="164" y="84"/>
                  <a:pt x="155" y="84"/>
                </a:cubicBezTo>
                <a:close/>
                <a:moveTo>
                  <a:pt x="29" y="56"/>
                </a:moveTo>
                <a:lnTo>
                  <a:pt x="141" y="56"/>
                </a:lnTo>
                <a:lnTo>
                  <a:pt x="141" y="28"/>
                </a:lnTo>
                <a:lnTo>
                  <a:pt x="29" y="28"/>
                </a:lnTo>
                <a:lnTo>
                  <a:pt x="2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481"/>
          <p:cNvSpPr/>
          <p:nvPr/>
        </p:nvSpPr>
        <p:spPr>
          <a:xfrm>
            <a:off x="6921360" y="7767720"/>
            <a:ext cx="20880" cy="68040"/>
          </a:xfrm>
          <a:custGeom>
            <a:avLst/>
            <a:gdLst/>
            <a:ahLst/>
            <a:rect l="l" t="t" r="r" b="b"/>
            <a:pathLst>
              <a:path w="29" h="100">
                <a:moveTo>
                  <a:pt x="14" y="99"/>
                </a:moveTo>
                <a:cubicBezTo>
                  <a:pt x="5" y="99"/>
                  <a:pt x="0" y="93"/>
                  <a:pt x="0" y="85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85"/>
                </a:lnTo>
                <a:cubicBezTo>
                  <a:pt x="28" y="93"/>
                  <a:pt x="22" y="99"/>
                  <a:pt x="14" y="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482"/>
          <p:cNvSpPr/>
          <p:nvPr/>
        </p:nvSpPr>
        <p:spPr>
          <a:xfrm>
            <a:off x="6961320" y="7767720"/>
            <a:ext cx="20520" cy="68040"/>
          </a:xfrm>
          <a:custGeom>
            <a:avLst/>
            <a:gdLst/>
            <a:ahLst/>
            <a:rect l="l" t="t" r="r" b="b"/>
            <a:pathLst>
              <a:path w="29" h="100">
                <a:moveTo>
                  <a:pt x="14" y="99"/>
                </a:moveTo>
                <a:cubicBezTo>
                  <a:pt x="6" y="99"/>
                  <a:pt x="0" y="93"/>
                  <a:pt x="0" y="85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85"/>
                </a:lnTo>
                <a:cubicBezTo>
                  <a:pt x="28" y="93"/>
                  <a:pt x="23" y="99"/>
                  <a:pt x="14" y="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483"/>
          <p:cNvSpPr/>
          <p:nvPr/>
        </p:nvSpPr>
        <p:spPr>
          <a:xfrm>
            <a:off x="6796080" y="7602480"/>
            <a:ext cx="92160" cy="128520"/>
          </a:xfrm>
          <a:custGeom>
            <a:avLst/>
            <a:gdLst/>
            <a:ahLst/>
            <a:rect l="l" t="t" r="r" b="b"/>
            <a:pathLst>
              <a:path w="137" h="188">
                <a:moveTo>
                  <a:pt x="119" y="187"/>
                </a:moveTo>
                <a:cubicBezTo>
                  <a:pt x="116" y="187"/>
                  <a:pt x="116" y="187"/>
                  <a:pt x="113" y="187"/>
                </a:cubicBezTo>
                <a:lnTo>
                  <a:pt x="105" y="184"/>
                </a:lnTo>
                <a:cubicBezTo>
                  <a:pt x="43" y="161"/>
                  <a:pt x="0" y="102"/>
                  <a:pt x="0" y="37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lnTo>
                  <a:pt x="99" y="0"/>
                </a:lnTo>
                <a:cubicBezTo>
                  <a:pt x="108" y="0"/>
                  <a:pt x="113" y="7"/>
                  <a:pt x="113" y="15"/>
                </a:cubicBezTo>
                <a:cubicBezTo>
                  <a:pt x="113" y="24"/>
                  <a:pt x="108" y="29"/>
                  <a:pt x="99" y="29"/>
                </a:cubicBezTo>
                <a:lnTo>
                  <a:pt x="31" y="29"/>
                </a:lnTo>
                <a:lnTo>
                  <a:pt x="31" y="37"/>
                </a:lnTo>
                <a:cubicBezTo>
                  <a:pt x="31" y="91"/>
                  <a:pt x="65" y="139"/>
                  <a:pt x="116" y="156"/>
                </a:cubicBezTo>
                <a:lnTo>
                  <a:pt x="125" y="158"/>
                </a:lnTo>
                <a:cubicBezTo>
                  <a:pt x="133" y="161"/>
                  <a:pt x="136" y="170"/>
                  <a:pt x="133" y="175"/>
                </a:cubicBezTo>
                <a:cubicBezTo>
                  <a:pt x="130" y="184"/>
                  <a:pt x="125" y="187"/>
                  <a:pt x="119" y="18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484"/>
          <p:cNvSpPr/>
          <p:nvPr/>
        </p:nvSpPr>
        <p:spPr>
          <a:xfrm>
            <a:off x="7015320" y="7602480"/>
            <a:ext cx="88920" cy="128520"/>
          </a:xfrm>
          <a:custGeom>
            <a:avLst/>
            <a:gdLst/>
            <a:ahLst/>
            <a:rect l="l" t="t" r="r" b="b"/>
            <a:pathLst>
              <a:path w="134" h="188">
                <a:moveTo>
                  <a:pt x="17" y="187"/>
                </a:moveTo>
                <a:cubicBezTo>
                  <a:pt x="11" y="187"/>
                  <a:pt x="6" y="184"/>
                  <a:pt x="3" y="178"/>
                </a:cubicBezTo>
                <a:cubicBezTo>
                  <a:pt x="0" y="170"/>
                  <a:pt x="6" y="164"/>
                  <a:pt x="11" y="161"/>
                </a:cubicBezTo>
                <a:lnTo>
                  <a:pt x="20" y="158"/>
                </a:lnTo>
                <a:cubicBezTo>
                  <a:pt x="71" y="142"/>
                  <a:pt x="104" y="94"/>
                  <a:pt x="104" y="40"/>
                </a:cubicBezTo>
                <a:lnTo>
                  <a:pt x="104" y="29"/>
                </a:lnTo>
                <a:lnTo>
                  <a:pt x="34" y="29"/>
                </a:lnTo>
                <a:cubicBezTo>
                  <a:pt x="25" y="29"/>
                  <a:pt x="20" y="24"/>
                  <a:pt x="20" y="15"/>
                </a:cubicBezTo>
                <a:cubicBezTo>
                  <a:pt x="20" y="7"/>
                  <a:pt x="25" y="0"/>
                  <a:pt x="34" y="0"/>
                </a:cubicBezTo>
                <a:lnTo>
                  <a:pt x="119" y="0"/>
                </a:lnTo>
                <a:cubicBezTo>
                  <a:pt x="127" y="0"/>
                  <a:pt x="133" y="6"/>
                  <a:pt x="133" y="15"/>
                </a:cubicBezTo>
                <a:lnTo>
                  <a:pt x="133" y="37"/>
                </a:lnTo>
                <a:cubicBezTo>
                  <a:pt x="133" y="102"/>
                  <a:pt x="90" y="161"/>
                  <a:pt x="28" y="184"/>
                </a:cubicBezTo>
                <a:lnTo>
                  <a:pt x="20" y="187"/>
                </a:lnTo>
                <a:cubicBezTo>
                  <a:pt x="20" y="187"/>
                  <a:pt x="20" y="187"/>
                  <a:pt x="17" y="18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485"/>
          <p:cNvSpPr/>
          <p:nvPr/>
        </p:nvSpPr>
        <p:spPr>
          <a:xfrm>
            <a:off x="8321760" y="7559640"/>
            <a:ext cx="215640" cy="212760"/>
          </a:xfrm>
          <a:custGeom>
            <a:avLst/>
            <a:gdLst/>
            <a:ahLst/>
            <a:rect l="l" t="t" r="r" b="b"/>
            <a:pathLst>
              <a:path w="318" h="311">
                <a:moveTo>
                  <a:pt x="150" y="310"/>
                </a:moveTo>
                <a:lnTo>
                  <a:pt x="150" y="310"/>
                </a:lnTo>
                <a:cubicBezTo>
                  <a:pt x="139" y="310"/>
                  <a:pt x="127" y="304"/>
                  <a:pt x="119" y="299"/>
                </a:cubicBezTo>
                <a:lnTo>
                  <a:pt x="40" y="220"/>
                </a:lnTo>
                <a:cubicBezTo>
                  <a:pt x="0" y="180"/>
                  <a:pt x="0" y="118"/>
                  <a:pt x="40" y="79"/>
                </a:cubicBezTo>
                <a:lnTo>
                  <a:pt x="79" y="39"/>
                </a:lnTo>
                <a:cubicBezTo>
                  <a:pt x="119" y="0"/>
                  <a:pt x="181" y="0"/>
                  <a:pt x="221" y="39"/>
                </a:cubicBezTo>
                <a:lnTo>
                  <a:pt x="300" y="118"/>
                </a:lnTo>
                <a:cubicBezTo>
                  <a:pt x="317" y="135"/>
                  <a:pt x="317" y="160"/>
                  <a:pt x="300" y="177"/>
                </a:cubicBezTo>
                <a:lnTo>
                  <a:pt x="181" y="296"/>
                </a:lnTo>
                <a:cubicBezTo>
                  <a:pt x="173" y="304"/>
                  <a:pt x="161" y="310"/>
                  <a:pt x="150" y="310"/>
                </a:cubicBezTo>
                <a:close/>
                <a:moveTo>
                  <a:pt x="150" y="36"/>
                </a:moveTo>
                <a:cubicBezTo>
                  <a:pt x="133" y="36"/>
                  <a:pt x="113" y="42"/>
                  <a:pt x="99" y="56"/>
                </a:cubicBezTo>
                <a:lnTo>
                  <a:pt x="60" y="95"/>
                </a:lnTo>
                <a:cubicBezTo>
                  <a:pt x="31" y="124"/>
                  <a:pt x="31" y="169"/>
                  <a:pt x="60" y="194"/>
                </a:cubicBezTo>
                <a:lnTo>
                  <a:pt x="139" y="273"/>
                </a:lnTo>
                <a:cubicBezTo>
                  <a:pt x="142" y="276"/>
                  <a:pt x="144" y="276"/>
                  <a:pt x="150" y="276"/>
                </a:cubicBezTo>
                <a:lnTo>
                  <a:pt x="150" y="276"/>
                </a:lnTo>
                <a:cubicBezTo>
                  <a:pt x="153" y="276"/>
                  <a:pt x="158" y="273"/>
                  <a:pt x="161" y="273"/>
                </a:cubicBezTo>
                <a:lnTo>
                  <a:pt x="280" y="155"/>
                </a:lnTo>
                <a:cubicBezTo>
                  <a:pt x="285" y="149"/>
                  <a:pt x="285" y="141"/>
                  <a:pt x="280" y="135"/>
                </a:cubicBezTo>
                <a:lnTo>
                  <a:pt x="201" y="56"/>
                </a:lnTo>
                <a:cubicBezTo>
                  <a:pt x="187" y="42"/>
                  <a:pt x="170" y="36"/>
                  <a:pt x="150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486"/>
          <p:cNvSpPr/>
          <p:nvPr/>
        </p:nvSpPr>
        <p:spPr>
          <a:xfrm>
            <a:off x="8443800" y="7683480"/>
            <a:ext cx="198720" cy="187200"/>
          </a:xfrm>
          <a:custGeom>
            <a:avLst/>
            <a:gdLst/>
            <a:ahLst/>
            <a:rect l="l" t="t" r="r" b="b"/>
            <a:pathLst>
              <a:path w="289" h="277">
                <a:moveTo>
                  <a:pt x="234" y="276"/>
                </a:moveTo>
                <a:cubicBezTo>
                  <a:pt x="215" y="276"/>
                  <a:pt x="195" y="268"/>
                  <a:pt x="192" y="265"/>
                </a:cubicBezTo>
                <a:cubicBezTo>
                  <a:pt x="186" y="262"/>
                  <a:pt x="183" y="257"/>
                  <a:pt x="183" y="254"/>
                </a:cubicBezTo>
                <a:lnTo>
                  <a:pt x="183" y="229"/>
                </a:lnTo>
                <a:lnTo>
                  <a:pt x="158" y="229"/>
                </a:lnTo>
                <a:cubicBezTo>
                  <a:pt x="150" y="229"/>
                  <a:pt x="144" y="223"/>
                  <a:pt x="144" y="214"/>
                </a:cubicBezTo>
                <a:lnTo>
                  <a:pt x="144" y="189"/>
                </a:lnTo>
                <a:lnTo>
                  <a:pt x="119" y="189"/>
                </a:lnTo>
                <a:cubicBezTo>
                  <a:pt x="116" y="189"/>
                  <a:pt x="110" y="186"/>
                  <a:pt x="107" y="186"/>
                </a:cubicBezTo>
                <a:lnTo>
                  <a:pt x="6" y="85"/>
                </a:lnTo>
                <a:cubicBezTo>
                  <a:pt x="0" y="79"/>
                  <a:pt x="1" y="71"/>
                  <a:pt x="6" y="65"/>
                </a:cubicBezTo>
                <a:cubicBezTo>
                  <a:pt x="12" y="60"/>
                  <a:pt x="20" y="59"/>
                  <a:pt x="25" y="65"/>
                </a:cubicBezTo>
                <a:lnTo>
                  <a:pt x="121" y="161"/>
                </a:lnTo>
                <a:lnTo>
                  <a:pt x="155" y="161"/>
                </a:lnTo>
                <a:cubicBezTo>
                  <a:pt x="158" y="161"/>
                  <a:pt x="161" y="161"/>
                  <a:pt x="163" y="163"/>
                </a:cubicBezTo>
                <a:cubicBezTo>
                  <a:pt x="162" y="160"/>
                  <a:pt x="161" y="158"/>
                  <a:pt x="161" y="155"/>
                </a:cubicBezTo>
                <a:lnTo>
                  <a:pt x="161" y="121"/>
                </a:lnTo>
                <a:lnTo>
                  <a:pt x="65" y="25"/>
                </a:lnTo>
                <a:cubicBezTo>
                  <a:pt x="59" y="20"/>
                  <a:pt x="59" y="12"/>
                  <a:pt x="65" y="6"/>
                </a:cubicBezTo>
                <a:cubicBezTo>
                  <a:pt x="71" y="1"/>
                  <a:pt x="79" y="0"/>
                  <a:pt x="85" y="6"/>
                </a:cubicBezTo>
                <a:lnTo>
                  <a:pt x="186" y="107"/>
                </a:lnTo>
                <a:cubicBezTo>
                  <a:pt x="189" y="110"/>
                  <a:pt x="189" y="113"/>
                  <a:pt x="189" y="118"/>
                </a:cubicBezTo>
                <a:lnTo>
                  <a:pt x="189" y="144"/>
                </a:lnTo>
                <a:lnTo>
                  <a:pt x="215" y="144"/>
                </a:lnTo>
                <a:cubicBezTo>
                  <a:pt x="223" y="144"/>
                  <a:pt x="229" y="149"/>
                  <a:pt x="229" y="158"/>
                </a:cubicBezTo>
                <a:lnTo>
                  <a:pt x="229" y="183"/>
                </a:lnTo>
                <a:lnTo>
                  <a:pt x="254" y="183"/>
                </a:lnTo>
                <a:cubicBezTo>
                  <a:pt x="260" y="183"/>
                  <a:pt x="265" y="186"/>
                  <a:pt x="265" y="192"/>
                </a:cubicBezTo>
                <a:cubicBezTo>
                  <a:pt x="268" y="197"/>
                  <a:pt x="288" y="243"/>
                  <a:pt x="263" y="268"/>
                </a:cubicBezTo>
                <a:cubicBezTo>
                  <a:pt x="260" y="274"/>
                  <a:pt x="246" y="276"/>
                  <a:pt x="234" y="276"/>
                </a:cubicBezTo>
                <a:close/>
                <a:moveTo>
                  <a:pt x="169" y="175"/>
                </a:moveTo>
                <a:lnTo>
                  <a:pt x="169" y="200"/>
                </a:lnTo>
                <a:lnTo>
                  <a:pt x="195" y="200"/>
                </a:lnTo>
                <a:cubicBezTo>
                  <a:pt x="198" y="200"/>
                  <a:pt x="200" y="201"/>
                  <a:pt x="202" y="202"/>
                </a:cubicBezTo>
                <a:cubicBezTo>
                  <a:pt x="201" y="200"/>
                  <a:pt x="200" y="197"/>
                  <a:pt x="200" y="195"/>
                </a:cubicBezTo>
                <a:lnTo>
                  <a:pt x="200" y="169"/>
                </a:lnTo>
                <a:lnTo>
                  <a:pt x="175" y="169"/>
                </a:lnTo>
                <a:cubicBezTo>
                  <a:pt x="172" y="169"/>
                  <a:pt x="170" y="169"/>
                  <a:pt x="168" y="167"/>
                </a:cubicBezTo>
                <a:cubicBezTo>
                  <a:pt x="169" y="170"/>
                  <a:pt x="169" y="172"/>
                  <a:pt x="169" y="175"/>
                </a:cubicBezTo>
                <a:close/>
                <a:moveTo>
                  <a:pt x="209" y="214"/>
                </a:moveTo>
                <a:lnTo>
                  <a:pt x="209" y="245"/>
                </a:lnTo>
                <a:cubicBezTo>
                  <a:pt x="220" y="248"/>
                  <a:pt x="238" y="254"/>
                  <a:pt x="246" y="245"/>
                </a:cubicBezTo>
                <a:cubicBezTo>
                  <a:pt x="255" y="237"/>
                  <a:pt x="251" y="220"/>
                  <a:pt x="246" y="209"/>
                </a:cubicBezTo>
                <a:lnTo>
                  <a:pt x="215" y="209"/>
                </a:lnTo>
                <a:cubicBezTo>
                  <a:pt x="212" y="209"/>
                  <a:pt x="209" y="208"/>
                  <a:pt x="207" y="207"/>
                </a:cubicBezTo>
                <a:cubicBezTo>
                  <a:pt x="208" y="209"/>
                  <a:pt x="209" y="212"/>
                  <a:pt x="209" y="2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487"/>
          <p:cNvSpPr/>
          <p:nvPr/>
        </p:nvSpPr>
        <p:spPr>
          <a:xfrm>
            <a:off x="8375760" y="7608960"/>
            <a:ext cx="88920" cy="92160"/>
          </a:xfrm>
          <a:custGeom>
            <a:avLst/>
            <a:gdLst/>
            <a:ahLst/>
            <a:rect l="l" t="t" r="r" b="b"/>
            <a:pathLst>
              <a:path w="134" h="136">
                <a:moveTo>
                  <a:pt x="60" y="135"/>
                </a:moveTo>
                <a:lnTo>
                  <a:pt x="60" y="135"/>
                </a:lnTo>
                <a:cubicBezTo>
                  <a:pt x="57" y="135"/>
                  <a:pt x="51" y="133"/>
                  <a:pt x="48" y="133"/>
                </a:cubicBezTo>
                <a:lnTo>
                  <a:pt x="17" y="101"/>
                </a:lnTo>
                <a:cubicBezTo>
                  <a:pt x="6" y="90"/>
                  <a:pt x="0" y="76"/>
                  <a:pt x="0" y="62"/>
                </a:cubicBezTo>
                <a:cubicBezTo>
                  <a:pt x="0" y="48"/>
                  <a:pt x="6" y="34"/>
                  <a:pt x="17" y="22"/>
                </a:cubicBezTo>
                <a:cubicBezTo>
                  <a:pt x="40" y="0"/>
                  <a:pt x="77" y="0"/>
                  <a:pt x="96" y="22"/>
                </a:cubicBezTo>
                <a:lnTo>
                  <a:pt x="127" y="53"/>
                </a:lnTo>
                <a:cubicBezTo>
                  <a:pt x="133" y="59"/>
                  <a:pt x="133" y="68"/>
                  <a:pt x="127" y="73"/>
                </a:cubicBezTo>
                <a:lnTo>
                  <a:pt x="68" y="133"/>
                </a:lnTo>
                <a:cubicBezTo>
                  <a:pt x="68" y="135"/>
                  <a:pt x="63" y="135"/>
                  <a:pt x="60" y="135"/>
                </a:cubicBezTo>
                <a:close/>
                <a:moveTo>
                  <a:pt x="60" y="34"/>
                </a:moveTo>
                <a:cubicBezTo>
                  <a:pt x="51" y="34"/>
                  <a:pt x="46" y="37"/>
                  <a:pt x="40" y="42"/>
                </a:cubicBezTo>
                <a:cubicBezTo>
                  <a:pt x="34" y="48"/>
                  <a:pt x="32" y="54"/>
                  <a:pt x="32" y="62"/>
                </a:cubicBezTo>
                <a:cubicBezTo>
                  <a:pt x="32" y="71"/>
                  <a:pt x="34" y="76"/>
                  <a:pt x="40" y="82"/>
                </a:cubicBezTo>
                <a:lnTo>
                  <a:pt x="60" y="101"/>
                </a:lnTo>
                <a:lnTo>
                  <a:pt x="99" y="62"/>
                </a:lnTo>
                <a:lnTo>
                  <a:pt x="79" y="42"/>
                </a:lnTo>
                <a:cubicBezTo>
                  <a:pt x="74" y="37"/>
                  <a:pt x="68" y="34"/>
                  <a:pt x="60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88"/>
          <p:cNvSpPr/>
          <p:nvPr/>
        </p:nvSpPr>
        <p:spPr>
          <a:xfrm>
            <a:off x="7564320" y="7640640"/>
            <a:ext cx="308160" cy="212760"/>
          </a:xfrm>
          <a:custGeom>
            <a:avLst/>
            <a:gdLst/>
            <a:ahLst/>
            <a:rect l="l" t="t" r="r" b="b"/>
            <a:pathLst>
              <a:path w="452" h="311">
                <a:moveTo>
                  <a:pt x="85" y="310"/>
                </a:moveTo>
                <a:cubicBezTo>
                  <a:pt x="37" y="310"/>
                  <a:pt x="0" y="274"/>
                  <a:pt x="0" y="226"/>
                </a:cubicBezTo>
                <a:lnTo>
                  <a:pt x="0" y="127"/>
                </a:lnTo>
                <a:cubicBezTo>
                  <a:pt x="0" y="118"/>
                  <a:pt x="6" y="113"/>
                  <a:pt x="14" y="113"/>
                </a:cubicBezTo>
                <a:lnTo>
                  <a:pt x="155" y="113"/>
                </a:lnTo>
                <a:cubicBezTo>
                  <a:pt x="164" y="113"/>
                  <a:pt x="169" y="118"/>
                  <a:pt x="169" y="127"/>
                </a:cubicBezTo>
                <a:lnTo>
                  <a:pt x="169" y="195"/>
                </a:lnTo>
                <a:cubicBezTo>
                  <a:pt x="206" y="186"/>
                  <a:pt x="237" y="149"/>
                  <a:pt x="271" y="110"/>
                </a:cubicBezTo>
                <a:cubicBezTo>
                  <a:pt x="316" y="59"/>
                  <a:pt x="364" y="0"/>
                  <a:pt x="437" y="0"/>
                </a:cubicBezTo>
                <a:cubicBezTo>
                  <a:pt x="446" y="0"/>
                  <a:pt x="451" y="5"/>
                  <a:pt x="451" y="14"/>
                </a:cubicBezTo>
                <a:lnTo>
                  <a:pt x="451" y="42"/>
                </a:lnTo>
                <a:cubicBezTo>
                  <a:pt x="451" y="51"/>
                  <a:pt x="446" y="56"/>
                  <a:pt x="437" y="56"/>
                </a:cubicBezTo>
                <a:cubicBezTo>
                  <a:pt x="401" y="59"/>
                  <a:pt x="370" y="101"/>
                  <a:pt x="333" y="149"/>
                </a:cubicBezTo>
                <a:cubicBezTo>
                  <a:pt x="279" y="220"/>
                  <a:pt x="212" y="310"/>
                  <a:pt x="93" y="310"/>
                </a:cubicBezTo>
                <a:cubicBezTo>
                  <a:pt x="93" y="310"/>
                  <a:pt x="93" y="310"/>
                  <a:pt x="90" y="310"/>
                </a:cubicBezTo>
                <a:cubicBezTo>
                  <a:pt x="90" y="310"/>
                  <a:pt x="87" y="310"/>
                  <a:pt x="85" y="310"/>
                </a:cubicBezTo>
                <a:close/>
                <a:moveTo>
                  <a:pt x="85" y="282"/>
                </a:moveTo>
                <a:cubicBezTo>
                  <a:pt x="87" y="282"/>
                  <a:pt x="87" y="282"/>
                  <a:pt x="90" y="282"/>
                </a:cubicBezTo>
                <a:lnTo>
                  <a:pt x="93" y="282"/>
                </a:lnTo>
                <a:cubicBezTo>
                  <a:pt x="198" y="279"/>
                  <a:pt x="257" y="203"/>
                  <a:pt x="310" y="132"/>
                </a:cubicBezTo>
                <a:cubicBezTo>
                  <a:pt x="347" y="82"/>
                  <a:pt x="381" y="39"/>
                  <a:pt x="423" y="31"/>
                </a:cubicBezTo>
                <a:lnTo>
                  <a:pt x="423" y="31"/>
                </a:lnTo>
                <a:cubicBezTo>
                  <a:pt x="370" y="39"/>
                  <a:pt x="330" y="85"/>
                  <a:pt x="291" y="130"/>
                </a:cubicBezTo>
                <a:cubicBezTo>
                  <a:pt x="248" y="178"/>
                  <a:pt x="209" y="226"/>
                  <a:pt x="155" y="226"/>
                </a:cubicBezTo>
                <a:lnTo>
                  <a:pt x="155" y="226"/>
                </a:lnTo>
                <a:cubicBezTo>
                  <a:pt x="147" y="226"/>
                  <a:pt x="141" y="220"/>
                  <a:pt x="141" y="211"/>
                </a:cubicBezTo>
                <a:lnTo>
                  <a:pt x="141" y="141"/>
                </a:lnTo>
                <a:lnTo>
                  <a:pt x="28" y="141"/>
                </a:lnTo>
                <a:lnTo>
                  <a:pt x="28" y="226"/>
                </a:lnTo>
                <a:cubicBezTo>
                  <a:pt x="28" y="257"/>
                  <a:pt x="54" y="282"/>
                  <a:pt x="85" y="28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89"/>
          <p:cNvSpPr/>
          <p:nvPr/>
        </p:nvSpPr>
        <p:spPr>
          <a:xfrm>
            <a:off x="7583400" y="7566120"/>
            <a:ext cx="77760" cy="135000"/>
          </a:xfrm>
          <a:custGeom>
            <a:avLst/>
            <a:gdLst/>
            <a:ahLst/>
            <a:rect l="l" t="t" r="r" b="b"/>
            <a:pathLst>
              <a:path w="114" h="199">
                <a:moveTo>
                  <a:pt x="62" y="198"/>
                </a:moveTo>
                <a:lnTo>
                  <a:pt x="62" y="198"/>
                </a:lnTo>
                <a:cubicBezTo>
                  <a:pt x="59" y="198"/>
                  <a:pt x="57" y="198"/>
                  <a:pt x="57" y="195"/>
                </a:cubicBezTo>
                <a:cubicBezTo>
                  <a:pt x="43" y="189"/>
                  <a:pt x="34" y="181"/>
                  <a:pt x="26" y="172"/>
                </a:cubicBezTo>
                <a:lnTo>
                  <a:pt x="26" y="172"/>
                </a:lnTo>
                <a:cubicBezTo>
                  <a:pt x="9" y="155"/>
                  <a:pt x="0" y="135"/>
                  <a:pt x="0" y="113"/>
                </a:cubicBezTo>
                <a:cubicBezTo>
                  <a:pt x="0" y="82"/>
                  <a:pt x="17" y="68"/>
                  <a:pt x="28" y="56"/>
                </a:cubicBezTo>
                <a:cubicBezTo>
                  <a:pt x="37" y="48"/>
                  <a:pt x="43" y="45"/>
                  <a:pt x="43" y="39"/>
                </a:cubicBezTo>
                <a:cubicBezTo>
                  <a:pt x="43" y="37"/>
                  <a:pt x="43" y="31"/>
                  <a:pt x="37" y="20"/>
                </a:cubicBezTo>
                <a:cubicBezTo>
                  <a:pt x="34" y="14"/>
                  <a:pt x="37" y="9"/>
                  <a:pt x="40" y="6"/>
                </a:cubicBezTo>
                <a:cubicBezTo>
                  <a:pt x="43" y="4"/>
                  <a:pt x="45" y="0"/>
                  <a:pt x="51" y="0"/>
                </a:cubicBezTo>
                <a:cubicBezTo>
                  <a:pt x="54" y="0"/>
                  <a:pt x="54" y="0"/>
                  <a:pt x="57" y="3"/>
                </a:cubicBezTo>
                <a:cubicBezTo>
                  <a:pt x="79" y="17"/>
                  <a:pt x="113" y="37"/>
                  <a:pt x="113" y="85"/>
                </a:cubicBezTo>
                <a:cubicBezTo>
                  <a:pt x="113" y="113"/>
                  <a:pt x="96" y="130"/>
                  <a:pt x="85" y="141"/>
                </a:cubicBezTo>
                <a:cubicBezTo>
                  <a:pt x="82" y="144"/>
                  <a:pt x="79" y="147"/>
                  <a:pt x="76" y="150"/>
                </a:cubicBezTo>
                <a:cubicBezTo>
                  <a:pt x="71" y="155"/>
                  <a:pt x="68" y="161"/>
                  <a:pt x="76" y="178"/>
                </a:cubicBezTo>
                <a:cubicBezTo>
                  <a:pt x="79" y="183"/>
                  <a:pt x="76" y="189"/>
                  <a:pt x="74" y="192"/>
                </a:cubicBezTo>
                <a:cubicBezTo>
                  <a:pt x="71" y="195"/>
                  <a:pt x="68" y="198"/>
                  <a:pt x="62" y="198"/>
                </a:cubicBezTo>
                <a:close/>
                <a:moveTo>
                  <a:pt x="71" y="45"/>
                </a:moveTo>
                <a:cubicBezTo>
                  <a:pt x="68" y="59"/>
                  <a:pt x="57" y="71"/>
                  <a:pt x="48" y="79"/>
                </a:cubicBezTo>
                <a:cubicBezTo>
                  <a:pt x="37" y="87"/>
                  <a:pt x="28" y="96"/>
                  <a:pt x="28" y="113"/>
                </a:cubicBezTo>
                <a:cubicBezTo>
                  <a:pt x="28" y="130"/>
                  <a:pt x="34" y="141"/>
                  <a:pt x="43" y="152"/>
                </a:cubicBezTo>
                <a:cubicBezTo>
                  <a:pt x="43" y="144"/>
                  <a:pt x="48" y="138"/>
                  <a:pt x="54" y="130"/>
                </a:cubicBezTo>
                <a:cubicBezTo>
                  <a:pt x="57" y="127"/>
                  <a:pt x="59" y="124"/>
                  <a:pt x="65" y="121"/>
                </a:cubicBezTo>
                <a:cubicBezTo>
                  <a:pt x="76" y="110"/>
                  <a:pt x="85" y="104"/>
                  <a:pt x="85" y="87"/>
                </a:cubicBezTo>
                <a:cubicBezTo>
                  <a:pt x="85" y="71"/>
                  <a:pt x="79" y="56"/>
                  <a:pt x="71" y="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90"/>
          <p:cNvSpPr/>
          <p:nvPr/>
        </p:nvSpPr>
        <p:spPr>
          <a:xfrm>
            <a:off x="1438200" y="8332920"/>
            <a:ext cx="308160" cy="287280"/>
          </a:xfrm>
          <a:custGeom>
            <a:avLst/>
            <a:gdLst/>
            <a:ahLst/>
            <a:rect l="l" t="t" r="r" b="b"/>
            <a:pathLst>
              <a:path w="452" h="424">
                <a:moveTo>
                  <a:pt x="324" y="423"/>
                </a:moveTo>
                <a:cubicBezTo>
                  <a:pt x="319" y="423"/>
                  <a:pt x="313" y="420"/>
                  <a:pt x="310" y="415"/>
                </a:cubicBezTo>
                <a:lnTo>
                  <a:pt x="279" y="321"/>
                </a:lnTo>
                <a:lnTo>
                  <a:pt x="76" y="338"/>
                </a:lnTo>
                <a:cubicBezTo>
                  <a:pt x="76" y="338"/>
                  <a:pt x="73" y="338"/>
                  <a:pt x="70" y="338"/>
                </a:cubicBezTo>
                <a:cubicBezTo>
                  <a:pt x="31" y="338"/>
                  <a:pt x="0" y="307"/>
                  <a:pt x="0" y="268"/>
                </a:cubicBezTo>
                <a:cubicBezTo>
                  <a:pt x="0" y="262"/>
                  <a:pt x="0" y="254"/>
                  <a:pt x="3" y="248"/>
                </a:cubicBezTo>
                <a:lnTo>
                  <a:pt x="59" y="51"/>
                </a:lnTo>
                <a:cubicBezTo>
                  <a:pt x="67" y="19"/>
                  <a:pt x="96" y="0"/>
                  <a:pt x="127" y="0"/>
                </a:cubicBezTo>
                <a:cubicBezTo>
                  <a:pt x="132" y="0"/>
                  <a:pt x="138" y="0"/>
                  <a:pt x="141" y="3"/>
                </a:cubicBezTo>
                <a:lnTo>
                  <a:pt x="417" y="59"/>
                </a:lnTo>
                <a:cubicBezTo>
                  <a:pt x="437" y="62"/>
                  <a:pt x="451" y="82"/>
                  <a:pt x="451" y="101"/>
                </a:cubicBezTo>
                <a:lnTo>
                  <a:pt x="451" y="271"/>
                </a:lnTo>
                <a:cubicBezTo>
                  <a:pt x="451" y="293"/>
                  <a:pt x="434" y="310"/>
                  <a:pt x="412" y="313"/>
                </a:cubicBezTo>
                <a:lnTo>
                  <a:pt x="369" y="316"/>
                </a:lnTo>
                <a:lnTo>
                  <a:pt x="336" y="415"/>
                </a:lnTo>
                <a:cubicBezTo>
                  <a:pt x="336" y="420"/>
                  <a:pt x="330" y="423"/>
                  <a:pt x="324" y="423"/>
                </a:cubicBezTo>
                <a:close/>
                <a:moveTo>
                  <a:pt x="290" y="293"/>
                </a:moveTo>
                <a:cubicBezTo>
                  <a:pt x="296" y="293"/>
                  <a:pt x="302" y="296"/>
                  <a:pt x="305" y="302"/>
                </a:cubicBezTo>
                <a:lnTo>
                  <a:pt x="324" y="364"/>
                </a:lnTo>
                <a:lnTo>
                  <a:pt x="347" y="296"/>
                </a:lnTo>
                <a:cubicBezTo>
                  <a:pt x="350" y="290"/>
                  <a:pt x="352" y="288"/>
                  <a:pt x="358" y="288"/>
                </a:cubicBezTo>
                <a:lnTo>
                  <a:pt x="409" y="282"/>
                </a:lnTo>
                <a:cubicBezTo>
                  <a:pt x="417" y="282"/>
                  <a:pt x="423" y="276"/>
                  <a:pt x="423" y="268"/>
                </a:cubicBezTo>
                <a:lnTo>
                  <a:pt x="423" y="99"/>
                </a:lnTo>
                <a:cubicBezTo>
                  <a:pt x="423" y="93"/>
                  <a:pt x="417" y="87"/>
                  <a:pt x="412" y="84"/>
                </a:cubicBezTo>
                <a:lnTo>
                  <a:pt x="135" y="28"/>
                </a:lnTo>
                <a:cubicBezTo>
                  <a:pt x="132" y="28"/>
                  <a:pt x="130" y="28"/>
                  <a:pt x="127" y="28"/>
                </a:cubicBezTo>
                <a:cubicBezTo>
                  <a:pt x="107" y="28"/>
                  <a:pt x="90" y="39"/>
                  <a:pt x="87" y="59"/>
                </a:cubicBezTo>
                <a:lnTo>
                  <a:pt x="31" y="257"/>
                </a:lnTo>
                <a:cubicBezTo>
                  <a:pt x="31" y="259"/>
                  <a:pt x="28" y="265"/>
                  <a:pt x="28" y="268"/>
                </a:cubicBezTo>
                <a:cubicBezTo>
                  <a:pt x="28" y="290"/>
                  <a:pt x="48" y="310"/>
                  <a:pt x="70" y="310"/>
                </a:cubicBezTo>
                <a:lnTo>
                  <a:pt x="73" y="310"/>
                </a:lnTo>
                <a:lnTo>
                  <a:pt x="290" y="2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91"/>
          <p:cNvSpPr/>
          <p:nvPr/>
        </p:nvSpPr>
        <p:spPr>
          <a:xfrm>
            <a:off x="2205000" y="8332920"/>
            <a:ext cx="308160" cy="190440"/>
          </a:xfrm>
          <a:custGeom>
            <a:avLst/>
            <a:gdLst/>
            <a:ahLst/>
            <a:rect l="l" t="t" r="r" b="b"/>
            <a:pathLst>
              <a:path w="455" h="283">
                <a:moveTo>
                  <a:pt x="380" y="282"/>
                </a:moveTo>
                <a:cubicBezTo>
                  <a:pt x="380" y="282"/>
                  <a:pt x="378" y="282"/>
                  <a:pt x="380" y="282"/>
                </a:cubicBezTo>
                <a:lnTo>
                  <a:pt x="11" y="226"/>
                </a:lnTo>
                <a:cubicBezTo>
                  <a:pt x="5" y="226"/>
                  <a:pt x="0" y="220"/>
                  <a:pt x="0" y="211"/>
                </a:cubicBezTo>
                <a:lnTo>
                  <a:pt x="0" y="14"/>
                </a:lnTo>
                <a:cubicBezTo>
                  <a:pt x="0" y="11"/>
                  <a:pt x="2" y="5"/>
                  <a:pt x="5" y="3"/>
                </a:cubicBezTo>
                <a:cubicBezTo>
                  <a:pt x="8" y="0"/>
                  <a:pt x="11" y="0"/>
                  <a:pt x="16" y="0"/>
                </a:cubicBezTo>
                <a:lnTo>
                  <a:pt x="440" y="28"/>
                </a:lnTo>
                <a:cubicBezTo>
                  <a:pt x="443" y="28"/>
                  <a:pt x="448" y="31"/>
                  <a:pt x="451" y="34"/>
                </a:cubicBezTo>
                <a:cubicBezTo>
                  <a:pt x="454" y="36"/>
                  <a:pt x="454" y="42"/>
                  <a:pt x="454" y="45"/>
                </a:cubicBezTo>
                <a:lnTo>
                  <a:pt x="397" y="271"/>
                </a:lnTo>
                <a:cubicBezTo>
                  <a:pt x="392" y="279"/>
                  <a:pt x="386" y="282"/>
                  <a:pt x="380" y="282"/>
                </a:cubicBezTo>
                <a:close/>
                <a:moveTo>
                  <a:pt x="28" y="200"/>
                </a:moveTo>
                <a:lnTo>
                  <a:pt x="369" y="254"/>
                </a:lnTo>
                <a:lnTo>
                  <a:pt x="417" y="56"/>
                </a:lnTo>
                <a:lnTo>
                  <a:pt x="28" y="28"/>
                </a:lnTo>
                <a:lnTo>
                  <a:pt x="28" y="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92"/>
          <p:cNvSpPr/>
          <p:nvPr/>
        </p:nvSpPr>
        <p:spPr>
          <a:xfrm>
            <a:off x="2300400" y="8485200"/>
            <a:ext cx="176040" cy="95400"/>
          </a:xfrm>
          <a:custGeom>
            <a:avLst/>
            <a:gdLst/>
            <a:ahLst/>
            <a:rect l="l" t="t" r="r" b="b"/>
            <a:pathLst>
              <a:path w="258" h="142">
                <a:moveTo>
                  <a:pt x="17" y="141"/>
                </a:moveTo>
                <a:cubicBezTo>
                  <a:pt x="14" y="141"/>
                  <a:pt x="8" y="138"/>
                  <a:pt x="5" y="135"/>
                </a:cubicBezTo>
                <a:cubicBezTo>
                  <a:pt x="3" y="129"/>
                  <a:pt x="0" y="124"/>
                  <a:pt x="3" y="118"/>
                </a:cubicBezTo>
                <a:lnTo>
                  <a:pt x="65" y="8"/>
                </a:lnTo>
                <a:cubicBezTo>
                  <a:pt x="68" y="2"/>
                  <a:pt x="76" y="0"/>
                  <a:pt x="84" y="2"/>
                </a:cubicBezTo>
                <a:cubicBezTo>
                  <a:pt x="90" y="5"/>
                  <a:pt x="93" y="14"/>
                  <a:pt x="90" y="22"/>
                </a:cubicBezTo>
                <a:lnTo>
                  <a:pt x="48" y="98"/>
                </a:lnTo>
                <a:lnTo>
                  <a:pt x="237" y="28"/>
                </a:lnTo>
                <a:cubicBezTo>
                  <a:pt x="245" y="25"/>
                  <a:pt x="251" y="28"/>
                  <a:pt x="254" y="36"/>
                </a:cubicBezTo>
                <a:cubicBezTo>
                  <a:pt x="257" y="45"/>
                  <a:pt x="254" y="50"/>
                  <a:pt x="245" y="53"/>
                </a:cubicBezTo>
                <a:lnTo>
                  <a:pt x="20" y="138"/>
                </a:lnTo>
                <a:cubicBezTo>
                  <a:pt x="20" y="141"/>
                  <a:pt x="20" y="141"/>
                  <a:pt x="17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93"/>
          <p:cNvSpPr/>
          <p:nvPr/>
        </p:nvSpPr>
        <p:spPr>
          <a:xfrm>
            <a:off x="2300400" y="8535960"/>
            <a:ext cx="115920" cy="101520"/>
          </a:xfrm>
          <a:custGeom>
            <a:avLst/>
            <a:gdLst/>
            <a:ahLst/>
            <a:rect l="l" t="t" r="r" b="b"/>
            <a:pathLst>
              <a:path w="173" h="150">
                <a:moveTo>
                  <a:pt x="158" y="149"/>
                </a:moveTo>
                <a:cubicBezTo>
                  <a:pt x="155" y="149"/>
                  <a:pt x="152" y="149"/>
                  <a:pt x="149" y="146"/>
                </a:cubicBezTo>
                <a:lnTo>
                  <a:pt x="8" y="62"/>
                </a:lnTo>
                <a:cubicBezTo>
                  <a:pt x="3" y="59"/>
                  <a:pt x="0" y="50"/>
                  <a:pt x="3" y="42"/>
                </a:cubicBezTo>
                <a:cubicBezTo>
                  <a:pt x="5" y="36"/>
                  <a:pt x="14" y="34"/>
                  <a:pt x="22" y="36"/>
                </a:cubicBezTo>
                <a:lnTo>
                  <a:pt x="124" y="98"/>
                </a:lnTo>
                <a:lnTo>
                  <a:pt x="90" y="22"/>
                </a:lnTo>
                <a:cubicBezTo>
                  <a:pt x="87" y="14"/>
                  <a:pt x="90" y="8"/>
                  <a:pt x="96" y="3"/>
                </a:cubicBezTo>
                <a:cubicBezTo>
                  <a:pt x="104" y="0"/>
                  <a:pt x="110" y="3"/>
                  <a:pt x="115" y="8"/>
                </a:cubicBezTo>
                <a:lnTo>
                  <a:pt x="169" y="127"/>
                </a:lnTo>
                <a:cubicBezTo>
                  <a:pt x="172" y="132"/>
                  <a:pt x="169" y="138"/>
                  <a:pt x="166" y="144"/>
                </a:cubicBezTo>
                <a:cubicBezTo>
                  <a:pt x="163" y="149"/>
                  <a:pt x="161" y="149"/>
                  <a:pt x="158" y="14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94"/>
          <p:cNvSpPr/>
          <p:nvPr/>
        </p:nvSpPr>
        <p:spPr>
          <a:xfrm>
            <a:off x="2970360" y="8407440"/>
            <a:ext cx="230040" cy="230040"/>
          </a:xfrm>
          <a:custGeom>
            <a:avLst/>
            <a:gdLst/>
            <a:ahLst/>
            <a:rect l="l" t="t" r="r" b="b"/>
            <a:pathLst>
              <a:path w="340" h="339">
                <a:moveTo>
                  <a:pt x="325" y="338"/>
                </a:moveTo>
                <a:lnTo>
                  <a:pt x="14" y="338"/>
                </a:lnTo>
                <a:cubicBezTo>
                  <a:pt x="6" y="338"/>
                  <a:pt x="0" y="333"/>
                  <a:pt x="0" y="324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325" y="0"/>
                </a:lnTo>
                <a:cubicBezTo>
                  <a:pt x="333" y="0"/>
                  <a:pt x="339" y="5"/>
                  <a:pt x="339" y="14"/>
                </a:cubicBezTo>
                <a:lnTo>
                  <a:pt x="339" y="324"/>
                </a:lnTo>
                <a:cubicBezTo>
                  <a:pt x="339" y="333"/>
                  <a:pt x="333" y="338"/>
                  <a:pt x="325" y="338"/>
                </a:cubicBezTo>
                <a:close/>
                <a:moveTo>
                  <a:pt x="29" y="310"/>
                </a:moveTo>
                <a:lnTo>
                  <a:pt x="311" y="310"/>
                </a:lnTo>
                <a:lnTo>
                  <a:pt x="311" y="28"/>
                </a:lnTo>
                <a:lnTo>
                  <a:pt x="29" y="28"/>
                </a:lnTo>
                <a:lnTo>
                  <a:pt x="29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95"/>
          <p:cNvSpPr/>
          <p:nvPr/>
        </p:nvSpPr>
        <p:spPr>
          <a:xfrm>
            <a:off x="3048120" y="8332920"/>
            <a:ext cx="230040" cy="230040"/>
          </a:xfrm>
          <a:custGeom>
            <a:avLst/>
            <a:gdLst/>
            <a:ahLst/>
            <a:rect l="l" t="t" r="r" b="b"/>
            <a:pathLst>
              <a:path w="340" h="339">
                <a:moveTo>
                  <a:pt x="325" y="338"/>
                </a:moveTo>
                <a:lnTo>
                  <a:pt x="14" y="338"/>
                </a:lnTo>
                <a:cubicBezTo>
                  <a:pt x="6" y="338"/>
                  <a:pt x="0" y="333"/>
                  <a:pt x="0" y="324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325" y="0"/>
                </a:lnTo>
                <a:cubicBezTo>
                  <a:pt x="333" y="0"/>
                  <a:pt x="339" y="5"/>
                  <a:pt x="339" y="14"/>
                </a:cubicBezTo>
                <a:lnTo>
                  <a:pt x="339" y="324"/>
                </a:lnTo>
                <a:cubicBezTo>
                  <a:pt x="339" y="333"/>
                  <a:pt x="333" y="338"/>
                  <a:pt x="325" y="338"/>
                </a:cubicBezTo>
                <a:close/>
                <a:moveTo>
                  <a:pt x="28" y="310"/>
                </a:moveTo>
                <a:lnTo>
                  <a:pt x="311" y="310"/>
                </a:lnTo>
                <a:lnTo>
                  <a:pt x="311" y="28"/>
                </a:lnTo>
                <a:lnTo>
                  <a:pt x="28" y="28"/>
                </a:lnTo>
                <a:lnTo>
                  <a:pt x="28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96"/>
          <p:cNvSpPr/>
          <p:nvPr/>
        </p:nvSpPr>
        <p:spPr>
          <a:xfrm>
            <a:off x="3179880" y="8542440"/>
            <a:ext cx="98280" cy="95040"/>
          </a:xfrm>
          <a:custGeom>
            <a:avLst/>
            <a:gdLst/>
            <a:ahLst/>
            <a:rect l="l" t="t" r="r" b="b"/>
            <a:pathLst>
              <a:path w="145" h="142">
                <a:moveTo>
                  <a:pt x="17" y="141"/>
                </a:moveTo>
                <a:cubicBezTo>
                  <a:pt x="14" y="141"/>
                  <a:pt x="8" y="141"/>
                  <a:pt x="6" y="138"/>
                </a:cubicBezTo>
                <a:cubicBezTo>
                  <a:pt x="0" y="133"/>
                  <a:pt x="0" y="124"/>
                  <a:pt x="6" y="119"/>
                </a:cubicBezTo>
                <a:lnTo>
                  <a:pt x="118" y="6"/>
                </a:lnTo>
                <a:cubicBezTo>
                  <a:pt x="124" y="0"/>
                  <a:pt x="132" y="1"/>
                  <a:pt x="138" y="6"/>
                </a:cubicBezTo>
                <a:cubicBezTo>
                  <a:pt x="143" y="12"/>
                  <a:pt x="144" y="20"/>
                  <a:pt x="138" y="26"/>
                </a:cubicBezTo>
                <a:lnTo>
                  <a:pt x="25" y="138"/>
                </a:lnTo>
                <a:cubicBezTo>
                  <a:pt x="25" y="141"/>
                  <a:pt x="20" y="141"/>
                  <a:pt x="17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97"/>
          <p:cNvSpPr/>
          <p:nvPr/>
        </p:nvSpPr>
        <p:spPr>
          <a:xfrm>
            <a:off x="2967120" y="8542440"/>
            <a:ext cx="98280" cy="95040"/>
          </a:xfrm>
          <a:custGeom>
            <a:avLst/>
            <a:gdLst/>
            <a:ahLst/>
            <a:rect l="l" t="t" r="r" b="b"/>
            <a:pathLst>
              <a:path w="145" h="142">
                <a:moveTo>
                  <a:pt x="17" y="141"/>
                </a:moveTo>
                <a:cubicBezTo>
                  <a:pt x="15" y="141"/>
                  <a:pt x="9" y="141"/>
                  <a:pt x="6" y="138"/>
                </a:cubicBezTo>
                <a:cubicBezTo>
                  <a:pt x="0" y="133"/>
                  <a:pt x="0" y="124"/>
                  <a:pt x="6" y="119"/>
                </a:cubicBezTo>
                <a:lnTo>
                  <a:pt x="119" y="6"/>
                </a:lnTo>
                <a:cubicBezTo>
                  <a:pt x="125" y="0"/>
                  <a:pt x="133" y="1"/>
                  <a:pt x="139" y="6"/>
                </a:cubicBezTo>
                <a:cubicBezTo>
                  <a:pt x="144" y="12"/>
                  <a:pt x="144" y="20"/>
                  <a:pt x="139" y="26"/>
                </a:cubicBezTo>
                <a:lnTo>
                  <a:pt x="26" y="138"/>
                </a:lnTo>
                <a:cubicBezTo>
                  <a:pt x="26" y="141"/>
                  <a:pt x="20" y="141"/>
                  <a:pt x="17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498"/>
          <p:cNvSpPr/>
          <p:nvPr/>
        </p:nvSpPr>
        <p:spPr>
          <a:xfrm>
            <a:off x="2967120" y="8332920"/>
            <a:ext cx="98280" cy="95040"/>
          </a:xfrm>
          <a:custGeom>
            <a:avLst/>
            <a:gdLst/>
            <a:ahLst/>
            <a:rect l="l" t="t" r="r" b="b"/>
            <a:pathLst>
              <a:path w="145" h="142">
                <a:moveTo>
                  <a:pt x="17" y="141"/>
                </a:moveTo>
                <a:cubicBezTo>
                  <a:pt x="15" y="141"/>
                  <a:pt x="9" y="141"/>
                  <a:pt x="6" y="138"/>
                </a:cubicBezTo>
                <a:cubicBezTo>
                  <a:pt x="0" y="132"/>
                  <a:pt x="0" y="124"/>
                  <a:pt x="6" y="118"/>
                </a:cubicBezTo>
                <a:lnTo>
                  <a:pt x="119" y="5"/>
                </a:lnTo>
                <a:cubicBezTo>
                  <a:pt x="125" y="0"/>
                  <a:pt x="133" y="0"/>
                  <a:pt x="139" y="5"/>
                </a:cubicBezTo>
                <a:cubicBezTo>
                  <a:pt x="144" y="11"/>
                  <a:pt x="144" y="19"/>
                  <a:pt x="139" y="25"/>
                </a:cubicBezTo>
                <a:lnTo>
                  <a:pt x="26" y="138"/>
                </a:lnTo>
                <a:cubicBezTo>
                  <a:pt x="26" y="141"/>
                  <a:pt x="20" y="141"/>
                  <a:pt x="17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499"/>
          <p:cNvSpPr/>
          <p:nvPr/>
        </p:nvSpPr>
        <p:spPr>
          <a:xfrm>
            <a:off x="3179880" y="8332920"/>
            <a:ext cx="98280" cy="95040"/>
          </a:xfrm>
          <a:custGeom>
            <a:avLst/>
            <a:gdLst/>
            <a:ahLst/>
            <a:rect l="l" t="t" r="r" b="b"/>
            <a:pathLst>
              <a:path w="145" h="142">
                <a:moveTo>
                  <a:pt x="17" y="141"/>
                </a:moveTo>
                <a:cubicBezTo>
                  <a:pt x="14" y="141"/>
                  <a:pt x="8" y="141"/>
                  <a:pt x="6" y="138"/>
                </a:cubicBezTo>
                <a:cubicBezTo>
                  <a:pt x="0" y="132"/>
                  <a:pt x="0" y="124"/>
                  <a:pt x="6" y="118"/>
                </a:cubicBezTo>
                <a:lnTo>
                  <a:pt x="118" y="5"/>
                </a:lnTo>
                <a:cubicBezTo>
                  <a:pt x="124" y="0"/>
                  <a:pt x="132" y="0"/>
                  <a:pt x="138" y="5"/>
                </a:cubicBezTo>
                <a:cubicBezTo>
                  <a:pt x="143" y="11"/>
                  <a:pt x="144" y="19"/>
                  <a:pt x="138" y="25"/>
                </a:cubicBezTo>
                <a:lnTo>
                  <a:pt x="25" y="138"/>
                </a:lnTo>
                <a:cubicBezTo>
                  <a:pt x="25" y="141"/>
                  <a:pt x="20" y="141"/>
                  <a:pt x="17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500"/>
          <p:cNvSpPr/>
          <p:nvPr/>
        </p:nvSpPr>
        <p:spPr>
          <a:xfrm>
            <a:off x="3735360" y="8539200"/>
            <a:ext cx="311040" cy="98280"/>
          </a:xfrm>
          <a:custGeom>
            <a:avLst/>
            <a:gdLst/>
            <a:ahLst/>
            <a:rect l="l" t="t" r="r" b="b"/>
            <a:pathLst>
              <a:path w="457" h="145">
                <a:moveTo>
                  <a:pt x="226" y="144"/>
                </a:moveTo>
                <a:cubicBezTo>
                  <a:pt x="223" y="144"/>
                  <a:pt x="220" y="144"/>
                  <a:pt x="220" y="141"/>
                </a:cubicBezTo>
                <a:lnTo>
                  <a:pt x="9" y="29"/>
                </a:lnTo>
                <a:cubicBezTo>
                  <a:pt x="3" y="26"/>
                  <a:pt x="0" y="21"/>
                  <a:pt x="3" y="12"/>
                </a:cubicBezTo>
                <a:cubicBezTo>
                  <a:pt x="6" y="4"/>
                  <a:pt x="11" y="0"/>
                  <a:pt x="17" y="0"/>
                </a:cubicBezTo>
                <a:lnTo>
                  <a:pt x="440" y="0"/>
                </a:lnTo>
                <a:cubicBezTo>
                  <a:pt x="446" y="0"/>
                  <a:pt x="451" y="7"/>
                  <a:pt x="454" y="12"/>
                </a:cubicBezTo>
                <a:cubicBezTo>
                  <a:pt x="456" y="18"/>
                  <a:pt x="454" y="26"/>
                  <a:pt x="449" y="29"/>
                </a:cubicBezTo>
                <a:lnTo>
                  <a:pt x="237" y="141"/>
                </a:lnTo>
                <a:cubicBezTo>
                  <a:pt x="231" y="144"/>
                  <a:pt x="229" y="144"/>
                  <a:pt x="226" y="144"/>
                </a:cubicBezTo>
                <a:close/>
                <a:moveTo>
                  <a:pt x="71" y="31"/>
                </a:moveTo>
                <a:lnTo>
                  <a:pt x="226" y="113"/>
                </a:lnTo>
                <a:lnTo>
                  <a:pt x="381" y="31"/>
                </a:lnTo>
                <a:lnTo>
                  <a:pt x="71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01"/>
          <p:cNvSpPr/>
          <p:nvPr/>
        </p:nvSpPr>
        <p:spPr>
          <a:xfrm>
            <a:off x="3733920" y="8329680"/>
            <a:ext cx="311040" cy="233280"/>
          </a:xfrm>
          <a:custGeom>
            <a:avLst/>
            <a:gdLst/>
            <a:ahLst/>
            <a:rect l="l" t="t" r="r" b="b"/>
            <a:pathLst>
              <a:path w="458" h="346">
                <a:moveTo>
                  <a:pt x="440" y="341"/>
                </a:moveTo>
                <a:cubicBezTo>
                  <a:pt x="435" y="341"/>
                  <a:pt x="432" y="339"/>
                  <a:pt x="429" y="336"/>
                </a:cubicBezTo>
                <a:lnTo>
                  <a:pt x="229" y="42"/>
                </a:lnTo>
                <a:lnTo>
                  <a:pt x="28" y="336"/>
                </a:lnTo>
                <a:cubicBezTo>
                  <a:pt x="23" y="341"/>
                  <a:pt x="14" y="345"/>
                  <a:pt x="9" y="339"/>
                </a:cubicBezTo>
                <a:cubicBezTo>
                  <a:pt x="3" y="334"/>
                  <a:pt x="0" y="324"/>
                  <a:pt x="6" y="319"/>
                </a:cubicBezTo>
                <a:lnTo>
                  <a:pt x="218" y="8"/>
                </a:lnTo>
                <a:cubicBezTo>
                  <a:pt x="223" y="0"/>
                  <a:pt x="234" y="0"/>
                  <a:pt x="240" y="8"/>
                </a:cubicBezTo>
                <a:lnTo>
                  <a:pt x="452" y="319"/>
                </a:lnTo>
                <a:cubicBezTo>
                  <a:pt x="457" y="324"/>
                  <a:pt x="455" y="333"/>
                  <a:pt x="449" y="339"/>
                </a:cubicBezTo>
                <a:cubicBezTo>
                  <a:pt x="446" y="341"/>
                  <a:pt x="443" y="341"/>
                  <a:pt x="440" y="3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02"/>
          <p:cNvSpPr/>
          <p:nvPr/>
        </p:nvSpPr>
        <p:spPr>
          <a:xfrm>
            <a:off x="3879720" y="8332920"/>
            <a:ext cx="20880" cy="307800"/>
          </a:xfrm>
          <a:custGeom>
            <a:avLst/>
            <a:gdLst/>
            <a:ahLst/>
            <a:rect l="l" t="t" r="r" b="b"/>
            <a:pathLst>
              <a:path w="29" h="452">
                <a:moveTo>
                  <a:pt x="14" y="451"/>
                </a:moveTo>
                <a:cubicBezTo>
                  <a:pt x="5" y="451"/>
                  <a:pt x="0" y="446"/>
                  <a:pt x="0" y="437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437"/>
                </a:lnTo>
                <a:cubicBezTo>
                  <a:pt x="28" y="446"/>
                  <a:pt x="22" y="451"/>
                  <a:pt x="14" y="45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03"/>
          <p:cNvSpPr/>
          <p:nvPr/>
        </p:nvSpPr>
        <p:spPr>
          <a:xfrm>
            <a:off x="6934320" y="3011400"/>
            <a:ext cx="134640" cy="55800"/>
          </a:xfrm>
          <a:custGeom>
            <a:avLst/>
            <a:gdLst/>
            <a:ahLst/>
            <a:rect l="l" t="t" r="r" b="b"/>
            <a:pathLst>
              <a:path w="198" h="85">
                <a:moveTo>
                  <a:pt x="183" y="84"/>
                </a:moveTo>
                <a:lnTo>
                  <a:pt x="14" y="84"/>
                </a:ln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183" y="0"/>
                </a:lnTo>
                <a:cubicBezTo>
                  <a:pt x="192" y="0"/>
                  <a:pt x="197" y="5"/>
                  <a:pt x="197" y="14"/>
                </a:cubicBezTo>
                <a:lnTo>
                  <a:pt x="197" y="70"/>
                </a:lnTo>
                <a:cubicBezTo>
                  <a:pt x="197" y="79"/>
                  <a:pt x="192" y="84"/>
                  <a:pt x="183" y="84"/>
                </a:cubicBezTo>
                <a:close/>
                <a:moveTo>
                  <a:pt x="28" y="56"/>
                </a:moveTo>
                <a:lnTo>
                  <a:pt x="169" y="56"/>
                </a:lnTo>
                <a:lnTo>
                  <a:pt x="169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04"/>
          <p:cNvSpPr/>
          <p:nvPr/>
        </p:nvSpPr>
        <p:spPr>
          <a:xfrm>
            <a:off x="6894360" y="2971800"/>
            <a:ext cx="212760" cy="270000"/>
          </a:xfrm>
          <a:custGeom>
            <a:avLst/>
            <a:gdLst/>
            <a:ahLst/>
            <a:rect l="l" t="t" r="r" b="b"/>
            <a:pathLst>
              <a:path w="312" h="396">
                <a:moveTo>
                  <a:pt x="282" y="395"/>
                </a:moveTo>
                <a:lnTo>
                  <a:pt x="212" y="395"/>
                </a:lnTo>
                <a:cubicBezTo>
                  <a:pt x="203" y="395"/>
                  <a:pt x="198" y="389"/>
                  <a:pt x="198" y="381"/>
                </a:cubicBezTo>
                <a:cubicBezTo>
                  <a:pt x="198" y="372"/>
                  <a:pt x="203" y="367"/>
                  <a:pt x="212" y="367"/>
                </a:cubicBezTo>
                <a:lnTo>
                  <a:pt x="282" y="367"/>
                </a:lnTo>
                <a:lnTo>
                  <a:pt x="282" y="29"/>
                </a:lnTo>
                <a:lnTo>
                  <a:pt x="29" y="29"/>
                </a:lnTo>
                <a:lnTo>
                  <a:pt x="29" y="71"/>
                </a:lnTo>
                <a:cubicBezTo>
                  <a:pt x="29" y="79"/>
                  <a:pt x="23" y="85"/>
                  <a:pt x="14" y="85"/>
                </a:cubicBezTo>
                <a:cubicBezTo>
                  <a:pt x="6" y="85"/>
                  <a:pt x="0" y="79"/>
                  <a:pt x="0" y="71"/>
                </a:cubicBezTo>
                <a:lnTo>
                  <a:pt x="0" y="29"/>
                </a:lnTo>
                <a:cubicBezTo>
                  <a:pt x="0" y="12"/>
                  <a:pt x="12" y="0"/>
                  <a:pt x="29" y="0"/>
                </a:cubicBezTo>
                <a:lnTo>
                  <a:pt x="282" y="0"/>
                </a:lnTo>
                <a:cubicBezTo>
                  <a:pt x="299" y="0"/>
                  <a:pt x="311" y="12"/>
                  <a:pt x="311" y="29"/>
                </a:cubicBezTo>
                <a:lnTo>
                  <a:pt x="311" y="367"/>
                </a:lnTo>
                <a:cubicBezTo>
                  <a:pt x="311" y="384"/>
                  <a:pt x="299" y="395"/>
                  <a:pt x="282" y="3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05"/>
          <p:cNvSpPr/>
          <p:nvPr/>
        </p:nvSpPr>
        <p:spPr>
          <a:xfrm>
            <a:off x="7047000" y="3106800"/>
            <a:ext cx="2196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06"/>
          <p:cNvSpPr/>
          <p:nvPr/>
        </p:nvSpPr>
        <p:spPr>
          <a:xfrm>
            <a:off x="7047000" y="3164040"/>
            <a:ext cx="21960" cy="20520"/>
          </a:xfrm>
          <a:custGeom>
            <a:avLst/>
            <a:gdLst/>
            <a:ahLst/>
            <a:rect l="l" t="t" r="r" b="b"/>
            <a:pathLst>
              <a:path w="29" h="30">
                <a:moveTo>
                  <a:pt x="14" y="29"/>
                </a:moveTo>
                <a:lnTo>
                  <a:pt x="0" y="29"/>
                </a:lnTo>
                <a:lnTo>
                  <a:pt x="0" y="0"/>
                </a:lnTo>
                <a:lnTo>
                  <a:pt x="28" y="0"/>
                </a:lnTo>
                <a:lnTo>
                  <a:pt x="28" y="29"/>
                </a:lnTo>
                <a:lnTo>
                  <a:pt x="14" y="2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507"/>
          <p:cNvSpPr/>
          <p:nvPr/>
        </p:nvSpPr>
        <p:spPr>
          <a:xfrm>
            <a:off x="6864480" y="3086280"/>
            <a:ext cx="60120" cy="554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2" y="84"/>
                </a:moveTo>
                <a:cubicBezTo>
                  <a:pt x="20" y="84"/>
                  <a:pt x="0" y="65"/>
                  <a:pt x="0" y="42"/>
                </a:cubicBezTo>
                <a:cubicBezTo>
                  <a:pt x="0" y="19"/>
                  <a:pt x="20" y="0"/>
                  <a:pt x="42" y="0"/>
                </a:cubicBezTo>
                <a:cubicBezTo>
                  <a:pt x="65" y="0"/>
                  <a:pt x="85" y="19"/>
                  <a:pt x="85" y="42"/>
                </a:cubicBezTo>
                <a:cubicBezTo>
                  <a:pt x="85" y="65"/>
                  <a:pt x="65" y="84"/>
                  <a:pt x="42" y="84"/>
                </a:cubicBezTo>
                <a:close/>
                <a:moveTo>
                  <a:pt x="42" y="28"/>
                </a:moveTo>
                <a:cubicBezTo>
                  <a:pt x="34" y="28"/>
                  <a:pt x="28" y="33"/>
                  <a:pt x="28" y="42"/>
                </a:cubicBezTo>
                <a:cubicBezTo>
                  <a:pt x="28" y="50"/>
                  <a:pt x="34" y="56"/>
                  <a:pt x="42" y="56"/>
                </a:cubicBezTo>
                <a:cubicBezTo>
                  <a:pt x="51" y="56"/>
                  <a:pt x="56" y="50"/>
                  <a:pt x="56" y="42"/>
                </a:cubicBezTo>
                <a:cubicBezTo>
                  <a:pt x="56" y="33"/>
                  <a:pt x="51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508"/>
          <p:cNvSpPr/>
          <p:nvPr/>
        </p:nvSpPr>
        <p:spPr>
          <a:xfrm>
            <a:off x="6904080" y="3181320"/>
            <a:ext cx="6012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3" y="84"/>
                </a:moveTo>
                <a:cubicBezTo>
                  <a:pt x="20" y="84"/>
                  <a:pt x="0" y="65"/>
                  <a:pt x="0" y="42"/>
                </a:cubicBezTo>
                <a:cubicBezTo>
                  <a:pt x="0" y="19"/>
                  <a:pt x="21" y="0"/>
                  <a:pt x="43" y="0"/>
                </a:cubicBezTo>
                <a:cubicBezTo>
                  <a:pt x="66" y="0"/>
                  <a:pt x="85" y="19"/>
                  <a:pt x="85" y="42"/>
                </a:cubicBezTo>
                <a:cubicBezTo>
                  <a:pt x="85" y="65"/>
                  <a:pt x="65" y="84"/>
                  <a:pt x="43" y="84"/>
                </a:cubicBezTo>
                <a:close/>
                <a:moveTo>
                  <a:pt x="43" y="28"/>
                </a:moveTo>
                <a:cubicBezTo>
                  <a:pt x="34" y="28"/>
                  <a:pt x="29" y="33"/>
                  <a:pt x="29" y="42"/>
                </a:cubicBezTo>
                <a:cubicBezTo>
                  <a:pt x="29" y="50"/>
                  <a:pt x="35" y="56"/>
                  <a:pt x="43" y="56"/>
                </a:cubicBezTo>
                <a:cubicBezTo>
                  <a:pt x="52" y="56"/>
                  <a:pt x="57" y="50"/>
                  <a:pt x="57" y="42"/>
                </a:cubicBezTo>
                <a:cubicBezTo>
                  <a:pt x="57" y="33"/>
                  <a:pt x="51" y="28"/>
                  <a:pt x="43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509"/>
          <p:cNvSpPr/>
          <p:nvPr/>
        </p:nvSpPr>
        <p:spPr>
          <a:xfrm>
            <a:off x="6864480" y="3106800"/>
            <a:ext cx="96840" cy="115920"/>
          </a:xfrm>
          <a:custGeom>
            <a:avLst/>
            <a:gdLst/>
            <a:ahLst/>
            <a:rect l="l" t="t" r="r" b="b"/>
            <a:pathLst>
              <a:path w="142" h="170">
                <a:moveTo>
                  <a:pt x="14" y="169"/>
                </a:moveTo>
                <a:cubicBezTo>
                  <a:pt x="11" y="169"/>
                  <a:pt x="8" y="169"/>
                  <a:pt x="6" y="166"/>
                </a:cubicBezTo>
                <a:cubicBezTo>
                  <a:pt x="0" y="161"/>
                  <a:pt x="0" y="152"/>
                  <a:pt x="3" y="147"/>
                </a:cubicBezTo>
                <a:lnTo>
                  <a:pt x="116" y="5"/>
                </a:lnTo>
                <a:cubicBezTo>
                  <a:pt x="121" y="0"/>
                  <a:pt x="130" y="0"/>
                  <a:pt x="135" y="3"/>
                </a:cubicBezTo>
                <a:cubicBezTo>
                  <a:pt x="141" y="8"/>
                  <a:pt x="141" y="17"/>
                  <a:pt x="138" y="22"/>
                </a:cubicBezTo>
                <a:lnTo>
                  <a:pt x="25" y="164"/>
                </a:lnTo>
                <a:cubicBezTo>
                  <a:pt x="23" y="166"/>
                  <a:pt x="17" y="169"/>
                  <a:pt x="14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510"/>
          <p:cNvSpPr/>
          <p:nvPr/>
        </p:nvSpPr>
        <p:spPr>
          <a:xfrm>
            <a:off x="6799320" y="3049560"/>
            <a:ext cx="230040" cy="230040"/>
          </a:xfrm>
          <a:custGeom>
            <a:avLst/>
            <a:gdLst/>
            <a:ahLst/>
            <a:rect l="l" t="t" r="r" b="b"/>
            <a:pathLst>
              <a:path w="340" h="340">
                <a:moveTo>
                  <a:pt x="170" y="339"/>
                </a:moveTo>
                <a:cubicBezTo>
                  <a:pt x="76" y="339"/>
                  <a:pt x="0" y="262"/>
                  <a:pt x="0" y="169"/>
                </a:cubicBezTo>
                <a:cubicBezTo>
                  <a:pt x="0" y="75"/>
                  <a:pt x="77" y="0"/>
                  <a:pt x="170" y="0"/>
                </a:cubicBezTo>
                <a:cubicBezTo>
                  <a:pt x="264" y="0"/>
                  <a:pt x="339" y="75"/>
                  <a:pt x="339" y="169"/>
                </a:cubicBezTo>
                <a:cubicBezTo>
                  <a:pt x="339" y="262"/>
                  <a:pt x="263" y="339"/>
                  <a:pt x="170" y="339"/>
                </a:cubicBezTo>
                <a:close/>
                <a:moveTo>
                  <a:pt x="170" y="28"/>
                </a:moveTo>
                <a:cubicBezTo>
                  <a:pt x="90" y="28"/>
                  <a:pt x="28" y="89"/>
                  <a:pt x="28" y="169"/>
                </a:cubicBezTo>
                <a:cubicBezTo>
                  <a:pt x="28" y="248"/>
                  <a:pt x="91" y="311"/>
                  <a:pt x="170" y="311"/>
                </a:cubicBezTo>
                <a:cubicBezTo>
                  <a:pt x="250" y="311"/>
                  <a:pt x="311" y="248"/>
                  <a:pt x="311" y="169"/>
                </a:cubicBezTo>
                <a:cubicBezTo>
                  <a:pt x="311" y="89"/>
                  <a:pt x="249" y="28"/>
                  <a:pt x="170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511"/>
          <p:cNvSpPr/>
          <p:nvPr/>
        </p:nvSpPr>
        <p:spPr>
          <a:xfrm>
            <a:off x="7564320" y="3067200"/>
            <a:ext cx="308160" cy="60120"/>
          </a:xfrm>
          <a:custGeom>
            <a:avLst/>
            <a:gdLst/>
            <a:ahLst/>
            <a:rect l="l" t="t" r="r" b="b"/>
            <a:pathLst>
              <a:path w="452" h="86">
                <a:moveTo>
                  <a:pt x="437" y="85"/>
                </a:moveTo>
                <a:lnTo>
                  <a:pt x="14" y="85"/>
                </a:lnTo>
                <a:cubicBezTo>
                  <a:pt x="6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lnTo>
                  <a:pt x="437" y="0"/>
                </a:lnTo>
                <a:cubicBezTo>
                  <a:pt x="446" y="0"/>
                  <a:pt x="451" y="6"/>
                  <a:pt x="451" y="15"/>
                </a:cubicBezTo>
                <a:lnTo>
                  <a:pt x="451" y="71"/>
                </a:lnTo>
                <a:cubicBezTo>
                  <a:pt x="451" y="79"/>
                  <a:pt x="446" y="85"/>
                  <a:pt x="437" y="85"/>
                </a:cubicBezTo>
                <a:close/>
                <a:moveTo>
                  <a:pt x="28" y="57"/>
                </a:moveTo>
                <a:lnTo>
                  <a:pt x="423" y="57"/>
                </a:lnTo>
                <a:lnTo>
                  <a:pt x="423" y="29"/>
                </a:lnTo>
                <a:lnTo>
                  <a:pt x="28" y="29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512"/>
          <p:cNvSpPr/>
          <p:nvPr/>
        </p:nvSpPr>
        <p:spPr>
          <a:xfrm>
            <a:off x="7580160" y="3103560"/>
            <a:ext cx="268560" cy="176040"/>
          </a:xfrm>
          <a:custGeom>
            <a:avLst/>
            <a:gdLst/>
            <a:ahLst/>
            <a:rect l="l" t="t" r="r" b="b"/>
            <a:pathLst>
              <a:path w="399" h="258">
                <a:moveTo>
                  <a:pt x="328" y="257"/>
                </a:moveTo>
                <a:lnTo>
                  <a:pt x="74" y="257"/>
                </a:lnTo>
                <a:cubicBezTo>
                  <a:pt x="68" y="257"/>
                  <a:pt x="62" y="251"/>
                  <a:pt x="60" y="246"/>
                </a:cubicBezTo>
                <a:lnTo>
                  <a:pt x="3" y="20"/>
                </a:lnTo>
                <a:cubicBezTo>
                  <a:pt x="0" y="11"/>
                  <a:pt x="6" y="6"/>
                  <a:pt x="14" y="3"/>
                </a:cubicBezTo>
                <a:cubicBezTo>
                  <a:pt x="23" y="0"/>
                  <a:pt x="29" y="6"/>
                  <a:pt x="31" y="14"/>
                </a:cubicBezTo>
                <a:lnTo>
                  <a:pt x="85" y="229"/>
                </a:lnTo>
                <a:lnTo>
                  <a:pt x="316" y="229"/>
                </a:lnTo>
                <a:lnTo>
                  <a:pt x="370" y="14"/>
                </a:lnTo>
                <a:cubicBezTo>
                  <a:pt x="373" y="6"/>
                  <a:pt x="379" y="3"/>
                  <a:pt x="387" y="3"/>
                </a:cubicBezTo>
                <a:cubicBezTo>
                  <a:pt x="395" y="6"/>
                  <a:pt x="398" y="11"/>
                  <a:pt x="398" y="20"/>
                </a:cubicBezTo>
                <a:lnTo>
                  <a:pt x="342" y="246"/>
                </a:lnTo>
                <a:cubicBezTo>
                  <a:pt x="339" y="251"/>
                  <a:pt x="333" y="257"/>
                  <a:pt x="328" y="2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513"/>
          <p:cNvSpPr/>
          <p:nvPr/>
        </p:nvSpPr>
        <p:spPr>
          <a:xfrm>
            <a:off x="770904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5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2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514"/>
          <p:cNvSpPr/>
          <p:nvPr/>
        </p:nvSpPr>
        <p:spPr>
          <a:xfrm>
            <a:off x="7661160" y="3164040"/>
            <a:ext cx="2088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6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3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15"/>
          <p:cNvSpPr/>
          <p:nvPr/>
        </p:nvSpPr>
        <p:spPr>
          <a:xfrm>
            <a:off x="775656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6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3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16"/>
          <p:cNvSpPr/>
          <p:nvPr/>
        </p:nvSpPr>
        <p:spPr>
          <a:xfrm>
            <a:off x="7601040" y="301140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99" y="113"/>
                </a:moveTo>
                <a:cubicBezTo>
                  <a:pt x="91" y="113"/>
                  <a:pt x="85" y="107"/>
                  <a:pt x="85" y="99"/>
                </a:cubicBezTo>
                <a:lnTo>
                  <a:pt x="85" y="28"/>
                </a:lnTo>
                <a:lnTo>
                  <a:pt x="29" y="28"/>
                </a:lnTo>
                <a:lnTo>
                  <a:pt x="29" y="99"/>
                </a:lnTo>
                <a:cubicBezTo>
                  <a:pt x="29" y="107"/>
                  <a:pt x="24" y="113"/>
                  <a:pt x="15" y="113"/>
                </a:cubicBezTo>
                <a:cubicBezTo>
                  <a:pt x="7" y="113"/>
                  <a:pt x="0" y="107"/>
                  <a:pt x="0" y="99"/>
                </a:cubicBezTo>
                <a:lnTo>
                  <a:pt x="0" y="14"/>
                </a:lnTo>
                <a:cubicBezTo>
                  <a:pt x="0" y="5"/>
                  <a:pt x="6" y="0"/>
                  <a:pt x="15" y="0"/>
                </a:cubicBezTo>
                <a:lnTo>
                  <a:pt x="99" y="0"/>
                </a:lnTo>
                <a:cubicBezTo>
                  <a:pt x="108" y="0"/>
                  <a:pt x="113" y="5"/>
                  <a:pt x="113" y="14"/>
                </a:cubicBezTo>
                <a:lnTo>
                  <a:pt x="113" y="99"/>
                </a:lnTo>
                <a:cubicBezTo>
                  <a:pt x="113" y="107"/>
                  <a:pt x="108" y="113"/>
                  <a:pt x="99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17"/>
          <p:cNvSpPr/>
          <p:nvPr/>
        </p:nvSpPr>
        <p:spPr>
          <a:xfrm>
            <a:off x="7736040" y="2992320"/>
            <a:ext cx="77760" cy="96840"/>
          </a:xfrm>
          <a:custGeom>
            <a:avLst/>
            <a:gdLst/>
            <a:ahLst/>
            <a:rect l="l" t="t" r="r" b="b"/>
            <a:pathLst>
              <a:path w="114" h="142">
                <a:moveTo>
                  <a:pt x="99" y="141"/>
                </a:moveTo>
                <a:cubicBezTo>
                  <a:pt x="90" y="141"/>
                  <a:pt x="85" y="135"/>
                  <a:pt x="85" y="127"/>
                </a:cubicBezTo>
                <a:lnTo>
                  <a:pt x="85" y="28"/>
                </a:lnTo>
                <a:lnTo>
                  <a:pt x="28" y="28"/>
                </a:lnTo>
                <a:lnTo>
                  <a:pt x="28" y="127"/>
                </a:lnTo>
                <a:cubicBezTo>
                  <a:pt x="28" y="135"/>
                  <a:pt x="23" y="141"/>
                  <a:pt x="14" y="141"/>
                </a:cubicBezTo>
                <a:cubicBezTo>
                  <a:pt x="6" y="141"/>
                  <a:pt x="0" y="135"/>
                  <a:pt x="0" y="127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5"/>
                  <a:pt x="113" y="14"/>
                </a:cubicBezTo>
                <a:lnTo>
                  <a:pt x="113" y="127"/>
                </a:lnTo>
                <a:cubicBezTo>
                  <a:pt x="113" y="135"/>
                  <a:pt x="107" y="141"/>
                  <a:pt x="99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18"/>
          <p:cNvSpPr/>
          <p:nvPr/>
        </p:nvSpPr>
        <p:spPr>
          <a:xfrm>
            <a:off x="7661160" y="2971800"/>
            <a:ext cx="95400" cy="117360"/>
          </a:xfrm>
          <a:custGeom>
            <a:avLst/>
            <a:gdLst/>
            <a:ahLst/>
            <a:rect l="l" t="t" r="r" b="b"/>
            <a:pathLst>
              <a:path w="142" h="171">
                <a:moveTo>
                  <a:pt x="127" y="170"/>
                </a:moveTo>
                <a:cubicBezTo>
                  <a:pt x="119" y="170"/>
                  <a:pt x="113" y="164"/>
                  <a:pt x="113" y="156"/>
                </a:cubicBezTo>
                <a:lnTo>
                  <a:pt x="113" y="29"/>
                </a:lnTo>
                <a:lnTo>
                  <a:pt x="28" y="29"/>
                </a:lnTo>
                <a:lnTo>
                  <a:pt x="28" y="156"/>
                </a:lnTo>
                <a:cubicBezTo>
                  <a:pt x="28" y="164"/>
                  <a:pt x="23" y="170"/>
                  <a:pt x="14" y="170"/>
                </a:cubicBezTo>
                <a:cubicBezTo>
                  <a:pt x="6" y="170"/>
                  <a:pt x="0" y="164"/>
                  <a:pt x="0" y="156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6"/>
                  <a:pt x="141" y="14"/>
                </a:cubicBezTo>
                <a:lnTo>
                  <a:pt x="141" y="156"/>
                </a:lnTo>
                <a:cubicBezTo>
                  <a:pt x="141" y="164"/>
                  <a:pt x="136" y="170"/>
                  <a:pt x="127" y="1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19"/>
          <p:cNvSpPr/>
          <p:nvPr/>
        </p:nvSpPr>
        <p:spPr>
          <a:xfrm>
            <a:off x="8369280" y="3067200"/>
            <a:ext cx="39600" cy="96840"/>
          </a:xfrm>
          <a:custGeom>
            <a:avLst/>
            <a:gdLst/>
            <a:ahLst/>
            <a:rect l="l" t="t" r="r" b="b"/>
            <a:pathLst>
              <a:path w="58" h="142">
                <a:moveTo>
                  <a:pt x="28" y="141"/>
                </a:moveTo>
                <a:lnTo>
                  <a:pt x="14" y="141"/>
                </a:lnTo>
                <a:cubicBezTo>
                  <a:pt x="6" y="141"/>
                  <a:pt x="0" y="135"/>
                  <a:pt x="0" y="127"/>
                </a:cubicBezTo>
                <a:cubicBezTo>
                  <a:pt x="0" y="118"/>
                  <a:pt x="6" y="113"/>
                  <a:pt x="14" y="113"/>
                </a:cubicBezTo>
                <a:lnTo>
                  <a:pt x="28" y="113"/>
                </a:lnTo>
                <a:lnTo>
                  <a:pt x="28" y="85"/>
                </a:lnTo>
                <a:cubicBezTo>
                  <a:pt x="11" y="85"/>
                  <a:pt x="0" y="74"/>
                  <a:pt x="0" y="57"/>
                </a:cubicBezTo>
                <a:lnTo>
                  <a:pt x="0" y="29"/>
                </a:lnTo>
                <a:cubicBezTo>
                  <a:pt x="0" y="12"/>
                  <a:pt x="11" y="0"/>
                  <a:pt x="28" y="0"/>
                </a:cubicBezTo>
                <a:lnTo>
                  <a:pt x="43" y="0"/>
                </a:lnTo>
                <a:cubicBezTo>
                  <a:pt x="51" y="0"/>
                  <a:pt x="57" y="6"/>
                  <a:pt x="57" y="15"/>
                </a:cubicBezTo>
                <a:cubicBezTo>
                  <a:pt x="57" y="23"/>
                  <a:pt x="51" y="29"/>
                  <a:pt x="43" y="29"/>
                </a:cubicBezTo>
                <a:lnTo>
                  <a:pt x="28" y="29"/>
                </a:lnTo>
                <a:lnTo>
                  <a:pt x="28" y="57"/>
                </a:lnTo>
                <a:cubicBezTo>
                  <a:pt x="45" y="57"/>
                  <a:pt x="57" y="68"/>
                  <a:pt x="57" y="85"/>
                </a:cubicBezTo>
                <a:lnTo>
                  <a:pt x="57" y="113"/>
                </a:lnTo>
                <a:cubicBezTo>
                  <a:pt x="57" y="130"/>
                  <a:pt x="45" y="141"/>
                  <a:pt x="28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20"/>
          <p:cNvSpPr/>
          <p:nvPr/>
        </p:nvSpPr>
        <p:spPr>
          <a:xfrm>
            <a:off x="8501040" y="3067200"/>
            <a:ext cx="39600" cy="96840"/>
          </a:xfrm>
          <a:custGeom>
            <a:avLst/>
            <a:gdLst/>
            <a:ahLst/>
            <a:rect l="l" t="t" r="r" b="b"/>
            <a:pathLst>
              <a:path w="57" h="142">
                <a:moveTo>
                  <a:pt x="42" y="141"/>
                </a:moveTo>
                <a:lnTo>
                  <a:pt x="14" y="141"/>
                </a:lnTo>
                <a:cubicBezTo>
                  <a:pt x="5" y="141"/>
                  <a:pt x="0" y="136"/>
                  <a:pt x="0" y="127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113"/>
                </a:lnTo>
                <a:lnTo>
                  <a:pt x="42" y="113"/>
                </a:lnTo>
                <a:cubicBezTo>
                  <a:pt x="51" y="113"/>
                  <a:pt x="56" y="118"/>
                  <a:pt x="56" y="127"/>
                </a:cubicBezTo>
                <a:cubicBezTo>
                  <a:pt x="56" y="135"/>
                  <a:pt x="51" y="141"/>
                  <a:pt x="42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21"/>
          <p:cNvSpPr/>
          <p:nvPr/>
        </p:nvSpPr>
        <p:spPr>
          <a:xfrm>
            <a:off x="8558280" y="3067200"/>
            <a:ext cx="38160" cy="96840"/>
          </a:xfrm>
          <a:custGeom>
            <a:avLst/>
            <a:gdLst/>
            <a:ahLst/>
            <a:rect l="l" t="t" r="r" b="b"/>
            <a:pathLst>
              <a:path w="58" h="142">
                <a:moveTo>
                  <a:pt x="43" y="141"/>
                </a:moveTo>
                <a:lnTo>
                  <a:pt x="14" y="141"/>
                </a:lnTo>
                <a:cubicBezTo>
                  <a:pt x="6" y="141"/>
                  <a:pt x="0" y="136"/>
                  <a:pt x="0" y="127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9" y="6"/>
                  <a:pt x="29" y="15"/>
                </a:cubicBezTo>
                <a:lnTo>
                  <a:pt x="29" y="113"/>
                </a:lnTo>
                <a:lnTo>
                  <a:pt x="43" y="113"/>
                </a:lnTo>
                <a:cubicBezTo>
                  <a:pt x="51" y="113"/>
                  <a:pt x="57" y="118"/>
                  <a:pt x="57" y="127"/>
                </a:cubicBezTo>
                <a:cubicBezTo>
                  <a:pt x="57" y="135"/>
                  <a:pt x="51" y="141"/>
                  <a:pt x="43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22"/>
          <p:cNvSpPr/>
          <p:nvPr/>
        </p:nvSpPr>
        <p:spPr>
          <a:xfrm>
            <a:off x="8558280" y="3067200"/>
            <a:ext cx="38160" cy="21960"/>
          </a:xfrm>
          <a:custGeom>
            <a:avLst/>
            <a:gdLst/>
            <a:ahLst/>
            <a:rect l="l" t="t" r="r" b="b"/>
            <a:pathLst>
              <a:path w="58" h="30">
                <a:moveTo>
                  <a:pt x="43" y="29"/>
                </a:moveTo>
                <a:lnTo>
                  <a:pt x="14" y="29"/>
                </a:lnTo>
                <a:cubicBezTo>
                  <a:pt x="6" y="29"/>
                  <a:pt x="0" y="23"/>
                  <a:pt x="0" y="15"/>
                </a:cubicBezTo>
                <a:cubicBezTo>
                  <a:pt x="0" y="6"/>
                  <a:pt x="6" y="0"/>
                  <a:pt x="14" y="0"/>
                </a:cubicBezTo>
                <a:lnTo>
                  <a:pt x="43" y="0"/>
                </a:lnTo>
                <a:cubicBezTo>
                  <a:pt x="51" y="0"/>
                  <a:pt x="57" y="6"/>
                  <a:pt x="57" y="15"/>
                </a:cubicBezTo>
                <a:cubicBezTo>
                  <a:pt x="57" y="23"/>
                  <a:pt x="51" y="29"/>
                  <a:pt x="43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523"/>
          <p:cNvSpPr/>
          <p:nvPr/>
        </p:nvSpPr>
        <p:spPr>
          <a:xfrm>
            <a:off x="8558280" y="3106800"/>
            <a:ext cx="38160" cy="20520"/>
          </a:xfrm>
          <a:custGeom>
            <a:avLst/>
            <a:gdLst/>
            <a:ahLst/>
            <a:rect l="l" t="t" r="r" b="b"/>
            <a:pathLst>
              <a:path w="58" h="29">
                <a:moveTo>
                  <a:pt x="43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43" y="0"/>
                </a:lnTo>
                <a:cubicBezTo>
                  <a:pt x="51" y="0"/>
                  <a:pt x="57" y="5"/>
                  <a:pt x="57" y="14"/>
                </a:cubicBezTo>
                <a:cubicBezTo>
                  <a:pt x="57" y="22"/>
                  <a:pt x="51" y="28"/>
                  <a:pt x="43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524"/>
          <p:cNvSpPr/>
          <p:nvPr/>
        </p:nvSpPr>
        <p:spPr>
          <a:xfrm>
            <a:off x="8426520" y="3067200"/>
            <a:ext cx="60120" cy="96840"/>
          </a:xfrm>
          <a:custGeom>
            <a:avLst/>
            <a:gdLst/>
            <a:ahLst/>
            <a:rect l="l" t="t" r="r" b="b"/>
            <a:pathLst>
              <a:path w="88" h="142">
                <a:moveTo>
                  <a:pt x="70" y="141"/>
                </a:moveTo>
                <a:cubicBezTo>
                  <a:pt x="65" y="141"/>
                  <a:pt x="59" y="136"/>
                  <a:pt x="56" y="130"/>
                </a:cubicBezTo>
                <a:lnTo>
                  <a:pt x="42" y="71"/>
                </a:lnTo>
                <a:lnTo>
                  <a:pt x="28" y="130"/>
                </a:lnTo>
                <a:cubicBezTo>
                  <a:pt x="25" y="139"/>
                  <a:pt x="20" y="141"/>
                  <a:pt x="11" y="141"/>
                </a:cubicBezTo>
                <a:cubicBezTo>
                  <a:pt x="3" y="139"/>
                  <a:pt x="0" y="133"/>
                  <a:pt x="0" y="125"/>
                </a:cubicBezTo>
                <a:lnTo>
                  <a:pt x="28" y="12"/>
                </a:lnTo>
                <a:cubicBezTo>
                  <a:pt x="31" y="0"/>
                  <a:pt x="53" y="0"/>
                  <a:pt x="56" y="12"/>
                </a:cubicBezTo>
                <a:lnTo>
                  <a:pt x="85" y="125"/>
                </a:lnTo>
                <a:cubicBezTo>
                  <a:pt x="87" y="133"/>
                  <a:pt x="82" y="139"/>
                  <a:pt x="73" y="141"/>
                </a:cubicBezTo>
                <a:lnTo>
                  <a:pt x="70" y="1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525"/>
          <p:cNvSpPr/>
          <p:nvPr/>
        </p:nvSpPr>
        <p:spPr>
          <a:xfrm>
            <a:off x="8429760" y="3124080"/>
            <a:ext cx="47520" cy="20880"/>
          </a:xfrm>
          <a:custGeom>
            <a:avLst/>
            <a:gdLst/>
            <a:ahLst/>
            <a:rect l="l" t="t" r="r" b="b"/>
            <a:pathLst>
              <a:path w="72" h="29">
                <a:moveTo>
                  <a:pt x="57" y="28"/>
                </a:moveTo>
                <a:lnTo>
                  <a:pt x="15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5" y="0"/>
                </a:cubicBezTo>
                <a:lnTo>
                  <a:pt x="57" y="0"/>
                </a:lnTo>
                <a:cubicBezTo>
                  <a:pt x="65" y="0"/>
                  <a:pt x="71" y="5"/>
                  <a:pt x="71" y="14"/>
                </a:cubicBezTo>
                <a:cubicBezTo>
                  <a:pt x="71" y="22"/>
                  <a:pt x="65" y="28"/>
                  <a:pt x="5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526"/>
          <p:cNvSpPr/>
          <p:nvPr/>
        </p:nvSpPr>
        <p:spPr>
          <a:xfrm>
            <a:off x="8331120" y="3011400"/>
            <a:ext cx="308160" cy="211320"/>
          </a:xfrm>
          <a:custGeom>
            <a:avLst/>
            <a:gdLst/>
            <a:ahLst/>
            <a:rect l="l" t="t" r="r" b="b"/>
            <a:pathLst>
              <a:path w="452" h="311">
                <a:moveTo>
                  <a:pt x="423" y="310"/>
                </a:moveTo>
                <a:lnTo>
                  <a:pt x="28" y="310"/>
                </a:lnTo>
                <a:cubicBezTo>
                  <a:pt x="11" y="310"/>
                  <a:pt x="0" y="299"/>
                  <a:pt x="0" y="282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1" y="11"/>
                  <a:pt x="451" y="28"/>
                </a:cubicBezTo>
                <a:lnTo>
                  <a:pt x="451" y="282"/>
                </a:lnTo>
                <a:cubicBezTo>
                  <a:pt x="451" y="299"/>
                  <a:pt x="440" y="310"/>
                  <a:pt x="423" y="310"/>
                </a:cubicBezTo>
                <a:close/>
                <a:moveTo>
                  <a:pt x="28" y="28"/>
                </a:moveTo>
                <a:lnTo>
                  <a:pt x="28" y="282"/>
                </a:lnTo>
                <a:lnTo>
                  <a:pt x="423" y="282"/>
                </a:lnTo>
                <a:lnTo>
                  <a:pt x="423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527"/>
          <p:cNvSpPr/>
          <p:nvPr/>
        </p:nvSpPr>
        <p:spPr>
          <a:xfrm>
            <a:off x="1438200" y="4581360"/>
            <a:ext cx="308160" cy="230400"/>
          </a:xfrm>
          <a:custGeom>
            <a:avLst/>
            <a:gdLst/>
            <a:ahLst/>
            <a:rect l="l" t="t" r="r" b="b"/>
            <a:pathLst>
              <a:path w="455" h="339">
                <a:moveTo>
                  <a:pt x="14" y="338"/>
                </a:moveTo>
                <a:cubicBezTo>
                  <a:pt x="11" y="338"/>
                  <a:pt x="8" y="338"/>
                  <a:pt x="5" y="336"/>
                </a:cubicBezTo>
                <a:cubicBezTo>
                  <a:pt x="3" y="333"/>
                  <a:pt x="0" y="330"/>
                  <a:pt x="0" y="324"/>
                </a:cubicBezTo>
                <a:lnTo>
                  <a:pt x="0" y="70"/>
                </a:lnTo>
                <a:cubicBezTo>
                  <a:pt x="0" y="65"/>
                  <a:pt x="3" y="59"/>
                  <a:pt x="8" y="56"/>
                </a:cubicBezTo>
                <a:lnTo>
                  <a:pt x="149" y="0"/>
                </a:lnTo>
                <a:cubicBezTo>
                  <a:pt x="152" y="0"/>
                  <a:pt x="158" y="0"/>
                  <a:pt x="161" y="0"/>
                </a:cubicBezTo>
                <a:lnTo>
                  <a:pt x="245" y="34"/>
                </a:lnTo>
                <a:cubicBezTo>
                  <a:pt x="254" y="36"/>
                  <a:pt x="257" y="45"/>
                  <a:pt x="254" y="51"/>
                </a:cubicBezTo>
                <a:cubicBezTo>
                  <a:pt x="251" y="59"/>
                  <a:pt x="242" y="62"/>
                  <a:pt x="237" y="59"/>
                </a:cubicBezTo>
                <a:lnTo>
                  <a:pt x="158" y="28"/>
                </a:lnTo>
                <a:lnTo>
                  <a:pt x="31" y="79"/>
                </a:lnTo>
                <a:lnTo>
                  <a:pt x="31" y="302"/>
                </a:lnTo>
                <a:lnTo>
                  <a:pt x="152" y="254"/>
                </a:lnTo>
                <a:cubicBezTo>
                  <a:pt x="155" y="254"/>
                  <a:pt x="161" y="254"/>
                  <a:pt x="163" y="254"/>
                </a:cubicBezTo>
                <a:lnTo>
                  <a:pt x="299" y="307"/>
                </a:lnTo>
                <a:lnTo>
                  <a:pt x="426" y="257"/>
                </a:lnTo>
                <a:lnTo>
                  <a:pt x="426" y="96"/>
                </a:lnTo>
                <a:cubicBezTo>
                  <a:pt x="426" y="87"/>
                  <a:pt x="432" y="82"/>
                  <a:pt x="440" y="82"/>
                </a:cubicBezTo>
                <a:cubicBezTo>
                  <a:pt x="448" y="82"/>
                  <a:pt x="454" y="87"/>
                  <a:pt x="454" y="96"/>
                </a:cubicBezTo>
                <a:lnTo>
                  <a:pt x="454" y="265"/>
                </a:lnTo>
                <a:cubicBezTo>
                  <a:pt x="454" y="271"/>
                  <a:pt x="451" y="276"/>
                  <a:pt x="446" y="279"/>
                </a:cubicBezTo>
                <a:lnTo>
                  <a:pt x="305" y="336"/>
                </a:lnTo>
                <a:cubicBezTo>
                  <a:pt x="302" y="336"/>
                  <a:pt x="296" y="336"/>
                  <a:pt x="293" y="336"/>
                </a:cubicBezTo>
                <a:lnTo>
                  <a:pt x="158" y="282"/>
                </a:lnTo>
                <a:lnTo>
                  <a:pt x="22" y="336"/>
                </a:lnTo>
                <a:cubicBezTo>
                  <a:pt x="17" y="338"/>
                  <a:pt x="17" y="338"/>
                  <a:pt x="14" y="33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528"/>
          <p:cNvSpPr/>
          <p:nvPr/>
        </p:nvSpPr>
        <p:spPr>
          <a:xfrm>
            <a:off x="1535040" y="4581360"/>
            <a:ext cx="20880" cy="190800"/>
          </a:xfrm>
          <a:custGeom>
            <a:avLst/>
            <a:gdLst/>
            <a:ahLst/>
            <a:rect l="l" t="t" r="r" b="b"/>
            <a:pathLst>
              <a:path w="29" h="283">
                <a:moveTo>
                  <a:pt x="14" y="282"/>
                </a:moveTo>
                <a:cubicBezTo>
                  <a:pt x="5" y="282"/>
                  <a:pt x="0" y="276"/>
                  <a:pt x="0" y="268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268"/>
                </a:lnTo>
                <a:cubicBezTo>
                  <a:pt x="28" y="276"/>
                  <a:pt x="22" y="282"/>
                  <a:pt x="14" y="28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529"/>
          <p:cNvSpPr/>
          <p:nvPr/>
        </p:nvSpPr>
        <p:spPr>
          <a:xfrm>
            <a:off x="1630440" y="4676760"/>
            <a:ext cx="20520" cy="135000"/>
          </a:xfrm>
          <a:custGeom>
            <a:avLst/>
            <a:gdLst/>
            <a:ahLst/>
            <a:rect l="l" t="t" r="r" b="b"/>
            <a:pathLst>
              <a:path w="29" h="198">
                <a:moveTo>
                  <a:pt x="14" y="197"/>
                </a:move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183"/>
                </a:lnTo>
                <a:cubicBezTo>
                  <a:pt x="28" y="192"/>
                  <a:pt x="23" y="197"/>
                  <a:pt x="14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530"/>
          <p:cNvSpPr/>
          <p:nvPr/>
        </p:nvSpPr>
        <p:spPr>
          <a:xfrm>
            <a:off x="1650960" y="4541760"/>
            <a:ext cx="6048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42" y="85"/>
                </a:moveTo>
                <a:cubicBezTo>
                  <a:pt x="20" y="85"/>
                  <a:pt x="0" y="65"/>
                  <a:pt x="0" y="43"/>
                </a:cubicBezTo>
                <a:cubicBezTo>
                  <a:pt x="0" y="20"/>
                  <a:pt x="19" y="0"/>
                  <a:pt x="42" y="0"/>
                </a:cubicBezTo>
                <a:cubicBezTo>
                  <a:pt x="64" y="0"/>
                  <a:pt x="85" y="20"/>
                  <a:pt x="85" y="43"/>
                </a:cubicBezTo>
                <a:cubicBezTo>
                  <a:pt x="85" y="65"/>
                  <a:pt x="65" y="85"/>
                  <a:pt x="42" y="85"/>
                </a:cubicBezTo>
                <a:close/>
                <a:moveTo>
                  <a:pt x="42" y="29"/>
                </a:moveTo>
                <a:cubicBezTo>
                  <a:pt x="34" y="29"/>
                  <a:pt x="28" y="34"/>
                  <a:pt x="28" y="43"/>
                </a:cubicBezTo>
                <a:cubicBezTo>
                  <a:pt x="28" y="51"/>
                  <a:pt x="33" y="57"/>
                  <a:pt x="42" y="57"/>
                </a:cubicBezTo>
                <a:cubicBezTo>
                  <a:pt x="50" y="57"/>
                  <a:pt x="57" y="51"/>
                  <a:pt x="57" y="43"/>
                </a:cubicBezTo>
                <a:cubicBezTo>
                  <a:pt x="57" y="34"/>
                  <a:pt x="51" y="29"/>
                  <a:pt x="42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531"/>
          <p:cNvSpPr/>
          <p:nvPr/>
        </p:nvSpPr>
        <p:spPr>
          <a:xfrm>
            <a:off x="1612800" y="4503600"/>
            <a:ext cx="133560" cy="173160"/>
          </a:xfrm>
          <a:custGeom>
            <a:avLst/>
            <a:gdLst/>
            <a:ahLst/>
            <a:rect l="l" t="t" r="r" b="b"/>
            <a:pathLst>
              <a:path w="198" h="255">
                <a:moveTo>
                  <a:pt x="98" y="254"/>
                </a:moveTo>
                <a:cubicBezTo>
                  <a:pt x="96" y="254"/>
                  <a:pt x="90" y="251"/>
                  <a:pt x="87" y="248"/>
                </a:cubicBezTo>
                <a:cubicBezTo>
                  <a:pt x="79" y="237"/>
                  <a:pt x="0" y="149"/>
                  <a:pt x="0" y="99"/>
                </a:cubicBezTo>
                <a:cubicBezTo>
                  <a:pt x="0" y="45"/>
                  <a:pt x="44" y="0"/>
                  <a:pt x="98" y="0"/>
                </a:cubicBezTo>
                <a:cubicBezTo>
                  <a:pt x="151" y="0"/>
                  <a:pt x="197" y="45"/>
                  <a:pt x="197" y="99"/>
                </a:cubicBezTo>
                <a:cubicBezTo>
                  <a:pt x="197" y="149"/>
                  <a:pt x="118" y="240"/>
                  <a:pt x="110" y="248"/>
                </a:cubicBezTo>
                <a:cubicBezTo>
                  <a:pt x="107" y="251"/>
                  <a:pt x="101" y="254"/>
                  <a:pt x="98" y="254"/>
                </a:cubicBezTo>
                <a:close/>
                <a:moveTo>
                  <a:pt x="98" y="28"/>
                </a:moveTo>
                <a:cubicBezTo>
                  <a:pt x="59" y="28"/>
                  <a:pt x="28" y="59"/>
                  <a:pt x="28" y="99"/>
                </a:cubicBezTo>
                <a:cubicBezTo>
                  <a:pt x="28" y="127"/>
                  <a:pt x="67" y="180"/>
                  <a:pt x="98" y="217"/>
                </a:cubicBezTo>
                <a:cubicBezTo>
                  <a:pt x="130" y="180"/>
                  <a:pt x="169" y="124"/>
                  <a:pt x="169" y="99"/>
                </a:cubicBezTo>
                <a:cubicBezTo>
                  <a:pt x="169" y="59"/>
                  <a:pt x="138" y="28"/>
                  <a:pt x="98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532"/>
          <p:cNvSpPr/>
          <p:nvPr/>
        </p:nvSpPr>
        <p:spPr>
          <a:xfrm>
            <a:off x="2205000" y="4500720"/>
            <a:ext cx="308160" cy="233280"/>
          </a:xfrm>
          <a:custGeom>
            <a:avLst/>
            <a:gdLst/>
            <a:ahLst/>
            <a:rect l="l" t="t" r="r" b="b"/>
            <a:pathLst>
              <a:path w="452" h="342">
                <a:moveTo>
                  <a:pt x="14" y="341"/>
                </a:moveTo>
                <a:cubicBezTo>
                  <a:pt x="11" y="341"/>
                  <a:pt x="8" y="341"/>
                  <a:pt x="5" y="339"/>
                </a:cubicBezTo>
                <a:cubicBezTo>
                  <a:pt x="2" y="336"/>
                  <a:pt x="0" y="333"/>
                  <a:pt x="0" y="327"/>
                </a:cubicBezTo>
                <a:lnTo>
                  <a:pt x="0" y="73"/>
                </a:lnTo>
                <a:cubicBezTo>
                  <a:pt x="0" y="68"/>
                  <a:pt x="2" y="62"/>
                  <a:pt x="8" y="59"/>
                </a:cubicBezTo>
                <a:lnTo>
                  <a:pt x="149" y="3"/>
                </a:lnTo>
                <a:cubicBezTo>
                  <a:pt x="152" y="3"/>
                  <a:pt x="158" y="3"/>
                  <a:pt x="160" y="3"/>
                </a:cubicBezTo>
                <a:lnTo>
                  <a:pt x="296" y="56"/>
                </a:lnTo>
                <a:lnTo>
                  <a:pt x="431" y="3"/>
                </a:lnTo>
                <a:cubicBezTo>
                  <a:pt x="437" y="0"/>
                  <a:pt x="440" y="3"/>
                  <a:pt x="445" y="6"/>
                </a:cubicBezTo>
                <a:cubicBezTo>
                  <a:pt x="448" y="8"/>
                  <a:pt x="451" y="11"/>
                  <a:pt x="451" y="17"/>
                </a:cubicBezTo>
                <a:lnTo>
                  <a:pt x="451" y="271"/>
                </a:lnTo>
                <a:cubicBezTo>
                  <a:pt x="451" y="279"/>
                  <a:pt x="445" y="285"/>
                  <a:pt x="437" y="285"/>
                </a:cubicBezTo>
                <a:cubicBezTo>
                  <a:pt x="428" y="285"/>
                  <a:pt x="423" y="279"/>
                  <a:pt x="423" y="271"/>
                </a:cubicBezTo>
                <a:lnTo>
                  <a:pt x="423" y="37"/>
                </a:lnTo>
                <a:lnTo>
                  <a:pt x="301" y="85"/>
                </a:lnTo>
                <a:cubicBezTo>
                  <a:pt x="299" y="85"/>
                  <a:pt x="293" y="85"/>
                  <a:pt x="290" y="85"/>
                </a:cubicBezTo>
                <a:lnTo>
                  <a:pt x="155" y="31"/>
                </a:lnTo>
                <a:lnTo>
                  <a:pt x="28" y="82"/>
                </a:lnTo>
                <a:lnTo>
                  <a:pt x="28" y="305"/>
                </a:lnTo>
                <a:lnTo>
                  <a:pt x="95" y="279"/>
                </a:lnTo>
                <a:cubicBezTo>
                  <a:pt x="104" y="277"/>
                  <a:pt x="109" y="279"/>
                  <a:pt x="112" y="288"/>
                </a:cubicBezTo>
                <a:cubicBezTo>
                  <a:pt x="114" y="296"/>
                  <a:pt x="112" y="302"/>
                  <a:pt x="104" y="305"/>
                </a:cubicBezTo>
                <a:lnTo>
                  <a:pt x="16" y="339"/>
                </a:lnTo>
                <a:cubicBezTo>
                  <a:pt x="16" y="341"/>
                  <a:pt x="16" y="341"/>
                  <a:pt x="14" y="3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533"/>
          <p:cNvSpPr/>
          <p:nvPr/>
        </p:nvSpPr>
        <p:spPr>
          <a:xfrm>
            <a:off x="2300400" y="4503600"/>
            <a:ext cx="20520" cy="104760"/>
          </a:xfrm>
          <a:custGeom>
            <a:avLst/>
            <a:gdLst/>
            <a:ahLst/>
            <a:rect l="l" t="t" r="r" b="b"/>
            <a:pathLst>
              <a:path w="29" h="156">
                <a:moveTo>
                  <a:pt x="14" y="155"/>
                </a:moveTo>
                <a:cubicBezTo>
                  <a:pt x="5" y="155"/>
                  <a:pt x="0" y="149"/>
                  <a:pt x="0" y="141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141"/>
                </a:lnTo>
                <a:cubicBezTo>
                  <a:pt x="28" y="149"/>
                  <a:pt x="22" y="155"/>
                  <a:pt x="14" y="15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534"/>
          <p:cNvSpPr/>
          <p:nvPr/>
        </p:nvSpPr>
        <p:spPr>
          <a:xfrm>
            <a:off x="2395440" y="4541760"/>
            <a:ext cx="20880" cy="42840"/>
          </a:xfrm>
          <a:custGeom>
            <a:avLst/>
            <a:gdLst/>
            <a:ahLst/>
            <a:rect l="l" t="t" r="r" b="b"/>
            <a:pathLst>
              <a:path w="29" h="61">
                <a:moveTo>
                  <a:pt x="14" y="60"/>
                </a:moveTo>
                <a:cubicBezTo>
                  <a:pt x="5" y="60"/>
                  <a:pt x="0" y="54"/>
                  <a:pt x="0" y="45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45"/>
                </a:lnTo>
                <a:cubicBezTo>
                  <a:pt x="28" y="54"/>
                  <a:pt x="22" y="60"/>
                  <a:pt x="14" y="6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535"/>
          <p:cNvSpPr/>
          <p:nvPr/>
        </p:nvSpPr>
        <p:spPr>
          <a:xfrm>
            <a:off x="2428920" y="4727520"/>
            <a:ext cx="84240" cy="81000"/>
          </a:xfrm>
          <a:custGeom>
            <a:avLst/>
            <a:gdLst/>
            <a:ahLst/>
            <a:rect l="l" t="t" r="r" b="b"/>
            <a:pathLst>
              <a:path w="123" h="120">
                <a:moveTo>
                  <a:pt x="108" y="119"/>
                </a:moveTo>
                <a:cubicBezTo>
                  <a:pt x="105" y="119"/>
                  <a:pt x="99" y="119"/>
                  <a:pt x="97" y="117"/>
                </a:cubicBezTo>
                <a:lnTo>
                  <a:pt x="6" y="26"/>
                </a:lnTo>
                <a:cubicBezTo>
                  <a:pt x="1" y="21"/>
                  <a:pt x="0" y="11"/>
                  <a:pt x="6" y="6"/>
                </a:cubicBezTo>
                <a:cubicBezTo>
                  <a:pt x="11" y="0"/>
                  <a:pt x="20" y="1"/>
                  <a:pt x="26" y="6"/>
                </a:cubicBezTo>
                <a:lnTo>
                  <a:pt x="116" y="97"/>
                </a:lnTo>
                <a:cubicBezTo>
                  <a:pt x="122" y="102"/>
                  <a:pt x="122" y="111"/>
                  <a:pt x="116" y="117"/>
                </a:cubicBezTo>
                <a:cubicBezTo>
                  <a:pt x="116" y="119"/>
                  <a:pt x="111" y="119"/>
                  <a:pt x="108" y="11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536"/>
          <p:cNvSpPr/>
          <p:nvPr/>
        </p:nvSpPr>
        <p:spPr>
          <a:xfrm>
            <a:off x="2300400" y="4599000"/>
            <a:ext cx="172800" cy="17316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127" y="254"/>
                </a:moveTo>
                <a:cubicBezTo>
                  <a:pt x="56" y="254"/>
                  <a:pt x="0" y="197"/>
                  <a:pt x="0" y="127"/>
                </a:cubicBezTo>
                <a:cubicBezTo>
                  <a:pt x="0" y="56"/>
                  <a:pt x="56" y="0"/>
                  <a:pt x="127" y="0"/>
                </a:cubicBezTo>
                <a:cubicBezTo>
                  <a:pt x="197" y="0"/>
                  <a:pt x="254" y="56"/>
                  <a:pt x="254" y="127"/>
                </a:cubicBezTo>
                <a:cubicBezTo>
                  <a:pt x="254" y="197"/>
                  <a:pt x="197" y="254"/>
                  <a:pt x="127" y="254"/>
                </a:cubicBezTo>
                <a:close/>
                <a:moveTo>
                  <a:pt x="127" y="28"/>
                </a:moveTo>
                <a:cubicBezTo>
                  <a:pt x="73" y="28"/>
                  <a:pt x="28" y="73"/>
                  <a:pt x="28" y="127"/>
                </a:cubicBezTo>
                <a:cubicBezTo>
                  <a:pt x="28" y="181"/>
                  <a:pt x="73" y="226"/>
                  <a:pt x="127" y="226"/>
                </a:cubicBezTo>
                <a:cubicBezTo>
                  <a:pt x="180" y="226"/>
                  <a:pt x="225" y="181"/>
                  <a:pt x="225" y="127"/>
                </a:cubicBezTo>
                <a:cubicBezTo>
                  <a:pt x="225" y="73"/>
                  <a:pt x="180" y="28"/>
                  <a:pt x="127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537"/>
          <p:cNvSpPr/>
          <p:nvPr/>
        </p:nvSpPr>
        <p:spPr>
          <a:xfrm>
            <a:off x="3105000" y="4503600"/>
            <a:ext cx="20880" cy="308160"/>
          </a:xfrm>
          <a:custGeom>
            <a:avLst/>
            <a:gdLst/>
            <a:ahLst/>
            <a:rect l="l" t="t" r="r" b="b"/>
            <a:pathLst>
              <a:path w="29" h="452">
                <a:moveTo>
                  <a:pt x="14" y="451"/>
                </a:moveTo>
                <a:cubicBezTo>
                  <a:pt x="5" y="451"/>
                  <a:pt x="0" y="446"/>
                  <a:pt x="0" y="437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437"/>
                </a:lnTo>
                <a:cubicBezTo>
                  <a:pt x="28" y="446"/>
                  <a:pt x="22" y="451"/>
                  <a:pt x="14" y="45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538"/>
          <p:cNvSpPr/>
          <p:nvPr/>
        </p:nvSpPr>
        <p:spPr>
          <a:xfrm>
            <a:off x="3105000" y="4521240"/>
            <a:ext cx="176400" cy="95040"/>
          </a:xfrm>
          <a:custGeom>
            <a:avLst/>
            <a:gdLst/>
            <a:ahLst/>
            <a:rect l="l" t="t" r="r" b="b"/>
            <a:pathLst>
              <a:path w="258" h="142">
                <a:moveTo>
                  <a:pt x="183" y="141"/>
                </a:moveTo>
                <a:lnTo>
                  <a:pt x="14" y="141"/>
                </a:lnTo>
                <a:cubicBezTo>
                  <a:pt x="5" y="141"/>
                  <a:pt x="0" y="135"/>
                  <a:pt x="0" y="127"/>
                </a:cubicBezTo>
                <a:cubicBezTo>
                  <a:pt x="0" y="118"/>
                  <a:pt x="5" y="113"/>
                  <a:pt x="14" y="113"/>
                </a:cubicBezTo>
                <a:lnTo>
                  <a:pt x="178" y="113"/>
                </a:lnTo>
                <a:lnTo>
                  <a:pt x="220" y="71"/>
                </a:lnTo>
                <a:lnTo>
                  <a:pt x="178" y="28"/>
                </a:ln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83" y="0"/>
                </a:lnTo>
                <a:cubicBezTo>
                  <a:pt x="186" y="0"/>
                  <a:pt x="192" y="3"/>
                  <a:pt x="195" y="3"/>
                </a:cubicBezTo>
                <a:lnTo>
                  <a:pt x="251" y="59"/>
                </a:lnTo>
                <a:cubicBezTo>
                  <a:pt x="257" y="65"/>
                  <a:pt x="257" y="73"/>
                  <a:pt x="251" y="79"/>
                </a:cubicBezTo>
                <a:lnTo>
                  <a:pt x="195" y="136"/>
                </a:lnTo>
                <a:cubicBezTo>
                  <a:pt x="192" y="141"/>
                  <a:pt x="186" y="141"/>
                  <a:pt x="183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539"/>
          <p:cNvSpPr/>
          <p:nvPr/>
        </p:nvSpPr>
        <p:spPr>
          <a:xfrm>
            <a:off x="3105000" y="4638600"/>
            <a:ext cx="135000" cy="77760"/>
          </a:xfrm>
          <a:custGeom>
            <a:avLst/>
            <a:gdLst/>
            <a:ahLst/>
            <a:rect l="l" t="t" r="r" b="b"/>
            <a:pathLst>
              <a:path w="198" h="114">
                <a:moveTo>
                  <a:pt x="127" y="113"/>
                </a:moveTo>
                <a:lnTo>
                  <a:pt x="14" y="113"/>
                </a:lnTo>
                <a:cubicBezTo>
                  <a:pt x="5" y="113"/>
                  <a:pt x="0" y="107"/>
                  <a:pt x="0" y="99"/>
                </a:cubicBezTo>
                <a:cubicBezTo>
                  <a:pt x="0" y="90"/>
                  <a:pt x="5" y="85"/>
                  <a:pt x="14" y="85"/>
                </a:cubicBezTo>
                <a:lnTo>
                  <a:pt x="121" y="85"/>
                </a:lnTo>
                <a:lnTo>
                  <a:pt x="158" y="57"/>
                </a:lnTo>
                <a:lnTo>
                  <a:pt x="121" y="29"/>
                </a:lnTo>
                <a:lnTo>
                  <a:pt x="14" y="29"/>
                </a:lnTo>
                <a:cubicBezTo>
                  <a:pt x="5" y="29"/>
                  <a:pt x="0" y="23"/>
                  <a:pt x="0" y="15"/>
                </a:cubicBezTo>
                <a:cubicBezTo>
                  <a:pt x="0" y="6"/>
                  <a:pt x="5" y="0"/>
                  <a:pt x="14" y="0"/>
                </a:cubicBezTo>
                <a:lnTo>
                  <a:pt x="127" y="0"/>
                </a:lnTo>
                <a:cubicBezTo>
                  <a:pt x="130" y="0"/>
                  <a:pt x="132" y="0"/>
                  <a:pt x="135" y="3"/>
                </a:cubicBezTo>
                <a:lnTo>
                  <a:pt x="192" y="46"/>
                </a:lnTo>
                <a:cubicBezTo>
                  <a:pt x="195" y="48"/>
                  <a:pt x="197" y="51"/>
                  <a:pt x="197" y="57"/>
                </a:cubicBezTo>
                <a:cubicBezTo>
                  <a:pt x="197" y="62"/>
                  <a:pt x="195" y="65"/>
                  <a:pt x="192" y="68"/>
                </a:cubicBezTo>
                <a:lnTo>
                  <a:pt x="135" y="110"/>
                </a:lnTo>
                <a:cubicBezTo>
                  <a:pt x="132" y="113"/>
                  <a:pt x="130" y="113"/>
                  <a:pt x="127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540"/>
          <p:cNvSpPr/>
          <p:nvPr/>
        </p:nvSpPr>
        <p:spPr>
          <a:xfrm>
            <a:off x="2967120" y="4581360"/>
            <a:ext cx="155520" cy="95400"/>
          </a:xfrm>
          <a:custGeom>
            <a:avLst/>
            <a:gdLst/>
            <a:ahLst/>
            <a:rect l="l" t="t" r="r" b="b"/>
            <a:pathLst>
              <a:path w="230" h="139">
                <a:moveTo>
                  <a:pt x="215" y="138"/>
                </a:moveTo>
                <a:lnTo>
                  <a:pt x="74" y="138"/>
                </a:lnTo>
                <a:cubicBezTo>
                  <a:pt x="71" y="138"/>
                  <a:pt x="65" y="135"/>
                  <a:pt x="63" y="135"/>
                </a:cubicBezTo>
                <a:lnTo>
                  <a:pt x="6" y="79"/>
                </a:lnTo>
                <a:cubicBezTo>
                  <a:pt x="0" y="73"/>
                  <a:pt x="0" y="64"/>
                  <a:pt x="6" y="59"/>
                </a:cubicBezTo>
                <a:lnTo>
                  <a:pt x="63" y="2"/>
                </a:lnTo>
                <a:cubicBezTo>
                  <a:pt x="65" y="0"/>
                  <a:pt x="68" y="0"/>
                  <a:pt x="74" y="0"/>
                </a:cubicBezTo>
                <a:lnTo>
                  <a:pt x="215" y="0"/>
                </a:lnTo>
                <a:cubicBezTo>
                  <a:pt x="223" y="0"/>
                  <a:pt x="229" y="5"/>
                  <a:pt x="229" y="14"/>
                </a:cubicBezTo>
                <a:cubicBezTo>
                  <a:pt x="229" y="22"/>
                  <a:pt x="223" y="28"/>
                  <a:pt x="215" y="28"/>
                </a:cubicBezTo>
                <a:lnTo>
                  <a:pt x="79" y="28"/>
                </a:lnTo>
                <a:lnTo>
                  <a:pt x="37" y="70"/>
                </a:lnTo>
                <a:lnTo>
                  <a:pt x="79" y="112"/>
                </a:lnTo>
                <a:lnTo>
                  <a:pt x="215" y="112"/>
                </a:lnTo>
                <a:cubicBezTo>
                  <a:pt x="223" y="112"/>
                  <a:pt x="229" y="118"/>
                  <a:pt x="229" y="127"/>
                </a:cubicBezTo>
                <a:cubicBezTo>
                  <a:pt x="229" y="135"/>
                  <a:pt x="223" y="138"/>
                  <a:pt x="215" y="13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541"/>
          <p:cNvSpPr/>
          <p:nvPr/>
        </p:nvSpPr>
        <p:spPr>
          <a:xfrm>
            <a:off x="3774960" y="4503600"/>
            <a:ext cx="230400" cy="308160"/>
          </a:xfrm>
          <a:custGeom>
            <a:avLst/>
            <a:gdLst/>
            <a:ahLst/>
            <a:rect l="l" t="t" r="r" b="b"/>
            <a:pathLst>
              <a:path w="339" h="452">
                <a:moveTo>
                  <a:pt x="169" y="451"/>
                </a:moveTo>
                <a:cubicBezTo>
                  <a:pt x="166" y="451"/>
                  <a:pt x="160" y="451"/>
                  <a:pt x="158" y="449"/>
                </a:cubicBezTo>
                <a:cubicBezTo>
                  <a:pt x="152" y="443"/>
                  <a:pt x="0" y="288"/>
                  <a:pt x="0" y="169"/>
                </a:cubicBezTo>
                <a:cubicBezTo>
                  <a:pt x="0" y="76"/>
                  <a:pt x="76" y="0"/>
                  <a:pt x="169" y="0"/>
                </a:cubicBezTo>
                <a:cubicBezTo>
                  <a:pt x="262" y="0"/>
                  <a:pt x="338" y="76"/>
                  <a:pt x="338" y="169"/>
                </a:cubicBezTo>
                <a:cubicBezTo>
                  <a:pt x="338" y="288"/>
                  <a:pt x="186" y="440"/>
                  <a:pt x="180" y="449"/>
                </a:cubicBezTo>
                <a:cubicBezTo>
                  <a:pt x="177" y="451"/>
                  <a:pt x="172" y="451"/>
                  <a:pt x="169" y="451"/>
                </a:cubicBezTo>
                <a:close/>
                <a:moveTo>
                  <a:pt x="169" y="28"/>
                </a:moveTo>
                <a:cubicBezTo>
                  <a:pt x="90" y="28"/>
                  <a:pt x="28" y="90"/>
                  <a:pt x="28" y="169"/>
                </a:cubicBezTo>
                <a:cubicBezTo>
                  <a:pt x="28" y="259"/>
                  <a:pt x="135" y="381"/>
                  <a:pt x="169" y="418"/>
                </a:cubicBezTo>
                <a:cubicBezTo>
                  <a:pt x="203" y="381"/>
                  <a:pt x="310" y="259"/>
                  <a:pt x="310" y="169"/>
                </a:cubicBezTo>
                <a:cubicBezTo>
                  <a:pt x="310" y="90"/>
                  <a:pt x="248" y="28"/>
                  <a:pt x="169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542"/>
          <p:cNvSpPr/>
          <p:nvPr/>
        </p:nvSpPr>
        <p:spPr>
          <a:xfrm>
            <a:off x="3832200" y="4560840"/>
            <a:ext cx="115920" cy="11592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85" y="169"/>
                </a:moveTo>
                <a:cubicBezTo>
                  <a:pt x="37" y="169"/>
                  <a:pt x="0" y="132"/>
                  <a:pt x="0" y="84"/>
                </a:cubicBezTo>
                <a:cubicBezTo>
                  <a:pt x="0" y="36"/>
                  <a:pt x="37" y="0"/>
                  <a:pt x="85" y="0"/>
                </a:cubicBezTo>
                <a:cubicBezTo>
                  <a:pt x="133" y="0"/>
                  <a:pt x="169" y="36"/>
                  <a:pt x="169" y="84"/>
                </a:cubicBezTo>
                <a:cubicBezTo>
                  <a:pt x="169" y="132"/>
                  <a:pt x="133" y="169"/>
                  <a:pt x="85" y="169"/>
                </a:cubicBezTo>
                <a:close/>
                <a:moveTo>
                  <a:pt x="85" y="28"/>
                </a:moveTo>
                <a:cubicBezTo>
                  <a:pt x="54" y="28"/>
                  <a:pt x="28" y="53"/>
                  <a:pt x="28" y="84"/>
                </a:cubicBezTo>
                <a:cubicBezTo>
                  <a:pt x="28" y="115"/>
                  <a:pt x="54" y="141"/>
                  <a:pt x="85" y="141"/>
                </a:cubicBezTo>
                <a:cubicBezTo>
                  <a:pt x="116" y="141"/>
                  <a:pt x="141" y="115"/>
                  <a:pt x="141" y="84"/>
                </a:cubicBezTo>
                <a:cubicBezTo>
                  <a:pt x="141" y="53"/>
                  <a:pt x="116" y="28"/>
                  <a:pt x="85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543"/>
          <p:cNvSpPr/>
          <p:nvPr/>
        </p:nvSpPr>
        <p:spPr>
          <a:xfrm>
            <a:off x="4498920" y="4506840"/>
            <a:ext cx="250920" cy="247680"/>
          </a:xfrm>
          <a:custGeom>
            <a:avLst/>
            <a:gdLst/>
            <a:ahLst/>
            <a:rect l="l" t="t" r="r" b="b"/>
            <a:pathLst>
              <a:path w="371" h="368">
                <a:moveTo>
                  <a:pt x="17" y="364"/>
                </a:moveTo>
                <a:cubicBezTo>
                  <a:pt x="14" y="364"/>
                  <a:pt x="8" y="361"/>
                  <a:pt x="6" y="361"/>
                </a:cubicBezTo>
                <a:cubicBezTo>
                  <a:pt x="3" y="358"/>
                  <a:pt x="0" y="350"/>
                  <a:pt x="3" y="347"/>
                </a:cubicBezTo>
                <a:lnTo>
                  <a:pt x="31" y="279"/>
                </a:lnTo>
                <a:cubicBezTo>
                  <a:pt x="14" y="251"/>
                  <a:pt x="3" y="217"/>
                  <a:pt x="3" y="183"/>
                </a:cubicBezTo>
                <a:cubicBezTo>
                  <a:pt x="3" y="82"/>
                  <a:pt x="84" y="0"/>
                  <a:pt x="186" y="0"/>
                </a:cubicBezTo>
                <a:cubicBezTo>
                  <a:pt x="287" y="0"/>
                  <a:pt x="370" y="81"/>
                  <a:pt x="370" y="183"/>
                </a:cubicBezTo>
                <a:cubicBezTo>
                  <a:pt x="370" y="284"/>
                  <a:pt x="288" y="367"/>
                  <a:pt x="186" y="367"/>
                </a:cubicBezTo>
                <a:cubicBezTo>
                  <a:pt x="152" y="367"/>
                  <a:pt x="119" y="358"/>
                  <a:pt x="90" y="338"/>
                </a:cubicBezTo>
                <a:lnTo>
                  <a:pt x="23" y="367"/>
                </a:lnTo>
                <a:cubicBezTo>
                  <a:pt x="20" y="364"/>
                  <a:pt x="20" y="364"/>
                  <a:pt x="17" y="364"/>
                </a:cubicBezTo>
                <a:close/>
                <a:moveTo>
                  <a:pt x="90" y="307"/>
                </a:moveTo>
                <a:cubicBezTo>
                  <a:pt x="93" y="307"/>
                  <a:pt x="96" y="307"/>
                  <a:pt x="99" y="310"/>
                </a:cubicBezTo>
                <a:cubicBezTo>
                  <a:pt x="124" y="327"/>
                  <a:pt x="155" y="338"/>
                  <a:pt x="186" y="338"/>
                </a:cubicBezTo>
                <a:cubicBezTo>
                  <a:pt x="271" y="338"/>
                  <a:pt x="341" y="268"/>
                  <a:pt x="341" y="183"/>
                </a:cubicBezTo>
                <a:cubicBezTo>
                  <a:pt x="341" y="98"/>
                  <a:pt x="270" y="28"/>
                  <a:pt x="186" y="28"/>
                </a:cubicBezTo>
                <a:cubicBezTo>
                  <a:pt x="101" y="28"/>
                  <a:pt x="31" y="98"/>
                  <a:pt x="31" y="183"/>
                </a:cubicBezTo>
                <a:cubicBezTo>
                  <a:pt x="31" y="214"/>
                  <a:pt x="40" y="245"/>
                  <a:pt x="59" y="271"/>
                </a:cubicBezTo>
                <a:cubicBezTo>
                  <a:pt x="62" y="273"/>
                  <a:pt x="62" y="279"/>
                  <a:pt x="62" y="285"/>
                </a:cubicBezTo>
                <a:lnTo>
                  <a:pt x="45" y="327"/>
                </a:lnTo>
                <a:lnTo>
                  <a:pt x="88" y="310"/>
                </a:lnTo>
                <a:cubicBezTo>
                  <a:pt x="88" y="307"/>
                  <a:pt x="90" y="307"/>
                  <a:pt x="90" y="30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544"/>
          <p:cNvSpPr/>
          <p:nvPr/>
        </p:nvSpPr>
        <p:spPr>
          <a:xfrm>
            <a:off x="4633920" y="4632480"/>
            <a:ext cx="182520" cy="185760"/>
          </a:xfrm>
          <a:custGeom>
            <a:avLst/>
            <a:gdLst/>
            <a:ahLst/>
            <a:rect l="l" t="t" r="r" b="b"/>
            <a:pathLst>
              <a:path w="269" h="273">
                <a:moveTo>
                  <a:pt x="245" y="260"/>
                </a:moveTo>
                <a:cubicBezTo>
                  <a:pt x="242" y="260"/>
                  <a:pt x="242" y="260"/>
                  <a:pt x="240" y="260"/>
                </a:cubicBezTo>
                <a:lnTo>
                  <a:pt x="186" y="238"/>
                </a:lnTo>
                <a:cubicBezTo>
                  <a:pt x="132" y="272"/>
                  <a:pt x="59" y="266"/>
                  <a:pt x="8" y="229"/>
                </a:cubicBezTo>
                <a:cubicBezTo>
                  <a:pt x="3" y="224"/>
                  <a:pt x="0" y="215"/>
                  <a:pt x="5" y="210"/>
                </a:cubicBezTo>
                <a:cubicBezTo>
                  <a:pt x="11" y="204"/>
                  <a:pt x="20" y="201"/>
                  <a:pt x="25" y="207"/>
                </a:cubicBezTo>
                <a:cubicBezTo>
                  <a:pt x="67" y="241"/>
                  <a:pt x="130" y="241"/>
                  <a:pt x="175" y="212"/>
                </a:cubicBezTo>
                <a:cubicBezTo>
                  <a:pt x="178" y="210"/>
                  <a:pt x="183" y="210"/>
                  <a:pt x="189" y="210"/>
                </a:cubicBezTo>
                <a:lnTo>
                  <a:pt x="220" y="221"/>
                </a:lnTo>
                <a:lnTo>
                  <a:pt x="209" y="190"/>
                </a:lnTo>
                <a:cubicBezTo>
                  <a:pt x="206" y="184"/>
                  <a:pt x="209" y="181"/>
                  <a:pt x="211" y="176"/>
                </a:cubicBezTo>
                <a:cubicBezTo>
                  <a:pt x="226" y="156"/>
                  <a:pt x="234" y="131"/>
                  <a:pt x="234" y="105"/>
                </a:cubicBezTo>
                <a:cubicBezTo>
                  <a:pt x="234" y="77"/>
                  <a:pt x="226" y="49"/>
                  <a:pt x="209" y="26"/>
                </a:cubicBezTo>
                <a:cubicBezTo>
                  <a:pt x="203" y="21"/>
                  <a:pt x="205" y="11"/>
                  <a:pt x="211" y="6"/>
                </a:cubicBezTo>
                <a:cubicBezTo>
                  <a:pt x="216" y="0"/>
                  <a:pt x="226" y="4"/>
                  <a:pt x="231" y="9"/>
                </a:cubicBezTo>
                <a:cubicBezTo>
                  <a:pt x="254" y="37"/>
                  <a:pt x="265" y="68"/>
                  <a:pt x="265" y="105"/>
                </a:cubicBezTo>
                <a:cubicBezTo>
                  <a:pt x="265" y="133"/>
                  <a:pt x="257" y="162"/>
                  <a:pt x="242" y="187"/>
                </a:cubicBezTo>
                <a:lnTo>
                  <a:pt x="265" y="241"/>
                </a:lnTo>
                <a:cubicBezTo>
                  <a:pt x="268" y="246"/>
                  <a:pt x="265" y="252"/>
                  <a:pt x="262" y="255"/>
                </a:cubicBezTo>
                <a:cubicBezTo>
                  <a:pt x="254" y="260"/>
                  <a:pt x="248" y="260"/>
                  <a:pt x="245" y="26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545"/>
          <p:cNvSpPr/>
          <p:nvPr/>
        </p:nvSpPr>
        <p:spPr>
          <a:xfrm>
            <a:off x="5324400" y="4581360"/>
            <a:ext cx="135000" cy="20880"/>
          </a:xfrm>
          <a:custGeom>
            <a:avLst/>
            <a:gdLst/>
            <a:ahLst/>
            <a:rect l="l" t="t" r="r" b="b"/>
            <a:pathLst>
              <a:path w="199" h="29">
                <a:moveTo>
                  <a:pt x="184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84" y="0"/>
                </a:lnTo>
                <a:cubicBezTo>
                  <a:pt x="192" y="0"/>
                  <a:pt x="198" y="5"/>
                  <a:pt x="198" y="14"/>
                </a:cubicBezTo>
                <a:cubicBezTo>
                  <a:pt x="198" y="22"/>
                  <a:pt x="192" y="28"/>
                  <a:pt x="18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546"/>
          <p:cNvSpPr/>
          <p:nvPr/>
        </p:nvSpPr>
        <p:spPr>
          <a:xfrm>
            <a:off x="5324400" y="4616280"/>
            <a:ext cx="95400" cy="2232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5"/>
                  <a:pt x="141" y="14"/>
                </a:cubicBezTo>
                <a:cubicBezTo>
                  <a:pt x="141" y="22"/>
                  <a:pt x="136" y="28"/>
                  <a:pt x="12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547"/>
          <p:cNvSpPr/>
          <p:nvPr/>
        </p:nvSpPr>
        <p:spPr>
          <a:xfrm>
            <a:off x="5264280" y="4506840"/>
            <a:ext cx="249120" cy="209520"/>
          </a:xfrm>
          <a:custGeom>
            <a:avLst/>
            <a:gdLst/>
            <a:ahLst/>
            <a:rect l="l" t="t" r="r" b="b"/>
            <a:pathLst>
              <a:path w="368" h="308">
                <a:moveTo>
                  <a:pt x="186" y="307"/>
                </a:moveTo>
                <a:lnTo>
                  <a:pt x="17" y="307"/>
                </a:lnTo>
                <a:cubicBezTo>
                  <a:pt x="11" y="307"/>
                  <a:pt x="5" y="304"/>
                  <a:pt x="3" y="299"/>
                </a:cubicBezTo>
                <a:cubicBezTo>
                  <a:pt x="0" y="293"/>
                  <a:pt x="3" y="288"/>
                  <a:pt x="5" y="285"/>
                </a:cubicBezTo>
                <a:lnTo>
                  <a:pt x="39" y="251"/>
                </a:lnTo>
                <a:cubicBezTo>
                  <a:pt x="14" y="223"/>
                  <a:pt x="0" y="189"/>
                  <a:pt x="0" y="155"/>
                </a:cubicBezTo>
                <a:cubicBezTo>
                  <a:pt x="0" y="70"/>
                  <a:pt x="82" y="0"/>
                  <a:pt x="183" y="0"/>
                </a:cubicBezTo>
                <a:cubicBezTo>
                  <a:pt x="285" y="0"/>
                  <a:pt x="367" y="70"/>
                  <a:pt x="367" y="155"/>
                </a:cubicBezTo>
                <a:cubicBezTo>
                  <a:pt x="367" y="240"/>
                  <a:pt x="288" y="307"/>
                  <a:pt x="186" y="307"/>
                </a:cubicBezTo>
                <a:close/>
                <a:moveTo>
                  <a:pt x="51" y="279"/>
                </a:moveTo>
                <a:lnTo>
                  <a:pt x="186" y="279"/>
                </a:lnTo>
                <a:cubicBezTo>
                  <a:pt x="271" y="279"/>
                  <a:pt x="341" y="222"/>
                  <a:pt x="341" y="152"/>
                </a:cubicBezTo>
                <a:cubicBezTo>
                  <a:pt x="341" y="81"/>
                  <a:pt x="271" y="25"/>
                  <a:pt x="186" y="25"/>
                </a:cubicBezTo>
                <a:cubicBezTo>
                  <a:pt x="101" y="25"/>
                  <a:pt x="31" y="82"/>
                  <a:pt x="31" y="152"/>
                </a:cubicBezTo>
                <a:cubicBezTo>
                  <a:pt x="31" y="183"/>
                  <a:pt x="45" y="214"/>
                  <a:pt x="70" y="237"/>
                </a:cubicBezTo>
                <a:cubicBezTo>
                  <a:pt x="73" y="240"/>
                  <a:pt x="76" y="242"/>
                  <a:pt x="76" y="248"/>
                </a:cubicBezTo>
                <a:cubicBezTo>
                  <a:pt x="76" y="254"/>
                  <a:pt x="76" y="256"/>
                  <a:pt x="73" y="259"/>
                </a:cubicBezTo>
                <a:lnTo>
                  <a:pt x="51" y="2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548"/>
          <p:cNvSpPr/>
          <p:nvPr/>
        </p:nvSpPr>
        <p:spPr>
          <a:xfrm>
            <a:off x="5337000" y="4616280"/>
            <a:ext cx="238320" cy="174960"/>
          </a:xfrm>
          <a:custGeom>
            <a:avLst/>
            <a:gdLst/>
            <a:ahLst/>
            <a:rect l="l" t="t" r="r" b="b"/>
            <a:pathLst>
              <a:path w="354" h="255">
                <a:moveTo>
                  <a:pt x="336" y="254"/>
                </a:moveTo>
                <a:lnTo>
                  <a:pt x="167" y="254"/>
                </a:lnTo>
                <a:cubicBezTo>
                  <a:pt x="99" y="254"/>
                  <a:pt x="40" y="223"/>
                  <a:pt x="6" y="175"/>
                </a:cubicBezTo>
                <a:cubicBezTo>
                  <a:pt x="0" y="169"/>
                  <a:pt x="4" y="160"/>
                  <a:pt x="9" y="155"/>
                </a:cubicBezTo>
                <a:cubicBezTo>
                  <a:pt x="15" y="149"/>
                  <a:pt x="23" y="153"/>
                  <a:pt x="28" y="158"/>
                </a:cubicBezTo>
                <a:cubicBezTo>
                  <a:pt x="57" y="201"/>
                  <a:pt x="107" y="226"/>
                  <a:pt x="167" y="226"/>
                </a:cubicBezTo>
                <a:lnTo>
                  <a:pt x="302" y="226"/>
                </a:lnTo>
                <a:lnTo>
                  <a:pt x="282" y="206"/>
                </a:lnTo>
                <a:cubicBezTo>
                  <a:pt x="280" y="203"/>
                  <a:pt x="278" y="201"/>
                  <a:pt x="280" y="195"/>
                </a:cubicBezTo>
                <a:cubicBezTo>
                  <a:pt x="283" y="189"/>
                  <a:pt x="282" y="186"/>
                  <a:pt x="285" y="184"/>
                </a:cubicBezTo>
                <a:cubicBezTo>
                  <a:pt x="311" y="161"/>
                  <a:pt x="325" y="130"/>
                  <a:pt x="325" y="99"/>
                </a:cubicBezTo>
                <a:cubicBezTo>
                  <a:pt x="325" y="74"/>
                  <a:pt x="316" y="48"/>
                  <a:pt x="297" y="26"/>
                </a:cubicBezTo>
                <a:cubicBezTo>
                  <a:pt x="291" y="20"/>
                  <a:pt x="291" y="11"/>
                  <a:pt x="299" y="6"/>
                </a:cubicBezTo>
                <a:cubicBezTo>
                  <a:pt x="305" y="0"/>
                  <a:pt x="313" y="0"/>
                  <a:pt x="319" y="9"/>
                </a:cubicBezTo>
                <a:cubicBezTo>
                  <a:pt x="342" y="34"/>
                  <a:pt x="353" y="68"/>
                  <a:pt x="353" y="99"/>
                </a:cubicBezTo>
                <a:cubicBezTo>
                  <a:pt x="353" y="133"/>
                  <a:pt x="339" y="167"/>
                  <a:pt x="313" y="195"/>
                </a:cubicBezTo>
                <a:lnTo>
                  <a:pt x="347" y="229"/>
                </a:lnTo>
                <a:cubicBezTo>
                  <a:pt x="350" y="232"/>
                  <a:pt x="353" y="240"/>
                  <a:pt x="350" y="243"/>
                </a:cubicBezTo>
                <a:cubicBezTo>
                  <a:pt x="347" y="246"/>
                  <a:pt x="342" y="254"/>
                  <a:pt x="336" y="25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549"/>
          <p:cNvSpPr/>
          <p:nvPr/>
        </p:nvSpPr>
        <p:spPr>
          <a:xfrm>
            <a:off x="8331120" y="3736800"/>
            <a:ext cx="308160" cy="308160"/>
          </a:xfrm>
          <a:custGeom>
            <a:avLst/>
            <a:gdLst/>
            <a:ahLst/>
            <a:rect l="l" t="t" r="r" b="b"/>
            <a:pathLst>
              <a:path w="452" h="453">
                <a:moveTo>
                  <a:pt x="226" y="452"/>
                </a:moveTo>
                <a:lnTo>
                  <a:pt x="226" y="452"/>
                </a:lnTo>
                <a:cubicBezTo>
                  <a:pt x="220" y="452"/>
                  <a:pt x="217" y="449"/>
                  <a:pt x="214" y="446"/>
                </a:cubicBezTo>
                <a:lnTo>
                  <a:pt x="146" y="367"/>
                </a:lnTo>
                <a:lnTo>
                  <a:pt x="56" y="367"/>
                </a:lnTo>
                <a:cubicBezTo>
                  <a:pt x="25" y="367"/>
                  <a:pt x="0" y="342"/>
                  <a:pt x="0" y="310"/>
                </a:cubicBezTo>
                <a:lnTo>
                  <a:pt x="0" y="57"/>
                </a:lnTo>
                <a:cubicBezTo>
                  <a:pt x="0" y="25"/>
                  <a:pt x="25" y="0"/>
                  <a:pt x="56" y="0"/>
                </a:cubicBezTo>
                <a:lnTo>
                  <a:pt x="395" y="0"/>
                </a:lnTo>
                <a:cubicBezTo>
                  <a:pt x="426" y="0"/>
                  <a:pt x="451" y="25"/>
                  <a:pt x="451" y="57"/>
                </a:cubicBezTo>
                <a:lnTo>
                  <a:pt x="451" y="310"/>
                </a:lnTo>
                <a:cubicBezTo>
                  <a:pt x="451" y="342"/>
                  <a:pt x="426" y="367"/>
                  <a:pt x="395" y="367"/>
                </a:cubicBezTo>
                <a:lnTo>
                  <a:pt x="305" y="367"/>
                </a:lnTo>
                <a:lnTo>
                  <a:pt x="234" y="446"/>
                </a:lnTo>
                <a:cubicBezTo>
                  <a:pt x="234" y="449"/>
                  <a:pt x="228" y="452"/>
                  <a:pt x="226" y="452"/>
                </a:cubicBezTo>
                <a:close/>
                <a:moveTo>
                  <a:pt x="56" y="28"/>
                </a:moveTo>
                <a:cubicBezTo>
                  <a:pt x="39" y="28"/>
                  <a:pt x="28" y="40"/>
                  <a:pt x="28" y="57"/>
                </a:cubicBezTo>
                <a:lnTo>
                  <a:pt x="28" y="310"/>
                </a:lnTo>
                <a:cubicBezTo>
                  <a:pt x="28" y="327"/>
                  <a:pt x="39" y="339"/>
                  <a:pt x="56" y="339"/>
                </a:cubicBezTo>
                <a:lnTo>
                  <a:pt x="155" y="339"/>
                </a:lnTo>
                <a:cubicBezTo>
                  <a:pt x="158" y="339"/>
                  <a:pt x="163" y="342"/>
                  <a:pt x="166" y="344"/>
                </a:cubicBezTo>
                <a:lnTo>
                  <a:pt x="226" y="415"/>
                </a:lnTo>
                <a:lnTo>
                  <a:pt x="288" y="342"/>
                </a:lnTo>
                <a:cubicBezTo>
                  <a:pt x="290" y="339"/>
                  <a:pt x="293" y="336"/>
                  <a:pt x="299" y="336"/>
                </a:cubicBezTo>
                <a:lnTo>
                  <a:pt x="395" y="336"/>
                </a:lnTo>
                <a:cubicBezTo>
                  <a:pt x="412" y="336"/>
                  <a:pt x="423" y="325"/>
                  <a:pt x="423" y="308"/>
                </a:cubicBezTo>
                <a:lnTo>
                  <a:pt x="423" y="54"/>
                </a:lnTo>
                <a:cubicBezTo>
                  <a:pt x="423" y="37"/>
                  <a:pt x="412" y="25"/>
                  <a:pt x="395" y="25"/>
                </a:cubicBezTo>
                <a:lnTo>
                  <a:pt x="56" y="25"/>
                </a:lnTo>
                <a:lnTo>
                  <a:pt x="56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550"/>
          <p:cNvSpPr/>
          <p:nvPr/>
        </p:nvSpPr>
        <p:spPr>
          <a:xfrm>
            <a:off x="8405640" y="3871800"/>
            <a:ext cx="95400" cy="2088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27" y="0"/>
                </a:lnTo>
                <a:cubicBezTo>
                  <a:pt x="135" y="0"/>
                  <a:pt x="141" y="5"/>
                  <a:pt x="141" y="14"/>
                </a:cubicBezTo>
                <a:cubicBezTo>
                  <a:pt x="141" y="22"/>
                  <a:pt x="135" y="28"/>
                  <a:pt x="12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551"/>
          <p:cNvSpPr/>
          <p:nvPr/>
        </p:nvSpPr>
        <p:spPr>
          <a:xfrm>
            <a:off x="8405640" y="3814920"/>
            <a:ext cx="152640" cy="21960"/>
          </a:xfrm>
          <a:custGeom>
            <a:avLst/>
            <a:gdLst/>
            <a:ahLst/>
            <a:rect l="l" t="t" r="r" b="b"/>
            <a:pathLst>
              <a:path w="226" h="29">
                <a:moveTo>
                  <a:pt x="211" y="28"/>
                </a:move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211" y="0"/>
                </a:lnTo>
                <a:cubicBezTo>
                  <a:pt x="220" y="0"/>
                  <a:pt x="225" y="5"/>
                  <a:pt x="225" y="14"/>
                </a:cubicBezTo>
                <a:cubicBezTo>
                  <a:pt x="225" y="22"/>
                  <a:pt x="220" y="28"/>
                  <a:pt x="211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552"/>
          <p:cNvSpPr/>
          <p:nvPr/>
        </p:nvSpPr>
        <p:spPr>
          <a:xfrm>
            <a:off x="8366040" y="2349360"/>
            <a:ext cx="233280" cy="125640"/>
          </a:xfrm>
          <a:custGeom>
            <a:avLst/>
            <a:gdLst/>
            <a:ahLst/>
            <a:rect l="l" t="t" r="r" b="b"/>
            <a:pathLst>
              <a:path w="343" h="185">
                <a:moveTo>
                  <a:pt x="173" y="184"/>
                </a:moveTo>
                <a:cubicBezTo>
                  <a:pt x="125" y="184"/>
                  <a:pt x="74" y="175"/>
                  <a:pt x="12" y="155"/>
                </a:cubicBezTo>
                <a:cubicBezTo>
                  <a:pt x="9" y="155"/>
                  <a:pt x="3" y="150"/>
                  <a:pt x="3" y="147"/>
                </a:cubicBezTo>
                <a:cubicBezTo>
                  <a:pt x="0" y="144"/>
                  <a:pt x="3" y="138"/>
                  <a:pt x="3" y="136"/>
                </a:cubicBezTo>
                <a:lnTo>
                  <a:pt x="71" y="9"/>
                </a:lnTo>
                <a:cubicBezTo>
                  <a:pt x="74" y="3"/>
                  <a:pt x="82" y="0"/>
                  <a:pt x="91" y="3"/>
                </a:cubicBezTo>
                <a:cubicBezTo>
                  <a:pt x="96" y="6"/>
                  <a:pt x="99" y="14"/>
                  <a:pt x="96" y="23"/>
                </a:cubicBezTo>
                <a:lnTo>
                  <a:pt x="37" y="133"/>
                </a:lnTo>
                <a:cubicBezTo>
                  <a:pt x="139" y="164"/>
                  <a:pt x="204" y="164"/>
                  <a:pt x="305" y="133"/>
                </a:cubicBezTo>
                <a:lnTo>
                  <a:pt x="246" y="23"/>
                </a:lnTo>
                <a:cubicBezTo>
                  <a:pt x="243" y="17"/>
                  <a:pt x="246" y="9"/>
                  <a:pt x="252" y="3"/>
                </a:cubicBezTo>
                <a:cubicBezTo>
                  <a:pt x="257" y="0"/>
                  <a:pt x="266" y="3"/>
                  <a:pt x="271" y="9"/>
                </a:cubicBezTo>
                <a:lnTo>
                  <a:pt x="339" y="136"/>
                </a:lnTo>
                <a:cubicBezTo>
                  <a:pt x="342" y="138"/>
                  <a:pt x="342" y="144"/>
                  <a:pt x="339" y="147"/>
                </a:cubicBezTo>
                <a:cubicBezTo>
                  <a:pt x="336" y="150"/>
                  <a:pt x="333" y="153"/>
                  <a:pt x="331" y="155"/>
                </a:cubicBezTo>
                <a:cubicBezTo>
                  <a:pt x="271" y="175"/>
                  <a:pt x="220" y="184"/>
                  <a:pt x="173" y="1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553"/>
          <p:cNvSpPr/>
          <p:nvPr/>
        </p:nvSpPr>
        <p:spPr>
          <a:xfrm>
            <a:off x="8453520" y="2454120"/>
            <a:ext cx="6012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71" y="85"/>
                </a:moveTo>
                <a:lnTo>
                  <a:pt x="14" y="85"/>
                </a:lnTo>
                <a:cubicBezTo>
                  <a:pt x="6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57"/>
                </a:lnTo>
                <a:lnTo>
                  <a:pt x="57" y="57"/>
                </a:lnTo>
                <a:lnTo>
                  <a:pt x="57" y="14"/>
                </a:lnTo>
                <a:cubicBezTo>
                  <a:pt x="57" y="6"/>
                  <a:pt x="63" y="0"/>
                  <a:pt x="71" y="0"/>
                </a:cubicBezTo>
                <a:cubicBezTo>
                  <a:pt x="80" y="0"/>
                  <a:pt x="85" y="6"/>
                  <a:pt x="85" y="14"/>
                </a:cubicBezTo>
                <a:lnTo>
                  <a:pt x="85" y="71"/>
                </a:lnTo>
                <a:cubicBezTo>
                  <a:pt x="85" y="79"/>
                  <a:pt x="79" y="85"/>
                  <a:pt x="71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554"/>
          <p:cNvSpPr/>
          <p:nvPr/>
        </p:nvSpPr>
        <p:spPr>
          <a:xfrm>
            <a:off x="8385120" y="2206800"/>
            <a:ext cx="193680" cy="172800"/>
          </a:xfrm>
          <a:custGeom>
            <a:avLst/>
            <a:gdLst/>
            <a:ahLst/>
            <a:rect l="l" t="t" r="r" b="b"/>
            <a:pathLst>
              <a:path w="286" h="254">
                <a:moveTo>
                  <a:pt x="144" y="253"/>
                </a:moveTo>
                <a:cubicBezTo>
                  <a:pt x="98" y="253"/>
                  <a:pt x="53" y="245"/>
                  <a:pt x="11" y="225"/>
                </a:cubicBezTo>
                <a:cubicBezTo>
                  <a:pt x="8" y="222"/>
                  <a:pt x="5" y="220"/>
                  <a:pt x="2" y="217"/>
                </a:cubicBezTo>
                <a:cubicBezTo>
                  <a:pt x="0" y="214"/>
                  <a:pt x="2" y="208"/>
                  <a:pt x="5" y="206"/>
                </a:cubicBezTo>
                <a:lnTo>
                  <a:pt x="132" y="8"/>
                </a:lnTo>
                <a:cubicBezTo>
                  <a:pt x="138" y="0"/>
                  <a:pt x="152" y="0"/>
                  <a:pt x="155" y="8"/>
                </a:cubicBezTo>
                <a:lnTo>
                  <a:pt x="282" y="206"/>
                </a:lnTo>
                <a:cubicBezTo>
                  <a:pt x="285" y="208"/>
                  <a:pt x="285" y="214"/>
                  <a:pt x="285" y="217"/>
                </a:cubicBezTo>
                <a:cubicBezTo>
                  <a:pt x="285" y="220"/>
                  <a:pt x="282" y="225"/>
                  <a:pt x="276" y="225"/>
                </a:cubicBezTo>
                <a:cubicBezTo>
                  <a:pt x="234" y="245"/>
                  <a:pt x="189" y="253"/>
                  <a:pt x="144" y="253"/>
                </a:cubicBezTo>
                <a:close/>
                <a:moveTo>
                  <a:pt x="36" y="206"/>
                </a:moveTo>
                <a:cubicBezTo>
                  <a:pt x="104" y="234"/>
                  <a:pt x="180" y="234"/>
                  <a:pt x="248" y="206"/>
                </a:cubicBezTo>
                <a:lnTo>
                  <a:pt x="141" y="39"/>
                </a:lnTo>
                <a:lnTo>
                  <a:pt x="36" y="2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555"/>
          <p:cNvSpPr/>
          <p:nvPr/>
        </p:nvSpPr>
        <p:spPr>
          <a:xfrm>
            <a:off x="8540640" y="241632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8" y="5"/>
                  <a:pt x="28" y="14"/>
                </a:cubicBezTo>
                <a:cubicBezTo>
                  <a:pt x="28" y="22"/>
                  <a:pt x="23" y="28"/>
                  <a:pt x="1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556"/>
          <p:cNvSpPr/>
          <p:nvPr/>
        </p:nvSpPr>
        <p:spPr>
          <a:xfrm>
            <a:off x="8501040" y="239724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4" y="0"/>
                </a:lnTo>
                <a:cubicBezTo>
                  <a:pt x="22" y="0"/>
                  <a:pt x="28" y="5"/>
                  <a:pt x="28" y="14"/>
                </a:cubicBezTo>
                <a:cubicBezTo>
                  <a:pt x="28" y="22"/>
                  <a:pt x="22" y="28"/>
                  <a:pt x="1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557"/>
          <p:cNvSpPr/>
          <p:nvPr/>
        </p:nvSpPr>
        <p:spPr>
          <a:xfrm>
            <a:off x="8462880" y="2416320"/>
            <a:ext cx="20880" cy="20520"/>
          </a:xfrm>
          <a:custGeom>
            <a:avLst/>
            <a:gdLst/>
            <a:ahLst/>
            <a:rect l="l" t="t" r="r" b="b"/>
            <a:pathLst>
              <a:path w="30" h="29">
                <a:moveTo>
                  <a:pt x="14" y="28"/>
                </a:move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9" y="5"/>
                  <a:pt x="29" y="14"/>
                </a:cubicBezTo>
                <a:cubicBezTo>
                  <a:pt x="29" y="22"/>
                  <a:pt x="23" y="28"/>
                  <a:pt x="1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558"/>
          <p:cNvSpPr/>
          <p:nvPr/>
        </p:nvSpPr>
        <p:spPr>
          <a:xfrm>
            <a:off x="8426520" y="239724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4" y="0"/>
                </a:lnTo>
                <a:cubicBezTo>
                  <a:pt x="22" y="0"/>
                  <a:pt x="28" y="5"/>
                  <a:pt x="28" y="14"/>
                </a:cubicBezTo>
                <a:cubicBezTo>
                  <a:pt x="28" y="22"/>
                  <a:pt x="22" y="28"/>
                  <a:pt x="1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559"/>
          <p:cNvSpPr/>
          <p:nvPr/>
        </p:nvSpPr>
        <p:spPr>
          <a:xfrm>
            <a:off x="8501040" y="230184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4" y="0"/>
                </a:lnTo>
                <a:cubicBezTo>
                  <a:pt x="22" y="0"/>
                  <a:pt x="28" y="5"/>
                  <a:pt x="28" y="14"/>
                </a:cubicBezTo>
                <a:cubicBezTo>
                  <a:pt x="28" y="22"/>
                  <a:pt x="22" y="28"/>
                  <a:pt x="1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560"/>
          <p:cNvSpPr/>
          <p:nvPr/>
        </p:nvSpPr>
        <p:spPr>
          <a:xfrm>
            <a:off x="8462880" y="2319480"/>
            <a:ext cx="20880" cy="20520"/>
          </a:xfrm>
          <a:custGeom>
            <a:avLst/>
            <a:gdLst/>
            <a:ahLst/>
            <a:rect l="l" t="t" r="r" b="b"/>
            <a:pathLst>
              <a:path w="30" h="29">
                <a:moveTo>
                  <a:pt x="14" y="28"/>
                </a:move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9" y="5"/>
                  <a:pt x="29" y="14"/>
                </a:cubicBezTo>
                <a:cubicBezTo>
                  <a:pt x="29" y="22"/>
                  <a:pt x="23" y="28"/>
                  <a:pt x="1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561"/>
          <p:cNvSpPr/>
          <p:nvPr/>
        </p:nvSpPr>
        <p:spPr>
          <a:xfrm>
            <a:off x="8462880" y="2284560"/>
            <a:ext cx="20880" cy="20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14" y="29"/>
                </a:moveTo>
                <a:cubicBezTo>
                  <a:pt x="6" y="29"/>
                  <a:pt x="0" y="23"/>
                  <a:pt x="0" y="15"/>
                </a:cubicBezTo>
                <a:cubicBezTo>
                  <a:pt x="0" y="6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9" y="6"/>
                  <a:pt x="29" y="15"/>
                </a:cubicBezTo>
                <a:cubicBezTo>
                  <a:pt x="29" y="23"/>
                  <a:pt x="23" y="29"/>
                  <a:pt x="14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31T04:04:35Z</dcterms:created>
  <dc:creator>azis </dc:creator>
  <dc:description/>
  <dc:language>en-US</dc:language>
  <cp:lastModifiedBy>Microsoft Office User</cp:lastModifiedBy>
  <dcterms:modified xsi:type="dcterms:W3CDTF">2018-01-31T05:02:00Z</dcterms:modified>
  <cp:revision>3</cp:revision>
  <dc:subject/>
  <dc:title>PowerPoint Presentation</dc:title>
</cp:coreProperties>
</file>